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7054F-D85B-4801-A171-0DB57D7E1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8121-07D2-4827-8A74-D54DC083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00DDC-B480-4EC3-962F-D4F79DEFBE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8FBBB-9DA3-41A4-B03D-9D284C6C9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A6929-234D-4946-A71A-B56D9D910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83FEF-00E7-4C5B-B732-A0DFA07FC8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FD4AE-0689-433E-886B-61F9C67EE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6102B-4B69-4418-8E35-9A46A949E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D94B1E-5787-48EB-AD7C-53D789D49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4C5543-CA09-43D9-8AB7-B3BCBCE2FF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CD7C08-660A-4D06-BB7B-5FC3C33662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73497B-05CC-4649-A107-E94B696028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0E30D-954A-4A35-AE79-7BE6EF8B7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7A6D20-E773-4307-ADF3-BDC8B88054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6B7D3B-2EAA-40EC-91B2-095EE99822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47359C-F7F2-4E03-80ED-93014DBCD2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6715F7-4253-4321-B7F4-8C878D3062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C2C131-61E9-4023-8FEE-7FF800F749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8D5CF-B5F3-48F9-8713-5D87C78D19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B041C0-7405-476E-834F-C3284F9251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BE8200-908F-497A-A09F-504562DC8B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A09010-CB03-486E-BC85-3CFA3AA9DB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54596D-7BC0-415F-BB40-45213FE6AD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75ED5-805B-4B4C-8109-218492EAA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7B25E9-835D-4C1B-B381-8652173E1E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E4E83F-2591-4B93-B060-A4801CE97A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B09D4C-BF8F-4B12-9A1E-EDCCA763A2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D45E67-4F15-4EB6-B2FD-72380CB687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03464E-0900-474A-AC04-A3C4C69F5B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625ACD-5D80-464A-999E-F61EC4AF48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0D64F-4577-4EFA-A219-D8145AA614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5E3ED4-C1B2-4B32-AA62-22F47900C9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74CCF0-9448-4AAB-A620-3683744F41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FC2255-5196-492F-8C4F-E759263189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7483B-EC6F-4589-AE0C-A2E3B4D57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09E545-3E95-471B-B226-6D28AF6721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B479E7-A5CC-4553-8F0C-0F058B683B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13C50E-2AB4-467B-B188-D1A6412EBC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7B9C76-82D3-4F89-A47D-07EC69ED14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EDF5BA-386E-4430-8F07-8AFF199E4A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117B21-2C1A-4831-AC14-EF757F8D56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C17BA4-E643-4F9E-B255-9011EA0979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E629D3-1A44-4C37-8FA6-DB59FABF37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A95DD2-DFD4-4EE8-A129-5750590124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1FD3CB-53AD-4854-96DE-ABE67594C9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A745C-12F4-47A8-909C-B2D39976B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D30C3A-F51B-4860-8807-2F0E17749C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CDFC5D-5A38-4A4D-8EFA-A56DDA86CE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3D61F4-AEA7-4937-A3D5-684326D9A8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CC6FD7-C3D3-48F7-BB36-5D12B3E729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1BAB62-A927-4A8C-93AE-12EB9FB9C8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C8FD8-6481-454A-BAA0-66AAACF9C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FA3C3-4D7D-4776-8449-CC0AD5D04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828D2-9A30-4688-9BB7-9A2521A3F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E171A-CE30-4EAF-B8B8-365CB187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3CB4-CFA9-47A2-BDCD-05E01AF9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829C-1BA3-4EB0-ADD5-3E78229C3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0D66B-4244-43A8-984C-AE13467B4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F2E9E-0F46-42E4-A8D5-52ED9944A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79E42-84FB-4FB3-A018-F5B4DFE4C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E98CB-5F88-4C8A-B1AA-B170EDEE7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E0C80-CFF5-4ED2-8C5C-A6D90B312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9D9F8-B971-4691-BE59-8F0937FAE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C43C2-7DB7-41CA-A95D-453660EE5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B3D43-FEB2-47E0-BEFC-8BF79FB3C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89F9C-5514-4E60-A3F3-F7EA96247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8AE68-CE37-4F36-B644-71CAED429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35D2-3B18-406C-A0BA-99C0E096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EE88C-4EB0-4C79-9D31-2566D2BC3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54EB9-B187-4EB6-9A2D-77E65B272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792AB-573D-444B-97E8-3E7C4EA98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85BFB-D6B5-4F9A-B63E-A45EE1244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2B01B-3B4D-42FF-AAD6-1838B4A8D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1DCF68-47FB-4FD3-A700-25228EA4DD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A50E3-8193-49CC-A626-8883C09F7C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BE2C3E-F1B5-4984-9DBE-17F887E262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6543D-1717-4AA0-9430-4D1917B90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167CD-5525-499C-9D07-8B809DE74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12F0A-FD7A-4E23-B1FD-A15C2724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8D1FA-7B4F-4D79-B2B0-8945FDA55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257E6-67B1-43A3-935B-3B038F56C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15DEC-1339-4442-BEA6-CDDEA014B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D1E62-BB35-4200-9062-9163025AF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B4663-6DDA-4D21-B7A4-EBA485E24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12140-BC4F-405F-9540-4DCD18D55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2A1D1-0E97-4C39-B6D1-537A78F07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B1C9A2-63DA-4A94-97A4-DCDF7244A1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40227-642C-4064-A965-84BCA0341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AA6257-51D5-4A4E-999C-0BE616A240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66A2F-8219-490A-99F9-76CEA862D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E388F5-9574-4AF1-A733-D4E56A759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2F472-E4B6-4564-B064-25DC989E2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749AE-9236-4BB5-9D4B-61D12DF92A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F2052E-827D-41B6-A2C3-DE1ED7AFB5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B7ACC-A7C8-4DFC-9062-2155CC390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2CBEB-09DF-411D-8B19-862A9D98D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AB87E-F7D9-428B-8E43-CE0D4624A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B9848-DFAF-4409-ADB8-98951E58C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8753F-72A4-4A34-8617-1F7CB9E03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90854E-4226-447B-8E06-1FC540D4F2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7D3B1-385D-446C-A54C-B5B2C04B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7A7CE3-8811-42C5-8E12-25766322C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84307A-E38C-4DB9-8476-FFA69A103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6502C-8AE6-4867-A144-B698CFD13B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407877-0B1D-4DAC-A9AB-EBB8411114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445B08-1240-4E6F-8475-DB8B5A77A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FFC20A-F3FB-4131-8062-634A3AB1E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7A5C1-78F6-4743-B1B8-8EAA4F3D53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0CF7F-52F9-4CA7-ADDE-C9286B113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CD4A8-32F4-44DB-B197-032073507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99C8F-AEDA-4486-87BE-7B5988157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64CA-CB20-485B-8CB3-77CF880CD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CAEC12-2952-4F5C-81E0-2EC48D52DF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C044C-31A8-4CDD-AFB5-CA07A41114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4B3CEB-51F2-4866-A1C2-106DBFD83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72EE5C-E8BA-44C3-8536-48D96EA5C7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C83E9-B5C7-4DB9-B341-21D4212C19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3D20A-E471-4179-9187-5CA944C03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CFEC9-09CC-446A-9C09-342AD5E3B8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33E40-5E5F-4240-BD7D-66D349C81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5C440-FF42-46A7-A816-706B6D029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59E8E-E50A-45E2-B018-E6C8BD043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DCE8-5028-4CD5-9A7A-73A8FA080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23F65-B645-4FAB-8AB3-D9C37772D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8B40E-CAF9-4EDC-88A1-32FFB30CD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C4BB4F-3071-4EA1-A24F-8835FB016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01C69-F330-4B76-840F-AD8DD89D07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F5AD87-8534-45AC-ACB6-4E4F5D6387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29E678-B249-4610-9BA5-FB1A4E020F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48741-7216-42B2-BBE3-5B91348587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D2E25-39F5-4012-9BFB-77055767B2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97B9B-67DC-4CDF-9701-F3D281B2B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6B4371-AC46-4C31-A3B7-D33BCEFA7B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AFB0-4638-4F2A-BE02-C40A2CF5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AC2DF-01FA-46AA-A69F-2EFEB3A695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D4CBA-0D20-47BD-8005-A5C000FA3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B2965-F476-4192-AF39-0415B814B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AF591-14F1-4515-B31B-9F0F5D517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D84C81-A12E-4BE6-A6E2-65946CFED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5536FE-90AA-4A3A-80B6-A0B85A8F39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F1178E-48F7-4DAE-B542-458D96F576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8B5A22-5139-46D0-96D7-CFAD0F7744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FF4614-2A92-4456-8CFF-794B27ACD4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0026F-D467-4080-AE2F-4B06D7628E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4EFC-96E4-40F0-8741-87E902AB362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48" name="Group 2"/>
          <p:cNvGrpSpPr/>
          <p:nvPr/>
        </p:nvGrpSpPr>
        <p:grpSpPr>
          <a:xfrm>
            <a:off x="318960" y="1828800"/>
            <a:ext cx="8825040" cy="5029200"/>
            <a:chOff x="318960" y="1828800"/>
            <a:chExt cx="8825040" cy="5029200"/>
          </a:xfrm>
        </p:grpSpPr>
        <p:sp>
          <p:nvSpPr>
            <p:cNvPr id="4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9" name="PlaceHolder 3"/>
          <p:cNvSpPr>
            <a:spLocks noGrp="1"/>
          </p:cNvSpPr>
          <p:nvPr>
            <p:ph type="dt" idx="28"/>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PlaceHolder 4"/>
          <p:cNvSpPr>
            <a:spLocks noGrp="1"/>
          </p:cNvSpPr>
          <p:nvPr>
            <p:ph type="ftr" idx="29"/>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5"/>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7037-7DC8-4409-9B4F-F87AFDAE538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98" name="Group 2"/>
          <p:cNvGrpSpPr/>
          <p:nvPr/>
        </p:nvGrpSpPr>
        <p:grpSpPr>
          <a:xfrm>
            <a:off x="318960" y="1828800"/>
            <a:ext cx="8825040" cy="5029200"/>
            <a:chOff x="318960" y="1828800"/>
            <a:chExt cx="8825040" cy="5029200"/>
          </a:xfrm>
        </p:grpSpPr>
        <p:sp>
          <p:nvSpPr>
            <p:cNvPr id="4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9" name="PlaceHolder 3"/>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PlaceHolder 4"/>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PlaceHolder 5"/>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14F8-6111-438A-98EA-87A0115627A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48" name="Group 2"/>
          <p:cNvGrpSpPr/>
          <p:nvPr/>
        </p:nvGrpSpPr>
        <p:grpSpPr>
          <a:xfrm>
            <a:off x="318960" y="1828800"/>
            <a:ext cx="8825040" cy="5029200"/>
            <a:chOff x="318960" y="1828800"/>
            <a:chExt cx="8825040" cy="5029200"/>
          </a:xfrm>
        </p:grpSpPr>
        <p:sp>
          <p:nvSpPr>
            <p:cNvPr id="5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2A9B-8BB1-46F4-A1EB-007B8317F874}" type="slidenum">
              <a:rPr b="0" lang="ar-SA"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7793-CB8A-4DDE-9D10-854C7060FCC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8" name="Group 2"/>
          <p:cNvGrpSpPr/>
          <p:nvPr/>
        </p:nvGrpSpPr>
        <p:grpSpPr>
          <a:xfrm>
            <a:off x="318960" y="1828800"/>
            <a:ext cx="8825040" cy="5029200"/>
            <a:chOff x="318960" y="1828800"/>
            <a:chExt cx="8825040" cy="5029200"/>
          </a:xfrm>
        </p:grpSpPr>
        <p:sp>
          <p:nvSpPr>
            <p:cNvPr id="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9" name="PlaceHolder 3"/>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4"/>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19C1-E81D-4FDF-B9DD-7A8AA2986279}"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8" name="Group 2"/>
          <p:cNvGrpSpPr/>
          <p:nvPr/>
        </p:nvGrpSpPr>
        <p:grpSpPr>
          <a:xfrm>
            <a:off x="318960" y="1828800"/>
            <a:ext cx="8825040" cy="5029200"/>
            <a:chOff x="318960" y="1828800"/>
            <a:chExt cx="8825040" cy="5029200"/>
          </a:xfrm>
        </p:grpSpPr>
        <p:sp>
          <p:nvSpPr>
            <p:cNvPr id="1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4"/>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5"/>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3B49-8580-416B-ADA2-87B527A9B9D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8" name="Group 2"/>
          <p:cNvGrpSpPr/>
          <p:nvPr/>
        </p:nvGrpSpPr>
        <p:grpSpPr>
          <a:xfrm>
            <a:off x="318960" y="1828800"/>
            <a:ext cx="8825040" cy="5029200"/>
            <a:chOff x="318960" y="1828800"/>
            <a:chExt cx="8825040" cy="5029200"/>
          </a:xfrm>
        </p:grpSpPr>
        <p:sp>
          <p:nvSpPr>
            <p:cNvPr id="1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9" name="PlaceHolder 3"/>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PlaceHolder 4"/>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PlaceHolder 5"/>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38E9-9ABD-47F0-B7FF-54961815D128}"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48" name="Group 2"/>
          <p:cNvGrpSpPr/>
          <p:nvPr/>
        </p:nvGrpSpPr>
        <p:grpSpPr>
          <a:xfrm>
            <a:off x="318960" y="1828800"/>
            <a:ext cx="8825040" cy="5029200"/>
            <a:chOff x="318960" y="1828800"/>
            <a:chExt cx="8825040" cy="5029200"/>
          </a:xfrm>
        </p:grpSpPr>
        <p:sp>
          <p:nvSpPr>
            <p:cNvPr id="2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9" name="PlaceHolder 3"/>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1B6F-CA9E-49C2-B361-7A4118DA8F5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8" name="Group 2"/>
          <p:cNvGrpSpPr/>
          <p:nvPr/>
        </p:nvGrpSpPr>
        <p:grpSpPr>
          <a:xfrm>
            <a:off x="318960" y="1828800"/>
            <a:ext cx="8825040" cy="5029200"/>
            <a:chOff x="318960" y="1828800"/>
            <a:chExt cx="8825040" cy="5029200"/>
          </a:xfrm>
        </p:grpSpPr>
        <p:sp>
          <p:nvSpPr>
            <p:cNvPr id="2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9" name="PlaceHolder 3"/>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PlaceHolder 4"/>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laceHolder 5"/>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15AB-111B-4656-80C2-44664298A97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8" name="Group 2"/>
          <p:cNvGrpSpPr/>
          <p:nvPr/>
        </p:nvGrpSpPr>
        <p:grpSpPr>
          <a:xfrm>
            <a:off x="318960" y="1828800"/>
            <a:ext cx="8825040" cy="5029200"/>
            <a:chOff x="318960" y="1828800"/>
            <a:chExt cx="8825040" cy="5029200"/>
          </a:xfrm>
        </p:grpSpPr>
        <p:sp>
          <p:nvSpPr>
            <p:cNvPr id="34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9" name="PlaceHolder 3"/>
          <p:cNvSpPr>
            <a:spLocks noGrp="1"/>
          </p:cNvSpPr>
          <p:nvPr>
            <p:ph type="dt" idx="22"/>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PlaceHolder 4"/>
          <p:cNvSpPr>
            <a:spLocks noGrp="1"/>
          </p:cNvSpPr>
          <p:nvPr>
            <p:ph type="ftr" idx="23"/>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FA0B-B93B-4FA7-A846-54152D693F4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8" name="Group 2"/>
          <p:cNvGrpSpPr/>
          <p:nvPr/>
        </p:nvGrpSpPr>
        <p:grpSpPr>
          <a:xfrm>
            <a:off x="318960" y="1828800"/>
            <a:ext cx="8825040" cy="5029200"/>
            <a:chOff x="318960" y="1828800"/>
            <a:chExt cx="8825040" cy="5029200"/>
          </a:xfrm>
        </p:grpSpPr>
        <p:sp>
          <p:nvSpPr>
            <p:cNvPr id="399"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3"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6"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0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9" name="PlaceHolder 3"/>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4"/>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5"/>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4CC6-860C-4D7C-8AF1-223276FF436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4"/>
          <p:cNvSpPr txBox="1"/>
          <p:nvPr/>
        </p:nvSpPr>
        <p:spPr>
          <a:xfrm>
            <a:off x="1371600" y="2666880"/>
            <a:ext cx="60199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ANDRUFF</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160" y="-1494720"/>
            <a:ext cx="83818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b7"/>
              </a:solidFill>
              <a:latin typeface="Arial Black"/>
            </a:endParaRPr>
          </a:p>
        </p:txBody>
      </p:sp>
      <p:sp>
        <p:nvSpPr>
          <p:cNvPr id="617" name="PlaceHolder 2"/>
          <p:cNvSpPr>
            <a:spLocks noGrp="1"/>
          </p:cNvSpPr>
          <p:nvPr>
            <p:ph/>
          </p:nvPr>
        </p:nvSpPr>
        <p:spPr>
          <a:xfrm>
            <a:off x="-360" y="1142640"/>
            <a:ext cx="8915400" cy="5334120"/>
          </a:xfrm>
          <a:prstGeom prst="rect">
            <a:avLst/>
          </a:prstGeom>
          <a:noFill/>
          <a:ln w="0">
            <a:noFill/>
          </a:ln>
        </p:spPr>
        <p:txBody>
          <a:bodyPr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using one of these shampoos daily until your dandruff is controlled, then cut back to two or three times a week. If one type of shampoo works for a time and then seems to lose its effectiveness, try alternating between two types of dandruff shampoos. Be sure to leave the shampoo on for at least five minutes — this allows the ingredients time to work.</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ve shampooed faithfully for several weeks and there's still a dusting of dandruff on your shoulders, talk to your doctor or dermatologist. You may need a prescription-strength shampoo or more aggressive treatment with a steroid lotion.</a:t>
            </a:r>
            <a:endParaRPr b="0" lang="en-US" sz="2800" spc="-1" strike="noStrike">
              <a:solidFill>
                <a:srgbClr val="ffffff"/>
              </a:solidFill>
              <a:latin typeface="Arial"/>
            </a:endParaRPr>
          </a:p>
        </p:txBody>
      </p:sp>
      <p:sp>
        <p:nvSpPr>
          <p:cNvPr id="618" name="Rectangle 4"/>
          <p:cNvSpPr/>
          <p:nvPr/>
        </p:nvSpPr>
        <p:spPr>
          <a:xfrm>
            <a:off x="1225800" y="228600"/>
            <a:ext cx="6775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a:rPr>
              <a:t>Treatments and OTC Drugs</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1868040"/>
            <a:ext cx="83059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b7"/>
              </a:solidFill>
              <a:latin typeface="Arial Black"/>
            </a:endParaRPr>
          </a:p>
        </p:txBody>
      </p:sp>
      <p:sp>
        <p:nvSpPr>
          <p:cNvPr id="620" name="PlaceHolder 2"/>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estyle and home remedies</a:t>
            </a:r>
            <a:endParaRPr b="0" lang="en-US" sz="2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t prevent dandruff, but you can take steps to reduce your risk:</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arn to manage stress.</a:t>
            </a:r>
            <a:r>
              <a:rPr b="0" lang="en-US" sz="2000" spc="-1" strike="noStrike">
                <a:solidFill>
                  <a:srgbClr val="ffffff"/>
                </a:solidFill>
                <a:latin typeface="Arial"/>
              </a:rPr>
              <a:t> Stress affects your overall health, making you susceptible to a number of conditions and diseases. It can even help trigger dandruff or exacerbate existing symptoms.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mpoo often.</a:t>
            </a:r>
            <a:r>
              <a:rPr b="0" lang="en-US" sz="2000" spc="-1" strike="noStrike">
                <a:solidFill>
                  <a:srgbClr val="ffffff"/>
                </a:solidFill>
                <a:latin typeface="Arial"/>
              </a:rPr>
              <a:t> If you tend to have an oily scalp, daily shampooing to remove the excess oil may help prevent dandruff. </a:t>
            </a: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t back on styling products.</a:t>
            </a:r>
            <a:r>
              <a:rPr b="0" lang="en-US" sz="2000" spc="-1" strike="noStrike">
                <a:solidFill>
                  <a:srgbClr val="ffffff"/>
                </a:solidFill>
                <a:latin typeface="Arial"/>
              </a:rPr>
              <a:t> Hair sprays, styling gels, mousses and hair waxes can all build up on your hair and scalp, making them oilier.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 healthy diet.</a:t>
            </a:r>
            <a:r>
              <a:rPr b="0" lang="en-US" sz="2000" spc="-1" strike="noStrike">
                <a:solidFill>
                  <a:srgbClr val="ffffff"/>
                </a:solidFill>
                <a:latin typeface="Arial"/>
              </a:rPr>
              <a:t> A diet that provides enough zinc, B vitamins and essential fatty acid may help prevent dandruff.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t a little sun.</a:t>
            </a:r>
            <a:r>
              <a:rPr b="0" lang="en-US" sz="2000" spc="-1" strike="noStrike">
                <a:solidFill>
                  <a:srgbClr val="ffffff"/>
                </a:solidFill>
                <a:latin typeface="Arial"/>
              </a:rPr>
              <a:t> Sunlight may be good for dandruff. But because exposure to ultraviolet light damages your skin and increases your risk of skin cancer, don't sunbathe. Instead, just spend a little time outdoors. And be sure to wear sunscreen on your face and bod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60"/>
            <a:ext cx="91440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Whate do you know about keratolytics ?</a:t>
            </a:r>
            <a:endParaRPr b="1" lang="en-US" sz="3200" spc="-1" strike="noStrike">
              <a:solidFill>
                <a:srgbClr val="ffffb7"/>
              </a:solidFill>
              <a:latin typeface="Arial Black"/>
            </a:endParaRPr>
          </a:p>
        </p:txBody>
      </p:sp>
      <p:sp>
        <p:nvSpPr>
          <p:cNvPr id="622" name="PlaceHolder 2"/>
          <p:cNvSpPr>
            <a:spLocks noGrp="1"/>
          </p:cNvSpPr>
          <p:nvPr>
            <p:ph/>
          </p:nvPr>
        </p:nvSpPr>
        <p:spPr>
          <a:xfrm>
            <a:off x="380520" y="1447920"/>
            <a:ext cx="8534520" cy="4952880"/>
          </a:xfrm>
          <a:prstGeom prst="rect">
            <a:avLst/>
          </a:prstGeom>
          <a:noFill/>
          <a:ln w="0">
            <a:noFill/>
          </a:ln>
        </p:spPr>
        <p:txBody>
          <a:bodyPr anchor="t">
            <a:normAutofit/>
          </a:bodyPr>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pidermis consists of layers of fat cells called stratified epithelial cells.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bound together by desmosomes and penetrating tonofibrils consist of kerati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um corneum is a tight network of keratin and lipoprotein. </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fungi, especialy the dermatophytes utilize keratin and reside in the s,. Cornium in those places where the degree of hydration and the pH are sufficiently high.</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way such mycoses may be suppresed is thatof removal of the stratum corneum;aprosses that called desquamation.</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chemical, loosenthe keratin and facilitate desquamation. These substances are called Keratolytics</a:t>
            </a: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rmula</a:t>
            </a:r>
            <a:endParaRPr b="1" lang="en-US" sz="4400" spc="-1" strike="noStrike">
              <a:solidFill>
                <a:srgbClr val="ffffb7"/>
              </a:solidFill>
              <a:latin typeface="Arial Black"/>
            </a:endParaRPr>
          </a:p>
        </p:txBody>
      </p:sp>
      <p:sp>
        <p:nvSpPr>
          <p:cNvPr id="6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rimide             1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yl Alcohol        1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7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6" name=""/>
          <p:cNvSpPr txBox="1"/>
          <p:nvPr/>
        </p:nvSpPr>
        <p:spPr>
          <a:xfrm>
            <a:off x="837720" y="1904760"/>
            <a:ext cx="8007480" cy="4190760"/>
          </a:xfrm>
          <a:prstGeom prst="rect">
            <a:avLst/>
          </a:prstGeom>
          <a:noFill/>
          <a:ln w="0">
            <a:noFill/>
          </a:ln>
        </p:spPr>
        <p:txBody>
          <a:bodyPr anchor="t">
            <a:normAutofit fontScale="85000"/>
          </a:bodyPr>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porcelain dish, melt cetyl alcohol over water bath (75-80</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olve cerimide in water , heat on the same heater. (75-80</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2 to 1 gradually, with gentle stirring (to avoid incorporation of air) until a stable cream is formed.</a:t>
            </a:r>
            <a:endParaRPr b="0" lang="en-US" sz="2800" spc="-1" strike="noStrike">
              <a:solidFill>
                <a:srgbClr val="ffffff"/>
              </a:solidFill>
              <a:latin typeface="Arial"/>
            </a:endParaRPr>
          </a:p>
          <a:p>
            <a:pPr marL="291600" indent="-291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stirring until cooling, and then add perfume at 35</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a:p>
            <a:pPr marL="291600" indent="-291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291600" indent="-291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81240" y="-1447920"/>
            <a:ext cx="10287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8" name="WordArt 4"/>
          <p:cNvSpPr txBox="1"/>
          <p:nvPr/>
        </p:nvSpPr>
        <p:spPr>
          <a:xfrm>
            <a:off x="1023840" y="2362320"/>
            <a:ext cx="709632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fo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our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33520" y="0"/>
            <a:ext cx="8153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DANDRUFF</a:t>
            </a:r>
            <a:endParaRPr b="1" lang="en-US" sz="3200" spc="-1" strike="noStrike">
              <a:solidFill>
                <a:srgbClr val="ffffb7"/>
              </a:solidFill>
              <a:latin typeface="Arial Black"/>
            </a:endParaRPr>
          </a:p>
        </p:txBody>
      </p:sp>
      <p:sp>
        <p:nvSpPr>
          <p:cNvPr id="600" name="PlaceHolder 2"/>
          <p:cNvSpPr>
            <a:spLocks noGrp="1"/>
          </p:cNvSpPr>
          <p:nvPr>
            <p:ph/>
          </p:nvPr>
        </p:nvSpPr>
        <p:spPr>
          <a:xfrm>
            <a:off x="-360" y="762120"/>
            <a:ext cx="8915400" cy="6858000"/>
          </a:xfrm>
          <a:prstGeom prst="rect">
            <a:avLst/>
          </a:prstGeom>
          <a:noFill/>
          <a:ln w="0">
            <a:noFill/>
          </a:ln>
        </p:spPr>
        <p:txBody>
          <a:bodyPr anchor="t">
            <a:normAutofit/>
          </a:bodyPr>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druff is a chronic ,non inflammatory condition of the scalp that is characterized by excessive scaling of scalp tissue. It is not a disease but rather a normal physiological event unaccepted sociall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ling process:</a:t>
            </a: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dermal cells on the scalp slough continually just as on other parts of the body,. However , the epidermal cell turnover on the scalp occurs at a higher rate and involves the infundibulum of the hair follicle. </a:t>
            </a: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druff flakes appear around a hair shaft due to the epithelial growth at the base of the hair. </a:t>
            </a:r>
            <a:endParaRPr b="0" lang="en-US" sz="2400" spc="-1" strike="noStrike">
              <a:solidFill>
                <a:srgbClr val="ffffff"/>
              </a:solidFill>
              <a:latin typeface="Arial"/>
            </a:endParaRPr>
          </a:p>
          <a:p>
            <a:pPr marL="343080" indent="-343080" algn="just">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ir restricts the elimination of sloughed keratin, creating a visible scale</a:t>
            </a:r>
            <a:endParaRPr b="0" lang="en-US" sz="2400" spc="-1" strike="noStrike">
              <a:solidFill>
                <a:srgbClr val="ffffff"/>
              </a:solidFill>
              <a:latin typeface="Arial"/>
            </a:endParaRPr>
          </a:p>
        </p:txBody>
      </p:sp>
      <p:sp>
        <p:nvSpPr>
          <p:cNvPr id="601" name="Rectangle 5"/>
          <p:cNvSpPr/>
          <p:nvPr/>
        </p:nvSpPr>
        <p:spPr>
          <a:xfrm>
            <a:off x="1371600" y="41911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11430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3" name="PlaceHolder 2"/>
          <p:cNvSpPr>
            <a:spLocks noGrp="1"/>
          </p:cNvSpPr>
          <p:nvPr>
            <p:ph/>
          </p:nvPr>
        </p:nvSpPr>
        <p:spPr>
          <a:xfrm>
            <a:off x="228600" y="990720"/>
            <a:ext cx="8693280" cy="5867280"/>
          </a:xfrm>
          <a:prstGeom prst="rect">
            <a:avLst/>
          </a:prstGeom>
          <a:noFill/>
          <a:ln w="0">
            <a:noFill/>
          </a:ln>
        </p:spPr>
        <p:txBody>
          <a:bodyPr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most people, the signs and symptoms of dandruff are unmistakable: white, oily looking flakes of dead skin that dot your hair and shoulders and an itchy, scaling scalp.,</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 and characteristi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appears at puberty, reaches a peak in early adulthood, levels off in middle age, decline in advancing years, and disappears in old age.it is seasonal, mild in summer monthes and most severe in winter. Poor hygiene does not cause dandruff in a non –dandruff person, but exacerbates existing symptoms. Dandruff is a stable process( not subjected to sudden shifts in severity from week to week)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is less subjected to outside stres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dandruff"/>
          <p:cNvPicPr/>
          <p:nvPr/>
        </p:nvPicPr>
        <p:blipFill>
          <a:blip r:embed="rId1"/>
          <a:stretch/>
        </p:blipFill>
        <p:spPr>
          <a:xfrm>
            <a:off x="457200" y="1371600"/>
            <a:ext cx="4191120" cy="4191120"/>
          </a:xfrm>
          <a:prstGeom prst="rect">
            <a:avLst/>
          </a:prstGeom>
          <a:ln w="0">
            <a:noFill/>
          </a:ln>
        </p:spPr>
      </p:pic>
      <p:pic>
        <p:nvPicPr>
          <p:cNvPr id="605" name="Picture 3" descr="hair_126_01"/>
          <p:cNvPicPr/>
          <p:nvPr/>
        </p:nvPicPr>
        <p:blipFill>
          <a:blip r:embed="rId2"/>
          <a:stretch/>
        </p:blipFill>
        <p:spPr>
          <a:xfrm>
            <a:off x="4724280" y="1371600"/>
            <a:ext cx="411480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152280" y="1066680"/>
            <a:ext cx="8763120" cy="5486400"/>
          </a:xfrm>
          <a:prstGeom prst="rect">
            <a:avLst/>
          </a:prstGeom>
          <a:noFill/>
          <a:ln w="0">
            <a:noFill/>
          </a:ln>
        </p:spPr>
        <p:txBody>
          <a:bodyPr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any adult is a candidate for dandruff, but certain factors can make you more susceptible:</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r>
              <a:rPr b="0" lang="en-US" sz="2800" spc="-1" strike="noStrike">
                <a:solidFill>
                  <a:srgbClr val="ffffff"/>
                </a:solidFill>
                <a:latin typeface="Arial"/>
              </a:rPr>
              <a:t> Dandruff usually begins in young adulthood and continues through middle age. That doesn't mean older adults don't get dandruff, however. For some people, the problem can be lifelong. </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x.</a:t>
            </a:r>
            <a:r>
              <a:rPr b="0" lang="en-US" sz="2800" spc="-1" strike="noStrike">
                <a:solidFill>
                  <a:srgbClr val="ffffff"/>
                </a:solidFill>
                <a:latin typeface="Arial"/>
              </a:rPr>
              <a:t> Because more men than women have dandruff, some researchers think male hormones may play a role in dandruff. Men also have larger sebaceous glands that produce an oil called sebum. </a:t>
            </a:r>
            <a:endParaRPr b="0" lang="en-US" sz="2800" spc="-1" strike="noStrike">
              <a:solidFill>
                <a:srgbClr val="ffffff"/>
              </a:solidFill>
              <a:latin typeface="Arial"/>
            </a:endParaRPr>
          </a:p>
        </p:txBody>
      </p:sp>
      <p:sp>
        <p:nvSpPr>
          <p:cNvPr id="607" name="PlaceHolder 2"/>
          <p:cNvSpPr>
            <a:spLocks noGrp="1"/>
          </p:cNvSpPr>
          <p:nvPr>
            <p:ph type="title"/>
          </p:nvPr>
        </p:nvSpPr>
        <p:spPr>
          <a:xfrm>
            <a:off x="533520" y="456840"/>
            <a:ext cx="83851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isk factors</a:t>
            </a:r>
            <a:br>
              <a:rPr sz="44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isk factors</a:t>
            </a:r>
            <a:br>
              <a:rPr sz="4400"/>
            </a:br>
            <a:endParaRPr b="1" lang="en-US" sz="4400" spc="-1" strike="noStrike">
              <a:solidFill>
                <a:srgbClr val="ffffb7"/>
              </a:solidFill>
              <a:latin typeface="Arial Black"/>
            </a:endParaRPr>
          </a:p>
        </p:txBody>
      </p:sp>
      <p:sp>
        <p:nvSpPr>
          <p:cNvPr id="609" name="PlaceHolder 2"/>
          <p:cNvSpPr>
            <a:spLocks noGrp="1"/>
          </p:cNvSpPr>
          <p:nvPr>
            <p:ph/>
          </p:nvPr>
        </p:nvSpPr>
        <p:spPr>
          <a:xfrm>
            <a:off x="380520" y="1904760"/>
            <a:ext cx="8464680" cy="4190760"/>
          </a:xfrm>
          <a:prstGeom prst="rect">
            <a:avLst/>
          </a:prstGeom>
          <a:noFill/>
          <a:ln w="0">
            <a:noFill/>
          </a:ln>
        </p:spPr>
        <p:txBody>
          <a:bodyPr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ily hair and scalp.</a:t>
            </a:r>
            <a:r>
              <a:rPr b="0" lang="en-US" sz="2400" spc="-1" strike="noStrike">
                <a:solidFill>
                  <a:srgbClr val="ffffff"/>
                </a:solidFill>
                <a:latin typeface="Arial"/>
              </a:rPr>
              <a:t> Malassezia feeds on oils in your scalp. For that reason, having excessively oily skin and hair makes you more prone to dandruff.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ain illnesses.</a:t>
            </a:r>
            <a:r>
              <a:rPr b="0" lang="en-US" sz="2400" spc="-1" strike="noStrike">
                <a:solidFill>
                  <a:srgbClr val="ffffff"/>
                </a:solidFill>
                <a:latin typeface="Arial"/>
              </a:rPr>
              <a:t> For reasons that aren't clear, adults with neurological diseases, such as Parkinson's disease, are more likely to develop seborrheic dermatitis and dandruff. So are people recovering from stressful conditions, particularly heart attack and stroke, and those with compromised immune systems. </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80520" y="304920"/>
            <a:ext cx="8613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Treatments and OTC Drugs</a:t>
            </a:r>
            <a:br>
              <a:rPr sz="4800"/>
            </a:br>
            <a:endParaRPr b="1" lang="en-US" sz="4000" spc="-1" strike="noStrike">
              <a:solidFill>
                <a:srgbClr val="ffffb7"/>
              </a:solidFill>
              <a:latin typeface="Arial Black"/>
            </a:endParaRPr>
          </a:p>
        </p:txBody>
      </p:sp>
      <p:sp>
        <p:nvSpPr>
          <p:cNvPr id="611" name="PlaceHolder 2"/>
          <p:cNvSpPr>
            <a:spLocks noGrp="1"/>
          </p:cNvSpPr>
          <p:nvPr>
            <p:ph/>
          </p:nvPr>
        </p:nvSpPr>
        <p:spPr>
          <a:xfrm>
            <a:off x="304560" y="990360"/>
            <a:ext cx="8458200" cy="5638680"/>
          </a:xfrm>
          <a:prstGeom prst="rect">
            <a:avLst/>
          </a:prstGeom>
          <a:noFill/>
          <a:ln w="0">
            <a:noFill/>
          </a:ln>
        </p:spPr>
        <p:txBody>
          <a:bodyPr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druff is a chronic condition that can almost always be controlled, but dandruff treatment may take a little patience and persistence. In general, mild scaling can often be helped by daily cleansing with a gentle shampoo to reduce oiliness and cell buildup.</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egular shampoos fail, OTC dandruff shampoos may succeed. But dandruff shampoos aren't all alike, and you may need to experiment until you find one that works best for you. Dandruff shampoos are classified according to their active ingredi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Treatments and OTC Drugs</a:t>
            </a:r>
            <a:br>
              <a:rPr sz="4800"/>
            </a:br>
            <a:endParaRPr b="1" lang="en-US" sz="4000" spc="-1" strike="noStrike">
              <a:solidFill>
                <a:srgbClr val="ffffb7"/>
              </a:solidFill>
              <a:latin typeface="Arial Black"/>
            </a:endParaRPr>
          </a:p>
        </p:txBody>
      </p:sp>
      <p:sp>
        <p:nvSpPr>
          <p:cNvPr id="613" name="PlaceHolder 2"/>
          <p:cNvSpPr>
            <a:spLocks noGrp="1"/>
          </p:cNvSpPr>
          <p:nvPr>
            <p:ph/>
          </p:nvPr>
        </p:nvSpPr>
        <p:spPr>
          <a:xfrm>
            <a:off x="304920" y="1904760"/>
            <a:ext cx="8540640" cy="4190760"/>
          </a:xfrm>
          <a:prstGeom prst="rect">
            <a:avLst/>
          </a:prstGeom>
          <a:noFill/>
          <a:ln w="0">
            <a:noFill/>
          </a:ln>
        </p:spPr>
        <p:txBody>
          <a:bodyPr anchor="t">
            <a:normAutofit/>
          </a:bodyPr>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inc pyrithione shampoos (Selsun Salon, Head &amp; Shoulders).</a:t>
            </a:r>
            <a:r>
              <a:rPr b="0" lang="en-US" sz="2800" spc="-1" strike="noStrike">
                <a:solidFill>
                  <a:srgbClr val="ffffff"/>
                </a:solidFill>
                <a:latin typeface="Arial"/>
              </a:rPr>
              <a:t> These contain the antibacterial and antifungal agent zinc pyrithione, which has been shown to reduce the fungus that causes dandruff and seborrheic dermatitis. </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based shampoos (Neutrogena T/Gel).</a:t>
            </a:r>
            <a:r>
              <a:rPr b="0" lang="en-US" sz="2800" spc="-1" strike="noStrike">
                <a:solidFill>
                  <a:srgbClr val="ffffff"/>
                </a:solidFill>
                <a:latin typeface="Arial"/>
              </a:rPr>
              <a:t> Coal tar, a byproduct of the coal manufacturing process, helps conditions such as dandruff, seborrheic dermatitis and psoriasis by slowing cell turnov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520" y="380520"/>
            <a:ext cx="845820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b7"/>
                </a:solidFill>
                <a:latin typeface="Arial Black"/>
              </a:rPr>
              <a:t>Treatments and OTC Drugs</a:t>
            </a:r>
            <a:br>
              <a:rPr sz="4000"/>
            </a:br>
            <a:endParaRPr b="1" lang="en-US" sz="4000" spc="-1" strike="noStrike">
              <a:solidFill>
                <a:srgbClr val="ffffb7"/>
              </a:solidFill>
              <a:latin typeface="Arial Black"/>
            </a:endParaRPr>
          </a:p>
        </p:txBody>
      </p:sp>
      <p:sp>
        <p:nvSpPr>
          <p:cNvPr id="615" name="PlaceHolder 2"/>
          <p:cNvSpPr>
            <a:spLocks noGrp="1"/>
          </p:cNvSpPr>
          <p:nvPr>
            <p:ph/>
          </p:nvPr>
        </p:nvSpPr>
        <p:spPr>
          <a:xfrm>
            <a:off x="304920" y="1219320"/>
            <a:ext cx="8534160" cy="5333760"/>
          </a:xfrm>
          <a:prstGeom prst="rect">
            <a:avLst/>
          </a:prstGeom>
          <a:noFill/>
          <a:ln w="0">
            <a:noFill/>
          </a:ln>
        </p:spPr>
        <p:txBody>
          <a:bodyPr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nium sulfide shampoos (Selsun Blue).</a:t>
            </a:r>
            <a:r>
              <a:rPr b="0" lang="en-US" sz="2800" spc="-1" strike="noStrike">
                <a:solidFill>
                  <a:srgbClr val="ffffff"/>
                </a:solidFill>
                <a:latin typeface="Arial"/>
              </a:rPr>
              <a:t> These shampoos help prevent cell turnover and may also reduce the number of malassezia</a:t>
            </a:r>
            <a:r>
              <a:rPr b="0" i="1" lang="en-US" sz="2800" spc="-1" strike="noStrike">
                <a:solidFill>
                  <a:srgbClr val="ffffff"/>
                </a:solidFill>
                <a:latin typeface="Arial"/>
              </a:rPr>
              <a:t>.</a:t>
            </a:r>
            <a:r>
              <a:rPr b="0" lang="en-US" sz="2800" spc="-1" strike="noStrike">
                <a:solidFill>
                  <a:srgbClr val="ffffff"/>
                </a:solidFill>
                <a:latin typeface="Arial"/>
              </a:rPr>
              <a:t> Because they can discolor blonde, gray or chemically colored hair, be sure to use them only as directed and to rinse well after shampooing.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toconazole shampoos (Nizoral).</a:t>
            </a:r>
            <a:r>
              <a:rPr b="0" lang="en-US" sz="2800" spc="-1" strike="noStrike">
                <a:solidFill>
                  <a:srgbClr val="ffffff"/>
                </a:solidFill>
                <a:latin typeface="Arial"/>
              </a:rPr>
              <a:t> The newest addition to the dandruff armamentarium, ketoconazole is a broad-spectrum antifungal agent that may work when other shampoos fail. It's available over-the-counter as well as prescription dru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16:34:56Z</dcterms:created>
  <dc:creator>Sam</dc:creator>
  <dc:description/>
  <dc:language>en-US</dc:language>
  <cp:lastModifiedBy>User</cp:lastModifiedBy>
  <dcterms:modified xsi:type="dcterms:W3CDTF">2016-02-08T07:30:05Z</dcterms:modified>
  <cp:revision>9</cp:revision>
  <dc:subject/>
  <dc:title>DANDRUFF</dc:title>
</cp:coreProperties>
</file>