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E82BA-92FF-4A8C-BB6F-14D28E9D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222A9-9EBA-48AA-AC68-8954E7F4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74FA8-C298-4150-B262-0C4842F2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203F3-6FB4-46EB-BFA0-09925930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FB14-0524-466C-B29D-12375415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88E8-6370-43E7-B2A2-71557A25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C223-D709-48BE-A366-D4244C12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95B4-71FF-413A-B5B4-8C1A2688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4D8E-6B07-422D-B696-9BFC9015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5598-6279-4802-BD23-124D9CB1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8A64-2A95-447D-9F66-7E62A7A3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ABC88-E2C1-4825-B425-8852E140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2FCD-3267-4963-A0FD-3B2D8A1E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5B46-CF85-4FAF-A51C-D9868314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63A6-01E4-4A49-A799-0B90504E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5B8E-14BB-4072-81D6-7EBDAF62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835C-E901-4CE5-99FD-DCA25656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743C0-E412-4BF9-A28A-C5F35CF9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5A289-4EE8-4E64-8A95-EC1D38F5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8651E-5744-4805-9907-45FD54B1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BA311-1B62-4720-BDDF-59A1F4EF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83142-D26E-42A7-82F7-38906308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EF249-67DC-40AB-8997-F9E07AC8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8DA76-7990-4C4C-81E4-25B5997E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EF51-3FA4-43F0-9844-ADBD4FFDD9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03D2-C73B-4BC1-8A09-3FC0CC73E7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t&amp;rct=j&amp;q=&amp;esrc=s&amp;source=web&amp;cd=2&amp;ved=0ahUKEwjg-8zRrbDLAhUzS5oKHaJfA3MQFgglMAE&amp;url=http://www.academia.dk/BiologiskAntropologi/Epidemiologi/PDF/Basic_Statistics__A_Primer_for_the_Biomedical_Sciences_4th_Ed.pdf&amp;usg=AFQjCNH1cg-bpeMrk6YrxAgr2sLxA410KQ" TargetMode="External"/><Relationship Id="rId2" Type="http://schemas.openxmlformats.org/officeDocument/2006/relationships/hyperlink" Target="https://www.google.com/url?sa=t&amp;rct=j&amp;q=&amp;esrc=s&amp;source=web&amp;cd=2&amp;ved=0ahUKEwjg-8zRrbDLAhUzS5oKHaJfA3MQFgglMAE&amp;url=http://www.academia.dk/BiologiskAntropologi/Epidemiologi/PDF/Basic_Statistics__A_Primer_for_the_Biomedical_Sciences_4th_Ed.pdf&amp;usg=AFQjCNH1cg-bpeMrk6YrxAgr2sLxA410KQ" TargetMode="External"/><Relationship Id="rId3" Type="http://schemas.openxmlformats.org/officeDocument/2006/relationships/hyperlink" Target="https://www.google.com/url?sa=t&amp;rct=j&amp;q=&amp;esrc=s&amp;source=web&amp;cd=2&amp;ved=0ahUKEwjg-8zRrbDLAhUzS5oKHaJfA3MQFgglMAE&amp;url=http://www.academia.dk/BiologiskAntropologi/Epidemiologi/PDF/Basic_Statistics__A_Primer_for_the_Biomedical_Sciences_4th_Ed.pdf&amp;usg=AFQjCNH1cg-bpeMrk6YrxAgr2sLxA410KQ" TargetMode="External"/><Relationship Id="rId4" Type="http://schemas.openxmlformats.org/officeDocument/2006/relationships/hyperlink" Target="https://www.google.com/url?sa=t&amp;rct=j&amp;q=&amp;esrc=s&amp;source=web&amp;cd=2&amp;ved=0ahUKEwjg-8zRrbDLAhUzS5oKHaJfA3MQFgglMAE&amp;url=http://www.academia.dk/BiologiskAntropologi/Epidemiologi/PDF/Basic_Statistics__A_Primer_for_the_Biomedical_Sciences_4th_Ed.pdf&amp;usg=AFQjCNH1cg-bpeMrk6YrxAgr2sLxA410KQ" TargetMode="External"/><Relationship Id="rId5" Type="http://schemas.openxmlformats.org/officeDocument/2006/relationships/hyperlink" Target="https://www.google.com/url?sa=t&amp;rct=j&amp;q=&amp;esrc=s&amp;source=web&amp;cd=2&amp;ved=0ahUKEwjg-8zRrbDLAhUzS5oKHaJfA3MQFgglMAE&amp;url=http://www.academia.dk/BiologiskAntropologi/Epidemiologi/PDF/Basic_Statistics__A_Primer_for_the_Biomedical_Sciences_4th_Ed.pdf&amp;usg=AFQjCNH1cg-bpeMrk6YrxAgr2sLxA410KQ" TargetMode="External"/><Relationship Id="rId6" Type="http://schemas.openxmlformats.org/officeDocument/2006/relationships/hyperlink" Target="https://www.google.com/url?sa=t&amp;rct=j&amp;q=&amp;esrc=s&amp;source=web&amp;cd=1&amp;ved=0ahUKEwiA6IulrbDLAhWEdpoKHRMpCxQQFggdMAA&amp;url=http://wvctsi.org/media/1772/rbc-statistics-overview_rbc.pptx&amp;usg=AFQjCNGHlv94EQj_v7T_o_WA-ijANdtiIw" TargetMode="External"/><Relationship Id="rId7" Type="http://schemas.openxmlformats.org/officeDocument/2006/relationships/hyperlink" Target="https://www.google.com/url?sa=t&amp;rct=j&amp;q=&amp;esrc=s&amp;source=web&amp;cd=1&amp;ved=0ahUKEwiA6IulrbDLAhWEdpoKHRMpCxQQFggdMAA&amp;url=http://wvctsi.org/media/1772/rbc-statistics-overview_rbc.pptx&amp;usg=AFQjCNGHlv94EQj_v7T_o_WA-ijANdtiIw" TargetMode="External"/><Relationship Id="rId8" Type="http://schemas.openxmlformats.org/officeDocument/2006/relationships/hyperlink" Target="https://www.google.com/url?sa=t&amp;rct=j&amp;q=&amp;esrc=s&amp;source=web&amp;cd=1&amp;ved=0ahUKEwiA6IulrbDLAhWEdpoKHRMpCxQQFggdMAA&amp;url=http://wvctsi.org/media/1772/rbc-statistics-overview_rbc.pptx&amp;usg=AFQjCNGHlv94EQj_v7T_o_WA-ijANdtiIw" TargetMode="External"/><Relationship Id="rId9" Type="http://schemas.openxmlformats.org/officeDocument/2006/relationships/hyperlink" Target="https://www.google.com.sa/url?sa=t&amp;rct=j&amp;q=&amp;esrc=s&amp;source=web&amp;cd=1&amp;ved=0ahUKEwja_pnu3KnLAhVKCBoKHewaCZAQFgggMAA&amp;url=https://www.nemoursresearch.org/open/StatClass/January2008/Class1.ppt&amp;usg=AFQjCNHQmFGjGlSAkSYkB6O9_9CyeXvmGQ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39920" y="1628280"/>
            <a:ext cx="658008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ff"/>
                </a:solidFill>
                <a:latin typeface="Arial"/>
              </a:rPr>
              <a:t>Data analysis and basic statistic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8560" y="4292640"/>
            <a:ext cx="7489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SU Fellowship in Clinical Path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inical Biochemistry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15 - 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n or medi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edian is less sensitive to outliers (extreme scores) than the mean and thus a better measure than the mean for highly skewed distrib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alculate the mean and median of the following valu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20, 30, 40, 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Mean = 27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Median = 35. 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Zapf Dingbats"/>
              </a:rPr>
              <a:t>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"/>
              <p:cNvSpPr txBox="1"/>
              <p:nvPr/>
            </p:nvSpPr>
            <p:spPr>
              <a:xfrm>
                <a:off x="4514760" y="3346560"/>
                <a:ext cx="1144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he value of the variable that occurs frequ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can determine the Skewness of th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"/>
              <p:cNvSpPr txBox="1"/>
              <p:nvPr/>
            </p:nvSpPr>
            <p:spPr>
              <a:xfrm>
                <a:off x="4514760" y="3346560"/>
                <a:ext cx="1144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var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measure how spread out the data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Two distributions could have the same mean and look quite diffe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variability 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fficient of var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quartil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"/>
              <p:cNvSpPr txBox="1"/>
              <p:nvPr/>
            </p:nvSpPr>
            <p:spPr>
              <a:xfrm>
                <a:off x="4514760" y="3346560"/>
                <a:ext cx="1144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variance is defined as the sums of squares of the differences between each observation in the sample and the sample mean divided by 1 less than the number of observation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Wh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t decreases as the sample size incr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population variance is denoted by sigma squared (σ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Σ(    - µ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3276720" y="4302000"/>
                <a:ext cx="31240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4427640" y="6093000"/>
                <a:ext cx="2872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andard Deviation (S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tandard deviation is the square root of the variance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t decreases as the sample size incr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√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population standard deviation is denoted by sigma (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σ = √σ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√Σ(   - µ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4789440" y="522936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measure of variation in data distribution, which is calculated by subtracting the smallest value from the largest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like SD, the range tends to increase as the sample siz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efficient of variance (C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0755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standardized measure of dispersion of a probability distribution or frequency distribution. It is also defined as the ratio of the standard deviation to the m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often expressed as a perce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4"/>
              <p:cNvSpPr txBox="1"/>
              <p:nvPr/>
            </p:nvSpPr>
            <p:spPr>
              <a:xfrm>
                <a:off x="4500720" y="5232240"/>
                <a:ext cx="10159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quartile 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iles: Data can be divided into four regions that cover the total range of observed values. Cut points for these regions are known as quart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otations, quartiles of a data is the ((n+1)/4)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servation of the data, where q is the desired quartile and n is the number of observations of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quartile 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 is the median of the first half of the ordered observations and Q3 is the median of the second half of the ordered observ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quartile range is calculated by subtracting the Q3 from Q1 (Q3 – Q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termine the interquartile range of the following numb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 6 7 11 13 22 30 40 44 50 52 61 68 80 9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075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previous question, Q1= ((15+1)/4)1 =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servation of the data. The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servation is 11. So Q1 is of this data is 11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6 7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3 22 30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4 50 52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6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8 80 94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Q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Q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1=11, Q2=40  (This is also the Median.) and Q3=6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-quartile Rang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fference between Q3 and Q1. Inter-quartile range of the previous question is 61- 40=2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stand the main concepts of statistical data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a knowledge about the basic statistic techniq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s of lo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s of vari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pothesis t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’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-squared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ape of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measures of data sha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kewnes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easures asymmetry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or right skewed: Longer right 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gative or left skewed: Longer left 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2403360" y="3933720"/>
                <a:ext cx="4184640" cy="19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4334040" y="503280"/>
            <a:ext cx="4775040" cy="170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ape of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measures of data sha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urtosi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easures peakedness of the distribution of data. The kurtosis of normal distribution is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2549520" y="3732120"/>
                <a:ext cx="4110120" cy="19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e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observation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urtosi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5219640" y="404640"/>
            <a:ext cx="37972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5076720" y="3629160"/>
            <a:ext cx="3988080" cy="20318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normal distribution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70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of the cur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, median and mode are in the c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l-shaped cur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bability a score is above or below the mean is 5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scores are in the midd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int of estimate to 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ample mea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us or minu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rgin of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only used confidence intervals are 90%, 95% or 99%, but 95% is the most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"/>
          <p:cNvGrpSpPr/>
          <p:nvPr/>
        </p:nvGrpSpPr>
        <p:grpSpPr>
          <a:xfrm>
            <a:off x="1835280" y="4437000"/>
            <a:ext cx="4308480" cy="1100160"/>
            <a:chOff x="1835280" y="4437000"/>
            <a:chExt cx="4308480" cy="1100160"/>
          </a:xfrm>
        </p:grpSpPr>
        <mc:AlternateContent>
          <mc:Choice xmlns:a14="http://schemas.microsoft.com/office/drawing/2010/main" Requires="a14">
            <p:sp>
              <p:nvSpPr>
                <p:cNvPr id="173" name="Object 2"/>
                <p:cNvSpPr txBox="1"/>
                <p:nvPr/>
              </p:nvSpPr>
              <p:spPr>
                <a:xfrm>
                  <a:off x="1835280" y="4437000"/>
                  <a:ext cx="155268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µ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±</m:t>
                      </m:r>
                      <m:r>
                        <m:t xml:space="preserve">z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4" name="Object 5"/>
                <p:cNvSpPr txBox="1"/>
                <p:nvPr/>
              </p:nvSpPr>
              <p:spPr>
                <a:xfrm>
                  <a:off x="4616640" y="4437000"/>
                  <a:ext cx="152712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µ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±</m:t>
                      </m:r>
                      <m:r>
                        <m:t xml:space="preserve">t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175" name="Straight Arrow Connector 8"/>
            <p:cNvCxnSpPr/>
            <p:nvPr/>
          </p:nvCxnSpPr>
          <p:spPr>
            <a:xfrm flipV="1">
              <a:off x="5508360" y="5249520"/>
              <a:ext cx="216360" cy="28800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176" name="Straight Arrow Connector 11"/>
            <p:cNvCxnSpPr/>
            <p:nvPr/>
          </p:nvCxnSpPr>
          <p:spPr>
            <a:xfrm flipH="1" flipV="1">
              <a:off x="3276000" y="5249520"/>
              <a:ext cx="216360" cy="28800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lg" type="stealth" w="lg"/>
            </a:ln>
          </p:spPr>
        </p:cxn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 or t table to be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s for using “t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σ is unkn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&lt; 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’s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-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-test is a hypothesis test of the mean of one or two normally distributed populations. Several types of t-tests exist for different situations, but they all use a test statistic that follows a t-distributi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der the null hypothe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-tes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2"/>
          <p:cNvGraphicFramePr/>
          <p:nvPr/>
        </p:nvGraphicFramePr>
        <p:xfrm>
          <a:off x="1116000" y="1565280"/>
          <a:ext cx="7920000" cy="51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65280"/>
                    <a:ext cx="792000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ypothesis testing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null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alternate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hypo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level of significance (α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jection (tails)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critical values.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From z or t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est statisti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Find z or t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and write the conclus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7"/>
              <p:cNvSpPr txBox="1"/>
              <p:nvPr/>
            </p:nvSpPr>
            <p:spPr>
              <a:xfrm>
                <a:off x="2335320" y="4149720"/>
                <a:ext cx="10126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µ</m:t>
                        </m:r>
                      </m:num>
                      <m:den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7"/>
              <p:cNvSpPr txBox="1"/>
              <p:nvPr/>
            </p:nvSpPr>
            <p:spPr>
              <a:xfrm>
                <a:off x="4875120" y="4146480"/>
                <a:ext cx="97020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µ</m:t>
                        </m:r>
                      </m:num>
                      <m:den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average IQ for the adult population is 100 with a standard deviation of 15. A researcher believes this value has changed. The researcher decides to test the IQ of 75 random adults. The average IQ of the sample is 1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 there enough evidence to suggest the average IQ has chang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t test table.tiff"/>
          <p:cNvPicPr/>
          <p:nvPr/>
        </p:nvPicPr>
        <p:blipFill>
          <a:blip r:embed="rId1"/>
          <a:stretch/>
        </p:blipFill>
        <p:spPr>
          <a:xfrm>
            <a:off x="977760" y="0"/>
            <a:ext cx="7186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focuses on the most common techniques for statistical data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z valu.png"/>
          <p:cNvPicPr/>
          <p:nvPr/>
        </p:nvPicPr>
        <p:blipFill>
          <a:blip r:embed="rId1"/>
          <a:stretch/>
        </p:blipFill>
        <p:spPr>
          <a:xfrm>
            <a:off x="2336760" y="2514600"/>
            <a:ext cx="447048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µ = 100  ,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µ ≠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level of significa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tailed test), α = 0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critical valu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 score = ± 1.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est statistic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=                 =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.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and write the conclu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ject 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ccept H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7"/>
              <p:cNvSpPr txBox="1"/>
              <p:nvPr/>
            </p:nvSpPr>
            <p:spPr>
              <a:xfrm>
                <a:off x="3851280" y="4002120"/>
                <a:ext cx="10126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µ</m:t>
                        </m:r>
                      </m:num>
                      <m:den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7"/>
              <p:cNvSpPr txBox="1"/>
              <p:nvPr/>
            </p:nvSpPr>
            <p:spPr>
              <a:xfrm>
                <a:off x="5483160" y="4005360"/>
                <a:ext cx="10558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5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6" name="Group 13"/>
          <p:cNvGrpSpPr/>
          <p:nvPr/>
        </p:nvGrpSpPr>
        <p:grpSpPr>
          <a:xfrm>
            <a:off x="4211640" y="404640"/>
            <a:ext cx="4584600" cy="2066040"/>
            <a:chOff x="4211640" y="404640"/>
            <a:chExt cx="4584600" cy="2066040"/>
          </a:xfrm>
        </p:grpSpPr>
        <p:grpSp>
          <p:nvGrpSpPr>
            <p:cNvPr id="197" name="Group 6"/>
            <p:cNvGrpSpPr/>
            <p:nvPr/>
          </p:nvGrpSpPr>
          <p:grpSpPr>
            <a:xfrm>
              <a:off x="4211640" y="404640"/>
              <a:ext cx="4584600" cy="1800720"/>
              <a:chOff x="4211640" y="404640"/>
              <a:chExt cx="4584600" cy="1800720"/>
            </a:xfrm>
          </p:grpSpPr>
          <p:pic>
            <p:nvPicPr>
              <p:cNvPr id="198" name="Picture 1" descr=""/>
              <p:cNvPicPr/>
              <p:nvPr/>
            </p:nvPicPr>
            <p:blipFill>
              <a:blip r:embed="rId1"/>
              <a:stretch/>
            </p:blipFill>
            <p:spPr>
              <a:xfrm>
                <a:off x="4211640" y="404640"/>
                <a:ext cx="4584600" cy="177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Straight Connector 5"/>
              <p:cNvSpPr/>
              <p:nvPr/>
            </p:nvSpPr>
            <p:spPr>
              <a:xfrm>
                <a:off x="7596000" y="1701360"/>
                <a:ext cx="0" cy="50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Straight Connector 8"/>
              <p:cNvSpPr/>
              <p:nvPr/>
            </p:nvSpPr>
            <p:spPr>
              <a:xfrm>
                <a:off x="5363640" y="1701360"/>
                <a:ext cx="0" cy="50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Box 15"/>
            <p:cNvSpPr/>
            <p:nvPr/>
          </p:nvSpPr>
          <p:spPr>
            <a:xfrm>
              <a:off x="7304400" y="21333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1.9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16"/>
            <p:cNvSpPr/>
            <p:nvPr/>
          </p:nvSpPr>
          <p:spPr>
            <a:xfrm>
              <a:off x="5008320" y="213336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-1.9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2"/>
          <p:cNvGrpSpPr/>
          <p:nvPr/>
        </p:nvGrpSpPr>
        <p:grpSpPr>
          <a:xfrm>
            <a:off x="7671960" y="1989000"/>
            <a:ext cx="575280" cy="841680"/>
            <a:chOff x="7671960" y="1989000"/>
            <a:chExt cx="575280" cy="841680"/>
          </a:xfrm>
        </p:grpSpPr>
        <p:sp>
          <p:nvSpPr>
            <p:cNvPr id="204" name="Straight Connector 10"/>
            <p:cNvSpPr/>
            <p:nvPr/>
          </p:nvSpPr>
          <p:spPr>
            <a:xfrm>
              <a:off x="7955640" y="1989000"/>
              <a:ext cx="0" cy="50436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9"/>
            <p:cNvSpPr/>
            <p:nvPr/>
          </p:nvSpPr>
          <p:spPr>
            <a:xfrm>
              <a:off x="7671960" y="24933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2.8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i-squared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ch the vid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Exc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pad Pr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nks to the 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Basic statistics: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A Primer for the Biomedical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Sciences, Dunn and Clark, 4</a:t>
            </a:r>
            <a:r>
              <a:rPr b="0" lang="en-US" sz="1800" spc="-1" strike="noStrike" u="sng" baseline="30000">
                <a:solidFill>
                  <a:srgbClr val="666699"/>
                </a:solidFill>
                <a:uFillTx/>
                <a:latin typeface="Arial"/>
                <a:hlinkClick r:id="rId4"/>
              </a:rPr>
              <a:t>th</a:t>
            </a:r>
            <a:r>
              <a:rPr b="0" lang="en-US" sz="1800" spc="-1" strike="noStrike" u="sng" baseline="30000">
                <a:solidFill>
                  <a:srgbClr val="666699"/>
                </a:solidFill>
                <a:uFillTx/>
                <a:latin typeface="Arial"/>
                <a:hlinkClick r:id="rId5"/>
              </a:rPr>
              <a:t> edi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Basic statistics overview ppt,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Danielle Davidov,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PhD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Class 1 ppt Lectur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e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 Me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-squared test vid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Note: to open each of the links abo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ace the cursor on any word of a refer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ress the right click of the mou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Choose open hyperlink from the men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es Statistics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is defined as a science of collection, presentation, analysis, and reasonable interpretation of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has traditionally been used with two purpo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ize data so that it is readily comprehensible (Descriptive statistic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conclusions that can be applied to other cases (statistical inferenc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computers and their accompanying graphic programs have made it possible to obtain attractive and meaningful displays of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Taxonomy of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tree"/>
          <p:cNvPicPr/>
          <p:nvPr/>
        </p:nvPicPr>
        <p:blipFill>
          <a:blip r:embed="rId1"/>
          <a:stretch/>
        </p:blipFill>
        <p:spPr>
          <a:xfrm>
            <a:off x="1447920" y="181116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ve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ontent Placeholder 2"/>
          <p:cNvSpPr/>
          <p:nvPr/>
        </p:nvSpPr>
        <p:spPr>
          <a:xfrm>
            <a:off x="457200" y="2216160"/>
            <a:ext cx="404028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c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tial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pothesis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dence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ificanc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i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Placeholder 6"/>
          <p:cNvSpPr/>
          <p:nvPr/>
        </p:nvSpPr>
        <p:spPr>
          <a:xfrm>
            <a:off x="4645080" y="172260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scribing a pheno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4114800" y="1981080"/>
            <a:ext cx="343080" cy="1295640"/>
          </a:xfrm>
          <a:custGeom>
            <a:avLst/>
            <a:gdLst>
              <a:gd name="textAreaLeft" fmla="*/ 0 w 343080"/>
              <a:gd name="textAreaRight" fmla="*/ 123840 w 3430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4114800" y="3733920"/>
            <a:ext cx="403200" cy="2590560"/>
          </a:xfrm>
          <a:custGeom>
            <a:avLst/>
            <a:gdLst>
              <a:gd name="textAreaLeft" fmla="*/ 0 w 403200"/>
              <a:gd name="textAreaRight" fmla="*/ 145440 w 403200"/>
              <a:gd name="textAreaTop" fmla="*/ 39600 h 2590560"/>
              <a:gd name="textAreaBottom" fmla="*/ 255096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29"/>
                  <a:pt x="10800" y="1058"/>
                </a:cubicBezTo>
                <a:lnTo>
                  <a:pt x="10800" y="9742"/>
                </a:lnTo>
                <a:cubicBezTo>
                  <a:pt x="10800" y="10271"/>
                  <a:pt x="16200" y="10800"/>
                  <a:pt x="21600" y="10800"/>
                </a:cubicBezTo>
                <a:cubicBezTo>
                  <a:pt x="16200" y="10800"/>
                  <a:pt x="10800" y="11329"/>
                  <a:pt x="10800" y="11858"/>
                </a:cubicBezTo>
                <a:lnTo>
                  <a:pt x="10800" y="20542"/>
                </a:lnTo>
                <a:cubicBezTo>
                  <a:pt x="10800" y="21071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ontent Placeholder 2"/>
          <p:cNvSpPr/>
          <p:nvPr/>
        </p:nvSpPr>
        <p:spPr>
          <a:xfrm>
            <a:off x="4646520" y="2327400"/>
            <a:ext cx="404028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w many? How much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P, HR, BMI, IQ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ferences about a pheno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oving or disproving the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ssociations between phenom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f sample relates to the larger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.g., Diet and h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e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defined as the sum of all the observations divided by the number of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used to denote the mean of a population;    is used to denote the mean of a s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"/>
              <p:cNvSpPr txBox="1"/>
              <p:nvPr/>
            </p:nvSpPr>
            <p:spPr>
              <a:xfrm>
                <a:off x="4514760" y="3346560"/>
                <a:ext cx="1144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1386000" y="3524400"/>
                <a:ext cx="665460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ation: Let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observations of a variable</m:t>
                        </m:r>
                      </m:e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 the mean of this variable,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2"/>
              <p:cNvSpPr txBox="1"/>
              <p:nvPr/>
            </p:nvSpPr>
            <p:spPr>
              <a:xfrm>
                <a:off x="6084720" y="5877000"/>
                <a:ext cx="430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7"/>
              <p:cNvSpPr txBox="1"/>
              <p:nvPr/>
            </p:nvSpPr>
            <p:spPr>
              <a:xfrm>
                <a:off x="792000" y="5913360"/>
                <a:ext cx="395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µ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edi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he number that divides the total number of ordered observations in ha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odd sample size numb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the median is the middle observation of the ordered data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media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(n+1)/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even sample size numb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the median is the mean of the middle two numbers of the ordered dat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edi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he mean of n/2 and (n/2)+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"/>
              <p:cNvSpPr txBox="1"/>
              <p:nvPr/>
            </p:nvSpPr>
            <p:spPr>
              <a:xfrm>
                <a:off x="4514760" y="3346560"/>
                <a:ext cx="1144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09:15:23Z</dcterms:created>
  <dc:creator>sv1aw</dc:creator>
  <dc:description/>
  <dc:language>en-US</dc:language>
  <cp:lastModifiedBy>PKU</cp:lastModifiedBy>
  <cp:lastPrinted>2016-02-28T07:45:13Z</cp:lastPrinted>
  <dcterms:modified xsi:type="dcterms:W3CDTF">2016-03-08T06:04:45Z</dcterms:modified>
  <cp:revision>219</cp:revision>
  <dc:subject/>
  <dc:title>General Laboratory Safety</dc:title>
</cp:coreProperties>
</file>