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723-85F5-45C6-8BEE-93958E4E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DCD-7536-4647-B405-05A73E20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A6D-7AB3-43F1-8591-5C0269D8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25B-9C4F-4F69-A450-917BF5B8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B074-ECF7-4D2F-95D6-1D3F4D52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FCF2-0350-4C9D-B79D-4F567C8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2C1C-2A60-49EE-A9B2-8075A51B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6B8-04FD-47BB-A221-66A5610F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28C-8A43-49D2-BB7F-798AEAAA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7DC9-20DC-41A8-99C2-5F31519F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88A5-F77C-40FD-912F-112EB70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230-2CF1-460D-B9C0-B9CB538F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C879-4DC8-4C29-AFFB-998F8AD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EF2F-956A-4527-8E29-951D4A26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2F6E-FF3E-4C4E-9266-C35B87A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FD1D-EE03-4A54-8C3E-DA3D7D03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D7F6-E966-462A-9C7A-8DFFC8A8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F476-0663-44B4-9839-C2D260AB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A6D2-23C3-48CF-B14A-5B3422F2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77D83-95F0-4BCB-A2B9-9D7603A4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DD51C-93D5-48F3-A187-F8333DB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A71E-7B30-4BDD-8401-C7F5C57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27C-EE5B-40A9-8EDE-16ABAAF6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4396-88FD-4775-B679-795D20F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B6E8-B3A9-4060-B1CC-BA65277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2275-1FA2-4089-BE6C-92B60EC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5B46-D356-48E1-8369-7AD618F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5C45-00DB-4B61-A2DC-462E30EE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B112-83BB-4AD1-B2D4-65F14BBD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DECC-1C8C-45D2-9BA7-E2B4BD07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4348-3614-4BDC-986E-8EAF5181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ED6B-1B7A-4813-B548-1D7176C6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C24B-A515-4F3D-B9D3-D4B3E3B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94B-66B8-4A72-BC23-6B64B26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FA54-CD53-4569-BE18-6842EB8D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8746-8A29-4CF8-B36D-0FB7D879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FB2F-E1DF-4CDD-A7F9-27D3F55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317D-76A6-4C56-A449-A9C3C4D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AD88-69D9-4DFC-A410-9DFA4B41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6397-3445-43A8-AEC7-5D7220A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A91D-F917-4147-A6BB-2A62B2B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1B79-6BD6-4766-AED9-ED113644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A473A-B646-47E7-B020-F090BE11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BDA5-0D2D-4602-A261-7157EFE9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5EC-467A-4075-A71A-5D26FF4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0055-EBFB-4266-AC95-BD3A59F7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7E61-927B-462B-864F-E1EC38C0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7759-F616-4CA8-B255-EFC1CF8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BD5C-B3E8-4A32-A34E-FDEEB60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70E9-0CAB-464F-86F1-8BF028F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77835-E95A-45B4-9828-62BDE8B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FFAC-2627-4E36-A4EB-69ACC27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FA71-7244-4C77-B466-A4AD9C7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3887-6CA0-49B4-86EF-FAA9644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34464-BAFF-441C-83B5-D87FA847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88D-A9EC-464D-9C62-E952E16B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A697-846A-440B-8436-1D45F823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CB7-0B64-4222-A5E3-9DDA9DE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90F-F449-4471-BF7E-30DB437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EFE-CA20-432C-A89A-35A5C61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E7B-8C71-4C4E-ADB1-11A9CC9923C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6EA-E72F-448D-B077-749042FA4A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7088-EAE2-49B5-8822-2B0E067490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CC6F-01AF-458A-8337-0662E0A1B6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69F-0DAC-4055-9462-C91323B273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Dr. Rufaidah Dabbagh, MBBS, MP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Family and Community Medicine Depart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ata Management and Acquisition Tutor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helps us test the linear relationship between two variab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rrelation coefficient value ranges from -1 to 1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lues that are closer to 1 (or-1) indicate a strong corre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ign of the correlation (+ve or –ve) describes the type of correlation (positive linear relationship or negative linear relationship) – examp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tori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ing your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ing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oring data: (descriptive statistic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Me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Variable View i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fore you start with your variable design on SPSS it is advised to prepare your code in adva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467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Co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 variable view in SPSS you start entering each variable name. This cell usually doesn’t allow spaces between characters, so you can enter an abbreviation for your vari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 “label” you can write the entire variable, whether it was a whole question or a state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SPSS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tering D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entry is simple after the code has been designed in the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ust enter the data as coded into each ce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Perpetua"/>
              </a:rPr>
              <a:t>Take care of limits, width and variable type when entering data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ing your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ptive statistic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variables (means, sd, median, interquartile ran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egorical data (frequencies and percenta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aph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stograms to observe symmetry of data (continuous variabl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r charts and pie charts (categorical dat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-tes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compare mean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d for continuous variables on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 p-value for the t test estimate is statistically significant (&lt;0.05) then the two compared means are significantly different from each other in our samp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e sample t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dependent sample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aired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39:27Z</dcterms:created>
  <dc:creator>Rufaidah</dc:creator>
  <dc:description/>
  <dc:language>en-US</dc:language>
  <cp:lastModifiedBy>Rufaidah</cp:lastModifiedBy>
  <dcterms:modified xsi:type="dcterms:W3CDTF">2012-02-21T13:02:11Z</dcterms:modified>
  <cp:revision>15</cp:revision>
  <dc:subject/>
  <dc:title>Data Management and Acquisition Tutorial</dc:title>
</cp:coreProperties>
</file>