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F2E-D7B9-4D21-BA6A-0AD33126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147-501F-4D88-AFE4-095279D0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641-91E8-47CB-A222-BBB666BD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0CF-0AD0-4E05-802D-3ED155BB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E9F3-B5AA-475F-82A9-EC1E1DA4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348D-B07F-4FD5-896D-4DBDFBC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8CA1-7F5D-4520-9F65-A4ED1B0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A479-BB8E-4D2B-8950-7E560975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5554-22AD-47F7-A2DE-F525E118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947B-F836-4B25-8B1C-C8AD704D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B911-C18D-4D9E-9B7C-705FCA1B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006-BAD4-4CA0-B312-424B2BB0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019F-89BB-4A29-A040-F8509222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9CC1-556B-4ACB-A657-6EB3D2D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69FF-E570-4FA3-8BEF-2D802907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B5A0-1FEB-40F1-8EF4-8D66469E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F2E9-B3A9-4BF9-939D-A502A8A4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7AD2-5CAA-464A-8B70-11FB6951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0F15-9634-46EB-8E2F-E4741F2C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3FBF-8621-43F1-8635-D32D8E4D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02B2-B550-4ACF-BB23-7035F23F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5541-9CFD-494B-AB97-64D4099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009-328E-4EDC-885C-6BE1D8FD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1197-1699-4D74-BC24-912960C0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C2F26-35FF-4125-BCFF-8CEBFC2E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025F-2F94-4AAB-8602-0A25EC6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9353-B478-428A-9C31-99582F2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CCF0-034A-4577-83F8-B67F1FF3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38B7-0C9C-4485-AE6A-8F414E06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FCD0-9456-4D27-BF08-70D2AA44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CDBE-96B8-4277-8C2F-35ADCDA1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D21D-65D4-45B5-8C56-569615A5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2AA9-1C1F-4094-A3A0-47C36171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02C-A617-466C-9EC5-5893595F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4EF9-9E19-4801-A922-CA2E0A13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88E9-0B3A-4C2D-8DBC-0697BB5E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0EE0D-20E8-4AF2-86E5-D1C7BC6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F4C2-FA1A-4F63-B350-D562475D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9F136-9EBD-499C-AAC8-44CB8CD0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8515-87A2-4F4E-9C09-5AAE7D8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027F-3526-4161-90DC-AD5C4F8E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7FAD7-CC2F-4005-BC4F-91D632D4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6F9D-7835-481D-B1FF-2A055FD3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AE534-C77C-4C3A-8CED-35165B67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FE7-556F-4A5D-96BC-F911DC47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69EA-83D2-4A76-AA63-830847F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234A-D10B-49A3-A82C-9DF4AED0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060E-11FB-41CB-965F-ABEEFF6A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6D4B-24F3-4218-92F5-D21F44F4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9782-AF02-4589-8219-BDA70D02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A2C1E-4321-40E1-BF8D-CC7D140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E4AE2-95A2-4DBA-90D5-FFE16C7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B5C6B-1E99-4975-8FE2-2998BE9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1FE86-F43D-4767-86F5-3DEAABF5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491DD-B172-4701-A9DE-5FAF47A9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C35-70F9-472A-B184-7E3FE72E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38929-E5AA-4DD8-92D0-A12007EB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AEF-8E09-49B6-9943-966A30C1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3A1-49B8-4168-8321-EBDD0ED7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694-A87A-408B-B96F-377E23A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658A-BBCC-4707-BDD8-2A7B5BD4DE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E32F-2D80-443A-B542-23BC41A8D9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861E-8FA4-45A7-9780-7666B2DBEB8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5680-E803-4951-A001-3AE6AB0FB3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2AD8-2841-4BC3-87DC-059F5E4E5C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Dr. Rufaidah Dabbagh, MBBS, MP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Family and Community Medicine Depart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ata Management and Acquisition Tutori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relatio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helps us test the linear relationship between two variabl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orrelation coefficient value ranges from -1 to 1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Values that are closer to 1 (or-1) indicate a strong correl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ign of the correlation (+ve or –ve) describes the type of correlation (positive linear relationship or negative linear relationship) – exampl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-square test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dds rati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torial 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igning your variable 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tering Da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oring data: (descriptive statistic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rel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ing Mea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-square te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dds rati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ing Variable View i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fore you start with your variable design on SPSS it is advised to prepare your code in advan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4674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ing Co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 variable view in SPSS you start entering each variable name. This cell usually doesn’t allow spaces between characters, so you can enter an abbreviation for your variab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der “label” you can write the entire variable, whether it was a whole question or a state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SPSS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ntering D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ata entry is simple after the code has been designed in the variable 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ust enter the data as coded into each ce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Perpetua"/>
              </a:rPr>
              <a:t>Take care of limits, width and variable type when entering data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loring your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criptive statistic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variables (means, sd, median, interquartile rang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tegorical data (frequencies and percentag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aph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stograms to observe symmetry of data (continuous variabl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ar charts and pie charts (categorical dat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-test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 compare mean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d for continuous variables on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f the p-value for the t test estimate is statistically significant (&lt;0.05) then the two compared means are significantly different from each other in our samp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e sample t 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dependent sample t-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aired t-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39:27Z</dcterms:created>
  <dc:creator>Rufaidah</dc:creator>
  <dc:description/>
  <dc:language>en-US</dc:language>
  <cp:lastModifiedBy>Rufaidah</cp:lastModifiedBy>
  <dcterms:modified xsi:type="dcterms:W3CDTF">2012-02-21T13:02:11Z</dcterms:modified>
  <cp:revision>15</cp:revision>
  <dc:subject/>
  <dc:title>Data Management and Acquisition Tutorial</dc:title>
</cp:coreProperties>
</file>