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1342-48F1-4771-8A40-19A92BDFC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D5B6-D626-4997-AE7F-5959E565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19C0-DA0D-4145-B8BB-CD31ABAB1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7C9-8833-42A1-B94B-D180511F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3FE-2571-4E5C-9446-B5EEC063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E3F-CC4A-4349-9BAA-2C790B63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03F-BF92-45C3-A1E0-67147AB9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6637-BC55-439A-B95B-1BADFF3A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0F2-330A-4809-AFC7-FBFE63A0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FB91-AF49-4081-84EC-18CA7800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63D-8EB9-42E5-BA61-82B1816C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DB2-F3FE-4290-A360-1E66D6C5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1A30-27F3-4D95-B3E9-DD722112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C765-CDB3-404A-896D-7EC0DEF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CC0-5912-4CB4-AFDE-9746B055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E59A-0EF1-4D57-B763-F3232860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AAE-4B14-4724-91EB-7E36AC4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CF75-E80A-4F6D-8ACD-1A876F05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952A-74B8-448B-9893-0E38CD60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EDBF-4E77-4D83-A12B-06CFA990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0315-1AA5-48B7-9FEB-87E27076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C78C-B040-4515-B5D1-ACF05E6A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FB91-DDBB-4873-B2A3-61EBB393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3020-9B01-46ED-AADD-6186BF7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E102-F17B-4C74-BE26-1C128966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B82-31AF-4DED-85AE-535B0CA4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796B-1CCB-47F2-B2DB-8843B7F9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455A-4D17-453C-BFBE-CE69CDA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CA16-F951-4117-A06F-E6CF0476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C96C-624F-44CA-9E87-AD6D5940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9C6F-3C9A-4824-A0C7-2A0C1C6C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967F-CBC3-4AEB-8655-382766D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A1C0-08F2-451D-B224-214A3B46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023E-4F95-45F9-8687-531C79D8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4010-1B77-42E4-88B6-680D8703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CC43-E2FA-496A-8BA9-1151839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E63-E72D-495B-B01B-A0CF07A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9095-80E5-4D33-B8BA-D1C4604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249C-D14D-4133-B7C2-7C97116B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133F4-EC3E-4080-811C-B57DECCD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F73A0-4EBD-4013-9C91-F28BB06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66A5-823E-46CD-978E-532206B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8F51-4502-4C64-81D7-010059E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B688-5CF8-44B2-BA0D-352D783B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9071-FD39-407E-8767-4D5926AD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5B5D-6EAE-4589-BF79-4717AF2E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58B0-D7DB-4002-9044-A6AB2C37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B80-28A6-4681-8029-C270E070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816B9-9908-4B3C-BBDC-24CAF4D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8B6C3-3DA4-46F1-8ACE-D2A8A046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D6BA-C39D-4464-979E-1603BC10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78FAC-379C-4CE6-A717-84E81C49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147F1-DA30-4312-90AA-F227D29D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F87E-EDD4-44D7-8AE4-0876763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5DC9-A78C-45A1-8918-97F6607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A9FF-1E9C-4456-A5C0-E45A0CC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779E-9F96-4D42-A026-E86ADDB9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511A-5B19-4F9C-B002-D2B2BA56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5A7-C486-41D8-BFBF-E5BEF20F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6BF1-FF49-448E-BAAC-D19F3961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61E-A593-44D9-A4CD-0FE41156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C5E-61E2-4B70-A1A7-182C0A3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E0B-DB4D-4642-9C95-8B77511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C632-1F80-4E00-A4EF-0058D0F97A54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B281-BE72-4423-A294-434654873C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91DC-25D4-42FB-B26F-DE8D2AE85E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910-5182-41A6-87EC-484415F931E1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B7BE-46A8-4BE0-BB9D-2CF06E9FAD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04F4-3836-4772-96BC-9D1D7D7BECCA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8257-5C1C-4EA9-BD54-32BB00A5C4AE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A0C8-9604-441F-8CA0-4C1480414D7A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AFF1-6F22-4FB1-9091-4EEF54E114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LINQ to SQ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art 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ABBE-C294-48F8-913C-E24CA59DBF1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447920" y="58672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Figure 12-3: Data contained in the tblEmploy 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464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ng the Value Stored in a Field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FA38-305D-4041-9D84-9F92EAEC7A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52520" y="990720"/>
            <a:ext cx="7929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Query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BFE1-7EBB-4428-9ADA-279BF4606B6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15840" y="1447920"/>
            <a:ext cx="9051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5E7-1D6F-46AC-B358-C947C5FA8B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914400" y="76320"/>
            <a:ext cx="7315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LINQ Aggregate Operator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e operator: returns a single value from a group of valu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monly used aggregate operators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, Count, Max, Min, and Su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A5D3-DA09-470B-9616-6726675539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758-4F14-4324-8775-D562E3C7ECD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2737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3-12-07T16:43:05Z</dcterms:modified>
  <cp:revision>739</cp:revision>
  <dc:subject/>
  <dc:title>Chapter 12</dc:title>
</cp:coreProperties>
</file>