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CBE0-8D30-4FBF-8882-344FAED6C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D1F-4687-4F8B-9565-CD23711C5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5B34-67D0-401D-853D-B302D3DC5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C43-B4EF-4833-83CD-C8601E2B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FA9-B76B-4812-9E0F-CFE9FC7B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090-E2FD-4427-AD77-3B208F7F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AD0-90DF-4753-9F3C-E64132C1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13E3-A71C-42EF-84BF-F775CD19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3E4B-6575-4857-ABE0-3CCDC2E7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4D5C-B5AB-4F5F-B462-1659D79A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6DE2-7CDB-46B4-9DE2-74FB3593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A00C-8E99-49ED-838B-7C2B869C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10B0-7F2F-4B2D-BFCD-C896AEC4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07A4-074D-4E65-A8AA-D25D4759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3A2-9C53-498E-BE00-3B7D8737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F195-C5D5-44DD-8567-F93C5023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978F-E247-45BB-B9CE-5BC3D56A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4EA1-43AD-483B-9D3F-205FF28D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80B1-E4B2-46BF-81B9-841344AB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1017-7D34-49DC-9D12-B2C8FB95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1971-214B-4591-8F2A-BC8CDB36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7F94-D2C1-4DBB-937B-38D7D22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E1CA3-3CEF-4093-8272-98C93A6F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3786-E49A-4938-89EF-1ADC9273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89E1-3647-4A25-918C-460AC8C7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7FC-FB1A-4E73-916D-B0321282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1952-4DCD-4A88-B9D3-FB304FFD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2A18-E2D0-4031-B04E-D7AE7075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F396-66BE-4B04-96B5-49278C9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38D9-37F3-46A9-852D-4904849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E5AC-B2E0-47E0-98A0-16E75A13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21E5F-C8B2-4B13-9E43-CDEC3F7A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C45A-6276-42F0-8112-1FA9AE97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3E058-9044-4191-98E4-2B7D4AB0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03FAA-6408-4D93-BBC5-1C4123AD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E7B0-7602-4277-BE20-ADFE39A3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14C-BFA0-4045-885A-4ADE3052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056A-D734-4D33-B64E-0C6D81D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84FD-E6B4-4801-A149-D1C19050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A3B8-60DB-47D5-96BB-6643D8C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DE02C-C146-420B-BA0C-22973A3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95ED-5B19-45E5-ABCC-B0892FB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FA67-0F60-4BB4-8C38-D7E7A03D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212E-338F-4E66-BF32-81BC390E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E4E97-23EC-447C-A5E1-3E008458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181A-7B48-415C-A77D-0DEE4953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C2CC-6351-4104-A774-7302FAF5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A12-5C31-402C-9F68-B68615BB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BCC40-6075-42FF-A8E4-9E384600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AE65-0720-463F-AD96-3CBA3F68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0962F-6CE0-4B37-B599-8AE7E738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D529A-917D-4A08-89AF-D027B091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6F051-9C03-4A48-AFE9-E8794B72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0675-1220-4DF3-878E-5846585C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225D1-8B1E-442A-9FE9-71DCD2ED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7530E-DCB3-4AC0-BABE-936843E8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48358-815B-4258-B28C-37C10FDB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430B3-E1F1-4C59-9A1E-80175744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9C7-CEF1-403E-9DD8-3FCC346F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519B-1932-43AD-A2DC-C72DE2A5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C30-C95C-4379-98DF-D5F67FB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4DC-04F3-45D9-9528-79F5528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2BA-FC42-473B-8646-128D1853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BB3D-60F4-44D5-89B6-90B6C6C8F72C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91D9-ADE3-4447-895E-B8956A0EC9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3692-8E8C-4601-BBE1-034A9081F9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9755-5A10-4ACF-B24D-2785477D07B9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374B-E6B8-427A-98F0-6EC0CE325F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4853-2352-4A61-BAFF-D6644CB387DE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33EE-C7F2-441C-BEB8-83DE2DEC28C7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DE67-A6CC-492A-927F-0CDF178323FA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7102-D470-4D93-BB20-50A45F6871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LINQ to SQ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Part 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25DD-077C-459F-B650-941160A94D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447920" y="58672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Figure 12-3: Data contained in the tblEmploy 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4464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ng the Value Stored in a Field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481E-0221-45AC-B780-CF987C11912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52520" y="990720"/>
            <a:ext cx="7929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Query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CF8C-0F00-456F-BA14-40358FFFE2C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15840" y="1447920"/>
            <a:ext cx="9051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F3EC-A80E-401B-A5B0-BC3E7952C0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914400" y="76320"/>
            <a:ext cx="7315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LINQ Aggregate Operator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e operator: returns a single value from a group of valu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mmonly used aggregate operators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, Count, Max, Min, and Su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66AA-8DEF-436C-89E8-118512E74CD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crosoft Visual Basic 2010: Reloaded, Fourth Edi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CAEF-F186-43A8-9AB2-4C61F1AC243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2737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3-12-07T16:43:05Z</dcterms:modified>
  <cp:revision>739</cp:revision>
  <dc:subject/>
  <dc:title>Chapter 12</dc:title>
</cp:coreProperties>
</file>