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906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6B0-244B-446D-8B19-341905C0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747-8E44-4CC9-9722-893C29D3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E5D-185C-4C03-9119-088D968A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36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8224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012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36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8224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E16-D712-490B-AC35-563C8B73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49B5-5637-43D4-9D29-DC5C472F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E12F-5063-4B39-A68B-24AAF6FB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0692-427D-4F9E-89F8-03B45C58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1631-35BD-4251-8641-DADC8860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64DF-197A-403A-8451-BCDCF2BC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30120" y="274680"/>
            <a:ext cx="9245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9003-9944-4808-9F0D-33258312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668E-D7B7-439D-AACC-23C88D18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D00-4F6F-4F24-ABF4-4A92BF4C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203D-3BA6-4F3A-BC94-354923E6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16D5-5C83-44D4-8A9C-D88F82B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1AD0-FCF7-40FF-9BE1-7C84AD78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5722-1350-4746-ABE8-14E804C2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5636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8224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012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5636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8224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EFFD-A630-4B24-A6CE-CBF35C9C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0152-9C66-4CCC-A5F2-3C96214D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FBA3-747A-4C8E-8B60-07F0204A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D6B0-7DC7-4172-870C-44E126A0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5833-71C2-408F-A9BA-9BEDAEFA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3579-B27D-47B1-A00B-41712CFE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C8D-5D93-47C8-8077-31F1AF93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30120" y="274680"/>
            <a:ext cx="9245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46A0-9F17-4159-B7CD-9346F2A8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9607-ED94-4581-B590-4AAF0EE5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52DE-225A-4C46-9101-6E133C7D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0B50-5B60-48DF-8197-9137414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5272-9B16-4049-9FC9-3DB59F49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C98A-2C46-4E14-9C66-6E1C9AC8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5636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8224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3012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5636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8224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3E6A4-FC06-49E8-86FA-B387C63D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2230-D920-437A-A48E-3D4861E9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AE12-07C7-4977-9814-C78EEC5E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80DB-E471-4C04-816C-36B17D68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330-735A-4C74-996A-D51CD67F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3D9E-D3FD-4E30-B80A-441BA57B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AA634-CCB7-47B7-A567-D7474AB8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30120" y="274680"/>
            <a:ext cx="9245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06642-809B-44C1-9461-35BABAC0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2CC13-C958-4A02-858F-FCC3D65F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89733-596B-4D0B-A80F-FFECBDF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D40A-634C-4B85-8A0A-830F3974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D9F82-1975-49F1-9BBA-079A30B8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1AD8-37B1-4DFF-AA92-2C7FC6D7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5636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82240" y="16002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3012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45636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82240" y="4107600"/>
            <a:ext cx="297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FB34-A91B-4F88-9052-DCDA2CC6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074-B293-4937-BDC3-55BB4738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30120" y="274680"/>
            <a:ext cx="9245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252-187D-4C3C-B71B-9D101A08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592-3AAA-472F-8721-4150ACDF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7720" y="41076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64C-4010-469B-B904-BC09FA97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7720" y="1600200"/>
            <a:ext cx="451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0120" y="4107600"/>
            <a:ext cx="9245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800-6C46-4FC4-8AA1-D7437FA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 hidden="1"/>
          <p:cNvSpPr/>
          <p:nvPr/>
        </p:nvSpPr>
        <p:spPr>
          <a:xfrm>
            <a:off x="247680" y="152280"/>
            <a:ext cx="9410400" cy="1294920"/>
          </a:xfrm>
          <a:prstGeom prst="round2SameRect">
            <a:avLst>
              <a:gd name="adj1" fmla="val 4902"/>
              <a:gd name="adj2" fmla="val 0"/>
            </a:avLst>
          </a:prstGeom>
          <a:solidFill>
            <a:schemeClr val="accent1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" name="Straight Connector 7"/>
          <p:cNvCxnSpPr/>
          <p:nvPr/>
        </p:nvCxnSpPr>
        <p:spPr>
          <a:xfrm>
            <a:off x="247320" y="6524280"/>
            <a:ext cx="9411120" cy="2160"/>
          </a:xfrm>
          <a:prstGeom prst="straightConnector1">
            <a:avLst/>
          </a:prstGeom>
          <a:ln cap="rnd" w="12700">
            <a:solidFill>
              <a:srgbClr val="5d5c64"/>
            </a:solidFill>
            <a:round/>
          </a:ln>
        </p:spPr>
      </p:cxnSp>
      <p:sp>
        <p:nvSpPr>
          <p:cNvPr id="2" name="Round Same Side Corner Rectangle 8"/>
          <p:cNvSpPr/>
          <p:nvPr/>
        </p:nvSpPr>
        <p:spPr>
          <a:xfrm flipV="1">
            <a:off x="247680" y="4723200"/>
            <a:ext cx="9410400" cy="1828440"/>
          </a:xfrm>
          <a:prstGeom prst="round2SameRect">
            <a:avLst>
              <a:gd name="adj1" fmla="val 10784"/>
              <a:gd name="adj2" fmla="val 0"/>
            </a:avLst>
          </a:prstGeom>
          <a:solidFill>
            <a:schemeClr val="tx2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Round Same Side Corner Rectangle 9"/>
          <p:cNvSpPr/>
          <p:nvPr/>
        </p:nvSpPr>
        <p:spPr>
          <a:xfrm>
            <a:off x="247680" y="228600"/>
            <a:ext cx="9410400" cy="4419360"/>
          </a:xfrm>
          <a:prstGeom prst="round2SameRect">
            <a:avLst>
              <a:gd name="adj1" fmla="val 2821"/>
              <a:gd name="adj2" fmla="val 0"/>
            </a:avLst>
          </a:prstGeom>
          <a:solidFill>
            <a:srgbClr val="e0b62e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0240" y="533520"/>
            <a:ext cx="8584920" cy="3885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n-GB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247680" y="6553080"/>
            <a:ext cx="2311200" cy="28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37040" y="6553080"/>
            <a:ext cx="3714480" cy="28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7429680" y="6553080"/>
            <a:ext cx="2228400" cy="28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B4B79F0-FA18-4A1F-8442-318EF0534FD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 Same Side Corner Rectangle 6" hidden="1"/>
          <p:cNvSpPr/>
          <p:nvPr/>
        </p:nvSpPr>
        <p:spPr>
          <a:xfrm>
            <a:off x="247680" y="152280"/>
            <a:ext cx="9410400" cy="1294920"/>
          </a:xfrm>
          <a:prstGeom prst="round2SameRect">
            <a:avLst>
              <a:gd name="adj1" fmla="val 4902"/>
              <a:gd name="adj2" fmla="val 0"/>
            </a:avLst>
          </a:prstGeom>
          <a:solidFill>
            <a:schemeClr val="accent1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46" name="Straight Connector 7"/>
          <p:cNvCxnSpPr/>
          <p:nvPr/>
        </p:nvCxnSpPr>
        <p:spPr>
          <a:xfrm>
            <a:off x="247320" y="6524280"/>
            <a:ext cx="9411120" cy="2160"/>
          </a:xfrm>
          <a:prstGeom prst="straightConnector1">
            <a:avLst/>
          </a:prstGeom>
          <a:ln cap="rnd" w="12700">
            <a:solidFill>
              <a:srgbClr val="5d5c64"/>
            </a:solidFill>
            <a:round/>
          </a:ln>
        </p:spPr>
      </p:cxnSp>
      <p:sp>
        <p:nvSpPr>
          <p:cNvPr id="47" name="Round Same Side Corner Rectangle 8"/>
          <p:cNvSpPr/>
          <p:nvPr/>
        </p:nvSpPr>
        <p:spPr>
          <a:xfrm>
            <a:off x="247680" y="228600"/>
            <a:ext cx="9410400" cy="4952520"/>
          </a:xfrm>
          <a:prstGeom prst="round2SameRect">
            <a:avLst>
              <a:gd name="adj1" fmla="val 2821"/>
              <a:gd name="adj2" fmla="val 0"/>
            </a:avLst>
          </a:prstGeom>
          <a:solidFill>
            <a:schemeClr val="tx2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8" name="Round Same Side Corner Rectangle 9"/>
          <p:cNvSpPr/>
          <p:nvPr/>
        </p:nvSpPr>
        <p:spPr>
          <a:xfrm flipV="1">
            <a:off x="247680" y="5256720"/>
            <a:ext cx="9410400" cy="1294920"/>
          </a:xfrm>
          <a:prstGeom prst="round2SameRect">
            <a:avLst>
              <a:gd name="adj1" fmla="val 10784"/>
              <a:gd name="adj2" fmla="val 0"/>
            </a:avLst>
          </a:prstGeom>
          <a:solidFill>
            <a:schemeClr val="accent1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3040" y="838080"/>
            <a:ext cx="8419680" cy="419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e4d9be"/>
                </a:solidFill>
                <a:latin typeface="Arial Black"/>
              </a:rPr>
              <a:t>Click to edit Master title style</a:t>
            </a:r>
            <a:endParaRPr b="0" lang="en-GB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82640" y="5410080"/>
            <a:ext cx="8419680" cy="1042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37040" y="6521400"/>
            <a:ext cx="371448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6E3E6A3-7B60-4650-AF54-1A3E0596D47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 Same Side Corner Rectangle 6" hidden="1"/>
          <p:cNvSpPr/>
          <p:nvPr/>
        </p:nvSpPr>
        <p:spPr>
          <a:xfrm>
            <a:off x="247680" y="152280"/>
            <a:ext cx="9410400" cy="1294920"/>
          </a:xfrm>
          <a:prstGeom prst="round2SameRect">
            <a:avLst>
              <a:gd name="adj1" fmla="val 4902"/>
              <a:gd name="adj2" fmla="val 0"/>
            </a:avLst>
          </a:prstGeom>
          <a:solidFill>
            <a:schemeClr val="accent1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91" name="Straight Connector 7"/>
          <p:cNvCxnSpPr/>
          <p:nvPr/>
        </p:nvCxnSpPr>
        <p:spPr>
          <a:xfrm>
            <a:off x="247320" y="6524280"/>
            <a:ext cx="9411120" cy="2160"/>
          </a:xfrm>
          <a:prstGeom prst="straightConnector1">
            <a:avLst/>
          </a:prstGeom>
          <a:ln cap="rnd" w="12700">
            <a:solidFill>
              <a:srgbClr val="5d5c64"/>
            </a:solidFill>
            <a:round/>
          </a:ln>
        </p:spPr>
      </p:cxn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37040" y="6521400"/>
            <a:ext cx="371448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B5815CE-173D-46B8-AE1F-38D138E27EA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ound Same Side Corner Rectangle 6"/>
          <p:cNvSpPr/>
          <p:nvPr/>
        </p:nvSpPr>
        <p:spPr>
          <a:xfrm>
            <a:off x="247680" y="152280"/>
            <a:ext cx="9410400" cy="1294920"/>
          </a:xfrm>
          <a:prstGeom prst="round2SameRect">
            <a:avLst>
              <a:gd name="adj1" fmla="val 4902"/>
              <a:gd name="adj2" fmla="val 0"/>
            </a:avLst>
          </a:prstGeom>
          <a:solidFill>
            <a:schemeClr val="accent1"/>
          </a:solidFill>
          <a:ln w="25400"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34" name="Straight Connector 7"/>
          <p:cNvCxnSpPr/>
          <p:nvPr/>
        </p:nvCxnSpPr>
        <p:spPr>
          <a:xfrm>
            <a:off x="247320" y="6524280"/>
            <a:ext cx="9411120" cy="2160"/>
          </a:xfrm>
          <a:prstGeom prst="straightConnector1">
            <a:avLst/>
          </a:prstGeom>
          <a:ln cap="rnd" w="12700">
            <a:solidFill>
              <a:srgbClr val="5d5c64"/>
            </a:solidFill>
            <a:round/>
          </a:ln>
        </p:spPr>
      </p:cxn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e6632e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Click to edit Master text styles</a:t>
            </a: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lvl="1" marL="547560" indent="-228600">
              <a:lnSpc>
                <a:spcPct val="100000"/>
              </a:lnSpc>
              <a:spcBef>
                <a:spcPts val="479"/>
              </a:spcBef>
              <a:buClr>
                <a:srgbClr val="e6632e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Second level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e6632e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level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3" marL="1004760" indent="-18252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4" marL="1279440" indent="-18252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level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37040" y="6521400"/>
            <a:ext cx="371448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D11CB19-32B0-4858-AF28-16E9E35FEF2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991360" cy="3885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ffffff"/>
                </a:solidFill>
                <a:latin typeface="Arial Black"/>
              </a:rPr>
              <a:t>DBS Development Lifecycle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 Black"/>
              </a:rPr>
              <a:t>&amp;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 Black"/>
              </a:rPr>
              <a:t>DB Analysis</a:t>
            </a:r>
            <a:endParaRPr b="0" lang="en-GB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30120" y="4800600"/>
            <a:ext cx="924516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e4d9be"/>
                </a:solidFill>
                <a:latin typeface="Arial"/>
              </a:rPr>
              <a:t>Chapter 10 &amp; 11 in Text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2f2f2"/>
                </a:solidFill>
                <a:latin typeface="Arial Black"/>
              </a:rPr>
              <a:t>Database Planning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Mission Objectives 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Interviewing different staff: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8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Job description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aily task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ata that they deal with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aily report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ype of things they keep track on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ustomer services.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7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D4DED5DC-711B-4E1F-BD39-0EB84B14D940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dt" idx="28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Interview"/>
          <p:cNvPicPr/>
          <p:nvPr/>
        </p:nvPicPr>
        <p:blipFill>
          <a:blip r:embed="rId1"/>
          <a:stretch/>
        </p:blipFill>
        <p:spPr>
          <a:xfrm>
            <a:off x="6629400" y="3805200"/>
            <a:ext cx="2590560" cy="2518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2f2f2"/>
                </a:solidFill>
                <a:latin typeface="Arial Black"/>
              </a:rPr>
              <a:t>Database Planning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Mission Objectives 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spcBef>
                <a:spcPts val="159"/>
              </a:spcBef>
              <a:buNone/>
              <a:tabLst>
                <a:tab algn="l" pos="2173320"/>
              </a:tabLst>
            </a:pPr>
            <a:endParaRPr b="0" lang="en-GB" sz="8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manage (add, delete, update) data on branche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manage (add, delete, update) data on staff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manage (add, delete, update) on meal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manage (add, delete, update) on client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perform searches on branche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perform searches on staff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perform searches on meal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176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StarSymbol"/>
              <a:buAutoNum type="arabicPeriod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perform searches on clients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29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30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30FB053-C7A1-42AB-A61A-2877EA3710EA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8" descr="burger%20king"/>
          <p:cNvPicPr/>
          <p:nvPr/>
        </p:nvPicPr>
        <p:blipFill>
          <a:blip r:embed="rId1"/>
          <a:stretch/>
        </p:blipFill>
        <p:spPr>
          <a:xfrm>
            <a:off x="8229600" y="1447920"/>
            <a:ext cx="1371240" cy="1371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dt" idx="3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Num" idx="3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399263BF-5532-47AA-A9C3-0408B91CCA5A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225" name="Rectangle 21"/>
          <p:cNvSpPr/>
          <p:nvPr/>
        </p:nvSpPr>
        <p:spPr>
          <a:xfrm>
            <a:off x="1690560" y="380880"/>
            <a:ext cx="2652480" cy="1142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1676520" y="1523880"/>
            <a:ext cx="6614640" cy="48765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4267080" y="1076400"/>
            <a:ext cx="1523520" cy="44748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67080" y="304920"/>
            <a:ext cx="2042640" cy="7617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System Definitio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Identify System boundaries at a very high level, e.g.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urrent user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urrent application area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33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34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8D9E0D4-5120-49C6-AD53-62F8DD0E0F3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5" descr="C10NF10"/>
          <p:cNvPicPr/>
          <p:nvPr/>
        </p:nvPicPr>
        <p:blipFill>
          <a:blip r:embed="rId1"/>
          <a:srcRect l="20367" t="0" r="0" b="0"/>
          <a:stretch/>
        </p:blipFill>
        <p:spPr>
          <a:xfrm>
            <a:off x="2514600" y="3429000"/>
            <a:ext cx="5257440" cy="2757240"/>
          </a:xfrm>
          <a:prstGeom prst="rect">
            <a:avLst/>
          </a:prstGeom>
          <a:ln w="9525">
            <a:noFill/>
          </a:ln>
        </p:spPr>
      </p:pic>
      <p:sp>
        <p:nvSpPr>
          <p:cNvPr id="234" name="Rectangle 2"/>
          <p:cNvSpPr/>
          <p:nvPr/>
        </p:nvSpPr>
        <p:spPr>
          <a:xfrm>
            <a:off x="914400" y="5867280"/>
            <a:ext cx="822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</a:rPr>
              <a:t>Example: </a:t>
            </a:r>
            <a:r>
              <a:rPr b="0" i="1" lang="en-GB" sz="17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</a:rPr>
              <a:t>DreamHome</a:t>
            </a: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</a:rPr>
              <a:t> Database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System Definitio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Identify User views; 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efine what is required of a database application from the perspective of: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9"/>
              </a:spcBef>
              <a:buNone/>
              <a:tabLst>
                <a:tab algn="l" pos="2173320"/>
              </a:tabLst>
            </a:pPr>
            <a:endParaRPr b="0" lang="en-GB" sz="5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particular job role (such as Manager or Supervisor) or 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Enterprise application area (such as marketing or personnel).</a:t>
            </a: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35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36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686D4E4-AC05-4B03-BC52-1135F797C999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3742920" cy="2647440"/>
          </a:xfrm>
          <a:prstGeom prst="rect">
            <a:avLst/>
          </a:prstGeom>
          <a:ln w="12700">
            <a:noFill/>
          </a:ln>
        </p:spPr>
      </p:pic>
      <p:sp>
        <p:nvSpPr>
          <p:cNvPr id="240" name="Rectangle 2"/>
          <p:cNvSpPr/>
          <p:nvPr/>
        </p:nvSpPr>
        <p:spPr>
          <a:xfrm>
            <a:off x="1981080" y="5867280"/>
            <a:ext cx="822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</a:rPr>
              <a:t>Example: </a:t>
            </a:r>
            <a:r>
              <a:rPr b="0" i="1" lang="en-GB" sz="1700" spc="-1" strike="noStrike">
                <a:solidFill>
                  <a:schemeClr val="accent2">
                    <a:lumMod val="75000"/>
                  </a:schemeClr>
                </a:solidFill>
                <a:latin typeface="Arial Black"/>
              </a:rPr>
              <a:t>User View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dt" idx="37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Num" idx="38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7F98577-1744-4E6A-9A7F-3514AE80BB5A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244" name="Rectangle 21"/>
          <p:cNvSpPr/>
          <p:nvPr/>
        </p:nvSpPr>
        <p:spPr>
          <a:xfrm>
            <a:off x="1690560" y="380880"/>
            <a:ext cx="2652480" cy="15998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1676520" y="1981080"/>
            <a:ext cx="6614640" cy="44193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267080" y="304920"/>
            <a:ext cx="2042640" cy="13251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715000" y="838080"/>
            <a:ext cx="2652480" cy="1142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4267080" y="1523880"/>
            <a:ext cx="1523520" cy="5331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equirements Collection &amp; Analysis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"/>
              </a:rPr>
              <a:t>Collecting and analyzing information about the part of organization to be supported by the database system, and using this information to identify users’ requirements of new system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dentifying the required functionality for a database system is crucial, as systems with inadequate functionality will fail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nformation is gathered for each major user view including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9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a description of data used or generated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9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etails of how data is to be used/generated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9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any additional requirements for new database system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9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251CE9E-5B32-4ACD-B2FA-5800817532E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dt" idx="40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equirements Collection &amp; Analysis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An important activity is to decide how to manage the requirements for a database system with multiple user views.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Three main approaches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21"/>
              </a:spcBef>
              <a:buNone/>
              <a:tabLst>
                <a:tab algn="l" pos="217332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entralized approach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View integration approach; (</a:t>
            </a:r>
            <a:r>
              <a:rPr b="0" i="1" lang="en-US" sz="22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we use this approach</a:t>
            </a:r>
            <a:r>
              <a:rPr b="0" lang="en-US" sz="22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)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ombination of both approache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4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4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9F3F682-A3A6-4104-9F0C-9EE620627E7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2f2f2"/>
                </a:solidFill>
                <a:latin typeface="Arial Black"/>
              </a:rPr>
              <a:t>Requirements Collection &amp; Analysis 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Centralized Approach</a:t>
            </a:r>
            <a:endParaRPr b="0" lang="en-GB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C09NF03"/>
          <p:cNvPicPr/>
          <p:nvPr/>
        </p:nvPicPr>
        <p:blipFill>
          <a:blip r:embed="rId1"/>
          <a:srcRect l="0" t="0" r="-90" b="6673"/>
          <a:stretch/>
        </p:blipFill>
        <p:spPr>
          <a:xfrm>
            <a:off x="507960" y="1706400"/>
            <a:ext cx="8813520" cy="4389120"/>
          </a:xfrm>
          <a:prstGeom prst="rect">
            <a:avLst/>
          </a:prstGeom>
          <a:ln w="9525">
            <a:noFill/>
          </a:ln>
        </p:spPr>
      </p:pic>
      <p:sp>
        <p:nvSpPr>
          <p:cNvPr id="259" name="PlaceHolder 2"/>
          <p:cNvSpPr>
            <a:spLocks noGrp="1"/>
          </p:cNvSpPr>
          <p:nvPr>
            <p:ph type="sldNum" idx="43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D33CF828-DF8D-4FCF-9B20-FBDCBE4FAD6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44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2f2f2"/>
                </a:solidFill>
                <a:latin typeface="Arial Black"/>
              </a:rPr>
              <a:t>Requirements Collection &amp; Analysis 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View Integration Approach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C09NF04"/>
          <p:cNvPicPr/>
          <p:nvPr/>
        </p:nvPicPr>
        <p:blipFill>
          <a:blip r:embed="rId1"/>
          <a:srcRect l="0" t="13890" r="0" b="0"/>
          <a:stretch/>
        </p:blipFill>
        <p:spPr>
          <a:xfrm>
            <a:off x="1568520" y="1523880"/>
            <a:ext cx="7027560" cy="4876560"/>
          </a:xfrm>
          <a:prstGeom prst="rect">
            <a:avLst/>
          </a:prstGeom>
          <a:ln w="9525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sldNum" idx="45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57022F2-58F4-480D-92E4-AC446D255401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46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3040" y="838080"/>
            <a:ext cx="8419680" cy="419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e4d9be"/>
                </a:solidFill>
                <a:latin typeface="Arial Black"/>
              </a:rPr>
              <a:t>Stages of DBS Development lifecycle</a:t>
            </a:r>
            <a:endParaRPr b="0" lang="en-GB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equirements Collection &amp; Analysis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Critical to capture necessary facts to build the required database application.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These facts are captured using </a:t>
            </a: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fact-finding techniques</a:t>
            </a: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.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When Are Fact-Finding Techniques Used?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7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Fact-finding used throughout database application lifecycle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7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rucial to early stages including database planning, system definition, and requirements collection and analysis stage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47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58AC33A-FB89-446A-811F-96859F95AF7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48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equirements Collection &amp; Analysis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Fact-Finding Techniques</a:t>
            </a:r>
            <a:r>
              <a:rPr b="0" lang="en-US" sz="2400" spc="-1" strike="noStrike">
                <a:solidFill>
                  <a:srgbClr val="595959"/>
                </a:solidFill>
                <a:latin typeface="Arial (body)"/>
              </a:rPr>
              <a:t>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marL="808200" indent="-35100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Examining documentation,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-35100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Interviewing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unstructured/structured &amp; open/closed ended questions)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,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-35100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Observing organization in operation,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-35100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Research,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-35100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Questionnaires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free-format and fixed-format)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49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DF525D3-5EE0-47BF-894F-FE54750E90F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dt" idx="50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9" descr="http://librarytest.kentlaw.edu/assets/images/icons/research.png"/>
          <p:cNvPicPr/>
          <p:nvPr/>
        </p:nvPicPr>
        <p:blipFill>
          <a:blip r:embed="rId1"/>
          <a:stretch/>
        </p:blipFill>
        <p:spPr>
          <a:xfrm>
            <a:off x="6629400" y="3657600"/>
            <a:ext cx="2950920" cy="2950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5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Num" idx="5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34181522-7086-46FB-9BEA-4BCC6D9C365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grpSp>
        <p:nvGrpSpPr>
          <p:cNvPr id="277" name="Group 11"/>
          <p:cNvGrpSpPr/>
          <p:nvPr/>
        </p:nvGrpSpPr>
        <p:grpSpPr>
          <a:xfrm>
            <a:off x="1600200" y="533520"/>
            <a:ext cx="6781320" cy="5714640"/>
            <a:chOff x="1600200" y="533520"/>
            <a:chExt cx="6781320" cy="5714640"/>
          </a:xfrm>
        </p:grpSpPr>
        <p:sp>
          <p:nvSpPr>
            <p:cNvPr id="278" name="Rectangle 21"/>
            <p:cNvSpPr/>
            <p:nvPr/>
          </p:nvSpPr>
          <p:spPr>
            <a:xfrm>
              <a:off x="1600200" y="533520"/>
              <a:ext cx="6614640" cy="1596600"/>
            </a:xfrm>
            <a:prstGeom prst="rect">
              <a:avLst/>
            </a:prstGeom>
            <a:solidFill>
              <a:schemeClr val="bg1">
                <a:alpha val="7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1766880" y="3870360"/>
              <a:ext cx="6614640" cy="2377800"/>
            </a:xfrm>
            <a:prstGeom prst="rect">
              <a:avLst/>
            </a:prstGeom>
            <a:solidFill>
              <a:schemeClr val="bg1">
                <a:alpha val="7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80" name="Rectangle 23"/>
            <p:cNvSpPr/>
            <p:nvPr/>
          </p:nvSpPr>
          <p:spPr>
            <a:xfrm>
              <a:off x="5892840" y="2133720"/>
              <a:ext cx="1574280" cy="1736280"/>
            </a:xfrm>
            <a:prstGeom prst="rect">
              <a:avLst/>
            </a:prstGeom>
            <a:solidFill>
              <a:schemeClr val="bg1">
                <a:alpha val="7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81" name="Rectangle 24"/>
            <p:cNvSpPr/>
            <p:nvPr/>
          </p:nvSpPr>
          <p:spPr>
            <a:xfrm>
              <a:off x="2286000" y="2133720"/>
              <a:ext cx="1890360" cy="1746000"/>
            </a:xfrm>
            <a:prstGeom prst="rect">
              <a:avLst/>
            </a:prstGeom>
            <a:solidFill>
              <a:schemeClr val="bg1">
                <a:alpha val="7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282" name="Rectangle 25"/>
            <p:cNvSpPr/>
            <p:nvPr/>
          </p:nvSpPr>
          <p:spPr>
            <a:xfrm>
              <a:off x="4191120" y="2133720"/>
              <a:ext cx="1676160" cy="1736280"/>
            </a:xfrm>
            <a:prstGeom prst="rect">
              <a:avLst/>
            </a:prstGeom>
            <a:noFill/>
            <a:ln w="38100">
              <a:solidFill>
                <a:srgbClr val="ff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http://toolkit.smallbiz.nsw.gov.au/dsrd/useruploads/images/IM_Ch2_Pt2B_Proof_of_Concept_and_Prototyping.jpg"/>
          <p:cNvPicPr/>
          <p:nvPr/>
        </p:nvPicPr>
        <p:blipFill>
          <a:blip r:embed="rId1"/>
          <a:stretch/>
        </p:blipFill>
        <p:spPr>
          <a:xfrm>
            <a:off x="7756560" y="3733920"/>
            <a:ext cx="1920600" cy="2742840"/>
          </a:xfrm>
          <a:prstGeom prst="rect">
            <a:avLst/>
          </a:prstGeom>
          <a:ln w="9525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Creating a design for a database that will support the enterprise’s mission statement and mission objectives for the required database system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Main aims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represent data and relationships required </a:t>
            </a:r>
            <a:br>
              <a:rPr sz="2200"/>
            </a:b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by users and application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provide a data model which supports transaction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To specify a design that meets performance requirement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53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F677ACC-03D0-4AE8-A7C9-7C4DA514BD8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54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Three main phases of DB design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6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onceptual Database Design.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reate a conceptual data model Independent of any implementation details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6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Logical Database Design. (What)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At this point you know which type of DBMS you will implementing in - e.g. relational, object-oriented etc (but not the actual DBMS)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est the correctness of the data model through 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normalization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6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Physical Database Design. (How)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Derive tables &amp; constraints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Identify storage structures and access methods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lvl="2" marL="928800" indent="-179280">
              <a:lnSpc>
                <a:spcPct val="100000"/>
              </a:lnSpc>
              <a:spcBef>
                <a:spcPts val="360"/>
              </a:spcBef>
              <a:buClr>
                <a:srgbClr val="e6632e"/>
              </a:buClr>
              <a:buFont typeface="Arial"/>
              <a:buChar char="•"/>
              <a:tabLst>
                <a:tab algn="l" pos="217332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Design security features.</a:t>
            </a:r>
            <a:endParaRPr b="0" lang="en-GB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5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3DEB172C-8F2C-4469-916A-0B6E3CE4A20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dt" idx="56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dt" idx="57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ldNum" idx="58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151154C-B10D-441D-A966-1931A48E0C6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295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1766880" y="3048120"/>
            <a:ext cx="6614640" cy="33523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343400" y="380880"/>
            <a:ext cx="4024080" cy="2666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0" y="2666880"/>
            <a:ext cx="265248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3962520" y="2666880"/>
            <a:ext cx="38052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2590920" y="2590920"/>
            <a:ext cx="1523520" cy="5331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BMS Selectio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Selection of an appropriate DBMS to support the database system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Undertaken at any time prior to logical design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 (body)"/>
              </a:rPr>
              <a:t>Main steps for selecting a DBMS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"/>
              </a:spcBef>
              <a:buNone/>
              <a:tabLst>
                <a:tab algn="l" pos="2173320"/>
              </a:tabLst>
            </a:pPr>
            <a:endParaRPr b="0" lang="en-GB" sz="3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Define Terms of Reference of study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Shortlist two or three products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Evaluate products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Recommend selection and produce report</a:t>
            </a: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59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60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A7BE3D6-FFA7-4689-A53C-B9461DE9E86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http://pixhost.info/avaxhome/5b/08/0017085b_medium.jpeg"/>
          <p:cNvPicPr/>
          <p:nvPr/>
        </p:nvPicPr>
        <p:blipFill>
          <a:blip r:embed="rId1"/>
          <a:stretch/>
        </p:blipFill>
        <p:spPr>
          <a:xfrm>
            <a:off x="7010280" y="3886200"/>
            <a:ext cx="2514240" cy="2514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dt" idx="6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Num" idx="6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385ED5F-24B7-4836-887B-35A44ABAC7FB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09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766880" y="3048120"/>
            <a:ext cx="6614640" cy="33523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4343400" y="0"/>
            <a:ext cx="4024080" cy="2666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190512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6019920" y="2590920"/>
            <a:ext cx="1523520" cy="5331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Application Desig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Design of user interface and application programs that use and process the database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Database design and application design are parallel activities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Arial (body)"/>
              </a:rPr>
              <a:t>Includes two important activities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transaction design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user interface design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63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64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DA447BD5-D327-4922-B00E-34F15CA4B05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65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66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3BB2666-6C15-4690-92B3-A93D0EDDDD3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1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21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2" name="Rectangle 22"/>
          <p:cNvSpPr/>
          <p:nvPr/>
        </p:nvSpPr>
        <p:spPr>
          <a:xfrm>
            <a:off x="1766880" y="3048120"/>
            <a:ext cx="2576160" cy="1294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4343400" y="0"/>
            <a:ext cx="4024080" cy="4723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15228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1828800" y="4724280"/>
            <a:ext cx="6614640" cy="1523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0" y="4343400"/>
            <a:ext cx="266652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2590920" y="4267080"/>
            <a:ext cx="1447560" cy="4568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dt" idx="13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ldNum" idx="14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3F55CCE-6248-4DA6-B709-21D0D649F3D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Prototyping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Building working model of a database system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o evaluate how the final system will look and function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Arial (body)"/>
              </a:rPr>
              <a:t>Purpose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to identify features of a system that work well, or are inadequate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to suggest improvements or even new features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to clarify the users’ requirements;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to evaluate feasibility of a particular system design.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67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68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ACF8756-A0F7-4090-A5B3-8173ACE228E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dt" idx="69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Num" idx="70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E4EE064-8514-4FA0-87FB-0978C0C1482A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35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6" name="Rectangle 22"/>
          <p:cNvSpPr/>
          <p:nvPr/>
        </p:nvSpPr>
        <p:spPr>
          <a:xfrm>
            <a:off x="1766880" y="3048120"/>
            <a:ext cx="2576160" cy="1294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4343400" y="0"/>
            <a:ext cx="4024080" cy="43430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15228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1828800" y="4724280"/>
            <a:ext cx="6614640" cy="1523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4343400"/>
            <a:ext cx="39621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41" name="Rectangle 25"/>
          <p:cNvSpPr/>
          <p:nvPr/>
        </p:nvSpPr>
        <p:spPr>
          <a:xfrm>
            <a:off x="6019920" y="4267080"/>
            <a:ext cx="1447560" cy="4568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emr implementation"/>
          <p:cNvPicPr/>
          <p:nvPr/>
        </p:nvPicPr>
        <p:blipFill>
          <a:blip r:embed="rId1"/>
          <a:stretch/>
        </p:blipFill>
        <p:spPr>
          <a:xfrm>
            <a:off x="3276720" y="4195800"/>
            <a:ext cx="3733560" cy="2509560"/>
          </a:xfrm>
          <a:prstGeom prst="rect">
            <a:avLst/>
          </a:prstGeom>
          <a:ln w="9525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Implementation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Physical realization of the database and application designs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21"/>
              </a:spcBef>
              <a:buNone/>
              <a:tabLst>
                <a:tab algn="l" pos="217332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Create database schemas and empty database files. (DDL)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Arial"/>
              </a:rPr>
              <a:t>Create the application programs. (DML and JAVA or C++ ...)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7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7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468821DD-E0FC-4CBF-8ACA-E364649D18C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Straight Connector 7"/>
          <p:cNvCxnSpPr/>
          <p:nvPr/>
        </p:nvCxnSpPr>
        <p:spPr>
          <a:xfrm>
            <a:off x="247320" y="6524280"/>
            <a:ext cx="9411120" cy="2160"/>
          </a:xfrm>
          <a:prstGeom prst="straightConnector1">
            <a:avLst/>
          </a:prstGeom>
          <a:ln cap="rnd" w="12700">
            <a:solidFill>
              <a:srgbClr val="5d5c64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dt" idx="73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Num" idx="74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FE2EE68-1EFC-4BDA-AC1A-8F7F0FBB950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51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1766880" y="3048120"/>
            <a:ext cx="2576160" cy="1294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4343400" y="0"/>
            <a:ext cx="4024080" cy="48002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15228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1828800" y="5181480"/>
            <a:ext cx="6614640" cy="10663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0" y="4343400"/>
            <a:ext cx="3962160" cy="8377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57" name="Rectangle 25"/>
          <p:cNvSpPr/>
          <p:nvPr/>
        </p:nvSpPr>
        <p:spPr>
          <a:xfrm>
            <a:off x="6019920" y="4800600"/>
            <a:ext cx="1447560" cy="4568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Data Conversion and Loading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Transferring any existing data into new database and converting any existing applications to run on new database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Only required when new database system is replacing an old system.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21"/>
              </a:spcBef>
              <a:buNone/>
              <a:tabLst>
                <a:tab algn="l" pos="217332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75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76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0C487D9-CAC7-4F9C-A8F0-40C10698D7F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2" descr="http://www.atelier-us.com/upload/gallery2/2008/news/computer_data.jpg"/>
          <p:cNvPicPr/>
          <p:nvPr/>
        </p:nvPicPr>
        <p:blipFill>
          <a:blip r:embed="rId1"/>
          <a:stretch/>
        </p:blipFill>
        <p:spPr>
          <a:xfrm>
            <a:off x="7162920" y="4648320"/>
            <a:ext cx="2209320" cy="1657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dt" idx="77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Num" idx="78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6581D1D-81D2-4029-8692-C41915526B9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66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67" name="Rectangle 22"/>
          <p:cNvSpPr/>
          <p:nvPr/>
        </p:nvSpPr>
        <p:spPr>
          <a:xfrm>
            <a:off x="1766880" y="3048120"/>
            <a:ext cx="2576160" cy="1294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343400" y="0"/>
            <a:ext cx="4024080" cy="53337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15228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1828800" y="5715000"/>
            <a:ext cx="6614640" cy="5331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0" y="4343400"/>
            <a:ext cx="3962160" cy="13712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6019920" y="5334120"/>
            <a:ext cx="1447560" cy="38052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Testing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rmAutofit/>
          </a:bodyPr>
          <a:p>
            <a:pPr marL="35100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Process of running the database system with intent of finding errors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Use carefully planned test strategies and realistic data.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Demonstrates that database and application programs appear to be working according to requirements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79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FAE4533-77D6-451D-B6EC-40FE531BB32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dt" idx="80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2" descr="http://upload.wikimedia.org/wikiversity/en/f/fd/ComputerTesting.jpg"/>
          <p:cNvPicPr/>
          <p:nvPr/>
        </p:nvPicPr>
        <p:blipFill>
          <a:blip r:embed="rId1"/>
          <a:stretch/>
        </p:blipFill>
        <p:spPr>
          <a:xfrm>
            <a:off x="7391520" y="4876920"/>
            <a:ext cx="1980720" cy="1501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dt" idx="81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Num" idx="82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7CDBAC6-C734-48EC-9289-4E17DD5D1629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381" name="Rectangle 21"/>
          <p:cNvSpPr/>
          <p:nvPr/>
        </p:nvSpPr>
        <p:spPr>
          <a:xfrm>
            <a:off x="1690560" y="380880"/>
            <a:ext cx="2652480" cy="22856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1766880" y="3048120"/>
            <a:ext cx="2576160" cy="1294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343400" y="0"/>
            <a:ext cx="4024080" cy="58669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152280" y="2666880"/>
            <a:ext cx="4190760" cy="3805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1828800" y="5715000"/>
            <a:ext cx="4266720" cy="53316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4343400"/>
            <a:ext cx="3962160" cy="137124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87" name="Rectangle 25"/>
          <p:cNvSpPr/>
          <p:nvPr/>
        </p:nvSpPr>
        <p:spPr>
          <a:xfrm>
            <a:off x="6019920" y="5791320"/>
            <a:ext cx="1447560" cy="5331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Operational Maintenance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Autofit/>
          </a:bodyPr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 (body)"/>
              </a:rPr>
              <a:t>Process of monitoring and maintaining database system following installation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9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Arial"/>
              </a:rPr>
              <a:t>Operational Maintenance Activities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21"/>
              </a:spcBef>
              <a:buNone/>
              <a:tabLst>
                <a:tab algn="l" pos="217332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Monitoring performance of system. 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Maintaining and upgrading database application.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Incorporating new requirements into DB application</a:t>
            </a:r>
            <a:r>
              <a:rPr b="0" lang="en-GB" sz="2000" spc="-1" strike="noStrike">
                <a:solidFill>
                  <a:srgbClr val="595959"/>
                </a:solidFill>
                <a:latin typeface="Arial (body)"/>
              </a:rPr>
              <a:t>.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83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71DE67B-7862-4B6C-A620-C7E7B4D2C560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dt" idx="84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2" descr="http://pedagogie.ac-toulouse.fr/lp-eugene-montel-colomiers/IMG/jpg/maintenance.jpg"/>
          <p:cNvPicPr/>
          <p:nvPr/>
        </p:nvPicPr>
        <p:blipFill>
          <a:blip r:embed="rId1"/>
          <a:stretch/>
        </p:blipFill>
        <p:spPr>
          <a:xfrm>
            <a:off x="7391520" y="4343400"/>
            <a:ext cx="2133360" cy="2133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dt" idx="15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ldNum" idx="16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1A284ED-D484-466F-9A32-4BB6D2191A5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029" descr="DS3-Figure 09-01"/>
          <p:cNvPicPr/>
          <p:nvPr/>
        </p:nvPicPr>
        <p:blipFill>
          <a:blip r:embed="rId1"/>
          <a:srcRect l="0" t="0" r="0" b="1653"/>
          <a:stretch/>
        </p:blipFill>
        <p:spPr>
          <a:xfrm>
            <a:off x="2238480" y="573120"/>
            <a:ext cx="5316120" cy="5675040"/>
          </a:xfrm>
          <a:prstGeom prst="rect">
            <a:avLst/>
          </a:prstGeom>
          <a:ln w="9525">
            <a:noFill/>
          </a:ln>
        </p:spPr>
      </p:pic>
      <p:sp>
        <p:nvSpPr>
          <p:cNvPr id="185" name="Rectangle 21"/>
          <p:cNvSpPr/>
          <p:nvPr/>
        </p:nvSpPr>
        <p:spPr>
          <a:xfrm>
            <a:off x="1676520" y="380880"/>
            <a:ext cx="2652480" cy="60912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676520" y="974880"/>
            <a:ext cx="6614640" cy="5349600"/>
          </a:xfrm>
          <a:prstGeom prst="rect">
            <a:avLst/>
          </a:prstGeom>
          <a:solidFill>
            <a:schemeClr val="bg1">
              <a:alpha val="7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7" name="Rectangle 25"/>
          <p:cNvSpPr/>
          <p:nvPr/>
        </p:nvSpPr>
        <p:spPr>
          <a:xfrm>
            <a:off x="4267080" y="557280"/>
            <a:ext cx="1523520" cy="44892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atabase Planning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2173320"/>
              </a:tabLst>
            </a:pPr>
            <a:endParaRPr b="0" lang="en-GB" sz="23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dentifying how the stages can be completed in the most effective &amp; efficient way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uring planning phase, four major activities are performed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GB" sz="8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Review and approve the database project request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Prioritize the database project request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Allocate resources such as money, people and tools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Arrange a development team to develop the database project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7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452F5403-1628-4954-B17A-73CA0509AD7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dt" idx="18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Database Planning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9144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atabase planning should also include the development of standards that govern how data will be collected, how the format should be specified, what necessary documentation will be needed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 u="sng">
                <a:solidFill>
                  <a:srgbClr val="595959"/>
                </a:solidFill>
                <a:uFillTx/>
                <a:latin typeface="Arial"/>
              </a:rPr>
              <a:t>Two steps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marL="746280" indent="-34920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217332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Arial"/>
              </a:rPr>
              <a:t>Mission Statement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 : Major aims for the Database Project. 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2173320"/>
              </a:tabLst>
            </a:pPr>
            <a:endParaRPr b="0" lang="en-GB" sz="1100" spc="-1" strike="noStrike">
              <a:solidFill>
                <a:srgbClr val="595959"/>
              </a:solidFill>
              <a:latin typeface="Arial"/>
            </a:endParaRPr>
          </a:p>
          <a:p>
            <a:pPr marL="746280" indent="-34920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2" charset="2"/>
              <a:buAutoNum type="arabicPeriod"/>
              <a:tabLst>
                <a:tab algn="l" pos="217332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Arial"/>
              </a:rPr>
              <a:t>Mission Objectives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 : Tasks that DB should support, </a:t>
            </a:r>
            <a:r>
              <a:rPr b="0" i="1" lang="en-US" sz="2200" spc="-1" strike="noStrike">
                <a:solidFill>
                  <a:srgbClr val="595959"/>
                </a:solidFill>
                <a:latin typeface="Arial"/>
              </a:rPr>
              <a:t>Driven through Fact Finding techniques: interviews, questionnaire.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9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0B16BCF-2DC1-4E3D-B17E-D8546086FFEA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dt" idx="20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2f2f2"/>
                </a:solidFill>
                <a:latin typeface="Arial Black"/>
              </a:rPr>
              <a:t>Database Planning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Mission Statement 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Interviewing the business director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35100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r>
              <a:rPr b="1" lang="en-US" sz="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GB" sz="8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What is the purpose of your company?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Why do you need the DB?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5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How can the DB solve your problem?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1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FA422539-BDAF-4248-81ED-27E348A151B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Interview"/>
          <p:cNvPicPr/>
          <p:nvPr/>
        </p:nvPicPr>
        <p:blipFill>
          <a:blip r:embed="rId1"/>
          <a:stretch/>
        </p:blipFill>
        <p:spPr>
          <a:xfrm>
            <a:off x="6629400" y="3805200"/>
            <a:ext cx="2590560" cy="2518920"/>
          </a:xfrm>
          <a:prstGeom prst="rect">
            <a:avLst/>
          </a:prstGeom>
          <a:ln w="9525">
            <a:noFill/>
          </a:ln>
        </p:spPr>
      </p:pic>
      <p:sp>
        <p:nvSpPr>
          <p:cNvPr id="200" name="PlaceHolder 4"/>
          <p:cNvSpPr>
            <a:spLocks noGrp="1"/>
          </p:cNvSpPr>
          <p:nvPr>
            <p:ph type="dt" idx="22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2f2f2"/>
                </a:solidFill>
                <a:latin typeface="Arial Black"/>
              </a:rPr>
              <a:t>Database Planning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Mission Statement 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351000" indent="-228600" algn="just">
              <a:lnSpc>
                <a:spcPct val="100000"/>
              </a:lnSpc>
              <a:spcBef>
                <a:spcPts val="479"/>
              </a:spcBef>
              <a:buClr>
                <a:srgbClr val="b94516"/>
              </a:buClr>
              <a:buSzPct val="90000"/>
              <a:buFont typeface="Wingdings" charset="2"/>
              <a:buChar char=""/>
              <a:tabLst>
                <a:tab algn="l" pos="217332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Interviewing Burger King Director: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What is the purpose of your company?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e4d9be"/>
                </a:solidFill>
                <a:latin typeface="Arial"/>
              </a:rPr>
              <a:t>To prepare and sell quick service food to fulfill our guest's needs in a cleaner environment than our competitors</a:t>
            </a:r>
            <a:r>
              <a:rPr b="0" lang="en-US" sz="2200" spc="-1" strike="noStrike">
                <a:solidFill>
                  <a:srgbClr val="e4d9be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Why do you need the DB?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e4d9be"/>
                </a:solidFill>
                <a:latin typeface="Arial"/>
              </a:rPr>
              <a:t>We have many branches over the world , that offers different cosines, which drive a data management problem, sharing of information between branches ( for examples : favorite meals, number of employees) which help in business decision  making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GB" sz="2000" spc="-1" strike="noStrike">
              <a:solidFill>
                <a:srgbClr val="595959"/>
              </a:solidFill>
              <a:latin typeface="Arial"/>
            </a:endParaRPr>
          </a:p>
          <a:p>
            <a:pPr lvl="1" marL="746280" indent="-289080">
              <a:lnSpc>
                <a:spcPct val="100000"/>
              </a:lnSpc>
              <a:spcBef>
                <a:spcPts val="439"/>
              </a:spcBef>
              <a:buClr>
                <a:srgbClr val="e6632e"/>
              </a:buClr>
              <a:buSzPct val="85000"/>
              <a:buFont typeface="Wingdings 3" charset="2"/>
              <a:buChar char=""/>
              <a:tabLst>
                <a:tab algn="l" pos="217332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How can the DB solve your problem?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8082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e4d9be"/>
                </a:solidFill>
                <a:latin typeface="Arial"/>
              </a:rPr>
              <a:t>No more paperwork, automating daily tasks, corporation between branches</a:t>
            </a:r>
            <a:r>
              <a:rPr b="0" lang="en-US" sz="2200" spc="-1" strike="noStrike">
                <a:solidFill>
                  <a:srgbClr val="e4d9be"/>
                </a:solidFill>
                <a:latin typeface="Arial"/>
              </a:rPr>
              <a:t>.</a:t>
            </a: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GB" sz="26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3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931855C-F109-480D-B52E-72458A95EE1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" descr="burger%20king"/>
          <p:cNvPicPr/>
          <p:nvPr/>
        </p:nvPicPr>
        <p:blipFill>
          <a:blip r:embed="rId1"/>
          <a:stretch/>
        </p:blipFill>
        <p:spPr>
          <a:xfrm>
            <a:off x="8229600" y="1447920"/>
            <a:ext cx="1371240" cy="1371240"/>
          </a:xfrm>
          <a:prstGeom prst="rect">
            <a:avLst/>
          </a:prstGeom>
          <a:ln w="9525">
            <a:noFill/>
          </a:ln>
        </p:spPr>
      </p:pic>
      <p:sp>
        <p:nvSpPr>
          <p:cNvPr id="205" name="PlaceHolder 4"/>
          <p:cNvSpPr>
            <a:spLocks noGrp="1"/>
          </p:cNvSpPr>
          <p:nvPr>
            <p:ph type="dt" idx="24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274680"/>
            <a:ext cx="92451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2f2f2"/>
                </a:solidFill>
                <a:latin typeface="Arial Black"/>
              </a:rPr>
              <a:t>Database Planning 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Mission Statement </a:t>
            </a: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30120" y="1600200"/>
            <a:ext cx="9245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Burger King DB project mission statement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e purpose of BK DB project is to maintain the data that is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used &amp; generated to support the fast food business for our client and to support sharing information between branches and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n decision making.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2173320"/>
              </a:tabLst>
            </a:pPr>
            <a:endParaRPr b="0" lang="en-GB" sz="28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GB" sz="1700" spc="-1" strike="noStrike">
              <a:solidFill>
                <a:srgbClr val="595959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Clearer view of the project    </a:t>
            </a: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2173320"/>
              </a:tabLst>
            </a:pPr>
            <a:endParaRPr b="0" lang="en-GB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5"/>
          </p:nvPr>
        </p:nvSpPr>
        <p:spPr>
          <a:xfrm>
            <a:off x="73468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2E9CE0E-4026-4CBA-98E6-9B410BD133B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5"/>
          <p:cNvSpPr/>
          <p:nvPr/>
        </p:nvSpPr>
        <p:spPr>
          <a:xfrm rot="16200000">
            <a:off x="4343400" y="4648320"/>
            <a:ext cx="761760" cy="761760"/>
          </a:xfrm>
          <a:prstGeom prst="leftArrow">
            <a:avLst>
              <a:gd name="adj1" fmla="val 50000"/>
              <a:gd name="adj2" fmla="val 25000"/>
            </a:avLst>
          </a:prstGeom>
          <a:solidFill>
            <a:schemeClr val="accent2">
              <a:lumMod val="7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26"/>
          </p:nvPr>
        </p:nvSpPr>
        <p:spPr>
          <a:xfrm>
            <a:off x="247680" y="6521400"/>
            <a:ext cx="2311200" cy="31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BS Developmen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9" descr="burger%20king"/>
          <p:cNvPicPr/>
          <p:nvPr/>
        </p:nvPicPr>
        <p:blipFill>
          <a:blip r:embed="rId1"/>
          <a:stretch/>
        </p:blipFill>
        <p:spPr>
          <a:xfrm>
            <a:off x="8229600" y="1447920"/>
            <a:ext cx="1371240" cy="1371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refab">
  <a:themeElements>
    <a:clrScheme name="Prefab">
      <a:dk1>
        <a:srgbClr val="000000"/>
      </a:dk1>
      <a:lt1>
        <a:srgbClr val="ffffff"/>
      </a:lt1>
      <a:dk2>
        <a:srgbClr val="5d5c64"/>
      </a:dk2>
      <a:lt2>
        <a:srgbClr val="e4d9be"/>
      </a:lt2>
      <a:accent1>
        <a:srgbClr val="e0b62e"/>
      </a:accent1>
      <a:accent2>
        <a:srgbClr val="e6632e"/>
      </a:accent2>
      <a:accent3>
        <a:srgbClr val="73c1c7"/>
      </a:accent3>
      <a:accent4>
        <a:srgbClr val="75964c"/>
      </a:accent4>
      <a:accent5>
        <a:srgbClr val="c78c45"/>
      </a:accent5>
      <a:accent6>
        <a:srgbClr val="bca076"/>
      </a:accent6>
      <a:hlink>
        <a:srgbClr val="cf3b0d"/>
      </a:hlink>
      <a:folHlink>
        <a:srgbClr val="7e756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efab">
  <a:themeElements>
    <a:clrScheme name="Prefab">
      <a:dk1>
        <a:srgbClr val="000000"/>
      </a:dk1>
      <a:lt1>
        <a:srgbClr val="ffffff"/>
      </a:lt1>
      <a:dk2>
        <a:srgbClr val="5d5c64"/>
      </a:dk2>
      <a:lt2>
        <a:srgbClr val="e4d9be"/>
      </a:lt2>
      <a:accent1>
        <a:srgbClr val="e0b62e"/>
      </a:accent1>
      <a:accent2>
        <a:srgbClr val="e6632e"/>
      </a:accent2>
      <a:accent3>
        <a:srgbClr val="73c1c7"/>
      </a:accent3>
      <a:accent4>
        <a:srgbClr val="75964c"/>
      </a:accent4>
      <a:accent5>
        <a:srgbClr val="c78c45"/>
      </a:accent5>
      <a:accent6>
        <a:srgbClr val="bca076"/>
      </a:accent6>
      <a:hlink>
        <a:srgbClr val="cf3b0d"/>
      </a:hlink>
      <a:folHlink>
        <a:srgbClr val="7e756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refab">
  <a:themeElements>
    <a:clrScheme name="Prefab">
      <a:dk1>
        <a:srgbClr val="000000"/>
      </a:dk1>
      <a:lt1>
        <a:srgbClr val="ffffff"/>
      </a:lt1>
      <a:dk2>
        <a:srgbClr val="5d5c64"/>
      </a:dk2>
      <a:lt2>
        <a:srgbClr val="e4d9be"/>
      </a:lt2>
      <a:accent1>
        <a:srgbClr val="e0b62e"/>
      </a:accent1>
      <a:accent2>
        <a:srgbClr val="e6632e"/>
      </a:accent2>
      <a:accent3>
        <a:srgbClr val="73c1c7"/>
      </a:accent3>
      <a:accent4>
        <a:srgbClr val="75964c"/>
      </a:accent4>
      <a:accent5>
        <a:srgbClr val="c78c45"/>
      </a:accent5>
      <a:accent6>
        <a:srgbClr val="bca076"/>
      </a:accent6>
      <a:hlink>
        <a:srgbClr val="cf3b0d"/>
      </a:hlink>
      <a:folHlink>
        <a:srgbClr val="7e756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refab">
  <a:themeElements>
    <a:clrScheme name="Prefab">
      <a:dk1>
        <a:srgbClr val="000000"/>
      </a:dk1>
      <a:lt1>
        <a:srgbClr val="ffffff"/>
      </a:lt1>
      <a:dk2>
        <a:srgbClr val="5d5c64"/>
      </a:dk2>
      <a:lt2>
        <a:srgbClr val="e4d9be"/>
      </a:lt2>
      <a:accent1>
        <a:srgbClr val="e0b62e"/>
      </a:accent1>
      <a:accent2>
        <a:srgbClr val="e6632e"/>
      </a:accent2>
      <a:accent3>
        <a:srgbClr val="73c1c7"/>
      </a:accent3>
      <a:accent4>
        <a:srgbClr val="75964c"/>
      </a:accent4>
      <a:accent5>
        <a:srgbClr val="c78c45"/>
      </a:accent5>
      <a:accent6>
        <a:srgbClr val="bca076"/>
      </a:accent6>
      <a:hlink>
        <a:srgbClr val="cf3b0d"/>
      </a:hlink>
      <a:folHlink>
        <a:srgbClr val="7e756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efab</Template>
  <TotalTime>4635</TotalTime>
  <Application>LibreOffice/7.4.7.2$Linux_X86_64 LibreOffice_project/40$Build-2</Application>
  <AppVersion>15.0000</AppVersion>
  <Pages>17</Pages>
  <Words>1289</Words>
  <Paragraphs>294</Paragraphs>
  <Company>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0:29:26Z</dcterms:created>
  <dc:creator>Sue Stirk</dc:creator>
  <dc:description/>
  <dc:language>en-US</dc:language>
  <cp:lastModifiedBy>Windows User</cp:lastModifiedBy>
  <cp:lastPrinted>2001-10-03T11:48:46Z</cp:lastPrinted>
  <dcterms:modified xsi:type="dcterms:W3CDTF">2010-10-08T01:52:57Z</dcterms:modified>
  <cp:revision>2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A4 Paper (210x297 mm)</vt:lpwstr>
  </property>
  <property fmtid="{D5CDD505-2E9C-101B-9397-08002B2CF9AE}" pid="4" name="Slides">
    <vt:r8>38</vt:r8>
  </property>
</Properties>
</file>