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906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34F-CD09-48FC-A3F8-907CCDEF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007-7592-4820-B240-C963DDC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2C4-E5A6-497F-84CE-9D232507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36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224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012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36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224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51F-EDB8-4179-B2BF-5D7FBBA4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CD06-B459-4E5D-9CC3-80F223FF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F7A6-F216-4F81-B8A6-834DA77E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8E4D-08F7-4F18-81F1-3D09F70F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1C0F-815B-4C4C-91D0-A855DFA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EA6B-13C5-4A4B-8C6A-90A83CA4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30120" y="274680"/>
            <a:ext cx="9245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A464-EE0A-4ED7-8FB2-37C1C024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6A45-593B-4660-90D6-A16EDC0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E92-E5C9-4BA9-BE29-D7B7432C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656D-7D6D-464D-9AF4-2435463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9E51-3B15-4125-B159-0836A5A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662F-4542-4361-8814-207D2740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5103-4B6D-4372-9511-79730181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5636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8224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012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5636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8224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45DA-A571-4107-A69E-1A4BCC4C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E558-2D72-4F85-9944-CE8612E8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1C206-31DA-43F0-B05D-AF384AA8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42B09-1878-4999-8185-2AC1EDB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7176-1F1F-4177-94F8-03FD23C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CB95-5B55-44B4-A210-31704FC8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F06-F351-4AEA-A031-DE61EA61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30120" y="274680"/>
            <a:ext cx="9245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1FBB-8443-4ED4-8DFC-C516F6C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69DA-4139-4D7C-B0DC-982D7219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AA2E-321F-4974-A38B-53548FB8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BEA3-8209-4163-99EB-D5D22C6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96F4-225A-4332-BAC4-ABA3C559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623B-D6F1-4DD3-ADE5-783CB9D4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5636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8224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3012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5636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8224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5A2B-04CE-4AAE-BCE4-B73BAF3A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3A1E1-AD03-423F-BE2F-9BCACB7A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1115-39B7-4A7C-9C40-AF24F0D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4702-8E3A-4718-8CA5-46105DE5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821-1ED9-4899-A71A-538B8584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5FFF1-ED2A-43D9-A7EA-C923D9CE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7D3C-E46A-4FDE-8AA8-EB1D0D6B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30120" y="274680"/>
            <a:ext cx="9245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4D41-1232-4E88-91E1-F18AF51C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61918-5980-4256-AF52-A1D18023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F007-1B2B-4B18-91BC-0C86CF5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64D7-6D22-47AD-9FA2-11977EE7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858D-E3A6-47E8-90DA-150978BF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F3D1-0E9C-47A9-8C93-A3F98813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5636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8224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3012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45636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8224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0092-F3C8-4406-8B3D-BB6F9D01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4FA-EBD3-4747-B24B-BED2870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30120" y="274680"/>
            <a:ext cx="9245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B15-097B-4987-9908-B941FE6D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AEF-D4AE-4814-AC7E-B40D3F6E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B3E-037D-482F-AE38-565775A9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1A7-A7A9-43CC-8C94-5ECF0EF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 hidden="1"/>
          <p:cNvSpPr/>
          <p:nvPr/>
        </p:nvSpPr>
        <p:spPr>
          <a:xfrm>
            <a:off x="247680" y="152280"/>
            <a:ext cx="9410400" cy="1294920"/>
          </a:xfrm>
          <a:prstGeom prst="round2SameRect">
            <a:avLst>
              <a:gd name="adj1" fmla="val 4902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  <p:sp>
        <p:nvSpPr>
          <p:cNvPr id="2" name="Round Same Side Corner Rectangle 8"/>
          <p:cNvSpPr/>
          <p:nvPr/>
        </p:nvSpPr>
        <p:spPr>
          <a:xfrm flipV="1">
            <a:off x="247680" y="4723200"/>
            <a:ext cx="9410400" cy="1828440"/>
          </a:xfrm>
          <a:prstGeom prst="round2SameRect">
            <a:avLst>
              <a:gd name="adj1" fmla="val 10784"/>
              <a:gd name="adj2" fmla="val 0"/>
            </a:avLst>
          </a:prstGeom>
          <a:solidFill>
            <a:schemeClr val="tx2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Round Same Side Corner Rectangle 9"/>
          <p:cNvSpPr/>
          <p:nvPr/>
        </p:nvSpPr>
        <p:spPr>
          <a:xfrm>
            <a:off x="247680" y="228600"/>
            <a:ext cx="9410400" cy="4419360"/>
          </a:xfrm>
          <a:prstGeom prst="round2SameRect">
            <a:avLst>
              <a:gd name="adj1" fmla="val 2821"/>
              <a:gd name="adj2" fmla="val 0"/>
            </a:avLst>
          </a:prstGeom>
          <a:solidFill>
            <a:srgbClr val="e0b62e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0240" y="533520"/>
            <a:ext cx="8584920" cy="38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n-GB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247680" y="6553080"/>
            <a:ext cx="2311200" cy="28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37040" y="6553080"/>
            <a:ext cx="3714480" cy="28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7429680" y="6553080"/>
            <a:ext cx="2228400" cy="28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BC87802-EB65-4391-B6AE-A690BE0EAA6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 Same Side Corner Rectangle 6" hidden="1"/>
          <p:cNvSpPr/>
          <p:nvPr/>
        </p:nvSpPr>
        <p:spPr>
          <a:xfrm>
            <a:off x="247680" y="152280"/>
            <a:ext cx="9410400" cy="1294920"/>
          </a:xfrm>
          <a:prstGeom prst="round2SameRect">
            <a:avLst>
              <a:gd name="adj1" fmla="val 4902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46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  <p:sp>
        <p:nvSpPr>
          <p:cNvPr id="47" name="Round Same Side Corner Rectangle 8"/>
          <p:cNvSpPr/>
          <p:nvPr/>
        </p:nvSpPr>
        <p:spPr>
          <a:xfrm>
            <a:off x="247680" y="228600"/>
            <a:ext cx="9410400" cy="4952520"/>
          </a:xfrm>
          <a:prstGeom prst="round2SameRect">
            <a:avLst>
              <a:gd name="adj1" fmla="val 2821"/>
              <a:gd name="adj2" fmla="val 0"/>
            </a:avLst>
          </a:prstGeom>
          <a:solidFill>
            <a:schemeClr val="tx2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8" name="Round Same Side Corner Rectangle 9"/>
          <p:cNvSpPr/>
          <p:nvPr/>
        </p:nvSpPr>
        <p:spPr>
          <a:xfrm flipV="1">
            <a:off x="247680" y="5256720"/>
            <a:ext cx="9410400" cy="1294920"/>
          </a:xfrm>
          <a:prstGeom prst="round2SameRect">
            <a:avLst>
              <a:gd name="adj1" fmla="val 10784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3040" y="838080"/>
            <a:ext cx="841968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e4d9be"/>
                </a:solidFill>
                <a:latin typeface="Arial Black"/>
              </a:rPr>
              <a:t>Click to edit Master title style</a:t>
            </a:r>
            <a:endParaRPr b="0" lang="en-GB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82640" y="5410080"/>
            <a:ext cx="8419680" cy="1042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37040" y="6521400"/>
            <a:ext cx="371448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6616E14-968F-499E-88FD-E15C0007055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 Same Side Corner Rectangle 6" hidden="1"/>
          <p:cNvSpPr/>
          <p:nvPr/>
        </p:nvSpPr>
        <p:spPr>
          <a:xfrm>
            <a:off x="247680" y="152280"/>
            <a:ext cx="9410400" cy="1294920"/>
          </a:xfrm>
          <a:prstGeom prst="round2SameRect">
            <a:avLst>
              <a:gd name="adj1" fmla="val 4902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91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37040" y="6521400"/>
            <a:ext cx="371448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4D1EB6E-4179-4250-9674-053A886339D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ound Same Side Corner Rectangle 6"/>
          <p:cNvSpPr/>
          <p:nvPr/>
        </p:nvSpPr>
        <p:spPr>
          <a:xfrm>
            <a:off x="247680" y="152280"/>
            <a:ext cx="9410400" cy="1294920"/>
          </a:xfrm>
          <a:prstGeom prst="round2SameRect">
            <a:avLst>
              <a:gd name="adj1" fmla="val 4902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4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e6632e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Click to edit Master text styles</a:t>
            </a: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79"/>
              </a:spcBef>
              <a:buClr>
                <a:srgbClr val="e6632e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econd level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e6632e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3" marL="1004760" indent="-18252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4" marL="1279440" indent="-18252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37040" y="6521400"/>
            <a:ext cx="371448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E529192-B4EF-4C30-A45D-5C66F7F2367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991360" cy="38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ffffff"/>
                </a:solidFill>
                <a:latin typeface="Arial Black"/>
              </a:rPr>
              <a:t>DBS Development Lifecycle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 Black"/>
              </a:rPr>
              <a:t>&amp;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 Black"/>
              </a:rPr>
              <a:t>DB Analysis</a:t>
            </a:r>
            <a:endParaRPr b="0" lang="en-GB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30120" y="4800600"/>
            <a:ext cx="924516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e4d9be"/>
                </a:solidFill>
                <a:latin typeface="Arial"/>
              </a:rPr>
              <a:t>Chapter 10 &amp; 11 in Text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Objectives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Interviewing different staff: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8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Job description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aily task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ata that they deal with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aily report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ype of things they keep track on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ustomer services.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7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B3D87BF-70F6-477E-B2CB-05485AE5738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28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Interview"/>
          <p:cNvPicPr/>
          <p:nvPr/>
        </p:nvPicPr>
        <p:blipFill>
          <a:blip r:embed="rId1"/>
          <a:stretch/>
        </p:blipFill>
        <p:spPr>
          <a:xfrm>
            <a:off x="6629400" y="3805200"/>
            <a:ext cx="2590560" cy="2518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Objectives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spcBef>
                <a:spcPts val="159"/>
              </a:spcBef>
              <a:buNone/>
              <a:tabLst>
                <a:tab algn="l" pos="2173320"/>
              </a:tabLst>
            </a:pPr>
            <a:endParaRPr b="0" lang="en-GB" sz="8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manage (add, delete, update) data on branche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manage (add, delete, update) data on staff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manage (add, delete, update) on meal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manage (add, delete, update) on client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erform searches on branche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erform searches on staff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erform searches on meal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erform searches on clients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29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30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61AAC7F-BD3F-453B-B7C2-45FBF7474E3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8" descr="burger%20king"/>
          <p:cNvPicPr/>
          <p:nvPr/>
        </p:nvPicPr>
        <p:blipFill>
          <a:blip r:embed="rId1"/>
          <a:stretch/>
        </p:blipFill>
        <p:spPr>
          <a:xfrm>
            <a:off x="8229600" y="1447920"/>
            <a:ext cx="1371240" cy="1371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dt" idx="3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Num" idx="3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D9D2F0B-B37B-4D1C-AE3B-8F2BCF2ED6E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225" name="Rectangle 21"/>
          <p:cNvSpPr/>
          <p:nvPr/>
        </p:nvSpPr>
        <p:spPr>
          <a:xfrm>
            <a:off x="1690560" y="380880"/>
            <a:ext cx="2652480" cy="1142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1676520" y="1523880"/>
            <a:ext cx="6614640" cy="48765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4267080" y="1076400"/>
            <a:ext cx="1523520" cy="44748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67080" y="304920"/>
            <a:ext cx="2042640" cy="7617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System Definitio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Identify System boundaries at a very high level, e.g.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urrent user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urrent application area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33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34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EDCF268-1FA3-48F6-BA99-238FD1557B1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" descr="C10NF10"/>
          <p:cNvPicPr/>
          <p:nvPr/>
        </p:nvPicPr>
        <p:blipFill>
          <a:blip r:embed="rId1"/>
          <a:srcRect l="20367" t="0" r="0" b="0"/>
          <a:stretch/>
        </p:blipFill>
        <p:spPr>
          <a:xfrm>
            <a:off x="2514600" y="3429000"/>
            <a:ext cx="5257440" cy="2757240"/>
          </a:xfrm>
          <a:prstGeom prst="rect">
            <a:avLst/>
          </a:prstGeom>
          <a:ln w="9525">
            <a:noFill/>
          </a:ln>
        </p:spPr>
      </p:pic>
      <p:sp>
        <p:nvSpPr>
          <p:cNvPr id="234" name="Rectangle 2"/>
          <p:cNvSpPr/>
          <p:nvPr/>
        </p:nvSpPr>
        <p:spPr>
          <a:xfrm>
            <a:off x="914400" y="5867280"/>
            <a:ext cx="822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Example: </a:t>
            </a:r>
            <a:r>
              <a:rPr b="0" i="1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DreamHome</a:t>
            </a: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 Database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System Definitio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Identify User views; 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efine what is required of a database application from the perspective of: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2173320"/>
              </a:tabLst>
            </a:pPr>
            <a:endParaRPr b="0" lang="en-GB" sz="5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particular job role (such as Manager or Supervisor) or 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Enterprise application area (such as marketing or personnel).</a:t>
            </a: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35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3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B8F5BC3-5477-4B1F-9007-55C15C0CE85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3742920" cy="2647440"/>
          </a:xfrm>
          <a:prstGeom prst="rect">
            <a:avLst/>
          </a:prstGeom>
          <a:ln w="1270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1981080" y="5867280"/>
            <a:ext cx="822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Example: </a:t>
            </a:r>
            <a:r>
              <a:rPr b="0" i="1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User View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dt" idx="3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Num" idx="38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B7866DC-D192-47BD-9D39-18CE96E678E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244" name="Rectangle 21"/>
          <p:cNvSpPr/>
          <p:nvPr/>
        </p:nvSpPr>
        <p:spPr>
          <a:xfrm>
            <a:off x="1690560" y="380880"/>
            <a:ext cx="2652480" cy="15998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1676520" y="1981080"/>
            <a:ext cx="6614640" cy="44193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267080" y="304920"/>
            <a:ext cx="2042640" cy="13251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715000" y="838080"/>
            <a:ext cx="2652480" cy="1142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4267080" y="1523880"/>
            <a:ext cx="1523520" cy="5331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quirements Collection &amp; Analysis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Collecting and analyzing information about the part of organization to be supported by the database system, and using this information to identify users’ requirements of new system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dentifying the required functionality for a database system is crucial, as systems with inadequate functionality will fail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nformation is gathered for each major user view including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 description of data used or generated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etails of how data is to be used/generated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ny additional requirements for new database system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2D7BF1A-D9A4-4C7D-A5DA-C5C5F3329C1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dt" idx="4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quirements Collection &amp; Analysis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An important activity is to decide how to manage the requirements for a database system with multiple user views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Three main approache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entralized approach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View integration approach; (</a:t>
            </a:r>
            <a:r>
              <a:rPr b="0" i="1" lang="en-US" sz="22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we use this approach</a:t>
            </a:r>
            <a:r>
              <a:rPr b="0" lang="en-US" sz="22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ombination of both approache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4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4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F523A4CA-6E0D-403B-BFF5-4458E76F1D0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2f2f2"/>
                </a:solidFill>
                <a:latin typeface="Arial Black"/>
              </a:rPr>
              <a:t>Requirements Collection &amp; Analysis 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Centralized Approach</a:t>
            </a: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C09NF03"/>
          <p:cNvPicPr/>
          <p:nvPr/>
        </p:nvPicPr>
        <p:blipFill>
          <a:blip r:embed="rId1"/>
          <a:srcRect l="0" t="0" r="-90" b="6673"/>
          <a:stretch/>
        </p:blipFill>
        <p:spPr>
          <a:xfrm>
            <a:off x="507960" y="1706400"/>
            <a:ext cx="8813520" cy="4389120"/>
          </a:xfrm>
          <a:prstGeom prst="rect">
            <a:avLst/>
          </a:prstGeom>
          <a:ln w="9525">
            <a:noFill/>
          </a:ln>
        </p:spPr>
      </p:pic>
      <p:sp>
        <p:nvSpPr>
          <p:cNvPr id="259" name="PlaceHolder 2"/>
          <p:cNvSpPr>
            <a:spLocks noGrp="1"/>
          </p:cNvSpPr>
          <p:nvPr>
            <p:ph type="sldNum" idx="43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785CBCC-5AB1-4F18-8E97-F115CBCDA6E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4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2f2f2"/>
                </a:solidFill>
                <a:latin typeface="Arial Black"/>
              </a:rPr>
              <a:t>Requirements Collection &amp; Analysis 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View Integration Approach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C09NF04"/>
          <p:cNvPicPr/>
          <p:nvPr/>
        </p:nvPicPr>
        <p:blipFill>
          <a:blip r:embed="rId1"/>
          <a:srcRect l="0" t="13890" r="0" b="0"/>
          <a:stretch/>
        </p:blipFill>
        <p:spPr>
          <a:xfrm>
            <a:off x="1568520" y="1523880"/>
            <a:ext cx="7027560" cy="4876560"/>
          </a:xfrm>
          <a:prstGeom prst="rect">
            <a:avLst/>
          </a:prstGeom>
          <a:ln w="9525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sldNum" idx="45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8F6479C-2A4E-4D41-8629-874A755E8A4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46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3040" y="838080"/>
            <a:ext cx="841968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e4d9be"/>
                </a:solidFill>
                <a:latin typeface="Arial Black"/>
              </a:rPr>
              <a:t>Stages of DBS Development lifecycle</a:t>
            </a:r>
            <a:endParaRPr b="0" lang="en-GB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quirements Collection &amp; Analysis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Critical to capture necessary facts to build the required database application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These facts are captured using </a:t>
            </a: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fact-finding techniques</a:t>
            </a: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When Are Fact-Finding Techniques Used?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7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Fact-finding used throughout database application lifecycle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7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rucial to early stages including database planning, system definition, and requirements collection and analysis stage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47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85BB5A1-7FFF-41DE-BFCF-676517BDDAE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48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quirements Collection &amp; Analysis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Fact-Finding Techniques</a:t>
            </a: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Examining documentation,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terviewing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unstructured/structured &amp; open/closed ended questions)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,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Observing organization in operation,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esearch,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Questionnaires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free-format and fixed-format)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4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A257656-DC83-4448-9BAF-68C4B13CBC61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dt" idx="5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9" descr="http://librarytest.kentlaw.edu/assets/images/icons/research.png"/>
          <p:cNvPicPr/>
          <p:nvPr/>
        </p:nvPicPr>
        <p:blipFill>
          <a:blip r:embed="rId1"/>
          <a:stretch/>
        </p:blipFill>
        <p:spPr>
          <a:xfrm>
            <a:off x="6629400" y="3657600"/>
            <a:ext cx="2950920" cy="2950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5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Num" idx="5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F38AEC67-D9DC-4C8C-B42B-0F890E511D0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grpSp>
        <p:nvGrpSpPr>
          <p:cNvPr id="277" name="Group 11"/>
          <p:cNvGrpSpPr/>
          <p:nvPr/>
        </p:nvGrpSpPr>
        <p:grpSpPr>
          <a:xfrm>
            <a:off x="1600200" y="533520"/>
            <a:ext cx="6781320" cy="5714640"/>
            <a:chOff x="1600200" y="533520"/>
            <a:chExt cx="6781320" cy="5714640"/>
          </a:xfrm>
        </p:grpSpPr>
        <p:sp>
          <p:nvSpPr>
            <p:cNvPr id="278" name="Rectangle 21"/>
            <p:cNvSpPr/>
            <p:nvPr/>
          </p:nvSpPr>
          <p:spPr>
            <a:xfrm>
              <a:off x="1600200" y="533520"/>
              <a:ext cx="6614640" cy="1596600"/>
            </a:xfrm>
            <a:prstGeom prst="rect">
              <a:avLst/>
            </a:prstGeom>
            <a:solidFill>
              <a:schemeClr val="bg1">
                <a:alpha val="7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1766880" y="3870360"/>
              <a:ext cx="6614640" cy="2377800"/>
            </a:xfrm>
            <a:prstGeom prst="rect">
              <a:avLst/>
            </a:prstGeom>
            <a:solidFill>
              <a:schemeClr val="bg1">
                <a:alpha val="7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80" name="Rectangle 23"/>
            <p:cNvSpPr/>
            <p:nvPr/>
          </p:nvSpPr>
          <p:spPr>
            <a:xfrm>
              <a:off x="5892840" y="2133720"/>
              <a:ext cx="1574280" cy="1736280"/>
            </a:xfrm>
            <a:prstGeom prst="rect">
              <a:avLst/>
            </a:prstGeom>
            <a:solidFill>
              <a:schemeClr val="bg1">
                <a:alpha val="7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81" name="Rectangle 24"/>
            <p:cNvSpPr/>
            <p:nvPr/>
          </p:nvSpPr>
          <p:spPr>
            <a:xfrm>
              <a:off x="2286000" y="2133720"/>
              <a:ext cx="1890360" cy="1746000"/>
            </a:xfrm>
            <a:prstGeom prst="rect">
              <a:avLst/>
            </a:prstGeom>
            <a:solidFill>
              <a:schemeClr val="bg1">
                <a:alpha val="7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82" name="Rectangle 25"/>
            <p:cNvSpPr/>
            <p:nvPr/>
          </p:nvSpPr>
          <p:spPr>
            <a:xfrm>
              <a:off x="4191120" y="2133720"/>
              <a:ext cx="1676160" cy="1736280"/>
            </a:xfrm>
            <a:prstGeom prst="rect">
              <a:avLst/>
            </a:prstGeom>
            <a:noFill/>
            <a:ln w="38100"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http://toolkit.smallbiz.nsw.gov.au/dsrd/useruploads/images/IM_Ch2_Pt2B_Proof_of_Concept_and_Prototyping.jpg"/>
          <p:cNvPicPr/>
          <p:nvPr/>
        </p:nvPicPr>
        <p:blipFill>
          <a:blip r:embed="rId1"/>
          <a:stretch/>
        </p:blipFill>
        <p:spPr>
          <a:xfrm>
            <a:off x="7756560" y="3733920"/>
            <a:ext cx="1920600" cy="2742840"/>
          </a:xfrm>
          <a:prstGeom prst="rect">
            <a:avLst/>
          </a:prstGeom>
          <a:ln w="9525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Creating a design for a database that will support the enterprise’s mission statement and mission objectives for the required database system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Main aim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represent data and relationships required 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by users and application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rovide a data model which supports transaction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specify a design that meets performance requirement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53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A2CACFC-F592-414C-A86E-38F12500072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5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Three main phases of DB design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6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onceptual Database Design.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reate a conceptual data model Independent of any implementation details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6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ogical Database Design. (What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At this point you know which type of DBMS you will implementing in - e.g. relational, object-oriented etc (but not the actual DBMS)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est the correctness of the data model through 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normalization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6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Physical Database Design. (How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erive tables &amp; constraints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Identify storage structures and access methods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esign security features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5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17248FB-7629-4FC1-8E1B-0A0F1F11D35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dt" idx="56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5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ldNum" idx="58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6BBBE55-A192-493D-8C4C-2A952EB94DE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295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1766880" y="3048120"/>
            <a:ext cx="6614640" cy="33523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343400" y="380880"/>
            <a:ext cx="4024080" cy="2666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0" y="2666880"/>
            <a:ext cx="265248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3962520" y="2666880"/>
            <a:ext cx="38052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2590920" y="2590920"/>
            <a:ext cx="1523520" cy="5331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BMS Selectio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Selection of an appropriate DBMS to support the database system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Undertaken at any time prior to logical design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Main steps for selecting a DBM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"/>
              </a:spcBef>
              <a:buNone/>
              <a:tabLst>
                <a:tab algn="l" pos="2173320"/>
              </a:tabLst>
            </a:pPr>
            <a:endParaRPr b="0" lang="en-GB" sz="3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efine Terms of Reference of study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Shortlist two or three products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Evaluate products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ecommend selection and produce report</a:t>
            </a: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59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60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6834E4E-79AD-4083-A37E-5F9C0170F97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http://pixhost.info/avaxhome/5b/08/0017085b_medium.jpeg"/>
          <p:cNvPicPr/>
          <p:nvPr/>
        </p:nvPicPr>
        <p:blipFill>
          <a:blip r:embed="rId1"/>
          <a:stretch/>
        </p:blipFill>
        <p:spPr>
          <a:xfrm>
            <a:off x="7010280" y="3886200"/>
            <a:ext cx="2514240" cy="251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dt" idx="6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Num" idx="6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49309255-CBDA-4E6D-9E41-EF774FF3C03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09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766880" y="3048120"/>
            <a:ext cx="6614640" cy="33523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4343400" y="0"/>
            <a:ext cx="4024080" cy="2666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190512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6019920" y="2590920"/>
            <a:ext cx="1523520" cy="5331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Application Desig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Design of user interface and application programs that use and process the database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Database design and application design are parallel activities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Arial (body)"/>
              </a:rPr>
              <a:t>Includes two important activitie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ransaction design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user interface design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63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64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06D7E6C-DDB6-4D60-BBBE-BE0D7F787E1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65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6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4BF3343-FB30-4A8B-8F41-262ECD947AF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21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343400" y="0"/>
            <a:ext cx="4024080" cy="4723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1828800" y="4724280"/>
            <a:ext cx="6614640" cy="1523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0" y="4343400"/>
            <a:ext cx="266652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2590920" y="4267080"/>
            <a:ext cx="144756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Num" idx="14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0D767C6-1E50-4C33-8052-6408431663B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Prototyping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Building working model of a database system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o evaluate how the final system will look and function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Arial (body)"/>
              </a:rPr>
              <a:t>Purpose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o identify features of a system that work well, or are inadequate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o suggest improvements or even new features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o clarify the users’ requirements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o evaluate feasibility of a particular system design.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6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68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F053B52-E2C3-48EC-AC80-11C5BBB7369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dt" idx="69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Num" idx="70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29E66E1-19AB-48CF-A1D4-F7C827E32D3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35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6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4343400" y="0"/>
            <a:ext cx="4024080" cy="43430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1828800" y="4724280"/>
            <a:ext cx="6614640" cy="1523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4343400"/>
            <a:ext cx="39621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41" name="Rectangle 25"/>
          <p:cNvSpPr/>
          <p:nvPr/>
        </p:nvSpPr>
        <p:spPr>
          <a:xfrm>
            <a:off x="6019920" y="4267080"/>
            <a:ext cx="144756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emr implementation"/>
          <p:cNvPicPr/>
          <p:nvPr/>
        </p:nvPicPr>
        <p:blipFill>
          <a:blip r:embed="rId1"/>
          <a:stretch/>
        </p:blipFill>
        <p:spPr>
          <a:xfrm>
            <a:off x="3276720" y="4195800"/>
            <a:ext cx="3733560" cy="2509560"/>
          </a:xfrm>
          <a:prstGeom prst="rect">
            <a:avLst/>
          </a:prstGeom>
          <a:ln w="9525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Implementatio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Physical realization of the database and application designs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Create database schemas and empty database files. (DDL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Create the application programs. (DML and JAVA or C++ ...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7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7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D7C2410-15D1-46DA-AE2A-A7AF070ADB0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dt" idx="73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Num" idx="74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079C4B8-F087-4E48-BC4A-2132441548C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51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4343400" y="0"/>
            <a:ext cx="4024080" cy="48002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1828800" y="5181480"/>
            <a:ext cx="6614640" cy="10663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0" y="4343400"/>
            <a:ext cx="3962160" cy="8377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6019920" y="4800600"/>
            <a:ext cx="144756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Data Conversion and Loading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Transferring any existing data into new database and converting any existing applications to run on new database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Only required when new database system is replacing an old system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75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7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CF5C2ED-F61D-4E63-89F3-98FA3121539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2" descr="http://www.atelier-us.com/upload/gallery2/2008/news/computer_data.jpg"/>
          <p:cNvPicPr/>
          <p:nvPr/>
        </p:nvPicPr>
        <p:blipFill>
          <a:blip r:embed="rId1"/>
          <a:stretch/>
        </p:blipFill>
        <p:spPr>
          <a:xfrm>
            <a:off x="7162920" y="4648320"/>
            <a:ext cx="2209320" cy="1657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dt" idx="7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78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9B5AB54-E502-4130-8AF2-4DB0964AEAE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66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67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343400" y="0"/>
            <a:ext cx="4024080" cy="53337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1828800" y="5715000"/>
            <a:ext cx="6614640" cy="5331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0" y="4343400"/>
            <a:ext cx="3962160" cy="13712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6019920" y="5334120"/>
            <a:ext cx="1447560" cy="38052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Testing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rmAutofit/>
          </a:bodyPr>
          <a:p>
            <a:pPr marL="35100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Process of running the database system with intent of finding errors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Use carefully planned test strategies and realistic data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Demonstrates that database and application programs appear to be working according to requirements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7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0B28B18-B4C0-438B-ACAF-A4EB97473E0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dt" idx="8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2" descr="http://upload.wikimedia.org/wikiversity/en/f/fd/ComputerTesting.jpg"/>
          <p:cNvPicPr/>
          <p:nvPr/>
        </p:nvPicPr>
        <p:blipFill>
          <a:blip r:embed="rId1"/>
          <a:stretch/>
        </p:blipFill>
        <p:spPr>
          <a:xfrm>
            <a:off x="7391520" y="4876920"/>
            <a:ext cx="1980720" cy="1501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dt" idx="8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8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C688988-0265-4C5E-AD36-9493F0A033D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81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343400" y="0"/>
            <a:ext cx="4024080" cy="5866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1828800" y="5715000"/>
            <a:ext cx="4266720" cy="5331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4343400"/>
            <a:ext cx="3962160" cy="13712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7" name="Rectangle 25"/>
          <p:cNvSpPr/>
          <p:nvPr/>
        </p:nvSpPr>
        <p:spPr>
          <a:xfrm>
            <a:off x="6019920" y="5791320"/>
            <a:ext cx="1447560" cy="5331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Operational Maintenance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Process of monitoring and maintaining database system following installation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Arial"/>
              </a:rPr>
              <a:t>Operational Maintenance Activitie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Monitoring performance of system. 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Maintaining and upgrading database application.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Incorporating new requirements into DB application</a:t>
            </a:r>
            <a:r>
              <a:rPr b="0" lang="en-GB" sz="2000" spc="-1" strike="noStrike">
                <a:solidFill>
                  <a:srgbClr val="595959"/>
                </a:solidFill>
                <a:latin typeface="Arial (body)"/>
              </a:rPr>
              <a:t>.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83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A8FFC3C-4F30-403E-A7E3-39C6582E41A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dt" idx="8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2" descr="http://pedagogie.ac-toulouse.fr/lp-eugene-montel-colomiers/IMG/jpg/maintenance.jpg"/>
          <p:cNvPicPr/>
          <p:nvPr/>
        </p:nvPicPr>
        <p:blipFill>
          <a:blip r:embed="rId1"/>
          <a:stretch/>
        </p:blipFill>
        <p:spPr>
          <a:xfrm>
            <a:off x="7391520" y="4343400"/>
            <a:ext cx="2133360" cy="2133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dt" idx="15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ldNum" idx="1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A592880-05D0-4F44-851D-594B4EE1793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185" name="Rectangle 21"/>
          <p:cNvSpPr/>
          <p:nvPr/>
        </p:nvSpPr>
        <p:spPr>
          <a:xfrm>
            <a:off x="1676520" y="380880"/>
            <a:ext cx="2652480" cy="6091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676520" y="974880"/>
            <a:ext cx="6614640" cy="534960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7" name="Rectangle 25"/>
          <p:cNvSpPr/>
          <p:nvPr/>
        </p:nvSpPr>
        <p:spPr>
          <a:xfrm>
            <a:off x="4267080" y="557280"/>
            <a:ext cx="1523520" cy="44892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atabase Planning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2173320"/>
              </a:tabLst>
            </a:pPr>
            <a:endParaRPr b="0" lang="en-GB" sz="23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dentifying how the stages can be completed in the most effective &amp; efficient way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uring planning phase, four major activities are performed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GB" sz="8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eview and approve the database project request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Prioritize the database project request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llocate resources such as money, people and tool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rrange a development team to develop the database project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7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FC760143-4492-45FA-B500-3EB1B39B19B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dt" idx="18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atabase Planning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9144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atabase planning should also include the development of standards that govern how data will be collected, how the format should be specified, what necessary documentation will be needed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Arial"/>
              </a:rPr>
              <a:t>Two steps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marL="746280" indent="-34920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217332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Arial"/>
              </a:rPr>
              <a:t>Mission Statement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 : Major aims for the Database Project. 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marL="746280" indent="-34920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217332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Arial"/>
              </a:rPr>
              <a:t>Mission Objectives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 : Tasks that DB should support, </a:t>
            </a:r>
            <a:r>
              <a:rPr b="0" i="1" lang="en-US" sz="2200" spc="-1" strike="noStrike">
                <a:solidFill>
                  <a:srgbClr val="595959"/>
                </a:solidFill>
                <a:latin typeface="Arial"/>
              </a:rPr>
              <a:t>Driven through Fact Finding techniques: interviews, questionnaire.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3077F2A-2F96-4BA4-8EE7-0B0113986AC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2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Statement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Interviewing the business director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GB" sz="8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What is the purpose of your company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Why do you need the DB?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How can the DB solve your problem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1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AA85F86-C026-4879-BDE4-83C13369EF5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Interview"/>
          <p:cNvPicPr/>
          <p:nvPr/>
        </p:nvPicPr>
        <p:blipFill>
          <a:blip r:embed="rId1"/>
          <a:stretch/>
        </p:blipFill>
        <p:spPr>
          <a:xfrm>
            <a:off x="6629400" y="3805200"/>
            <a:ext cx="2590560" cy="2518920"/>
          </a:xfrm>
          <a:prstGeom prst="rect">
            <a:avLst/>
          </a:prstGeom>
          <a:ln w="9525">
            <a:noFill/>
          </a:ln>
        </p:spPr>
      </p:pic>
      <p:sp>
        <p:nvSpPr>
          <p:cNvPr id="200" name="PlaceHolder 4"/>
          <p:cNvSpPr>
            <a:spLocks noGrp="1"/>
          </p:cNvSpPr>
          <p:nvPr>
            <p:ph type="dt" idx="22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Statement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Interviewing Burger King Director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What is the purpose of your company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e4d9be"/>
                </a:solidFill>
                <a:latin typeface="Arial"/>
              </a:rPr>
              <a:t>To prepare and sell quick service food to fulfill our guest's needs in a cleaner environment than our competitors</a:t>
            </a:r>
            <a:r>
              <a:rPr b="0" lang="en-US" sz="2200" spc="-1" strike="noStrike">
                <a:solidFill>
                  <a:srgbClr val="e4d9be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Why do you need the DB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e4d9be"/>
                </a:solidFill>
                <a:latin typeface="Arial"/>
              </a:rPr>
              <a:t>We have many branches over the world , that offers different cosines, which drive a data management problem, sharing of information between branches ( for examples : favorite meals, number of employees) which help in business decision  making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How can the DB solve your problem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e4d9be"/>
                </a:solidFill>
                <a:latin typeface="Arial"/>
              </a:rPr>
              <a:t>No more paperwork, automating daily tasks, corporation between branches</a:t>
            </a:r>
            <a:r>
              <a:rPr b="0" lang="en-US" sz="2200" spc="-1" strike="noStrike">
                <a:solidFill>
                  <a:srgbClr val="e4d9be"/>
                </a:solidFill>
                <a:latin typeface="Arial"/>
              </a:rPr>
              <a:t>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GB" sz="26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3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9889E8B-F66E-4114-8442-96F0FF03B70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burger%20king"/>
          <p:cNvPicPr/>
          <p:nvPr/>
        </p:nvPicPr>
        <p:blipFill>
          <a:blip r:embed="rId1"/>
          <a:stretch/>
        </p:blipFill>
        <p:spPr>
          <a:xfrm>
            <a:off x="8229600" y="1447920"/>
            <a:ext cx="1371240" cy="1371240"/>
          </a:xfrm>
          <a:prstGeom prst="rect">
            <a:avLst/>
          </a:prstGeom>
          <a:ln w="9525">
            <a:noFill/>
          </a:ln>
        </p:spPr>
      </p:pic>
      <p:sp>
        <p:nvSpPr>
          <p:cNvPr id="205" name="PlaceHolder 4"/>
          <p:cNvSpPr>
            <a:spLocks noGrp="1"/>
          </p:cNvSpPr>
          <p:nvPr>
            <p:ph type="dt" idx="2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Statement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Burger King DB project mission statement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e purpose of BK DB project is to maintain the data that is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used &amp; generated to support the fast food business for our client and to support sharing information between branches and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n decision making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GB" sz="17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Clearer view of the project   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5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EA51C55-9279-476F-9D59-1B1BA1E47DC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"/>
          <p:cNvSpPr/>
          <p:nvPr/>
        </p:nvSpPr>
        <p:spPr>
          <a:xfrm rot="16200000">
            <a:off x="4343400" y="4648320"/>
            <a:ext cx="761760" cy="761760"/>
          </a:xfrm>
          <a:prstGeom prst="leftArrow">
            <a:avLst>
              <a:gd name="adj1" fmla="val 50000"/>
              <a:gd name="adj2" fmla="val 25000"/>
            </a:avLst>
          </a:prstGeom>
          <a:solidFill>
            <a:schemeClr val="accent2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26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burger%20king"/>
          <p:cNvPicPr/>
          <p:nvPr/>
        </p:nvPicPr>
        <p:blipFill>
          <a:blip r:embed="rId1"/>
          <a:stretch/>
        </p:blipFill>
        <p:spPr>
          <a:xfrm>
            <a:off x="8229600" y="1447920"/>
            <a:ext cx="1371240" cy="1371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refab">
  <a:themeElements>
    <a:clrScheme name="Prefab">
      <a:dk1>
        <a:srgbClr val="000000"/>
      </a:dk1>
      <a:lt1>
        <a:srgbClr val="ffffff"/>
      </a:lt1>
      <a:dk2>
        <a:srgbClr val="5d5c64"/>
      </a:dk2>
      <a:lt2>
        <a:srgbClr val="e4d9be"/>
      </a:lt2>
      <a:accent1>
        <a:srgbClr val="e0b62e"/>
      </a:accent1>
      <a:accent2>
        <a:srgbClr val="e6632e"/>
      </a:accent2>
      <a:accent3>
        <a:srgbClr val="73c1c7"/>
      </a:accent3>
      <a:accent4>
        <a:srgbClr val="75964c"/>
      </a:accent4>
      <a:accent5>
        <a:srgbClr val="c78c45"/>
      </a:accent5>
      <a:accent6>
        <a:srgbClr val="bca076"/>
      </a:accent6>
      <a:hlink>
        <a:srgbClr val="cf3b0d"/>
      </a:hlink>
      <a:folHlink>
        <a:srgbClr val="7e756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fab">
  <a:themeElements>
    <a:clrScheme name="Prefab">
      <a:dk1>
        <a:srgbClr val="000000"/>
      </a:dk1>
      <a:lt1>
        <a:srgbClr val="ffffff"/>
      </a:lt1>
      <a:dk2>
        <a:srgbClr val="5d5c64"/>
      </a:dk2>
      <a:lt2>
        <a:srgbClr val="e4d9be"/>
      </a:lt2>
      <a:accent1>
        <a:srgbClr val="e0b62e"/>
      </a:accent1>
      <a:accent2>
        <a:srgbClr val="e6632e"/>
      </a:accent2>
      <a:accent3>
        <a:srgbClr val="73c1c7"/>
      </a:accent3>
      <a:accent4>
        <a:srgbClr val="75964c"/>
      </a:accent4>
      <a:accent5>
        <a:srgbClr val="c78c45"/>
      </a:accent5>
      <a:accent6>
        <a:srgbClr val="bca076"/>
      </a:accent6>
      <a:hlink>
        <a:srgbClr val="cf3b0d"/>
      </a:hlink>
      <a:folHlink>
        <a:srgbClr val="7e756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refab">
  <a:themeElements>
    <a:clrScheme name="Prefab">
      <a:dk1>
        <a:srgbClr val="000000"/>
      </a:dk1>
      <a:lt1>
        <a:srgbClr val="ffffff"/>
      </a:lt1>
      <a:dk2>
        <a:srgbClr val="5d5c64"/>
      </a:dk2>
      <a:lt2>
        <a:srgbClr val="e4d9be"/>
      </a:lt2>
      <a:accent1>
        <a:srgbClr val="e0b62e"/>
      </a:accent1>
      <a:accent2>
        <a:srgbClr val="e6632e"/>
      </a:accent2>
      <a:accent3>
        <a:srgbClr val="73c1c7"/>
      </a:accent3>
      <a:accent4>
        <a:srgbClr val="75964c"/>
      </a:accent4>
      <a:accent5>
        <a:srgbClr val="c78c45"/>
      </a:accent5>
      <a:accent6>
        <a:srgbClr val="bca076"/>
      </a:accent6>
      <a:hlink>
        <a:srgbClr val="cf3b0d"/>
      </a:hlink>
      <a:folHlink>
        <a:srgbClr val="7e756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refab">
  <a:themeElements>
    <a:clrScheme name="Prefab">
      <a:dk1>
        <a:srgbClr val="000000"/>
      </a:dk1>
      <a:lt1>
        <a:srgbClr val="ffffff"/>
      </a:lt1>
      <a:dk2>
        <a:srgbClr val="5d5c64"/>
      </a:dk2>
      <a:lt2>
        <a:srgbClr val="e4d9be"/>
      </a:lt2>
      <a:accent1>
        <a:srgbClr val="e0b62e"/>
      </a:accent1>
      <a:accent2>
        <a:srgbClr val="e6632e"/>
      </a:accent2>
      <a:accent3>
        <a:srgbClr val="73c1c7"/>
      </a:accent3>
      <a:accent4>
        <a:srgbClr val="75964c"/>
      </a:accent4>
      <a:accent5>
        <a:srgbClr val="c78c45"/>
      </a:accent5>
      <a:accent6>
        <a:srgbClr val="bca076"/>
      </a:accent6>
      <a:hlink>
        <a:srgbClr val="cf3b0d"/>
      </a:hlink>
      <a:folHlink>
        <a:srgbClr val="7e756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efab</Template>
  <TotalTime>4635</TotalTime>
  <Application>LibreOffice/7.4.7.2$Linux_X86_64 LibreOffice_project/40$Build-2</Application>
  <AppVersion>15.0000</AppVersion>
  <Pages>17</Pages>
  <Words>1289</Words>
  <Paragraphs>294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0:29:26Z</dcterms:created>
  <dc:creator>Sue Stirk</dc:creator>
  <dc:description/>
  <dc:language>en-US</dc:language>
  <cp:lastModifiedBy>Windows User</cp:lastModifiedBy>
  <cp:lastPrinted>2001-10-03T11:48:46Z</cp:lastPrinted>
  <dcterms:modified xsi:type="dcterms:W3CDTF">2010-10-08T01:52:57Z</dcterms:modified>
  <cp:revision>2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A4 Paper (210x297 mm)</vt:lpwstr>
  </property>
  <property fmtid="{D5CDD505-2E9C-101B-9397-08002B2CF9AE}" pid="4" name="Slides">
    <vt:r8>38</vt:r8>
  </property>
</Properties>
</file>