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5.jpeg" ContentType="image/jpeg"/>
  <Override PartName="/ppt/media/image2.jpeg" ContentType="image/jpeg"/>
  <Override PartName="/ppt/media/image24.png" ContentType="image/png"/>
  <Override PartName="/ppt/media/image18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3.png" ContentType="image/png"/>
  <Override PartName="/ppt/media/image26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175D-B63B-4619-998F-00B7955B1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81F6-FA94-4264-BF03-0298D266D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5FF4-753C-423D-A3D4-67270FE3C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5E43-020D-408D-8024-720818043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71F2-98DC-4FB9-9A91-94E1BC244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9595-0486-4F47-83EA-7BD3CC498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EC67-CA5F-481B-94A7-631F23A83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4A29-BFCF-49B1-8CF1-6AF94AAAF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6BE9-6DEF-454E-B55D-3034DD58E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C4B8-BC66-4731-8BAE-27DD07C5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195F-E1B6-490B-8D2F-31666BB97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E81A-4E52-4F4D-80B4-EC256DB9E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240D8-630C-4A11-BCB5-A46B8A8DFC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sona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sessing Traits: An Example</a:t>
            </a:r>
            <a:r>
              <a:rPr b="0" lang="en-US" sz="48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nesota Multiphasic Personality Inventory (MMP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st widely researched and clinically used of all personality te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ed to identify emotional disor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MPI: exampl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4582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thing in the newspaper interests me except the comics.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 get angry sometimes.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aluating Trait The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it theory, especially the Big 5 model, is able to describe pers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oss-cultural human studies find good agreement for the Big 5 model in many cul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ear to be highly correlated not only in adulthood, but also in childhood and even late preschool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e dimensions (extraversion, neuroticism and agreeableness) have cross-species gener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with trait theory inclu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ck of explanation as to WHY traits devel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sue of explaining transient versus long-lasting trai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ychoanalytic The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822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sychoanalytic theory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s devised by Freud, attempts to explain personality on the basis of unconscious mental fo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vels of consciousness:  We are unaware of some aspects of our mental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ud argued that personality is made up of multiple structures, some of which are unconsc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ud argued that as we have impulses that cause us anxiety; our personality develops defense mechanisms to protect against anxie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eudian The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5640" y="1828800"/>
            <a:ext cx="3809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vels of conscious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c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we’re aware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consc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mories etc. that can be recal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consc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shes, feelings, impulses that lies beyond awar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333760" y="1828440"/>
            <a:ext cx="3809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s of Pers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es according to the “pleasure principl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es according to the “reality” princi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ains values and ide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freud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987560" cy="2286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eudian The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xiety occurs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ulses from the id threaten to get out of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go perceives danger from the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go deals with the problem throug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ing strate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ense mechanis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ense Mechanis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fense mechanis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fer to unconscious mental processes that protect the conscious person from developing anxie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lima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rson channels energy from unacceptable impulses to create socially acceptable accomplish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enia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rson refuses to recognize re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rojec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rson attributes their own unacceptable impulses to oth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press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nxiety-evoking thoughts are pushed into the unconsc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ense Mechanis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ationaliza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ubstituting socially acceptable reas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ellectualiza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Ignoring the emotional aspects of a painful experience by focusing on abstract thoughts, words, or id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action forma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Refusing to acknowledge unacceptable urges, thoughts or feelings by exaggerating the opposite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gress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Responding to a threatening situation in a  way appropriate to an earlier age or level of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isplacemen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ubstituting a less threatening object for the original object of impu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39960" y="380520"/>
            <a:ext cx="698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sessing the Unconsciou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54380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ctive Tes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assess personality (e.g., Rorschach or TAT tes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 provides ambiguous stimuli and subject projects his or her motives into the ambiguous stimu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ssessing the Unconscious -- Rorscha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160" y="2133720"/>
            <a:ext cx="510516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rschach Inkblot Tes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st widely used projective 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et of 10 inkblots designed by Hermann Rorsch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Rorschach" descr=""/>
          <p:cNvPicPr/>
          <p:nvPr/>
        </p:nvPicPr>
        <p:blipFill>
          <a:blip r:embed="rId1"/>
          <a:stretch/>
        </p:blipFill>
        <p:spPr>
          <a:xfrm>
            <a:off x="6019920" y="1523880"/>
            <a:ext cx="2539800" cy="33912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6379200" y="484200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rsch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Personalit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ople differ fr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other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ningful 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ople seem to show some consistency in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0" y="4952880"/>
            <a:ext cx="499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erson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defined as distinctive and relatively enduring ways of thinking, feeling, and ac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3657600"/>
            <a:ext cx="9903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257800" y="39625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cc"/>
                </a:solidFill>
                <a:latin typeface="Times New Roman"/>
              </a:rPr>
              <a:t>Assessing the Unconscious--Rorscha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6934320" cy="4572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715000" y="3505320"/>
            <a:ext cx="2895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to identify people’s inner feelings by analyzing their interpretations of the blo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ink-blot-picture-eight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4940280" cy="3835440"/>
          </a:xfrm>
          <a:prstGeom prst="rect">
            <a:avLst/>
          </a:prstGeom>
          <a:ln w="0">
            <a:noFill/>
          </a:ln>
        </p:spPr>
      </p:pic>
      <p:pic>
        <p:nvPicPr>
          <p:cNvPr id="135" name="ink-blot-picture-four" descr=""/>
          <p:cNvPicPr/>
          <p:nvPr/>
        </p:nvPicPr>
        <p:blipFill>
          <a:blip r:embed="rId2"/>
          <a:stretch/>
        </p:blipFill>
        <p:spPr>
          <a:xfrm>
            <a:off x="5715000" y="2819520"/>
            <a:ext cx="256536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ink-blot-picture-five" descr=""/>
          <p:cNvPicPr/>
          <p:nvPr/>
        </p:nvPicPr>
        <p:blipFill>
          <a:blip r:embed="rId1"/>
          <a:stretch/>
        </p:blipFill>
        <p:spPr>
          <a:xfrm>
            <a:off x="533520" y="2666880"/>
            <a:ext cx="2374920" cy="2654280"/>
          </a:xfrm>
          <a:prstGeom prst="rect">
            <a:avLst/>
          </a:prstGeom>
          <a:ln w="0">
            <a:noFill/>
          </a:ln>
        </p:spPr>
      </p:pic>
      <p:pic>
        <p:nvPicPr>
          <p:cNvPr id="137" name="ink-blot-picture-nine" descr=""/>
          <p:cNvPicPr/>
          <p:nvPr/>
        </p:nvPicPr>
        <p:blipFill>
          <a:blip r:embed="rId2"/>
          <a:stretch/>
        </p:blipFill>
        <p:spPr>
          <a:xfrm>
            <a:off x="3048120" y="380880"/>
            <a:ext cx="585468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ink-blot-picture-seven" descr=""/>
          <p:cNvPicPr/>
          <p:nvPr/>
        </p:nvPicPr>
        <p:blipFill>
          <a:blip r:embed="rId1"/>
          <a:stretch/>
        </p:blipFill>
        <p:spPr>
          <a:xfrm>
            <a:off x="3276720" y="1371600"/>
            <a:ext cx="4572000" cy="4940280"/>
          </a:xfrm>
          <a:prstGeom prst="rect">
            <a:avLst/>
          </a:prstGeom>
          <a:ln w="0">
            <a:noFill/>
          </a:ln>
        </p:spPr>
      </p:pic>
      <p:pic>
        <p:nvPicPr>
          <p:cNvPr id="139" name="ink-blot-picture-one" descr=""/>
          <p:cNvPicPr/>
          <p:nvPr/>
        </p:nvPicPr>
        <p:blipFill>
          <a:blip r:embed="rId2"/>
          <a:stretch/>
        </p:blipFill>
        <p:spPr>
          <a:xfrm>
            <a:off x="533520" y="380880"/>
            <a:ext cx="34797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ink-blot-picture-six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3378240" cy="3200400"/>
          </a:xfrm>
          <a:prstGeom prst="rect">
            <a:avLst/>
          </a:prstGeom>
          <a:ln w="0">
            <a:noFill/>
          </a:ln>
        </p:spPr>
      </p:pic>
      <p:pic>
        <p:nvPicPr>
          <p:cNvPr id="141" name="ink-blot-picture-ten" descr=""/>
          <p:cNvPicPr/>
          <p:nvPr/>
        </p:nvPicPr>
        <p:blipFill>
          <a:blip r:embed="rId2"/>
          <a:stretch/>
        </p:blipFill>
        <p:spPr>
          <a:xfrm>
            <a:off x="3568680" y="2743200"/>
            <a:ext cx="5575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ink-blot-picture-two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394160" cy="2654280"/>
          </a:xfrm>
          <a:prstGeom prst="rect">
            <a:avLst/>
          </a:prstGeom>
          <a:ln w="0">
            <a:noFill/>
          </a:ln>
        </p:spPr>
      </p:pic>
      <p:pic>
        <p:nvPicPr>
          <p:cNvPr id="143" name="ink-blot-picture-three" descr=""/>
          <p:cNvPicPr/>
          <p:nvPr/>
        </p:nvPicPr>
        <p:blipFill>
          <a:blip r:embed="rId2"/>
          <a:stretch/>
        </p:blipFill>
        <p:spPr>
          <a:xfrm>
            <a:off x="5029200" y="2209680"/>
            <a:ext cx="3936960" cy="38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3805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sessing the Unconscious--T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uple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762120" y="1828800"/>
            <a:ext cx="4322520" cy="43434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5562720" y="1703520"/>
            <a:ext cx="274320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matic Apperception Test (T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ople express their inner motives through the stories they make up about ambiguous sc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thematic" descr=""/>
          <p:cNvPicPr/>
          <p:nvPr/>
        </p:nvPicPr>
        <p:blipFill>
          <a:blip r:embed="rId1"/>
          <a:stretch/>
        </p:blipFill>
        <p:spPr>
          <a:xfrm>
            <a:off x="1828800" y="228600"/>
            <a:ext cx="6059520" cy="62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tat3a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4321080" cy="3154320"/>
          </a:xfrm>
          <a:prstGeom prst="rect">
            <a:avLst/>
          </a:prstGeom>
          <a:ln w="0">
            <a:noFill/>
          </a:ln>
        </p:spPr>
      </p:pic>
      <p:pic>
        <p:nvPicPr>
          <p:cNvPr id="149" name="women" descr=""/>
          <p:cNvPicPr/>
          <p:nvPr/>
        </p:nvPicPr>
        <p:blipFill>
          <a:blip r:embed="rId2"/>
          <a:stretch/>
        </p:blipFill>
        <p:spPr>
          <a:xfrm>
            <a:off x="5029200" y="1752480"/>
            <a:ext cx="348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ychoanalytic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o-Freudi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81532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fred Ad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umans are motivated by social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s social context into accou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Bo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vileged until Dethro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Bo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hadow of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or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feriority, restless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ng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mpered, depen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Chi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er intellect, timid, passive, &amp; withdra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adler" descr=""/>
          <p:cNvPicPr/>
          <p:nvPr/>
        </p:nvPicPr>
        <p:blipFill>
          <a:blip r:embed="rId1"/>
          <a:stretch/>
        </p:blipFill>
        <p:spPr>
          <a:xfrm>
            <a:off x="6172200" y="41400"/>
            <a:ext cx="2473200" cy="247320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sona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99640" y="2049480"/>
            <a:ext cx="7340760" cy="37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ersonalit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s to a person’s unique and relatively stable pattern of thoughts, feelings, and 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sonality is an interaction between biology and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studies suggest heritability of person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studies suggest learned components of person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ychoanalytic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o-Freudi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rl Ju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llective unconscious is represented by universal arche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forms of unconscious mi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49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Personal unconsciou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unique for each pers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49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Collective unconsciou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 consists of primitive images and ideas that are universal for huma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jung" descr=""/>
          <p:cNvPicPr/>
          <p:nvPr/>
        </p:nvPicPr>
        <p:blipFill>
          <a:blip r:embed="rId1"/>
          <a:stretch/>
        </p:blipFill>
        <p:spPr>
          <a:xfrm>
            <a:off x="6858000" y="228600"/>
            <a:ext cx="1771560" cy="235440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umanistic The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64720" y="2117520"/>
            <a:ext cx="7342200" cy="37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Humanistic personal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ories reject psychoanalytic no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umanistic theories view each person as basically good and that people are striving for self-fulfillm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umanistic theory argues that people carry a perception of themselves and of the worl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goal for a humanist is to develop/promote a positive self-concep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umanistic Persp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l Ro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e have needs for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f-consistency (absence of conflict between self-perce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gruence (consistency between self-perceptions and experien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consistency evokes anxiety and thre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eople with low self-esteem generally have poor 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congruenc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between their self-concepts and life experienc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raham Maslow emphasized the basic goodness of human nature and a natural tendency toward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elf-actualiz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umanistic Persp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maslow" descr=""/>
          <p:cNvPicPr/>
          <p:nvPr/>
        </p:nvPicPr>
        <p:blipFill>
          <a:blip r:embed="rId1"/>
          <a:stretch/>
        </p:blipFill>
        <p:spPr>
          <a:xfrm>
            <a:off x="6324480" y="2057400"/>
            <a:ext cx="1733760" cy="26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hierarchy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853416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cial/Cognitive Persp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osed that each person has a unique personality because of our personal histories and interpretations shape our persona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bert Bandura’s social-cognitive approach focuses on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elf-efficac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reciprocal determinis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lian Rotter’s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locus of control theo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hasizes a person’s internal or external focus as a major determinant of persona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us of Control (Rotter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al locus of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fe outcomes are under personal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itively correlated with self-este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als use more problem-focused co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rnal locus of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uck, chance, and powerful others control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hrenology" descr=""/>
          <p:cNvPicPr/>
          <p:nvPr/>
        </p:nvPicPr>
        <p:blipFill>
          <a:blip r:embed="rId1"/>
          <a:stretch/>
        </p:blipFill>
        <p:spPr>
          <a:xfrm>
            <a:off x="4038480" y="838080"/>
            <a:ext cx="4673880" cy="5410440"/>
          </a:xfrm>
          <a:prstGeom prst="rect">
            <a:avLst/>
          </a:prstGeom>
          <a:ln w="0">
            <a:noFill/>
          </a:ln>
        </p:spPr>
      </p:pic>
      <p:pic>
        <p:nvPicPr>
          <p:cNvPr id="51" name="gall" descr=""/>
          <p:cNvPicPr/>
          <p:nvPr/>
        </p:nvPicPr>
        <p:blipFill>
          <a:blip r:embed="rId2"/>
          <a:stretch/>
        </p:blipFill>
        <p:spPr>
          <a:xfrm>
            <a:off x="685800" y="762120"/>
            <a:ext cx="232416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hrenology" descr=""/>
          <p:cNvPicPr/>
          <p:nvPr/>
        </p:nvPicPr>
        <p:blipFill>
          <a:blip r:embed="rId1"/>
          <a:stretch/>
        </p:blipFill>
        <p:spPr>
          <a:xfrm>
            <a:off x="1257480" y="114480"/>
            <a:ext cx="6362640" cy="63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cc"/>
                </a:solidFill>
                <a:latin typeface="Times New Roman"/>
              </a:rPr>
              <a:t>Four Theories of Personality</a:t>
            </a:r>
            <a:r>
              <a:rPr b="0" lang="en-US" sz="4800" spc="-1" strike="noStrike">
                <a:solidFill>
                  <a:srgbClr val="6600cc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18960" y="199980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Tra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Psychoanaly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Humanis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Socio-Cog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cc"/>
                </a:solidFill>
                <a:latin typeface="Times New Roman"/>
              </a:rPr>
              <a:t>The First Trait 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486400" y="2076120"/>
            <a:ext cx="36576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Factor Trait Theory of Pers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457200" y="1676520"/>
            <a:ext cx="4952880" cy="4952880"/>
            <a:chOff x="457200" y="1676520"/>
            <a:chExt cx="4952880" cy="4952880"/>
          </a:xfrm>
        </p:grpSpPr>
        <p:sp>
          <p:nvSpPr>
            <p:cNvPr id="58" name=""/>
            <p:cNvSpPr/>
            <p:nvPr/>
          </p:nvSpPr>
          <p:spPr>
            <a:xfrm>
              <a:off x="457200" y="1676520"/>
              <a:ext cx="4952880" cy="4952880"/>
            </a:xfrm>
            <a:prstGeom prst="ellipse">
              <a:avLst/>
            </a:prstGeom>
            <a:solidFill>
              <a:srgbClr val="ffcc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946240" y="1752480"/>
              <a:ext cx="0" cy="4813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520" y="4165560"/>
              <a:ext cx="4800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362320" y="1828800"/>
              <a:ext cx="1218960" cy="3049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UNSTA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362320" y="6172200"/>
              <a:ext cx="1218960" cy="3049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STA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048120" y="3797280"/>
              <a:ext cx="761760" cy="22860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80"/>
                  </a:solidFill>
                  <a:latin typeface="Arial"/>
                </a:rPr>
                <a:t>choler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625760" y="3809880"/>
              <a:ext cx="1269720" cy="19080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80"/>
                  </a:solidFill>
                  <a:latin typeface="Arial"/>
                </a:rPr>
                <a:t>melanchol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828800" y="4343400"/>
              <a:ext cx="1066680" cy="1522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80"/>
                  </a:solidFill>
                  <a:latin typeface="Arial"/>
                </a:rPr>
                <a:t>phlegmat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971800" y="4343400"/>
              <a:ext cx="990720" cy="1522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80"/>
                  </a:solidFill>
                  <a:latin typeface="Arial"/>
                </a:rPr>
                <a:t>sangu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20560" y="4038480"/>
              <a:ext cx="1600200" cy="22860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INTROVERT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670200" y="4038480"/>
              <a:ext cx="1676520" cy="25416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EXTRAVERT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676520" y="2057400"/>
              <a:ext cx="609480" cy="22860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ood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447920" y="2286000"/>
              <a:ext cx="685800" cy="22860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nxiou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143000" y="2514600"/>
              <a:ext cx="609480" cy="22860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ig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990720" y="2743200"/>
              <a:ext cx="609480" cy="22860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ob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914400" y="2971800"/>
              <a:ext cx="914400" cy="22860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ssimisti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3200400"/>
              <a:ext cx="761760" cy="22860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serv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85800" y="3429000"/>
              <a:ext cx="914400" cy="22860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socia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3520" y="3657600"/>
              <a:ext cx="609480" cy="3049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Qui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48320" y="4419720"/>
              <a:ext cx="609480" cy="22860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ocia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495680" y="4648320"/>
              <a:ext cx="685800" cy="22860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utgo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419720" y="4876920"/>
              <a:ext cx="609480" cy="22860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alkati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962520" y="5105520"/>
              <a:ext cx="1066680" cy="22860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sponsi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962520" y="5334120"/>
              <a:ext cx="914400" cy="22860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asygo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038480" y="5562720"/>
              <a:ext cx="762120" cy="22860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ivel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657600" y="5791320"/>
              <a:ext cx="914400" cy="1522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arefre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276720" y="6019920"/>
              <a:ext cx="838080" cy="1522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eadershi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533520" y="4343400"/>
              <a:ext cx="838080" cy="22860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assi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608760" y="4572000"/>
              <a:ext cx="685800" cy="22860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arefu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762120" y="4800600"/>
              <a:ext cx="914400" cy="22860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houghtfu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837360" y="5105520"/>
              <a:ext cx="838440" cy="1522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acefu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990720" y="5334120"/>
              <a:ext cx="914400" cy="22860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ntroll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1219320" y="5562720"/>
              <a:ext cx="761760" cy="22860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lia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371600" y="5791320"/>
              <a:ext cx="1295280" cy="22860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ven-temper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1600200" y="6019920"/>
              <a:ext cx="533520" cy="22860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al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3504600" y="2133720"/>
              <a:ext cx="685800" cy="1522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ouch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3657600" y="2349360"/>
              <a:ext cx="838080" cy="16524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stl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3656880" y="2590920"/>
              <a:ext cx="1143000" cy="1522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ggressi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4114080" y="2819520"/>
              <a:ext cx="762120" cy="1522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xcita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3987000" y="3048120"/>
              <a:ext cx="1143000" cy="19044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hangea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4342680" y="3276720"/>
              <a:ext cx="762120" cy="22860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mpulsi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4343400" y="3505320"/>
              <a:ext cx="914400" cy="22860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ptimisti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4724280" y="3733920"/>
              <a:ext cx="533520" cy="22860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ti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sonality Tra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rait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relatively stable and consistent personal character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it personality theories suggest that a person can be described on the basis of some number of personality tra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port identified some 4,500 tra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tel used factor analysis  to identify 30-35 basic tra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ysenck argued there are 3 distinct traits in person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version/introver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urotic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sychotocis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allport" descr=""/>
          <p:cNvPicPr/>
          <p:nvPr/>
        </p:nvPicPr>
        <p:blipFill>
          <a:blip r:embed="rId1"/>
          <a:stretch/>
        </p:blipFill>
        <p:spPr>
          <a:xfrm>
            <a:off x="6400800" y="4724280"/>
            <a:ext cx="1143000" cy="16002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384960" y="624852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view of the  Big “5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!98224FI" descr=""/>
          <p:cNvPicPr/>
          <p:nvPr/>
        </p:nvPicPr>
        <p:blipFill>
          <a:blip r:embed="rId1"/>
          <a:srcRect l="0" t="0" r="0" b="14011"/>
          <a:stretch/>
        </p:blipFill>
        <p:spPr>
          <a:xfrm>
            <a:off x="1828800" y="1365120"/>
            <a:ext cx="5562720" cy="50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2T23:16:53Z</dcterms:created>
  <dc:creator>Kathryn Herbst-Damm</dc:creator>
  <dc:description/>
  <dc:language>en-US</dc:language>
  <cp:lastModifiedBy>Heather Flowe</cp:lastModifiedBy>
  <dcterms:modified xsi:type="dcterms:W3CDTF">2007-08-07T14:47:30Z</dcterms:modified>
  <cp:revision>18</cp:revision>
  <dc:subject/>
  <dc:title>PowerPoint Presentation</dc:title>
</cp:coreProperties>
</file>