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4.jpeg" ContentType="image/jpeg"/>
  <Override PartName="/ppt/media/image58.jpeg" ContentType="image/jpeg"/>
  <Override PartName="/ppt/media/image51.png" ContentType="image/png"/>
  <Override PartName="/ppt/media/image4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22.png" ContentType="image/png"/>
  <Override PartName="/ppt/media/image41.jpeg" ContentType="image/jpeg"/>
  <Override PartName="/ppt/media/image66.png" ContentType="image/png"/>
  <Override PartName="/ppt/media/image29.png" ContentType="image/png"/>
  <Override PartName="/ppt/media/image63.jpeg" ContentType="image/jpeg"/>
  <Override PartName="/ppt/media/image60.png" ContentType="image/png"/>
  <Override PartName="/ppt/media/image71.png" ContentType="image/png"/>
  <Override PartName="/ppt/media/image6.jpeg" ContentType="image/jpeg"/>
  <Override PartName="/ppt/media/image17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76.jpeg" ContentType="image/jpeg"/>
  <Override PartName="/ppt/media/image70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75.png" ContentType="image/png"/>
  <Override PartName="/ppt/media/image74.jpeg" ContentType="image/jpeg"/>
  <Override PartName="/ppt/media/image24.png" ContentType="image/png"/>
  <Override PartName="/ppt/media/image73.jpeg" ContentType="image/jpeg"/>
  <Override PartName="/ppt/media/image80.jpeg" ContentType="image/jpeg"/>
  <Override PartName="/ppt/media/image65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16.jpeg" ContentType="image/jpeg"/>
  <Override PartName="/ppt/media/image18.jpeg" ContentType="image/jpeg"/>
  <Override PartName="/ppt/media/image79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37.jpeg" ContentType="image/jpeg"/>
  <Override PartName="/ppt/media/image25.png" ContentType="image/png"/>
  <Override PartName="/ppt/media/image19.jpeg" ContentType="image/jpeg"/>
  <Override PartName="/ppt/media/image72.jpeg" ContentType="image/jpeg"/>
  <Override PartName="/ppt/media/image2.png" ContentType="image/png"/>
  <Override PartName="/ppt/media/image26.jpeg" ContentType="image/jpeg"/>
  <Override PartName="/ppt/media/image52.png" ContentType="image/png"/>
  <Override PartName="/ppt/media/image2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20.jpeg" ContentType="image/jpe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6C0-B870-4FD0-B598-2D7C6B8B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10A-728B-4E32-8ADC-835DC3FE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BE4-8D24-4897-9259-6A0B2823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A23-4429-4481-8023-04D7573F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489-692D-43DC-9D0D-8B36C20D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45D-7596-4C0B-8791-22C34B98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038-79B1-491B-AB62-97EAEF21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1D2-48BC-44A3-A140-C98A91F0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294-80EC-487A-BE06-BB563A72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085-6A73-4DC7-8465-AB11DDB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0F0-7D7F-4A56-A2F5-7576A40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667-5CD5-488A-8079-9A63A3F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B9A-C739-46E8-A6C7-E910A171D4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lakdasun.org/forum/index.php?topic=1591.0" TargetMode="External"/><Relationship Id="rId3" Type="http://schemas.openxmlformats.org/officeDocument/2006/relationships/hyperlink" Target="http://www.lakdasun.org/forum/index.php?topic=1591.0" TargetMode="External"/><Relationship Id="rId4" Type="http://schemas.openxmlformats.org/officeDocument/2006/relationships/hyperlink" Target="http://www.lakdasun.org/forum/index.php?topic=1591.0" TargetMode="External"/><Relationship Id="rId5" Type="http://schemas.openxmlformats.org/officeDocument/2006/relationships/hyperlink" Target="http://www.lakdasun.org/forum/index.php?topic=1591.0" TargetMode="External"/><Relationship Id="rId6" Type="http://schemas.openxmlformats.org/officeDocument/2006/relationships/hyperlink" Target="http://www.lakdasun.org/forum/index.php?topic=1591.0" TargetMode="External"/><Relationship Id="rId7" Type="http://schemas.openxmlformats.org/officeDocument/2006/relationships/hyperlink" Target="http://www.lakdasun.org/forum/index.php?topic=1591.0" TargetMode="External"/><Relationship Id="rId8" Type="http://schemas.openxmlformats.org/officeDocument/2006/relationships/hyperlink" Target="http://www.lakdasun.org/forum/index.php?topic=1591.0" TargetMode="External"/><Relationship Id="rId9" Type="http://schemas.openxmlformats.org/officeDocument/2006/relationships/hyperlink" Target="http://www.lakdasun.org/forum/index.php?topic=1591.0" TargetMode="External"/><Relationship Id="rId10" Type="http://schemas.openxmlformats.org/officeDocument/2006/relationships/hyperlink" Target="http://www.lakdasun.org/forum/index.php?topic=1591.0" TargetMode="External"/><Relationship Id="rId11" Type="http://schemas.openxmlformats.org/officeDocument/2006/relationships/hyperlink" Target="http://www.lakdasun.org/forum/index.php?topic=1591.0" TargetMode="External"/><Relationship Id="rId12" Type="http://schemas.openxmlformats.org/officeDocument/2006/relationships/hyperlink" Target="http://www.lakdasun.org/forum/index.php?topic=1591.0" TargetMode="External"/><Relationship Id="rId13" Type="http://schemas.openxmlformats.org/officeDocument/2006/relationships/hyperlink" Target="http://www.lakdasun.org/forum/index.php?topic=1591.0" TargetMode="External"/><Relationship Id="rId14" Type="http://schemas.openxmlformats.org/officeDocument/2006/relationships/hyperlink" Target="http://www.lakdasun.org/forum/index.php?topic=1591.0" TargetMode="External"/><Relationship Id="rId15" Type="http://schemas.openxmlformats.org/officeDocument/2006/relationships/hyperlink" Target="http://www.lakdasun.org/forum/index.php?topic=1591.0" TargetMode="External"/><Relationship Id="rId16" Type="http://schemas.openxmlformats.org/officeDocument/2006/relationships/hyperlink" Target="http://www.lakdasun.org/forum/index.php?topic=1591.0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sylva.org.uk/oneoak/tree_dendrochronology.php" TargetMode="External"/><Relationship Id="rId3" Type="http://schemas.openxmlformats.org/officeDocument/2006/relationships/hyperlink" Target="http://sylva.org.uk/oneoak/tree_dendrochronology.php" TargetMode="External"/><Relationship Id="rId4" Type="http://schemas.openxmlformats.org/officeDocument/2006/relationships/hyperlink" Target="http://sylva.org.uk/oneoak/tree_dendrochronology.php" TargetMode="External"/><Relationship Id="rId5" Type="http://schemas.openxmlformats.org/officeDocument/2006/relationships/hyperlink" Target="http://sylva.org.uk/oneoak/tree_dendrochronology.php" TargetMode="External"/><Relationship Id="rId6" Type="http://schemas.openxmlformats.org/officeDocument/2006/relationships/hyperlink" Target="http://sylva.org.uk/oneoak/tree_dendrochronology.php" TargetMode="External"/><Relationship Id="rId7" Type="http://schemas.openxmlformats.org/officeDocument/2006/relationships/hyperlink" Target="http://sylva.org.uk/oneoak/tree_dendrochronology.php" TargetMode="External"/><Relationship Id="rId8" Type="http://schemas.openxmlformats.org/officeDocument/2006/relationships/hyperlink" Target="http://sylva.org.uk/oneoak/tree_dendrochronology.php" TargetMode="External"/><Relationship Id="rId9" Type="http://schemas.openxmlformats.org/officeDocument/2006/relationships/hyperlink" Target="http://sylva.org.uk/oneoak/tree_dendrochronology.php" TargetMode="External"/><Relationship Id="rId10" Type="http://schemas.openxmlformats.org/officeDocument/2006/relationships/hyperlink" Target="http://sylva.org.uk/oneoak/tree_dendrochronology.php" TargetMode="External"/><Relationship Id="rId11" Type="http://schemas.openxmlformats.org/officeDocument/2006/relationships/hyperlink" Target="http://sylva.org.uk/oneoak/tree_dendrochronology.php" TargetMode="External"/><Relationship Id="rId12" Type="http://schemas.openxmlformats.org/officeDocument/2006/relationships/hyperlink" Target="http://sylva.org.uk/oneoak/tree_dendrochronology.php" TargetMode="External"/><Relationship Id="rId13" Type="http://schemas.openxmlformats.org/officeDocument/2006/relationships/hyperlink" Target="http://sylva.org.uk/oneoak/tree_dendrochronology.php" TargetMode="External"/><Relationship Id="rId14" Type="http://schemas.openxmlformats.org/officeDocument/2006/relationships/hyperlink" Target="http://sylva.org.uk/oneoak/tree_dendrochronology.php" TargetMode="External"/><Relationship Id="rId1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engineeringtoolbox.com/wood-density-d_40.html" TargetMode="External"/><Relationship Id="rId2" Type="http://schemas.openxmlformats.org/officeDocument/2006/relationships/hyperlink" Target="http://www.engineeringtoolbox.com/wood-density-d_40.html" TargetMode="External"/><Relationship Id="rId3" Type="http://schemas.openxmlformats.org/officeDocument/2006/relationships/hyperlink" Target="http://www.engineeringtoolbox.com/wood-density-d_40.html" TargetMode="External"/><Relationship Id="rId4" Type="http://schemas.openxmlformats.org/officeDocument/2006/relationships/hyperlink" Target="http://www.engineeringtoolbox.com/wood-density-d_40.html" TargetMode="External"/><Relationship Id="rId5" Type="http://schemas.openxmlformats.org/officeDocument/2006/relationships/hyperlink" Target="http://www.engineeringtoolbox.com/wood-density-d_40.html" TargetMode="External"/><Relationship Id="rId6" Type="http://schemas.openxmlformats.org/officeDocument/2006/relationships/hyperlink" Target="http://www.engineeringtoolbox.com/wood-density-d_40.html" TargetMode="External"/><Relationship Id="rId7" Type="http://schemas.openxmlformats.org/officeDocument/2006/relationships/hyperlink" Target="http://www.engineeringtoolbox.com/wood-density-d_40.html" TargetMode="External"/><Relationship Id="rId8" Type="http://schemas.openxmlformats.org/officeDocument/2006/relationships/hyperlink" Target="http://www.engineeringtoolbox.com/wood-density-d_40.html" TargetMode="External"/><Relationship Id="rId9" Type="http://schemas.openxmlformats.org/officeDocument/2006/relationships/hyperlink" Target="http://www.engineeringtoolbox.com/wood-density-d_40.html" TargetMode="External"/><Relationship Id="rId10" Type="http://schemas.openxmlformats.org/officeDocument/2006/relationships/hyperlink" Target="http://www.engineeringtoolbox.com/wood-density-d_40.html" TargetMode="External"/><Relationship Id="rId11" Type="http://schemas.openxmlformats.org/officeDocument/2006/relationships/hyperlink" Target="http://www.engineeringtoolbox.com/wood-density-d_40.html" TargetMode="External"/><Relationship Id="rId12" Type="http://schemas.openxmlformats.org/officeDocument/2006/relationships/hyperlink" Target="http://www.engineeringtoolbox.com/wood-density-d_40.html" TargetMode="External"/><Relationship Id="rId13" Type="http://schemas.openxmlformats.org/officeDocument/2006/relationships/hyperlink" Target="http://www.engineeringtoolbox.com/wood-density-d_40.html" TargetMode="External"/><Relationship Id="rId14" Type="http://schemas.openxmlformats.org/officeDocument/2006/relationships/hyperlink" Target="http://www.engineeringtoolbox.com/wood-density-d_40.html" TargetMode="External"/><Relationship Id="rId15" Type="http://schemas.openxmlformats.org/officeDocument/2006/relationships/hyperlink" Target="http://www.engineeringtoolbox.com/wood-density-d_40.html" TargetMode="External"/><Relationship Id="rId1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Gvw3kJwFR4" TargetMode="External"/><Relationship Id="rId2" Type="http://schemas.openxmlformats.org/officeDocument/2006/relationships/hyperlink" Target="https://www.youtube.com/watch?v=MGvw3kJwFR4" TargetMode="External"/><Relationship Id="rId3" Type="http://schemas.openxmlformats.org/officeDocument/2006/relationships/hyperlink" Target="https://www.youtube.com/watch?v=MGvw3kJwFR4" TargetMode="External"/><Relationship Id="rId4" Type="http://schemas.openxmlformats.org/officeDocument/2006/relationships/hyperlink" Target="https://www.youtube.com/watch?v=MGvw3kJwFR4" TargetMode="External"/><Relationship Id="rId5" Type="http://schemas.openxmlformats.org/officeDocument/2006/relationships/hyperlink" Target="https://www.youtube.com/watch?v=MGvw3kJwFR4" TargetMode="External"/><Relationship Id="rId6" Type="http://schemas.openxmlformats.org/officeDocument/2006/relationships/hyperlink" Target="https://www.youtube.com/watch?v=MGvw3kJwFR4" TargetMode="External"/><Relationship Id="rId7" Type="http://schemas.openxmlformats.org/officeDocument/2006/relationships/hyperlink" Target="https://www.youtube.com/watch?v=MGvw3kJwFR4" TargetMode="External"/><Relationship Id="rId8" Type="http://schemas.openxmlformats.org/officeDocument/2006/relationships/hyperlink" Target="https://www.youtube.com/watch?v=MGvw3kJwFR4" TargetMode="External"/><Relationship Id="rId9" Type="http://schemas.openxmlformats.org/officeDocument/2006/relationships/hyperlink" Target="https://www.youtube.com/watch?v=MGvw3kJwFR4" TargetMode="External"/><Relationship Id="rId10" Type="http://schemas.openxmlformats.org/officeDocument/2006/relationships/hyperlink" Target="https://www.youtube.com/watch?v=MGvw3kJwFR4" TargetMode="External"/><Relationship Id="rId11" Type="http://schemas.openxmlformats.org/officeDocument/2006/relationships/hyperlink" Target="https://www.youtube.com/watch?v=MGvw3kJwFR4" TargetMode="External"/><Relationship Id="rId12" Type="http://schemas.openxmlformats.org/officeDocument/2006/relationships/hyperlink" Target="https://www.youtube.com/watch?v=E3O-V6WLw0g" TargetMode="External"/><Relationship Id="rId13" Type="http://schemas.openxmlformats.org/officeDocument/2006/relationships/hyperlink" Target="https://www.youtube.com/watch?v=E3O-V6WLw0g" TargetMode="External"/><Relationship Id="rId14" Type="http://schemas.openxmlformats.org/officeDocument/2006/relationships/hyperlink" Target="https://www.youtube.com/watch?v=E3O-V6WLw0g" TargetMode="External"/><Relationship Id="rId15" Type="http://schemas.openxmlformats.org/officeDocument/2006/relationships/hyperlink" Target="https://www.youtube.com/watch?v=E3O-V6WLw0g" TargetMode="External"/><Relationship Id="rId16" Type="http://schemas.openxmlformats.org/officeDocument/2006/relationships/hyperlink" Target="https://www.youtube.com/watch?v=E3O-V6WLw0g" TargetMode="External"/><Relationship Id="rId17" Type="http://schemas.openxmlformats.org/officeDocument/2006/relationships/hyperlink" Target="https://www.youtube.com/watch?v=E3O-V6WLw0g" TargetMode="External"/><Relationship Id="rId18" Type="http://schemas.openxmlformats.org/officeDocument/2006/relationships/hyperlink" Target="https://www.youtube.com/watch?v=E3O-V6WLw0g" TargetMode="External"/><Relationship Id="rId19" Type="http://schemas.openxmlformats.org/officeDocument/2006/relationships/hyperlink" Target="https://www.youtube.com/watch?v=E3O-V6WLw0g" TargetMode="External"/><Relationship Id="rId20" Type="http://schemas.openxmlformats.org/officeDocument/2006/relationships/hyperlink" Target="https://www.youtube.com/watch?v=E3O-V6WLw0g" TargetMode="External"/><Relationship Id="rId21" Type="http://schemas.openxmlformats.org/officeDocument/2006/relationships/hyperlink" Target="https://www.youtube.com/watch?v=E3O-V6WLw0g" TargetMode="External"/><Relationship Id="rId22" Type="http://schemas.openxmlformats.org/officeDocument/2006/relationships/hyperlink" Target="https://www.youtube.com/watch?v=E3O-V6WLw0g" TargetMode="External"/><Relationship Id="rId23" Type="http://schemas.openxmlformats.org/officeDocument/2006/relationships/hyperlink" Target="https://www.youtube.com/watch?v=E3O-V6WLw0g" TargetMode="External"/><Relationship Id="rId24" Type="http://schemas.openxmlformats.org/officeDocument/2006/relationships/hyperlink" Target="https://www.youtube.com/watch?v=E3O-V6WLw0g" TargetMode="External"/><Relationship Id="rId2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اسات الحيوية للغطاء الن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6680" y="914400"/>
            <a:ext cx="88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705280" cy="6162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382920" cy="2539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08360" y="47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ريقة المسطرة والخي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19360" y="833400"/>
            <a:ext cx="5705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81400" y="1952640"/>
            <a:ext cx="438120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87640" y="620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ريقة الهندية .... (بدائ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7934400" cy="2571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6066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كانت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420320" cy="3400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2000" y="765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لم تكن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2274840"/>
            <a:ext cx="7277040" cy="2809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03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لم تكن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75440" cy="4508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35280" y="1125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مكن أيضا عن طريق قياس الظل 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5640" y="1400040"/>
            <a:ext cx="4762440" cy="4476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قياسات أخرى (لنفس الغرض) على الموقع التالي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akdasun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um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ndex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hp?topic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=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59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صطلحات ها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io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تحليل النتائج البيولوجية باستخدام الرياضيات والطرق الإحصائ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omet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… : differen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دراسة العلاقة بين حجم جسم الكائن الحي إلى الشكل ، التشريح ، وظائف الأعضاء ، والسلو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ndromet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فرع من علم النبا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an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يهتم بدراسة القياسات المختلفة للشجر ، مثل القطر، الحجم، الشكل، العـمر، سماكة اللحاء، والخصائص الإحصائية لقائمة الشجر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stan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ثل: كثافة الخشب والنمو الس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ometry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ياس التغير النسبي في أجزاء مختلفة من الجسم نتيجة النم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0600" y="1495440"/>
            <a:ext cx="4762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0600" y="738360"/>
            <a:ext cx="476280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90600" y="666720"/>
            <a:ext cx="47628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</a:rPr>
              <a:t>أمثلة على أنواع الأشجار وأطوالها عند البلوغ الكامل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6756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قطر السا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ؤخذ عادة قياس القطر من خلال قياس محيط الشجرة عند ارتفاع مستوى الصد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أي حوالي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1814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227640" y="83664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24360" y="3357720"/>
            <a:ext cx="4809960" cy="3257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5594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628640"/>
            <a:ext cx="42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طر جذع الأشجار يقاس دائما عند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,3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 فوق سطح الأرض - وهذا ما يسمى القطر عند مستوى الصدر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من الممكن لحساب قطر الساق نستخدم شريط قياس عادي لتسجيل المحيط  ، ومن ثم حساب (القطر = محيط /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6543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6960" y="260280"/>
            <a:ext cx="3068640" cy="32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97320" y="3645000"/>
            <a:ext cx="2687760" cy="295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2581560" cy="287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67240" y="404640"/>
            <a:ext cx="2733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62120" y="547560"/>
            <a:ext cx="581976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تحديد عمر الشج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عدة طرق يحتسب من خلالها عمر الشجرة (وهي بالنتيجة تقديرية تتفاوت من طريقة لأخ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 للشجرة الميت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 تقطع من عن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تم عد حلقات النم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اسات الحيوية للأشج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رتفاع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السا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عمر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تاج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حجم تاج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طول الساق الحي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حجم السا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مؤشر المساحة الخضرية (الأورا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وزن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لمادة الجافة ل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لمحتوي الكربوني ل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996840"/>
            <a:ext cx="72010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90040" cy="436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55640" y="508464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ي السنة الواحدة .... تنتج حلقتان الأولى سميكة ولونها فاتح (في بداية الربيع) والأخرى رقيقة ولونها داكن (في الصيف) وتكونان مع بعضهما (مدمجتان تقريبا) كحلقة واحدة في السنة الواحد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80960" y="1033560"/>
            <a:ext cx="63820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عدة طرق يحتسب من خلالها عمر الشجرة (وهي بالنتيجة تقديرية تتفاوت من طريقة لأخ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 للشجرة الح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لا تقطع الشجرة وإنما يتم إحتساب العمر بعدة طرق ، ومن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47880" y="1890720"/>
            <a:ext cx="5448240" cy="3076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27280" y="69228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- عـدّ حلقات الأغـصان السنو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476600" cy="6162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92360" y="620640"/>
            <a:ext cx="511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 - عـدّ الأغـصان (الأفرع) السنو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1989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عمر = عـدد الأغصان (الأفرع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القمة النام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4572000" cy="298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457880" cy="301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148360" y="54936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ـ - حفر الساق بالمثقاب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crement borer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99880"/>
            <a:ext cx="835344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3543120" cy="244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5715000" cy="304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64000" y="549360"/>
            <a:ext cx="300996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23810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03280" y="112536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ount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ith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نخا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first ring around the pith as r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each ring out to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لح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last ring pressed against the inner b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2674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ارتفاع الأشجا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omet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المقياس الميلي): أداة تستخدم لقياس الميل أو الزاوية العمودية .... وأبسطها: استخدام المنقلة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جهزة خاصة لقياس الميل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برامج تستخدم على الأجهزة الذكية لنفس الغر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79280" y="0"/>
            <a:ext cx="8713800" cy="6800760"/>
            <a:chOff x="179280" y="0"/>
            <a:chExt cx="8713800" cy="68007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79280" y="0"/>
              <a:ext cx="7115400" cy="68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380360" y="404640"/>
              <a:ext cx="15127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ff"/>
                  </a:solidFill>
                  <a:latin typeface="Arial"/>
                </a:rPr>
                <a:t>يجب مراعاة طريقة أخذ القياسا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28680" y="2371680"/>
              <a:ext cx="1297080" cy="384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5640" y="5950080"/>
              <a:ext cx="72072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6360" y="2565360"/>
              <a:ext cx="72072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6000" y="5661000"/>
              <a:ext cx="72072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Use an accurate method to determine age"/>
          <p:cNvPicPr/>
          <p:nvPr/>
        </p:nvPicPr>
        <p:blipFill>
          <a:blip r:embed="rId1"/>
          <a:stretch/>
        </p:blipFill>
        <p:spPr>
          <a:xfrm>
            <a:off x="4067280" y="1125360"/>
            <a:ext cx="386712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Take a quality increment core"/>
          <p:cNvPicPr/>
          <p:nvPr/>
        </p:nvPicPr>
        <p:blipFill>
          <a:blip r:embed="rId2"/>
          <a:stretch/>
        </p:blipFill>
        <p:spPr>
          <a:xfrm>
            <a:off x="4284720" y="3789360"/>
            <a:ext cx="3343320" cy="1352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tip number 5"/>
          <p:cNvPicPr/>
          <p:nvPr/>
        </p:nvPicPr>
        <p:blipFill>
          <a:blip r:embed="rId3"/>
          <a:stretch/>
        </p:blipFill>
        <p:spPr>
          <a:xfrm>
            <a:off x="1116000" y="2852640"/>
            <a:ext cx="1695600" cy="148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tip number 5"/>
          <p:cNvPicPr/>
          <p:nvPr/>
        </p:nvPicPr>
        <p:blipFill>
          <a:blip r:embed="rId4"/>
          <a:stretch/>
        </p:blipFill>
        <p:spPr>
          <a:xfrm>
            <a:off x="1187280" y="476280"/>
            <a:ext cx="1724040" cy="219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tip number 6"/>
          <p:cNvPicPr/>
          <p:nvPr/>
        </p:nvPicPr>
        <p:blipFill>
          <a:blip r:embed="rId5"/>
          <a:stretch/>
        </p:blipFill>
        <p:spPr>
          <a:xfrm>
            <a:off x="1908000" y="4581360"/>
            <a:ext cx="13431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8360" y="476280"/>
            <a:ext cx="51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د - حساب نصف القطر / الحقات السنوية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dius/ring width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م عد الحلقات السنوية ، ومن ثم يقسم نصف القطر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على عدد الحلقات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ing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، فنحصل على سماكة (عرض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الحلقة الواح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ن ثم ، نقسم نصف القطر على سماكة الحلقة الواحدة ، فنحصل على تقدير للعم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/w = approximat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6286320" cy="6048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03640" y="620640"/>
            <a:ext cx="35308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هـ - حساب القطر مـع عامل النمو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owth factor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2421000"/>
            <a:ext cx="3960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مر=  القط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امل النم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95320" y="2190600"/>
            <a:ext cx="7353360" cy="2476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عض من توصيف الشجرة بالنسبة لسمات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ndrochronology</a:t>
            </a:r>
            <a:r>
              <a:rPr b="0" lang="ar-SA" sz="2200" spc="-1" strike="noStrike">
                <a:solidFill>
                  <a:srgbClr val="0000ff"/>
                </a:solidFill>
                <a:latin typeface="Arial"/>
              </a:rPr>
              <a:t>))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ree</a:t>
            </a:r>
            <a:r>
              <a:rPr b="0" i="1" lang="ar-SA" sz="2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ring dating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53320" cy="466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630864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details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ylva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org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uk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oneoak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tree_dendrochronology</a:t>
            </a:r>
            <a:r>
              <a:rPr b="0" lang="ar-SA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h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468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ختص في دراسة التاريخ الدقيق لعمر الأشجار من خلال دراسة أنماط الحلقات والفراغات التي تنتج بينها ، ويدرس استجابة الشجرة للظروف البيئية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قطر تاج الشجر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w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ما أن يؤخذ أقسى طول وأقسى عرض لظل الشجرة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p lin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عندما تكون الشمس عمودية عليها. أو باستخدام عصا طويلة توضع عموديا على الأرض ، ومن ثم يؤخذ متوسط القياسان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09640" y="576360"/>
            <a:ext cx="57247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1260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04960" y="2028960"/>
            <a:ext cx="57340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1771560"/>
            <a:ext cx="38102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و بتمثيل الظل الكامل للتاج بيانيا .... وذلك من خلال جمع أطوال أو قياسات أنصاف الأقطار الناتجة معنا ثم تقسم على عـددها ثم تضرب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ناتج يكون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متوسط قطر التا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7815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403280" y="260280"/>
            <a:ext cx="6193080" cy="6043320"/>
            <a:chOff x="1403280" y="260280"/>
            <a:chExt cx="6193080" cy="60433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2050920" y="907920"/>
              <a:ext cx="4781520" cy="48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300720" y="1628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04000" y="29242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56360" y="4653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6728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79640" y="4869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03280" y="3068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1413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67280" y="26028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781520" cy="4848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508464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+10+10+9+9+9+8+5 = 70 / 8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.75 x 2 = 17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تحديد حجم تاج الشجر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w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ؤخذ أبعاد التاج (ظلها على الأرض) ونجد متوسط القطر أو نصف القطر .... ثم يقاس ارتفاع التاج ... من قاعدة التاج (من أعلى ارتفاع للساق) للق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93372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وتكمن أهمية قياس حجم التاج وذلك لمعرفة وقياس الكتلة الحيوية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omas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) للشج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33814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14360" y="166680"/>
            <a:ext cx="6515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42920" y="6922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لقياس حجم التاج .... الجدول التالي يمث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هـم الأشكال الرئيسة لتيجان الأشج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50920" y="1916280"/>
            <a:ext cx="5545440" cy="2689200"/>
            <a:chOff x="2050920" y="1916280"/>
            <a:chExt cx="5545440" cy="26892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2050920" y="1916280"/>
              <a:ext cx="55454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771640" y="2421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المخروط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16360" y="314640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القطع المكافئ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19640" y="379584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نصف كرو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طول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تخدم طريقة المقياس الميل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omet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لإيجاد طول الشجرة دون الحاجة لقطعه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2997360"/>
            <a:ext cx="28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وتكمن أهمية قياس طول الساق وذلك لمعرفة وقياس الكتلة الحيوية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omas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) للشجرة ، وللأغراض التجار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505240" cy="34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4" name="" descr="Diagram of merchantable tree height"/>
          <p:cNvPicPr/>
          <p:nvPr/>
        </p:nvPicPr>
        <p:blipFill>
          <a:blip r:embed="rId2"/>
          <a:stretch/>
        </p:blipFill>
        <p:spPr>
          <a:xfrm>
            <a:off x="3203640" y="2781360"/>
            <a:ext cx="2762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تحديد حجم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أشجار المقتلعة .... يقاس نصف القطر من مستوى القلع (الأرض) ونصف القطر من قاعدة تاج الشجرة ... وتطبق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3495600" cy="561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258920" y="3789360"/>
            <a:ext cx="60372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لأشجار الحية .... يق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ق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.ومن ثم تستخدم جداول تسمى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le tree tariff char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بحسب النوع وتستخرج قيمة ثابتة ... وتطبق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364500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الحجم = القاعدة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الارتفا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الثاب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4724280"/>
            <a:ext cx="44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القاعدة = مساحة قرص الشجرة عند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524480" cy="277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3141720"/>
            <a:ext cx="4162680" cy="3009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43640" y="429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قياس الميلي (الزاو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وزن أو الكتلة الحيوية الشجرة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طريقة المباشرة: تستخدم للشجرة المقتلعة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ling tre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حيث يتم تقطيعها إلى أجزاء يمكن حملها ليتم التوزين... بالميزان الزمبركي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alanc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وقد تساعد الرافعة الشوكية في هذا المجال... وللأغراض التجارية.... تزال الأغصان العلوية قبل التوزين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40000" y="3860640"/>
            <a:ext cx="42670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طريقة غير المباشرة: لا تقطع الشجرة الح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ve tre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وإنما يستفاد من القيم السابقة من الحجوم والأوزان لإيجاد قيمة تقديرية للكتلة الحي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خلال العلاقة ب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جد القيمة الثابتة من الجدوال حتى نحسب حجم الساق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شجر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تل رئيس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كتل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 كتلة الت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ـ - كتلة الجذ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9212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كتل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 كتلة التا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تسمي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الكتلة أعلى الأرض (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bove biomass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- حساب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كتلة السا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بحسب العلاقة الرياضي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mber Biomass (kg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= V x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W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x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ood density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متوسط كثافة الخشب 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.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لأكثرم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وع من الأشجار تم حسابهم من الموقع 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ngineeringtoolbox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ood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ensity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_40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m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292360" y="2133720"/>
            <a:ext cx="86364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156360" y="1989000"/>
            <a:ext cx="14436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32600" y="2133720"/>
            <a:ext cx="215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- حساب كتلة التاج: بحسب العلاقة الرياضية الت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own Biomass (kg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= V x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x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rown density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توسط كثافة خشب التاج ~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.6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بب الفراغات البينية بين الأغصان والأور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86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ove Biomass = Timber Biomass + Crown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381480" cy="3486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332000" y="5300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low Biomass = Above Biomass x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2720" y="45306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ـ - كتلة الجذو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مؤشر المساحة الخضرية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f Area Index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ثل نسبة مساحة أوراق النباتات إلى مساح الأرض التي تغطيها هذه النبات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ذه العلاقة (النسبة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توصف العلاقة بين النباتات والجو (حالة المناخ) ووفرة الكربون ودورة المياه في الطبيع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استخدام برامج حاسوبية لاستخراج هذه النسب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نامج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apse Photos and ImageJ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على الراب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youtube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atch?v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Gvw3kJwFR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 algn="r" rtl="1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نام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be Photoshop 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على الراب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youtube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com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atch?v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=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3O</a:t>
            </a:r>
            <a:r>
              <a:rPr b="0" lang="ar-SA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-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V6WLw0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 algn="r" rtl="1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6840" y="2066760"/>
            <a:ext cx="8410320" cy="2724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56000" y="54936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اذا تعـني قيم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56000" y="54936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اذا تعـني قيم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ذا يعـني إذا كان هناك طبقة واحدة من أوراق النباتات جمعت واصطفت بجانب بعضها البعض ،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كون قيمته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لأن مساحة الأوراق تساوي مساحة الأرض التي تغطيها الأوراق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عليه ،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زداد مع تقدم عمر الشجرة وكـُبر حج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ذا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عكس حالة التمثيل الضوئي الجيد وحالة النمو الصحي للن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يزي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لى أن يصل النبات لمرحلة تتناقص فيه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ع تناقص الأوراق وفعالية التمثيل الضوئي أو أية عناصر تؤثر في حالة النبات ونمو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8120" indent="0" algn="r" rtl="1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905040" y="907920"/>
            <a:ext cx="7483320" cy="4903200"/>
            <a:chOff x="905040" y="907920"/>
            <a:chExt cx="7483320" cy="490320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763640" y="907920"/>
              <a:ext cx="571500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05040" y="5442840"/>
              <a:ext cx="6523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f Area Index 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I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the ratio of foliage area to ground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965480" y="1593720"/>
              <a:ext cx="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270560" y="1574640"/>
              <a:ext cx="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4720" y="17715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 0.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492360" y="51372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gif/00000226.gif"/>
          <p:cNvPicPr/>
          <p:nvPr/>
        </p:nvPicPr>
        <p:blipFill>
          <a:blip r:embed="rId1"/>
          <a:stretch/>
        </p:blipFill>
        <p:spPr>
          <a:xfrm>
            <a:off x="5580000" y="907920"/>
            <a:ext cx="2685960" cy="1086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464832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571500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08360" y="115920"/>
            <a:ext cx="51721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00720" y="1747800"/>
            <a:ext cx="4451040" cy="3336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176720" cy="3130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411280" y="33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كيف تحسب قيمة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هن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5661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تحدد مساحة الدائرة مع المساحة الكلية التي تغـطيها الأور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408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411280" y="33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كيف تحسب قيمة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هن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الكتلة المادة الجاف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mas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قتلاع الشجرة ، تقطع وتؤخذ إلى أفران خاصة ليتم تجفيفها من الرطوبة... وتشير الدراسة الميدانية إلى أن نسبة الرطوبة في الساق الرئيسي تصل إل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تصل نسبة الرطوبة في الإغـصان الصغيرة ( التي لا يزيد قطرها ع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م )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يم الوزن الجاف للأخشاب ضرورية في حساب المحتوى الكربوني بداخله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3191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56400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phant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7800" y="1300320"/>
            <a:ext cx="564840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المحتوى الكربوني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 conten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خزون الكربون الموجود داخل الشجرة يعتمد على كتلة المادة الجافة للشجرة. وتقدر عادة نسب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ن كتلة المادة الحيو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biomas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من الأخشاب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كربون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ال: إذا قدرت كتلة المادة الجافة لشجر البلوط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Oak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بحوا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8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ن ، وكتلة المادة الجافة للجذو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6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ن. فكم تقدر كمية الكربون فيها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ry mass = 7.86 + 2.061 = 9.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92 x 50% = 4.96 tones (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667640" cy="5105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71640" y="476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شجرة بلوط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neO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28840" y="1662120"/>
            <a:ext cx="6286320" cy="353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71640" y="476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ن طرق احتساب مخزون الكربون في الأشج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3213000"/>
            <a:ext cx="4197240" cy="315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00720" y="333360"/>
            <a:ext cx="4282920" cy="284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328464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86080" y="1509840"/>
            <a:ext cx="61722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07:47:42Z</dcterms:created>
  <dc:creator>خالد</dc:creator>
  <dc:description/>
  <dc:language>en-US</dc:language>
  <cp:lastModifiedBy>خالد</cp:lastModifiedBy>
  <dcterms:modified xsi:type="dcterms:W3CDTF">2014-12-08T08:48:48Z</dcterms:modified>
  <cp:revision>28</cp:revision>
  <dc:subject/>
  <dc:title>القياسات الحيوية للغطاء النباتي</dc:title>
</cp:coreProperties>
</file>