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7.jpeg" ContentType="image/jpeg"/>
  <Override PartName="/ppt/media/image56.jpeg" ContentType="image/jpeg"/>
  <Override PartName="/ppt/media/image53.png" ContentType="image/png"/>
  <Override PartName="/ppt/media/image54.jpeg" ContentType="image/jpeg"/>
  <Override PartName="/ppt/media/image58.jpeg" ContentType="image/jpeg"/>
  <Override PartName="/ppt/media/image51.png" ContentType="image/png"/>
  <Override PartName="/ppt/media/image4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png" ContentType="image/png"/>
  <Override PartName="/ppt/media/image45.jpeg" ContentType="image/jpeg"/>
  <Override PartName="/ppt/media/image44.jpeg" ContentType="image/jpeg"/>
  <Override PartName="/ppt/media/image43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49.png" ContentType="image/png"/>
  <Override PartName="/ppt/media/image65.jpeg" ContentType="image/jpeg"/>
  <Override PartName="/ppt/media/image12.png" ContentType="image/png"/>
  <Override PartName="/ppt/media/image20.jpeg" ContentType="image/jpeg"/>
  <Override PartName="/ppt/media/image18.jpeg" ContentType="image/jpeg"/>
  <Override PartName="/ppt/media/image22.png" ContentType="image/png"/>
  <Override PartName="/ppt/media/image24.png" ContentType="image/png"/>
  <Override PartName="/ppt/media/image73.jpeg" ContentType="image/jpeg"/>
  <Override PartName="/ppt/media/image29.png" ContentType="image/png"/>
  <Override PartName="/ppt/media/image63.jpeg" ContentType="image/jpeg"/>
  <Override PartName="/ppt/media/image71.png" ContentType="image/png"/>
  <Override PartName="/ppt/media/image6.jpeg" ContentType="image/jpeg"/>
  <Override PartName="/ppt/media/image16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17.jpeg" ContentType="image/jpeg"/>
  <Override PartName="/ppt/media/image62.png" ContentType="image/png"/>
  <Override PartName="/ppt/media/image28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84.jpeg" ContentType="image/jpeg"/>
  <Override PartName="/ppt/media/image14.jpeg" ContentType="image/jpeg"/>
  <Override PartName="/ppt/media/image66.png" ContentType="image/png"/>
  <Override PartName="/ppt/media/image41.jpeg" ContentType="image/jpeg"/>
  <Override PartName="/ppt/media/image60.jpeg" ContentType="image/jpeg"/>
  <Override PartName="/ppt/media/image77.jpeg" ContentType="image/jpeg"/>
  <Override PartName="/ppt/media/image83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79.png" ContentType="image/png"/>
  <Override PartName="/ppt/media/image26.jpeg" ContentType="image/jpeg"/>
  <Override PartName="/ppt/media/image82.jpeg" ContentType="image/jpeg"/>
  <Override PartName="/ppt/media/image76.jpeg" ContentType="image/jpeg"/>
  <Override PartName="/ppt/media/image23.png" ContentType="image/png"/>
  <Override PartName="/ppt/media/image55.jpeg" ContentType="image/jpeg"/>
  <Override PartName="/ppt/media/image70.jpeg" ContentType="image/jpeg"/>
  <Override PartName="/ppt/media/image80.jpeg" ContentType="image/jpeg"/>
  <Override PartName="/ppt/media/image81.jpeg" ContentType="image/jpeg"/>
  <Override PartName="/ppt/media/image75.png" ContentType="image/png"/>
  <Override PartName="/ppt/media/image74.jpeg" ContentType="image/jpeg"/>
  <Override PartName="/ppt/media/image67.jpeg" ContentType="image/jpeg"/>
  <Override PartName="/ppt/media/image69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9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72.jpeg" ContentType="image/jpeg"/>
  <Override PartName="/ppt/media/image5.jpeg" ContentType="image/jpeg"/>
  <Override PartName="/ppt/media/image50.png" ContentType="image/png"/>
  <Override PartName="/ppt/media/image52.png" ContentType="image/pn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1687-13D2-4B61-BDED-A9510A53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3AB6-869F-4902-AE7F-8CFF7744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611F-F7C3-40E7-8134-001D5FB7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062D-4B1A-4F6F-B44E-6A046E0B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4434-D486-4276-87E1-321CA133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BC71-904F-4585-8F3B-7D498E07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E6D4-5CB1-4B90-9D2F-EEB04D45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A061-BA4F-487C-9AA5-33DCD373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F13A-A6CA-48CC-8988-7B5175C3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6F7A-B589-4F4E-A078-F037DE65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6F0B-6EEE-44B0-B021-DC68A334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606E-E01B-4653-BF1B-3D7B0F73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B6D2-77D0-46AB-8EDF-0EC0009AB7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lakdasun.org/forum/index.php?topic=1591.0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hyperlink" Target="http://sylva.org.uk/oneoak/tree_dendrochronology.php" TargetMode="Externa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www.engineeringtoolbox.com/wood-density-d_40.html" TargetMode="External"/><Relationship Id="rId2" Type="http://schemas.openxmlformats.org/officeDocument/2006/relationships/hyperlink" Target="http://www.engineeringtoolbox.com/wood-density-d_40.html" TargetMode="External"/><Relationship Id="rId3" Type="http://schemas.openxmlformats.org/officeDocument/2006/relationships/hyperlink" Target="http://www.engineeringtoolbox.com/wood-density-d_40.html" TargetMode="External"/><Relationship Id="rId4" Type="http://schemas.openxmlformats.org/officeDocument/2006/relationships/hyperlink" Target="http://www.engineeringtoolbox.com/wood-density-d_40.html" TargetMode="External"/><Relationship Id="rId5" Type="http://schemas.openxmlformats.org/officeDocument/2006/relationships/hyperlink" Target="http://www.engineeringtoolbox.com/wood-density-d_40.html" TargetMode="External"/><Relationship Id="rId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MGvw3kJwFR4" TargetMode="External"/><Relationship Id="rId2" Type="http://schemas.openxmlformats.org/officeDocument/2006/relationships/hyperlink" Target="https://www.youtube.com/watch?v=E3O-V6WLw0g" TargetMode="Externa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</a:rPr>
              <a:t>القياسات الحيوية للغطاء النبا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trigonometry"/>
          <p:cNvPicPr/>
          <p:nvPr/>
        </p:nvPicPr>
        <p:blipFill>
          <a:blip r:embed="rId1"/>
          <a:stretch/>
        </p:blipFill>
        <p:spPr>
          <a:xfrm>
            <a:off x="166680" y="914400"/>
            <a:ext cx="8810640" cy="50292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2158920" y="69228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يقاس الطول الكلي للشجرة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tal height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Ruler &amp; String (Treeby &amp; Arthur) Method"/>
          <p:cNvPicPr/>
          <p:nvPr/>
        </p:nvPicPr>
        <p:blipFill>
          <a:blip r:embed="rId1"/>
          <a:stretch/>
        </p:blipFill>
        <p:spPr>
          <a:xfrm>
            <a:off x="3203640" y="333360"/>
            <a:ext cx="5705280" cy="6162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triangulation"/>
          <p:cNvPicPr/>
          <p:nvPr/>
        </p:nvPicPr>
        <p:blipFill>
          <a:blip r:embed="rId2"/>
          <a:stretch/>
        </p:blipFill>
        <p:spPr>
          <a:xfrm>
            <a:off x="250920" y="836640"/>
            <a:ext cx="3382920" cy="25398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3708360" y="476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طريقة المسطرة والخي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xxxx"/>
          <p:cNvPicPr/>
          <p:nvPr/>
        </p:nvPicPr>
        <p:blipFill>
          <a:blip r:embed="rId1"/>
          <a:stretch/>
        </p:blipFill>
        <p:spPr>
          <a:xfrm>
            <a:off x="1719360" y="833400"/>
            <a:ext cx="5705280" cy="51912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2987640" y="69228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يقاس الطول الكلي للشجرة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tal height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triangulation"/>
          <p:cNvPicPr/>
          <p:nvPr/>
        </p:nvPicPr>
        <p:blipFill>
          <a:blip r:embed="rId1"/>
          <a:stretch/>
        </p:blipFill>
        <p:spPr>
          <a:xfrm>
            <a:off x="766800" y="571680"/>
            <a:ext cx="7610400" cy="5715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826920" y="69228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يقاس الطول الكلي للشجرة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tal height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30_10"/>
          <p:cNvPicPr/>
          <p:nvPr/>
        </p:nvPicPr>
        <p:blipFill>
          <a:blip r:embed="rId1"/>
          <a:stretch/>
        </p:blipFill>
        <p:spPr>
          <a:xfrm>
            <a:off x="2381400" y="1952640"/>
            <a:ext cx="4381200" cy="2952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2987640" y="62064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طريقة الهندية .... (بدائي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24000" y="5589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dian method is based on a 45-degree triangle. Length = he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zzzzzz"/>
          <p:cNvPicPr/>
          <p:nvPr/>
        </p:nvPicPr>
        <p:blipFill>
          <a:blip r:embed="rId1"/>
          <a:stretch/>
        </p:blipFill>
        <p:spPr>
          <a:xfrm>
            <a:off x="468360" y="2205000"/>
            <a:ext cx="7934400" cy="25718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1476360" y="60660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إذا كانت الأرض بمستوى واحد مع قاعدة الشجرة؟؟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zzzzzz"/>
          <p:cNvPicPr/>
          <p:nvPr/>
        </p:nvPicPr>
        <p:blipFill>
          <a:blip r:embed="rId1"/>
          <a:stretch/>
        </p:blipFill>
        <p:spPr>
          <a:xfrm>
            <a:off x="826920" y="1989000"/>
            <a:ext cx="7420320" cy="34005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1332000" y="76500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إذا لم تكن الأرض بمستوى واحد مع قاعدة الشجرة؟؟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zzzzzz"/>
          <p:cNvPicPr/>
          <p:nvPr/>
        </p:nvPicPr>
        <p:blipFill>
          <a:blip r:embed="rId1"/>
          <a:stretch/>
        </p:blipFill>
        <p:spPr>
          <a:xfrm>
            <a:off x="1042920" y="2274840"/>
            <a:ext cx="7277040" cy="2809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1403280" y="83664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إذا لم تكن الأرض بمستوى واحد مع قاعدة الشجرة؟؟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measuring_tree_height"/>
          <p:cNvPicPr/>
          <p:nvPr/>
        </p:nvPicPr>
        <p:blipFill>
          <a:blip r:embed="rId1"/>
          <a:stretch/>
        </p:blipFill>
        <p:spPr>
          <a:xfrm>
            <a:off x="468360" y="981000"/>
            <a:ext cx="7975440" cy="4508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3635280" y="1125360"/>
            <a:ext cx="41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يمكن أيضا عن طريق قياس الظل .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1_fall"/>
          <p:cNvPicPr/>
          <p:nvPr/>
        </p:nvPicPr>
        <p:blipFill>
          <a:blip r:embed="rId1"/>
          <a:stretch/>
        </p:blipFill>
        <p:spPr>
          <a:xfrm>
            <a:off x="2195640" y="1400040"/>
            <a:ext cx="4762440" cy="44769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826920" y="333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قياسات أخرى (لنفس الغرض) على الموقع التالي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akdasun.org/forum/index.php?topic=1591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صطلحات هام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iome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: تحليل النتائج البيولوجية باستخدام الرياضيات والطرق الإحصائ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llometr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: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… : different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: دراسة العلاقة بين حجم جسم الكائن الحي إلى الشكل ، التشريح ، وظائف الأعضاء ، والسلو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008e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e40"/>
                </a:solidFill>
                <a:latin typeface="Arial"/>
              </a:rPr>
              <a:t>Dendrometr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: فرع من علم النبا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an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يهتم بدراسة القياسات المختلفة للشجر ، مثل القطر، الحجم، الشكل، العـمر، سماكة اللحاء، والخصائص الإحصائية لقائمة الشجر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stand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ثل: كثافة الخشب والنمو السنو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sometry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قياس التغير النسبي في أجزاء مختلفة من الجسم نتيجة النم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_fall"/>
          <p:cNvPicPr/>
          <p:nvPr/>
        </p:nvPicPr>
        <p:blipFill>
          <a:blip r:embed="rId1"/>
          <a:stretch/>
        </p:blipFill>
        <p:spPr>
          <a:xfrm>
            <a:off x="2190600" y="1495440"/>
            <a:ext cx="47628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3_fall"/>
          <p:cNvPicPr/>
          <p:nvPr/>
        </p:nvPicPr>
        <p:blipFill>
          <a:blip r:embed="rId1"/>
          <a:stretch/>
        </p:blipFill>
        <p:spPr>
          <a:xfrm>
            <a:off x="2190600" y="738360"/>
            <a:ext cx="4762800" cy="53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4_fall"/>
          <p:cNvPicPr/>
          <p:nvPr/>
        </p:nvPicPr>
        <p:blipFill>
          <a:blip r:embed="rId1"/>
          <a:stretch/>
        </p:blipFill>
        <p:spPr>
          <a:xfrm>
            <a:off x="2190600" y="666720"/>
            <a:ext cx="47628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ff"/>
                </a:solidFill>
                <a:latin typeface="Arial"/>
              </a:rPr>
              <a:t>أمثلة على أنواع الأشجار وأطوالها عند البلوغ الكامل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004-figure-tree-height-diagram"/>
          <p:cNvPicPr/>
          <p:nvPr/>
        </p:nvPicPr>
        <p:blipFill>
          <a:blip r:embed="rId1"/>
          <a:stretch/>
        </p:blipFill>
        <p:spPr>
          <a:xfrm>
            <a:off x="250920" y="1844640"/>
            <a:ext cx="867564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قياس قطر السا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ؤخذ عادة قياس القطر من خلال قياس محيط الشجرة عند ارتفاع مستوى الصد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H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(أي حوالي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,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,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zzzzzz"/>
          <p:cNvPicPr/>
          <p:nvPr/>
        </p:nvPicPr>
        <p:blipFill>
          <a:blip r:embed="rId1"/>
          <a:stretch/>
        </p:blipFill>
        <p:spPr>
          <a:xfrm>
            <a:off x="1835280" y="2924280"/>
            <a:ext cx="518148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6227640" y="83664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ياس قطر الأشج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IL++Trees+2+"/>
          <p:cNvPicPr/>
          <p:nvPr/>
        </p:nvPicPr>
        <p:blipFill>
          <a:blip r:embed="rId1"/>
          <a:stretch/>
        </p:blipFill>
        <p:spPr>
          <a:xfrm>
            <a:off x="3924360" y="3357720"/>
            <a:ext cx="4809960" cy="3257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zzz"/>
          <p:cNvPicPr/>
          <p:nvPr/>
        </p:nvPicPr>
        <p:blipFill>
          <a:blip r:embed="rId2"/>
          <a:stretch/>
        </p:blipFill>
        <p:spPr>
          <a:xfrm>
            <a:off x="395280" y="404640"/>
            <a:ext cx="455940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1"/>
          <a:stretch/>
        </p:blipFill>
        <p:spPr>
          <a:xfrm>
            <a:off x="384120" y="1584360"/>
            <a:ext cx="4498920" cy="3090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06-fig05"/>
          <p:cNvPicPr/>
          <p:nvPr/>
        </p:nvPicPr>
        <p:blipFill>
          <a:blip r:embed="rId2"/>
          <a:stretch/>
        </p:blipFill>
        <p:spPr>
          <a:xfrm>
            <a:off x="5076720" y="1197000"/>
            <a:ext cx="365436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xxxx"/>
          <p:cNvPicPr/>
          <p:nvPr/>
        </p:nvPicPr>
        <p:blipFill>
          <a:blip r:embed="rId1"/>
          <a:stretch/>
        </p:blipFill>
        <p:spPr>
          <a:xfrm>
            <a:off x="696960" y="260280"/>
            <a:ext cx="3068640" cy="32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xxxx"/>
          <p:cNvPicPr/>
          <p:nvPr/>
        </p:nvPicPr>
        <p:blipFill>
          <a:blip r:embed="rId2"/>
          <a:stretch/>
        </p:blipFill>
        <p:spPr>
          <a:xfrm>
            <a:off x="5197320" y="3645000"/>
            <a:ext cx="2687760" cy="295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xxxx"/>
          <p:cNvPicPr/>
          <p:nvPr/>
        </p:nvPicPr>
        <p:blipFill>
          <a:blip r:embed="rId3"/>
          <a:stretch/>
        </p:blipFill>
        <p:spPr>
          <a:xfrm>
            <a:off x="900000" y="3645000"/>
            <a:ext cx="2581560" cy="2879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xxxx"/>
          <p:cNvPicPr/>
          <p:nvPr/>
        </p:nvPicPr>
        <p:blipFill>
          <a:blip r:embed="rId4"/>
          <a:stretch/>
        </p:blipFill>
        <p:spPr>
          <a:xfrm>
            <a:off x="5367240" y="404640"/>
            <a:ext cx="27338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xxxx"/>
          <p:cNvPicPr/>
          <p:nvPr/>
        </p:nvPicPr>
        <p:blipFill>
          <a:blip r:embed="rId1"/>
          <a:stretch/>
        </p:blipFill>
        <p:spPr>
          <a:xfrm>
            <a:off x="1662120" y="547560"/>
            <a:ext cx="581976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تحديد عمر الشج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ناك عدة طرق يحتسب من خلالها عمر الشجرة (وهي بالنتيجة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</a:rPr>
              <a:t>قيم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</a:rPr>
              <a:t>تقدير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تفاوت من طريقة لأخرى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- للشجرة الميت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: تقطع من عند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DBH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تم عـدّ حلقات النم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قياسات الحيوية للأشجا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ياس ارتفاع الأشجار (الطول الكلي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ياس قطر السا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حديد عمر الأشج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ياس قطر تاج الشج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حديد حجم تاج الشج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ياس طول الساق الحي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حديد حجم السا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ياس مؤشر المساحة الخضرية (الأورا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حديد وزن الشج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ياس المادة الجافة للشج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ياس المحتوي الكربوني للشج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juniper Growth Rings1_sm"/>
          <p:cNvPicPr/>
          <p:nvPr/>
        </p:nvPicPr>
        <p:blipFill>
          <a:blip r:embed="rId1"/>
          <a:stretch/>
        </p:blipFill>
        <p:spPr>
          <a:xfrm>
            <a:off x="1116000" y="996840"/>
            <a:ext cx="720108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dendro_7"/>
          <p:cNvPicPr/>
          <p:nvPr/>
        </p:nvPicPr>
        <p:blipFill>
          <a:blip r:embed="rId1"/>
          <a:stretch/>
        </p:blipFill>
        <p:spPr>
          <a:xfrm>
            <a:off x="826920" y="404640"/>
            <a:ext cx="7790040" cy="4362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755640" y="508464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في السنة الواحدة .... تنتج الشجرة حلقتان: 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</a:rPr>
              <a:t>الأولى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سميكة ولونها فاتح (في بداية الربيع) والأخرى 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</a:rPr>
              <a:t>رقيق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ولونها داكن (في الصيف) وتكونان مع بعضهما (مدمجتان تقريبا) كحلقة واحدة في السنة الواحدة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670px-Determine-the-Age-of-a-Tree-Step-4Bullet1"/>
          <p:cNvPicPr/>
          <p:nvPr/>
        </p:nvPicPr>
        <p:blipFill>
          <a:blip r:embed="rId1"/>
          <a:stretch/>
        </p:blipFill>
        <p:spPr>
          <a:xfrm>
            <a:off x="1380960" y="1033560"/>
            <a:ext cx="63820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طرق احتساب عمر الشجرة (وهي بالنتيجة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</a:rPr>
              <a:t>قيم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</a:rPr>
              <a:t>تقدير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تفاوت من طريقة لأخرى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- للشجرة الح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لا تقطع الشجرة وإنما يتم احتساب العمر بعـدة طرق ، ومنها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3780000" y="6922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يـتـبـع 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aaaaaaa"/>
          <p:cNvPicPr/>
          <p:nvPr/>
        </p:nvPicPr>
        <p:blipFill>
          <a:blip r:embed="rId1"/>
          <a:stretch/>
        </p:blipFill>
        <p:spPr>
          <a:xfrm>
            <a:off x="1847880" y="1890720"/>
            <a:ext cx="5448240" cy="30765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2627280" y="69228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أ- عـدّ حلقات الأغـصان السنو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zzz"/>
          <p:cNvPicPr/>
          <p:nvPr/>
        </p:nvPicPr>
        <p:blipFill>
          <a:blip r:embed="rId1"/>
          <a:stretch/>
        </p:blipFill>
        <p:spPr>
          <a:xfrm>
            <a:off x="611280" y="333360"/>
            <a:ext cx="4476600" cy="61628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3492360" y="620640"/>
            <a:ext cx="5113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ب - عـدّ الأغـصان (الأفرع) السنو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219640" y="198900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Arial"/>
              </a:rPr>
              <a:t>العمر = عـدد الأغصان (الأفرع) 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</a:rPr>
              <a:t>+ 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</a:rPr>
              <a:t> (القمة النامي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zzzzzz"/>
          <p:cNvPicPr/>
          <p:nvPr/>
        </p:nvPicPr>
        <p:blipFill>
          <a:blip r:embed="rId1"/>
          <a:stretch/>
        </p:blipFill>
        <p:spPr>
          <a:xfrm>
            <a:off x="4211640" y="3573360"/>
            <a:ext cx="4572000" cy="2981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zzzzzz"/>
          <p:cNvPicPr/>
          <p:nvPr/>
        </p:nvPicPr>
        <p:blipFill>
          <a:blip r:embed="rId2"/>
          <a:stretch/>
        </p:blipFill>
        <p:spPr>
          <a:xfrm>
            <a:off x="539640" y="260280"/>
            <a:ext cx="4457880" cy="30193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5148360" y="549360"/>
            <a:ext cx="331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جـ - حفر الساق بالمثقاب (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crement borer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zzz"/>
          <p:cNvPicPr/>
          <p:nvPr/>
        </p:nvPicPr>
        <p:blipFill>
          <a:blip r:embed="rId1"/>
          <a:stretch/>
        </p:blipFill>
        <p:spPr>
          <a:xfrm>
            <a:off x="395280" y="299880"/>
            <a:ext cx="835344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bortre4b"/>
          <p:cNvPicPr/>
          <p:nvPr/>
        </p:nvPicPr>
        <p:blipFill>
          <a:blip r:embed="rId1"/>
          <a:stretch/>
        </p:blipFill>
        <p:spPr>
          <a:xfrm>
            <a:off x="971640" y="476280"/>
            <a:ext cx="3543120" cy="244800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fig69"/>
          <p:cNvPicPr/>
          <p:nvPr/>
        </p:nvPicPr>
        <p:blipFill>
          <a:blip r:embed="rId2"/>
          <a:stretch/>
        </p:blipFill>
        <p:spPr>
          <a:xfrm>
            <a:off x="250920" y="3284640"/>
            <a:ext cx="5715000" cy="30477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figure2-11"/>
          <p:cNvPicPr/>
          <p:nvPr/>
        </p:nvPicPr>
        <p:blipFill>
          <a:blip r:embed="rId3"/>
          <a:stretch/>
        </p:blipFill>
        <p:spPr>
          <a:xfrm>
            <a:off x="5364000" y="549360"/>
            <a:ext cx="3009960" cy="2438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increment_borer"/>
          <p:cNvPicPr/>
          <p:nvPr/>
        </p:nvPicPr>
        <p:blipFill>
          <a:blip r:embed="rId4"/>
          <a:stretch/>
        </p:blipFill>
        <p:spPr>
          <a:xfrm>
            <a:off x="6372360" y="3284640"/>
            <a:ext cx="23810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1403280" y="1125360"/>
            <a:ext cx="54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ount th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ith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النخاع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the first ring around the pith as ring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each ring out to th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a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اللح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the last ring pressed against the inner ba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zzz"/>
          <p:cNvPicPr/>
          <p:nvPr/>
        </p:nvPicPr>
        <p:blipFill>
          <a:blip r:embed="rId1"/>
          <a:stretch/>
        </p:blipFill>
        <p:spPr>
          <a:xfrm>
            <a:off x="2268360" y="2708280"/>
            <a:ext cx="42674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قياس ارتفاع الأشجا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ometer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(المقياس المَيْلي): أداة تستخدم لقياس الميل أو الزاوية العـمودية .... وأبسطها: استخدام المنقلة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جهزة خاصة (رقمية) لقياس الميل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ناك برامج تستخدم على الأجهزة الذكية لنفس الغر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Use an accurate method to determine age"/>
          <p:cNvPicPr/>
          <p:nvPr/>
        </p:nvPicPr>
        <p:blipFill>
          <a:blip r:embed="rId1"/>
          <a:stretch/>
        </p:blipFill>
        <p:spPr>
          <a:xfrm>
            <a:off x="4067280" y="1125360"/>
            <a:ext cx="386712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Take a quality increment core"/>
          <p:cNvPicPr/>
          <p:nvPr/>
        </p:nvPicPr>
        <p:blipFill>
          <a:blip r:embed="rId2"/>
          <a:stretch/>
        </p:blipFill>
        <p:spPr>
          <a:xfrm>
            <a:off x="4284720" y="3789360"/>
            <a:ext cx="3343320" cy="1352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tip number 5"/>
          <p:cNvPicPr/>
          <p:nvPr/>
        </p:nvPicPr>
        <p:blipFill>
          <a:blip r:embed="rId3"/>
          <a:stretch/>
        </p:blipFill>
        <p:spPr>
          <a:xfrm>
            <a:off x="1116000" y="2852640"/>
            <a:ext cx="1695600" cy="1486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tip number 5"/>
          <p:cNvPicPr/>
          <p:nvPr/>
        </p:nvPicPr>
        <p:blipFill>
          <a:blip r:embed="rId4"/>
          <a:stretch/>
        </p:blipFill>
        <p:spPr>
          <a:xfrm>
            <a:off x="1187280" y="476280"/>
            <a:ext cx="1724040" cy="2190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tip number 6"/>
          <p:cNvPicPr/>
          <p:nvPr/>
        </p:nvPicPr>
        <p:blipFill>
          <a:blip r:embed="rId5"/>
          <a:stretch/>
        </p:blipFill>
        <p:spPr>
          <a:xfrm>
            <a:off x="1908000" y="4581360"/>
            <a:ext cx="1343160" cy="16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8"/>
          <p:cNvGrpSpPr/>
          <p:nvPr/>
        </p:nvGrpSpPr>
        <p:grpSpPr>
          <a:xfrm>
            <a:off x="179280" y="0"/>
            <a:ext cx="8713800" cy="6800760"/>
            <a:chOff x="179280" y="0"/>
            <a:chExt cx="8713800" cy="6800760"/>
          </a:xfrm>
        </p:grpSpPr>
        <p:pic>
          <p:nvPicPr>
            <p:cNvPr id="131" name="Picture 2" descr="zzz"/>
            <p:cNvPicPr/>
            <p:nvPr/>
          </p:nvPicPr>
          <p:blipFill>
            <a:blip r:embed="rId1"/>
            <a:stretch/>
          </p:blipFill>
          <p:spPr>
            <a:xfrm>
              <a:off x="179280" y="0"/>
              <a:ext cx="7115400" cy="680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3"/>
            <p:cNvSpPr/>
            <p:nvPr/>
          </p:nvSpPr>
          <p:spPr>
            <a:xfrm>
              <a:off x="7380360" y="404640"/>
              <a:ext cx="151272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0000ff"/>
                  </a:solidFill>
                  <a:latin typeface="Arial"/>
                </a:rPr>
                <a:t>يجب مراعاة طريقة أخذ القياسات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2128680" y="2371680"/>
              <a:ext cx="1297080" cy="3841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2195640" y="5950080"/>
              <a:ext cx="720720" cy="576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6156360" y="2565360"/>
              <a:ext cx="720720" cy="576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796000" y="5661000"/>
              <a:ext cx="720720" cy="576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2268360" y="476280"/>
            <a:ext cx="51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د - حساب نصف القطر / الحـلقات السنوية    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adius/ring width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تم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</a:rPr>
              <a:t>عد الحلقات السنوي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، ومن ثم يقسم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</a:rPr>
              <a:t>نصف القطر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u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على عدد الحلقات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ring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، فنحصل على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</a:rPr>
              <a:t>سماكة (عرض: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width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</a:rPr>
              <a:t>) الحلقة الواحد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من ثم ، نقسم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</a:rPr>
              <a:t>نصف القطر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لى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</a:rPr>
              <a:t>سماك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لقة الواحدة ، فنحصل على تقدير للعم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/w ≈ approximate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zzzzzz"/>
          <p:cNvPicPr/>
          <p:nvPr/>
        </p:nvPicPr>
        <p:blipFill>
          <a:blip r:embed="rId1"/>
          <a:stretch/>
        </p:blipFill>
        <p:spPr>
          <a:xfrm>
            <a:off x="324000" y="404640"/>
            <a:ext cx="6286320" cy="6048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5003640" y="620640"/>
            <a:ext cx="353088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هـ - حساب القطر مـع عامل النمو (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rowth factor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427640" y="2421000"/>
            <a:ext cx="3960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مر=  القط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عامل النم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zzz"/>
          <p:cNvPicPr/>
          <p:nvPr/>
        </p:nvPicPr>
        <p:blipFill>
          <a:blip r:embed="rId1"/>
          <a:stretch/>
        </p:blipFill>
        <p:spPr>
          <a:xfrm>
            <a:off x="895320" y="2190600"/>
            <a:ext cx="7353360" cy="24768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0920" y="485280"/>
            <a:ext cx="548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وصـف عـمـر الشجرة بالنسبة الس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"/>
          <p:cNvSpPr/>
          <p:nvPr/>
        </p:nvSpPr>
        <p:spPr>
          <a:xfrm>
            <a:off x="2235960" y="29876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00000"/>
                </a:solidFill>
                <a:latin typeface="Arial"/>
              </a:rPr>
              <a:t>نبت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2167920" y="3508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00000"/>
                </a:solidFill>
                <a:latin typeface="Arial"/>
              </a:rPr>
              <a:t>شت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ndrochronology</a:t>
            </a:r>
            <a:r>
              <a:rPr b="0" lang="ar-SA" sz="2200" spc="-1" strike="noStrike">
                <a:solidFill>
                  <a:srgbClr val="0000ff"/>
                </a:solidFill>
                <a:latin typeface="Arial"/>
              </a:rPr>
              <a:t>))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tree-ring dating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denron"/>
          <p:cNvPicPr/>
          <p:nvPr/>
        </p:nvPicPr>
        <p:blipFill>
          <a:blip r:embed="rId1"/>
          <a:stretch/>
        </p:blipFill>
        <p:spPr>
          <a:xfrm>
            <a:off x="1332000" y="1413000"/>
            <a:ext cx="6853320" cy="4660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395280" y="6308640"/>
            <a:ext cx="82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details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ylva.org.uk/oneoak/tree_dendrochronology.ph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1341360"/>
            <a:ext cx="4680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يختص في دراسة التاريخ الدقيق لعمر الأشجار من خلال دراسة أنماط الحلقات والفراغات التي تنتج بينها ، ويدرس استجابة الشجرة للظروف البيئية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OneOak_dendro"/>
          <p:cNvPicPr/>
          <p:nvPr/>
        </p:nvPicPr>
        <p:blipFill>
          <a:blip r:embed="rId1"/>
          <a:stretch/>
        </p:blipFill>
        <p:spPr>
          <a:xfrm>
            <a:off x="755640" y="333360"/>
            <a:ext cx="7800840" cy="53053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684360" y="5877000"/>
            <a:ext cx="77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أوضحت دراسة حلقات النمو إن طول الشجرة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سم فوق الأرض في عام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79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وتدل على أن الشجرة نشأت في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788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وصلت إلى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2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سنة حين قطعها في عام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971640" y="1052640"/>
            <a:ext cx="2233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00000"/>
                </a:solidFill>
                <a:latin typeface="Arial"/>
              </a:rPr>
              <a:t>علم تحديد عـمـر الشجـ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قياس قطر تاج الشجرة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wn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ما أن يؤخذ أقسى طول وأقسى عرض لظل الشجرة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p line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عندما تكون الشمس عمودية عليها. أو باستخدام عصا طويلة توضع عموديا على الأرض ، ومن ثم يؤخذ 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</a:rPr>
              <a:t>متوسط القياسان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xxxx"/>
          <p:cNvPicPr/>
          <p:nvPr/>
        </p:nvPicPr>
        <p:blipFill>
          <a:blip r:embed="rId1"/>
          <a:stretch/>
        </p:blipFill>
        <p:spPr>
          <a:xfrm>
            <a:off x="1709640" y="576360"/>
            <a:ext cx="572472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xxxx"/>
          <p:cNvPicPr/>
          <p:nvPr/>
        </p:nvPicPr>
        <p:blipFill>
          <a:blip r:embed="rId1"/>
          <a:stretch/>
        </p:blipFill>
        <p:spPr>
          <a:xfrm>
            <a:off x="1835280" y="1557360"/>
            <a:ext cx="512604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lino"/>
          <p:cNvPicPr/>
          <p:nvPr/>
        </p:nvPicPr>
        <p:blipFill>
          <a:blip r:embed="rId1"/>
          <a:stretch/>
        </p:blipFill>
        <p:spPr>
          <a:xfrm>
            <a:off x="2666880" y="1771560"/>
            <a:ext cx="381024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zzz"/>
          <p:cNvPicPr/>
          <p:nvPr/>
        </p:nvPicPr>
        <p:blipFill>
          <a:blip r:embed="rId1"/>
          <a:stretch/>
        </p:blipFill>
        <p:spPr>
          <a:xfrm>
            <a:off x="1704960" y="2028960"/>
            <a:ext cx="573408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و بتمثيل الظل الكامل للتاج بيانيا .... وذلك من خلال جمع أطوال أو قياسات أنصاف الأقطار الناتجة معنا ثم تقسم على عـددها ثم تضرب ف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الناتج يكون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متوسط قطر التاج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anopyplot"/>
          <p:cNvPicPr/>
          <p:nvPr/>
        </p:nvPicPr>
        <p:blipFill>
          <a:blip r:embed="rId1"/>
          <a:stretch/>
        </p:blipFill>
        <p:spPr>
          <a:xfrm>
            <a:off x="2050920" y="476280"/>
            <a:ext cx="47815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11"/>
          <p:cNvGrpSpPr/>
          <p:nvPr/>
        </p:nvGrpSpPr>
        <p:grpSpPr>
          <a:xfrm>
            <a:off x="1403280" y="260280"/>
            <a:ext cx="6193080" cy="6043320"/>
            <a:chOff x="1403280" y="260280"/>
            <a:chExt cx="6193080" cy="6043320"/>
          </a:xfrm>
        </p:grpSpPr>
        <p:pic>
          <p:nvPicPr>
            <p:cNvPr id="161" name="Picture 2" descr="canopyplot"/>
            <p:cNvPicPr/>
            <p:nvPr/>
          </p:nvPicPr>
          <p:blipFill>
            <a:blip r:embed="rId1"/>
            <a:stretch/>
          </p:blipFill>
          <p:spPr>
            <a:xfrm>
              <a:off x="2050920" y="907920"/>
              <a:ext cx="4781520" cy="48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3"/>
            <p:cNvSpPr/>
            <p:nvPr/>
          </p:nvSpPr>
          <p:spPr>
            <a:xfrm>
              <a:off x="6300720" y="162864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4"/>
            <p:cNvSpPr/>
            <p:nvPr/>
          </p:nvSpPr>
          <p:spPr>
            <a:xfrm>
              <a:off x="6804000" y="292428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5"/>
            <p:cNvSpPr/>
            <p:nvPr/>
          </p:nvSpPr>
          <p:spPr>
            <a:xfrm>
              <a:off x="6156360" y="4653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6"/>
            <p:cNvSpPr/>
            <p:nvPr/>
          </p:nvSpPr>
          <p:spPr>
            <a:xfrm>
              <a:off x="4067280" y="5661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7"/>
            <p:cNvSpPr/>
            <p:nvPr/>
          </p:nvSpPr>
          <p:spPr>
            <a:xfrm>
              <a:off x="1979640" y="4869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8"/>
            <p:cNvSpPr/>
            <p:nvPr/>
          </p:nvSpPr>
          <p:spPr>
            <a:xfrm>
              <a:off x="1403280" y="306864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"/>
            <p:cNvSpPr/>
            <p:nvPr/>
          </p:nvSpPr>
          <p:spPr>
            <a:xfrm>
              <a:off x="1835280" y="1413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0"/>
            <p:cNvSpPr/>
            <p:nvPr/>
          </p:nvSpPr>
          <p:spPr>
            <a:xfrm>
              <a:off x="4067280" y="26028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anopyplot"/>
          <p:cNvPicPr/>
          <p:nvPr/>
        </p:nvPicPr>
        <p:blipFill>
          <a:blip r:embed="rId1"/>
          <a:stretch/>
        </p:blipFill>
        <p:spPr>
          <a:xfrm>
            <a:off x="2050920" y="0"/>
            <a:ext cx="4781520" cy="48481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468360" y="5084640"/>
            <a:ext cx="820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0+10+10+9+9+9+8+5 = 70 / 8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8.75 x 2 = 17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تحديد حجم تاج الشجرة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wn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ؤخذ أبعاد التاج (ظلها على الأرض) ونجد متوسط القطر أو نصف القطر .... ثم يقاس ارتفاع التاج ... من قاعدة التاج (من أعلى ارتفاع للساق) للق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4643280" y="3933720"/>
            <a:ext cx="37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وتكمن أهمية قياس حجم التاج وذلك لمعرفة وقياس الكتلة الحيوية  (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iomass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) للشج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crooooo"/>
          <p:cNvPicPr/>
          <p:nvPr/>
        </p:nvPicPr>
        <p:blipFill>
          <a:blip r:embed="rId1"/>
          <a:stretch/>
        </p:blipFill>
        <p:spPr>
          <a:xfrm>
            <a:off x="1042920" y="2997360"/>
            <a:ext cx="338148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1+tree+shapes"/>
          <p:cNvPicPr/>
          <p:nvPr/>
        </p:nvPicPr>
        <p:blipFill>
          <a:blip r:embed="rId1"/>
          <a:stretch/>
        </p:blipFill>
        <p:spPr>
          <a:xfrm>
            <a:off x="1314360" y="166680"/>
            <a:ext cx="65152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5"/>
          <p:cNvSpPr/>
          <p:nvPr/>
        </p:nvSpPr>
        <p:spPr>
          <a:xfrm>
            <a:off x="1042920" y="692280"/>
            <a:ext cx="65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لقياس حجم التاج .... الجدول التالي يمث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أهـم الأشكال الرئيسة لتيجان الأشج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8"/>
          <p:cNvGrpSpPr/>
          <p:nvPr/>
        </p:nvGrpSpPr>
        <p:grpSpPr>
          <a:xfrm>
            <a:off x="2050920" y="1916280"/>
            <a:ext cx="5545440" cy="2689200"/>
            <a:chOff x="2050920" y="1916280"/>
            <a:chExt cx="5545440" cy="2689200"/>
          </a:xfrm>
        </p:grpSpPr>
        <p:pic>
          <p:nvPicPr>
            <p:cNvPr id="179" name="Picture 14" descr="vvvvvvv"/>
            <p:cNvPicPr/>
            <p:nvPr/>
          </p:nvPicPr>
          <p:blipFill>
            <a:blip r:embed="rId1"/>
            <a:stretch/>
          </p:blipFill>
          <p:spPr>
            <a:xfrm>
              <a:off x="2050920" y="1916280"/>
              <a:ext cx="5545440" cy="26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15"/>
            <p:cNvSpPr/>
            <p:nvPr/>
          </p:nvSpPr>
          <p:spPr>
            <a:xfrm>
              <a:off x="2771640" y="242100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Arial"/>
                </a:rPr>
                <a:t>المخروط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6"/>
            <p:cNvSpPr/>
            <p:nvPr/>
          </p:nvSpPr>
          <p:spPr>
            <a:xfrm>
              <a:off x="2916360" y="314640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Arial"/>
                </a:rPr>
                <a:t>القطع المكافئ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7"/>
            <p:cNvSpPr/>
            <p:nvPr/>
          </p:nvSpPr>
          <p:spPr>
            <a:xfrm>
              <a:off x="3419640" y="379584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Arial"/>
                </a:rPr>
                <a:t>نصف كرو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5"/>
          <p:cNvSpPr/>
          <p:nvPr/>
        </p:nvSpPr>
        <p:spPr>
          <a:xfrm>
            <a:off x="1582560" y="69228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وتقاس مساحة تاج الشجرة.... كما يل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Text Box 17" descr=""/>
          <p:cNvPicPr/>
          <p:nvPr/>
        </p:nvPicPr>
        <p:blipFill>
          <a:blip r:embed="rId1"/>
          <a:stretch/>
        </p:blipFill>
        <p:spPr>
          <a:xfrm>
            <a:off x="1481040" y="2060640"/>
            <a:ext cx="6620040" cy="1054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crooooo"/>
          <p:cNvPicPr/>
          <p:nvPr/>
        </p:nvPicPr>
        <p:blipFill>
          <a:blip r:embed="rId2"/>
          <a:stretch/>
        </p:blipFill>
        <p:spPr>
          <a:xfrm>
            <a:off x="5076720" y="2276640"/>
            <a:ext cx="338148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 قياس طول ساق الشجرة الحيوي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be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قاس طول الساق من أسفل تاج الشجرة الذي لا يتمايز فيه الساق الرئيسي عن الأغصان ، إلى أسفل نقطة من الساق بشرط لا يقل قطر الساق عند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h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ع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س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zzz"/>
          <p:cNvPicPr/>
          <p:nvPr/>
        </p:nvPicPr>
        <p:blipFill>
          <a:blip r:embed="rId1"/>
          <a:stretch/>
        </p:blipFill>
        <p:spPr>
          <a:xfrm>
            <a:off x="539640" y="3192480"/>
            <a:ext cx="2505240" cy="347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9" name="Picture 8" descr="Diagram of merchantable tree height"/>
          <p:cNvPicPr/>
          <p:nvPr/>
        </p:nvPicPr>
        <p:blipFill>
          <a:blip r:embed="rId2"/>
          <a:stretch/>
        </p:blipFill>
        <p:spPr>
          <a:xfrm>
            <a:off x="3203640" y="3179880"/>
            <a:ext cx="27622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lino"/>
          <p:cNvPicPr/>
          <p:nvPr/>
        </p:nvPicPr>
        <p:blipFill>
          <a:blip r:embed="rId1"/>
          <a:stretch/>
        </p:blipFill>
        <p:spPr>
          <a:xfrm>
            <a:off x="468360" y="260280"/>
            <a:ext cx="4524480" cy="277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zzzzzz"/>
          <p:cNvPicPr/>
          <p:nvPr/>
        </p:nvPicPr>
        <p:blipFill>
          <a:blip r:embed="rId2"/>
          <a:stretch/>
        </p:blipFill>
        <p:spPr>
          <a:xfrm>
            <a:off x="1908000" y="3141720"/>
            <a:ext cx="4162680" cy="3009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6443640" y="4292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قياس الميلي (الزاوي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 قياس طول ساق الشجرة الحيوي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be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ستخدم طريقة المقياس الميلي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ometer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لإيجاد طول الشجرة دون الحاجة لقطعها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6084720" y="2997360"/>
            <a:ext cx="280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وتكمن أهمية قياس طول الساق وذلك لمعرفة وقياس الكتلة الحيوية  (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iomass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) للشجرة ، وللأغراض التجار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zzz"/>
          <p:cNvPicPr/>
          <p:nvPr/>
        </p:nvPicPr>
        <p:blipFill>
          <a:blip r:embed="rId1"/>
          <a:stretch/>
        </p:blipFill>
        <p:spPr>
          <a:xfrm>
            <a:off x="539640" y="2781360"/>
            <a:ext cx="2505240" cy="347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94" name="Picture 8" descr="Diagram of merchantable tree height"/>
          <p:cNvPicPr/>
          <p:nvPr/>
        </p:nvPicPr>
        <p:blipFill>
          <a:blip r:embed="rId2"/>
          <a:stretch/>
        </p:blipFill>
        <p:spPr>
          <a:xfrm>
            <a:off x="3203640" y="2781360"/>
            <a:ext cx="27622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 تحديد حجم ساق الشجرة الحيوي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be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لأشجار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</a:rPr>
              <a:t>المقتلع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... يقاس نصف القطر من مستوى القلع (الأرض) ونصف القطر من قاعدة تاج الشجرة ... وتطبق المعادل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7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3495600" cy="561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crooooo"/>
          <p:cNvPicPr/>
          <p:nvPr/>
        </p:nvPicPr>
        <p:blipFill>
          <a:blip r:embed="rId2"/>
          <a:stretch/>
        </p:blipFill>
        <p:spPr>
          <a:xfrm>
            <a:off x="1258920" y="3789360"/>
            <a:ext cx="6037200" cy="22874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7"/>
          <p:cNvSpPr/>
          <p:nvPr/>
        </p:nvSpPr>
        <p:spPr>
          <a:xfrm>
            <a:off x="531360" y="5950080"/>
            <a:ext cx="81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الساق الذي يقل قطره (عند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bh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) عن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سم ، لا يقدر له حجم....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للأشجار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</a:rPr>
              <a:t>الح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... يقاس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H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يقاس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.ومن ثم تستخدم جداول تسمى (</a:t>
            </a:r>
            <a:r>
              <a:rPr b="0" i="1" lang="en-US" sz="3200" spc="-1" strike="noStrike">
                <a:solidFill>
                  <a:srgbClr val="c00000"/>
                </a:solidFill>
                <a:latin typeface="Arial"/>
              </a:rPr>
              <a:t>single tree tariff chart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بحسب النوع وتستخرج قيمة ثابتة ... وتطبق المعادل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147760" y="489276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الحجم = القاعدة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الارتفاع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الثابت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60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Text Box 7" descr=""/>
          <p:cNvPicPr/>
          <p:nvPr/>
        </p:nvPicPr>
        <p:blipFill>
          <a:blip r:embed="rId1"/>
          <a:stretch/>
        </p:blipFill>
        <p:spPr>
          <a:xfrm>
            <a:off x="865080" y="3309840"/>
            <a:ext cx="7729560" cy="1596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806400" y="5732640"/>
            <a:ext cx="76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Arial"/>
              </a:rPr>
              <a:t>الثابت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: يعتمد على طول الشجرة،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bh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، نوع الشجرة، العمر، البيئة المحيط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 قياس وزن أو الكتلة الحيوية الشجرة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omass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طريقة المباشرة: تستخدم للشجرة المقتلعة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lling trees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حيث يتم تقطيعها إلى أجزاء يمكن حملها ليتم التوزين... بالميزان الزمبركي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 Balance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وقد تساعد الرافعة الشوكية في هذا المجال... وللأغراض التجارية.... تزال الأغصان العلوية قبل التوزين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weighing"/>
          <p:cNvPicPr/>
          <p:nvPr/>
        </p:nvPicPr>
        <p:blipFill>
          <a:blip r:embed="rId1"/>
          <a:stretch/>
        </p:blipFill>
        <p:spPr>
          <a:xfrm>
            <a:off x="2340000" y="3860640"/>
            <a:ext cx="426708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طريقة غير المباشرة: لا تقطع الشجرة الحية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v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وإنما يستفاد من القيم السابقة من الحجوم والأوزان لإيجاد قيمة تقديرية للكتلة الحيو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ن خلال العلاقة بي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H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نجد القيمة الثابت من جدول </a:t>
            </a: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single tree tariff chart</a:t>
            </a: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حتى نحسب منها حجم الساق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ber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لشجر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كتل رئيس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- كتلة الس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كتلة التا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جـ - كتلة الجذ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9212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- كتلة الس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 كتلة التاج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تسميا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الكتلة أعلى الأرض (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bove biomass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- حساب 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كتلة الساق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بحسب العلاقة الرياضي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imber Biomass (kg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= V x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WD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x 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wood density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: متوسط كثافة الخشب 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0.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لأكثرم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0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نوع من الأشجار تم حسابهم من الموقع التال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ngineeringtoolbox.com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ood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ensity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-d_40.html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 flipH="1">
            <a:off x="5292360" y="2133720"/>
            <a:ext cx="86364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 flipV="1">
            <a:off x="6156360" y="1989000"/>
            <a:ext cx="144360" cy="1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6132600" y="2133720"/>
            <a:ext cx="21564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0" algn="r" rtl="1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- حساب كتلة التاج: بحسب العلاقة الرياضية التال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rown Biomass (kg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= V x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CD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x 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crown density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توسط كثافة خشب التاج ≈ متوسط كثافة السا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أي أنها: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/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0.64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0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وذلك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سبب الفراغات البينية بين الأغصان والأوراق...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78865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bove Biomass = Timber Biomass + Crown 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crooooo"/>
          <p:cNvPicPr/>
          <p:nvPr/>
        </p:nvPicPr>
        <p:blipFill>
          <a:blip r:embed="rId1"/>
          <a:stretch/>
        </p:blipFill>
        <p:spPr>
          <a:xfrm>
            <a:off x="2771640" y="1341360"/>
            <a:ext cx="3381480" cy="34862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>
            <a:off x="1332000" y="5300640"/>
            <a:ext cx="612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low Biomass = Above Biomass x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5922720" y="4530600"/>
            <a:ext cx="25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جـ - كتلة الجذو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 قياس مؤشر المساحة الخضرية 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f Area Index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مثل نسبة مساحة أوراق النباتات إلى مساح الأرض التي تغطيها هذه النبات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ذه العلاقة (النسبة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I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توصف العلاقة بين النباتات والجو (حالة المناخ) ووفرة الكربون ودورة المياه في الطبيع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مكن استخدام برامج حاسوبية لاستخراج هذه النسبة مث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نامج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apse Photos a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mageJ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، على الراب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 algn="r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MGvw3kJwFR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 algn="r" rtl="1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نامج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dobe Photoshop 3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، على الراب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 algn="r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www.youtube.com/watch?v=E3O-V6WLw0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 algn="r" rtl="1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2556000" y="549360"/>
            <a:ext cx="38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ماذا تعـني قيم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AI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ذا يعـني إذا كان هناك طبقة واحدة من أوراق النباتات جمعت واصطفت بجانب بعضها البعض ، فإ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I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تكون قيمته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لأن مساحة الأوراق تساوي مساحة الأرض التي تغطيها الأوراق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عليه ، فإ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I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يزداد مع تقدم عمر الشجرة وكـُبر حجم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ذا فإ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I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تعكس حالة التمثيل الضوئي الجيد وحالة النمو الصحي للنب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يزيد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I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لى أن يصل النبات لمرحلة 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تتناقص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فيها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I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ع تناقص الأوراق وفعالية التمثيل الضوئي أو أية عناصر تؤثر في حالة النبات ونمو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48120" indent="0" algn="r" rtl="1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zzz"/>
          <p:cNvPicPr/>
          <p:nvPr/>
        </p:nvPicPr>
        <p:blipFill>
          <a:blip r:embed="rId1"/>
          <a:stretch/>
        </p:blipFill>
        <p:spPr>
          <a:xfrm>
            <a:off x="250920" y="3789360"/>
            <a:ext cx="5715000" cy="2895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zxz"/>
          <p:cNvPicPr/>
          <p:nvPr/>
        </p:nvPicPr>
        <p:blipFill>
          <a:blip r:embed="rId2"/>
          <a:stretch/>
        </p:blipFill>
        <p:spPr>
          <a:xfrm>
            <a:off x="3708360" y="115920"/>
            <a:ext cx="517212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zx"/>
          <p:cNvPicPr/>
          <p:nvPr/>
        </p:nvPicPr>
        <p:blipFill>
          <a:blip r:embed="rId1"/>
          <a:stretch/>
        </p:blipFill>
        <p:spPr>
          <a:xfrm>
            <a:off x="366840" y="2066760"/>
            <a:ext cx="8410320" cy="27244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2556000" y="549360"/>
            <a:ext cx="38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ماذا تعـني قيم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AI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9"/>
          <p:cNvGrpSpPr/>
          <p:nvPr/>
        </p:nvGrpSpPr>
        <p:grpSpPr>
          <a:xfrm>
            <a:off x="855360" y="907920"/>
            <a:ext cx="7533000" cy="4902840"/>
            <a:chOff x="855360" y="907920"/>
            <a:chExt cx="7533000" cy="4902840"/>
          </a:xfrm>
        </p:grpSpPr>
        <p:pic>
          <p:nvPicPr>
            <p:cNvPr id="224" name="Picture 3" descr="leaf_area_index"/>
            <p:cNvPicPr/>
            <p:nvPr/>
          </p:nvPicPr>
          <p:blipFill>
            <a:blip r:embed="rId1"/>
            <a:stretch/>
          </p:blipFill>
          <p:spPr>
            <a:xfrm>
              <a:off x="1763640" y="907920"/>
              <a:ext cx="5715000" cy="46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Rectangle 4"/>
            <p:cNvSpPr/>
            <p:nvPr/>
          </p:nvSpPr>
          <p:spPr>
            <a:xfrm>
              <a:off x="855360" y="5442480"/>
              <a:ext cx="7395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af Area Index (LAI) is the ratio of foliage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الأوراق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area to ground a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5"/>
            <p:cNvSpPr/>
            <p:nvPr/>
          </p:nvSpPr>
          <p:spPr>
            <a:xfrm flipV="1">
              <a:off x="4965480" y="1593720"/>
              <a:ext cx="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6"/>
            <p:cNvSpPr/>
            <p:nvPr/>
          </p:nvSpPr>
          <p:spPr>
            <a:xfrm flipV="1">
              <a:off x="7270560" y="1574640"/>
              <a:ext cx="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7"/>
            <p:cNvSpPr/>
            <p:nvPr/>
          </p:nvSpPr>
          <p:spPr>
            <a:xfrm>
              <a:off x="7524720" y="177156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= 0.9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8"/>
            <p:cNvSpPr/>
            <p:nvPr/>
          </p:nvSpPr>
          <p:spPr>
            <a:xfrm flipH="1">
              <a:off x="3492360" y="5137200"/>
              <a:ext cx="719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gif/00000226.gif"/>
          <p:cNvPicPr/>
          <p:nvPr/>
        </p:nvPicPr>
        <p:blipFill>
          <a:blip r:embed="rId1"/>
          <a:stretch/>
        </p:blipFill>
        <p:spPr>
          <a:xfrm>
            <a:off x="5580000" y="907920"/>
            <a:ext cx="2685960" cy="1086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grndcov"/>
          <p:cNvPicPr/>
          <p:nvPr/>
        </p:nvPicPr>
        <p:blipFill>
          <a:blip r:embed="rId2"/>
          <a:stretch/>
        </p:blipFill>
        <p:spPr>
          <a:xfrm>
            <a:off x="4284720" y="2492280"/>
            <a:ext cx="4648320" cy="2952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canopy"/>
          <p:cNvPicPr/>
          <p:nvPr/>
        </p:nvPicPr>
        <p:blipFill>
          <a:blip r:embed="rId3"/>
          <a:stretch/>
        </p:blipFill>
        <p:spPr>
          <a:xfrm>
            <a:off x="611280" y="620640"/>
            <a:ext cx="33908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3" descr="canopy"/>
          <p:cNvPicPr/>
          <p:nvPr/>
        </p:nvPicPr>
        <p:blipFill>
          <a:blip r:embed="rId1"/>
          <a:stretch/>
        </p:blipFill>
        <p:spPr>
          <a:xfrm>
            <a:off x="4500720" y="1747800"/>
            <a:ext cx="4451040" cy="3336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lai"/>
          <p:cNvPicPr/>
          <p:nvPr/>
        </p:nvPicPr>
        <p:blipFill>
          <a:blip r:embed="rId2"/>
          <a:stretch/>
        </p:blipFill>
        <p:spPr>
          <a:xfrm>
            <a:off x="250920" y="1844640"/>
            <a:ext cx="4176720" cy="31305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2411280" y="33336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كيف تحسب قيمة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AI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 هنا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395280" y="56610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تحدد مساحة الدائرة مع المساحة الكلية التي تغـطيها الأورا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zx"/>
          <p:cNvPicPr/>
          <p:nvPr/>
        </p:nvPicPr>
        <p:blipFill>
          <a:blip r:embed="rId1"/>
          <a:stretch/>
        </p:blipFill>
        <p:spPr>
          <a:xfrm>
            <a:off x="611280" y="1268280"/>
            <a:ext cx="8137440" cy="54086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2411280" y="33336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كيف تحسب قيمة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AI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 هنا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قياس الكتلة المادة الجافة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y mas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د اقتلاع الشجرة ، تقطع وتؤخذ إلى أفران خاصة ليتم تجفيفها من الرطوبة... وتشير الدراسة الميدانية إلى أن نسبة الرطوبة في الساق الرئيسي تصل إل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تصل نسبة الرطوبة في الإغـصان الصغيرة ( التي لا يزيد قطرها ع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سم ) 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يم الوزن الجاف للأخشاب ضرورية في حساب المحتوى الكربوني بداخلها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3" descr="ElephantTreeSM8b"/>
          <p:cNvPicPr/>
          <p:nvPr/>
        </p:nvPicPr>
        <p:blipFill>
          <a:blip r:embed="rId1"/>
          <a:stretch/>
        </p:blipFill>
        <p:spPr>
          <a:xfrm>
            <a:off x="762120" y="1833480"/>
            <a:ext cx="7619760" cy="31910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3564000" y="5516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phant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crooooo"/>
          <p:cNvPicPr/>
          <p:nvPr/>
        </p:nvPicPr>
        <p:blipFill>
          <a:blip r:embed="rId1"/>
          <a:stretch/>
        </p:blipFill>
        <p:spPr>
          <a:xfrm>
            <a:off x="1747800" y="1300320"/>
            <a:ext cx="5648400" cy="42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 قياس المحتوى الكربوني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bon content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2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خزون الكربون الموجود داخل الشجرة يعتمد على كتلة المادة الجافة للشجرة. وتقدر عادة نسب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ن كتلة المادة الحيوية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y biomas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من الأخشاب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كربون)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ثال: إذا قدرت كتلة المادة الجافة لشجر البلوط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neOak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بحوال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8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طن ، وكتلة المادة الجافة للجذو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06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طن. فكم تقدر كمية الكربون فيها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dry mass = 7.86 + 2.061 = 9.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92 x 50% = 4.96 tones (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ooooooo"/>
          <p:cNvPicPr/>
          <p:nvPr/>
        </p:nvPicPr>
        <p:blipFill>
          <a:blip r:embed="rId1"/>
          <a:stretch/>
        </p:blipFill>
        <p:spPr>
          <a:xfrm>
            <a:off x="611280" y="1197000"/>
            <a:ext cx="7667640" cy="51055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971640" y="476280"/>
            <a:ext cx="71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شجرة بلوط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neO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angle-of-elevation"/>
          <p:cNvPicPr/>
          <p:nvPr/>
        </p:nvPicPr>
        <p:blipFill>
          <a:blip r:embed="rId1"/>
          <a:stretch/>
        </p:blipFill>
        <p:spPr>
          <a:xfrm>
            <a:off x="4500720" y="3213000"/>
            <a:ext cx="4197240" cy="3152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ypsometer"/>
          <p:cNvPicPr/>
          <p:nvPr/>
        </p:nvPicPr>
        <p:blipFill>
          <a:blip r:embed="rId2"/>
          <a:stretch/>
        </p:blipFill>
        <p:spPr>
          <a:xfrm>
            <a:off x="755640" y="260280"/>
            <a:ext cx="3529080" cy="2648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crooooo"/>
          <p:cNvPicPr/>
          <p:nvPr/>
        </p:nvPicPr>
        <p:blipFill>
          <a:blip r:embed="rId3"/>
          <a:stretch/>
        </p:blipFill>
        <p:spPr>
          <a:xfrm>
            <a:off x="4500720" y="333360"/>
            <a:ext cx="4282920" cy="2847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crooooo"/>
          <p:cNvPicPr/>
          <p:nvPr/>
        </p:nvPicPr>
        <p:blipFill>
          <a:blip r:embed="rId4"/>
          <a:stretch/>
        </p:blipFill>
        <p:spPr>
          <a:xfrm>
            <a:off x="971640" y="328464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xxx"/>
          <p:cNvPicPr/>
          <p:nvPr/>
        </p:nvPicPr>
        <p:blipFill>
          <a:blip r:embed="rId1"/>
          <a:stretch/>
        </p:blipFill>
        <p:spPr>
          <a:xfrm>
            <a:off x="1428840" y="1662120"/>
            <a:ext cx="6286320" cy="35337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"/>
          <p:cNvSpPr/>
          <p:nvPr/>
        </p:nvSpPr>
        <p:spPr>
          <a:xfrm>
            <a:off x="971640" y="476280"/>
            <a:ext cx="71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من طرق احتساب مخزون الكربون في الأشجا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rooooo"/>
          <p:cNvPicPr/>
          <p:nvPr/>
        </p:nvPicPr>
        <p:blipFill>
          <a:blip r:embed="rId1"/>
          <a:stretch/>
        </p:blipFill>
        <p:spPr>
          <a:xfrm>
            <a:off x="1486080" y="1509840"/>
            <a:ext cx="6172200" cy="3838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2158920" y="69228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يقاس الطول الكلي للشجرة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tal height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9T07:47:42Z</dcterms:created>
  <dc:creator>خالد</dc:creator>
  <dc:description/>
  <dc:language>en-US</dc:language>
  <cp:lastModifiedBy>User</cp:lastModifiedBy>
  <dcterms:modified xsi:type="dcterms:W3CDTF">2016-04-19T21:14:32Z</dcterms:modified>
  <cp:revision>45</cp:revision>
  <dc:subject/>
  <dc:title>القياسات الحيوية للغطاء النباتي</dc:title>
</cp:coreProperties>
</file>