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13B5-DBB0-4875-85A5-66CDEE1D494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882E-77CE-4876-A1BA-83ECF39D7B6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D1ED-EC2F-453C-953F-40F2529A8AF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A751-57F0-469B-9271-B7087D6EEC7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FE7C-A5B5-4E57-A680-C7216990755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EA04-D3E5-436D-B8FA-248FCA250D8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0BB8-48E1-45BE-8392-9A804FB671C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9C40-4C56-4030-98DC-8B4687ECE3F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F0B0-8326-473E-9D51-CDAE08364A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3F2E-3BB1-4A97-BA0D-E4CD883F6E5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3B34-4F70-43A5-B2D2-1A7BCAA8188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A4AE-38E9-4221-A17E-DC8F4681A9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6721-9B2C-4423-BAB2-7D0F7BD934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53C3-C742-42F8-979E-AE44BE17F14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3488-8183-4535-AE5C-C7BC9CD886C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01F5-71C0-4F47-8C4C-A1503E6A6D8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A0CB-9A01-44D4-9CB6-9ED5390D659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93CE-07D6-40EA-AA47-3C31B713FF7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277F-F28E-474C-879E-6B9D8A5597C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388620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-1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6B2A-1140-4D13-8AF6-91D55D2E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7440" y="397836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C8C-A411-4BFC-8A45-A7E0F4EA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744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68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A69-1DB4-47C5-9385-291D4285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3480" y="182880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520" y="182880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7440" y="397836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3480" y="397836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520" y="397836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063-B695-43E0-91BD-9FE32E9D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17440" y="-360"/>
            <a:ext cx="6909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1744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192-8418-4950-BA91-7CB2FFA8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768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17440" y="397836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17440" y="397836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744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768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3480" y="182880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89520" y="182880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17440" y="397836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53480" y="397836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89520" y="397836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F5D-9EB9-4C22-9EC9-6B932ED2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00B-C317-4D00-8BDF-C76C4CE6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057-D4BE-4EED-811B-9624797F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7440" y="-360"/>
            <a:ext cx="6909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6ED-5511-436B-B799-83E6093A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744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DF0-8397-4D90-B28C-46216FCA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68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ACE-2180-479E-98C8-A3807AEA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7440" y="397836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5C7-C842-4382-B7BB-572C73FB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DE18-13AD-4BCA-A7DB-5A3AD50A0D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9b0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afd00"/>
              </a:buClr>
              <a:buSzPct val="64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368280" y="24638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gu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 and Treatm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247840" y="342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Mahmoud Lub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gue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8026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ifferentiated f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ic dengue f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ngue hemorrhagic f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ngue shock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ifferentiated F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be the most common manifestation of de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pective study found that 87% of students infected were either asymptomatic or only mildly sympto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prospective studies including all age- groups also demonstrate silent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-13320" y="5823000"/>
            <a:ext cx="606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 Burke, et al. A prospective study of dengue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Bangkok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m J Trop Med Hy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988; 38:172-8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Characteristi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Dengue F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5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cle and joint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usea/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morrhagic manife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rrhagic Manifest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De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89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kin hemorrhages: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زيف الجل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techiae, purpura, ecchym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ngival bleeding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زيف للث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sal bleeding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زيف للأن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stro-intestinal bleeding: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زيف للأمعا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matemesis, melen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matu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reased menstrual flow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زيادة تدفق الطم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kin blee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28" descr="petechiae1-small"/>
          <p:cNvPicPr/>
          <p:nvPr/>
        </p:nvPicPr>
        <p:blipFill>
          <a:blip r:embed="rId1"/>
          <a:stretch/>
        </p:blipFill>
        <p:spPr>
          <a:xfrm>
            <a:off x="228600" y="2066760"/>
            <a:ext cx="4257720" cy="372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29" descr="petechiae2-small"/>
          <p:cNvPicPr/>
          <p:nvPr/>
        </p:nvPicPr>
        <p:blipFill>
          <a:blip r:embed="rId2"/>
          <a:stretch/>
        </p:blipFill>
        <p:spPr>
          <a:xfrm>
            <a:off x="4876920" y="2070000"/>
            <a:ext cx="415908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eding into the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dengue eye"/>
          <p:cNvPicPr/>
          <p:nvPr/>
        </p:nvPicPr>
        <p:blipFill>
          <a:blip r:embed="rId1"/>
          <a:stretch/>
        </p:blipFill>
        <p:spPr>
          <a:xfrm>
            <a:off x="0" y="2470320"/>
            <a:ext cx="91346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bleed into s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dengue hand"/>
          <p:cNvPicPr/>
          <p:nvPr/>
        </p:nvPicPr>
        <p:blipFill>
          <a:blip r:embed="rId1"/>
          <a:stretch/>
        </p:blipFill>
        <p:spPr>
          <a:xfrm>
            <a:off x="504720" y="1787400"/>
            <a:ext cx="8131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Case Definition for Dengue Shock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816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idence of circulatory failure manifested indirectly by all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pid and weak pu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rrow pulse pressure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0 mm Hg) OR hypotension for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d, clammy skin and altered ment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k shock is direct evidence of circulatory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7981920" y="3519360"/>
            <a:ext cx="35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edes Aegypt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osqu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6276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cubation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-14 days (commonly 4-7 day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3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14720" y="2479680"/>
            <a:ext cx="4954320" cy="30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yong- Nyang 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Nile 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Bone 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gue lik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edes Aegyp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gue transmitted by infected female mosqu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ly domesticated tropical mosqu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fer to lay eggs in artificial containers e.g. flower vases, automobile tires…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fer to rest indo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fer to feed on humans during daytime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e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squitoes (Tiger mosquito): distinguished by white stripes on black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membe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e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mily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e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egyp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edes.vitta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e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bopic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most abundant during rainy s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P5"/>
          <p:cNvPicPr/>
          <p:nvPr/>
        </p:nvPicPr>
        <p:blipFill>
          <a:blip r:embed="rId1"/>
          <a:srcRect l="0" t="0" r="0" b="43897"/>
          <a:stretch/>
        </p:blipFill>
        <p:spPr>
          <a:xfrm>
            <a:off x="1295280" y="990720"/>
            <a:ext cx="2895840" cy="556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P5"/>
          <p:cNvPicPr/>
          <p:nvPr/>
        </p:nvPicPr>
        <p:blipFill>
          <a:blip r:embed="rId2">
            <a:lum contrast="18000"/>
          </a:blip>
          <a:srcRect l="0" t="52487" r="0" b="0"/>
          <a:stretch/>
        </p:blipFill>
        <p:spPr>
          <a:xfrm>
            <a:off x="5638680" y="914400"/>
            <a:ext cx="3048120" cy="5562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s egg singly, and eggs are cigar sha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 mosquito acts as v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o not fly over long distance- &lt;100mts(110yards), this factor facilitates its erad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Distribution of Dengue 1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852480" y="1606680"/>
            <a:ext cx="7439040" cy="4025880"/>
          </a:xfrm>
          <a:prstGeom prst="rect">
            <a:avLst/>
          </a:prstGeom>
          <a:gradFill rotWithShape="0">
            <a:gsLst>
              <a:gs pos="0">
                <a:srgbClr val="feffda"/>
              </a:gs>
              <a:gs pos="100000">
                <a:srgbClr val="fffff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852480" y="5951520"/>
            <a:ext cx="138240" cy="136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852480" y="6256440"/>
            <a:ext cx="138240" cy="13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028880" y="5823000"/>
            <a:ext cx="377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as infested wit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edes aegyp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1026000" y="6127920"/>
            <a:ext cx="596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as wit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edes aegypt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recent epidemic de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1095480" y="1676520"/>
            <a:ext cx="694188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9040" y="-178200"/>
            <a:ext cx="69087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gue  fever in 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2960" y="1079640"/>
          <a:ext cx="8026560" cy="5378400"/>
        </p:xfrm>
        <a:graphic>
          <a:graphicData uri="http://schemas.openxmlformats.org/drawingml/2006/table">
            <a:tbl>
              <a:tblPr/>
              <a:tblGrid>
                <a:gridCol w="1455840"/>
                <a:gridCol w="3319560"/>
                <a:gridCol w="3251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 of suspected ca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 of confirmed ca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9040" y="1980720"/>
            <a:ext cx="6908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533520" y="609480"/>
          <a:ext cx="7848360" cy="5867640"/>
        </p:xfrm>
        <a:graphic>
          <a:graphicData uri="http://schemas.openxmlformats.org/drawingml/2006/table">
            <a:tbl>
              <a:tblPr/>
              <a:tblGrid>
                <a:gridCol w="2227320"/>
                <a:gridCol w="2877840"/>
                <a:gridCol w="2743200"/>
              </a:tblGrid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-w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gue Feve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ft Valley Feve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9040" y="1980720"/>
            <a:ext cx="69087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and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14766" t="1320" r="14389" b="0"/>
          <a:stretch/>
        </p:blipFill>
        <p:spPr>
          <a:xfrm>
            <a:off x="7246800" y="3441600"/>
            <a:ext cx="1320840" cy="21211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3087720" y="2978280"/>
            <a:ext cx="1274760" cy="288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4572000" y="1905120"/>
            <a:ext cx="2506680" cy="1600200"/>
            <a:chOff x="4572000" y="1905120"/>
            <a:chExt cx="2506680" cy="1600200"/>
          </a:xfrm>
        </p:grpSpPr>
        <p:sp>
          <p:nvSpPr>
            <p:cNvPr id="177" name="Rectangle 5"/>
            <p:cNvSpPr/>
            <p:nvPr/>
          </p:nvSpPr>
          <p:spPr>
            <a:xfrm>
              <a:off x="4572000" y="1905120"/>
              <a:ext cx="250668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6" descr=""/>
            <p:cNvPicPr/>
            <p:nvPr/>
          </p:nvPicPr>
          <p:blipFill>
            <a:blip r:embed="rId2"/>
            <a:srcRect l="11789" t="0" r="25688" b="0"/>
            <a:stretch/>
          </p:blipFill>
          <p:spPr>
            <a:xfrm>
              <a:off x="4707360" y="2106720"/>
              <a:ext cx="2126880" cy="12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Rectangle 8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Replication and Transmission</a:t>
            </a:r>
            <a:br>
              <a:rPr sz="4400"/>
            </a:b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of Dengue Virus (Part 1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252720" y="2120760"/>
            <a:ext cx="3342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Virus trans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to human in mos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247320" y="3436920"/>
            <a:ext cx="25545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Virus repl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in target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243360" y="4481640"/>
            <a:ext cx="2927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Virus infects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blood cell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lymphatic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240840" y="5853240"/>
            <a:ext cx="2926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Virus released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circulates in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7"/>
          <p:cNvGrpSpPr/>
          <p:nvPr/>
        </p:nvGrpSpPr>
        <p:grpSpPr>
          <a:xfrm>
            <a:off x="5237280" y="4238640"/>
            <a:ext cx="425160" cy="576360"/>
            <a:chOff x="5237280" y="4238640"/>
            <a:chExt cx="425160" cy="576360"/>
          </a:xfrm>
        </p:grpSpPr>
        <p:sp>
          <p:nvSpPr>
            <p:cNvPr id="187" name="Rectangle 15"/>
            <p:cNvSpPr/>
            <p:nvPr/>
          </p:nvSpPr>
          <p:spPr>
            <a:xfrm>
              <a:off x="5237280" y="4238640"/>
              <a:ext cx="425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Courier Ne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6"/>
            <p:cNvSpPr/>
            <p:nvPr/>
          </p:nvSpPr>
          <p:spPr>
            <a:xfrm>
              <a:off x="5261040" y="4280040"/>
              <a:ext cx="315360" cy="431640"/>
            </a:xfrm>
            <a:prstGeom prst="ellipse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0"/>
          <p:cNvGrpSpPr/>
          <p:nvPr/>
        </p:nvGrpSpPr>
        <p:grpSpPr>
          <a:xfrm>
            <a:off x="7269120" y="3476520"/>
            <a:ext cx="425160" cy="576360"/>
            <a:chOff x="7269120" y="3476520"/>
            <a:chExt cx="425160" cy="576360"/>
          </a:xfrm>
        </p:grpSpPr>
        <p:sp>
          <p:nvSpPr>
            <p:cNvPr id="190" name="Rectangle 18"/>
            <p:cNvSpPr/>
            <p:nvPr/>
          </p:nvSpPr>
          <p:spPr>
            <a:xfrm>
              <a:off x="7269120" y="3476520"/>
              <a:ext cx="425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Courier New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"/>
            <p:cNvSpPr/>
            <p:nvPr/>
          </p:nvSpPr>
          <p:spPr>
            <a:xfrm>
              <a:off x="7292880" y="3517920"/>
              <a:ext cx="315360" cy="431640"/>
            </a:xfrm>
            <a:prstGeom prst="ellipse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3"/>
          <p:cNvGrpSpPr/>
          <p:nvPr/>
        </p:nvGrpSpPr>
        <p:grpSpPr>
          <a:xfrm>
            <a:off x="4627440" y="1952640"/>
            <a:ext cx="425160" cy="576360"/>
            <a:chOff x="4627440" y="1952640"/>
            <a:chExt cx="425160" cy="576360"/>
          </a:xfrm>
        </p:grpSpPr>
        <p:sp>
          <p:nvSpPr>
            <p:cNvPr id="193" name="Rectangle 21"/>
            <p:cNvSpPr/>
            <p:nvPr/>
          </p:nvSpPr>
          <p:spPr>
            <a:xfrm>
              <a:off x="4627440" y="1952640"/>
              <a:ext cx="425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Courier New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2"/>
            <p:cNvSpPr/>
            <p:nvPr/>
          </p:nvSpPr>
          <p:spPr>
            <a:xfrm>
              <a:off x="4651200" y="1994040"/>
              <a:ext cx="315360" cy="431640"/>
            </a:xfrm>
            <a:prstGeom prst="ellipse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24"/>
          <p:cNvSpPr/>
          <p:nvPr/>
        </p:nvSpPr>
        <p:spPr>
          <a:xfrm>
            <a:off x="3494160" y="3664080"/>
            <a:ext cx="123840" cy="139680"/>
          </a:xfrm>
          <a:custGeom>
            <a:avLst/>
            <a:gdLst>
              <a:gd name="textAreaLeft" fmla="*/ 28080 w 123840"/>
              <a:gd name="textAreaRight" fmla="*/ 95760 w 1238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1"/>
          <p:cNvGraphicFramePr/>
          <p:nvPr/>
        </p:nvGraphicFramePr>
        <p:xfrm>
          <a:off x="3149640" y="3048120"/>
          <a:ext cx="115092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9640" y="3048120"/>
                    <a:ext cx="11509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8" name="Group 28"/>
          <p:cNvGrpSpPr/>
          <p:nvPr/>
        </p:nvGrpSpPr>
        <p:grpSpPr>
          <a:xfrm>
            <a:off x="3137040" y="3019320"/>
            <a:ext cx="425160" cy="576360"/>
            <a:chOff x="3137040" y="3019320"/>
            <a:chExt cx="425160" cy="576360"/>
          </a:xfrm>
        </p:grpSpPr>
        <p:sp>
          <p:nvSpPr>
            <p:cNvPr id="199" name="Rectangle 26"/>
            <p:cNvSpPr/>
            <p:nvPr/>
          </p:nvSpPr>
          <p:spPr>
            <a:xfrm>
              <a:off x="3137040" y="3019320"/>
              <a:ext cx="425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Courier Ne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7"/>
            <p:cNvSpPr/>
            <p:nvPr/>
          </p:nvSpPr>
          <p:spPr>
            <a:xfrm>
              <a:off x="3160800" y="3060720"/>
              <a:ext cx="315360" cy="431640"/>
            </a:xfrm>
            <a:prstGeom prst="ellipse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AutoShape 29"/>
          <p:cNvSpPr/>
          <p:nvPr/>
        </p:nvSpPr>
        <p:spPr>
          <a:xfrm>
            <a:off x="3629160" y="3892680"/>
            <a:ext cx="123840" cy="139680"/>
          </a:xfrm>
          <a:custGeom>
            <a:avLst/>
            <a:gdLst>
              <a:gd name="textAreaLeft" fmla="*/ 28080 w 123840"/>
              <a:gd name="textAreaRight" fmla="*/ 95760 w 1238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0"/>
          <p:cNvSpPr/>
          <p:nvPr/>
        </p:nvSpPr>
        <p:spPr>
          <a:xfrm>
            <a:off x="3562200" y="4425840"/>
            <a:ext cx="123840" cy="139680"/>
          </a:xfrm>
          <a:custGeom>
            <a:avLst/>
            <a:gdLst>
              <a:gd name="textAreaLeft" fmla="*/ 28080 w 123840"/>
              <a:gd name="textAreaRight" fmla="*/ 95760 w 1238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1"/>
          <p:cNvSpPr/>
          <p:nvPr/>
        </p:nvSpPr>
        <p:spPr>
          <a:xfrm>
            <a:off x="3765600" y="4425840"/>
            <a:ext cx="123840" cy="139680"/>
          </a:xfrm>
          <a:custGeom>
            <a:avLst/>
            <a:gdLst>
              <a:gd name="textAreaLeft" fmla="*/ 28080 w 123840"/>
              <a:gd name="textAreaRight" fmla="*/ 95760 w 1238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2"/>
          <p:cNvSpPr/>
          <p:nvPr/>
        </p:nvSpPr>
        <p:spPr>
          <a:xfrm>
            <a:off x="3629160" y="3435480"/>
            <a:ext cx="123840" cy="139680"/>
          </a:xfrm>
          <a:custGeom>
            <a:avLst/>
            <a:gdLst>
              <a:gd name="textAreaLeft" fmla="*/ 28080 w 123840"/>
              <a:gd name="textAreaRight" fmla="*/ 95760 w 1238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3"/>
          <p:cNvSpPr/>
          <p:nvPr/>
        </p:nvSpPr>
        <p:spPr>
          <a:xfrm>
            <a:off x="3832200" y="3664080"/>
            <a:ext cx="123840" cy="139680"/>
          </a:xfrm>
          <a:custGeom>
            <a:avLst/>
            <a:gdLst>
              <a:gd name="textAreaLeft" fmla="*/ 28080 w 123840"/>
              <a:gd name="textAreaRight" fmla="*/ 95760 w 123840"/>
              <a:gd name="textAreaTop" fmla="*/ 31680 h 139680"/>
              <a:gd name="textAreaBottom" fmla="*/ 108000 h 1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4" descr=""/>
          <p:cNvPicPr/>
          <p:nvPr/>
        </p:nvPicPr>
        <p:blipFill>
          <a:blip r:embed="rId5"/>
          <a:stretch/>
        </p:blipFill>
        <p:spPr>
          <a:xfrm>
            <a:off x="5249880" y="4191120"/>
            <a:ext cx="121932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5680" y="10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13080"/>
            <a:ext cx="82296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dengue is derived from African word denga: meaning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ever with  hemorrhag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aused by virus transmitted of bites of mosquito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e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7440" y="4568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Replication and Transmission</a:t>
            </a:r>
            <a:br>
              <a:rPr sz="4400"/>
            </a:b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of Dengue Virus (Part 2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-45720" y="2197080"/>
            <a:ext cx="3563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Second mos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ingests virus with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-9360" y="3262320"/>
            <a:ext cx="34383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Virus replic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in mosquito mid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and other orga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infects sali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440" y="5396040"/>
            <a:ext cx="3427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. Virus repl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in salivary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487680" y="1905120"/>
            <a:ext cx="528336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rcRect l="11694" t="0" r="25593" b="0"/>
          <a:stretch/>
        </p:blipFill>
        <p:spPr>
          <a:xfrm>
            <a:off x="3784680" y="2394000"/>
            <a:ext cx="4660920" cy="308916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11"/>
          <p:cNvGrpSpPr/>
          <p:nvPr/>
        </p:nvGrpSpPr>
        <p:grpSpPr>
          <a:xfrm>
            <a:off x="5168880" y="2028960"/>
            <a:ext cx="425160" cy="576360"/>
            <a:chOff x="5168880" y="2028960"/>
            <a:chExt cx="425160" cy="576360"/>
          </a:xfrm>
        </p:grpSpPr>
        <p:sp>
          <p:nvSpPr>
            <p:cNvPr id="215" name="Rectangle 9"/>
            <p:cNvSpPr/>
            <p:nvPr/>
          </p:nvSpPr>
          <p:spPr>
            <a:xfrm>
              <a:off x="5168880" y="2028960"/>
              <a:ext cx="425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Courier New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0"/>
            <p:cNvSpPr/>
            <p:nvPr/>
          </p:nvSpPr>
          <p:spPr>
            <a:xfrm>
              <a:off x="5192640" y="2070000"/>
              <a:ext cx="315360" cy="432000"/>
            </a:xfrm>
            <a:prstGeom prst="ellipse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4"/>
          <p:cNvGrpSpPr/>
          <p:nvPr/>
        </p:nvGrpSpPr>
        <p:grpSpPr>
          <a:xfrm>
            <a:off x="5643720" y="3656160"/>
            <a:ext cx="425160" cy="576360"/>
            <a:chOff x="5643720" y="3656160"/>
            <a:chExt cx="425160" cy="576360"/>
          </a:xfrm>
        </p:grpSpPr>
        <p:sp>
          <p:nvSpPr>
            <p:cNvPr id="218" name="Rectangle 12"/>
            <p:cNvSpPr/>
            <p:nvPr/>
          </p:nvSpPr>
          <p:spPr>
            <a:xfrm>
              <a:off x="5643720" y="3656160"/>
              <a:ext cx="425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Courier New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3"/>
            <p:cNvSpPr/>
            <p:nvPr/>
          </p:nvSpPr>
          <p:spPr>
            <a:xfrm>
              <a:off x="5667480" y="3699000"/>
              <a:ext cx="315360" cy="407880"/>
            </a:xfrm>
            <a:prstGeom prst="ellipse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7"/>
          <p:cNvGrpSpPr/>
          <p:nvPr/>
        </p:nvGrpSpPr>
        <p:grpSpPr>
          <a:xfrm>
            <a:off x="5303880" y="4695840"/>
            <a:ext cx="425160" cy="576360"/>
            <a:chOff x="5303880" y="4695840"/>
            <a:chExt cx="425160" cy="576360"/>
          </a:xfrm>
        </p:grpSpPr>
        <p:sp>
          <p:nvSpPr>
            <p:cNvPr id="221" name="Rectangle 15"/>
            <p:cNvSpPr/>
            <p:nvPr/>
          </p:nvSpPr>
          <p:spPr>
            <a:xfrm>
              <a:off x="5303880" y="4695840"/>
              <a:ext cx="425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Courier New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6"/>
            <p:cNvSpPr/>
            <p:nvPr/>
          </p:nvSpPr>
          <p:spPr>
            <a:xfrm>
              <a:off x="5327640" y="4737240"/>
              <a:ext cx="316800" cy="431640"/>
            </a:xfrm>
            <a:prstGeom prst="ellipse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9280" y="88560"/>
            <a:ext cx="69087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Pathogene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57428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In experimental studies of dengue virus infection in rhesus monkeys, after subcutaneous inoculation, virus was disseminated rapidly to regional lymph nodes and then to lymphatic tissue through out the body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7440" y="325080"/>
            <a:ext cx="6909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What are the tests needed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Routine blood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ests to check the clotting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pecial tests to identify the Dengue  or its foot marks in our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Urine to check protein le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Special Test (ELIS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28" name="Picture 4" descr="elisa-test-for-serologic-diagnosis"/>
          <p:cNvPicPr/>
          <p:nvPr/>
        </p:nvPicPr>
        <p:blipFill>
          <a:blip r:embed="rId1"/>
          <a:stretch/>
        </p:blipFill>
        <p:spPr>
          <a:xfrm>
            <a:off x="4797360" y="2362320"/>
            <a:ext cx="4194360" cy="2765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elisa-plate"/>
          <p:cNvPicPr/>
          <p:nvPr/>
        </p:nvPicPr>
        <p:blipFill>
          <a:blip r:embed="rId2"/>
          <a:stretch/>
        </p:blipFill>
        <p:spPr>
          <a:xfrm>
            <a:off x="457200" y="2303640"/>
            <a:ext cx="3908520" cy="28987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838080" y="5562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5ab7"/>
                </a:solidFill>
                <a:latin typeface="Arial"/>
              </a:rPr>
              <a:t>ELISA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4952880" y="55627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5ab7"/>
                </a:solidFill>
                <a:latin typeface="Arial"/>
              </a:rPr>
              <a:t>IgM-capture ELI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7440" y="161640"/>
            <a:ext cx="690912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Treatment of  Dengu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upportive measures 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 Mosquito scre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Avoid Aspirin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Plenty of water and salt are requ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hildren below 12 require careful w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r dangerous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No antibiotics are of proven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Preven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Mosquito Contro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How to prevent mosquito sprea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9b03"/>
              </a:buClr>
              <a:buSzPct val="12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Frequently (once in 2-3 days) empty all water storage contai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9b03"/>
              </a:buClr>
              <a:buSzPct val="12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Cover your over tanks to prevent mosquitoes breeding in fresh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9b03"/>
              </a:buClr>
              <a:buSzPct val="12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Do not allow empty vessels,  coconut shells, plastic containers, flower pots, tires etc to collect rain water in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17440" y="-36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Times New Roman"/>
              </a:rPr>
              <a:t>How to prevent mosquito bites</a:t>
            </a:r>
            <a:r>
              <a:rPr b="0" lang="en-US" sz="4000" spc="-1" strike="noStrike">
                <a:solidFill>
                  <a:srgbClr val="333300"/>
                </a:solidFill>
                <a:latin typeface="Times New Roman"/>
              </a:rPr>
              <a:t>?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Verdana"/>
                <a:ea typeface="Times New Roman"/>
              </a:rPr>
              <a:t>Screen your homes with mosquito screens like Netlon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Verdana"/>
                <a:ea typeface="Times New Roman"/>
              </a:rPr>
              <a:t>Wear full clothing – long sle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Verdana"/>
                <a:ea typeface="Times New Roman"/>
              </a:rPr>
              <a:t>Apply mosquito repellents like Odo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Verdana"/>
                <a:ea typeface="Times New Roman"/>
              </a:rPr>
              <a:t>Keep Dengue fever patient under mosquito 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Verdana"/>
                <a:ea typeface="Times New Roman"/>
              </a:rPr>
              <a:t>True community participation is k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       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1960" y="1155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outbreak that resembles a disease now recognized as dengue fever was that described by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Benjamn Rus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iladelphia, Pennsylvania in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7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41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1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gue fever is the most common arthropod borne viral dise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gue fever is one of the most important emerging disease of the tropical and sub tropical regions, affecting urban and pre urban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1360" y="228564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Organization Chart 7"/>
          <p:cNvGrpSpPr/>
          <p:nvPr/>
        </p:nvGrpSpPr>
        <p:grpSpPr>
          <a:xfrm>
            <a:off x="990720" y="304920"/>
            <a:ext cx="7652520" cy="2742480"/>
            <a:chOff x="990720" y="304920"/>
            <a:chExt cx="7652520" cy="274248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572080" y="644760"/>
              <a:ext cx="549000" cy="2061360"/>
            </a:xfrm>
            <a:prstGeom prst="bentConnector3">
              <a:avLst>
                <a:gd name="adj1" fmla="val 138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1" idx="2"/>
            </p:cNvCxnSpPr>
            <p:nvPr/>
          </p:nvCxnSpPr>
          <p:spPr>
            <a:xfrm flipH="1" flipV="1" rot="5400000">
              <a:off x="3511800" y="645480"/>
              <a:ext cx="549000" cy="2060280"/>
            </a:xfrm>
            <a:prstGeom prst="bentConnector3">
              <a:avLst>
                <a:gd name="adj1" fmla="val 138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1" name="_s1030"/>
            <p:cNvSpPr/>
            <p:nvPr/>
          </p:nvSpPr>
          <p:spPr>
            <a:xfrm>
              <a:off x="3050280" y="304920"/>
              <a:ext cx="353196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Virsu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1"/>
            <p:cNvSpPr/>
            <p:nvPr/>
          </p:nvSpPr>
          <p:spPr>
            <a:xfrm>
              <a:off x="990720" y="1950480"/>
              <a:ext cx="353196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rboviru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2"/>
            <p:cNvSpPr/>
            <p:nvPr/>
          </p:nvSpPr>
          <p:spPr>
            <a:xfrm>
              <a:off x="5111280" y="1950480"/>
              <a:ext cx="353196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unyaviru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ll ar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osquito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or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15"/>
          <p:cNvSpPr/>
          <p:nvPr/>
        </p:nvSpPr>
        <p:spPr>
          <a:xfrm>
            <a:off x="5519880" y="3429000"/>
            <a:ext cx="2981160" cy="1143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ndfly f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ft valley f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amean –Congo f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914400" y="3429000"/>
            <a:ext cx="1963800" cy="106668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ga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encephal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1862280" y="304812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3149640" y="3429000"/>
            <a:ext cx="1760400" cy="99072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ga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3827520" y="30481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304920" y="5181480"/>
            <a:ext cx="2913120" cy="1371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Mos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llow fever, Den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v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691080" y="5257800"/>
            <a:ext cx="3251160" cy="1143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i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ssian f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 Spring Summer f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 flipH="1">
            <a:off x="2268000" y="4419720"/>
            <a:ext cx="128772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4"/>
          <p:cNvSpPr/>
          <p:nvPr/>
        </p:nvSpPr>
        <p:spPr>
          <a:xfrm>
            <a:off x="3624120" y="4419720"/>
            <a:ext cx="128592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6738840" y="30481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ngu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types :Has 4 serotypes (DEN-1, 2, 3,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s dengue and dengue hemorrhagic 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n arbo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mitted by mosqui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ed of single-stranded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43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ngue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89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serotype provides specific lifetime immunity, and short-term cross-i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serotypes can cause severe and fata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tic variation within ser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genetic variants within each serotype appear to be more virulent or have greater epidemic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SC</dc:creator>
  <dc:description/>
  <dc:language>en-US</dc:language>
  <cp:lastModifiedBy>SSC</cp:lastModifiedBy>
  <dcterms:modified xsi:type="dcterms:W3CDTF">2012-11-12T20:05:5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