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mamentari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pressure typ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e is measu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omes tissue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ridge is prot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pressure typ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inject too rapi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-like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10287000" cy="6792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10287000" cy="614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-11160"/>
            <a:ext cx="9448920" cy="682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8440"/>
            <a:ext cx="7239240" cy="679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480"/>
            <a:ext cx="8762760" cy="684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jet inject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sharp”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vers small volu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in lieu of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jet inject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lt” of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for pulpal or regional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damage periodontal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disposable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ile, no chance of cross 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ypes of Syrin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us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ech-loading, metal, aspirating,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ech-loading, plastic, aspirating,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ech-loading, metal, self-aspi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t inj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pos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fety”  syri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dispos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use dental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aspirate single-hande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kward to use intrao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safety syrin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os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cover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safety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s awkward during learn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ringe Maintena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sh harpoon, clean syringe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clave after each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row out needle ada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pen or replace harpoon period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inless St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i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-Platinum all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ntenance proble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face depo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l or bent harp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 w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 Need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ringe ada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ringe-penetrating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au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of the diameter of the needle’s 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number is inversely proportional to the di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 dental needle guages are 25,27, &amp; 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ngth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- approximately 40mm or 1 5/8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- approximately 25 mm or 1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Handl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pt. use, change after several inje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 between uses, dispose of in “sharps”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for barbs if pain on withdraw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force against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ver insert a needle to the h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A Criter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ble, able to withstand steri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 wide variety of cartridges &amp;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, easy to use, lightweight, self-contained, and inexpe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and easily visualized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s related to improper us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on inse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on withdraw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brea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stick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size vs. comfo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cannot differentiate between 23, 25, 27, or 30 guage need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mburg, H. L.   1972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 of larger need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def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chance for brea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reliable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65280" y="0"/>
            <a:ext cx="5353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rtridge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8 cc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tu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bber sto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cap with diaphra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7640"/>
            <a:ext cx="8305560" cy="682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ts of Cartrid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rvative for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chlo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illed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servative for Vasoconstrict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dium Bisulf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antioxidant (bur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s shelf life to aprox. 8 m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andling of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cla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d in alcohol or disinfec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pt in original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pt in dark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andling of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ed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ridge war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ilization prior to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y wipe with alcohol if not in original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reusable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handed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clavable and rust-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ble with proper mainte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s with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bble in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- N2 which is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(&gt;2mm) - free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uded sto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zing, or uptake of holding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s with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ing on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response to pH of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to preser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usion of holding solu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warmed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s with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kage during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centric penetration of diaphra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per sti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re, may be co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heck that needle has penetrated diaphrag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s with Cartrid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osion - cold sterilizing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t - leakage in contai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ken cart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gh  ha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force to engage harp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itional Armamentari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 antiseptic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tton tip applic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a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10287000" cy="55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25560" y="0"/>
            <a:ext cx="48358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paration of Armamentariu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ading the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00080"/>
            <a:ext cx="9829800" cy="665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reus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of cross-infection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per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10287000" cy="67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10287000" cy="67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10287000" cy="678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taching the Need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10287000" cy="644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19000"/>
            <a:ext cx="10287000" cy="522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capping the Need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op” 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10287000" cy="662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10287000" cy="662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nloading the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028700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10287000" cy="58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10287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9753480" cy="677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Sti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void by capping needle when not in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fy employ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samples from pt. and person expo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evaluation - consider Hep B vaccination or other prophylactic cover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 - plast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t 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 - plasti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iorates with repeated autocla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of cross-infection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per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lf-aspirating Syrin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ier to aspirate with small h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indic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ling of in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ger must be m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5T11:25:26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6T20:49:08Z</dcterms:modified>
  <cp:revision>50</cp:revision>
  <dc:subject/>
  <dc:title>Armamentarium</dc:title>
</cp:coreProperties>
</file>