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734-B668-4CFA-BBC9-86D686A4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33B-9E5C-465D-8628-613EAC0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33E-5F8B-420A-ADDE-071B61D6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A15-4B3D-4C7E-8D12-4661841C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5F1-6AA6-4BCD-AE4D-88498540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1905-C441-4D84-885F-AF5584A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6691-A0CC-46B7-B15A-A25ADE3A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8A38-B987-47F4-8059-FA8022F2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7677-BF6D-4468-B2F3-A4BD7162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DBC-E625-4B15-AD28-19AB28C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F690-7CF9-458F-AF91-5D8DBD4E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10D-CCB3-43EB-8648-ABEFFAB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DA63-DE80-49F9-835D-6750020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C19D-6C76-4000-9DC1-96D0E42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49C3-FA1A-496C-AFC1-7D6C69CF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61F3-8DDF-439E-8CCE-9DB90EF7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5373-C0E3-4A5B-9B41-AD4B3886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5D7-0F97-4882-904F-0D5D7D06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3DA-A942-4415-9780-B1D6B881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0EB-CE42-407A-B12D-7398CC0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206-258A-4CEA-8F95-C2A631E2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D67-D82C-4A67-B3FB-5D113459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84F-6176-4EFD-A4C1-F76CC82E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C73-42DE-4BD0-9A69-AABA5A0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9E2-2071-42FE-94C2-23E5E645BFF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E6CE-97AB-4156-A3C9-265312FEA859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scending pathway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912000" cy="6351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33440" y="476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MEDIAL 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9800" y="47628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ERAL 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04160" y="25844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1080" y="2349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0520" y="3789360"/>
            <a:ext cx="14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Tectosp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71240" y="52293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bro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520" y="393372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sti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960" y="479736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Vestibulo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3440" y="270828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4160" y="42400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Reticulo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edial BSP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Vestibulosp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+L)  - ipsilat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tes in the vestibular nuclei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lance and postur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eticulosp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+L) – ipsilat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tes in reticular formation nucl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itation &amp; inhibition of INs and M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of pos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s cortical and vestibular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tico-reticulospinal pathways (M1 + PM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ectosp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contralt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tes from the sup. Collicu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ye-head coordin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ly INs + long PNs in the ventromedial part of I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teral BSP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brospinal tract – contralat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s from the magnocellular part of 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importance in higher prim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edial vs. lateral BSP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l BS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logenetically ol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 &amp; posture control via proximal+distal mus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termination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al BS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moto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ing &amp; object manipulation via distal muscul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overtaken by motor cortical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minergic BSP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the excitability of spinal neu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uleospinal syste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us ceruleos + pontinemedullary reticular 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end via ventral part of lateral col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phe-spinal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rotonin (5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he nucle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end via ventral + lateral colum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minergic BSP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ons reach the intermediate zone and motor nucl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neurons sends multiple collaterals which may span the entire 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aphespinal system modulate sensory transmission in the dorsal hor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yramidal trac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2320" y="1905120"/>
            <a:ext cx="8131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and precise motor actions depends on motor cortical sign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 cortical areas affect motor output v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corticospinal pathways (1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cortex-brainstem-spinal pathways (19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– CRetS, C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f the cortical command is further processed in subcortical-supraspinal cen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ructure of the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orphology of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430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% of fibers from frontal lobe (motor are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% of fibers from parietal lobe (sensory are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5% contralateral – dorsolateral column – lateral C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% ipsilateral – ventral column – ventral C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664240" y="2017800"/>
          <a:ext cx="277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4240" y="2017800"/>
                    <a:ext cx="277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36800" y="1320840"/>
            <a:ext cx="4992480" cy="4943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16360" y="549360"/>
            <a:ext cx="2281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ticosp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49360"/>
            <a:ext cx="2755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rticosp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08800" y="4816440"/>
            <a:ext cx="2514600" cy="457200"/>
          </a:xfrm>
          <a:prstGeom prst="wedgeRectCallout">
            <a:avLst>
              <a:gd name="adj1" fmla="val -86680"/>
              <a:gd name="adj2" fmla="val -39930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amidal decus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80200" y="3978360"/>
            <a:ext cx="1676520" cy="457200"/>
          </a:xfrm>
          <a:prstGeom prst="wedgeRectCallout">
            <a:avLst>
              <a:gd name="adj1" fmla="val -83615"/>
              <a:gd name="adj2" fmla="val -168750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 nucl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4206960"/>
            <a:ext cx="1676520" cy="685800"/>
          </a:xfrm>
          <a:prstGeom prst="wedgeRectCallout">
            <a:avLst>
              <a:gd name="adj1" fmla="val 127462"/>
              <a:gd name="adj2" fmla="val 3703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l brain stem path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5273640"/>
            <a:ext cx="1676520" cy="685800"/>
          </a:xfrm>
          <a:prstGeom prst="wedgeRectCallout">
            <a:avLst>
              <a:gd name="adj1" fmla="val 137027"/>
              <a:gd name="adj2" fmla="val -23611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ico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5120" y="5578560"/>
            <a:ext cx="2514600" cy="457200"/>
          </a:xfrm>
          <a:prstGeom prst="wedgeRectCallout">
            <a:avLst>
              <a:gd name="adj1" fmla="val -97601"/>
              <a:gd name="adj2" fmla="val -74652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 cortico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586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otor contro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levels of motor cont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in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ebral cortex (motor &lt;- premo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centers are arranged in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ierarch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n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56536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rtical origin of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34544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rtical origin of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yramidal cells in layer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M1 these are giant cells (Betz cell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M these cells are sm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4065480" cy="5084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8546600">
            <a:off x="5939280" y="2493360"/>
            <a:ext cx="144720" cy="863640"/>
          </a:xfrm>
          <a:prstGeom prst="downArrow">
            <a:avLst>
              <a:gd name="adj1" fmla="val 50000"/>
              <a:gd name="adj2" fmla="val 1491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rtical organization of PT neuron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40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cellular recording of MNs and Ia-IN while stimulating M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atches project to single neu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cortical site project to multiple neu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ap between CS and CM projecting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SCLE COLO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145120" y="2178000"/>
            <a:ext cx="38098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ntral shift of CS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47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ticospinal and corticobulbar pathwaty appear first in mamm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higher mammals there is a dorsal-to-ventral shift of CST termin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sensory gating to motor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CM contact facilitate dexte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867280" y="1341360"/>
          <a:ext cx="32911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341360"/>
                    <a:ext cx="32911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mbryogenesis of CST: reduced overlap and synaptic clustering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3981600" cy="2620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3751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pinal termination of the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termination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ngle fiber probably innervates both INs and 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22478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39816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969080" cy="4282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scending pathway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N organiz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511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bodies organized into motor neuron pools – longitudal column spanning 1-4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xis of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roximal\dis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le: Proximal is med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lexor\exten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le: Flexors are dor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4811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03280" y="1844640"/>
          <a:ext cx="604836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N organiz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4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l INs follow MN proximal/distal organ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riospinal INs have axonal distribution that reflects their loc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l -&gt; l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al -&gt; sh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148360" y="1773360"/>
          <a:ext cx="399564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99564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rthogonal organization of INs vs. MN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3389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ainstem pathways  (BSP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descending sys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ahoma"/>
              </a:rPr>
              <a:t>Medi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ches ventromedial part of I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oximal &amp; axial muscul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ter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rsolateral part of I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istal musc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inerg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road, diffuse innervation of S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2:39:48Z</dcterms:created>
  <dc:creator>Yifat</dc:creator>
  <dc:description/>
  <dc:language>en-US</dc:language>
  <cp:lastModifiedBy>ZonaNet</cp:lastModifiedBy>
  <dcterms:modified xsi:type="dcterms:W3CDTF">2008-05-02T00:23:39Z</dcterms:modified>
  <cp:revision>75</cp:revision>
  <dc:subject/>
  <dc:title>Voluntary movements</dc:title>
</cp:coreProperties>
</file>