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AFC-88B2-4BE9-86F6-27795796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567-39D3-460E-A671-C50499AF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DDA-8EFE-4CBC-A5D0-4EF977F9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7B6-B5EA-4EA6-9954-72F199EC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F521-1CD3-4303-8AD2-61BFE6DD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67D3-B77F-4F2C-90AA-98566E9A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160C-B068-47A7-8CF8-535021B8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3954-B8DE-415A-8976-6218B097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78D3-FD78-4145-B2EF-26A8D732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E0C9-1BD4-4D1C-85C1-1C19088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173E-FDC2-4F6F-BAF9-80462145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A8B-DFE4-45CF-BD25-DFE91F29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0639-636E-411E-A2B4-9410AFF0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CB12-1FAA-4E42-8402-5BBFBF46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AFC4-E24F-416A-A4BC-E510F612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D1AF-5CF4-44CF-AA09-14B0C4C3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68C1-6FF8-495F-A638-5878FE51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90A-3BC1-46E8-BE1C-8DD65EBE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B95-D038-46A2-B30A-091E4B37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FCE-815B-4D02-A833-5B4220B2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D39-5ED7-491C-9A78-A40FCF6A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9CC-4B19-43CA-846E-1BBE7808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49C-C2D0-485E-B791-023AB19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782-237F-41E7-97F9-DEE90D97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0716-AAF1-4D58-BB5C-23A00203F92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28FA-8D67-49BA-A5C5-2C28F697B117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scending pathway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6912000" cy="6351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33440" y="4762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MEDIAL 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9800" y="47628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ERAL 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04160" y="25844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1080" y="2349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0520" y="3789360"/>
            <a:ext cx="14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Tectosp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71240" y="52293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ubro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8520" y="393372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sti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960" y="479736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Vestibulo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3440" y="2708280"/>
            <a:ext cx="11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4160" y="42400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Reticulo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edial BSP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Vestibulosp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+L)  - ipsilat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ginates in the vestibular nuclei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lance and postur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Reticulosp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+L) – ipsilat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ginates in reticular formation nucle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itation &amp; inhibition of INs and M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 of pos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s cortical and vestibular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tico-reticulospinal pathways (M1 + PM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ectosp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contralte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ginates from the sup. Collicu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ye-head coordin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ly INs + long PNs in the ventromedial part of I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teral BSP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brospinal tract – contralat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s from the magnocellular part of 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importance in higher prim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edial vs. lateral BSP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l BS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logenetically ol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 &amp; posture control via proximal+distal mus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termination fie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al BS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moto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ing &amp; object manipulation via distal muscula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overtaken by motor cortical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minergic BSP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the excitability of spinal neur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uleospinal syste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us ceruleos + pontinemedullary reticular 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end via ventral part of lateral colum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phe-spinal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rotonin (5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he nucle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end via ventral + lateral colum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minergic BSP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xons reach the intermediate zone and motor nucl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neurons sends multiple collaterals which may span the entire 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aphespinal system modulate sensory transmission in the dorsal hor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yramidal trac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2320" y="1905120"/>
            <a:ext cx="8131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and precise motor actions depends on motor cortical sign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or cortical areas affect motor output v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corticospinal pathways (1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cortex-brainstem-spinal pathways (19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– CRetS, C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of the cortical command is further processed in subcortical-supraspinal cen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ructure of the 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orphology of 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430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% of fibers from frontal lobe (motor are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% of fibers from parietal lobe (sensory are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5% contralateral – dorsolateral column – lateral C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% ipsilateral – ventral column – ventral C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664240" y="2017800"/>
          <a:ext cx="277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4240" y="2017800"/>
                    <a:ext cx="277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36800" y="1320840"/>
            <a:ext cx="4992480" cy="4943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16360" y="549360"/>
            <a:ext cx="2281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rticosp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49360"/>
            <a:ext cx="2755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orticosp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08800" y="4816440"/>
            <a:ext cx="2514600" cy="457200"/>
          </a:xfrm>
          <a:prstGeom prst="wedgeRectCallout">
            <a:avLst>
              <a:gd name="adj1" fmla="val -86680"/>
              <a:gd name="adj2" fmla="val -39930"/>
            </a:avLst>
          </a:prstGeom>
          <a:solidFill>
            <a:srgbClr val="ffffff"/>
          </a:solidFill>
          <a:ln w="3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amidal decus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80200" y="3978360"/>
            <a:ext cx="1676520" cy="457200"/>
          </a:xfrm>
          <a:prstGeom prst="wedgeRectCallout">
            <a:avLst>
              <a:gd name="adj1" fmla="val -83615"/>
              <a:gd name="adj2" fmla="val -168750"/>
            </a:avLst>
          </a:prstGeom>
          <a:solidFill>
            <a:srgbClr val="ffffff"/>
          </a:solidFill>
          <a:ln w="3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 nucle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8000" y="4206960"/>
            <a:ext cx="1676520" cy="685800"/>
          </a:xfrm>
          <a:prstGeom prst="wedgeRectCallout">
            <a:avLst>
              <a:gd name="adj1" fmla="val 127462"/>
              <a:gd name="adj2" fmla="val 3703"/>
            </a:avLst>
          </a:prstGeom>
          <a:solidFill>
            <a:srgbClr val="ffffff"/>
          </a:solidFill>
          <a:ln w="3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l brain stem path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5273640"/>
            <a:ext cx="1676520" cy="685800"/>
          </a:xfrm>
          <a:prstGeom prst="wedgeRectCallout">
            <a:avLst>
              <a:gd name="adj1" fmla="val 137027"/>
              <a:gd name="adj2" fmla="val -23611"/>
            </a:avLst>
          </a:prstGeom>
          <a:solidFill>
            <a:srgbClr val="ffffff"/>
          </a:solidFill>
          <a:ln w="3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ticosp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85120" y="5578560"/>
            <a:ext cx="2514600" cy="457200"/>
          </a:xfrm>
          <a:prstGeom prst="wedgeRectCallout">
            <a:avLst>
              <a:gd name="adj1" fmla="val -97601"/>
              <a:gd name="adj2" fmla="val -74652"/>
            </a:avLst>
          </a:prstGeom>
          <a:solidFill>
            <a:srgbClr val="ffffff"/>
          </a:solidFill>
          <a:ln w="3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ral corticosp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586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otor control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levels of motor contro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in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ebral cortex (motor &lt;- premo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centers are arranged in bo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ierarch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nn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56536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rtical origin of 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34544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rtical origin of 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yramidal cells in layer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M1 these are giant cells (Betz cell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M these cells are sm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4065480" cy="5084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8546600">
            <a:off x="5939280" y="2493360"/>
            <a:ext cx="144720" cy="863640"/>
          </a:xfrm>
          <a:prstGeom prst="downArrow">
            <a:avLst>
              <a:gd name="adj1" fmla="val 50000"/>
              <a:gd name="adj2" fmla="val 14919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rtical organization of PT neuron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40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acellular recording of MNs and Ia-IN while stimulating M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atches project to single neu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cortical site project to multiple neu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lap between CS and CM projecting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SCLE COLO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145120" y="2178000"/>
            <a:ext cx="38098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ntral shift of CS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47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ticospinal and corticobulbar pathwaty appear first in mamm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higher mammals there is a dorsal-to-ventral shift of CST termin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sensory gating to motor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CM contact facilitate dexte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867280" y="1341360"/>
          <a:ext cx="32911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341360"/>
                    <a:ext cx="32911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mbryogenesis of CST: reduced overlap and synaptic clustering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3981600" cy="2620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3751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pinal termination of the 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termination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ngle fiber probably innervates both INs and 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96000" y="1773360"/>
            <a:ext cx="22478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39816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4969080" cy="4282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scending pathway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N organiz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511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bodies organized into motor neuron pools – longitudal column spanning 1-4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xis of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roximal\dis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ule: Proximal is med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lexor\extens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ule: Flexors are dor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72360" y="1700280"/>
            <a:ext cx="24811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03280" y="1844640"/>
          <a:ext cx="6048360" cy="43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604836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IN organiz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4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l INs follow MN proximal/distal organ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riospinal INs have axonal distribution that reflects their loc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l -&gt; lo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al -&gt; sh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148360" y="1773360"/>
          <a:ext cx="399564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773360"/>
                    <a:ext cx="399564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rthogonal organization of INs vs. MNs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3389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rainstem pathways  (BSP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descending syst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ahoma"/>
              </a:rPr>
              <a:t>Medi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ches ventromedial part of I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roximal &amp; axial muscula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ater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rsolateral part of I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istal musc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inerg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road, diffuse innervation of S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2:39:48Z</dcterms:created>
  <dc:creator>Yifat</dc:creator>
  <dc:description/>
  <dc:language>en-US</dc:language>
  <cp:lastModifiedBy>ZonaNet</cp:lastModifiedBy>
  <dcterms:modified xsi:type="dcterms:W3CDTF">2008-05-02T00:23:39Z</dcterms:modified>
  <cp:revision>75</cp:revision>
  <dc:subject/>
  <dc:title>Voluntary movements</dc:title>
</cp:coreProperties>
</file>