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4A6F-9A86-4948-9E8D-131AA89B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E66-321C-45DF-A2D3-C62B3687C3BB}" type="slidenum">
              <a:rPr b="0" lang="en-US" sz="12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7C5-C659-416C-B75A-ED2C5E5F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3A1-C96F-4140-8B6D-F02B6EF9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498-C9FF-4AE5-AF90-7DFA0083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38B-CD97-4DF9-AD5F-FB8B759C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74D-8E82-469F-89E0-9E70DB67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234-D7A4-46CC-AB1B-1E0BDDB6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6B0-9890-4B80-B869-0CE5F0B0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93C-A0EB-4DF3-9D95-EFFF6C7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DFB-33EC-41F7-83FB-7B14689F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861-EB34-4337-A603-A7F12C66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591-EBF1-42F8-AD99-54E46D02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359-F1CA-44F1-90EF-984F9D15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9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F43A-7BCF-45FA-9AFB-02F4BEA6B470}" type="slidenum">
              <a:rPr b="0" lang="ar-SA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ub-images.webct.com/resources/africa/saud_102_128.gif&amp;imgrefurl=http://www.webct.com/africa/viewpage%3Fname%3Dafrica_selected_customers&amp;h=128&amp;w=102&amp;sz=10&amp;hl=en&amp;start=57&amp;tbnid=9B_te-sLXeqshM:&amp;tbnh=91&amp;tbnw=73&amp;prev=/images%3Fq%3DKing%2BSaud%2BUniversity%26start%3D40%26ndsp%3D20%26svnum%3D10%26hl%3Den%26lr%3D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ING AND VALIDATION OF AN ARABIC VERSION OF THE VISUAL FUNCTIONING INDEX VF14 FOR CATARACT PATIE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dulrahman Al-Muammar, MD, FRCSC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King Abdul Aziz University Hospita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llege of Medici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King Saud Universit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r Ahmed Mous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r Hatem Kalant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r Ali Alghamdi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1" name="Picture 18" descr="saud_102_1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45720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kauh bldng 1  01"/>
          <p:cNvPicPr/>
          <p:nvPr/>
        </p:nvPicPr>
        <p:blipFill>
          <a:blip r:embed="rId3"/>
          <a:stretch/>
        </p:blipFill>
        <p:spPr>
          <a:xfrm>
            <a:off x="380880" y="441972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taract medical forms were filled by an ophthalmologi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nellen’s visual acu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obal measure of vi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taract symptoms scor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Arabic VF 14 questionnaire was done by an ophthalmic technicia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Scoring of the 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5159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VF 14 index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5159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Global measure of vision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5159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Cataract symptoms score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Testing validity using Pearson correlation test between the VF 14 and three international standardized tools: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lobal measure of vis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taract symptoms scor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nellen’s visual acuity LogMAR scor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Testing reliability using Cronbach’s Alpha test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380 patients representing four hospitals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in Egyp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in Saudi Arab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ean (SD) age : 63.41 (11.19)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840 (60.9%) m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540 (39.1%) fem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rabic VF Score: mean (SD) = 62.18 (19.34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7" name="Chart 3"/>
          <p:cNvGraphicFramePr/>
          <p:nvPr/>
        </p:nvGraphicFramePr>
        <p:xfrm>
          <a:off x="5927760" y="2666880"/>
          <a:ext cx="1947960" cy="2502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78" name="Char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27760" y="2666880"/>
                    <a:ext cx="19479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ION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rrelation with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taract Symptoms Score.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 &lt; 0.00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obal measure of vision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ouble index.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 &lt; 0.00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issatisfaction index.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 &lt; 0.00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isual Acuity (LogMAR)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 &lt; 0.00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T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ronbach’s </a:t>
            </a:r>
            <a:r>
              <a:rPr b="0" lang="el-GR" sz="3200" spc="-1" strike="noStrike">
                <a:solidFill>
                  <a:srgbClr val="ffff99"/>
                </a:solidFill>
                <a:latin typeface="Arial"/>
              </a:rPr>
              <a:t>α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est: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ffff99"/>
                </a:solidFill>
                <a:latin typeface="Arial"/>
              </a:rPr>
              <a:t>α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 = 0.763, 95% CI: [0.743 – 0.782]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P value &lt; 0.0001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OF VF 14 INDEX AT LEVELS OF VISUAL AC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Chart 3"/>
          <p:cNvGraphicFramePr/>
          <p:nvPr/>
        </p:nvGraphicFramePr>
        <p:xfrm>
          <a:off x="2001960" y="2284560"/>
          <a:ext cx="513864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960" y="2284560"/>
                    <a:ext cx="51386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Arabic VF 14 is a reliable and valid tool for evaluation of both visual functioning and quality of visual life among cataract patients who are being prepared for cataract surgery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VF 14 can be used in evaluating visual functioning as an outcome of surgical intervention either in cataract or in other ocular diseas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t can be also used in decision making process for surgical interventions and for prioritization of surgical waiting lis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rabic VF 14 would facilitate comparing and contrast research results with similar results worldwide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191120" cy="27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rationale for developing this index was the need for a tool that can accurately measure the outcome of cataract surgeries whereas visual acuity was found to be an incomplete measure to do th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It has been first developed by Earl P. Steinberg in the early ninet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Earl P. Steinberg et al (1994)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index has been widely accepted and utilized in different purposes including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easuring the impact of  ocular diseases on vis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stimation of need for cataract surgery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valuation and comparison of different surgical techniques related to visual functioning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taract outcome assessmen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VF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The index has been used to support research in: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Glaucom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Retin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Corne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Macular degenerat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Low vis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Prevention of blindnes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In different language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African reg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French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Germa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Chines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Italia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Spanish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RACT AS A CAUSE OF LOW VISION AND BLIN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Chart 3"/>
          <p:cNvGraphicFramePr/>
          <p:nvPr/>
        </p:nvGraphicFramePr>
        <p:xfrm>
          <a:off x="2039760" y="1295280"/>
          <a:ext cx="536760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295280"/>
                    <a:ext cx="53676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9"/>
          <p:cNvSpPr/>
          <p:nvPr/>
        </p:nvSpPr>
        <p:spPr>
          <a:xfrm>
            <a:off x="457200" y="5029200"/>
            <a:ext cx="8229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52.2 million inhabitants are blind from cataract in the middle east region.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O report (2004)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ue to the large number of  Arabic speaking countries who are around 300,000,000 inhabitants and dramatic increase in ocular science research in the Arabic region, there is a tremendous need to develop and validate a reliable Arabic version of the VF 14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ENTIAL STEPS OF VALIDA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original VF 14 questionnaire was solely translated into Arabic language by two different ocular research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two version were matched and unifi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new Arabic questionnaire was translated back to English by a third researcher (ophthalmologist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ative English speaker researcher was asked to match the original and the re-translated vers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inimal modifications took place by the research team to formulate a final version of the Arabic VF 1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012000" y="12600"/>
            <a:ext cx="3168360" cy="684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987640" y="0"/>
            <a:ext cx="3024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0" y="-27000"/>
            <a:ext cx="298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21:00:31Z</dcterms:created>
  <dc:creator>ABDULRAHMAN AL-MUAMMAR</dc:creator>
  <dc:description/>
  <dc:language>en-US</dc:language>
  <cp:lastModifiedBy>Safa</cp:lastModifiedBy>
  <dcterms:modified xsi:type="dcterms:W3CDTF">2015-12-28T08:55:25Z</dcterms:modified>
  <cp:revision>301</cp:revision>
  <dc:subject/>
  <dc:title>REFRACTIVE SURGERY</dc:title>
</cp:coreProperties>
</file>