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248520"/>
            <a:ext cx="48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eb9c"/>
                </a:solidFill>
                <a:latin typeface="Arial"/>
              </a:rPr>
              <a:t>Myers Exp. Psychology      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Developing Person 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I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Different Perspectives on Developmen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II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Developmental Processes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III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Cognitive Dvm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IV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Social and Emotional Developmen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V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Moral Dvm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VI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Erikson's Lifespan Developmen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VII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Language Developmen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iaget’s Stages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Stages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Sensorimotor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 (0-2)-senses  &amp; actions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-object permanence, stranger anxiety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2.</a:t>
            </a: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Pre-Operational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 (2-7)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-egocentrism, no conservation, -centration, animistic thinking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3.</a:t>
            </a: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Concrete Operational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 (7-12)-reversible actions, mathematical transformations, conservation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4.</a:t>
            </a: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eeb9c"/>
                </a:solidFill>
                <a:latin typeface="Times New Roman"/>
              </a:rPr>
              <a:t>Formal Operations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 (12+)-true logic, abstract reasoning, algebra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IV. Social and Emotional Developmen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b9c"/>
                </a:solidFill>
                <a:latin typeface="Times New Roman"/>
              </a:rPr>
              <a:t>Harry Harlow’s studies</a:t>
            </a:r>
            <a:endParaRPr b="1" lang="en-US" sz="3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b9c"/>
                </a:solidFill>
                <a:latin typeface="Times New Roman"/>
              </a:rPr>
              <a:t>Temperament (Kagan)</a:t>
            </a:r>
            <a:endParaRPr b="1" lang="en-US" sz="3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b9c"/>
                </a:solidFill>
                <a:latin typeface="Times New Roman"/>
              </a:rPr>
              <a:t>Thomas &amp; Chess-3 styles </a:t>
            </a:r>
            <a:endParaRPr b="1" lang="en-US" sz="32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b9c"/>
                </a:solidFill>
                <a:latin typeface="Times New Roman"/>
              </a:rPr>
              <a:t>Difficult, easy, slow-to-warm-up</a:t>
            </a:r>
            <a:endParaRPr b="1" lang="en-US" sz="3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b9c"/>
                </a:solidFill>
                <a:latin typeface="Times New Roman"/>
              </a:rPr>
              <a:t>Bowlby, Harlow, Ainsworth</a:t>
            </a:r>
            <a:endParaRPr b="1" lang="en-US" sz="32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1.</a:t>
            </a: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Attachment Theory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A.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Bowlby’s idea</a:t>
            </a:r>
            <a:endParaRPr b="1" lang="en-US" sz="4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B.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Harlow’s idea of contact 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comfort</a:t>
            </a:r>
            <a:endParaRPr b="1" lang="en-US" sz="4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C.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Mary Ainsworth’s “Strange 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Situation” 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and attachment 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eeb9c"/>
                </a:solidFill>
                <a:latin typeface="Times New Roman"/>
              </a:rPr>
              <a:t>styles</a:t>
            </a:r>
            <a:endParaRPr b="1" lang="en-US" sz="4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Ainsworth’s Attachmen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The Strange Situation Methodology based on </a:t>
            </a:r>
            <a:r>
              <a:rPr b="1" i="1" lang="en-US" sz="3000" spc="-1" strike="noStrike">
                <a:solidFill>
                  <a:srgbClr val="feeb9c"/>
                </a:solidFill>
                <a:latin typeface="Times New Roman"/>
              </a:rPr>
              <a:t>Stranger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eeb9c"/>
                </a:solidFill>
                <a:latin typeface="Times New Roman"/>
              </a:rPr>
              <a:t>Separation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 Anxiety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eeb9c"/>
                </a:solidFill>
                <a:latin typeface="Times New Roman"/>
              </a:rPr>
              <a:t>3 Primary styles: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1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Secure (56%)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2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Insecure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Type A:  Anxious-Avoidant (25%)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Type C: Anxious-Resistant/ambivalent 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(19%)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More attachment...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eeb9c"/>
                </a:solidFill>
                <a:latin typeface="Times New Roman"/>
              </a:rPr>
              <a:t>A 4th Attachment style:  Disorganized/Disoriented</a:t>
            </a:r>
            <a:endParaRPr b="1" lang="en-US" sz="45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eeb9c"/>
                </a:solidFill>
                <a:latin typeface="Times New Roman"/>
              </a:rPr>
              <a:t>Identified by Main &amp; Solomon (1990)</a:t>
            </a:r>
            <a:endParaRPr b="1" lang="en-US" sz="45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2.</a:t>
            </a: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Influence of Culture &amp; Gender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b9c"/>
                </a:solidFill>
                <a:latin typeface="Times New Roman"/>
              </a:rPr>
              <a:t>Collectivism and Individualism</a:t>
            </a:r>
            <a:endParaRPr b="1" lang="en-US" sz="4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b9c"/>
                </a:solidFill>
                <a:latin typeface="Times New Roman"/>
              </a:rPr>
              <a:t>Child-rearing</a:t>
            </a:r>
            <a:endParaRPr b="1" lang="en-US" sz="4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b9c"/>
                </a:solidFill>
                <a:latin typeface="Times New Roman"/>
              </a:rPr>
              <a:t>Gender</a:t>
            </a:r>
            <a:endParaRPr b="1" lang="en-US" sz="40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b9c"/>
                </a:solidFill>
                <a:latin typeface="Times New Roman"/>
              </a:rPr>
              <a:t>Social learning Theory</a:t>
            </a:r>
            <a:r>
              <a:rPr b="0" lang="en-US" sz="4000" spc="-1" strike="noStrike">
                <a:solidFill>
                  <a:srgbClr val="feeb9c"/>
                </a:solidFill>
                <a:latin typeface="Times New Roman"/>
              </a:rPr>
              <a:t>-Bandura</a:t>
            </a:r>
            <a:endParaRPr b="1" lang="en-US" sz="40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b9c"/>
                </a:solidFill>
                <a:latin typeface="Times New Roman"/>
              </a:rPr>
              <a:t>Gender Schema Theory</a:t>
            </a:r>
            <a:r>
              <a:rPr b="0" lang="en-US" sz="4000" spc="-1" strike="noStrike">
                <a:solidFill>
                  <a:srgbClr val="feeb9c"/>
                </a:solidFill>
                <a:latin typeface="Times New Roman"/>
              </a:rPr>
              <a:t>-Bem</a:t>
            </a:r>
            <a:endParaRPr b="1" lang="en-US" sz="4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V.  Moral Developmen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What’s different about adolescence?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b9c"/>
                </a:solidFill>
                <a:latin typeface="Times New Roman"/>
              </a:rPr>
              <a:t>Sexual maturity, transition, relationships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What is Morality?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b9c"/>
                </a:solidFill>
                <a:latin typeface="Times New Roman"/>
              </a:rPr>
              <a:t>A system of beliefs, values and underlying judgements about right and wrong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What is Moral Development?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b9c"/>
                </a:solidFill>
                <a:latin typeface="Times New Roman"/>
              </a:rPr>
              <a:t>Concerns rules and conventions about how people should behave in their interactions with others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Moral Developmen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Kohlberg’s Theory (1950’s)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Moral Dilemma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Moral reasoning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Carol Gilligan’s Two Voices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Voice of Justice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b9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Voice of Caring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Kohlberg’s Levels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Progressive stages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Levels and Stages: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Reason for moral behavior: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I.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Preconventional Morality-oneself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(before age 9)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Stage 1:  Pleasure/Pain orientation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Avoid pain or getting caught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Stage 2:  Cost/Benefit orientation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Achieve/receive rewards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reciprocity (eye for an eye)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II.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Conventional Morality-others/r-ships, society (early adolescence)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Stage 3:  "good child" orientation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Gain acceptance, avoid disapproval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Stage 4:  Law and order orientation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Follow rules, avoid penalties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II.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feeb9c"/>
                </a:solidFill>
                <a:latin typeface="Times New Roman"/>
              </a:rPr>
              <a:t>Postconventional (Principled) morality-universal principles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Stage 5:  Social contract orientation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Promote the welfare of one's society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Stage 6:  Ethical principle orientation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Achieve justice, avoid self-condemnation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Stage 7:  Cosmic orientation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BE true to universal principles; feel 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oneself part of a cosmic direction that 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eeb9c"/>
                </a:solidFill>
                <a:latin typeface="Times New Roman"/>
              </a:rPr>
              <a:t>transcends social norms</a:t>
            </a: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arenting Styles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Parenting styles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 u="sng">
                <a:solidFill>
                  <a:srgbClr val="feeb9c"/>
                </a:solidFill>
                <a:uFillTx/>
                <a:latin typeface="Times New Roman"/>
              </a:rPr>
              <a:t>-Baumrind-1971: 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A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Authoritarian: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  restrictive, punitive style 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Authoritative: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  encourages independence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C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Permissive Parenting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-permissive indulgen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-permissive neglectful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I.</a:t>
            </a: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ifferent Perspectives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eeb9c"/>
                </a:solidFill>
                <a:latin typeface="Times New Roman"/>
              </a:rPr>
              <a:t>Developmental psychology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-concerned with changes in physical/psychological functioning across lifespan (from conception)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Some Issues: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1. Nature vs. Nurture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2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Discontinuous vs Continuous theories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3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Stability/Change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I.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rikson’s Life-span Development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velopmental Research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Types</a:t>
            </a:r>
            <a:endParaRPr b="1" lang="en-US" sz="36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a.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normative investigations</a:t>
            </a:r>
            <a:endParaRPr b="1" lang="en-US" sz="36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b.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Longitudinal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c.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Cross-sectional</a:t>
            </a:r>
            <a:endParaRPr b="1" lang="en-US" sz="36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d.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eeb9c"/>
                </a:solidFill>
                <a:latin typeface="Times New Roman"/>
              </a:rPr>
              <a:t>Sequential</a:t>
            </a:r>
            <a:endParaRPr b="1" lang="en-US" sz="36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ata Collection Methods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2.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Data Collection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a.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feeb9c"/>
                </a:solidFill>
                <a:latin typeface="Times New Roman"/>
              </a:rPr>
              <a:t>habituation: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  decrease in response, 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habi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b.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feeb9c"/>
                </a:solidFill>
                <a:latin typeface="Times New Roman"/>
              </a:rPr>
              <a:t>dishabituation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:  responds to new 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stimulus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c.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also facial expressions, sucking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II.</a:t>
            </a: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Developmental Processes</a:t>
            </a:r>
            <a:br>
              <a:rPr sz="4400"/>
            </a:b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b9c"/>
                </a:solidFill>
                <a:latin typeface="Times New Roman"/>
              </a:rPr>
              <a:t>Physical development</a:t>
            </a: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eeb9c"/>
                </a:solidFill>
                <a:uFillTx/>
                <a:latin typeface="Times New Roman"/>
              </a:rPr>
              <a:t>Prenatal:</a:t>
            </a:r>
            <a:r>
              <a:rPr b="0" lang="en-US" sz="2400" spc="-1" strike="noStrike" u="sng">
                <a:solidFill>
                  <a:srgbClr val="feeb9c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eeb9c"/>
                </a:solidFill>
                <a:uFillTx/>
                <a:latin typeface="Times New Roman"/>
              </a:rPr>
              <a:t>	</a:t>
            </a:r>
            <a:endParaRPr b="1" lang="en-US" sz="2400" spc="-1" strike="noStrike">
              <a:solidFill>
                <a:srgbClr val="feeb9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eeb9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10 days after conception, attaches to uterine wall-then becomes embryo, 9 weeks-fetus</a:t>
            </a:r>
            <a:endParaRPr b="1" lang="en-US" sz="2400" spc="-1" strike="noStrike">
              <a:solidFill>
                <a:srgbClr val="feeb9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eeb9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b9c"/>
                </a:solidFill>
                <a:uFillTx/>
                <a:latin typeface="Times New Roman"/>
              </a:rPr>
              <a:t>teratogens</a:t>
            </a:r>
            <a:r>
              <a:rPr b="0" lang="en-US" sz="2400" spc="-1" strike="noStrike" u="sng">
                <a:solidFill>
                  <a:srgbClr val="feeb9c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  harmful agents, FAS, smoking, etc.--all can affect psychological dvmt</a:t>
            </a:r>
            <a:endParaRPr b="1" lang="en-US" sz="2400" spc="-1" strike="noStrike">
              <a:solidFill>
                <a:srgbClr val="feeb9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eeb9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heart beat at 3 wks, 1/6 inch long</a:t>
            </a:r>
            <a:endParaRPr b="1" lang="en-US" sz="2400" spc="-1" strike="noStrike">
              <a:solidFill>
                <a:srgbClr val="feeb9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eeb9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early as 6</a:t>
            </a:r>
            <a:r>
              <a:rPr b="0" lang="en-US" sz="2400" spc="-1" strike="noStrike" baseline="30000">
                <a:solidFill>
                  <a:srgbClr val="feeb9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 week-responses to stimulation</a:t>
            </a:r>
            <a:endParaRPr b="1" lang="en-US" sz="2400" spc="-1" strike="noStrike">
              <a:solidFill>
                <a:srgbClr val="feeb9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eeb9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feel movement at 17 weeks, 7 inches long</a:t>
            </a:r>
            <a:endParaRPr b="1" lang="en-US" sz="2400" spc="-1" strike="noStrike">
              <a:solidFill>
                <a:srgbClr val="feeb9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eeb9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b9c"/>
                </a:solidFill>
                <a:latin typeface="Times New Roman"/>
              </a:rPr>
              <a:t>sex vs. gender</a:t>
            </a:r>
            <a:endParaRPr b="1" lang="en-US" sz="2400" spc="-1" strike="noStrike">
              <a:solidFill>
                <a:srgbClr val="feeb9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eeb9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gender determined at 8 wks</a:t>
            </a:r>
            <a:r>
              <a:rPr b="0" lang="en-US" sz="24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Newborn developmen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brain mass increases 50% by 2 yrs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80% next 2 yrs, levels off at 11 yrs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tendencies such as temperament</a:t>
            </a: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mostly reflexes:  rooting, grasping, 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b9c"/>
                </a:solidFill>
                <a:latin typeface="Times New Roman"/>
              </a:rPr>
              <a:t>babinski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Newborn developmen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b9c"/>
                </a:solidFill>
                <a:latin typeface="Times New Roman"/>
              </a:rPr>
              <a:t>Sensory dvmt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prefer female voice at birth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prefer mother's voice at few weeks-turn head to voice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newborn legally blind 20/500, receptors still forming connections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1 day old-sight, 1/10 inch, 2 months, 1/20 in, 8 mos, 1/80 in, </a:t>
            </a: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6 yr/us-1/300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1 mo, recognize shape of person's head, 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7 wks, facial features detect person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2 mos. color-white, red, orange, blue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3 mos-depth perception, not fully developed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depth perception, visual cliff-crawling at 6-9 mos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12 hours old, distinguishes sweet (sugar) taste from sour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also bad smells they don't like-rotten egg, etc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b9c"/>
                </a:solidFill>
                <a:latin typeface="Times New Roman"/>
              </a:rPr>
              <a:t>learn mothers odor in 3 days</a:t>
            </a:r>
            <a:endParaRPr b="1" lang="en-US" sz="18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b9c"/>
                </a:solidFill>
                <a:latin typeface="Times New Roman"/>
              </a:rPr>
              <a:t>C.</a:t>
            </a:r>
            <a:r>
              <a:rPr b="1" lang="en-US" sz="4400" spc="-1" strike="noStrike">
                <a:solidFill>
                  <a:srgbClr val="feeb9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b9c"/>
                </a:solidFill>
                <a:latin typeface="Times New Roman"/>
              </a:rPr>
              <a:t>Maturation-typical of species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4678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III. Cognitive Developmen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Jean Piaget, Swiss Psychologist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Schemes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Assimilation &amp; Accommodation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eeb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b9c"/>
                </a:solidFill>
                <a:latin typeface="Times New Roman"/>
              </a:rPr>
              <a:t>Conservation</a:t>
            </a: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eb9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6:00:04Z</dcterms:created>
  <dc:creator>KMR</dc:creator>
  <dc:description/>
  <dc:language>en-US</dc:language>
  <cp:lastModifiedBy>Celeste Gaia</cp:lastModifiedBy>
  <dcterms:modified xsi:type="dcterms:W3CDTF">2004-03-16T17:21:54Z</dcterms:modified>
  <cp:revision>64</cp:revision>
  <dc:subject/>
  <dc:title>The Study of Human Development</dc:title>
</cp:coreProperties>
</file>