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D57-57D2-4B54-A0D5-DADAF0F6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FA4-6FFD-474F-BBA8-A92EEBCE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C07-4F2B-4CBB-8C7F-3C74EE10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646-D7FD-4B78-9C08-516DF055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699-FE54-4C9C-8DC3-78BA9D2F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356-040E-42D7-A27D-7CE7904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FCD-EC49-401D-A203-2CE7C033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E0F-0D77-45A5-AAFB-D6C48DED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CF8-4115-4E71-8F15-6F74527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A22-BE29-4631-B544-D426047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A16-5243-44C1-AB0E-CE97464F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C11-9B4E-406E-BE7B-EE1A347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1805-F539-4313-A38A-3F5F9C17E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alaseri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crisis+management+ppt&amp;source=images&amp;cd=&amp;cad=rja&amp;docid=tPFYV7taQ5sVZM&amp;tbnid=-SfeU5zVxY9_LM:&amp;ved=0CAUQjRw&amp;url=http%3A%2F%2Fwww.skillsconverged.com%2FFreeTrainingMaterials%2Ftabid%2F258%2FDefault.aspx&amp;ei=JJd3UZbrNpCk0AXMroG4Aw&amp;psig=AFQjCNGLFP7mv7brkQiEFlqyD7-_g1e0Bw&amp;ust=136687835407493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762120" y="194148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hair Al Aseri. MD, FCEM (UK). FRCPC (EM&amp;C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nt, Departments of Emergency Medicine &amp; Critical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man, Department of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, Disaster Management Maste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ge of Medic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Saud University Hosp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yadh, K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alaseri@ksu.edu.s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+966(11)467-25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+966(11)467-05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457720" y="380880"/>
            <a:ext cx="426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aste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SU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 temporal phases of injury ev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Estrangelo Edess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t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cription of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CE- Potential Injury Creating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E- 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752480"/>
          <a:ext cx="7772400" cy="4724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rup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yt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7603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2286000"/>
          <a:ext cx="7772400" cy="4359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CE St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ed for outside he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tus of outside he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b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at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752480"/>
          <a:ext cx="7772400" cy="445788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  <a:gridCol w="990720"/>
                <a:gridCol w="914400"/>
                <a:gridCol w="990720"/>
                <a:gridCol w="99036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iag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le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ssion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Estrangelo Edessa"/>
              </a:rPr>
              <a:t>Impact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05080" y="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jured &amp; non-injured vict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1219320"/>
            <a:ext cx="9144000" cy="1828800"/>
          </a:xfrm>
          <a:prstGeom prst="rect">
            <a:avLst/>
          </a:prstGeom>
          <a:solidFill>
            <a:srgbClr val="f626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iag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4800600" y="5335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 rot="5400000">
            <a:off x="4952520" y="1905120"/>
            <a:ext cx="838440" cy="533160"/>
          </a:xfrm>
          <a:custGeom>
            <a:avLst/>
            <a:gdLst>
              <a:gd name="textAreaLeft" fmla="*/ 0 w 838440"/>
              <a:gd name="textAreaRight" fmla="*/ 718920 w 838440"/>
              <a:gd name="textAreaTop" fmla="*/ 35568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4800600" y="1752480"/>
            <a:ext cx="380880" cy="1295640"/>
          </a:xfrm>
          <a:prstGeom prst="downArrow">
            <a:avLst>
              <a:gd name="adj1" fmla="val 50000"/>
              <a:gd name="adj2" fmla="val 8504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405840" y="1981080"/>
            <a:ext cx="2736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ad &amp; Un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0" y="3048120"/>
            <a:ext cx="91440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3886200" y="3886200"/>
            <a:ext cx="1066680" cy="380880"/>
          </a:xfrm>
          <a:prstGeom prst="rect">
            <a:avLst/>
          </a:prstGeom>
          <a:solidFill>
            <a:srgbClr val="f626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5029200" y="3886200"/>
            <a:ext cx="114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6248520" y="3886200"/>
            <a:ext cx="1066680" cy="380880"/>
          </a:xfrm>
          <a:prstGeom prst="rect">
            <a:avLst/>
          </a:prstGeom>
          <a:solidFill>
            <a:srgbClr val="04de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4343400" y="31240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5105520" y="3124080"/>
            <a:ext cx="30456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86400" y="3124080"/>
            <a:ext cx="7621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0" y="48006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2057400" y="5867280"/>
            <a:ext cx="2895480" cy="99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port St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"/>
          <p:cNvSpPr/>
          <p:nvPr/>
        </p:nvSpPr>
        <p:spPr>
          <a:xfrm>
            <a:off x="6172200" y="5715000"/>
            <a:ext cx="2590920" cy="11430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pital or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2895480" y="4495680"/>
            <a:ext cx="4876920" cy="12193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0" y="-152280"/>
            <a:ext cx="568944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0760" cy="6675480"/>
        </p:xfrm>
        <a:graphic>
          <a:graphicData uri="http://schemas.openxmlformats.org/drawingml/2006/table">
            <a:tbl>
              <a:tblPr/>
              <a:tblGrid>
                <a:gridCol w="1733400"/>
                <a:gridCol w="2675160"/>
                <a:gridCol w="4732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s Involv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Primary Mech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act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eler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eler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ush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netr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rmal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ical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 thrown into a wall by a tornado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st wave in explos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dden stop in plane crash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s trapped in collapsed structure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ctiles powered by wind, explos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urns from fires after earthquake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ghtning strikes in storm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Secondary Mech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phyxi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halation (i.e. toxins)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hock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osure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bolic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sociated victim specific disorder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s trapped in enclosed space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fter hazardous materials spill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ary to trauma from 1° MOI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s unable to access shelter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ck of fresh water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ics unable to access food or medication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 Tertiary Mech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utri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ec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al failure</a:t>
                      </a: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ncer</a:t>
                      </a: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ychological</a:t>
                      </a: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ck of access or spoiled food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treated injuries, limited antibiotic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equence of crush syndrome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equences of radiation exposure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ction to life-changing ev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lanning-loop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6288120" cy="83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the destructive effects of a natural or manmade forces overwhelm the ability of a given area or community to meet the demands for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147320" y="333360"/>
            <a:ext cx="54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 of a Medical Dis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Cj02868640000[1]"/>
          <p:cNvPicPr/>
          <p:nvPr/>
        </p:nvPicPr>
        <p:blipFill>
          <a:blip r:embed="rId1"/>
          <a:stretch/>
        </p:blipFill>
        <p:spPr>
          <a:xfrm>
            <a:off x="4716360" y="4508640"/>
            <a:ext cx="2667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28600" y="1130400"/>
            <a:ext cx="853452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e Preparedness / Planning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ion / Notification (when + h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protect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especially for terrorism disa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ta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ing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cuation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es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services and alternative car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 and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ources (Inventory of hospital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sonnel (Fan-out, methods of mobil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Arial"/>
              </a:rPr>
              <a:t>Phone #, contac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219320" y="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components of E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04920" y="1136160"/>
            <a:ext cx="853416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Preparedness / Planning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education and Train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t Comman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ident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rations Section with Subdi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Section (collect and disseminate inf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stic Section (provide mater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ance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o does w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in of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219320" y="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components of E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zation of command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rch and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age, stabilization an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initive management of scene hazards and vict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drawal from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to norm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55400" y="13176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s of Disaster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762120" y="2013120"/>
            <a:ext cx="76276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ever the internal or external emergency plan is activated, the hospital will be considered to be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STAT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pecific command responsibilities to facilitate resource al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83200" y="380880"/>
            <a:ext cx="74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SPITAL EMERGENCY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66680" y="-304920"/>
            <a:ext cx="660420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92360" y="189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CS Comm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1874880"/>
            <a:ext cx="612144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 Staff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blic Inform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ais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4"/>
          <p:cNvGrpSpPr/>
          <p:nvPr/>
        </p:nvGrpSpPr>
        <p:grpSpPr>
          <a:xfrm>
            <a:off x="5095800" y="3048120"/>
            <a:ext cx="4047840" cy="3809520"/>
            <a:chOff x="5095800" y="3048120"/>
            <a:chExt cx="4047840" cy="3809520"/>
          </a:xfrm>
        </p:grpSpPr>
        <p:pic>
          <p:nvPicPr>
            <p:cNvPr id="125" name="Diagram 6" descr=""/>
            <p:cNvPicPr/>
            <p:nvPr/>
          </p:nvPicPr>
          <p:blipFill>
            <a:blip r:embed="rId1"/>
            <a:stretch/>
          </p:blipFill>
          <p:spPr>
            <a:xfrm>
              <a:off x="5095800" y="3048120"/>
              <a:ext cx="404784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9"/>
            <p:cNvSpPr/>
            <p:nvPr/>
          </p:nvSpPr>
          <p:spPr>
            <a:xfrm>
              <a:off x="5257800" y="3053880"/>
              <a:ext cx="2576160" cy="462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219320" y="152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fer of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the responsibility for incident command from one Incident Commander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include a transfer of command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oral and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22200" y="-533520"/>
            <a:ext cx="6480360" cy="86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676520" y="-380880"/>
            <a:ext cx="7367400" cy="9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85800" y="455400"/>
            <a:ext cx="76960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spital Emergency Incident Command System (HEICS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(Disaster) Operations Plan (EOP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as an important emergency management foundation for our instit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95560" y="20016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492960" cy="866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3" descr="D:\Desktop\dis\20131105_062115.jpg"/>
          <p:cNvPicPr/>
          <p:nvPr/>
        </p:nvPicPr>
        <p:blipFill>
          <a:blip r:embed="rId1"/>
          <a:stretch/>
        </p:blipFill>
        <p:spPr>
          <a:xfrm>
            <a:off x="4419720" y="1523880"/>
            <a:ext cx="4041720" cy="4648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733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50472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212840" y="457200"/>
            <a:ext cx="6350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85800" y="631080"/>
            <a:ext cx="780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 Telephon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7 13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7 137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9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x  469 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95560" y="152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9816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09480" y="6206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Features of IC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755640" y="2060640"/>
            <a:ext cx="769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b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nce on an Incident Action Plan (I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n of command and unity of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ied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able span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-152280"/>
            <a:ext cx="568944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914400" y="1607040"/>
            <a:ext cx="8001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conclusion of the event, a formal debrief and counseling sessions should be made available for all sta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sychiatry Department will coordinate this after the emergency is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287880" y="38088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br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603520" y="137160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2548080" y="2627280"/>
            <a:ext cx="38289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260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CS Managemen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0920" y="1700280"/>
            <a:ext cx="88930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system not an organiz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CS organization does NOT correlate to the administrative structure of the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oles may not be assumed in 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2"/>
          <p:cNvGrpSpPr/>
          <p:nvPr/>
        </p:nvGrpSpPr>
        <p:grpSpPr>
          <a:xfrm>
            <a:off x="468360" y="620640"/>
            <a:ext cx="8135280" cy="4709160"/>
            <a:chOff x="468360" y="620640"/>
            <a:chExt cx="8135280" cy="470916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4952160" y="1917000"/>
              <a:ext cx="2330280" cy="316368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 rot="16200000">
              <a:off x="3897720" y="2972160"/>
              <a:ext cx="2330280" cy="105372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844360" y="2972160"/>
              <a:ext cx="2330280" cy="105372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9" name="_s1031"/>
            <p:cNvCxnSpPr>
              <a:stCxn id="60" idx="0"/>
              <a:endCxn id="54" idx="2"/>
            </p:cNvCxnSpPr>
            <p:nvPr/>
          </p:nvCxnSpPr>
          <p:spPr>
            <a:xfrm flipH="1" flipV="1" rot="5400000">
              <a:off x="1789560" y="1917360"/>
              <a:ext cx="2330280" cy="316368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1" name="_s1032"/>
            <p:cNvCxnSpPr>
              <a:stCxn id="62" idx="3"/>
              <a:endCxn id="54" idx="2"/>
            </p:cNvCxnSpPr>
            <p:nvPr/>
          </p:nvCxnSpPr>
          <p:spPr>
            <a:xfrm flipV="1">
              <a:off x="4233960" y="2334240"/>
              <a:ext cx="302040" cy="1712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3" name="_s1033"/>
            <p:cNvCxnSpPr>
              <a:stCxn id="64" idx="1"/>
              <a:endCxn id="54" idx="2"/>
            </p:cNvCxnSpPr>
            <p:nvPr/>
          </p:nvCxnSpPr>
          <p:spPr>
            <a:xfrm rot="10800000">
              <a:off x="4535280" y="2333880"/>
              <a:ext cx="302040" cy="666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" name="_s1034"/>
            <p:cNvCxnSpPr>
              <a:stCxn id="66" idx="3"/>
              <a:endCxn id="54" idx="2"/>
            </p:cNvCxnSpPr>
            <p:nvPr/>
          </p:nvCxnSpPr>
          <p:spPr>
            <a:xfrm flipV="1">
              <a:off x="4233960" y="2333880"/>
              <a:ext cx="302040" cy="666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1"/>
            <p:cNvSpPr/>
            <p:nvPr/>
          </p:nvSpPr>
          <p:spPr>
            <a:xfrm>
              <a:off x="468360" y="620640"/>
              <a:ext cx="5420880" cy="788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6"/>
            <p:cNvSpPr/>
            <p:nvPr/>
          </p:nvSpPr>
          <p:spPr>
            <a:xfrm>
              <a:off x="3633120" y="1579680"/>
              <a:ext cx="1805760" cy="75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CIDEN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7"/>
            <p:cNvSpPr/>
            <p:nvPr/>
          </p:nvSpPr>
          <p:spPr>
            <a:xfrm>
              <a:off x="2426760" y="2667240"/>
              <a:ext cx="1807560" cy="66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IAIS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8"/>
            <p:cNvSpPr/>
            <p:nvPr/>
          </p:nvSpPr>
          <p:spPr>
            <a:xfrm>
              <a:off x="4837680" y="2667240"/>
              <a:ext cx="1807560" cy="66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FET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9"/>
            <p:cNvSpPr/>
            <p:nvPr/>
          </p:nvSpPr>
          <p:spPr>
            <a:xfrm>
              <a:off x="2426760" y="3710520"/>
              <a:ext cx="1807560" cy="66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68360" y="4664160"/>
              <a:ext cx="1807560" cy="66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41"/>
            <p:cNvSpPr/>
            <p:nvPr/>
          </p:nvSpPr>
          <p:spPr>
            <a:xfrm>
              <a:off x="2577600" y="4664160"/>
              <a:ext cx="1807560" cy="665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LANN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42"/>
            <p:cNvSpPr/>
            <p:nvPr/>
          </p:nvSpPr>
          <p:spPr>
            <a:xfrm>
              <a:off x="4687200" y="4664160"/>
              <a:ext cx="1807200" cy="665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43"/>
            <p:cNvSpPr/>
            <p:nvPr/>
          </p:nvSpPr>
          <p:spPr>
            <a:xfrm>
              <a:off x="6796080" y="4664160"/>
              <a:ext cx="1807560" cy="665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INANCE/ADMI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1219320" y="152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CS Managemen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3419640" y="1628640"/>
            <a:ext cx="14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1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0" name="WordArt 22"/>
          <p:cNvSpPr txBox="1"/>
          <p:nvPr/>
        </p:nvSpPr>
        <p:spPr>
          <a:xfrm>
            <a:off x="1042920" y="5516640"/>
            <a:ext cx="28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1" name="WordArt 23"/>
          <p:cNvSpPr txBox="1"/>
          <p:nvPr/>
        </p:nvSpPr>
        <p:spPr>
          <a:xfrm>
            <a:off x="3276720" y="5445000"/>
            <a:ext cx="2872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2" name="WordArt 24"/>
          <p:cNvSpPr txBox="1"/>
          <p:nvPr/>
        </p:nvSpPr>
        <p:spPr>
          <a:xfrm>
            <a:off x="5364000" y="5373720"/>
            <a:ext cx="36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3" name="WordArt 25"/>
          <p:cNvSpPr txBox="1"/>
          <p:nvPr/>
        </p:nvSpPr>
        <p:spPr>
          <a:xfrm>
            <a:off x="7596360" y="5373720"/>
            <a:ext cx="247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255096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ded to explain in a clear and concise manner the critical components HICS as well as the suggested manner for using the accompanying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28600" y="9018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(Disaster) Operations Plan (EO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227880"/>
            <a:ext cx="815328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types of emergencies that may impact on this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nal Emergenc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only the hospital and its capabilities that may be re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rnal Emergenc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usually be sited outside the hospital and the hospital’s capabilities may remain i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www.skillsconverged.com/Portals/5/DownloadImages/Crisis_Management_How_to_Have_a_Plan_Before_it_is_Too_L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971800"/>
            <a:ext cx="38894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566280" y="197640"/>
            <a:ext cx="624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components of EO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09480" y="128124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Mitigation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d ways to reduce the devastating effects of disaster BEFORE i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dness /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Recovery / De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9:13:52Z</dcterms:created>
  <dc:creator>Zohair Al aseri</dc:creator>
  <dc:description/>
  <dc:language>en-US</dc:language>
  <cp:lastModifiedBy>admin</cp:lastModifiedBy>
  <dcterms:modified xsi:type="dcterms:W3CDTF">2013-11-24T04:34:18Z</dcterms:modified>
  <cp:revision>26</cp:revision>
  <dc:subject/>
  <dc:title>Slide 1</dc:title>
</cp:coreProperties>
</file>