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DDA3-46C4-4CB5-98E0-1113CDAD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4C6-9CE2-480B-AF6A-4E57E1C7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FD4C-373C-4147-A179-546D2724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777-2BC5-4B6B-8BBB-CA1F7015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EF19-F935-4498-8828-4A1CD410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1B1-DFCD-421C-9EEE-719DB6A8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F03-164C-4EEC-AEC2-B8E0E059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31D-0B89-4589-B712-BEBA0781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026-DDCE-4709-B985-92B0952D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966-7BE8-4523-B18F-D7176C10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092-858F-415A-988A-915209A8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352-225A-4D17-8B7B-FEBE1CE6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8BF0-22FF-4B9A-AE46-6430D4247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alaseri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crisis+management+ppt&amp;source=images&amp;cd=&amp;cad=rja&amp;docid=tPFYV7taQ5sVZM&amp;tbnid=-SfeU5zVxY9_LM:&amp;ved=0CAUQjRw&amp;url=http%3A%2F%2Fwww.skillsconverged.com%2FFreeTrainingMaterials%2Ftabid%2F258%2FDefault.aspx&amp;ei=JJd3UZbrNpCk0AXMroG4Aw&amp;psig=AFQjCNGLFP7mv7brkQiEFlqyD7-_g1e0Bw&amp;ust=136687835407493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762120" y="194148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ohair Al Aseri. MD, FCEM (UK). FRCPC (EM&amp;CC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ultant, Departments of Emergency Medicine &amp; Critical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irman, Department of Emergency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or, Disaster Management Master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ge of Medic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Saud University Hosp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yadh, K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ail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alaseri@ksu.edu.s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x: +966(11)467-25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: +966(11)467-05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457720" y="380880"/>
            <a:ext cx="426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aste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SU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3 temporal phases of injury ev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Estrangelo Edessa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st e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13701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cription of Dis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9144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ICE- Potential Injury Creating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E- Pre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752480"/>
          <a:ext cx="7772400" cy="47246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l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am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rup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yt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tion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76032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09480" y="2286000"/>
          <a:ext cx="7772400" cy="43592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CE Stag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ed for outside hel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atus of outside help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c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b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atc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752480"/>
          <a:ext cx="7772400" cy="4457880"/>
        </p:xfrm>
        <a:graphic>
          <a:graphicData uri="http://schemas.openxmlformats.org/drawingml/2006/table">
            <a:tbl>
              <a:tblPr/>
              <a:tblGrid>
                <a:gridCol w="2819520"/>
                <a:gridCol w="1066680"/>
                <a:gridCol w="990720"/>
                <a:gridCol w="914400"/>
                <a:gridCol w="990720"/>
                <a:gridCol w="990360"/>
              </a:tblGrid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iage le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to M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edi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le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ssion 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-9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7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Estrangelo Edessa"/>
              </a:rPr>
              <a:t>Impact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205080" y="0"/>
            <a:ext cx="50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jured &amp; non-injured vict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0" y="1219320"/>
            <a:ext cx="9144000" cy="1828800"/>
          </a:xfrm>
          <a:prstGeom prst="rect">
            <a:avLst/>
          </a:prstGeom>
          <a:solidFill>
            <a:srgbClr val="f626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iage 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4800600" y="533520"/>
            <a:ext cx="457200" cy="990360"/>
          </a:xfrm>
          <a:prstGeom prst="downArrow">
            <a:avLst>
              <a:gd name="adj1" fmla="val 50000"/>
              <a:gd name="adj2" fmla="val 5415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7"/>
          <p:cNvSpPr/>
          <p:nvPr/>
        </p:nvSpPr>
        <p:spPr>
          <a:xfrm rot="5400000">
            <a:off x="4952520" y="1905120"/>
            <a:ext cx="838440" cy="533160"/>
          </a:xfrm>
          <a:custGeom>
            <a:avLst/>
            <a:gdLst>
              <a:gd name="textAreaLeft" fmla="*/ 0 w 838440"/>
              <a:gd name="textAreaRight" fmla="*/ 718920 w 838440"/>
              <a:gd name="textAreaTop" fmla="*/ 35568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4800600" y="1752480"/>
            <a:ext cx="380880" cy="1295640"/>
          </a:xfrm>
          <a:prstGeom prst="downArrow">
            <a:avLst>
              <a:gd name="adj1" fmla="val 50000"/>
              <a:gd name="adj2" fmla="val 8504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405840" y="1981080"/>
            <a:ext cx="2736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ad &amp; Uninj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0" y="3048120"/>
            <a:ext cx="914400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2"/>
          <p:cNvSpPr/>
          <p:nvPr/>
        </p:nvSpPr>
        <p:spPr>
          <a:xfrm>
            <a:off x="3886200" y="3886200"/>
            <a:ext cx="1066680" cy="380880"/>
          </a:xfrm>
          <a:prstGeom prst="rect">
            <a:avLst/>
          </a:prstGeom>
          <a:solidFill>
            <a:srgbClr val="f626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3"/>
          <p:cNvSpPr/>
          <p:nvPr/>
        </p:nvSpPr>
        <p:spPr>
          <a:xfrm>
            <a:off x="5029200" y="3886200"/>
            <a:ext cx="11430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6248520" y="3886200"/>
            <a:ext cx="1066680" cy="380880"/>
          </a:xfrm>
          <a:prstGeom prst="rect">
            <a:avLst/>
          </a:prstGeom>
          <a:solidFill>
            <a:srgbClr val="04de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5"/>
          <p:cNvSpPr/>
          <p:nvPr/>
        </p:nvSpPr>
        <p:spPr>
          <a:xfrm flipH="1">
            <a:off x="4343400" y="31240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6"/>
          <p:cNvSpPr/>
          <p:nvPr/>
        </p:nvSpPr>
        <p:spPr>
          <a:xfrm>
            <a:off x="5105520" y="3124080"/>
            <a:ext cx="30456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7"/>
          <p:cNvSpPr/>
          <p:nvPr/>
        </p:nvSpPr>
        <p:spPr>
          <a:xfrm>
            <a:off x="5486400" y="3124080"/>
            <a:ext cx="7621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8"/>
          <p:cNvSpPr/>
          <p:nvPr/>
        </p:nvSpPr>
        <p:spPr>
          <a:xfrm>
            <a:off x="0" y="480060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9"/>
          <p:cNvSpPr/>
          <p:nvPr/>
        </p:nvSpPr>
        <p:spPr>
          <a:xfrm>
            <a:off x="2057400" y="5867280"/>
            <a:ext cx="2895480" cy="990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port Sta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1"/>
          <p:cNvSpPr/>
          <p:nvPr/>
        </p:nvSpPr>
        <p:spPr>
          <a:xfrm>
            <a:off x="6172200" y="5715000"/>
            <a:ext cx="2590920" cy="11430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spital or Heal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3"/>
          <p:cNvSpPr/>
          <p:nvPr/>
        </p:nvSpPr>
        <p:spPr>
          <a:xfrm>
            <a:off x="2895480" y="4495680"/>
            <a:ext cx="4876920" cy="1219320"/>
          </a:xfrm>
          <a:custGeom>
            <a:avLst/>
            <a:gdLst>
              <a:gd name="textAreaLeft" fmla="*/ 853200 w 4876920"/>
              <a:gd name="textAreaRight" fmla="*/ 3535920 w 487692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286000" y="-152280"/>
            <a:ext cx="568944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9140760" cy="6675480"/>
        </p:xfrm>
        <a:graphic>
          <a:graphicData uri="http://schemas.openxmlformats.org/drawingml/2006/table">
            <a:tbl>
              <a:tblPr/>
              <a:tblGrid>
                <a:gridCol w="1733400"/>
                <a:gridCol w="2675160"/>
                <a:gridCol w="4732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ces Involv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 Primary Mechani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act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celeration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celeration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rush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netration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hermal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ectrical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ctim thrown into a wall by a tornado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last wave in explosion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dden stop in plane crash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ctims trapped in collapsed structures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jectiles powered by wind, explosion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urns from fires after earthquake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ightning strikes in storm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. Secondary Mechani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phyxiation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halation (i.e. toxins)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hock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osure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tabolic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ssociated victim specific disorders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ctims trapped in enclosed spaces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fter hazardous materials spill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condary to trauma from 1° MOI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ictims unable to access shelter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ck of fresh water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abetics unable to access food or medications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. Tertiary Mechanis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utrition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fection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al failure</a:t>
                      </a: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ncer</a:t>
                      </a: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sychological</a:t>
                      </a: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ck of access or spoiled food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ntreated injuries, limited antibiotics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equence of crush syndromes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equences of radiation exposure</a:t>
                      </a: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action to life-changing eve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planning-loop"/>
          <p:cNvPicPr/>
          <p:nvPr/>
        </p:nvPicPr>
        <p:blipFill>
          <a:blip r:embed="rId1"/>
          <a:stretch/>
        </p:blipFill>
        <p:spPr>
          <a:xfrm>
            <a:off x="1143000" y="990720"/>
            <a:ext cx="716292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6288120" cy="83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en the destructive effects of a natural or manmade forces overwhelm the ability of a given area or community to meet the demands for health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1147320" y="333360"/>
            <a:ext cx="545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 of a Medical Dis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MCj02868640000[1]"/>
          <p:cNvPicPr/>
          <p:nvPr/>
        </p:nvPicPr>
        <p:blipFill>
          <a:blip r:embed="rId1"/>
          <a:stretch/>
        </p:blipFill>
        <p:spPr>
          <a:xfrm>
            <a:off x="4716360" y="4508640"/>
            <a:ext cx="2667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228600" y="1130400"/>
            <a:ext cx="853452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the Preparedness / Planning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ion / Notification (when + h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y protect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especially for terrorism disas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onta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ging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cuation pl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ies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ansion of services and alternative car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s and Log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ources (Inventory of hospital re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sonnel (Fan-out, methods of mobiliz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Arial"/>
              </a:rPr>
              <a:t>Phone #, contac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1219320" y="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sic components of E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04920" y="1136160"/>
            <a:ext cx="8534160" cy="55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Preparedness / Planning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education and Training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and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t Comman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ident Comma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perations Section with Subdi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anning Section (collect and disseminate inf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gistic Section (provide materi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nance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ho does w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in of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ion and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219320" y="0"/>
            <a:ext cx="6781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sic components of E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ganization of command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arch and resc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age, stabilization and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finitive management of scene hazards and vict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drawal from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 to norma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brie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55400" y="131760"/>
            <a:ext cx="58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ases of Disaster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762120" y="2013120"/>
            <a:ext cx="7627680" cy="29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ever the internal or external emergency plan is activated, the hospital will be considered to be in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MERGENCY STATU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specific command responsibilities to facilitate resource al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583200" y="380880"/>
            <a:ext cx="744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OSPITAL EMERGENCY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066680" y="-304920"/>
            <a:ext cx="6604200" cy="75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692360" y="189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CS Command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95280" y="1874880"/>
            <a:ext cx="6121440" cy="31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mmand Staff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blic Information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aison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Organization Chart 4"/>
          <p:cNvGrpSpPr/>
          <p:nvPr/>
        </p:nvGrpSpPr>
        <p:grpSpPr>
          <a:xfrm>
            <a:off x="5095800" y="3048120"/>
            <a:ext cx="4047840" cy="3809520"/>
            <a:chOff x="5095800" y="3048120"/>
            <a:chExt cx="4047840" cy="3809520"/>
          </a:xfrm>
        </p:grpSpPr>
        <p:pic>
          <p:nvPicPr>
            <p:cNvPr id="125" name="Diagram 6" descr=""/>
            <p:cNvPicPr/>
            <p:nvPr/>
          </p:nvPicPr>
          <p:blipFill>
            <a:blip r:embed="rId1"/>
            <a:stretch/>
          </p:blipFill>
          <p:spPr>
            <a:xfrm>
              <a:off x="5095800" y="3048120"/>
              <a:ext cx="4047840" cy="38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9"/>
            <p:cNvSpPr/>
            <p:nvPr/>
          </p:nvSpPr>
          <p:spPr>
            <a:xfrm>
              <a:off x="5257800" y="3053880"/>
              <a:ext cx="2576160" cy="4622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1219320" y="1522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nsfer of 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s the responsibility for incident command from one Incident Commander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st include a transfer of command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th oral and wri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222200" y="-533520"/>
            <a:ext cx="6480360" cy="86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676520" y="-380880"/>
            <a:ext cx="7367400" cy="98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685800" y="455400"/>
            <a:ext cx="769608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spital Emergency Incident Command System (HEICS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mergency (Disaster) Operations Plan (EOP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 as an important emergency management foundation for our institu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095560" y="200160"/>
            <a:ext cx="476244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492960" cy="866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828800" y="0"/>
            <a:ext cx="4762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057400" y="152280"/>
            <a:ext cx="4762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3" descr="D:\Desktop\dis\20131105_062115.jpg"/>
          <p:cNvPicPr/>
          <p:nvPr/>
        </p:nvPicPr>
        <p:blipFill>
          <a:blip r:embed="rId1"/>
          <a:stretch/>
        </p:blipFill>
        <p:spPr>
          <a:xfrm>
            <a:off x="4419720" y="1523880"/>
            <a:ext cx="4041720" cy="4648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3733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828800" y="504720"/>
            <a:ext cx="4762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212840" y="457200"/>
            <a:ext cx="63500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685800" y="631080"/>
            <a:ext cx="780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rect Telephon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67 136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67 1372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69 17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x  469 17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95560" y="152280"/>
            <a:ext cx="4762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98160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09480" y="62064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sic Features of IC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755640" y="2060640"/>
            <a:ext cx="7696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rmi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ular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b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nce on an Incident Action Plan (I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in of command and unity of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ied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able span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4762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0" y="-152280"/>
            <a:ext cx="5689440" cy="75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914400" y="1607040"/>
            <a:ext cx="80010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conclusion of the event, a formal debrief and counseling sessions should be made available for all staf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sychiatry Department will coordinate this after the emergency is 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3287880" y="380880"/>
            <a:ext cx="181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br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2603520" y="1371600"/>
            <a:ext cx="376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Rectangle 2" descr=""/>
          <p:cNvPicPr/>
          <p:nvPr/>
        </p:nvPicPr>
        <p:blipFill>
          <a:blip r:embed="rId1"/>
          <a:stretch/>
        </p:blipFill>
        <p:spPr>
          <a:xfrm>
            <a:off x="2548080" y="2627280"/>
            <a:ext cx="38289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2602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CS Management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0920" y="1700280"/>
            <a:ext cx="88930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system not an organizational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CS organization does NOT correlate to the administrative structure of the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roles may not be assumed in 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2"/>
          <p:cNvGrpSpPr/>
          <p:nvPr/>
        </p:nvGrpSpPr>
        <p:grpSpPr>
          <a:xfrm>
            <a:off x="468360" y="620640"/>
            <a:ext cx="8135280" cy="4709160"/>
            <a:chOff x="468360" y="620640"/>
            <a:chExt cx="8135280" cy="4709160"/>
          </a:xfrm>
        </p:grpSpPr>
        <p:cxnSp>
          <p:nvCxnSpPr>
            <p:cNvPr id="52" name="_s1028"/>
            <p:cNvCxnSpPr>
              <a:stCxn id="53" idx="0"/>
              <a:endCxn id="54" idx="2"/>
            </p:cNvCxnSpPr>
            <p:nvPr/>
          </p:nvCxnSpPr>
          <p:spPr>
            <a:xfrm flipV="1" rot="16200000">
              <a:off x="4952160" y="1917000"/>
              <a:ext cx="2330280" cy="3163680"/>
            </a:xfrm>
            <a:prstGeom prst="bentConnector3">
              <a:avLst>
                <a:gd name="adj1" fmla="val 5855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5" name="_s1029"/>
            <p:cNvCxnSpPr>
              <a:stCxn id="56" idx="0"/>
              <a:endCxn id="54" idx="2"/>
            </p:cNvCxnSpPr>
            <p:nvPr/>
          </p:nvCxnSpPr>
          <p:spPr>
            <a:xfrm flipV="1" rot="16200000">
              <a:off x="3897720" y="2972160"/>
              <a:ext cx="2330280" cy="1053720"/>
            </a:xfrm>
            <a:prstGeom prst="bentConnector3">
              <a:avLst>
                <a:gd name="adj1" fmla="val 5855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7" name="_s1030"/>
            <p:cNvCxnSpPr>
              <a:stCxn id="58" idx="0"/>
              <a:endCxn id="54" idx="2"/>
            </p:cNvCxnSpPr>
            <p:nvPr/>
          </p:nvCxnSpPr>
          <p:spPr>
            <a:xfrm flipH="1" flipV="1" rot="5400000">
              <a:off x="2844360" y="2972160"/>
              <a:ext cx="2330280" cy="1053720"/>
            </a:xfrm>
            <a:prstGeom prst="bentConnector3">
              <a:avLst>
                <a:gd name="adj1" fmla="val 5855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9" name="_s1031"/>
            <p:cNvCxnSpPr>
              <a:stCxn id="60" idx="0"/>
              <a:endCxn id="54" idx="2"/>
            </p:cNvCxnSpPr>
            <p:nvPr/>
          </p:nvCxnSpPr>
          <p:spPr>
            <a:xfrm flipH="1" flipV="1" rot="5400000">
              <a:off x="1789560" y="1917360"/>
              <a:ext cx="2330280" cy="3163680"/>
            </a:xfrm>
            <a:prstGeom prst="bentConnector3">
              <a:avLst>
                <a:gd name="adj1" fmla="val 5855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1" name="_s1032"/>
            <p:cNvCxnSpPr>
              <a:stCxn id="62" idx="3"/>
              <a:endCxn id="54" idx="2"/>
            </p:cNvCxnSpPr>
            <p:nvPr/>
          </p:nvCxnSpPr>
          <p:spPr>
            <a:xfrm flipV="1">
              <a:off x="4233960" y="2334240"/>
              <a:ext cx="302040" cy="17121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3" name="_s1033"/>
            <p:cNvCxnSpPr>
              <a:stCxn id="64" idx="1"/>
              <a:endCxn id="54" idx="2"/>
            </p:cNvCxnSpPr>
            <p:nvPr/>
          </p:nvCxnSpPr>
          <p:spPr>
            <a:xfrm rot="10800000">
              <a:off x="4535280" y="2333880"/>
              <a:ext cx="302040" cy="6663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5" name="_s1034"/>
            <p:cNvCxnSpPr>
              <a:stCxn id="66" idx="3"/>
              <a:endCxn id="54" idx="2"/>
            </p:cNvCxnSpPr>
            <p:nvPr/>
          </p:nvCxnSpPr>
          <p:spPr>
            <a:xfrm flipV="1">
              <a:off x="4233960" y="2333880"/>
              <a:ext cx="302040" cy="6663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7" name="Rectangle 11"/>
            <p:cNvSpPr/>
            <p:nvPr/>
          </p:nvSpPr>
          <p:spPr>
            <a:xfrm>
              <a:off x="468360" y="620640"/>
              <a:ext cx="5420880" cy="7884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6"/>
            <p:cNvSpPr/>
            <p:nvPr/>
          </p:nvSpPr>
          <p:spPr>
            <a:xfrm>
              <a:off x="3633120" y="1579680"/>
              <a:ext cx="1805760" cy="75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NCIDENT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OMMAND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7"/>
            <p:cNvSpPr/>
            <p:nvPr/>
          </p:nvSpPr>
          <p:spPr>
            <a:xfrm>
              <a:off x="2426760" y="2667240"/>
              <a:ext cx="1807560" cy="66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IAIS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FIC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8"/>
            <p:cNvSpPr/>
            <p:nvPr/>
          </p:nvSpPr>
          <p:spPr>
            <a:xfrm>
              <a:off x="4837680" y="2667240"/>
              <a:ext cx="1807560" cy="66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AFETY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FIC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9"/>
            <p:cNvSpPr/>
            <p:nvPr/>
          </p:nvSpPr>
          <p:spPr>
            <a:xfrm>
              <a:off x="2426760" y="3710520"/>
              <a:ext cx="1807560" cy="66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OFFIC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40"/>
            <p:cNvSpPr/>
            <p:nvPr/>
          </p:nvSpPr>
          <p:spPr>
            <a:xfrm>
              <a:off x="468360" y="4664160"/>
              <a:ext cx="1807560" cy="665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S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41"/>
            <p:cNvSpPr/>
            <p:nvPr/>
          </p:nvSpPr>
          <p:spPr>
            <a:xfrm>
              <a:off x="2577600" y="4664160"/>
              <a:ext cx="1807560" cy="66564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PLANNIN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S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42"/>
            <p:cNvSpPr/>
            <p:nvPr/>
          </p:nvSpPr>
          <p:spPr>
            <a:xfrm>
              <a:off x="4687200" y="4664160"/>
              <a:ext cx="1807200" cy="6656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OGISTIC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43"/>
            <p:cNvSpPr/>
            <p:nvPr/>
          </p:nvSpPr>
          <p:spPr>
            <a:xfrm>
              <a:off x="6796080" y="4664160"/>
              <a:ext cx="1807560" cy="66564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040" rIns="6804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INANCE/ADMIN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ECTIO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0"/>
          <p:cNvSpPr/>
          <p:nvPr/>
        </p:nvSpPr>
        <p:spPr>
          <a:xfrm>
            <a:off x="1219320" y="1522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CS Management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21"/>
          <p:cNvSpPr txBox="1"/>
          <p:nvPr/>
        </p:nvSpPr>
        <p:spPr>
          <a:xfrm>
            <a:off x="3419640" y="1628640"/>
            <a:ext cx="14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1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70" name="WordArt 22"/>
          <p:cNvSpPr txBox="1"/>
          <p:nvPr/>
        </p:nvSpPr>
        <p:spPr>
          <a:xfrm>
            <a:off x="1042920" y="5516640"/>
            <a:ext cx="28908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71" name="WordArt 23"/>
          <p:cNvSpPr txBox="1"/>
          <p:nvPr/>
        </p:nvSpPr>
        <p:spPr>
          <a:xfrm>
            <a:off x="3276720" y="5445000"/>
            <a:ext cx="287280" cy="83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72" name="WordArt 24"/>
          <p:cNvSpPr txBox="1"/>
          <p:nvPr/>
        </p:nvSpPr>
        <p:spPr>
          <a:xfrm>
            <a:off x="5364000" y="5373720"/>
            <a:ext cx="36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73" name="WordArt 25"/>
          <p:cNvSpPr txBox="1"/>
          <p:nvPr/>
        </p:nvSpPr>
        <p:spPr>
          <a:xfrm>
            <a:off x="7596360" y="5373720"/>
            <a:ext cx="247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80880" y="2550960"/>
            <a:ext cx="7925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ded to explain in a clear and concise manner the critical components HICS as well as the suggested manner for using the accompanying mate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228600" y="9018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mergency (Disaster) Operations Plan (EO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457200" y="227880"/>
            <a:ext cx="8153280" cy="68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wo types of emergencies that may impact on this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nal Emergenc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 only the hospital and its capabilities that may be re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ternal Emergenc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 usually be sited outside the hospital and the hospital’s capabilities may remain int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http://www.skillsconverged.com/Portals/5/DownloadImages/Crisis_Management_How_to_Have_a_Plan_Before_it_is_Too_Lat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2971800"/>
            <a:ext cx="388944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5"/>
          <p:cNvSpPr/>
          <p:nvPr/>
        </p:nvSpPr>
        <p:spPr>
          <a:xfrm>
            <a:off x="566280" y="197640"/>
            <a:ext cx="624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c components of EOP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09480" y="1281240"/>
            <a:ext cx="8534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Mitigation: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nd ways to reduce the devastating effects of disaster BEFORE it oc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dness /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Recovery / De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09:13:52Z</dcterms:created>
  <dc:creator>Zohair Al aseri</dc:creator>
  <dc:description/>
  <dc:language>en-US</dc:language>
  <cp:lastModifiedBy>admin</cp:lastModifiedBy>
  <dcterms:modified xsi:type="dcterms:W3CDTF">2013-11-24T04:34:18Z</dcterms:modified>
  <cp:revision>26</cp:revision>
  <dc:subject/>
  <dc:title>Slide 1</dc:title>
</cp:coreProperties>
</file>