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media/image9.png" ContentType="image/png"/>
  <Override PartName="/ppt/media/image13.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5239E-3519-4D76-98E3-405CD3EED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A426B-4582-4D69-937E-05ACFCBAE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641CB-FB23-49A3-9FEF-26FF50478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37665-8905-4E0F-9451-FCDCD0B07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1F07A-C8D4-4706-858C-57263F7AE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099DD-76D5-4495-8852-777E27E6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5C3C6-F2AA-44D8-BC3A-B2A99AFFF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9BD8A-3EC9-4A95-A918-04AC5926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05F7-EC8B-4F7D-A379-4031DC0DC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1E2C-099B-4AD4-9371-2D1B50B8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8372-3A6A-47D3-80E4-7B5DFEC8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3F1C-0A4D-4C3F-8A86-709785992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9C0F-C5B3-45C9-B0D6-05E640A2B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280520" y="507960"/>
            <a:ext cx="4331880" cy="530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anonical</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crimina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assification an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edic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1622520"/>
            <a:ext cx="5883120" cy="540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tive Importance of Independent Vari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Suppose we have two independent variable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How do we know which one is more important in discriminating between group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 coefficients of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ones which provide the answer, but not the raw (unstandardised) coefficients. To overcome the problem of different measurement units, we must obtain standardised discriminant coefficients.  These are available from the computer outp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 higher the standardised discriminant coefficient of a variable, the higher its discriminating pow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3870360" y="8015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762120" y="922320"/>
            <a:ext cx="556236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mp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a Bank wants to start credit card division. They want to use discriminant analysis and set up a system to screen applicants and classify them as either ‘low risk’ or ‘high risk’ (risk of default on credit card bill payments), based on information collected from their applications for a credit car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e Bank has managed to get from another Bank, its sister bank, some data on their credit card holders who turned out to be ‘low risk’ (no default) and ‘high risk’ (defaulting on payments) customers. These data on 18 customers are given in fig. 1 </a:t>
            </a:r>
            <a:r>
              <a:rPr b="0" lang="en-US" sz="2000" spc="-1" strike="noStrike">
                <a:solidFill>
                  <a:srgbClr val="ff0000"/>
                </a:solidFill>
                <a:latin typeface="Times New Roman"/>
              </a:rPr>
              <a:t>(File: Discriminant.sa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348948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Object 7"/>
          <p:cNvGraphicFramePr/>
          <p:nvPr/>
        </p:nvGraphicFramePr>
        <p:xfrm>
          <a:off x="609480" y="1422360"/>
          <a:ext cx="5573880" cy="6240600"/>
        </p:xfrm>
        <a:graphic>
          <a:graphicData uri="http://schemas.openxmlformats.org/presentationml/2006/ole">
            <p:oleObj progId="Word.Document.12" r:id="rId1" spid="">
              <p:embed/>
              <p:pic>
                <p:nvPicPr>
                  <p:cNvPr id="60" name="Object 7" descr=""/>
                  <p:cNvPicPr/>
                  <p:nvPr/>
                </p:nvPicPr>
                <p:blipFill>
                  <a:blip r:embed="rId2"/>
                  <a:stretch/>
                </p:blipFill>
                <p:spPr>
                  <a:xfrm>
                    <a:off x="609480" y="1422360"/>
                    <a:ext cx="5573880" cy="62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17680" y="1397160"/>
            <a:ext cx="595944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perform a discriminant analysis and advise the Bank on how to set up its system to screen potential good customers (low risk) from bad customers (high risk). In particular, we will build a discriminant function (model) and find o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centage of customers that it is able to classify correctly.</a:t>
            </a: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significance of the discriminant function.</a:t>
            </a: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variables (age, income, or years of marriage) are relatively better in discriminating between ‘low’ and ‘high’ risk applicants.</a:t>
            </a: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lassify a new credit card applicant into one of the two groups – ‘low risk’ or ‘high risk’, by building a decision rule and a cut off scor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Text Box 3"/>
          <p:cNvSpPr/>
          <p:nvPr/>
        </p:nvSpPr>
        <p:spPr>
          <a:xfrm>
            <a:off x="38703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549360" y="611280"/>
            <a:ext cx="5832360" cy="64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Discrimin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ing variable – RISK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s – age, income, years of marriage; Statistics –  Descriptive: Means, Univariate ANOVAs, Box’s M; Function coefficients : Unstandardized;  Classify – Display : Summary Table; 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lidity of discriminant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idity of the analysis is judged by the Wilks Lambda statistic. This is a badness of fit. It ranges from 0 to 1. For a good discriminant analysis, it must be as close to zero as possible (although a value of 0.3 or 0.4 is sugges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The discriminant analysis is not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The discriminant analysis is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ctual sig. is &lt; 0.05, we reject H</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pic>
        <p:nvPicPr>
          <p:cNvPr id="64" name="Picture 25" descr=""/>
          <p:cNvPicPr/>
          <p:nvPr/>
        </p:nvPicPr>
        <p:blipFill>
          <a:blip r:embed="rId1"/>
          <a:stretch/>
        </p:blipFill>
        <p:spPr>
          <a:xfrm>
            <a:off x="620640" y="7164360"/>
            <a:ext cx="547236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907920" y="831960"/>
            <a:ext cx="50421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lue of Wilks’ Lamba is 0.319. This value is between 0 and 1, and a low value (closer to 0) indicates better discriminating power of the model. Thus, 0.319 is an indicator of the model being good. The probability value of the F test indicates that the discrimination between the two groups is highly significant. This  indicates that the F test would be significant at a confidence level of upto  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549360" y="324000"/>
            <a:ext cx="575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ks's lambda: </a:t>
            </a:r>
            <a:r>
              <a:rPr b="0" lang="en-US" sz="2400" spc="-1" strike="noStrike">
                <a:solidFill>
                  <a:srgbClr val="000000"/>
                </a:solidFill>
                <a:latin typeface="Times New Roman"/>
              </a:rPr>
              <a:t>In discriminant analysis, the Wilk’s Lamba is also used to test the significance of the predictors by themselves.  </a:t>
            </a:r>
            <a:endParaRPr b="0" lang="en-US" sz="2400" spc="-1" strike="noStrike">
              <a:solidFill>
                <a:srgbClr val="000000"/>
              </a:solidFill>
              <a:latin typeface="Times New Roman"/>
            </a:endParaRPr>
          </a:p>
        </p:txBody>
      </p:sp>
      <p:pic>
        <p:nvPicPr>
          <p:cNvPr id="67" name="Picture 2" descr=""/>
          <p:cNvPicPr/>
          <p:nvPr/>
        </p:nvPicPr>
        <p:blipFill>
          <a:blip r:embed="rId1"/>
          <a:stretch/>
        </p:blipFill>
        <p:spPr>
          <a:xfrm>
            <a:off x="404640" y="1835280"/>
            <a:ext cx="5761080" cy="2665440"/>
          </a:xfrm>
          <a:prstGeom prst="rect">
            <a:avLst/>
          </a:prstGeom>
          <a:ln w="0">
            <a:noFill/>
          </a:ln>
        </p:spPr>
      </p:pic>
      <p:sp>
        <p:nvSpPr>
          <p:cNvPr id="68" name="TextBox 2"/>
          <p:cNvSpPr/>
          <p:nvPr/>
        </p:nvSpPr>
        <p:spPr>
          <a:xfrm>
            <a:off x="692280" y="4859280"/>
            <a:ext cx="547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 values are all &lt;0.05, age, income and years of marriage are each significant predictors by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333360" y="250920"/>
            <a:ext cx="62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s M Test of Equality of Covariance Matri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 descr=""/>
          <p:cNvPicPr/>
          <p:nvPr/>
        </p:nvPicPr>
        <p:blipFill>
          <a:blip r:embed="rId1"/>
          <a:stretch/>
        </p:blipFill>
        <p:spPr>
          <a:xfrm>
            <a:off x="620640" y="1424160"/>
            <a:ext cx="5472360" cy="2390760"/>
          </a:xfrm>
          <a:prstGeom prst="rect">
            <a:avLst/>
          </a:prstGeom>
          <a:ln w="0">
            <a:noFill/>
          </a:ln>
        </p:spPr>
      </p:pic>
      <p:sp>
        <p:nvSpPr>
          <p:cNvPr id="71" name="Rectangle 2"/>
          <p:cNvSpPr/>
          <p:nvPr/>
        </p:nvSpPr>
        <p:spPr>
          <a:xfrm>
            <a:off x="333360" y="3835440"/>
            <a:ext cx="6408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ssumption is tested with Box’s M test and the results are presented under the heading Box’s Test of Equality of Covariance Matrices. The results indicate that the Box’s M value of 5.992 (F = 0.793) is associated with an alpha level of .576. As mentioned earlier, Box’s M is highly sensitive to factors other than just covariance differences (e.g., normality of the variables and large sample size). As such, an alpha level of .001 is recommended. On the basis of this alpha level, the computed level of .576 is not significant (p &gt; .001). Thus, the assumption of equality of covariance matrices has not been vi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549360" y="430200"/>
            <a:ext cx="5832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a:solidFill>
                  <a:srgbClr val="000000"/>
                </a:solidFill>
                <a:latin typeface="Times New Roman"/>
              </a:rPr>
              <a:t>anonical corre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nonical correlation is a measure of the association between the groups in the dependent variable and the discriminant function. A high value implies a high level of association between the two and vice-versa. We can square the Canonical Correlation to compute the effect size for the discriminant function. </a:t>
            </a:r>
            <a:endParaRPr b="0" lang="en-US" sz="2400" spc="-1" strike="noStrike">
              <a:solidFill>
                <a:srgbClr val="000000"/>
              </a:solidFill>
              <a:latin typeface="Times New Roman"/>
            </a:endParaRPr>
          </a:p>
        </p:txBody>
      </p:sp>
      <p:pic>
        <p:nvPicPr>
          <p:cNvPr id="73" name="Picture 2" descr=""/>
          <p:cNvPicPr/>
          <p:nvPr/>
        </p:nvPicPr>
        <p:blipFill>
          <a:blip r:embed="rId1"/>
          <a:stretch/>
        </p:blipFill>
        <p:spPr>
          <a:xfrm>
            <a:off x="765000" y="4043520"/>
            <a:ext cx="5328000" cy="182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04640" y="250920"/>
            <a:ext cx="590400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ecking for Multicollinea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ultiple Regression using SPSS, it is possible to request the display of Tolerance and VIF values for each predictor as a check for multicollinearity. A tolerance value  is an indication of the percent of variance in the predictor that cannot be accounted for by the other predictors. Hence, very small values indicate “overlap” or sharing of predictive power (i.e., the predictor is redundant). Values that are less than 0.10 may merit further investigation. The VIF, which stands for variance inflation factor, is computed as “1/tolerance,” and it is suggested that predictor variables whose VIF values are greater than 10 may merit further investigation. For this example, multicollinearity is not a probl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50760" y="5580000"/>
            <a:ext cx="6800760" cy="30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404640" y="179280"/>
            <a:ext cx="6193080" cy="92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riminant analysis techniques are used to classify individuals into one of two or more alternative groups (or populations) on the basis of a set of measurements. The populations are known to be distinct, and each individual belongs to one of them. These techniques can also be used to identify which variables contribute to making the classification. Thus, as in regression analysis, we have two uses, prediction and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consider an archeologist who wishes to determine which of two possible tribes created a particular statue found in a dig. The archeologist takes measurements on several characteristics of the statue and must decide whether these measurements are more likely to have come from the distribution characterizing the statues of one tribe or from the other tribe's distribution. The distributions are based on data from statues known to have been created by members of one tribe or the other. The problem of classification is therefore to guess who made the newly found statue on the basis of measurements obtained from statues whose identities are certain.As another example, consider a loan officer at a bank who wishes to decide whether to approve an applicant's automobile loan. This decision is made by determining whether the applicant's characteristics are more similar to those persons who in the past repaid loans successfully or to those persons who defaulted. Information on these two groups, available from past records, would include factors such as age, income, marital status, outstanding debt, and home ownersh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5"/>
          <p:cNvGraphicFramePr/>
          <p:nvPr/>
        </p:nvGraphicFramePr>
        <p:xfrm>
          <a:off x="685800" y="76320"/>
          <a:ext cx="5487840" cy="7011720"/>
        </p:xfrm>
        <a:graphic>
          <a:graphicData uri="http://schemas.openxmlformats.org/presentationml/2006/ole">
            <p:oleObj progId="Word.Document.12" r:id="rId1" spid="">
              <p:embed/>
              <p:pic>
                <p:nvPicPr>
                  <p:cNvPr id="77" name="Object 5" descr=""/>
                  <p:cNvPicPr/>
                  <p:nvPr/>
                </p:nvPicPr>
                <p:blipFill>
                  <a:blip r:embed="rId2"/>
                  <a:stretch/>
                </p:blipFill>
                <p:spPr>
                  <a:xfrm>
                    <a:off x="685800" y="76320"/>
                    <a:ext cx="5487840" cy="7011720"/>
                  </a:xfrm>
                  <a:prstGeom prst="rect">
                    <a:avLst/>
                  </a:prstGeom>
                  <a:ln w="0">
                    <a:noFill/>
                  </a:ln>
                </p:spPr>
              </p:pic>
            </p:oleObj>
          </a:graphicData>
        </a:graphic>
      </p:graphicFrame>
      <p:sp>
        <p:nvSpPr>
          <p:cNvPr id="78" name="Text Box 6"/>
          <p:cNvSpPr/>
          <p:nvPr/>
        </p:nvSpPr>
        <p:spPr>
          <a:xfrm>
            <a:off x="4861080" y="7813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 name=""/>
          <p:cNvGraphicFramePr/>
          <p:nvPr/>
        </p:nvGraphicFramePr>
        <p:xfrm>
          <a:off x="549360" y="3851280"/>
          <a:ext cx="5759280" cy="3743280"/>
        </p:xfrm>
        <a:graphic>
          <a:graphicData uri="http://schemas.openxmlformats.org/drawingml/2006/table">
            <a:tbl>
              <a:tblPr/>
              <a:tblGrid>
                <a:gridCol w="868320"/>
                <a:gridCol w="868320"/>
                <a:gridCol w="1077840"/>
                <a:gridCol w="1076400"/>
                <a:gridCol w="1074600"/>
                <a:gridCol w="793800"/>
              </a:tblGrid>
              <a:tr h="4158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ication Results</a:t>
                      </a:r>
                      <a:r>
                        <a:rPr b="1" lang="en-US" sz="1800" spc="-1" strike="noStrike" baseline="30000">
                          <a:solidFill>
                            <a:srgbClr val="000000"/>
                          </a:solidFill>
                          <a:latin typeface="Arial"/>
                          <a:ea typeface="Times New Roman"/>
                        </a:rPr>
                        <a:t>a</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3196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w="13680">
                      <a:solidFill>
                        <a:srgbClr val="000000"/>
                      </a:solidFill>
                    </a:lnT>
                    <a:lnB>
                      <a:no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rowSpan="2">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L</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dicted Group Membership</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a:t>
                      </a:r>
                      <a:endParaRPr b="0"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580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6160">
                <a:tc rowSpan="4">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iginal</a:t>
                      </a:r>
                      <a:endParaRPr b="0"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nt</a:t>
                      </a:r>
                      <a:endParaRPr b="0" lang="en-US" sz="1800" spc="-1" strike="noStrike">
                        <a:solidFill>
                          <a:srgbClr val="000000"/>
                        </a:solidFill>
                        <a:latin typeface="Times New Roman"/>
                      </a:endParaRPr>
                    </a:p>
                  </a:txBody>
                  <a:tcPr anchor="t">
                    <a:lnL>
                      <a:no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41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8.9</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415800">
                <a:tc gridSpan="6">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94.4% of original grouped cases correctly classified</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4"/>
          <p:cNvGraphicFramePr/>
          <p:nvPr/>
        </p:nvGraphicFramePr>
        <p:xfrm>
          <a:off x="333360" y="841320"/>
          <a:ext cx="6299280" cy="6750000"/>
        </p:xfrm>
        <a:graphic>
          <a:graphicData uri="http://schemas.openxmlformats.org/presentationml/2006/ole">
            <p:oleObj progId="Word.Document.12" r:id="rId1" spid="">
              <p:embed/>
              <p:pic>
                <p:nvPicPr>
                  <p:cNvPr id="81" name="Object 4" descr=""/>
                  <p:cNvPicPr/>
                  <p:nvPr/>
                </p:nvPicPr>
                <p:blipFill>
                  <a:blip r:embed="rId2"/>
                  <a:stretch/>
                </p:blipFill>
                <p:spPr>
                  <a:xfrm>
                    <a:off x="333360" y="841320"/>
                    <a:ext cx="6299280" cy="6750000"/>
                  </a:xfrm>
                  <a:prstGeom prst="rect">
                    <a:avLst/>
                  </a:prstGeom>
                  <a:ln w="0">
                    <a:noFill/>
                  </a:ln>
                </p:spPr>
              </p:pic>
            </p:oleObj>
          </a:graphicData>
        </a:graphic>
      </p:graphicFrame>
      <p:graphicFrame>
        <p:nvGraphicFramePr>
          <p:cNvPr id="82" name=""/>
          <p:cNvGraphicFramePr/>
          <p:nvPr/>
        </p:nvGraphicFramePr>
        <p:xfrm>
          <a:off x="620640" y="4932360"/>
          <a:ext cx="5400720" cy="2263680"/>
        </p:xfrm>
        <a:graphic>
          <a:graphicData uri="http://schemas.openxmlformats.org/drawingml/2006/table">
            <a:tbl>
              <a:tblPr/>
              <a:tblGrid>
                <a:gridCol w="3417840"/>
                <a:gridCol w="1982880"/>
              </a:tblGrid>
              <a:tr h="40644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ized Canonical Discriminant Function Coefficients</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unction</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7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924</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7116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om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7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years of marri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151</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800280" y="3419640"/>
            <a:ext cx="5113080" cy="2447640"/>
          </a:xfrm>
          <a:prstGeom prst="rect">
            <a:avLst/>
          </a:prstGeom>
          <a:ln w="0">
            <a:noFill/>
          </a:ln>
        </p:spPr>
      </p:pic>
      <p:sp>
        <p:nvSpPr>
          <p:cNvPr id="84" name="TextBox 1"/>
          <p:cNvSpPr/>
          <p:nvPr/>
        </p:nvSpPr>
        <p:spPr>
          <a:xfrm>
            <a:off x="333360" y="539640"/>
            <a:ext cx="604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Matrix provides the correlations of each independent variable with the standardized discriminating function. Observe that age and years of marriage have notable positive correlations with the function, but income is moderately corre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7"/>
          <p:cNvGraphicFramePr/>
          <p:nvPr/>
        </p:nvGraphicFramePr>
        <p:xfrm>
          <a:off x="609480" y="682560"/>
          <a:ext cx="5342040" cy="7183440"/>
        </p:xfrm>
        <a:graphic>
          <a:graphicData uri="http://schemas.openxmlformats.org/presentationml/2006/ole">
            <p:oleObj progId="Word.Document.12" r:id="rId1" spid="">
              <p:embed/>
              <p:pic>
                <p:nvPicPr>
                  <p:cNvPr id="86" name="Object 7" descr=""/>
                  <p:cNvPicPr/>
                  <p:nvPr/>
                </p:nvPicPr>
                <p:blipFill>
                  <a:blip r:embed="rId2"/>
                  <a:stretch/>
                </p:blipFill>
                <p:spPr>
                  <a:xfrm>
                    <a:off x="609480" y="682560"/>
                    <a:ext cx="5342040" cy="7183440"/>
                  </a:xfrm>
                  <a:prstGeom prst="rect">
                    <a:avLst/>
                  </a:prstGeom>
                  <a:ln w="0">
                    <a:noFill/>
                  </a:ln>
                </p:spPr>
              </p:pic>
            </p:oleObj>
          </a:graphicData>
        </a:graphic>
      </p:graphicFrame>
      <p:sp>
        <p:nvSpPr>
          <p:cNvPr id="87" name="Text Box 8"/>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23" descr=""/>
          <p:cNvPicPr/>
          <p:nvPr/>
        </p:nvPicPr>
        <p:blipFill>
          <a:blip r:embed="rId3"/>
          <a:stretch/>
        </p:blipFill>
        <p:spPr>
          <a:xfrm>
            <a:off x="765000" y="6156360"/>
            <a:ext cx="525636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2"/>
          <p:cNvGraphicFramePr/>
          <p:nvPr/>
        </p:nvGraphicFramePr>
        <p:xfrm>
          <a:off x="682560" y="826920"/>
          <a:ext cx="5427720" cy="3702240"/>
        </p:xfrm>
        <a:graphic>
          <a:graphicData uri="http://schemas.openxmlformats.org/presentationml/2006/ole">
            <p:oleObj progId="Word.Document.12" r:id="rId1" spid="">
              <p:embed/>
              <p:pic>
                <p:nvPicPr>
                  <p:cNvPr id="90" name="Object 2" descr=""/>
                  <p:cNvPicPr/>
                  <p:nvPr/>
                </p:nvPicPr>
                <p:blipFill>
                  <a:blip r:embed="rId2"/>
                  <a:stretch/>
                </p:blipFill>
                <p:spPr>
                  <a:xfrm>
                    <a:off x="682560" y="826920"/>
                    <a:ext cx="5427720" cy="37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5"/>
          <p:cNvGraphicFramePr/>
          <p:nvPr/>
        </p:nvGraphicFramePr>
        <p:xfrm>
          <a:off x="333360" y="973080"/>
          <a:ext cx="6183360" cy="6254640"/>
        </p:xfrm>
        <a:graphic>
          <a:graphicData uri="http://schemas.openxmlformats.org/presentationml/2006/ole">
            <p:oleObj progId="Word.Document.12" r:id="rId1" spid="">
              <p:embed/>
              <p:pic>
                <p:nvPicPr>
                  <p:cNvPr id="92" name="Object 5" descr=""/>
                  <p:cNvPicPr/>
                  <p:nvPr/>
                </p:nvPicPr>
                <p:blipFill>
                  <a:blip r:embed="rId2"/>
                  <a:stretch/>
                </p:blipFill>
                <p:spPr>
                  <a:xfrm>
                    <a:off x="333360" y="973080"/>
                    <a:ext cx="6183360" cy="6254640"/>
                  </a:xfrm>
                  <a:prstGeom prst="rect">
                    <a:avLst/>
                  </a:prstGeom>
                  <a:ln w="0">
                    <a:noFill/>
                  </a:ln>
                </p:spPr>
              </p:pic>
            </p:oleObj>
          </a:graphicData>
        </a:graphic>
      </p:graphicFrame>
      <p:sp>
        <p:nvSpPr>
          <p:cNvPr id="93" name="Text Box 6"/>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2"/>
          <p:cNvGraphicFramePr/>
          <p:nvPr/>
        </p:nvGraphicFramePr>
        <p:xfrm>
          <a:off x="549360" y="3276720"/>
          <a:ext cx="5429160" cy="4789440"/>
        </p:xfrm>
        <a:graphic>
          <a:graphicData uri="http://schemas.openxmlformats.org/presentationml/2006/ole">
            <p:oleObj progId="Word.Document.12" r:id="rId1" spid="">
              <p:embed/>
              <p:pic>
                <p:nvPicPr>
                  <p:cNvPr id="95" name="Object 2" descr=""/>
                  <p:cNvPicPr/>
                  <p:nvPr/>
                </p:nvPicPr>
                <p:blipFill>
                  <a:blip r:embed="rId2"/>
                  <a:stretch/>
                </p:blipFill>
                <p:spPr>
                  <a:xfrm>
                    <a:off x="549360" y="3276720"/>
                    <a:ext cx="5429160" cy="4789440"/>
                  </a:xfrm>
                  <a:prstGeom prst="rect">
                    <a:avLst/>
                  </a:prstGeom>
                  <a:ln w="0">
                    <a:noFill/>
                  </a:ln>
                </p:spPr>
              </p:pic>
            </p:oleObj>
          </a:graphicData>
        </a:graphic>
      </p:graphicFrame>
      <p:graphicFrame>
        <p:nvGraphicFramePr>
          <p:cNvPr id="96" name=""/>
          <p:cNvGraphicFramePr/>
          <p:nvPr/>
        </p:nvGraphicFramePr>
        <p:xfrm>
          <a:off x="692280" y="755640"/>
          <a:ext cx="4897440" cy="2374920"/>
        </p:xfrm>
        <a:graphic>
          <a:graphicData uri="http://schemas.openxmlformats.org/drawingml/2006/table">
            <a:tbl>
              <a:tblPr/>
              <a:tblGrid>
                <a:gridCol w="3098520"/>
                <a:gridCol w="1798920"/>
              </a:tblGrid>
              <a:tr h="29700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nonical Discriminant Function Coefficients</a:t>
                      </a:r>
                      <a:endParaRPr b="0" lang="en-US" sz="16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664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nction</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97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46</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om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years of marri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5</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Constant</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0.003</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r h="29700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nstandardized coefficients</a:t>
                      </a:r>
                      <a:endParaRPr b="0" lang="en-US" sz="16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685800" y="609480"/>
            <a:ext cx="573084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take an example of a credit card application to the Bank who is aged 40, has an income of SAR 25,000 per month and has been married for 15 years. Plugging these values into the discriminant function or model above, we find his discriminant score y to b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10.0036 + 40 (.24560) + 25000 (.00008)</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08465), which is </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0036 + 9.824 + 2 + 1.26975</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3.09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our decision rule, any discriminant score to the right of the midpoint of 0 leads to a classification in the low risk group. Therefore, we can give this person a credit card, as he is a low risk customer. The same process is to be followed for any new applicant. If his discriminant score is to the right of the midpoint of 0, he should be given a credit card, as he is a ‘low risk’ custom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Text Box 3"/>
          <p:cNvSpPr/>
          <p:nvPr/>
        </p:nvSpPr>
        <p:spPr>
          <a:xfrm>
            <a:off x="3870360" y="76057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692280" y="179280"/>
            <a:ext cx="5689440" cy="86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earity—Similar to other multivariate techniques that employ a variate (i.e., linear combination that represents the weighted sum of two or more predictor variables that discriminate best between a priori defined groups), an implicit assumption is that all relation- ships among all pairs of predictors within each group are linear. However, violation of this assumption is less serious than others in that it tends to lead to reduced power rather than increase Type I error (Tabachnick and Fidell,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variate normality—The assumption is that scores on each predictor variable are normally distributed (univariate normality) and that the sampling distribution of the combination of two or more predictors is also normally distributed (multivariate normality). Multivariate normality is difficult to test and currently there are no specific tests capable of testing the normality of all linear combinations of sampling distributions of predictors. However, since multivariate normality implies univariate normality (although the reverse is not necessarily true), a situation in which all variables exhibit univariate normality will help gain, although not guarantee, multivariate normality (Hair et al.,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476280" y="684360"/>
            <a:ext cx="5905440" cy="78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Con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mogeneity of variance-covariance matrices—When sample sizes are unequal and small, unequal covariance matrices can adversely affect the results of significance testing. Even with decently sized samples, heterogeneity of variance-covariance matrices can affect the classification process whereby cases are “over-classified” into groups with greater variability (Tabachnick and Fidell, 2001). A test of this assumption can be made via Box’s M. As this test is overly sensitive (increases the probability of Type I error), an alpha level of .001 is recommend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collinearity—As with multiple regression analysis, multicollinearity denotes the situation where the independent/predictor variables are highly correlated. When independent variables are multicollinear, there is “overlap” or sharing of predictive power so that one variable can be highly explained or predicted by the other variable(s). Thus, that predictor variable adds little to the explanatory power of the entire s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93640" y="228600"/>
            <a:ext cx="5883480" cy="86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Are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major application area for this technique is where we want to be able to distinguish between two or more sets of objects or people, based on the knowledge of some of their characteristic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Examples include the selection process for a job, the admission process of an educational programme in a college, or dividing a group of people into potential buyers and non-buyer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Discriminant analysis can be, and is in fact used, by credit rating agencies to rate individuals, to classify them into good lending risks or bad lending risks. The detailed example discussed later  tells you how to do th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o summarize, we can use discriminant analysis when we have a nominal dependent variable, such as to classify objects into two or more groups based on the knowledge of some variables (characteristics) related to them. Typically, these groups would be users-non-users, potentially successful salesman – potentially unsuccessful salesman, high risk – low risk consumer, or on similar li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4"/>
          <p:cNvSpPr/>
          <p:nvPr/>
        </p:nvSpPr>
        <p:spPr>
          <a:xfrm>
            <a:off x="4556160" y="6310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457200" y="306360"/>
            <a:ext cx="5883120" cy="85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ethods, Data e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Discriminant analysis is very similar to the multiple regression technique. The form of the equation in a two-variable discriminant analysis 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 = a +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is is called the discriminant function. Also, like in a regression analysis, y is the dependent variable and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independent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coefficients of the independent variables, and a is a constant. In practice, there may be any number of x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Please note that Y in this case is a categorical variable (unlike in regression analysis, where it is continuou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however, continuous (metric)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are determined by appropriate algorithms in the computer package used, but the underlying objective is that these two coefficients should maximise the separation or differences between the two groups of the y variab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Y will have 2 possible values in a 2 group discriminant analysis, and 3 values in a 3 group discriminant analysis, and so 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4175280" y="7783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09520" y="1371600"/>
            <a:ext cx="6419880" cy="47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also called the unstandardised discriminant function coeffici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As mentioned above, y is a classification into 2 or more groups and therefore, a ‘grouping’ variable, in the terminology of discriminant analysis. That is, groups are formed on the basis of existing data, and coded as 1 and 2 or similar to dummy variable co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The independent (x) variables are continuous scale variables, and used as predictors of the group to which the objects will belong. Therefore, to be able to use discriminant analysis, we need to have some data on y and the x variables from experience and / or past reco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04920" y="1403280"/>
            <a:ext cx="61880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uilding a Model for Prediction/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ing we have data on both the y and x variables of interest, we estimate the coefficients of the  model which is a linear equation of the form shown earlier, and use the coefficients  to calculate the y value (discriminant score) – for any new data points that we want to classify into one of the groups. A decision rule is formulated for this process – to determine the cut off score, which is usually the midpoint of the mean discriminant scores of the two group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ccuracy of 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classification of the existing data points is done using the equation, and the accuracy of the model is determined. This output is given by the classification matrix (also called the confusion matrix), which tells us what percentage of the existing data points is correctly classified by this mod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Text Box 4"/>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04920" y="1143000"/>
            <a:ext cx="6038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ercentage is somewhat analogous to the 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n regression analysis (percentage of variation in dependent variable explained by the model). Of course, the actual predictive accuracy of the discriminant model may be less than the figure obtained by applying it to the data points on which it was 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epwise / Fixed Mod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as in regression, we have the option of entering one variable at a time (Stepwise) into the discriminant equation, or entering all variables which we plan to use. Depending on the correlations between the independent variables, and the objective of the study, the choice is left to the researc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10:34:33Z</dcterms:created>
  <dc:creator>TMH</dc:creator>
  <dc:description/>
  <dc:language>en-US</dc:language>
  <cp:lastModifiedBy>User</cp:lastModifiedBy>
  <dcterms:modified xsi:type="dcterms:W3CDTF">2015-11-17T07:51:35Z</dcterms:modified>
  <cp:revision>61</cp:revision>
  <dc:subject/>
  <dc:title>No Slide Title</dc:title>
</cp:coreProperties>
</file>