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A19-7BAA-4A24-A801-C1FFC1D1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29A-7243-4609-A10A-E6E9E68A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3D8-BD07-4777-BA00-87E95F27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915-07B8-430B-A887-76B95C61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5E6-45E2-4C6C-999D-0108809F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BE7-BC6B-449A-BDBE-A78FF3F9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8B1-BC56-4C3A-B311-8CC6C8C7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098-3816-4BA8-B327-BE1B04FE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66D-5D8A-4039-B62E-FCA33D37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701-9115-4AC4-8D80-FFBF783D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AF9-24EA-4534-A1A1-1560A50B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10B-F21B-4067-804B-3A23237E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5D87-86F6-4E1B-BF50-FA850F1F3F14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02DC-1F97-4AB6-9826-25AD81EEDF5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628560" y="1901880"/>
            <a:ext cx="7886880" cy="1719360"/>
            <a:chOff x="628560" y="1901880"/>
            <a:chExt cx="7886880" cy="171936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628560" y="1901880"/>
              <a:ext cx="788688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2208960"/>
              <a:ext cx="7772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أدلة التشريع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73520"/>
            <a:ext cx="6516720" cy="1359000"/>
            <a:chOff x="1311120" y="3773520"/>
            <a:chExt cx="6516720" cy="135900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73520"/>
              <a:ext cx="65167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2f2f2"/>
                  </a:solidFill>
                  <a:latin typeface="Sakkal Majalla"/>
                  <a:cs typeface="Sakkal Majalla"/>
                </a:rPr>
                <a:t>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2f2f2"/>
                  </a:solidFill>
                  <a:latin typeface="Sakkal Majalla"/>
                  <a:cs typeface="Sakkal Majalla"/>
                </a:rPr>
                <a:t>المحاضرة الأولى (</a:t>
              </a:r>
              <a:r>
                <a:rPr b="1" lang="ar-SA" sz="3200" spc="-1" strike="noStrike">
                  <a:solidFill>
                    <a:srgbClr val="f2f2f2"/>
                  </a:solidFill>
                  <a:latin typeface="Sakkal Majalla"/>
                  <a:ea typeface="Sakkal Majalla"/>
                </a:rPr>
                <a:t>2</a:t>
              </a:r>
              <a:r>
                <a:rPr b="1" lang="ar-SA" sz="3200" spc="-1" strike="noStrike">
                  <a:solidFill>
                    <a:srgbClr val="f2f2f2"/>
                  </a:solidFill>
                  <a:latin typeface="Sakkal Majalla"/>
                  <a:ea typeface="Sakkal Majalla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صورة 3" descr="$0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عنوان 1"/>
          <p:cNvGrpSpPr/>
          <p:nvPr/>
        </p:nvGrpSpPr>
        <p:grpSpPr>
          <a:xfrm>
            <a:off x="549360" y="-109440"/>
            <a:ext cx="7888320" cy="1719000"/>
            <a:chOff x="549360" y="-109440"/>
            <a:chExt cx="7888320" cy="1719000"/>
          </a:xfrm>
        </p:grpSpPr>
        <p:pic>
          <p:nvPicPr>
            <p:cNvPr id="50" name="عنوان 1" descr=""/>
            <p:cNvPicPr/>
            <p:nvPr/>
          </p:nvPicPr>
          <p:blipFill>
            <a:blip r:embed="rId2"/>
            <a:stretch/>
          </p:blipFill>
          <p:spPr>
            <a:xfrm>
              <a:off x="549360" y="-109440"/>
              <a:ext cx="788832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11280" y="193680"/>
              <a:ext cx="7772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أدلة التشريع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0A97-DBA8-4CB4-94BF-B8C4BB3FCA4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صر نائب للتذييل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55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2f2f2"/>
                  </a:solidFill>
                  <a:latin typeface="Monotype Koufi"/>
                  <a:cs typeface="Monotype Koufi"/>
                </a:rPr>
                <a:t>تعريف الدليل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" name="صورة 3" descr="$1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5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A4DA-932E-496D-9D0D-6F5FFBD4EE7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61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f2f2f2"/>
                  </a:solidFill>
                  <a:latin typeface="Monotype Koufi"/>
                  <a:cs typeface="Monotype Koufi"/>
                </a:rPr>
                <a:t>الدليل على ترتيب أدلة التشريع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صورة 3" descr="$2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6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25AF-583C-42BE-ABD6-7FE9F2BD79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عنوان 1"/>
          <p:cNvGrpSpPr/>
          <p:nvPr/>
        </p:nvGrpSpPr>
        <p:grpSpPr>
          <a:xfrm>
            <a:off x="396720" y="311040"/>
            <a:ext cx="8345520" cy="993960"/>
            <a:chOff x="396720" y="311040"/>
            <a:chExt cx="8345520" cy="993960"/>
          </a:xfrm>
        </p:grpSpPr>
        <p:pic>
          <p:nvPicPr>
            <p:cNvPr id="67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Monotype Koufi"/>
                  <a:cs typeface="Monotype Koufi"/>
                </a:rPr>
                <a:t>أقسام أدلة  التشريع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" name="صورة 3" descr="$3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7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3AD8-C517-4E0D-BEC7-68AA0F522FA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عنوان 1"/>
          <p:cNvGrpSpPr/>
          <p:nvPr/>
        </p:nvGrpSpPr>
        <p:grpSpPr>
          <a:xfrm>
            <a:off x="396720" y="311040"/>
            <a:ext cx="8345520" cy="993960"/>
            <a:chOff x="396720" y="311040"/>
            <a:chExt cx="8345520" cy="993960"/>
          </a:xfrm>
        </p:grpSpPr>
        <p:pic>
          <p:nvPicPr>
            <p:cNvPr id="73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Monotype Koufi"/>
                  <a:ea typeface="Monotype Koufi"/>
                </a:rPr>
                <a:t>1</a:t>
              </a:r>
              <a:r>
                <a:rPr b="1" lang="ar-SA" sz="4400" spc="-1" strike="noStrike">
                  <a:solidFill>
                    <a:srgbClr val="000000"/>
                  </a:solidFill>
                  <a:latin typeface="Monotype Koufi"/>
                  <a:ea typeface="Monotype Koufi"/>
                </a:rPr>
                <a:t>. أدلة متفق عليها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6480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ولاً: الكتاب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ثانياً: السنة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ثالثاً: الإجما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رابعاً: القيا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88D-1840-4B3F-B35C-D8E7AF3DA0A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عنوان 1"/>
          <p:cNvGrpSpPr/>
          <p:nvPr/>
        </p:nvGrpSpPr>
        <p:grpSpPr>
          <a:xfrm>
            <a:off x="396720" y="311040"/>
            <a:ext cx="8345520" cy="993960"/>
            <a:chOff x="396720" y="311040"/>
            <a:chExt cx="8345520" cy="993960"/>
          </a:xfrm>
        </p:grpSpPr>
        <p:pic>
          <p:nvPicPr>
            <p:cNvPr id="79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Monotype Koufi"/>
                  <a:ea typeface="Monotype Koufi"/>
                </a:rPr>
                <a:t>1</a:t>
              </a:r>
              <a:r>
                <a:rPr b="1" lang="ar-SA" sz="4400" spc="-1" strike="noStrike">
                  <a:solidFill>
                    <a:srgbClr val="000000"/>
                  </a:solidFill>
                  <a:latin typeface="Monotype Koufi"/>
                  <a:ea typeface="Monotype Koufi"/>
                </a:rPr>
                <a:t>. أدلة مختلف فيها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1595520"/>
            <a:ext cx="8229600" cy="59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76092"/>
                </a:solidFill>
                <a:latin typeface="Sakkal Majalla"/>
                <a:cs typeface="Sakkal Majalla"/>
              </a:rPr>
              <a:t>اختلف العلماء في عددها ومنهم من قال بأنها </a:t>
            </a:r>
            <a:r>
              <a:rPr b="1" lang="ar-SA" sz="4800" spc="-1" strike="noStrike">
                <a:solidFill>
                  <a:srgbClr val="376092"/>
                </a:solidFill>
                <a:latin typeface="Sakkal Majalla"/>
                <a:ea typeface="Sakkal Majalla"/>
              </a:rPr>
              <a:t>16</a:t>
            </a:r>
            <a:r>
              <a:rPr b="1" lang="ar-SA" sz="4800" spc="-1" strike="noStrike">
                <a:solidFill>
                  <a:srgbClr val="376092"/>
                </a:solidFill>
                <a:latin typeface="Sakkal Majalla"/>
                <a:ea typeface="Sakkal Majalla"/>
              </a:rPr>
              <a:t> دليلاً، ومنها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ولاً: قول الصحابي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ثانياً: المصلحة المرسلة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ثالثاً: الاستصحاب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رابعاً: الاستحسان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خامساً: شرع من قبلنا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B2CB-89D3-4B9D-9579-57AD43D2095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5:10:37Z</dcterms:created>
  <dc:creator>وفاء بنت محمد العيسى</dc:creator>
  <dc:description/>
  <dc:language>en-US</dc:language>
  <cp:lastModifiedBy>seven</cp:lastModifiedBy>
  <dcterms:modified xsi:type="dcterms:W3CDTF">2014-02-03T06:23:56Z</dcterms:modified>
  <cp:revision>2</cp:revision>
  <dc:subject/>
  <dc:title>أدلة التشريع</dc:title>
</cp:coreProperties>
</file>