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3ED-DA4F-499F-97BF-7665C97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D87-5AE7-4FD3-862A-DA9712E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3F0-3B5F-454D-9253-041DE83D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6D2-6BB4-4E81-9A48-9E92FEB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6CE-6594-4E3C-9B42-693CFACA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DC2-85B5-4B64-8A98-40CA98E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508-6B4C-45CD-935F-8E8BDDC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8D7-A5C3-4FF6-90C5-65808F1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90C-3F83-4BBB-863E-C4103F08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5C2-8929-47F9-B80A-E7ACB8C4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FC5-04CD-4F18-AEDC-281CC9E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150-6FD9-427B-AC83-B8816DE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077-E0DB-416B-AB16-AF3214318880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61F-D9CB-4E48-93B4-A149BA0978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1901880"/>
            <a:ext cx="7886880" cy="1719360"/>
            <a:chOff x="628560" y="1901880"/>
            <a:chExt cx="7886880" cy="171936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901880"/>
              <a:ext cx="78868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208960"/>
              <a:ext cx="7772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دلة التشريع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73520"/>
            <a:ext cx="6516720" cy="1359000"/>
            <a:chOff x="1311120" y="3773520"/>
            <a:chExt cx="6516720" cy="13590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73520"/>
              <a:ext cx="6516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cs typeface="Sakkal Majalla"/>
                </a:rPr>
                <a:t>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cs typeface="Sakkal Majalla"/>
                </a:rPr>
                <a:t>المحاضرة الأولى (</a:t>
              </a: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ea typeface="Sakkal Majalla"/>
                </a:rPr>
                <a:t>2</a:t>
              </a:r>
              <a:r>
                <a:rPr b="1" lang="ar-SA" sz="3200" spc="-1" strike="noStrike">
                  <a:solidFill>
                    <a:srgbClr val="f2f2f2"/>
                  </a:solidFill>
                  <a:latin typeface="Sakkal Majalla"/>
                  <a:ea typeface="Sakkal Majalla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عنوان 1"/>
          <p:cNvGrpSpPr/>
          <p:nvPr/>
        </p:nvGrpSpPr>
        <p:grpSpPr>
          <a:xfrm>
            <a:off x="549360" y="-109440"/>
            <a:ext cx="7888320" cy="1719000"/>
            <a:chOff x="549360" y="-109440"/>
            <a:chExt cx="7888320" cy="1719000"/>
          </a:xfrm>
        </p:grpSpPr>
        <p:pic>
          <p:nvPicPr>
            <p:cNvPr id="50" name="عنوان 1" descr=""/>
            <p:cNvPicPr/>
            <p:nvPr/>
          </p:nvPicPr>
          <p:blipFill>
            <a:blip r:embed="rId2"/>
            <a:stretch/>
          </p:blipFill>
          <p:spPr>
            <a:xfrm>
              <a:off x="549360" y="-109440"/>
              <a:ext cx="788832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11280" y="193680"/>
              <a:ext cx="7772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دلة التشريع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2AED-E324-40E7-AF35-3052284B42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صر نائب للتذييل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55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Monotype Koufi"/>
                  <a:cs typeface="Monotype Koufi"/>
                </a:rPr>
                <a:t>تعريف الدليل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852A-AD26-442A-B72C-3DA6102541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1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f2f2f2"/>
                  </a:solidFill>
                  <a:latin typeface="Monotype Koufi"/>
                  <a:cs typeface="Monotype Koufi"/>
                </a:rPr>
                <a:t>الدليل على ترتيب أدلة التشريع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BE9-7365-4D2D-9B92-D4BF6D5926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67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cs typeface="Monotype Koufi"/>
                </a:rPr>
                <a:t>أقسام أدلة  التشريع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" name="صورة 3" descr="$3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99D-71EB-47BC-ACAC-1680484423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73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1</a:t>
              </a: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. أدلة متفق عليها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648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ولاً: الكتاب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نياً: السنة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لثاً: الإجما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رابعاً: القيا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7FA0-1E84-443C-9FD2-F2BAA2CCFE9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عنوان 1"/>
          <p:cNvGrpSpPr/>
          <p:nvPr/>
        </p:nvGrpSpPr>
        <p:grpSpPr>
          <a:xfrm>
            <a:off x="396720" y="311040"/>
            <a:ext cx="8345520" cy="993960"/>
            <a:chOff x="396720" y="311040"/>
            <a:chExt cx="8345520" cy="993960"/>
          </a:xfrm>
        </p:grpSpPr>
        <p:pic>
          <p:nvPicPr>
            <p:cNvPr id="79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11040"/>
              <a:ext cx="83455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1</a:t>
              </a:r>
              <a:r>
                <a:rPr b="1" lang="ar-SA" sz="4400" spc="-1" strike="noStrike">
                  <a:solidFill>
                    <a:srgbClr val="000000"/>
                  </a:solidFill>
                  <a:latin typeface="Monotype Koufi"/>
                  <a:ea typeface="Monotype Koufi"/>
                </a:rPr>
                <a:t>. أدلة مختلف فيها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595520"/>
            <a:ext cx="8229600" cy="59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76092"/>
                </a:solidFill>
                <a:latin typeface="Sakkal Majalla"/>
                <a:cs typeface="Sakkal Majalla"/>
              </a:rPr>
              <a:t>اختلف العلماء في عددها ومنهم من قال بأنها </a:t>
            </a:r>
            <a:r>
              <a:rPr b="1" lang="ar-SA" sz="4800" spc="-1" strike="noStrike">
                <a:solidFill>
                  <a:srgbClr val="376092"/>
                </a:solidFill>
                <a:latin typeface="Sakkal Majalla"/>
                <a:ea typeface="Sakkal Majalla"/>
              </a:rPr>
              <a:t>16</a:t>
            </a:r>
            <a:r>
              <a:rPr b="1" lang="ar-SA" sz="4800" spc="-1" strike="noStrike">
                <a:solidFill>
                  <a:srgbClr val="376092"/>
                </a:solidFill>
                <a:latin typeface="Sakkal Majalla"/>
                <a:ea typeface="Sakkal Majalla"/>
              </a:rPr>
              <a:t> دليلاً، ومنها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ولاً: قول الصحابي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نياً: المصلحة المرسل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ثالثاً: الاستصحاب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رابعاً: الاستحسان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خامساً: شرع من قبلن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A53B-F399-48D5-8011-41CC9F28C3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5:10:37Z</dcterms:created>
  <dc:creator>وفاء بنت محمد العيسى</dc:creator>
  <dc:description/>
  <dc:language>en-US</dc:language>
  <cp:lastModifiedBy>seven</cp:lastModifiedBy>
  <dcterms:modified xsi:type="dcterms:W3CDTF">2014-02-03T06:23:56Z</dcterms:modified>
  <cp:revision>2</cp:revision>
  <dc:subject/>
  <dc:title>أدلة التشريع</dc:title>
</cp:coreProperties>
</file>