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A7A-3159-436F-A4BC-F3AC900B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574-D69A-46B5-9EA4-F8F74083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BDF-0943-4D74-9B8A-AC7A98D0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689-8A46-4F5A-A14A-06D71ABA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18BF-8297-4384-9BD3-9A55BDE1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2BC1-97FA-49BE-A813-87C92C15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943B-1003-44C5-A0A5-E9A9CBF6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665A-F052-479A-AD25-A446619C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0DE4-5F90-487A-8BE3-751FF94C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2B8F-1851-43A6-A7F7-CDA11A3B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5C74-7718-43B2-BD19-DD7AE152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EA2-F495-42D7-82CE-6563C923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542F-8234-4DEC-9C52-C3DCA6A0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19A2-EC59-403C-BC4A-0E9136DF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AABE-6372-4B4B-A055-6F550513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47F7-80A2-4BC9-9EBA-FC171035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A73C-2012-484B-AA81-6B017137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838F2-6AAA-4745-8739-7709D421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ADEDC-EDFD-4C0B-9443-E840F228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00FFB-A4DE-46E5-BD98-D8128628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55920-7E8B-488E-889D-3D974014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4F4A3-8D39-4C44-AE47-F5848082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805-A508-4B16-981D-FB60B023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E6926-F1DA-4ECE-ACC9-75FC27FF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E8890-9D35-4227-AB0C-F6E407E2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525A-DFE8-4CD5-9BE8-8430AF14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6CD0C-2111-4432-98B2-C889AB1D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617CA-F73F-4B42-B1DF-78F9A897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FF4E-FBD6-4E37-847B-5327917C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7D65B-4294-4342-9582-BECD11C9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951A5-D1B8-462A-97CB-6FD8F6BD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98298-3FB4-4C3C-A3A6-9AC369E5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666B6-C1EC-4140-9000-64A3D04C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EEB-834E-4592-AC89-CB2E16A6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0236B-BBC1-42E6-A493-0E737418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CB876-7338-49FE-BE58-C95103A1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F42D9-C55B-44ED-99D8-40D02134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72AAA-9D12-4878-86E0-9446C2DF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73308-B4C1-4097-8C32-C0646F2F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A0D9D-7682-4B11-9F12-BFA06E5A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79C76-F34C-4148-AD3B-8772FAD3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1043F-C6DC-43FD-936A-0AED1E2F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D58C7-6CD9-4C58-A5AC-CF907A34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7296F-62E7-44EE-8BAD-97E99630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D32-B87D-42B0-8948-6BF3D033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47BA0-FBA3-4CB4-8FCC-809D609E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F07C2-D5F1-4774-A03B-BF68F5CD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99A59-C64A-45DB-8CCC-E8152DB2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427CE-AACC-4EA2-BA0D-106D250A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68DB9-D940-43A7-A9AC-092ED7B9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FEA3C-3F17-47C0-B436-209EC05C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99197-E057-4C7C-A78E-FBA3B150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C8C53-A356-44BE-98AB-797B8EDC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212DE-A198-4D3F-AED0-371AABE7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3B37F-5D04-45F2-A956-1163D47B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EA5-8C89-4972-8FC6-3FAA1660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2CB2B-87DB-4969-B43C-230B3932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967B4-3F4B-453D-A7F8-31173B5C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05652-115E-4952-B1DA-089E3454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6F532-FEEF-44DE-81AA-C5EEE1FA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8DE16-9572-4611-9F2B-45608358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467A9-13C8-435C-AF4F-E717F33E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B9353-96ED-4D5D-86A2-B160F00F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ECAD6-2611-45E4-9157-70DB9364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7859A-78CB-498A-BDA3-2EE36286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9CA41-434D-4096-962F-52DE81EA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E3C-4B9F-4EE1-9E69-6D35C868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DF801-75FF-4F6C-976B-73F6E6B2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AE2E1-66FC-4F3B-B216-ADB8BFAF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06F1D-178C-4B3D-AB7D-61A491CB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0DDEE-5A75-4B69-A323-603BB042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5CDFD-7D8E-49E5-8709-B5E871AE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1C03D-4604-445A-9E46-434F39CA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FFCE4-55C1-4477-BC8F-DB07B14D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641B0-3A0B-430C-8561-09CBD32E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2C2F1-1FEE-4458-9A11-0999AF4C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695C4-71E3-483C-83C8-52F18391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BF3-7D96-4157-A9B8-496F11DF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D3CD2-84AB-48C5-BC60-6985D24B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EC432-C1A0-4CC3-BE62-F81036DA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FDD14-599B-479D-9E80-F8E518FD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A3265-6A81-42AB-B5B6-8FFFCC01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0D80C-C329-481E-A484-B37BE993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39C-3B84-4643-AFE1-E50FD283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751"/>
                  <a:pt x="1271246" y="1638579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Pflugerville ISD - August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5DBF-F1FF-487F-AEB0-49C20C8FB3D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751"/>
                  <a:pt x="1271246" y="1638579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25360" cy="219240"/>
            <a:chOff x="914400" y="1407960"/>
            <a:chExt cx="225360" cy="2192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Pflugerville ISD - August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5B24-C5D9-47A9-A752-4305AAD4A73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25720" cy="219240"/>
            <a:chOff x="2163600" y="2809800"/>
            <a:chExt cx="225720" cy="21924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572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Pflugerville ISD - August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3407-ED7A-4F7E-94B4-F0DE9BA084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Pflugerville ISD - August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5C69-5D94-4A59-BAE1-DAC9E5BC0A8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Pflugerville ISD - August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BE49-C2E4-4585-9BE2-095E97ECD6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Pflugerville ISD - August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5879-04FE-4E96-A591-38432D329C4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Pflugerville ISD - August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E22F-E2A6-47A2-8DBA-4495A215B13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2514240"/>
            <a:ext cx="8153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DNA Extraction and Purification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7617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the Absorbance 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0n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the Absorbance 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0n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5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Measurement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617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 the DNA pur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60/280 ratio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cepted ratio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7 - 1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DNA Conc.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d A260 = 1.0, DNA is 50 μg/ml, unknown DNA Conc. can be calculated by cross multipl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60 = 1.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conc. = 50 μg/m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60 = 0.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conc.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case of diluting the eluted sample, multiplies the final concentration by the dilution factor.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is can be adjusted by the spectrophotomet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Left Brace 3"/>
          <p:cNvSpPr/>
          <p:nvPr/>
        </p:nvSpPr>
        <p:spPr>
          <a:xfrm>
            <a:off x="695160" y="1676520"/>
            <a:ext cx="828720" cy="2895480"/>
          </a:xfrm>
          <a:custGeom>
            <a:avLst/>
            <a:gdLst>
              <a:gd name="textAreaLeft" fmla="*/ 529560 w 828720"/>
              <a:gd name="textAreaRight" fmla="*/ 829080 w 828720"/>
              <a:gd name="textAreaTop" fmla="*/ 21600 h 2895480"/>
              <a:gd name="textAreaBottom" fmla="*/ 28738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8"/>
                  <a:pt x="10800" y="515"/>
                </a:cubicBezTo>
                <a:lnTo>
                  <a:pt x="10800" y="10285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8"/>
                  <a:pt x="10800" y="11315"/>
                </a:cubicBezTo>
                <a:lnTo>
                  <a:pt x="10800" y="21085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Box 4"/>
          <p:cNvSpPr/>
          <p:nvPr/>
        </p:nvSpPr>
        <p:spPr>
          <a:xfrm rot="16200000">
            <a:off x="-1475640" y="293940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 by the spectrophot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Measurement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88480" y="159984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Yield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NA Volume x final DNA Con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of DNA solu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μl (0.2 ml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DNA Conc.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μg/m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the yield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.2 ml x 3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g/m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.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DNA yield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DNA Application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64800" y="175212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urified  DNA can be used fo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diagnosis of diseas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, sickle cell anemi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nsic applica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, paternity testing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Molecular biology research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434960" y="1447560"/>
            <a:ext cx="770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lecular techniques using purified DN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tion techniques: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ymera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tion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R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Southern blott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estriction Fragment length polymorphism (RFLP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09600" y="259920"/>
            <a:ext cx="7020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  <a:ea typeface="Comic Sans MS"/>
              </a:rPr>
              <a:t>Lab Equipment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20" name="Group 16"/>
          <p:cNvGrpSpPr/>
          <p:nvPr/>
        </p:nvGrpSpPr>
        <p:grpSpPr>
          <a:xfrm>
            <a:off x="901800" y="1496880"/>
            <a:ext cx="3238560" cy="1552680"/>
            <a:chOff x="901800" y="1496880"/>
            <a:chExt cx="3238560" cy="1552680"/>
          </a:xfrm>
        </p:grpSpPr>
        <p:pic>
          <p:nvPicPr>
            <p:cNvPr id="321" name="Picture 2" descr=""/>
            <p:cNvPicPr/>
            <p:nvPr/>
          </p:nvPicPr>
          <p:blipFill>
            <a:blip r:embed="rId1"/>
            <a:stretch/>
          </p:blipFill>
          <p:spPr>
            <a:xfrm>
              <a:off x="3134160" y="1496880"/>
              <a:ext cx="1006200" cy="15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Rectangle 9"/>
            <p:cNvSpPr/>
            <p:nvPr/>
          </p:nvSpPr>
          <p:spPr>
            <a:xfrm>
              <a:off x="901800" y="1857240"/>
              <a:ext cx="248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utomatic pipet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15"/>
          <p:cNvGrpSpPr/>
          <p:nvPr/>
        </p:nvGrpSpPr>
        <p:grpSpPr>
          <a:xfrm>
            <a:off x="5149800" y="2222640"/>
            <a:ext cx="3384720" cy="2220840"/>
            <a:chOff x="5149800" y="2222640"/>
            <a:chExt cx="3384720" cy="2220840"/>
          </a:xfrm>
        </p:grpSpPr>
        <p:pic>
          <p:nvPicPr>
            <p:cNvPr id="324" name="Picture 6" descr=""/>
            <p:cNvPicPr/>
            <p:nvPr/>
          </p:nvPicPr>
          <p:blipFill>
            <a:blip r:embed="rId2"/>
            <a:stretch/>
          </p:blipFill>
          <p:spPr>
            <a:xfrm>
              <a:off x="7166160" y="2222640"/>
              <a:ext cx="1368360" cy="22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Rectangle 10"/>
            <p:cNvSpPr/>
            <p:nvPr/>
          </p:nvSpPr>
          <p:spPr>
            <a:xfrm>
              <a:off x="5149800" y="3270240"/>
              <a:ext cx="2173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icrocentrifu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14"/>
          <p:cNvGrpSpPr/>
          <p:nvPr/>
        </p:nvGrpSpPr>
        <p:grpSpPr>
          <a:xfrm>
            <a:off x="4082400" y="1568520"/>
            <a:ext cx="2677320" cy="1104840"/>
            <a:chOff x="4082400" y="1568520"/>
            <a:chExt cx="2677320" cy="1104840"/>
          </a:xfrm>
        </p:grpSpPr>
        <p:pic>
          <p:nvPicPr>
            <p:cNvPr id="327" name="Picture 5" descr="http://www.somatco.com/images/1887-176.JPEG"/>
            <p:cNvPicPr/>
            <p:nvPr/>
          </p:nvPicPr>
          <p:blipFill>
            <a:blip r:embed="rId3"/>
            <a:stretch/>
          </p:blipFill>
          <p:spPr>
            <a:xfrm>
              <a:off x="5654880" y="156852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Rectangle 11"/>
            <p:cNvSpPr/>
            <p:nvPr/>
          </p:nvSpPr>
          <p:spPr>
            <a:xfrm>
              <a:off x="4082400" y="200016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 algn="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orte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866880" y="3008160"/>
            <a:ext cx="2923920" cy="1756800"/>
            <a:chOff x="866880" y="3008160"/>
            <a:chExt cx="2923920" cy="1756800"/>
          </a:xfrm>
        </p:grpSpPr>
        <p:pic>
          <p:nvPicPr>
            <p:cNvPr id="330" name="Picture 3" descr=""/>
            <p:cNvPicPr/>
            <p:nvPr/>
          </p:nvPicPr>
          <p:blipFill>
            <a:blip r:embed="rId4"/>
            <a:stretch/>
          </p:blipFill>
          <p:spPr>
            <a:xfrm>
              <a:off x="1549800" y="3008160"/>
              <a:ext cx="2039400" cy="14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Rectangle 12"/>
            <p:cNvSpPr/>
            <p:nvPr/>
          </p:nvSpPr>
          <p:spPr>
            <a:xfrm>
              <a:off x="866880" y="430524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 algn="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ater b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18"/>
          <p:cNvGrpSpPr/>
          <p:nvPr/>
        </p:nvGrpSpPr>
        <p:grpSpPr>
          <a:xfrm>
            <a:off x="1752480" y="4664160"/>
            <a:ext cx="6465960" cy="1856520"/>
            <a:chOff x="1752480" y="4664160"/>
            <a:chExt cx="6465960" cy="1856520"/>
          </a:xfrm>
        </p:grpSpPr>
        <p:pic>
          <p:nvPicPr>
            <p:cNvPr id="333" name="Picture 3" descr="spectrophotometer"/>
            <p:cNvPicPr/>
            <p:nvPr/>
          </p:nvPicPr>
          <p:blipFill>
            <a:blip r:embed="rId5"/>
            <a:stretch/>
          </p:blipFill>
          <p:spPr>
            <a:xfrm>
              <a:off x="5530320" y="4664160"/>
              <a:ext cx="26881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Rectangle 13"/>
            <p:cNvSpPr/>
            <p:nvPr/>
          </p:nvSpPr>
          <p:spPr>
            <a:xfrm>
              <a:off x="1752480" y="5329440"/>
              <a:ext cx="3565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V-spectrophotome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  <a:ea typeface="Comic Sans MS"/>
              </a:rPr>
              <a:t>Lab Equipment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5" descr="C:\Documents and Settings\sumbul\My Documents\My Pictures\thv_Microcentrifuge-PCR-tubes-T330-6&amp;-7.jpg"/>
          <p:cNvPicPr/>
          <p:nvPr/>
        </p:nvPicPr>
        <p:blipFill>
          <a:blip r:embed="rId1"/>
          <a:stretch/>
        </p:blipFill>
        <p:spPr>
          <a:xfrm>
            <a:off x="1143000" y="17733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7"/>
          <p:cNvSpPr/>
          <p:nvPr/>
        </p:nvSpPr>
        <p:spPr>
          <a:xfrm>
            <a:off x="2255040" y="234936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ppendorf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6" descr="C:\Documents and Settings\sumbul\My Documents\My Pictures\cuvette-3.gif"/>
          <p:cNvPicPr/>
          <p:nvPr/>
        </p:nvPicPr>
        <p:blipFill>
          <a:blip r:embed="rId2"/>
          <a:stretch/>
        </p:blipFill>
        <p:spPr>
          <a:xfrm>
            <a:off x="4859280" y="1557360"/>
            <a:ext cx="2206800" cy="1755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C:\Documents and Settings\sumbul\My Documents\My Pictures\eppendorftips2_4.jpg"/>
          <p:cNvPicPr/>
          <p:nvPr/>
        </p:nvPicPr>
        <p:blipFill>
          <a:blip r:embed="rId3"/>
          <a:stretch/>
        </p:blipFill>
        <p:spPr>
          <a:xfrm>
            <a:off x="1030320" y="3333600"/>
            <a:ext cx="3313080" cy="3313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C:\Documents and Settings\sumbul\My Documents\My Pictures\71rWEvord-L._SL1500_.jpg"/>
          <p:cNvPicPr/>
          <p:nvPr/>
        </p:nvPicPr>
        <p:blipFill>
          <a:blip r:embed="rId4"/>
          <a:stretch/>
        </p:blipFill>
        <p:spPr>
          <a:xfrm>
            <a:off x="3780000" y="4005360"/>
            <a:ext cx="2190600" cy="12603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C:\Documents and Settings\sumbul\My Documents\My Pictures\799px-Eppendorf_tubes_rack_1.jpg"/>
          <p:cNvPicPr/>
          <p:nvPr/>
        </p:nvPicPr>
        <p:blipFill>
          <a:blip r:embed="rId5"/>
          <a:srcRect l="5912" t="14907" r="8336" b="18067"/>
          <a:stretch/>
        </p:blipFill>
        <p:spPr>
          <a:xfrm>
            <a:off x="5292720" y="5300640"/>
            <a:ext cx="2087640" cy="649440"/>
          </a:xfrm>
          <a:prstGeom prst="rect">
            <a:avLst/>
          </a:prstGeom>
          <a:ln w="0">
            <a:noFill/>
          </a:ln>
        </p:spPr>
      </p:pic>
      <p:sp>
        <p:nvSpPr>
          <p:cNvPr id="344" name="TextBox 12"/>
          <p:cNvSpPr/>
          <p:nvPr/>
        </p:nvSpPr>
        <p:spPr>
          <a:xfrm>
            <a:off x="6876360" y="22766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ve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373860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14"/>
          <p:cNvSpPr/>
          <p:nvPr/>
        </p:nvSpPr>
        <p:spPr>
          <a:xfrm>
            <a:off x="5692680" y="4149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ck- test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5010120" y="59500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ck- eppendorf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DNA Extraction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14040" y="1523520"/>
            <a:ext cx="817884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is of nucleated cell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contaminan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substance other tha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, e.g., protei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 absorbance at 260nm and 280n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ity of DNA solu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60/280 rati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concent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sorbance at 260n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DNA Extraction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3500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2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nucleated cells using lysis buff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2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NA to the membrane of spin colum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2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wash buff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120000"/>
              </a:lnSpc>
              <a:spcBef>
                <a:spcPts val="550"/>
              </a:spcBef>
              <a:buClr>
                <a:srgbClr val="4f27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pure D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Spin Protocol</a:t>
            </a:r>
            <a:br>
              <a:rPr sz="4400"/>
            </a:b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of</a:t>
            </a:r>
            <a:br>
              <a:rPr sz="4400"/>
            </a:b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DNA Purification from Blood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4"/>
          <p:cNvSpPr/>
          <p:nvPr/>
        </p:nvSpPr>
        <p:spPr>
          <a:xfrm>
            <a:off x="7605720" y="156060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" descr="1.tiff"/>
          <p:cNvPicPr/>
          <p:nvPr/>
        </p:nvPicPr>
        <p:blipFill>
          <a:blip r:embed="rId1"/>
          <a:stretch/>
        </p:blipFill>
        <p:spPr>
          <a:xfrm>
            <a:off x="1058760" y="380880"/>
            <a:ext cx="808524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2.tiff"/>
          <p:cNvPicPr/>
          <p:nvPr/>
        </p:nvPicPr>
        <p:blipFill>
          <a:blip r:embed="rId1"/>
          <a:stretch/>
        </p:blipFill>
        <p:spPr>
          <a:xfrm>
            <a:off x="1006560" y="361800"/>
            <a:ext cx="8137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514240"/>
            <a:ext cx="8153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Comic Sans MS"/>
              </a:rPr>
              <a:t>Quantification of the purified DNA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PKU</cp:lastModifiedBy>
  <dcterms:modified xsi:type="dcterms:W3CDTF">2016-02-20T10:18:58Z</dcterms:modified>
  <cp:revision>134</cp:revision>
  <dc:subject/>
  <dc:title>Lab Safety</dc:title>
</cp:coreProperties>
</file>