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1.jpeg" ContentType="image/jpeg"/>
  <Override PartName="/ppt/media/image17.png" ContentType="image/png"/>
  <Override PartName="/ppt/media/image16.png" ContentType="image/png"/>
  <Override PartName="/ppt/media/image15.jpeg" ContentType="image/jpeg"/>
  <Override PartName="/ppt/media/image14.jpeg" ContentType="image/jpeg"/>
  <Override PartName="/ppt/media/image2.png" ContentType="image/png"/>
  <Override PartName="/ppt/media/image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7.jpeg" ContentType="image/jpeg"/>
  <Override PartName="/ppt/media/image9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5CECE-BE7F-4B0F-917B-0C44C2191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B21E1-AA64-4D17-901C-970FCFF10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DD572-C54C-40E8-82B9-8548F0EFC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DEB42-5773-46AB-9EEA-C6D6C2E42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A01AC-8E34-4BE2-A97C-10C4D0232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87B35-01B0-4968-BE9F-1B0D84D37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DCB77-EE70-4E7E-A727-5DFC56E9D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AAEB9-4B43-467C-BB2C-F85763A7B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74902-92D2-4F04-87BC-CE22258DA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28D9C-859C-428F-B19E-A48EB26CB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E7911-8FE6-4199-B91E-5FA5D626D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6EF41-BB45-4FBA-A549-1605F7403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88B65-B9DF-41A7-9235-B5E1350E1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C0420-5CBB-46B6-AF06-AAD4DF7AD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FA532-5834-4D0A-A52D-F98BA6886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7E49B-1BB4-48E6-A2D6-D022D2DFD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24800-10B4-435C-A47C-79318AD27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F7A2A5-E309-4C27-82DA-F1875BFE2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8DD9E9-AC2A-49AF-ABDA-4FE1C6C6E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530475-7317-4A6E-BBE5-C81A13547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AB4FCB-9D0D-46AA-BBDD-919DCD96E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9EC6CC-B00D-48C5-BDA5-513B8937F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A194C-F602-41E7-967B-C24A9260F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468466-85CF-4C7E-B1E6-F5CF46B08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7CEAFC-E58D-42B3-B1F9-DCDF193F8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44337F-EC60-4248-B08D-2619DE7E8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D35C70-2F72-4F83-A156-1015FA325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DAE435-EBE5-4F48-B875-A3A0C6443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B7835A-7861-43D3-9F5E-1A03EA063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51D8C6-E281-4CA1-A7A1-4791A42CD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8956A6-D67C-4EB3-B740-13F8D8EC8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9294DE-8640-4F23-AFE9-14C493A42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863F72-EEBD-40DF-B3D1-319E9E1A8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93C51-F655-4744-8648-6B0453C22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D77F7F-457F-40CC-9008-757F282DE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335A16-50DE-4F17-A6E0-1DB989D63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B79858-365C-4C3E-A201-84C5815A5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278EA8-EB27-463E-AB9B-C9B126ACB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89BD39-317B-4960-925A-444D2B5A8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16E80C-A9EF-4C61-A540-01E4943EA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7A33B9-A5AA-45A8-907E-F65CB4C94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06BE2F-1003-4E60-9AC0-D30E3FF4A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D28F2F-4650-4EE3-8570-E26C81866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F2825F-551D-450C-84A4-120AB6703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B2A03-D006-49E1-8FC8-24F7844BB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A34642-9EA6-45C0-9C4A-0B5F7B06A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6C5D0A-92F2-4F96-BBE2-7C5543195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DB4650-7ADA-41EB-8B14-36B82C9B6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4BD4A5-E401-4470-A036-90807958D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714A44-833F-4565-A87E-993D64CD2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39A13D-7411-44D9-9076-7CF2D49DF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23F482-C157-4269-8BBA-C5DF06675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30802C-0EF6-4C1E-974B-DD6B6738D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1D7E7D-E26E-4B34-A7E1-ED04B9C5E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9D4782-A364-4A75-9FD3-F87CB37A6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3AE74-911E-43FD-B9CC-07E5BBA61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6F7486-F26B-4476-8906-73D9E22AE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8533F3-1752-4B42-B729-2D40620C9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EEFAEC-B8AF-4E90-BD70-88F322B1D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30028D-681A-4314-8C7F-2CCB85CE8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A26EC2-E532-40B5-B7E4-C29BB14CA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609931-1282-4369-AFA6-07F8FADB3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CA00E3-FA36-42B4-B170-F00DB5862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DDF750-2370-420C-B64F-4AAB81C50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DBA8EF-1852-49C3-881F-42B0DC9C3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AC9B96-6893-46AC-9D73-C1F3F9A25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779BD-74C9-4EF3-AED1-6280F1F28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704B0E-EA3B-4C30-88F2-C0A6FD3D2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B7C436-F64F-408F-A622-11996F51D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1FB716-1323-48C6-B0F9-501F2626F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A4E475-30EF-43E3-98B3-8F1DB3B91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442E40-4169-4C9A-90A1-E7CCFBE00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8BAC56-245E-4EEE-8858-97167F3ED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4DDAA5-954D-447E-BFFB-689A57883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B3FF08-C4AD-40F9-A79A-C3E24B762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B0053C-94F1-4F91-8F3F-D8FB8E1AC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DB6C99-3A97-495A-9F47-CB62FBEA6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5CA8E-B84B-4FF5-885D-716AD9192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0EEB6C-F7A8-4F49-9210-B7A40DD2B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034370-6250-42A7-9A0F-FC3BC4889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06E5B4-FDE2-4DE3-A188-80E0D912C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6C3C50-05ED-4A9B-9394-EC0D982A5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A69BB3-3954-4129-8DAF-06B3102CF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C7352-7779-4A3B-B222-3288001B0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271751"/>
                  <a:pt x="1271246" y="1638579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2556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Pflugerville ISD - August 20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3A764-DF0C-4E86-8523-81338B682071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271751"/>
                  <a:pt x="1271246" y="1638579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2556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" name="Donut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Donut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Oval 12"/>
          <p:cNvGrpSpPr/>
          <p:nvPr/>
        </p:nvGrpSpPr>
        <p:grpSpPr>
          <a:xfrm>
            <a:off x="914400" y="1407960"/>
            <a:ext cx="225360" cy="219240"/>
            <a:chOff x="914400" y="1407960"/>
            <a:chExt cx="225360" cy="219240"/>
          </a:xfrm>
        </p:grpSpPr>
        <p:pic>
          <p:nvPicPr>
            <p:cNvPr id="56" name="Oval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25360" cy="21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Ov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Pflugerville ISD - August 20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63BA6-A485-402E-BD8E-BAA00119A516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Oval 15"/>
          <p:cNvGrpSpPr/>
          <p:nvPr/>
        </p:nvGrpSpPr>
        <p:grpSpPr>
          <a:xfrm>
            <a:off x="2163600" y="2809800"/>
            <a:ext cx="225720" cy="219240"/>
            <a:chOff x="2163600" y="2809800"/>
            <a:chExt cx="225720" cy="219240"/>
          </a:xfrm>
        </p:grpSpPr>
        <p:pic>
          <p:nvPicPr>
            <p:cNvPr id="103" name="Oval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25720" cy="21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" name="Oval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Pflugerville ISD - August 20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4F309-2974-4DF4-A05B-74E98D5A8B75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Pflugerville ISD - August 20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8A9D4-DDE3-4A8C-8E76-51E18E8DD246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Pflugerville ISD - August 20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7B815-FD85-45F7-9613-A27EA7132D04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Pflugerville ISD - August 20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BE5AB-585D-4336-9F9D-07266D38C2BD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Rectangle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Rectangle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5" name="Proces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roces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Pflugerville ISD - August 20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ED093-B1D0-4B97-85B9-E1A564691D8E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pn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7720" y="2514240"/>
            <a:ext cx="81536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72314"/>
                </a:solidFill>
                <a:latin typeface="Comic Sans MS"/>
              </a:rPr>
              <a:t>DNA Extraction and Purification</a:t>
            </a: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 txBox="1"/>
          <p:nvPr/>
        </p:nvSpPr>
        <p:spPr>
          <a:xfrm>
            <a:off x="761760" y="159984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4f271c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asure the Absorbance at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0n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4f271c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4f271c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asure the Absorbance at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0n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657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72314"/>
                </a:solidFill>
                <a:latin typeface="Comic Sans MS"/>
              </a:rPr>
              <a:t>Measurements</a:t>
            </a: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761760" y="159984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4f271c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ess the DNA purity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60/280 ratio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ccepted ratio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7 - 1.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4f271c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culate DNA Conc.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vided A260 = 1.0, DNA is 50 μg/ml, unknown DNA Conc. can be calculated by cross multiplica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260 = 1.0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NA conc. = 50 μg/m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260 = 0.5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NA conc. ?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e: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n case of diluting the eluted sample, multiplies the final concentration by the dilution factor.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This can be adjusted by the spectrophotometer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0" name="Left Brace 3"/>
          <p:cNvSpPr/>
          <p:nvPr/>
        </p:nvSpPr>
        <p:spPr>
          <a:xfrm>
            <a:off x="695160" y="1676520"/>
            <a:ext cx="828720" cy="2895480"/>
          </a:xfrm>
          <a:custGeom>
            <a:avLst/>
            <a:gdLst>
              <a:gd name="textAreaLeft" fmla="*/ 529560 w 828720"/>
              <a:gd name="textAreaRight" fmla="*/ 829080 w 828720"/>
              <a:gd name="textAreaTop" fmla="*/ 21600 h 2895480"/>
              <a:gd name="textAreaBottom" fmla="*/ 2873880 h 2895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58"/>
                  <a:pt x="10800" y="515"/>
                </a:cubicBezTo>
                <a:lnTo>
                  <a:pt x="10800" y="10285"/>
                </a:lnTo>
                <a:cubicBezTo>
                  <a:pt x="10800" y="10543"/>
                  <a:pt x="5400" y="10800"/>
                  <a:pt x="0" y="10800"/>
                </a:cubicBezTo>
                <a:cubicBezTo>
                  <a:pt x="5400" y="10800"/>
                  <a:pt x="10800" y="11058"/>
                  <a:pt x="10800" y="11315"/>
                </a:cubicBezTo>
                <a:lnTo>
                  <a:pt x="10800" y="21085"/>
                </a:lnTo>
                <a:cubicBezTo>
                  <a:pt x="10800" y="21343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TextBox 4"/>
          <p:cNvSpPr/>
          <p:nvPr/>
        </p:nvSpPr>
        <p:spPr>
          <a:xfrm rot="16200000">
            <a:off x="-1475640" y="2939400"/>
            <a:ext cx="402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ne by the spectrophotome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72314"/>
                </a:solidFill>
                <a:latin typeface="Comic Sans MS"/>
              </a:rPr>
              <a:t>Measurements</a:t>
            </a: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 txBox="1"/>
          <p:nvPr/>
        </p:nvSpPr>
        <p:spPr>
          <a:xfrm>
            <a:off x="888480" y="1599840"/>
            <a:ext cx="81788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03200"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NA Yield 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NA Volume x final DNA Conc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403200"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403200"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403200"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you hav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403200"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lume of DNA solution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0μl (0.2 ml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403200"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al DNA Conc.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 μg/m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403200"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403200"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n, the yield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0.2 ml x 30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g/m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403200"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6.0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72314"/>
                </a:solidFill>
                <a:latin typeface="Comic Sans MS"/>
              </a:rPr>
              <a:t>DNA yield</a:t>
            </a: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72314"/>
                </a:solidFill>
                <a:latin typeface="Comic Sans MS"/>
              </a:rPr>
              <a:t>DNA Applications</a:t>
            </a: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964800" y="1752120"/>
            <a:ext cx="8178840" cy="459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24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Purified  DNA can be used for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824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lecular diagnosis of diseases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824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e.g., sickle cell anemia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824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824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ensic applications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824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e.g., paternity testing)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824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824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Molecular biology research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 txBox="1"/>
          <p:nvPr/>
        </p:nvSpPr>
        <p:spPr>
          <a:xfrm>
            <a:off x="1434960" y="1447560"/>
            <a:ext cx="77090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Molecular techniques using purified DNA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plification techniques: 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lymeras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in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tion 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CR)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. Southern blotting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. Restriction Fragment length polymorphism (RFLP)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209600" y="259920"/>
            <a:ext cx="70200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72314"/>
                </a:solidFill>
                <a:latin typeface="Comic Sans MS"/>
                <a:ea typeface="Comic Sans MS"/>
              </a:rPr>
              <a:t>Lab Equipments</a:t>
            </a: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grpSp>
        <p:nvGrpSpPr>
          <p:cNvPr id="320" name="Group 16"/>
          <p:cNvGrpSpPr/>
          <p:nvPr/>
        </p:nvGrpSpPr>
        <p:grpSpPr>
          <a:xfrm>
            <a:off x="901800" y="1496880"/>
            <a:ext cx="3238560" cy="1552680"/>
            <a:chOff x="901800" y="1496880"/>
            <a:chExt cx="3238560" cy="1552680"/>
          </a:xfrm>
        </p:grpSpPr>
        <p:pic>
          <p:nvPicPr>
            <p:cNvPr id="321" name="Picture 2" descr=""/>
            <p:cNvPicPr/>
            <p:nvPr/>
          </p:nvPicPr>
          <p:blipFill>
            <a:blip r:embed="rId1"/>
            <a:stretch/>
          </p:blipFill>
          <p:spPr>
            <a:xfrm>
              <a:off x="3134160" y="1496880"/>
              <a:ext cx="1006200" cy="155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2" name="Rectangle 9"/>
            <p:cNvSpPr/>
            <p:nvPr/>
          </p:nvSpPr>
          <p:spPr>
            <a:xfrm>
              <a:off x="901800" y="1857240"/>
              <a:ext cx="2484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r" rtl="1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Automatic pipett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3" name="Group 15"/>
          <p:cNvGrpSpPr/>
          <p:nvPr/>
        </p:nvGrpSpPr>
        <p:grpSpPr>
          <a:xfrm>
            <a:off x="5149800" y="2222640"/>
            <a:ext cx="3384720" cy="2220840"/>
            <a:chOff x="5149800" y="2222640"/>
            <a:chExt cx="3384720" cy="2220840"/>
          </a:xfrm>
        </p:grpSpPr>
        <p:pic>
          <p:nvPicPr>
            <p:cNvPr id="324" name="Picture 6" descr=""/>
            <p:cNvPicPr/>
            <p:nvPr/>
          </p:nvPicPr>
          <p:blipFill>
            <a:blip r:embed="rId2"/>
            <a:stretch/>
          </p:blipFill>
          <p:spPr>
            <a:xfrm>
              <a:off x="7166160" y="2222640"/>
              <a:ext cx="1368360" cy="222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Rectangle 10"/>
            <p:cNvSpPr/>
            <p:nvPr/>
          </p:nvSpPr>
          <p:spPr>
            <a:xfrm>
              <a:off x="5149800" y="3270240"/>
              <a:ext cx="21733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r" rtl="1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Microcentrifug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6" name="Group 14"/>
          <p:cNvGrpSpPr/>
          <p:nvPr/>
        </p:nvGrpSpPr>
        <p:grpSpPr>
          <a:xfrm>
            <a:off x="4082400" y="1568520"/>
            <a:ext cx="2677320" cy="1104840"/>
            <a:chOff x="4082400" y="1568520"/>
            <a:chExt cx="2677320" cy="1104840"/>
          </a:xfrm>
        </p:grpSpPr>
        <p:pic>
          <p:nvPicPr>
            <p:cNvPr id="327" name="Picture 5" descr="http://www.somatco.com/images/1887-176.JPEG"/>
            <p:cNvPicPr/>
            <p:nvPr/>
          </p:nvPicPr>
          <p:blipFill>
            <a:blip r:embed="rId3"/>
            <a:stretch/>
          </p:blipFill>
          <p:spPr>
            <a:xfrm>
              <a:off x="5654880" y="1568520"/>
              <a:ext cx="1104840" cy="110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8" name="Rectangle 11"/>
            <p:cNvSpPr/>
            <p:nvPr/>
          </p:nvSpPr>
          <p:spPr>
            <a:xfrm>
              <a:off x="4082400" y="2000160"/>
              <a:ext cx="2192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457200" indent="-457200" algn="r" rtl="1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Vorte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9" name="Group 17"/>
          <p:cNvGrpSpPr/>
          <p:nvPr/>
        </p:nvGrpSpPr>
        <p:grpSpPr>
          <a:xfrm>
            <a:off x="866880" y="3008160"/>
            <a:ext cx="2923920" cy="1756800"/>
            <a:chOff x="866880" y="3008160"/>
            <a:chExt cx="2923920" cy="1756800"/>
          </a:xfrm>
        </p:grpSpPr>
        <p:pic>
          <p:nvPicPr>
            <p:cNvPr id="330" name="Picture 3" descr=""/>
            <p:cNvPicPr/>
            <p:nvPr/>
          </p:nvPicPr>
          <p:blipFill>
            <a:blip r:embed="rId4"/>
            <a:stretch/>
          </p:blipFill>
          <p:spPr>
            <a:xfrm>
              <a:off x="1549800" y="3008160"/>
              <a:ext cx="2039400" cy="144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1" name="Rectangle 12"/>
            <p:cNvSpPr/>
            <p:nvPr/>
          </p:nvSpPr>
          <p:spPr>
            <a:xfrm>
              <a:off x="866880" y="4305240"/>
              <a:ext cx="2923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457200" indent="-457200" algn="r" rtl="1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Water bat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2" name="Group 18"/>
          <p:cNvGrpSpPr/>
          <p:nvPr/>
        </p:nvGrpSpPr>
        <p:grpSpPr>
          <a:xfrm>
            <a:off x="1752480" y="4664160"/>
            <a:ext cx="6465960" cy="1856520"/>
            <a:chOff x="1752480" y="4664160"/>
            <a:chExt cx="6465960" cy="1856520"/>
          </a:xfrm>
        </p:grpSpPr>
        <p:pic>
          <p:nvPicPr>
            <p:cNvPr id="333" name="Picture 3" descr="spectrophotometer"/>
            <p:cNvPicPr/>
            <p:nvPr/>
          </p:nvPicPr>
          <p:blipFill>
            <a:blip r:embed="rId5"/>
            <a:stretch/>
          </p:blipFill>
          <p:spPr>
            <a:xfrm>
              <a:off x="5530320" y="4664160"/>
              <a:ext cx="2688120" cy="158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4" name="Rectangle 13"/>
            <p:cNvSpPr/>
            <p:nvPr/>
          </p:nvSpPr>
          <p:spPr>
            <a:xfrm>
              <a:off x="1752480" y="5329440"/>
              <a:ext cx="35654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r" rtl="1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UV-spectrophotomet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18728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72314"/>
                </a:solidFill>
                <a:latin typeface="Comic Sans MS"/>
                <a:ea typeface="Comic Sans MS"/>
              </a:rPr>
              <a:t>Lab Equipments</a:t>
            </a: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6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8" name="Picture 5" descr="C:\Documents and Settings\sumbul\My Documents\My Pictures\thv_Microcentrifuge-PCR-tubes-T330-6&amp;-7.jpg"/>
          <p:cNvPicPr/>
          <p:nvPr/>
        </p:nvPicPr>
        <p:blipFill>
          <a:blip r:embed="rId1"/>
          <a:stretch/>
        </p:blipFill>
        <p:spPr>
          <a:xfrm>
            <a:off x="1143000" y="177336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339" name="TextBox 7"/>
          <p:cNvSpPr/>
          <p:nvPr/>
        </p:nvSpPr>
        <p:spPr>
          <a:xfrm>
            <a:off x="2255040" y="2349360"/>
            <a:ext cx="226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ppendorf tu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0" name="Picture 6" descr="C:\Documents and Settings\sumbul\My Documents\My Pictures\cuvette-3.gif"/>
          <p:cNvPicPr/>
          <p:nvPr/>
        </p:nvPicPr>
        <p:blipFill>
          <a:blip r:embed="rId2"/>
          <a:stretch/>
        </p:blipFill>
        <p:spPr>
          <a:xfrm>
            <a:off x="4859280" y="1557360"/>
            <a:ext cx="2206800" cy="175572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7" descr="C:\Documents and Settings\sumbul\My Documents\My Pictures\eppendorftips2_4.jpg"/>
          <p:cNvPicPr/>
          <p:nvPr/>
        </p:nvPicPr>
        <p:blipFill>
          <a:blip r:embed="rId3"/>
          <a:stretch/>
        </p:blipFill>
        <p:spPr>
          <a:xfrm>
            <a:off x="1030320" y="3333600"/>
            <a:ext cx="3313080" cy="331344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8" descr="C:\Documents and Settings\sumbul\My Documents\My Pictures\71rWEvord-L._SL1500_.jpg"/>
          <p:cNvPicPr/>
          <p:nvPr/>
        </p:nvPicPr>
        <p:blipFill>
          <a:blip r:embed="rId4"/>
          <a:stretch/>
        </p:blipFill>
        <p:spPr>
          <a:xfrm>
            <a:off x="3780000" y="4005360"/>
            <a:ext cx="2190600" cy="126036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9" descr="C:\Documents and Settings\sumbul\My Documents\My Pictures\799px-Eppendorf_tubes_rack_1.jpg"/>
          <p:cNvPicPr/>
          <p:nvPr/>
        </p:nvPicPr>
        <p:blipFill>
          <a:blip r:embed="rId5"/>
          <a:srcRect l="5912" t="14907" r="8336" b="18067"/>
          <a:stretch/>
        </p:blipFill>
        <p:spPr>
          <a:xfrm>
            <a:off x="5292720" y="5300640"/>
            <a:ext cx="2087640" cy="649440"/>
          </a:xfrm>
          <a:prstGeom prst="rect">
            <a:avLst/>
          </a:prstGeom>
          <a:ln w="0">
            <a:noFill/>
          </a:ln>
        </p:spPr>
      </p:pic>
      <p:sp>
        <p:nvSpPr>
          <p:cNvPr id="344" name="TextBox 12"/>
          <p:cNvSpPr/>
          <p:nvPr/>
        </p:nvSpPr>
        <p:spPr>
          <a:xfrm>
            <a:off x="6876360" y="2276640"/>
            <a:ext cx="138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uvet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TextBox 13"/>
          <p:cNvSpPr/>
          <p:nvPr/>
        </p:nvSpPr>
        <p:spPr>
          <a:xfrm>
            <a:off x="3738600" y="3429000"/>
            <a:ext cx="75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TextBox 14"/>
          <p:cNvSpPr/>
          <p:nvPr/>
        </p:nvSpPr>
        <p:spPr>
          <a:xfrm>
            <a:off x="5692680" y="414972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ack- test tu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TextBox 15"/>
          <p:cNvSpPr/>
          <p:nvPr/>
        </p:nvSpPr>
        <p:spPr>
          <a:xfrm>
            <a:off x="5010120" y="5950080"/>
            <a:ext cx="311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ack- eppendorf tu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72314"/>
                </a:solidFill>
                <a:latin typeface="Comic Sans MS"/>
              </a:rPr>
              <a:t>DNA Extraction</a:t>
            </a: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914040" y="1523520"/>
            <a:ext cx="8178840" cy="466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2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iple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82440">
              <a:lnSpc>
                <a:spcPct val="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824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ysis of nucleated cells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824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moval of contaminants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y substance other than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824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NA, e.g., protein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824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asurements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UV absorbance at 260nm and 280nm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824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824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rity of DNA solution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60/280 ratio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824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NA concentration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bsorbance at 260nm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82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824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72314"/>
                </a:solidFill>
                <a:latin typeface="Comic Sans MS"/>
              </a:rPr>
              <a:t>DNA Extraction</a:t>
            </a: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103500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24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eps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824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800280" indent="-343080">
              <a:lnSpc>
                <a:spcPct val="120000"/>
              </a:lnSpc>
              <a:spcBef>
                <a:spcPts val="550"/>
              </a:spcBef>
              <a:buClr>
                <a:srgbClr val="4f271c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ysi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nucleated cells using lysis buffer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800280" indent="-343080">
              <a:lnSpc>
                <a:spcPct val="120000"/>
              </a:lnSpc>
              <a:spcBef>
                <a:spcPts val="550"/>
              </a:spcBef>
              <a:buClr>
                <a:srgbClr val="4f271c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DNA to the membrane of spin column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800280" indent="-343080">
              <a:lnSpc>
                <a:spcPct val="120000"/>
              </a:lnSpc>
              <a:spcBef>
                <a:spcPts val="550"/>
              </a:spcBef>
              <a:buClr>
                <a:srgbClr val="4f271c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sh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using wash buffer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800280" indent="-343080">
              <a:lnSpc>
                <a:spcPct val="120000"/>
              </a:lnSpc>
              <a:spcBef>
                <a:spcPts val="550"/>
              </a:spcBef>
              <a:buClr>
                <a:srgbClr val="4f271c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u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pure DN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990720" y="2514240"/>
            <a:ext cx="8153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72314"/>
                </a:solidFill>
                <a:latin typeface="Comic Sans MS"/>
              </a:rPr>
              <a:t>Spin Protocol</a:t>
            </a:r>
            <a:br>
              <a:rPr sz="4400"/>
            </a:br>
            <a:r>
              <a:rPr b="1" lang="en-US" sz="4400" spc="-1" strike="noStrike">
                <a:solidFill>
                  <a:srgbClr val="572314"/>
                </a:solidFill>
                <a:latin typeface="Comic Sans MS"/>
              </a:rPr>
              <a:t>of</a:t>
            </a:r>
            <a:br>
              <a:rPr sz="4400"/>
            </a:br>
            <a:r>
              <a:rPr b="1" lang="en-US" sz="4400" spc="-1" strike="noStrike">
                <a:solidFill>
                  <a:srgbClr val="572314"/>
                </a:solidFill>
                <a:latin typeface="Comic Sans MS"/>
              </a:rPr>
              <a:t>DNA Purification from Blood</a:t>
            </a: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TextBox 4"/>
          <p:cNvSpPr/>
          <p:nvPr/>
        </p:nvSpPr>
        <p:spPr>
          <a:xfrm>
            <a:off x="7605720" y="1560600"/>
            <a:ext cx="1857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4" name="Picture 1" descr="1.tiff"/>
          <p:cNvPicPr/>
          <p:nvPr/>
        </p:nvPicPr>
        <p:blipFill>
          <a:blip r:embed="rId1"/>
          <a:stretch/>
        </p:blipFill>
        <p:spPr>
          <a:xfrm>
            <a:off x="1058760" y="380880"/>
            <a:ext cx="8085240" cy="605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Picture 1" descr="2.tiff"/>
          <p:cNvPicPr/>
          <p:nvPr/>
        </p:nvPicPr>
        <p:blipFill>
          <a:blip r:embed="rId1"/>
          <a:stretch/>
        </p:blipFill>
        <p:spPr>
          <a:xfrm>
            <a:off x="1006560" y="361800"/>
            <a:ext cx="813744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37720" y="2514240"/>
            <a:ext cx="81536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72314"/>
                </a:solidFill>
                <a:latin typeface="Comic Sans MS"/>
              </a:rPr>
              <a:t>Quantification of the purified DNA</a:t>
            </a: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17T06:14:36Z</dcterms:created>
  <dc:creator>Cheryl Massengale</dc:creator>
  <dc:description/>
  <dc:language>en-US</dc:language>
  <cp:lastModifiedBy>PKU</cp:lastModifiedBy>
  <dcterms:modified xsi:type="dcterms:W3CDTF">2016-02-20T10:18:58Z</dcterms:modified>
  <cp:revision>134</cp:revision>
  <dc:subject/>
  <dc:title>Lab Safety</dc:title>
</cp:coreProperties>
</file>