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0.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1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ea typeface="Arial"/>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FF809-2E22-4E7E-A14A-F3037C2547A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85800" y="1143000"/>
            <a:ext cx="5486400" cy="3086280"/>
          </a:xfrm>
          <a:prstGeom prst="rect">
            <a:avLst/>
          </a:prstGeom>
          <a:ln w="0">
            <a:noFill/>
          </a:ln>
        </p:spPr>
      </p:sp>
      <p:sp>
        <p:nvSpPr>
          <p:cNvPr id="4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9797A-FB0F-46B1-8655-7BDD427229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85800" y="1143000"/>
            <a:ext cx="5486400" cy="3086280"/>
          </a:xfrm>
          <a:prstGeom prst="rect">
            <a:avLst/>
          </a:prstGeom>
          <a:ln w="0">
            <a:noFill/>
          </a:ln>
        </p:spPr>
      </p:sp>
      <p:sp>
        <p:nvSpPr>
          <p:cNvPr id="4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4A776-1712-42DA-9355-31D59D07A5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85800" y="1143000"/>
            <a:ext cx="5486400" cy="3086280"/>
          </a:xfrm>
          <a:prstGeom prst="rect">
            <a:avLst/>
          </a:prstGeom>
          <a:ln w="0">
            <a:noFill/>
          </a:ln>
        </p:spPr>
      </p:sp>
      <p:sp>
        <p:nvSpPr>
          <p:cNvPr id="4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979D6-9F0C-4459-9529-BFA0D83A5FB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85800" y="1143000"/>
            <a:ext cx="5486400" cy="3086280"/>
          </a:xfrm>
          <a:prstGeom prst="rect">
            <a:avLst/>
          </a:prstGeom>
          <a:ln w="0">
            <a:noFill/>
          </a:ln>
        </p:spPr>
      </p:sp>
      <p:sp>
        <p:nvSpPr>
          <p:cNvPr id="4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CF6B7-1664-4503-B054-76081B8717F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85800" y="1143000"/>
            <a:ext cx="5486400" cy="3086280"/>
          </a:xfrm>
          <a:prstGeom prst="rect">
            <a:avLst/>
          </a:prstGeom>
          <a:ln w="0">
            <a:noFill/>
          </a:ln>
        </p:spPr>
      </p:sp>
      <p:sp>
        <p:nvSpPr>
          <p:cNvPr id="4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45ECB-910B-452B-8236-6931D37ADB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685800" y="1143000"/>
            <a:ext cx="5486400" cy="3086280"/>
          </a:xfrm>
          <a:prstGeom prst="rect">
            <a:avLst/>
          </a:prstGeom>
          <a:ln w="0">
            <a:noFill/>
          </a:ln>
        </p:spPr>
      </p:sp>
      <p:sp>
        <p:nvSpPr>
          <p:cNvPr id="43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بانتهاء خطوات المراجعة، يجب أن يعلن المراجع عن انتهاء الواجبات المحددة في البرنامج وأن يحتفظ بأوراق العمل التي توثيق نتائج المراجع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عنصر نائب لرقم الشريحة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5B4CF-A324-46AE-9D21-63EA7972E68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685800" y="1143000"/>
            <a:ext cx="5486400" cy="3086280"/>
          </a:xfrm>
          <a:prstGeom prst="rect">
            <a:avLst/>
          </a:prstGeom>
          <a:ln w="0">
            <a:noFill/>
          </a:ln>
        </p:spPr>
      </p:sp>
      <p:sp>
        <p:nvSpPr>
          <p:cNvPr id="441" name="PlaceHolder 2"/>
          <p:cNvSpPr>
            <a:spLocks noGrp="1"/>
          </p:cNvSpPr>
          <p:nvPr>
            <p:ph type="body"/>
          </p:nvPr>
        </p:nvSpPr>
        <p:spPr>
          <a:xfrm>
            <a:off x="685800" y="4400280"/>
            <a:ext cx="5486400" cy="3600360"/>
          </a:xfrm>
          <a:prstGeom prst="rect">
            <a:avLst/>
          </a:prstGeom>
          <a:noFill/>
          <a:ln w="0">
            <a:noFill/>
          </a:ln>
        </p:spPr>
        <p:txBody>
          <a:bodyPr anchor="t">
            <a:noAutofit/>
          </a:bodyPr>
          <a:p>
            <a:pPr marL="343080" indent="0" algn="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توثيق</a:t>
            </a:r>
            <a:r>
              <a:rPr b="1" lang="ar-SA" sz="2200" spc="-1" strike="noStrike">
                <a:solidFill>
                  <a:srgbClr val="000000"/>
                </a:solidFill>
                <a:latin typeface="Calibri"/>
                <a:ea typeface="Arial"/>
              </a:rPr>
              <a:t>:</a:t>
            </a:r>
            <a:endParaRPr b="0" lang="en-US" sz="2200" spc="-1" strike="noStrike">
              <a:solidFill>
                <a:srgbClr val="000000"/>
              </a:solidFill>
              <a:latin typeface="Calibri"/>
            </a:endParaRPr>
          </a:p>
          <a:p>
            <a:pPr lvl="1" marL="56052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جب توثيق أهداف التخطيط ونطاق العمل عن طريق إدراجها في مذكرة تخطيط المراجعة</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lvl="1" marL="56052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ذا حدث تعديلات على أهداف ونطاق عمل المراجعة التي تم الموافقة عليها وتم توثيقها ، يجب مناقشة هذه التعديلات مع مدير المراجعة الداخلية والحصول على موافقة المسئول الأول بالجهة قبل البدء في تنفيذ هذه التعديلات</a:t>
            </a:r>
            <a:endParaRPr b="0" lang="en-US" sz="1800" spc="-1" strike="noStrike">
              <a:solidFill>
                <a:srgbClr val="000000"/>
              </a:solidFill>
              <a:latin typeface="Calibri"/>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81E31-D14B-44EC-A02D-98BA7EB7BF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85800" y="1143000"/>
            <a:ext cx="5486400" cy="3086280"/>
          </a:xfrm>
          <a:prstGeom prst="rect">
            <a:avLst/>
          </a:prstGeom>
          <a:ln w="0">
            <a:noFill/>
          </a:ln>
        </p:spPr>
      </p:sp>
      <p:sp>
        <p:nvSpPr>
          <p:cNvPr id="444" name="PlaceHolder 2"/>
          <p:cNvSpPr>
            <a:spLocks noGrp="1"/>
          </p:cNvSpPr>
          <p:nvPr>
            <p:ph type="body"/>
          </p:nvPr>
        </p:nvSpPr>
        <p:spPr>
          <a:xfrm>
            <a:off x="685800" y="4400280"/>
            <a:ext cx="5486400" cy="3600360"/>
          </a:xfrm>
          <a:prstGeom prst="rect">
            <a:avLst/>
          </a:prstGeom>
          <a:noFill/>
          <a:ln w="0">
            <a:noFill/>
          </a:ln>
        </p:spPr>
        <p:txBody>
          <a:bodyPr anchor="t">
            <a:noAutofit/>
          </a:bodyPr>
          <a:p>
            <a:pPr lvl="3" marL="1371600" indent="0" algn="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سئولية إعداد قائمة أعمال مراجعة المهمة ومذكرة التخطيط تقع على عاتق رئيس فريق المراجعة ويتعين عليه اعتمادها من مدير إدارة المراجع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CE4EC-CE23-44F1-B6FB-D3E48ABF148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85800" y="1143000"/>
            <a:ext cx="5486400" cy="3086280"/>
          </a:xfrm>
          <a:prstGeom prst="rect">
            <a:avLst/>
          </a:prstGeom>
          <a:ln w="0">
            <a:noFill/>
          </a:ln>
        </p:spPr>
      </p:sp>
      <p:sp>
        <p:nvSpPr>
          <p:cNvPr id="41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الهدف من عملية التنظيم تحقيق الأهداف بفاعلي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53D26-C5BF-4F3E-B95E-EDEB2F18F60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685800" y="1143000"/>
            <a:ext cx="5486400" cy="3086280"/>
          </a:xfrm>
          <a:prstGeom prst="rect">
            <a:avLst/>
          </a:prstGeom>
          <a:ln w="0">
            <a:noFill/>
          </a:ln>
        </p:spPr>
      </p:sp>
      <p:sp>
        <p:nvSpPr>
          <p:cNvPr id="4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قد يتم استخدام علامات أو رموز في أوراق العمل لترمز إلى خطوات عمل معين أو ترمز إلي إجراء معين أو تحمل معنى معين يعلمه المراجع. في هذه الحالة يجب عمل قائمة تفسيرية لشرح رموز الإشارات التي تستخدمها وحدة المراجعة. </a:t>
            </a:r>
            <a:endParaRPr b="0" lang="en-US" sz="1200" spc="-1" strike="noStrike">
              <a:solidFill>
                <a:srgbClr val="000000"/>
              </a:solidFill>
              <a:latin typeface="Calibri"/>
            </a:endParaRPr>
          </a:p>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رقيم أوراق العمل وربطها ببعضها بطريقة ملائمة يعتبر من متطلبات ملف أوراق العمل</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0D936-BD4A-4EAD-9EB6-BDE8C1671F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85800" y="1143000"/>
            <a:ext cx="5486400" cy="3086280"/>
          </a:xfrm>
          <a:prstGeom prst="rect">
            <a:avLst/>
          </a:prstGeom>
          <a:ln w="0">
            <a:noFill/>
          </a:ln>
        </p:spPr>
      </p:sp>
      <p:sp>
        <p:nvSpPr>
          <p:cNvPr id="414" name="PlaceHolder 2"/>
          <p:cNvSpPr>
            <a:spLocks noGrp="1"/>
          </p:cNvSpPr>
          <p:nvPr>
            <p:ph type="body"/>
          </p:nvPr>
        </p:nvSpPr>
        <p:spPr>
          <a:xfrm>
            <a:off x="685800" y="4400280"/>
            <a:ext cx="5486400" cy="3600360"/>
          </a:xfrm>
          <a:prstGeom prst="rect">
            <a:avLst/>
          </a:prstGeom>
          <a:noFill/>
          <a:ln w="0">
            <a:noFill/>
          </a:ln>
        </p:spPr>
        <p:txBody>
          <a:bodyPr anchor="t">
            <a:noAutofit/>
          </a:bodyPr>
          <a:p>
            <a:pPr lvl="3" marL="914400" indent="0" algn="r">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d7d31"/>
                </a:solidFill>
                <a:latin typeface="Calibri"/>
                <a:cs typeface="Arial"/>
              </a:rPr>
              <a:t>بتنفيذالمهام  تتنفذ الخطط  وبتنفيذ الخطط تتنفذ الاستراتجية</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B0A86-52BB-4521-B2C3-B75A209B92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85800" y="1143000"/>
            <a:ext cx="5486400" cy="3086280"/>
          </a:xfrm>
          <a:prstGeom prst="rect">
            <a:avLst/>
          </a:prstGeom>
          <a:ln w="0">
            <a:noFill/>
          </a:ln>
        </p:spPr>
      </p:sp>
      <p:sp>
        <p:nvSpPr>
          <p:cNvPr id="4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1E474-9121-4836-A7E9-9EDDFC036C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85800" y="1143000"/>
            <a:ext cx="5486400" cy="3086280"/>
          </a:xfrm>
          <a:prstGeom prst="rect">
            <a:avLst/>
          </a:prstGeom>
          <a:ln w="0">
            <a:noFill/>
          </a:ln>
        </p:spPr>
      </p:sp>
      <p:sp>
        <p:nvSpPr>
          <p:cNvPr id="4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ed7d31"/>
              </a:solidFill>
              <a:latin typeface="Calibri"/>
              <a:ea typeface="Arial"/>
            </a:endParaRPr>
          </a:p>
        </p:txBody>
      </p:sp>
      <p:sp>
        <p:nvSpPr>
          <p:cNvPr id="4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06BC7-6008-49AB-8652-42D722A68B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CDAE1-4320-4D01-810E-3F636A963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03AB6-9833-4E58-9DBC-3CBE99C3A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C1A6E-2CFC-4170-BD06-16B0DBAFD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28CB4-F4D7-4B0C-9452-5FCBAA518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CE5F1-DAA8-4C76-B1F3-7229FE458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0A409-E31A-4B8D-91ED-0FAE94B40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24524-B77C-469A-ADE5-545E51D19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4E6F0-EEB0-4034-8686-912B36BF7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F71A5-C8D6-424B-868F-CF26E1CB9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DD4A3-7D03-48D2-B0F7-FFA4E5228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C129E-F93E-4A52-A3F7-5E60E57F4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65A6B-2DAB-44A7-99FE-3C16675A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CCED0-E8AA-420F-9A7A-AF661E05E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3CD6F-8375-42F6-842A-743D7B7D5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70AC5-4A73-4CE1-A5C4-0AEE63A90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FB81C-C0EF-41D7-AFD7-3231CEE89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5FC86-5328-42A1-9B29-AB6F917A2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E3A52C-BF88-4837-A454-1B9BC7D6EB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11284-E71C-4F25-A2F4-ABEB84766E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06920-2E64-4700-8D56-0CA7E724EC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1EA2F-AA22-446B-BB09-83B66D098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89AB1-E7CB-411B-927C-65765F628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4A96C-9139-4F87-BB36-24CC4F43F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89994A-8FF6-4207-B17F-91F068261D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7565D-F270-4993-9CCF-E4EB53DD5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F6B62-BFD3-49C3-A0C9-6519B569F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3AB22-674F-4CB0-9DC0-FE7529DCD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D16CC2-CDD6-4ED2-B6C9-7E9DC9BBB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7A4EFC-7D5E-4220-8276-6ED475A9A6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795AB5-65DF-49B4-81E2-D644AE54FA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05EDC6-272E-453A-9A54-C519E9A801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C1E20F-A0FE-4320-B6CA-B5E77C3FA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72E2D-6BB6-4AF9-9812-5A6BB29B19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F072D-42F9-47C4-95C9-081D1D2B3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C0E51-C4E9-40C4-AFEB-DACBD2287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CBF1C-5912-4600-A3E1-4E2616EF0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27896-5FFA-4304-803B-A6A4899E2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9E42B-C9BD-4C60-B0D8-98D1D1D98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20282-AACF-4BE6-A61F-6E3E6D9A8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76227F-B35A-4267-8534-8472268E7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8A34B-0518-4000-853F-A2796CBE39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DE16AC-C7EE-4449-BE90-6601CDED64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3D62A2-7B4D-4BB3-8E4A-328DC45AD4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FA84B8-4B93-498A-AC6C-17C3C853CD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9278E-1DD1-4BF7-A9A3-57419EE29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9F14AF-355C-42EA-AFD0-7AA843330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84D866-D7B5-4E02-9CBB-30DD863875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39EFD3-2FB0-497F-9024-1328DC519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A1255-762A-4C31-B8BA-0426C4B724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57690B-1EF1-48B1-B384-FF60AC252D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7E7D6-4158-4FB7-B2CA-FC79E9BF2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B538A5-F66F-4C16-8EC5-EAF50B89F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CF552-3EC1-4547-BE17-4F45713F0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32A91A-6A13-49EF-972B-6EB4F36E19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14E79B-0D7E-4C7B-BDBC-3AF0CF9E25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A4561-1176-4E07-BB07-3BFD8E053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59DD86-5834-43EE-BD4B-BE638A1F26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330BFA-E9AA-4FDC-9845-1D645B733C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86DFEB-9586-49F9-97A4-4E02A0E44A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9C3A13-36C1-4079-A767-9A6B27FB58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828459-74C9-42DE-922B-08DE68D16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DEB1AF-5BB1-4C76-8EB9-D43BA6B5AD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C1AB66-A80D-4EBE-92C7-53FCFE859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14B29-DD67-4640-86BA-317FB4F9B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B522DA-03E6-4AB3-9753-33ECDDD99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8BE78E-EA30-4792-8C51-F30708120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7A1A7-976B-4457-8563-257F110D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65D8A6-6597-4E61-914D-CFDC3B3BFD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025EB8-FDAB-4F13-BC89-590C5D9AF3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D19CCA-5C66-4852-84D2-A07D49EF44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C44633-A2EA-48FB-B3B2-9FB498B2D4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FFC3BA-6422-4BDB-B312-FA9D796AE1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85254F-BB37-435B-9FD8-7D4396898B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13C1DF-0FC9-4C7B-BEEC-1689DB414C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F3637B-1470-4B27-977E-B3A847FC2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404286-0278-4A82-8C5F-11A82D8A6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56473E-A72E-4AE5-8711-CB98BA2FF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97F9-E5D6-4C85-99AE-F7CC675BD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2C255-3244-44E3-9F97-352759E86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CCA201-BFEF-422D-A39B-429DC42F42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74B029-89DE-4C1B-A14F-6FAD943DB6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10CC5B-25A7-4217-B0FF-FC515CC3A4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2EF7AA-5DCD-4F01-9069-5241EC3D76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753E-7DA6-4112-918D-EABCEA172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CD1CC-726A-4A69-9B7D-5AEC2DF1E05C}"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B8E00-2353-44FF-8D40-120203F18E42}"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D2CE6-0FF3-497A-A804-0DB602921E81}"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4A79F-66F1-44B7-A213-2A67338D7032}"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6632B-AEC9-4106-BC4E-2FF24CF7579E}"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53394-0D65-48E5-A339-1D6EA7486700}"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D6519-B48A-4E10-BB71-F87B69CAEC25}"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879200" y="2422440"/>
            <a:ext cx="9875880" cy="14716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572314"/>
                </a:solidFill>
                <a:latin typeface="Times New Roman"/>
                <a:cs typeface="Arabic Transparent"/>
              </a:rPr>
              <a:t>ادارة</a:t>
            </a:r>
            <a:r>
              <a:rPr b="1" lang="ar-EG" sz="5400" spc="-1" strike="noStrike">
                <a:solidFill>
                  <a:srgbClr val="572314"/>
                </a:solidFill>
                <a:latin typeface="Times New Roman"/>
                <a:ea typeface="Arabic Transparent"/>
              </a:rPr>
              <a:t> المراجعة الداخلية </a:t>
            </a:r>
            <a:br>
              <a:rPr sz="5400"/>
            </a:br>
            <a:r>
              <a:rPr b="1" lang="ar-SA" sz="3200" spc="-1" strike="noStrike">
                <a:solidFill>
                  <a:srgbClr val="572314"/>
                </a:solidFill>
                <a:latin typeface="Times New Roman"/>
                <a:cs typeface="Arabic Transparent"/>
              </a:rPr>
              <a:t>الفصل الرابع</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43"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الإضافة إلى ما سبق يجب على القائم بتحديد المهام التي ستخضع للمراجعة مراعاة</a:t>
            </a:r>
            <a:r>
              <a:rPr b="1" lang="ar-SA" sz="2400" spc="-1" strike="noStrike">
                <a:solidFill>
                  <a:srgbClr val="000000"/>
                </a:solidFill>
                <a:latin typeface="Gill Sans MT"/>
                <a:ea typeface="Majalla UI"/>
              </a:rPr>
              <a:t> </a:t>
            </a:r>
            <a:r>
              <a:rPr b="0" lang="ar-SA" sz="2400" spc="-1" strike="noStrike">
                <a:solidFill>
                  <a:srgbClr val="000000"/>
                </a:solidFill>
                <a:latin typeface="Gill Sans MT"/>
                <a:cs typeface="Majalla UI"/>
              </a:rPr>
              <a:t>ما يلي: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دى كفاية المراجعين الداخليين بوحدة المراجعة الداخلي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دى توفر الوقت اللازم لإنجاز المهام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دى توفر الموارد الأخرى اللازمة لإنجاز أعمال الفحص </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45"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إعداد الميزانية التقديرية للوقت المطلوب للمهمة الواحدة</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م تجهيز الميزانية التقديرية لكل مهمة أثناء تحضير خطة المراجعة الداخلية</a:t>
            </a:r>
            <a:endParaRPr b="0" lang="en-US" sz="2400" spc="-1" strike="noStrike">
              <a:solidFill>
                <a:srgbClr val="000000"/>
              </a:solidFill>
              <a:latin typeface="Gill Sans MT"/>
            </a:endParaRPr>
          </a:p>
          <a:p>
            <a:pPr lvl="2" marL="863640" indent="-34308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حتى يمكن تحقيق التناسق بين احتياجات كل مهمة وخطة المراجعة الداخلية ككل.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ند إعداد ميزانية الوقت التقديرية للمهمة  يجب أخذ العوامل التالية في الاعتبار:  </a:t>
            </a:r>
            <a:endParaRPr b="0" lang="en-US" sz="2400" spc="-1" strike="noStrike">
              <a:solidFill>
                <a:srgbClr val="000000"/>
              </a:solidFill>
              <a:latin typeface="Gill Sans MT"/>
            </a:endParaRPr>
          </a:p>
          <a:p>
            <a:pPr lvl="2" marL="863640" indent="-343080" algn="just" rtl="1">
              <a:spcBef>
                <a:spcPts val="499"/>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نطاق المهمة وأهدافها</a:t>
            </a:r>
            <a:endParaRPr b="0" lang="en-US" sz="2000" spc="-1" strike="noStrike">
              <a:solidFill>
                <a:srgbClr val="000000"/>
              </a:solidFill>
              <a:latin typeface="Gill Sans MT"/>
            </a:endParaRPr>
          </a:p>
          <a:p>
            <a:pPr lvl="2" marL="863640" indent="-343080" algn="just" rtl="1">
              <a:spcBef>
                <a:spcPts val="499"/>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درجة التدريب والإشراف اللازمة لتنفيذ المهمة في ضوء الخبرات المتوفرة لدى الفريق المعين لأداء مهمة المراجعة</a:t>
            </a:r>
            <a:endParaRPr b="0" lang="en-US" sz="2000" spc="-1" strike="noStrike">
              <a:solidFill>
                <a:srgbClr val="000000"/>
              </a:solidFill>
              <a:latin typeface="Gill Sans MT"/>
            </a:endParaRPr>
          </a:p>
          <a:p>
            <a:pPr lvl="2" marL="863640" indent="-343080" algn="just" rtl="1">
              <a:spcBef>
                <a:spcPts val="499"/>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درجة تعقد مهمة المراجعة ومدى تناسبها مع خبرات الفريق المكلف بها</a:t>
            </a:r>
            <a:endParaRPr b="0" lang="en-US" sz="2000" spc="-1" strike="noStrike">
              <a:solidFill>
                <a:srgbClr val="000000"/>
              </a:solidFill>
              <a:latin typeface="Gill Sans MT"/>
            </a:endParaRPr>
          </a:p>
          <a:p>
            <a:pPr lvl="2" marL="863640" indent="-343080" algn="just" rtl="1">
              <a:spcBef>
                <a:spcPts val="499"/>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وقت الذي استغرقته نفس المهمة في مراجعات سابق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47"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إصدار خطة المراجعة الداخلية</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عد تجهيز خطة المراجعة الداخلية يتم عرضها على المسئول الأول بالجهة لاعتمادها وقد يتم إجراء تعديلات عليها قبل الموافقة النهائية عليها</a:t>
            </a:r>
            <a:endParaRPr b="0" lang="en-US" sz="24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49"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إحداث التعديلات على خطة المراجعة الداخلية</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ذا حدث تعديلات على خطة المراجعة التي سبق الموافقة عليها يجب أن تراجع التعديلات ويوافق عليها من قبل المسئول الأول بالجهة</a:t>
            </a:r>
            <a:endParaRPr b="0" lang="en-US" sz="24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914480" y="274320"/>
            <a:ext cx="99964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ة</a:t>
            </a:r>
            <a:endParaRPr b="0" lang="en-US" sz="4300" spc="-1" strike="noStrike">
              <a:solidFill>
                <a:srgbClr val="572314"/>
              </a:solidFill>
              <a:latin typeface="Gill Sans MT"/>
            </a:endParaRPr>
          </a:p>
        </p:txBody>
      </p:sp>
      <p:sp>
        <p:nvSpPr>
          <p:cNvPr id="351" name=""/>
          <p:cNvSpPr txBox="1"/>
          <p:nvPr/>
        </p:nvSpPr>
        <p:spPr>
          <a:xfrm>
            <a:off x="1914480" y="1447560"/>
            <a:ext cx="9996480" cy="4800600"/>
          </a:xfrm>
          <a:prstGeom prst="rect">
            <a:avLst/>
          </a:prstGeom>
          <a:noFill/>
          <a:ln w="0">
            <a:noFill/>
          </a:ln>
        </p:spPr>
        <p:txBody>
          <a:bodyPr anchor="t">
            <a:normAutofit fontScale="90000"/>
          </a:bodyPr>
          <a:p>
            <a:pPr marL="308520" indent="-3085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عد خطة مراجعة خاصة بكل مهمة من قبل المراجع المسؤول عن تنفيذ المهمة ويقوم باعتمادها من مدير المراجعة الداخلية ويجب أن يتم توثيقها</a:t>
            </a:r>
            <a:endParaRPr b="0" lang="en-US" sz="2400" spc="-1" strike="noStrike">
              <a:solidFill>
                <a:srgbClr val="000000"/>
              </a:solidFill>
              <a:latin typeface="Gill Sans MT"/>
            </a:endParaRPr>
          </a:p>
          <a:p>
            <a:pPr marL="308520" indent="-3085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ند تخطيط مهمة المراجعة يجب على القائم بالتخطيط أن يبني خطته استنادا إلى </a:t>
            </a:r>
            <a:r>
              <a:rPr b="1" lang="ar-SA" sz="2400" spc="-1" strike="noStrike">
                <a:solidFill>
                  <a:srgbClr val="000000"/>
                </a:solidFill>
                <a:latin typeface="Gill Sans MT"/>
                <a:cs typeface="Majalla UI"/>
              </a:rPr>
              <a:t>الأمور التالية:  </a:t>
            </a:r>
            <a:endParaRPr b="0" lang="en-US" sz="24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أهداف المطلوب تحقيقها من تنفيذ المهمة والتي يجب أن تكون متسقة مع  أهداف خطة وحدة المراجعة ككل</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حصول على معلومات كافية عن الأنشطة التي سيتم مراجعتها</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موارد اللازمة لإنجاز مهمة المراجعة</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بلاغ الأطراف المعنية ببدء عملية المراجعة</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مل دراسة حول الأنشطة والمخاطر ذات الصلة بالمهمة ووسائل الرقابة المستخدمة للحد منها. </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اجعة دليل المراجعة لتحديد الإجراءات التي يتعين القيام بها في نطاق العمل.</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كيف ومتى ولمن سيتم الإبلاغ بنتائج المراجعة.</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حصول على موافقة مدير المراجعة الداخلية باعتماد خطة المراجعة. </a:t>
            </a:r>
            <a:endParaRPr b="0" lang="en-US" sz="2000" spc="-1" strike="noStrike">
              <a:solidFill>
                <a:srgbClr val="000000"/>
              </a:solidFill>
              <a:latin typeface="Gill Sans MT"/>
            </a:endParaRPr>
          </a:p>
          <a:p>
            <a:pPr lvl="1" marL="575640" indent="-21276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ثيق خطة مراجعة المهمة في مذكرة تخطيط المراجعة</a:t>
            </a:r>
            <a:endParaRPr b="0" lang="en-US" sz="2000" spc="-1" strike="noStrike">
              <a:solidFill>
                <a:srgbClr val="000000"/>
              </a:solidFill>
              <a:latin typeface="Gill Sans MT"/>
            </a:endParaRPr>
          </a:p>
          <a:p>
            <a:pPr marL="308520" indent="-308520" algn="just" rtl="1">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تقدير خطر المراجعه</a:t>
            </a:r>
            <a:br>
              <a:rPr sz="3900"/>
            </a:br>
            <a:endParaRPr b="0" lang="en-US" sz="3900" spc="-1" strike="noStrike">
              <a:solidFill>
                <a:srgbClr val="572314"/>
              </a:solidFill>
              <a:latin typeface="Gill Sans MT"/>
            </a:endParaRPr>
          </a:p>
        </p:txBody>
      </p:sp>
      <p:sp>
        <p:nvSpPr>
          <p:cNvPr id="353"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قدير الخطر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عد مدير وحدة المراجعة نموذج إرشادي لتقدير المخاطر يستخدمه المراجعين الداخليين</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قدير المخاطر يعني تقدير احتمالات حدوث أخطاء أو عمليات غش ولا تستطيع الإجراءات الرقابية الموضوعة اكتشافها أو منعها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عتمد عملية تقدير المخاطر بصفة عامة على تحقيق المعرفة الكاملة بعمليات المنشاة وربط هذه المعرفة بالإجراءات الرقابية الموضوعة لمعرفة ما إذا كانت هذه الإجراءات يمكنها منع حدوث أخطاء أو عمليات غش أو اكتشافها حال حدوثه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تقدير خطر المراجعه</a:t>
            </a:r>
            <a:br>
              <a:rPr sz="3900"/>
            </a:br>
            <a:endParaRPr b="0" lang="en-US" sz="3900" spc="-1" strike="noStrike">
              <a:solidFill>
                <a:srgbClr val="572314"/>
              </a:solidFill>
              <a:latin typeface="Gill Sans MT"/>
            </a:endParaRPr>
          </a:p>
        </p:txBody>
      </p:sp>
      <p:sp>
        <p:nvSpPr>
          <p:cNvPr id="355" name=""/>
          <p:cNvSpPr txBox="1"/>
          <p:nvPr/>
        </p:nvSpPr>
        <p:spPr>
          <a:xfrm>
            <a:off x="1914480" y="1447560"/>
            <a:ext cx="9996480" cy="4800600"/>
          </a:xfrm>
          <a:prstGeom prst="rect">
            <a:avLst/>
          </a:prstGeom>
          <a:noFill/>
          <a:ln w="0">
            <a:noFill/>
          </a:ln>
        </p:spPr>
        <p:txBody>
          <a:bodyPr anchor="t">
            <a:normAutofit/>
          </a:bodyPr>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مثلة لطرق ممكنة للحصول على معلومات تساعد في تقدير الخطر : </a:t>
            </a:r>
            <a:endParaRPr b="0" lang="en-US" sz="28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فحص  نظام العمل بالمنشاة والوحدات الفرعية التابعة لها</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جراء المقابلات مع المسئولين والاستفسار منهم عن طبيعة العمل وكيفية أداء ذلك العمل ، والاحتياجات المحتملة للتقرير بالنسبة لهم.</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ستقصاء الموظفين ودراسة طبيعة عملهم والتعرف على مؤهلاتهم وخبراتهم الوظيفية.</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ستقصاء المستفيدين من الخدمة التي تقدمها الوحدة عن طبيعة احتياجاتهم ومدى الوفاء بهذه الاحتياجات.</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تقدير خطر المراجعه</a:t>
            </a:r>
            <a:br>
              <a:rPr sz="3900"/>
            </a:br>
            <a:endParaRPr b="0" lang="en-US" sz="3900" spc="-1" strike="noStrike">
              <a:solidFill>
                <a:srgbClr val="572314"/>
              </a:solidFill>
              <a:latin typeface="Gill Sans MT"/>
            </a:endParaRPr>
          </a:p>
        </p:txBody>
      </p:sp>
      <p:sp>
        <p:nvSpPr>
          <p:cNvPr id="357" name=""/>
          <p:cNvSpPr txBox="1"/>
          <p:nvPr/>
        </p:nvSpPr>
        <p:spPr>
          <a:xfrm>
            <a:off x="1914480" y="1447560"/>
            <a:ext cx="9996480" cy="4800600"/>
          </a:xfrm>
          <a:prstGeom prst="rect">
            <a:avLst/>
          </a:prstGeom>
          <a:noFill/>
          <a:ln w="0">
            <a:noFill/>
          </a:ln>
        </p:spPr>
        <p:txBody>
          <a:bodyPr anchor="t">
            <a:normAutofit/>
          </a:bodyPr>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حليل الخطر </a:t>
            </a:r>
            <a:endParaRPr b="0" lang="en-US" sz="28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قوم مدير المراجعة الداخلية بالتنسيق مع المسؤول الأول بالعمل على ترجمة نتائج تقدير المخاطر إلى خطة مراجعة داخلية.</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توزيع جهود وحدة المراجعة الداخلية للحصول على أفضل تغطية للمخاطر المحددة مع الأخذ بعين الاعتبار الأهداف العامة للجهة وإعطاء الأولوية للمهام التي تتضمن خطر مرتفع. </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0" lang="ar-SA" sz="2400" spc="-1" strike="noStrike">
                <a:solidFill>
                  <a:srgbClr val="000000"/>
                </a:solidFill>
                <a:latin typeface="Gill Sans MT"/>
                <a:cs typeface="Majalla UI"/>
              </a:rPr>
              <a:t>يجب أن يراعي عند صياغة خطة المراجعة الداخلية أن تكون مرنة وان تستجيب للظروف المتغير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ه</a:t>
            </a:r>
            <a:endParaRPr b="0" lang="en-US" sz="4300" spc="-1" strike="noStrike">
              <a:solidFill>
                <a:srgbClr val="572314"/>
              </a:solidFill>
              <a:latin typeface="Gill Sans MT"/>
            </a:endParaRPr>
          </a:p>
        </p:txBody>
      </p:sp>
      <p:sp>
        <p:nvSpPr>
          <p:cNvPr id="359" name=""/>
          <p:cNvSpPr txBox="1"/>
          <p:nvPr/>
        </p:nvSpPr>
        <p:spPr>
          <a:xfrm>
            <a:off x="1914480" y="1447560"/>
            <a:ext cx="9996480" cy="4800600"/>
          </a:xfrm>
          <a:prstGeom prst="rect">
            <a:avLst/>
          </a:prstGeom>
          <a:noFill/>
          <a:ln w="0">
            <a:noFill/>
          </a:ln>
        </p:spPr>
        <p:txBody>
          <a:bodyPr anchor="t">
            <a:normAutofit fontScale="99000"/>
          </a:bodyPr>
          <a:p>
            <a:pPr marL="452520" indent="-4525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أهداف برنامج المراجعة</a:t>
            </a:r>
            <a:r>
              <a:rPr b="0" lang="ar-SA" sz="3200" spc="-1" strike="noStrike">
                <a:solidFill>
                  <a:srgbClr val="000000"/>
                </a:solidFill>
                <a:latin typeface="Gill Sans MT"/>
                <a:ea typeface="Majalla UI"/>
              </a:rPr>
              <a:t>: </a:t>
            </a:r>
            <a:endParaRPr b="0" lang="en-US" sz="32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ديم أسس ثابتة لعملية توزيع العمل على فريق المراجعة الداخلية.</a:t>
            </a:r>
            <a:endParaRPr b="0" lang="en-US" sz="28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ديم وسائل للسيطرة على الميزانيات الوقتية لمهمة المراجعة. </a:t>
            </a:r>
            <a:endParaRPr b="0" lang="en-US" sz="28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عمل كأداة تدريب للمراجعين الداخليين حديثي الخبرة. </a:t>
            </a:r>
            <a:endParaRPr b="0" lang="en-US" sz="28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ديم سجل تلخيصي بالعمل الذي تم إنجازه.</a:t>
            </a:r>
            <a:endParaRPr b="0" lang="en-US" sz="28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ساعدة في جعل المهمة مألوفة لدى المراجع الداخلي.</a:t>
            </a:r>
            <a:endParaRPr b="0" lang="en-US" sz="2800" spc="-1" strike="noStrike">
              <a:solidFill>
                <a:srgbClr val="000000"/>
              </a:solidFill>
              <a:latin typeface="Gill Sans MT"/>
            </a:endParaRPr>
          </a:p>
          <a:p>
            <a:pPr lvl="1" marL="633240" indent="-2340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خفيض الوقت المطلوب للإشراف المباشر على فريق المراجعة الداخلية.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ه</a:t>
            </a:r>
            <a:endParaRPr b="0" lang="en-US" sz="4300" spc="-1" strike="noStrike">
              <a:solidFill>
                <a:srgbClr val="572314"/>
              </a:solidFill>
              <a:latin typeface="Gill Sans MT"/>
            </a:endParaRPr>
          </a:p>
        </p:txBody>
      </p:sp>
      <p:sp>
        <p:nvSpPr>
          <p:cNvPr id="361"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شكل ومضمون برنامج المراجعة</a:t>
            </a:r>
            <a:r>
              <a:rPr b="0" lang="ar-SA" sz="3200" spc="-1" strike="noStrike">
                <a:solidFill>
                  <a:srgbClr val="000000"/>
                </a:solidFill>
                <a:latin typeface="Gill Sans MT"/>
                <a:ea typeface="Majalla UI"/>
              </a:rPr>
              <a:t>: </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تجزئة البرنامج إلى مجموعة مقاطع تقوم كل منها بخدمة هدف أو أكثر من أهداف مهمة المراجعة ومن ثم تبدأ عملية تنفيذ الإجراءات اللازمة بتحقيق هذا الهدف.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بعض الحالات الخاصة قد يكون مفيداً استشارة اختصاصيين متمرسين للمساعدة في تحديد وتسلسل الإجراءات التي يجب تنفيذ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شمل برنامج المراجعة كل التفاصيل الضرورية لتنفيذ المراجع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وقع وتؤرخ كل الإجراءات داخل برنامج العمل من قبل المعد مع ضرورة عمل مرجعية لها في أوراق العمل.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كما يجب عمل حيز خاص للتوقيع وكتابة مرجعية أوراق العمل داخل البرنامج.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صف أوراق العمل الفحص الذي تم إنجازه ونتائج هذا الفحص.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عدها تعبأ هذه النتائج في برنامج المراجعة وملف أوراق العمل الحالي</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لأجندة </a:t>
            </a:r>
            <a:endParaRPr b="0" lang="en-US" sz="4000" spc="-1" strike="noStrike">
              <a:solidFill>
                <a:srgbClr val="572314"/>
              </a:solidFill>
              <a:latin typeface="Gill Sans MT"/>
            </a:endParaRPr>
          </a:p>
        </p:txBody>
      </p:sp>
      <p:sp>
        <p:nvSpPr>
          <p:cNvPr id="327" name=""/>
          <p:cNvSpPr txBox="1"/>
          <p:nvPr/>
        </p:nvSpPr>
        <p:spPr>
          <a:xfrm>
            <a:off x="1914480" y="1447560"/>
            <a:ext cx="9996480" cy="4800600"/>
          </a:xfrm>
          <a:prstGeom prst="rect">
            <a:avLst/>
          </a:prstGeom>
          <a:noFill/>
          <a:ln w="0">
            <a:noFill/>
          </a:ln>
        </p:spPr>
        <p:txBody>
          <a:bodyPr anchor="t">
            <a:normAutofit/>
          </a:bodyPr>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نظيم أعمال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خطيط المراجعة الداخلي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دير خطر المراجعه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عداد برنامج المراجع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حديد نطاق وأهداف مهمة المراجع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راجعات التمهيدي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اجتماع الافتتاحي مع الجهة المراجع عليها</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أوراق العمل كأداة مساعدة في تخطيط المراجعه</a:t>
            </a:r>
            <a:endParaRPr b="0" lang="en-US" sz="2800" spc="-1" strike="noStrike">
              <a:solidFill>
                <a:srgbClr val="000000"/>
              </a:solidFill>
              <a:latin typeface="Gill Sans MT"/>
            </a:endParaRPr>
          </a:p>
          <a:p>
            <a:pPr lvl="1" marL="639720" indent="-2365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ه</a:t>
            </a:r>
            <a:endParaRPr b="0" lang="en-US" sz="4300" spc="-1" strike="noStrike">
              <a:solidFill>
                <a:srgbClr val="572314"/>
              </a:solidFill>
              <a:latin typeface="Gill Sans MT"/>
            </a:endParaRPr>
          </a:p>
        </p:txBody>
      </p:sp>
      <p:sp>
        <p:nvSpPr>
          <p:cNvPr id="363"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مسؤولية تحضير برنامج المراجعة</a:t>
            </a:r>
            <a:r>
              <a:rPr b="0" lang="ar-SA" sz="3200" spc="-1" strike="noStrike">
                <a:solidFill>
                  <a:srgbClr val="000000"/>
                </a:solidFill>
                <a:latin typeface="Gill Sans MT"/>
                <a:ea typeface="Majalla UI"/>
              </a:rPr>
              <a:t>:</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	</a:t>
            </a:r>
            <a:r>
              <a:rPr b="0" lang="ar-SA" sz="2400" spc="-1" strike="noStrike">
                <a:solidFill>
                  <a:srgbClr val="000000"/>
                </a:solidFill>
                <a:latin typeface="Gill Sans MT"/>
                <a:cs typeface="Majalla UI"/>
              </a:rPr>
              <a:t>يعتبر تحضير برنامج المراجعة من مسؤولية رئيس فريق مهمة المراجعة أو المراجع المسؤول بالاعتماد على:</a:t>
            </a:r>
            <a:endParaRPr b="0" lang="en-US" sz="2400" spc="-1" strike="noStrike">
              <a:solidFill>
                <a:srgbClr val="000000"/>
              </a:solidFill>
              <a:latin typeface="Gill Sans MT"/>
            </a:endParaRPr>
          </a:p>
          <a:p>
            <a:pPr lvl="2" marL="977760" indent="-457200" algn="just" rtl="1">
              <a:spcBef>
                <a:spcPts val="499"/>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فهم طبيعة العمل بالجهة المراجع عليها </a:t>
            </a:r>
            <a:endParaRPr b="0" lang="en-US" sz="2000" spc="-1" strike="noStrike">
              <a:solidFill>
                <a:srgbClr val="000000"/>
              </a:solidFill>
              <a:latin typeface="Gill Sans MT"/>
            </a:endParaRPr>
          </a:p>
          <a:p>
            <a:pPr lvl="2" marL="977760" indent="-457200" algn="just" rtl="1">
              <a:spcBef>
                <a:spcPts val="499"/>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خاطر التي تم تحديدها خلال مرحلة تقويم المخاطر </a:t>
            </a:r>
            <a:endParaRPr b="0" lang="en-US" sz="2000" spc="-1" strike="noStrike">
              <a:solidFill>
                <a:srgbClr val="000000"/>
              </a:solidFill>
              <a:latin typeface="Gill Sans MT"/>
            </a:endParaRPr>
          </a:p>
          <a:p>
            <a:pPr lvl="2" marL="977760" indent="-457200" algn="just" rtl="1">
              <a:spcBef>
                <a:spcPts val="499"/>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خاطر التي تم الإبلاغ عنها عن طريق موظفي الجهة المراجع عليها</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رنامج المراجعة يجب أن يراجع ويعتمد من قبل رئيس المهمة قبل البدء بالعمل الميداني.</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قوم مدير المراجعة بالمراجعة والموافقة على كل المستندات وذلك لضمان أن إدراك فريق المراجعة كافٍ لإعداد وتنفيذ برنامج المراجع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ه</a:t>
            </a:r>
            <a:endParaRPr b="0" lang="en-US" sz="4300" spc="-1" strike="noStrike">
              <a:solidFill>
                <a:srgbClr val="572314"/>
              </a:solidFill>
              <a:latin typeface="Gill Sans MT"/>
            </a:endParaRPr>
          </a:p>
        </p:txBody>
      </p:sp>
      <p:sp>
        <p:nvSpPr>
          <p:cNvPr id="365"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فهم طبيعة العمل بالجهة المراجع عليها</a:t>
            </a:r>
            <a:r>
              <a:rPr b="0" lang="ar-SA" sz="3200" spc="-1" strike="noStrike">
                <a:solidFill>
                  <a:srgbClr val="000000"/>
                </a:solidFill>
                <a:latin typeface="Gill Sans MT"/>
                <a:ea typeface="Majalla UI"/>
              </a:rPr>
              <a:t>:</a:t>
            </a:r>
            <a:endParaRPr b="0" lang="en-US" sz="32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أن الفهم المناسب لطبيعة العمل بالجهة المراجع عليها يمكن فريق المراجعة من تحديد أساليب الرقابة المستخدمة والمخاطر المصاحبة لها قبل وضع برنامج مراجعة</a:t>
            </a:r>
            <a:endParaRPr b="0" lang="en-US" sz="28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عملية فهم طبيعة العمل بالجهة المراجع عليها تعتبر الأساس في:</a:t>
            </a:r>
            <a:endParaRPr b="0" lang="en-US" sz="2800" spc="-1" strike="noStrike">
              <a:solidFill>
                <a:srgbClr val="000000"/>
              </a:solidFill>
              <a:latin typeface="Gill Sans MT"/>
            </a:endParaRPr>
          </a:p>
          <a:p>
            <a:pPr lvl="2" marL="1162080" indent="-514440" algn="just" rtl="1">
              <a:spcBef>
                <a:spcPts val="60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قييم الرقابة الداخلية </a:t>
            </a:r>
            <a:endParaRPr b="0" lang="en-US" sz="2400" spc="-1" strike="noStrike">
              <a:solidFill>
                <a:srgbClr val="000000"/>
              </a:solidFill>
              <a:latin typeface="Gill Sans MT"/>
            </a:endParaRPr>
          </a:p>
          <a:p>
            <a:pPr lvl="2" marL="1162080" indent="-514440" algn="just" rtl="1">
              <a:spcBef>
                <a:spcPts val="60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عداد برنامج مراجعة جيد</a:t>
            </a:r>
            <a:endParaRPr b="0" lang="en-US" sz="2400" spc="-1" strike="noStrike">
              <a:solidFill>
                <a:srgbClr val="000000"/>
              </a:solidFill>
              <a:latin typeface="Gill Sans MT"/>
            </a:endParaRPr>
          </a:p>
          <a:p>
            <a:pPr marL="45720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ة</a:t>
            </a:r>
            <a:endParaRPr b="0" lang="en-US" sz="4300" spc="-1" strike="noStrike">
              <a:solidFill>
                <a:srgbClr val="572314"/>
              </a:solidFill>
              <a:latin typeface="Gill Sans MT"/>
            </a:endParaRPr>
          </a:p>
        </p:txBody>
      </p:sp>
      <p:sp>
        <p:nvSpPr>
          <p:cNvPr id="367"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طرق توثيق فهم طبيعة العمل وبيئة الرقابة بالجهة المراجع عليها </a:t>
            </a:r>
            <a:endParaRPr b="0" lang="en-US" sz="3200" spc="-1" strike="noStrike">
              <a:solidFill>
                <a:srgbClr val="000000"/>
              </a:solidFill>
              <a:latin typeface="Gill Sans MT"/>
            </a:endParaRPr>
          </a:p>
          <a:p>
            <a:pPr lvl="1" marL="871560" indent="-51444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وصف النثري للإجراءات</a:t>
            </a:r>
            <a:endParaRPr b="0" lang="en-US" sz="2800" spc="-1" strike="noStrike">
              <a:solidFill>
                <a:srgbClr val="000000"/>
              </a:solidFill>
              <a:latin typeface="Gill Sans MT"/>
            </a:endParaRPr>
          </a:p>
          <a:p>
            <a:pPr lvl="1" marL="871560" indent="-51444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	</a:t>
            </a:r>
            <a:r>
              <a:rPr b="0" lang="ar-SA" sz="2800" spc="-1" strike="noStrike">
                <a:solidFill>
                  <a:srgbClr val="000000"/>
                </a:solidFill>
                <a:latin typeface="Gill Sans MT"/>
                <a:cs typeface="Majalla UI"/>
              </a:rPr>
              <a:t>خرائط التدفق البيانية </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ة</a:t>
            </a:r>
            <a:endParaRPr b="0" lang="en-US" sz="4300" spc="-1" strike="noStrike">
              <a:solidFill>
                <a:srgbClr val="572314"/>
              </a:solidFill>
              <a:latin typeface="Gill Sans MT"/>
            </a:endParaRPr>
          </a:p>
        </p:txBody>
      </p:sp>
      <p:sp>
        <p:nvSpPr>
          <p:cNvPr id="369"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أولا : الوصف النثري للإجراءات</a:t>
            </a:r>
            <a:r>
              <a:rPr b="0" lang="ar-SA" sz="3200" spc="-1" strike="noStrike">
                <a:solidFill>
                  <a:srgbClr val="000000"/>
                </a:solidFill>
                <a:latin typeface="Gill Sans MT"/>
                <a:ea typeface="Majalla UI"/>
              </a:rPr>
              <a:t>:</a:t>
            </a:r>
            <a:endParaRPr b="0" lang="en-US" sz="32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وم هذه الطريقة على وصف إجراءات العمل بطريقة نثرية مفصلة، وعلى توثيق الأنظمة والإجراءات عندما: </a:t>
            </a:r>
            <a:endParaRPr b="0" lang="en-US" sz="28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كون عملية تغييرات جذرية في النظام متوقعة الحدوث</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ا تتوافر إجراءات واضحة ومتبعة للرقابة الداخلية</a:t>
            </a:r>
            <a:endParaRPr b="0" lang="en-US" sz="2400" spc="-1" strike="noStrike">
              <a:solidFill>
                <a:srgbClr val="000000"/>
              </a:solidFill>
              <a:latin typeface="Gill Sans MT"/>
            </a:endParaRPr>
          </a:p>
          <a:p>
            <a:pPr lvl="2" marL="885960" indent="-228600" algn="just"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كون النظام غير معقد، وبالتالي يمكن توثيقه بسهولة على نماذج وصف الإجراءات كتابياً</a:t>
            </a:r>
            <a:endParaRPr b="0" lang="en-US" sz="2400" spc="-1" strike="noStrike">
              <a:solidFill>
                <a:srgbClr val="000000"/>
              </a:solidFill>
              <a:latin typeface="Gill Sans MT"/>
            </a:endParaRPr>
          </a:p>
          <a:p>
            <a:pPr lvl="1" marL="731880" indent="-45720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ة</a:t>
            </a:r>
            <a:endParaRPr b="0" lang="en-US" sz="4300" spc="-1" strike="noStrike">
              <a:solidFill>
                <a:srgbClr val="572314"/>
              </a:solidFill>
              <a:latin typeface="Gill Sans MT"/>
            </a:endParaRPr>
          </a:p>
        </p:txBody>
      </p:sp>
      <p:sp>
        <p:nvSpPr>
          <p:cNvPr id="371" name=""/>
          <p:cNvSpPr txBox="1"/>
          <p:nvPr/>
        </p:nvSpPr>
        <p:spPr>
          <a:xfrm>
            <a:off x="1914480" y="1447560"/>
            <a:ext cx="9996480" cy="4800600"/>
          </a:xfrm>
          <a:prstGeom prst="rect">
            <a:avLst/>
          </a:prstGeom>
          <a:solidFill>
            <a:srgbClr val="ffffff"/>
          </a:solidFill>
          <a:ln w="0">
            <a:noFill/>
          </a:ln>
        </p:spPr>
        <p:txBody>
          <a:bodyPr anchor="t">
            <a:normAutofit/>
          </a:bodyPr>
          <a:p>
            <a:pPr marL="514440" indent="-51444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ثانيا : خرائط التدفق البيانية</a:t>
            </a:r>
            <a:r>
              <a:rPr b="0" lang="ar-SA" sz="3200" spc="-1" strike="noStrike">
                <a:solidFill>
                  <a:srgbClr val="000000"/>
                </a:solidFill>
                <a:latin typeface="Gill Sans MT"/>
                <a:ea typeface="Majalla UI"/>
              </a:rPr>
              <a:t>: </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هي خرائط ترسم باستخدام الرسوم البيانية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صور هذه الخرائط تدفق الإجراءات وأنظمة الرقابة على هيئة نماذج مرسومة لتسهيل عملية فهم طبيعة العمل وبيئة الرقابة بالجهة المراجع عليها. </a:t>
            </a:r>
            <a:r>
              <a:rPr b="0"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 في بعض الأوقات قد يكون من الأكثر فعالية توثيق بعض أنواع الرقابة بطريقة وصف الإجراءات كتابياً ملحقة ومكملة بخرائط التدفق البياني</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ea typeface="Majalla UI"/>
              </a:rPr>
              <a:t> اعداد برنامج المراجعة</a:t>
            </a:r>
            <a:endParaRPr b="0" lang="en-US" sz="4300" spc="-1" strike="noStrike">
              <a:solidFill>
                <a:srgbClr val="572314"/>
              </a:solidFill>
              <a:latin typeface="Gill Sans MT"/>
            </a:endParaRPr>
          </a:p>
        </p:txBody>
      </p:sp>
      <p:sp>
        <p:nvSpPr>
          <p:cNvPr id="373"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طوير البرنامج</a:t>
            </a:r>
            <a:r>
              <a:rPr b="0"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عد الانتهاء من مهمة المراجعة، يقوم فريق المراجعة الداخلية بتدوين – داخل أوراق العمل- اقتراحاتهم بتغيير وتعديل برنامج المراجعة، والذي سيتم تطبيقه قبل البدء بمهمة المرجعة اللاحقة </a:t>
            </a:r>
            <a:endParaRPr b="0" lang="en-US" sz="24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إحداث التعديلات في برامج المراجعة:</a:t>
            </a:r>
            <a:endParaRPr b="0" lang="en-US" sz="28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في بعض الحالات، قد يكون من الضروري أن يقوم رئيس الفريق بتطوير أو تعديل فقرات من برنامج المراجعة أثناء العمل الميداني. </a:t>
            </a:r>
            <a:endParaRPr b="0" lang="en-US" sz="24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وجب عليه إبلاغ مدير المراجعة بكل هذه التعديلات، قبل البدء بعملها، وذلك لضمان أن مثل هذه التغيرات لن تؤثر على نطاق وأهداف مهمة المراجعة العامة </a:t>
            </a:r>
            <a:endParaRPr b="0" lang="en-US" sz="2400" spc="-1" strike="noStrike">
              <a:solidFill>
                <a:srgbClr val="000000"/>
              </a:solidFill>
              <a:latin typeface="Gill Sans MT"/>
            </a:endParaRPr>
          </a:p>
          <a:p>
            <a:pPr marL="45720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حديد نطاق وأهداف مهمة المراجعة</a:t>
            </a:r>
            <a:endParaRPr b="0" lang="en-US" sz="4300" spc="-1" strike="noStrike">
              <a:solidFill>
                <a:srgbClr val="572314"/>
              </a:solidFill>
              <a:latin typeface="Gill Sans MT"/>
            </a:endParaRPr>
          </a:p>
        </p:txBody>
      </p:sp>
      <p:sp>
        <p:nvSpPr>
          <p:cNvPr id="375" name=""/>
          <p:cNvSpPr txBox="1"/>
          <p:nvPr/>
        </p:nvSpPr>
        <p:spPr>
          <a:xfrm>
            <a:off x="1806120" y="1555560"/>
            <a:ext cx="9474120" cy="476244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همية تحديد أهداف المهم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ركيز الموارد المتاحة للمهمة على الجوانب الضرورية لتحقيق أهداف مهمة المراجعة أو التي تحتوي على نسبة تعرض للمخاطر عا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جنب ضياع الوقت في مراجعة العمليات غير الضرورية لتحقيق أهداف المراجعة أو التي تحتوي على نسبة تعرض للمخاطر قليلة أو غير هام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سين عمليات الاتصال مع الإدارة المراد مراجعتها على جميع المستوي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ضمان تغطية كل عمليات المراجعة.</a:t>
            </a:r>
            <a:endParaRPr b="0" lang="en-US" sz="20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حديد نطاق وأهداف مهمة المراجعة</a:t>
            </a:r>
            <a:endParaRPr b="0" lang="en-US" sz="4300" spc="-1" strike="noStrike">
              <a:solidFill>
                <a:srgbClr val="572314"/>
              </a:solidFill>
              <a:latin typeface="Gill Sans MT"/>
            </a:endParaRPr>
          </a:p>
        </p:txBody>
      </p:sp>
      <p:sp>
        <p:nvSpPr>
          <p:cNvPr id="377" name=""/>
          <p:cNvSpPr txBox="1"/>
          <p:nvPr/>
        </p:nvSpPr>
        <p:spPr>
          <a:xfrm>
            <a:off x="1650600" y="1601640"/>
            <a:ext cx="10117080" cy="4881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ill Sans MT"/>
                <a:cs typeface="Majalla UI"/>
              </a:rPr>
              <a:t>لتحديد أهداف مهمة المراجعة يمكن إتباع الخطوات الآتية:</a:t>
            </a:r>
            <a:endParaRPr b="0" lang="en-US" sz="22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اطلاع على خطة المراجعة الشاملة للإدارة ودور المهمة في تحقيق أهداف الخطة.</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عمل مناقشة للأهداف العريضة للمهمة بين فريق العمل ومدير إدارة المراجعة الداخلية.</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قيام ببعض الإجراءات التمهيدية لتقدير المخاطر.</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مناقشة فريق عمل المهمة في المخاطر المحيطة بها وتحديد الأهداف على ضوء المراجعة التمهيدية.</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اتفاق على الأهداف المحددة للمهمة سواء كانت مرتبطة بالفحص أو التحقق أو التقويم أو مراجعة الالتزام.</a:t>
            </a:r>
            <a:endParaRPr b="0" lang="en-US" sz="1800" spc="-1" strike="noStrike">
              <a:solidFill>
                <a:srgbClr val="000000"/>
              </a:solidFill>
              <a:latin typeface="Gill Sans MT"/>
            </a:endParaRPr>
          </a:p>
          <a:p>
            <a:pPr lvl="1" marL="560520" indent="-28584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راجعات التمهيدية</a:t>
            </a:r>
            <a:endParaRPr b="0" lang="en-US" sz="4300" spc="-1" strike="noStrike">
              <a:solidFill>
                <a:srgbClr val="572314"/>
              </a:solidFill>
              <a:latin typeface="Gill Sans MT"/>
            </a:endParaRPr>
          </a:p>
        </p:txBody>
      </p:sp>
      <p:sp>
        <p:nvSpPr>
          <p:cNvPr id="379"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هدف منها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زويد فريق المهمة بصورة واضحة عن العمليات وعن الرقابة الداخلية المعتمدة داخل الإدارة المراد مراجعتها</a:t>
            </a:r>
            <a:endParaRPr b="0" lang="en-US" sz="2400" spc="-1" strike="noStrike">
              <a:solidFill>
                <a:srgbClr val="000000"/>
              </a:solidFill>
              <a:latin typeface="Gill Sans MT"/>
            </a:endParaRPr>
          </a:p>
          <a:p>
            <a:pPr lvl="1" marL="639720" indent="-2365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شمل مراجعه اي معلومات ستساعد فريق مهمة المراجعة الداخلية على الفهم الجيد للمناطق المراد مراجعتها</a:t>
            </a:r>
            <a:endParaRPr b="0" lang="en-US" sz="2400" spc="-1" strike="noStrike">
              <a:solidFill>
                <a:srgbClr val="000000"/>
              </a:solidFill>
              <a:latin typeface="Gill Sans MT"/>
            </a:endParaRPr>
          </a:p>
          <a:p>
            <a:pPr lvl="2" marL="609480" indent="-282600" algn="just" rtl="1">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هياكل التنظيمية، السياسات، الإجراءات، تقنية المعلومات </a:t>
            </a:r>
            <a:endParaRPr b="0" lang="en-US" sz="2000" spc="-1" strike="noStrike">
              <a:solidFill>
                <a:srgbClr val="000000"/>
              </a:solidFill>
              <a:latin typeface="Gill Sans MT"/>
            </a:endParaRPr>
          </a:p>
          <a:p>
            <a:pPr lvl="1" marL="639720" indent="-2365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عمق وطول المراجعة التمهيدية من ضمن مسؤوليات مدير المراجعة الداخلية </a:t>
            </a:r>
            <a:endParaRPr b="0" lang="en-US" sz="2400" spc="-1" strike="noStrike">
              <a:solidFill>
                <a:srgbClr val="000000"/>
              </a:solidFill>
              <a:latin typeface="Gill Sans MT"/>
            </a:endParaRPr>
          </a:p>
          <a:p>
            <a:pPr lvl="2" marL="609480" indent="-282600" algn="just" rtl="1">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وقت المستنفذ في عمل المراجعة التمهيدية يعتمد على مدى تعقد الأعمال المراد مراجعتها وعلى الوقت الذي استغرقته آخر عملية مراجعة لهذه الأعمال</a:t>
            </a:r>
            <a:endParaRPr b="0" lang="en-US" sz="20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راجعات التمهيدية</a:t>
            </a:r>
            <a:endParaRPr b="0" lang="en-US" sz="4300" spc="-1" strike="noStrike">
              <a:solidFill>
                <a:srgbClr val="572314"/>
              </a:solidFill>
              <a:latin typeface="Gill Sans MT"/>
            </a:endParaRPr>
          </a:p>
        </p:txBody>
      </p:sp>
      <p:sp>
        <p:nvSpPr>
          <p:cNvPr id="381"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وثيق نتائج المراجعة التمهيدية</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تاج وحدة المراجعة الداخلية إلى استخدام النماذج التالية لتعبئتها من قبل أعضاء فريق المهمة: </a:t>
            </a:r>
            <a:endParaRPr b="0" lang="en-US" sz="24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ائمة أعمال المراجعة الواجب تنفيذها.</a:t>
            </a:r>
            <a:endParaRPr b="0" lang="en-US" sz="2000" spc="-1" strike="noStrike">
              <a:solidFill>
                <a:srgbClr val="000000"/>
              </a:solidFill>
              <a:latin typeface="Gill Sans MT"/>
            </a:endParaRPr>
          </a:p>
          <a:p>
            <a:pPr lvl="2" marL="885960" indent="-22860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ذكرة تخطيط المراجعة. </a:t>
            </a:r>
            <a:endParaRPr b="0" lang="en-US" sz="2000" spc="-1" strike="noStrike">
              <a:solidFill>
                <a:srgbClr val="000000"/>
              </a:solidFill>
              <a:latin typeface="Gill Sans MT"/>
            </a:endParaRPr>
          </a:p>
          <a:p>
            <a:pPr lvl="2" marL="885960" indent="-228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ea typeface="Majalla UI"/>
              </a:rPr>
              <a:t>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 ادارة المراجعه الداخلية</a:t>
            </a:r>
            <a:br>
              <a:rPr sz="3900"/>
            </a:br>
            <a:endParaRPr b="0" lang="en-US" sz="3900" spc="-1" strike="noStrike">
              <a:solidFill>
                <a:srgbClr val="572314"/>
              </a:solidFill>
              <a:latin typeface="Gill Sans MT"/>
            </a:endParaRPr>
          </a:p>
        </p:txBody>
      </p:sp>
      <p:sp>
        <p:nvSpPr>
          <p:cNvPr id="329"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المهام الرئيسية لإدارة المراجعة الداخلية :</a:t>
            </a:r>
            <a:endParaRPr b="0" lang="en-US" sz="3200" spc="-1" strike="noStrike">
              <a:solidFill>
                <a:srgbClr val="000000"/>
              </a:solidFill>
              <a:latin typeface="Gill Sans MT"/>
            </a:endParaRPr>
          </a:p>
          <a:p>
            <a:pPr lvl="1" marL="917640" indent="-5144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نظيم العمل في إدارة المراجعة الداخلية</a:t>
            </a:r>
            <a:endParaRPr b="0" lang="en-US" sz="2800" spc="-1" strike="noStrike">
              <a:solidFill>
                <a:srgbClr val="000000"/>
              </a:solidFill>
              <a:latin typeface="Gill Sans MT"/>
            </a:endParaRPr>
          </a:p>
          <a:p>
            <a:pPr lvl="1" marL="917640" indent="-5144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خطيط مهام المراجعة الداخلية</a:t>
            </a:r>
            <a:endParaRPr b="0" lang="en-US" sz="2800" spc="-1" strike="noStrike">
              <a:solidFill>
                <a:srgbClr val="000000"/>
              </a:solidFill>
              <a:latin typeface="Gill Sans MT"/>
            </a:endParaRPr>
          </a:p>
          <a:p>
            <a:pPr lvl="1" marL="917640" indent="-5144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قدير خطر المراجعة</a:t>
            </a:r>
            <a:endParaRPr b="0" lang="en-US" sz="2800" spc="-1" strike="noStrike">
              <a:solidFill>
                <a:srgbClr val="000000"/>
              </a:solidFill>
              <a:latin typeface="Gill Sans MT"/>
            </a:endParaRPr>
          </a:p>
          <a:p>
            <a:pPr lvl="1" marL="917640" indent="-514440" algn="r" rtl="1">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إعداد برامج المراجعة</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راجعات التمهيدية</a:t>
            </a:r>
            <a:endParaRPr b="0" lang="en-US" sz="4300" spc="-1" strike="noStrike">
              <a:solidFill>
                <a:srgbClr val="572314"/>
              </a:solidFill>
              <a:latin typeface="Gill Sans MT"/>
            </a:endParaRPr>
          </a:p>
        </p:txBody>
      </p:sp>
      <p:sp>
        <p:nvSpPr>
          <p:cNvPr id="383"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ولا : قائمة أعمال المراجعة الواجب تنفيذها</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مثلة على بعض ما تتضمنه قائمة أعمال المراجعة :</a:t>
            </a:r>
            <a:endParaRPr b="0" lang="en-US" sz="20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إدارات التي يجب زيارتها والأشخاص اللذين يجب مناقشتهم.</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توثيق المطلوب للعمل الذي تم.</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شكل تقرير نتائج كل مرحل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وقت اللازم للانتهاء من المهمة وشكل التقرير النهائي لها.</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مراجعون المكلفون بكل مرحل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مخاطر المرتبطة بكل مرحلة.</a:t>
            </a:r>
            <a:endParaRPr b="0" lang="en-US" sz="18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نتائج المتوقعة</a:t>
            </a:r>
            <a:r>
              <a:rPr b="0" lang="ar-SA" sz="1600" spc="-1" strike="noStrike">
                <a:solidFill>
                  <a:srgbClr val="000000"/>
                </a:solidFill>
                <a:latin typeface="Gill Sans MT"/>
                <a:ea typeface="Majalla UI"/>
              </a:rPr>
              <a:t>.</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راجعات التمهيدية</a:t>
            </a:r>
            <a:endParaRPr b="0" lang="en-US" sz="4300" spc="-1" strike="noStrike">
              <a:solidFill>
                <a:srgbClr val="572314"/>
              </a:solidFill>
              <a:latin typeface="Gill Sans MT"/>
            </a:endParaRPr>
          </a:p>
        </p:txBody>
      </p:sp>
      <p:sp>
        <p:nvSpPr>
          <p:cNvPr id="385"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 : مذكرة تخطيط المراجع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مثلة على مايجب أن تتضمنه مذكرة تخطيط المراجعة: </a:t>
            </a:r>
            <a:endParaRPr b="0" lang="en-US" sz="24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معلومات عن الإدارات أو الأقسام التي سيتم مراجعة أعمالها وطبيعة تلك الأعمال والمخاطر المرتبطة بكل منها.</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أفراد والمسئولين عن الإدارات أو الأقسام التي سيتم مراجعة أعمالها والمهام المنوطة بكل منهم.</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بيان واضح بنطاق مهمة المراجعة وحدودها.</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وقيت القيام بالمراحل الأساسية للمهم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فريق العمل المكلف بالمهمة ودور كل منهم ومتى يعود إلى رئيس فريق عمل المهم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أنشطة التي سيتم القيام بها.</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شكل التقرير وتوقيت تقديمه لإدارة المراجعة.</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يجب مراجعة وتوثيق الظروف والأوضاع التي قد تؤثر على المهمة أو على أداء فريق العمل في مذكرة تخطيط المراجعة</a:t>
            </a:r>
            <a:r>
              <a:rPr b="0" lang="ar-SA" sz="1200" spc="-1" strike="noStrike">
                <a:solidFill>
                  <a:srgbClr val="000000"/>
                </a:solidFill>
                <a:latin typeface="Gill Sans MT"/>
                <a:cs typeface="Majalla UI"/>
              </a:rPr>
              <a:t>، </a:t>
            </a:r>
            <a:r>
              <a:rPr b="0" lang="ar-SA" sz="1800" spc="-1" strike="noStrike">
                <a:solidFill>
                  <a:srgbClr val="000000"/>
                </a:solidFill>
                <a:latin typeface="Gill Sans MT"/>
                <a:cs typeface="Majalla UI"/>
              </a:rPr>
              <a:t>هذه الظروف والأوضاع</a:t>
            </a:r>
            <a:endParaRPr b="0" lang="en-US" sz="18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راجعات التمهيدية</a:t>
            </a:r>
            <a:endParaRPr b="0" lang="en-US" sz="4300" spc="-1" strike="noStrike">
              <a:solidFill>
                <a:srgbClr val="572314"/>
              </a:solidFill>
              <a:latin typeface="Gill Sans MT"/>
            </a:endParaRPr>
          </a:p>
        </p:txBody>
      </p:sp>
      <p:sp>
        <p:nvSpPr>
          <p:cNvPr id="387"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يضا : مذكرة تخطيط المراجعة يجب أن تلخص تفاصيل الاجتماع الافتتاحي المنعقد.</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من هذه التفاصيل:</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 وقت ومكان الاجتماع</a:t>
            </a:r>
            <a:endParaRPr b="0" lang="en-US" sz="1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حضور</a:t>
            </a:r>
            <a:endParaRPr b="0" lang="en-US" sz="1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 الموضوعات التي تم مناقشتها</a:t>
            </a:r>
            <a:endParaRPr b="0" lang="en-US" sz="1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 الاستنتاجات التي تم التوصل إليها</a:t>
            </a:r>
            <a:endParaRPr b="0" lang="en-US" sz="1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توقيتات المتوقعة للمراحل الأساسية للمراجعة </a:t>
            </a:r>
            <a:endParaRPr b="0" lang="en-US" sz="1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سجيل المواعيد المناسبة لبداية ونهاية الأمور التالية الخاصة بالمهمة</a:t>
            </a:r>
            <a:r>
              <a:rPr b="1" lang="ar-SA" sz="1800" spc="-1" strike="noStrike">
                <a:solidFill>
                  <a:srgbClr val="000000"/>
                </a:solidFill>
                <a:latin typeface="Gill Sans MT"/>
                <a:ea typeface="Majalla UI"/>
              </a:rPr>
              <a:t>: </a:t>
            </a:r>
            <a:endParaRPr b="0" lang="en-US" sz="1800" spc="-1" strike="noStrike">
              <a:solidFill>
                <a:srgbClr val="000000"/>
              </a:solidFill>
              <a:latin typeface="Gill Sans MT"/>
            </a:endParaRPr>
          </a:p>
          <a:p>
            <a:pPr lvl="2" marL="863640" indent="-343080" algn="just" rtl="1">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cs typeface="Majalla UI"/>
              </a:rPr>
              <a:t>تخطيط المراجعة.</a:t>
            </a:r>
            <a:endParaRPr b="0" lang="en-US" sz="1400" spc="-1" strike="noStrike">
              <a:solidFill>
                <a:srgbClr val="000000"/>
              </a:solidFill>
              <a:latin typeface="Gill Sans MT"/>
            </a:endParaRPr>
          </a:p>
          <a:p>
            <a:pPr lvl="2" marL="863640" indent="-343080" algn="just" rtl="1">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cs typeface="Majalla UI"/>
              </a:rPr>
              <a:t>العمل الميداني.</a:t>
            </a:r>
            <a:endParaRPr b="0" lang="en-US" sz="1400" spc="-1" strike="noStrike">
              <a:solidFill>
                <a:srgbClr val="000000"/>
              </a:solidFill>
              <a:latin typeface="Gill Sans MT"/>
            </a:endParaRPr>
          </a:p>
          <a:p>
            <a:pPr lvl="2" marL="863640" indent="-343080" algn="just" rtl="1">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cs typeface="Majalla UI"/>
              </a:rPr>
              <a:t>تاريخ إصدار مسودة التقرير.</a:t>
            </a:r>
            <a:endParaRPr b="0" lang="en-US" sz="1400" spc="-1" strike="noStrike">
              <a:solidFill>
                <a:srgbClr val="000000"/>
              </a:solidFill>
              <a:latin typeface="Gill Sans MT"/>
            </a:endParaRPr>
          </a:p>
          <a:p>
            <a:pPr lvl="2" marL="863640" indent="-343080" algn="just" rtl="1">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cs typeface="Majalla UI"/>
              </a:rPr>
              <a:t>تاريخ إصدار التقرير النهائي المؤقت. </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اجتماع الافتتاحي مع الجهة المراجع عليها</a:t>
            </a:r>
            <a:endParaRPr b="0" lang="en-US" sz="4300" spc="-1" strike="noStrike">
              <a:solidFill>
                <a:srgbClr val="572314"/>
              </a:solidFill>
              <a:latin typeface="Gill Sans MT"/>
            </a:endParaRPr>
          </a:p>
        </p:txBody>
      </p:sp>
      <p:sp>
        <p:nvSpPr>
          <p:cNvPr id="389"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حضور الاجتماع من قبل أعضاء الإدارة المهتمين بعملية المراجعة والذين يستطيعون تسهيل عمل المراجعة على الجهة المراد مراجعتها.</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على مدير المراجعة الداخلية أن يرأس فريق المراجعة في الاجتماع الافتتاحي.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تبرز أهمية الإجتماع الافتتاحي من أنه </a:t>
            </a:r>
            <a:r>
              <a:rPr b="1" lang="ar-SA" sz="2400" spc="-1" strike="noStrike">
                <a:solidFill>
                  <a:srgbClr val="000000"/>
                </a:solidFill>
                <a:latin typeface="Gill Sans MT"/>
                <a:cs typeface="Majalla UI"/>
              </a:rPr>
              <a:t>يعتبر :</a:t>
            </a:r>
            <a:endParaRPr b="0" lang="en-US" sz="24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بمثابة الفرصة الأولى للقاء موظفي الإدارة المراد مراجعتها بشكل رسمي </a:t>
            </a:r>
            <a:endParaRPr b="0" lang="en-US" sz="18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يرسم الاتجاهات العامة لباقي مراحل مهمة المراجعة. </a:t>
            </a:r>
            <a:endParaRPr b="0" lang="en-US" sz="18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اجتماع الافتتاحي مع الجهة المراجع عليها</a:t>
            </a:r>
            <a:endParaRPr b="0" lang="en-US" sz="4300" spc="-1" strike="noStrike">
              <a:solidFill>
                <a:srgbClr val="572314"/>
              </a:solidFill>
              <a:latin typeface="Gill Sans MT"/>
            </a:endParaRPr>
          </a:p>
        </p:txBody>
      </p:sp>
      <p:sp>
        <p:nvSpPr>
          <p:cNvPr id="391"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أمور التي يتم مناقشتها في الاجتماع الافتتاحي عادة هي:</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دف ا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ريف المصطلح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تطلبات الجهة المراجع علي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رفع التقارير</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عاليات الاختتام</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393"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ستخدم أوراق العمل كوسيلة لـ </a:t>
            </a:r>
            <a:endParaRPr b="0" lang="en-US" sz="28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ثيق العمل الذي قامت وحدة المراجعة الداخلية بإنجازه خلال مراحل المهمة </a:t>
            </a:r>
            <a:endParaRPr b="0" lang="en-US" sz="20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دوين المعلومات والبيانات والأدلة التي تم تجميعها </a:t>
            </a:r>
            <a:endParaRPr b="0" lang="en-US" sz="20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ثيق الاختبارات والتحاليل التي تم تنفيذها على عينات المراجعة</a:t>
            </a:r>
            <a:r>
              <a:rPr b="0" lang="ar-SA" sz="1800" spc="-1" strike="noStrike">
                <a:solidFill>
                  <a:srgbClr val="000000"/>
                </a:solidFill>
                <a:latin typeface="Gill Sans MT"/>
                <a:ea typeface="Majalla UI"/>
              </a:rPr>
              <a:t> </a:t>
            </a:r>
            <a:endParaRPr b="0" lang="en-US" sz="18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تحفظ أوراق المراجعة  في ملفين هما: </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لف المراجعة الدائم</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لف مراجعة المهمة (الملف الجاري</a:t>
            </a:r>
            <a:r>
              <a:rPr b="0" lang="ar-SA" sz="1800" spc="-1" strike="noStrike">
                <a:solidFill>
                  <a:srgbClr val="000000"/>
                </a:solidFill>
                <a:latin typeface="Gill Sans MT"/>
                <a:ea typeface="Majalla UI"/>
              </a:rPr>
              <a:t>)</a:t>
            </a:r>
            <a:endParaRPr b="0" lang="en-US" sz="18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أوراق العمل كأداة مساعدة في تخطيط المراجعه</a:t>
            </a:r>
            <a:br>
              <a:rPr sz="3900"/>
            </a:br>
            <a:endParaRPr b="0" lang="en-US" sz="3900" spc="-1" strike="noStrike">
              <a:solidFill>
                <a:srgbClr val="572314"/>
              </a:solidFill>
              <a:latin typeface="Gill Sans MT"/>
            </a:endParaRPr>
          </a:p>
        </p:txBody>
      </p:sp>
      <p:sp>
        <p:nvSpPr>
          <p:cNvPr id="395" name=""/>
          <p:cNvSpPr txBox="1"/>
          <p:nvPr/>
        </p:nvSpPr>
        <p:spPr>
          <a:xfrm>
            <a:off x="1866960" y="1174320"/>
            <a:ext cx="9996480" cy="5178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بدأ استخدام أوراق العمل منذ بداية التخطيط للمهمة وحتى الإنتهاء من تنفيذ المهمة وإصدار التقرير</a:t>
            </a:r>
            <a:endParaRPr b="0" lang="en-US" sz="24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وراق العمل تستخدم في توثيق الخطوات التال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خطط المراجعة، بما في ذلك برنامج ا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حص وتقييم كفاءة وفعالية أنظمة الرقابة الداخ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جراءات المراجعة المستخدمة، المعلومات التي تم الحصول عليها، والنتائج التي تم التوصل إلي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ارير الإشراف.</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ارير ا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ارير المتابعة الخاصة بتطبيق الإجراءات التصحيحية</a:t>
            </a:r>
            <a:endParaRPr b="0" lang="en-US" sz="20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397"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فهرس الموحد لأوراق العمل:</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صمم مدير المراجعة نظام فهرسة لأوراق العمل بالإتفاق مع العاملين بالوحدة لتوحيد هيكل ومحتوى ملفات المراجعة و لضمان التماثل في جميع ملفات المراجعة لكي يسهل التعامل معها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399" name=""/>
          <p:cNvSpPr txBox="1"/>
          <p:nvPr/>
        </p:nvSpPr>
        <p:spPr>
          <a:xfrm>
            <a:off x="1914480" y="1447560"/>
            <a:ext cx="9996480" cy="480060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أهداف أوراق العمل: </a:t>
            </a:r>
            <a:r>
              <a:rPr b="0" lang="ar-SA" sz="3200" spc="-1" strike="noStrike">
                <a:solidFill>
                  <a:srgbClr val="000000"/>
                </a:solidFill>
                <a:latin typeface="Gill Sans MT"/>
                <a:ea typeface="Majalla UI"/>
              </a:rPr>
              <a:t>	</a:t>
            </a:r>
            <a:endParaRPr b="0" lang="en-US" sz="32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هيل تنفيذ وإدارة مهمة المراجعة بكفاءة وفعالية.</a:t>
            </a:r>
            <a:endParaRPr b="0" lang="en-US" sz="20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ديم الدعم والتأييد لتقارير المراجعة.</a:t>
            </a:r>
            <a:endParaRPr b="0" lang="en-US" sz="20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هيل مراجعة الأطراف الخارجية الأخرى.</a:t>
            </a:r>
            <a:endParaRPr b="0" lang="en-US" sz="20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ساعدة في التطور المهني.</a:t>
            </a:r>
            <a:endParaRPr b="0" lang="en-US" sz="20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اهم أوراق العمل في تنفيذ الواجبات الإدارية المختلفة لوحدة المراجعة الداخلية بكفاءة وفعا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يسير عملية تخطيط مهمة المراجعة بكفاءة (بما في ذلك تحديد الموارد الأساسية) </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يسير تحقيق رقابة فعالة على العمل الميداني </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يسير تنقيح وكتابة تقارير المراجعة</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ديم الدعم لتقرير المراجع الداخلي </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401"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معايير المتعلقة بأوراق العمل: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ن تتسم بالوضوح وسهولة الفهم.</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ن تكون وثيقة الصلة بالموضوع.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ن تسم بالدق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ن تتسم بالاكتمال والثقة فيها وإمكانية الاعتماد علي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ن تتسم بالبساط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وضوعية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نظيم أعمال المراجعة الداخلية </a:t>
            </a:r>
            <a:endParaRPr b="0" lang="en-US" sz="4300" spc="-1" strike="noStrike">
              <a:solidFill>
                <a:srgbClr val="572314"/>
              </a:solidFill>
              <a:latin typeface="Gill Sans MT"/>
            </a:endParaRPr>
          </a:p>
        </p:txBody>
      </p:sp>
      <p:sp>
        <p:nvSpPr>
          <p:cNvPr id="331"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تضمن التنظيم ترتيب الموارد المتاحة بشكل يسمح بإنجاز مهام المراجعة بما يحقق أهداف الإدار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احتياجات التي تحددها ادارة المراجعة الداخلية من الموارد البشرية والمالية تقع مسئولية تدبيرها على الإدارة التنفيذية</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نظيم العمل يعد مسئولية مدير المراجع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يقع على المدير مسئولية الإشراف على سير العمل لضمان أداؤه بطريقة أفضل</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أوراق العمل كأداة مساعدة في تخطيط المراجعه</a:t>
            </a:r>
            <a:br>
              <a:rPr sz="3900"/>
            </a:br>
            <a:endParaRPr b="0" lang="en-US" sz="3900" spc="-1" strike="noStrike">
              <a:solidFill>
                <a:srgbClr val="572314"/>
              </a:solidFill>
              <a:latin typeface="Gill Sans MT"/>
            </a:endParaRPr>
          </a:p>
        </p:txBody>
      </p:sp>
      <p:sp>
        <p:nvSpPr>
          <p:cNvPr id="403"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يجب أن تتضمن كل ورقة عمل على نص واضح يبين : </a:t>
            </a:r>
            <a:endParaRPr b="0" lang="en-US" sz="28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هداف.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حجم وأساليب اختيار العينة (النطاق)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صادر المعلومات</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فاصيل الفحص الذي تم إنجازه.</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نتائج الفحص (الاستنتاجات)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جعية برنامج ا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405"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حفظ أوراق العمل: </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تبر أوراق العمل وملفات المراجعة من ملكية وحدة المراجعة الداخلي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ا يسمح بالاحتفاظ بها أو الإطلاع على محتواها إلا من المراجعين الداخليين المعنيين أو من يصرح لهم المسئول الأول بالجه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يجب حفظ أوراق العمل وملفات المراجعة بمكان آمن في الشركة بما يحفظها من التلف، والعبث، أو الاستخدام غير المسموح به</a:t>
            </a:r>
            <a:r>
              <a:rPr b="0" lang="ar-SA" sz="1600" spc="-1" strike="noStrike">
                <a:solidFill>
                  <a:srgbClr val="000000"/>
                </a:solidFill>
                <a:latin typeface="Gill Sans MT"/>
                <a:ea typeface="Majalla UI"/>
              </a:rPr>
              <a:t>.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914480" y="274320"/>
            <a:ext cx="9996480" cy="1143000"/>
          </a:xfrm>
          <a:prstGeom prst="rect">
            <a:avLst/>
          </a:prstGeom>
          <a:noFill/>
          <a:ln w="0">
            <a:noFill/>
          </a:ln>
        </p:spPr>
        <p:txBody>
          <a:bodyPr anchor="ctr">
            <a:noAutofit/>
          </a:bodyPr>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أوراق العمل كأداة مساعدة في تخطيط المراجعه</a:t>
            </a:r>
            <a:endParaRPr b="0" lang="en-US" sz="4300" spc="-1" strike="noStrike">
              <a:solidFill>
                <a:srgbClr val="572314"/>
              </a:solidFill>
              <a:latin typeface="Gill Sans MT"/>
            </a:endParaRPr>
          </a:p>
        </p:txBody>
      </p:sp>
      <p:sp>
        <p:nvSpPr>
          <p:cNvPr id="407" name=""/>
          <p:cNvSpPr txBox="1"/>
          <p:nvPr/>
        </p:nvSpPr>
        <p:spPr>
          <a:xfrm>
            <a:off x="2019240" y="1472760"/>
            <a:ext cx="9677520" cy="45594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أوراق العمل الإلكترونية</a:t>
            </a:r>
            <a:r>
              <a:rPr b="0"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كون كل الملفات الالكترونية مراقبة ومحفوظة جيدا لتجنب المخاطر المصاحبة لاستخدامها مثل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دخول غير المصرح به وإحداث تغيير غير ملائم على البيانات.</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تلاف أو فقدان البيانات.</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استخدام أساليب رقابة محددة عند استخدام أوراق العمل الإلكترونية وذلك للمحافظة على سلامة الملفات ومن أهم الأساليب الرقابية في هذا المجال الرقابة على الدخول والنسخ الاحتياطي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صادر </a:t>
            </a:r>
            <a:endParaRPr b="0" lang="en-US" sz="4300" spc="-1" strike="noStrike">
              <a:solidFill>
                <a:srgbClr val="572314"/>
              </a:solidFill>
              <a:latin typeface="Gill Sans MT"/>
            </a:endParaRPr>
          </a:p>
        </p:txBody>
      </p:sp>
      <p:sp>
        <p:nvSpPr>
          <p:cNvPr id="409"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رقابة والمراجعة الداخلية في الأجهزة الحكومية والمؤسسات العامة – </a:t>
            </a:r>
            <a:r>
              <a:rPr b="0" lang="en-US" sz="3200" spc="-1" strike="noStrike">
                <a:solidFill>
                  <a:srgbClr val="000000"/>
                </a:solidFill>
                <a:latin typeface="Gill Sans MT"/>
                <a:ea typeface="Majalla UI"/>
              </a:rPr>
              <a:t>SOCPA</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ات و عروض الاستاذه هناء العقيل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نظيم أعمال المراجعة الداخلية </a:t>
            </a:r>
            <a:endParaRPr b="0" lang="en-US" sz="4300" spc="-1" strike="noStrike">
              <a:solidFill>
                <a:srgbClr val="572314"/>
              </a:solidFill>
              <a:latin typeface="Gill Sans MT"/>
            </a:endParaRPr>
          </a:p>
        </p:txBody>
      </p:sp>
      <p:sp>
        <p:nvSpPr>
          <p:cNvPr id="333"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أقسام ادارة المراجعه الداخلي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حدة المراجعة: تختص بمهام المراجع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حدة مراقبة جودة الأداء: تختص بمراقبة تنفيذ معايير المراجع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حدة الخدمات الاستشارية: تختص بالدراسات الاستشاري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حدة العمليات المساعدة: تختص بالحفظ ، النسخ وغيرها من الأعمال المساعدة</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914480" y="274320"/>
            <a:ext cx="99964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35" name=""/>
          <p:cNvSpPr txBox="1"/>
          <p:nvPr/>
        </p:nvSpPr>
        <p:spPr>
          <a:xfrm>
            <a:off x="1914480" y="1447560"/>
            <a:ext cx="9996480" cy="4800600"/>
          </a:xfrm>
          <a:prstGeom prst="rect">
            <a:avLst/>
          </a:prstGeom>
          <a:noFill/>
          <a:ln w="0">
            <a:noFill/>
          </a:ln>
        </p:spPr>
        <p:txBody>
          <a:bodyPr anchor="t">
            <a:normAutofit/>
          </a:bodyPr>
          <a:p>
            <a:pPr lvl="2"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طبيعة عملية تخطيط المراجعة الداخلية</a:t>
            </a:r>
            <a:endParaRPr b="0" lang="en-US" sz="32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ألزم المعيار الثالث من معايير الأداء الخاصة بالمراجعة الداخلية مدير المراجعة بوضع خطة لعملية المراجعة </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خطة تكون بناءا على قيام المراجع بتقدير المخاطر بهدف تحديد المهام التي يجب على المراجعة الداخلية تنفيذها مع مراعاة أن تكون الخطة متسقة مع أهداف المنشا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جب أن تكون أولوية اختيار مهام المراجعة الداخلية بناء على قوة تأثيرها في تحسين عملية إدارة المخاطر بالمنشأة</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914480" y="274320"/>
            <a:ext cx="99964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37" name=""/>
          <p:cNvSpPr txBox="1"/>
          <p:nvPr/>
        </p:nvSpPr>
        <p:spPr>
          <a:xfrm>
            <a:off x="1914480" y="1447560"/>
            <a:ext cx="9996480" cy="4800600"/>
          </a:xfrm>
          <a:prstGeom prst="rect">
            <a:avLst/>
          </a:prstGeom>
          <a:noFill/>
          <a:ln w="0">
            <a:noFill/>
          </a:ln>
        </p:spPr>
        <p:txBody>
          <a:bodyPr anchor="t">
            <a:normAutofit/>
          </a:bodyPr>
          <a:p>
            <a:pPr lvl="2"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مراحل عملية التخطيط </a:t>
            </a:r>
            <a:endParaRPr b="0" lang="en-US" sz="3200" spc="-1" strike="noStrike">
              <a:solidFill>
                <a:srgbClr val="000000"/>
              </a:solidFill>
              <a:latin typeface="Gill Sans MT"/>
            </a:endParaRPr>
          </a:p>
          <a:p>
            <a:pPr lvl="3" marL="808200" indent="-51444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وضع استرايجية خطة المراجعه </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م استخدام هذه الإستراتيجية كدليل إرشادي بالأنشطة والإدارات الأخرى المراد مراجعتها خلال فترة طويلة نسبيا (من ثلاثة إلى خمس سنوات)</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قسم الإستراتيجية إلى خطط سنوية وتقسم كل خطة سنوية إلى عدة مهام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خطة المراجعة تحتوي على إيضاحات إضافية للفترة التي تحتاج لها كل مهمة مراجعة والموارد المطلوبة في سبيل تحقيق ذلك</a:t>
            </a:r>
            <a:endParaRPr b="0" lang="en-US" sz="24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39"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يراعى عند وضع استراتيجية العمل تحقيق الأهداف التال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ضع إطار مناسب لاختيار المهام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مكين وحدة المراجعة من توجيه جهودها نحو المجالات الأكثر أهم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مجالات التي ستكون محل تركيز أعمال المراجعة الداخلية في المستقبل</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ضيح طبيعة أعمال المراجعة الداخ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دير كمية الموارد المطلوبة لتنفيذ الإستراتيجية</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خطيط عملية المراجعه </a:t>
            </a:r>
            <a:endParaRPr b="0" lang="en-US" sz="4300" spc="-1" strike="noStrike">
              <a:solidFill>
                <a:srgbClr val="572314"/>
              </a:solidFill>
              <a:latin typeface="Gill Sans MT"/>
            </a:endParaRPr>
          </a:p>
        </p:txBody>
      </p:sp>
      <p:sp>
        <p:nvSpPr>
          <p:cNvPr id="341" name=""/>
          <p:cNvSpPr txBox="1"/>
          <p:nvPr/>
        </p:nvSpPr>
        <p:spPr>
          <a:xfrm>
            <a:off x="1914480" y="1447560"/>
            <a:ext cx="9996480" cy="4800600"/>
          </a:xfrm>
          <a:prstGeom prst="rect">
            <a:avLst/>
          </a:prstGeom>
          <a:noFill/>
          <a:ln w="0">
            <a:noFill/>
          </a:ln>
        </p:spPr>
        <p:txBody>
          <a:bodyPr anchor="t">
            <a:normAutofit/>
          </a:bodyPr>
          <a:p>
            <a:pPr lvl="1" marL="731880" indent="-457200" algn="r" rtl="1">
              <a:spcBef>
                <a:spcPts val="550"/>
              </a:spcBef>
              <a:buClr>
                <a:srgbClr val="3891a7"/>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ختيار مهام المراجعة</a:t>
            </a:r>
            <a:endParaRPr b="0" lang="en-US" sz="2800" spc="-1" strike="noStrike">
              <a:solidFill>
                <a:srgbClr val="000000"/>
              </a:solidFill>
              <a:latin typeface="Gill Sans MT"/>
            </a:endParaRPr>
          </a:p>
          <a:p>
            <a:pPr lvl="1" marL="731880" indent="-45720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ند اختيار مهام المراجعة يجب مراعاة ما يلي </a:t>
            </a:r>
            <a:endParaRPr b="0" lang="en-US" sz="2400" spc="-1" strike="noStrike">
              <a:solidFill>
                <a:srgbClr val="000000"/>
              </a:solidFill>
              <a:latin typeface="Gill Sans MT"/>
            </a:endParaRPr>
          </a:p>
          <a:p>
            <a:pPr lvl="2" marL="885960" indent="-22860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همية</a:t>
            </a:r>
            <a:endParaRPr b="0" lang="en-US" sz="2000" spc="-1" strike="noStrike">
              <a:solidFill>
                <a:srgbClr val="000000"/>
              </a:solidFill>
              <a:latin typeface="Gill Sans MT"/>
            </a:endParaRPr>
          </a:p>
          <a:p>
            <a:pPr lvl="3" marL="1096920" indent="-173160" algn="r"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تتحدد أهمية مهمة معينة على أساس الناتج من تنفيذها </a:t>
            </a:r>
            <a:endParaRPr b="0" lang="en-US" sz="1600" spc="-1" strike="noStrike">
              <a:solidFill>
                <a:srgbClr val="000000"/>
              </a:solidFill>
              <a:latin typeface="Gill Sans MT"/>
            </a:endParaRPr>
          </a:p>
          <a:p>
            <a:pPr lvl="2" marL="885960" indent="-22860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قابلية للتلاعب</a:t>
            </a:r>
            <a:endParaRPr b="0" lang="en-US" sz="2000" spc="-1" strike="noStrike">
              <a:solidFill>
                <a:srgbClr val="000000"/>
              </a:solidFill>
              <a:latin typeface="Gill Sans MT"/>
            </a:endParaRPr>
          </a:p>
          <a:p>
            <a:pPr lvl="3" marL="1096920" indent="-173160" algn="r"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قابلية تعرض نشاط معين للتلاعب والاحتيال يجعل له الأولوية عند تحديد المهام التي يجب تنفيذها في الخطة</a:t>
            </a:r>
            <a:endParaRPr b="0" lang="en-US" sz="1600" spc="-1" strike="noStrike">
              <a:solidFill>
                <a:srgbClr val="000000"/>
              </a:solidFill>
              <a:latin typeface="Gill Sans MT"/>
            </a:endParaRPr>
          </a:p>
          <a:p>
            <a:pPr lvl="2" marL="885960" indent="-22860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دى ارتباط النشاط بأهداف أو رسالة الجهة المراجع لها</a:t>
            </a:r>
            <a:endParaRPr b="0" lang="en-US" sz="2000" spc="-1" strike="noStrike">
              <a:solidFill>
                <a:srgbClr val="000000"/>
              </a:solidFill>
              <a:latin typeface="Gill Sans MT"/>
            </a:endParaRPr>
          </a:p>
          <a:p>
            <a:pPr lvl="3" marL="1096920" indent="-173160" algn="r" rtl="1">
              <a:spcBef>
                <a:spcPts val="400"/>
              </a:spcBef>
              <a:buClr>
                <a:srgbClr val="c32d2e"/>
              </a:buClr>
              <a:buFont typeface="Gill Sans MT"/>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أنشطة التي يكون لها ارتباط كبير بأهداف أو رسالة الجهة يكون لها الأولوية في عملية المراجعة </a:t>
            </a:r>
            <a:endParaRPr b="0" lang="en-US" sz="1600" spc="-1" strike="noStrike">
              <a:solidFill>
                <a:srgbClr val="000000"/>
              </a:solidFill>
              <a:latin typeface="Gill Sans MT"/>
            </a:endParaRPr>
          </a:p>
          <a:p>
            <a:pPr lvl="2" marL="885960" indent="-228600" algn="r" rtl="1">
              <a:spcBef>
                <a:spcPts val="499"/>
              </a:spcBef>
              <a:buClr>
                <a:srgbClr val="feb80a"/>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اريخ آخر مراجعة ونتيجتها</a:t>
            </a:r>
            <a:endParaRPr b="0" lang="en-US" sz="2000" spc="-1" strike="noStrike">
              <a:solidFill>
                <a:srgbClr val="000000"/>
              </a:solidFill>
              <a:latin typeface="Gill Sans MT"/>
            </a:endParaRPr>
          </a:p>
          <a:p>
            <a:pPr lvl="3" marL="1096920" indent="-173160" algn="r"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ن تاريخ أخر مراجعة ونتيجتها يكون لها دور في اختيار المهام التي يجب تنفيذها</a:t>
            </a:r>
            <a:endParaRPr b="0" lang="en-US" sz="1600" spc="-1" strike="noStrike">
              <a:solidFill>
                <a:srgbClr val="000000"/>
              </a:solidFill>
              <a:latin typeface="Gill Sans MT"/>
            </a:endParaRPr>
          </a:p>
          <a:p>
            <a:pPr lvl="2" marL="885960" indent="-22860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قابلية للتغيير</a:t>
            </a:r>
            <a:endParaRPr b="0" lang="en-US" sz="2000" spc="-1" strike="noStrike">
              <a:solidFill>
                <a:srgbClr val="000000"/>
              </a:solidFill>
              <a:latin typeface="Gill Sans MT"/>
            </a:endParaRPr>
          </a:p>
          <a:p>
            <a:pPr lvl="3" marL="1096920" indent="-173160" algn="r" rtl="1">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أنشطة التي تكون عرضة للتغير يجب أن يكون لها أولوية عند تحديد المهام أكثر من تلك التي لا تكون معرضة للتغيير</a:t>
            </a:r>
            <a:endParaRPr b="0" lang="en-US" sz="16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731880" indent="-45720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8:40Z</dcterms:created>
  <dc:creator>hana</dc:creator>
  <dc:description/>
  <dc:language>en-US</dc:language>
  <cp:lastModifiedBy>kayan albalawi</cp:lastModifiedBy>
  <dcterms:modified xsi:type="dcterms:W3CDTF">2014-03-04T16:35:24Z</dcterms:modified>
  <cp:revision>109</cp:revision>
  <dc:subject/>
  <dc:title>إجراءات إنشاء وتنظيم وحدات المراجعة الداخلية وإداراتها</dc:title>
</cp:coreProperties>
</file>