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FA99-84C2-4F9B-BC97-42F208A0E6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5444-D4C6-4075-BA2A-41298738611E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56E-4479-4F1D-8023-D2D7E630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75A-AD9D-4558-A9D8-FD397904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1DF-D153-446E-8AC5-AD05EECC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2C5-FD32-467C-9A4B-A267FCAB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CFCE-C722-4DB7-8838-1C86B7BD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8F80-4988-480E-AEDE-E88705C2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BA6-48C3-4C9B-BBCB-44351F1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6A04-7870-4E53-9098-D1D13EC3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E39E-B882-445B-846E-8DEC3BC2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BBC-B080-4F20-86F8-75764F1C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808F-8E2E-429C-9A3F-67926A2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0A2-02BA-4CE4-9790-B7746D9E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9CD1-58E9-45B3-ABB4-19139FA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2868-2BAA-439F-B33E-FAB2BB7C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619F-D3A2-4196-AA14-25DCC614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D4BB-7F5E-41EA-8D56-26D3A28E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C5D9-88F8-48C1-841C-E428860F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928F-DF50-49A9-B53B-FD4543D0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2247-6885-4D7C-BA4B-5F75735B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C461-5190-4148-99E8-F6A97629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4BB1-07F2-445F-8B16-2366EB8A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2292-1872-4DDD-BEE2-80857B9C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3CB-2328-4B82-8855-73B1B2A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FA58-F1B9-44DE-ABF1-F0569ECB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F6C7-A6FB-415F-A747-9C7BF27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8355-1F2B-4FC6-9112-7D84CDA1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9F58-9D15-4787-A322-B89B1C8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75BB-14EE-4B79-8724-397475F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74F0-1B3B-45F4-AE7D-60268155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E1AE-1F93-4859-A41E-4D74E39D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33F2F-BCFA-4CA3-84F5-3AEC21F4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2B92-48EA-4AF4-8C75-258A7AD3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0C8FB-4801-434D-90AA-941B050B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AB7-0D91-425E-9B14-3FF59AC5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6CEF6-6C10-45FE-A63F-97D50A50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13617-AD29-41AB-84E9-1901709B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1EFC-3301-4EC8-BFFB-7C7CC6D2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A219-9B2A-42F3-A494-BC3E26A9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219D-E086-4685-8334-D84F17D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FC3C4-CE8E-4A94-8CA0-E3F8C510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62DB-3525-4CED-9B91-E7A0ACF7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D947-7CA3-40EB-8F1A-9DEEBBB7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9FB89-48E0-4177-8860-96581374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1D4F-424D-4A80-B2DD-49AC146E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A81-0C6A-4C45-8DCF-B88A8F5B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689EB-EC8B-4F99-89E9-9CC00106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025B-DBC1-49FB-8797-EA116CE0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C94D7-7E90-4075-8D33-AA26B18A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AC2A6-CD61-4A0D-B285-7B113F2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B81E-8E0D-4AAB-AE17-FDDD2437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A47F-A29D-4F23-BE6C-D89089DC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9073D-AAE3-4A06-8182-950D55AA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21357-5C8A-421C-87FC-7C7FA321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032B-3DFD-4671-AD75-722CBBBF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037C-1619-4833-B2A2-FD7064FA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D7B-E531-4E18-B2F4-E18C3AC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3916-6959-423B-9B91-0DBBFB6F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9D4-C80C-4CCB-8E56-4EAE2169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B78-CBBD-4966-8263-4369E5E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E75-8CF4-4E88-A814-7D88326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E10D-4484-450D-8D97-6F84449A7FF3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E1BA-6B95-45AC-BD9F-5AF3CE56445E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EDFA-D35A-44DE-BE36-99096AC567F6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0FFF-24AA-4B2E-9F3D-2F7378A5A499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1E9C-C14B-4FE1-81EB-D731C3BB677E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842920" y="907560"/>
            <a:ext cx="3932280" cy="79236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 fontScale="94000"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عتبارات التخطيط للإنتا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920" y="2349360"/>
            <a:ext cx="7756560" cy="25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صميم المنت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صميم الداخلي للمصن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إدارة المواد و تخزينها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1989000"/>
            <a:ext cx="7991280" cy="29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تصميم المنتج : أن الهدف من هذه العملية الإنتاجية هو توفير منتج ما بموصفات معينه لهذت يكون من المنطقي التخطيط له لبلوغ هذا الهدف و يتم ذلك من خلال الجهود التي تبذل بشأن التوصل للتصميم المناسب شكلا و مضمونا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26920" y="1447920"/>
            <a:ext cx="775656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صميم الداخلي للمصنع : يكون لها تأثير على مستوى كفاءة أداء العملية الإنتاجية (التصميم الداخلي للمنظمة)و ذلك بالأخص عند بداية التأسيس و التجهيز للمنظم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يقصد بالتخطيط الداخلي للمنظمة أ وضع التصميمات الهندسية التي تكفل توفير نظام إنتاجي يتلأم مع كل من مدخلات الإنتاج و انسياب المخرجات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755280" y="1699920"/>
            <a:ext cx="7931160" cy="321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إدارة الموارد و تخزينها : و يستهدف من التخطيط للموارد توفير متطلبات الإنتاج من المواد الخام و غيرها من المستلزمات اللازمة بالكم و النوع المناسبين و في التوقيت الملائم لكل مرحلة من مراحل الإنتاج لضمان عدم توقف أو ارتباك العملية الإنتاجي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68360" y="2707920"/>
            <a:ext cx="8115120" cy="22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من هي الجهة المسؤولة عن المهام الشرائية ؟؟ هي وظيفية الشراء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63640" y="579600"/>
            <a:ext cx="681984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بعض الضوابط المتعلقة بوظيفيه الشراء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8040" y="2060280"/>
            <a:ext cx="7975440" cy="349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شراء بلكميه المناسب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شراء بالسعر المناس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شراء بجلوده المناسب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شراء من المصدر و التوقيت المناس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26920" y="579600"/>
            <a:ext cx="775656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 fontScale="89000"/>
          </a:bodyPr>
          <a:p>
            <a:pPr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تخزين ضرورة من ضروريات الإنتاج لماذا ؟؟ لأن الإنتاج يختص بمهمتين هما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920" y="2133360"/>
            <a:ext cx="7756560" cy="280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فير متطلبات الإنتاج من المواد و المهمات (بالشراء) مه ضمان استمرا هذه الإمدادات لقسم الإنتاج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خزين مخرجات الإنتاج سواء من الإنتاج التام الصنع تمهيدا لتصريفه للسوق او من الإنتاج الغير التام الصنع تمهيدا لاستكمال مراحله الإنتاجية الذي تتطلب بطبيعتها التخزين لبعض الوقت مثل الاجبان و العطو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ثالثا: تنظيم الإنتا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9640" y="1447920"/>
            <a:ext cx="804384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يشمل التنظيم كل وحدات التشغيل المتمثلة في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موارد المادية المستخدمة في هذا النشا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عاملين القائمين بالنشاط الإنتاجي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4360" y="579600"/>
            <a:ext cx="7899120" cy="148104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عد التنظيم و سيلة فعاله لرفع كفاءة الأداء الإنتاجي في منضمات الأعمال . و عادة يتم التنظيم يواحد من الأشكال التألي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920" y="2420640"/>
            <a:ext cx="7756560" cy="251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نظيم على أساس جغرافي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نظيم على اسا المتعاملين مع المنظم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نظيم على أساس نوع المنتجات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رابعا: الرقابة على الإنتا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1413000"/>
            <a:ext cx="78580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عد الرقابة العمل الإداري الثاني المكمل للتخطيط واذا كان التخطيط للإنتاج يأخذ في حسبانة الكم و الكيف للمنتجات فإن الرقابة تأتي مرحلة تالية لتأكيد ضرورة كلا من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نوع من حيث المواصفات التي تم بها إنتاج السلعة أو الخدم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كم من حيث حجم الإنتاج التام الصنع الفعلي و لجداول الزمني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إ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ملية الإدارية لوظيفة الإنتاج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راقبة الجود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411280" y="1844640"/>
            <a:ext cx="5803920" cy="232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التأكد من سلامه التنفيذ لما قد جاء بالخط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التعرف على أوجه الانحراف السلبية لما قد جاء بخلط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76000" y="529920"/>
            <a:ext cx="7210440" cy="109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تخدم نتائج الرقابة الجهاز الإداري في كل من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4080" y="2133720"/>
            <a:ext cx="8172360" cy="3311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من مؤشرات كفاءة نشاط الإنتاج مخرجاته أي مدى جوده منتجه النهائي ( السلعة و الخدمة 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يقصد  بجلوده (مدى قدرة المنتج على إشباع حاجات المستهلكين من خلال الوفاء بالخصائص و الصفات المطلوبة فيه كسعر بيعه و مكان توزيعه و الخدمات المصاحبة لتصريفه ووقت بيعه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756320" y="529920"/>
            <a:ext cx="3930480" cy="131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مراقبة الجودة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84000" y="1628640"/>
            <a:ext cx="8002440" cy="3291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نظرا لأهمية مراقبة جوده المنتج يقتضي الأمر تعاون الجهات المختلفة بالمنظمة لأن مسؤوليتها في الحقيقة لا تقع على إدارة الإنتاج وحده بل على الإدارات الأخرى مثل الإدارة المالية /إدارة شئون العاملين /و إدارة المشتريات /إدارة التسويق/ وهذا يجعل مطلب الجودة هدفا عامل للمنظم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26920" y="1447920"/>
            <a:ext cx="775656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يمكن النظر الى جوده المنتج أنه منظومة تتكون من الأنظمة التالية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بحوث و التطوير و الابتكا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هندسة الموصفات و التصميمات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صميم العمليات الإنتاجي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إنتاج و التشغيل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فحص و التفتي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عبئة و التغلي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سويق للمنتجات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28760" y="428760"/>
            <a:ext cx="8215200" cy="78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سياسة كالحروب أو الانقسامات تؤثر على متطلبات و عمليات الإنتاج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قتصادية كالتغييرات المتلاحقة في أسعار كل من فوائد القروض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و غيرها ..........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( من حيث عددها و درجة تأهليها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 (من حيث الكمية و النوع و الوقت المناسب لتوفيرها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آلات والمعدات (من حيث مدى مناسبتها و عددا و نوعا 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618920" y="579600"/>
            <a:ext cx="69642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هيكل العام لأهداف النشاط  الإنتاج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1628280"/>
            <a:ext cx="8361360" cy="34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مجموعة أهداف قصيره الأجل ( تحسين مستوى جودة الإنتاج –تخفيض تكلفه الإنتاج –حل مشكلات الإنتاج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مجموعه أهداف طويلة الأجل (التطوير و التجديد للمنتجات الحالية –زياده معدلات الإنتاج المتميز –الاتجاه نحو نظم الإنتاج الكبير )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86920" y="579600"/>
            <a:ext cx="73962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عملية الإدارية لوظيفة الإنتا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920" y="1447920"/>
            <a:ext cx="775656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أولا تحديد الهدف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أهداف كمية مثل كمية أنتاج معين موصفات معينة معدل خطاء مسموح به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أهداف وصفية مثل مستوى جودة محدد خامات معينة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ثانيا تخطيط الإنتا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42920" y="1447920"/>
            <a:ext cx="754056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خطيط للنشاط الإنتاجي يعني وضع استراتيجية متكلمة تضمن ترتيب مدخلات الإنتاج بالنوع و الكم بما يسهل عمليه تدفق مخرجات الإنتا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خطيط الكفء يضمن تخفيض التكلفة بشكل عام لمساهمته في تقليص كل من نفقات الصيانة و النقل و التخزين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10920" y="579600"/>
            <a:ext cx="79722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 fontScale="89000"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من أهم المزايا الاقتصادية و المعنوية المرتبطة بالتخطيط الكف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8920" y="1988640"/>
            <a:ext cx="8404200" cy="2948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حقيق التكامل الرأسي و الأفقي بين مهام الأقسام المختلف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جنب الأعمال المتكرر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ضمان تدفق عمليات التصني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حديد لمهام العاملين بشكل أوضح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أضافه مزيد من اعتبارات الحماية و السلام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nuha alnumair</cp:lastModifiedBy>
  <dcterms:modified xsi:type="dcterms:W3CDTF">2016-12-13T10:35:43Z</dcterms:modified>
  <cp:revision>49</cp:revision>
  <dc:subject/>
  <dc:title>التسويق..</dc:title>
</cp:coreProperties>
</file>