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1A62-70E7-4133-A459-D2CB44DA04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0B26-AA7F-4316-B670-E482DE6F2DAB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887-B26E-46C0-A537-A8CE4264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754-02BE-4E4A-BDC0-2A88C7D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67E-39B4-4566-9256-5BDE7579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FD5-F094-444B-95DA-71A886EB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35DA-EE82-4BFB-B234-560A487A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2727-5B4A-4378-8DD5-847AA1E9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A1B9-FE65-42EF-A7E5-F508357F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1CF0-364E-43FC-992B-DC9141FB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55D-7ADD-42B9-9697-EFC267C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09F9-EDC2-4B87-93B6-A26C9DC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3B6A-9CB0-46BD-8D96-0DC82E7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7529-D57C-4DD7-B440-1A9FFA7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6A3D-DD9B-4C44-8EA5-CD5FA86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C0A1-61F7-407D-975A-DED03FC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6AF8-7268-400D-94B8-32F04F23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70ED-6481-433A-AA64-62A46535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C8F6-8E0D-458A-9DB5-81AA51A0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9223-226A-4993-992D-17903535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3537-B491-4627-BFB7-1B900FA7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E195-4C14-4544-9FAA-44648B4E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1E58-5AB9-4822-A124-C0067381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9141-314E-4D8D-B4D2-B53B2B53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4F3F-1230-46B4-9696-8705B4A3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9DBF-5DA6-4E0D-8BCF-139AF0C3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F939-0917-4A8D-87D7-F3BF3CA0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7336-B0BF-43D2-B6A3-BC1DB02B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8DF7-6B1C-4A60-88A8-913736B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FFDE-DEA5-436C-A8A3-7A224C66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ACF2-C47C-4916-A7C7-3FD168E4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D895-6396-45D2-912F-7176EB81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C201C-8B93-4F81-A15B-A72366B9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F147B-C998-4E83-A9A0-83E3FE97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20FD-EF3D-4C82-AA79-1EB27D40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F9A-5F77-48A4-A6FB-3B1A66E8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3D73-53DD-41C1-AB41-D75A432D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85DD-3057-464F-9AF5-453098B7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24180-758D-487A-96C7-E178019C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E3A06-67E0-4F04-BB5E-B1E45861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F3BC7-8F8C-4FF1-A536-4169F88A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E11AA-9675-4396-94DF-6705130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7277B-CC3F-48DB-9263-92DF2966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95DD3-0850-4A3A-A0F0-5E04F5DB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0CCE-C10A-4C89-8137-F1EA07E4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911A5-5FE0-4283-96A1-FD5BB9A9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C28-6AF1-47F6-9B3E-6AECEAA6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E9F61-9B04-474E-838B-CE4788F6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8D475-B024-428D-BEBF-29C919E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B5287-5A31-42AD-94F3-9EE5167A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EB960-2158-4AEC-8374-F08882C0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6185E-675F-4A1D-A3A4-0411F870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F01DA-4672-483C-A332-9F0FDF1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A529E-2876-4881-BF26-F197E3B3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1220-582B-40D7-8B8C-43F1E91D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796FB-E07F-49D2-A89E-C4489E6A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90139-775E-4854-8280-BDC6A13BF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3D8-F4FB-408A-AE69-49E4A917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6D8D-3435-4690-BCF2-065A2E59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5D4-6CB1-41F3-83D8-E8DCEE3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00B-BA33-41C5-BE17-AAAE2F82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105-0271-4986-BA80-5470281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9C44-C285-431F-8067-1D368C312272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F1A-AB2F-4820-A2DD-A01128CC1B48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37A5-E00A-49A9-AEA4-12332D30BCF7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B632-3748-4B57-A46D-82613B075334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 algn="r" rtl="1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r" rtl="1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 algn="r" rtl="1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 algn="r" rtl="1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 algn="r" rtl="1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24B7-35ED-4867-9F15-01666D0A9590}" type="slidenum">
              <a:rPr b="0" lang="ar-SA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Verdana"/>
                <a:cs typeface="Akhbar MT"/>
              </a:rPr>
              <a:t>إدارة الأنتاج</a:t>
            </a:r>
            <a:endParaRPr b="1" lang="en-US" sz="9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9766f"/>
                </a:solidFill>
                <a:latin typeface="Verdana"/>
                <a:ea typeface="Akhbar MT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2842920" y="907560"/>
            <a:ext cx="3932280" cy="79236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94000"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عتبارات التخطيط ل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6920" y="2349360"/>
            <a:ext cx="7756560" cy="2587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صميم المنت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صميم الداخلي للمصن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إدارة المواد و تخزينها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68360" y="1989000"/>
            <a:ext cx="7991280" cy="29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تصميم المنتج : أن الهدف من هذه العملية الإنتاجية هو توفير منتج ما بموصفات معينه لهذت يكون من المنطقي التخطيط له لبلوغ هذا الهدف و يتم ذلك من خلال الجهود التي تبذل بشأن التوصل للتصميم المناسب شكلا و مضمونا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26920" y="1447920"/>
            <a:ext cx="775656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صميم الداخلي للمصنع : يكون لها تأثير على مستوى كفاءة أداء العملية الإنتاجية (التصميم الداخلي للمنظمة)و ذلك بالأخص عند بداية التأسيس و التجهيز للمنظم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قصد بالتخطيط الداخلي للمنظمة أ وضع التصميمات الهندسية التي تكفل توفير نظام إنتاجي يتلأم مع كل من مدخلات الإنتاج و انسياب المخرجات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755280" y="1699920"/>
            <a:ext cx="7931160" cy="321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إدارة الموارد و تخزينها : و يستهدف من التخطيط للموارد توفير متطلبات الإنتاج من المواد الخام و غيرها من المستلزمات اللازمة بالكم و النوع المناسبين و في التوقيت الملائم لكل مرحلة من مراحل الإنتاج لضمان عدم توقف أو ارتباك العملية الإنتاجي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360" y="2707920"/>
            <a:ext cx="8115120" cy="222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من هي الجهة المسؤولة عن المهام الشرائية ؟؟ هي وظيفية الشراء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763640" y="579600"/>
            <a:ext cx="681984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بعض الضوابط المتعلقة بوظيفيه الشراء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8040" y="2060280"/>
            <a:ext cx="7975440" cy="3490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بلكميه المناسب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بالسعر المناس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بجلوده المناسب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شراء من المصدر و التوقيت المناس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26920" y="579600"/>
            <a:ext cx="775656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89000"/>
          </a:bodyPr>
          <a:p>
            <a:pPr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تخزين ضرورة من ضروريات الإنتاج لماذا ؟؟ لأن الإنتاج يختص بمهمتين هما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920" y="2133360"/>
            <a:ext cx="7756560" cy="280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فير متطلبات الإنتاج من المواد و المهمات (بالشراء) مه ضمان استمرا هذه الإمدادات لقسم الإنتاج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خزين مخرجات الإنتاج سواء من الإنتاج التام الصنع تمهيدا لتصريفه للسوق او من الإنتاج الغير التام الصنع تمهيدا لاستكمال مراحله الإنتاجية الذي تتطلب بطبيعتها التخزين لبعض الوقت مثل الاجبان و العطو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ثالثا: تنظيم ا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9640" y="1447920"/>
            <a:ext cx="804384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شمل التنظيم كل وحدات التشغيل المتمثلة في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موارد المادية المستخدمة في هذا النشا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عاملين القائمين بالنشاط الإنتاجي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4360" y="579600"/>
            <a:ext cx="7899120" cy="148104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عد التنظيم و سيلة فعاله لرفع كفاءة الأداء الإنتاجي في منضمات الأعمال . و عادة يتم التنظيم يواحد من الأشكال التألي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6920" y="2420640"/>
            <a:ext cx="7756560" cy="2516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نظيم على أساس جغرافي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نظيم على اسا المتعاملين مع المنظم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نظيم على أساس نوع المنتجا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رابعا: الرقابة على الإنتا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55640" y="1413000"/>
            <a:ext cx="78580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عد الرقابة العمل الإداري الثاني المكمل للتخطيط واذا كان التخطيط للإنتاج يأخذ في حسبانة الكم و الكيف للمنتجات فإن الرقابة تأتي مرحلة تالية لتأكيد ضرورة كلا من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نوع من حيث المواصفات التي تم بها إنتاج السلعة أو الخدم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كم من حيث حجم الإنتاج التام الصنع الفعلي و لجداول الزمني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07f09"/>
                </a:solidFill>
                <a:latin typeface="Verdana"/>
              </a:rPr>
              <a:t>المحتويات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فهوم إدارة الانتاج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وامل المؤثرة على العمل الانتاجي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دور حياة العمل الإنتاج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العملية الإدارية لوظيفة الإنتاج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</a:rPr>
              <a:t>مراقبة الجود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411280" y="1844640"/>
            <a:ext cx="5803920" cy="232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التأكد من سلامه التنفيذ لما قد جاء بالخط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التعرف على أوجه الانحراف السلبية لما قد جاء بخلط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76000" y="529920"/>
            <a:ext cx="7210440" cy="109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تخدم نتائج الرقابة الجهاز الإداري في كل من 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14080" y="2133720"/>
            <a:ext cx="8172360" cy="3311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من مؤشرات كفاءة نشاط الإنتاج مخرجاته أي مدى جوده منتجه النهائي ( السلعة و الخدمة 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يقصد  بجلوده (مدى قدرة المنتج على إشباع حاجات المستهلكين من خلال الوفاء بالخصائص و الصفات المطلوبة فيه كسعر بيعه و مكان توزيعه و الخدمات المصاحبة لتصريفه ووقت بيعه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756320" y="529920"/>
            <a:ext cx="3930480" cy="1314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algn="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Verdana"/>
              </a:rPr>
              <a:t>مراقبة الجودة 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84000" y="1628640"/>
            <a:ext cx="8002440" cy="3291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Verdana"/>
              </a:rPr>
              <a:t>نظرا لأهمية مراقبة جوده المنتج يقتضي الأمر تعاون الجهات المختلفة بالمنظمة لأن مسؤوليتها في الحقيقة لا تقع على إدارة الإنتاج وحده بل على الإدارات الأخرى مثل الإدارة المالية /إدارة شئون العاملين /و إدارة المشتريات /إدارة التسويق/ وهذا يجعل مطلب الجودة هدفا عامل للمنظم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26920" y="1447920"/>
            <a:ext cx="775656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يمكن النظر الى جوده المنتج أنه منظومة تتكون من الأنظمة التالية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بحوث و التطوير و الابتكا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هندسة الموصفات و التصميما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صميم العمليات الإنتاجي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إنتاج و التشغيل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فحص و التفتي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عبئة و التغلي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سويق للمنتجات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8"/>
          <p:cNvSpPr/>
          <p:nvPr/>
        </p:nvSpPr>
        <p:spPr>
          <a:xfrm>
            <a:off x="257040" y="291960"/>
            <a:ext cx="8418600" cy="9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26b02"/>
                </a:solidFill>
                <a:latin typeface="Times New Roman"/>
                <a:cs typeface="Times New Roman"/>
              </a:rPr>
              <a:t>مفهوم الإنتاج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نتاج العناصر التي تستخدم في عملية التشغيل، والتي تتمثل في القوى البشرية،و المادية  خلال مدة زمنية معين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المنت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اتج النهائي لعملية التشغيل،قد يكون سلعة او خدمة..وهذا المنتج ليس بالضرورة ان يكون بصورته النهائية فقد يكون منتج تحت التصنيع والذي يسوق للمستهلك الصناعي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عمليات الانتاج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سلة اجراءات التشغيل التي تجري على المادة لتحولها من صورتها الاولية الى صورتها الانتاج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واخيرا يمكن تعريف </a:t>
            </a:r>
            <a:r>
              <a:rPr b="0" lang="ar-SA" sz="2400" spc="-1" strike="noStrike">
                <a:solidFill>
                  <a:srgbClr val="0070c0"/>
                </a:solidFill>
                <a:latin typeface="Times New Roman"/>
                <a:cs typeface="Times New Roman"/>
              </a:rPr>
              <a:t>وظيفة الانتاج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نها: ذلك النشاط المسؤول عن تحويل المدخلات لمخرجات نهائي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428760" y="428760"/>
            <a:ext cx="8215200" cy="78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07f09"/>
                </a:solidFill>
                <a:latin typeface="Comic Sans MS"/>
              </a:rPr>
              <a:t>عوامل تؤثر على العمل الانتاجي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1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خارجية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يات السوق المتضاربة وتقلبات رغبات المستهلكين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ظروف البيئية المحيطة: سياسية ،اقتصادية، تشريعية، اجتماعية، تكنولوج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سياسة كالحروب أو الانقسامات تؤثر على متطلبات و عمليات الإنتاج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اقتصادية كالتغييرات المتلاحقة في أسعار كل من فوائد القروض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و غيرها ..........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2</a:t>
            </a:r>
            <a:r>
              <a:rPr b="1" lang="ar-SA" sz="2800" spc="-1" strike="noStrike">
                <a:solidFill>
                  <a:srgbClr val="b26b02"/>
                </a:solidFill>
                <a:latin typeface="Comic Sans MS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323232"/>
                </a:solidFill>
                <a:latin typeface="Comic Sans MS"/>
              </a:rPr>
              <a:t>العوامل الداخلية 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عمالة المتاحة.( من حيث عددها و درجة تأهليها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مواد المستخدمة (من حيث الكمية و النوع و الوقت المناسب لتوفيرها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آلات والمعدات (من حيث مدى مناسبتها و عددا و نوعا 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99"/>
                </a:solidFill>
                <a:latin typeface="Comic Sans MS"/>
              </a:rPr>
              <a:t>اللوائح التنظيمية الداخلية لسير العمل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99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618920" y="579600"/>
            <a:ext cx="69642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هيكل العام لأهداف النشاط  الإنتاجي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1628280"/>
            <a:ext cx="8361360" cy="34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مجموعة أهداف قصيره الأجل ( تحسين مستوى جودة الإنتاج –تخفيض تكلفه الإنتاج –حل مشكلات الإنتاج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مجموعه أهداف طويلة الأجل (التطوير و التجديد للمنتجات الحالية –زياده معدلات الإنتاج المتميز –الاتجاه نحو نظم الإنتاج الكبير 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500040" y="0"/>
            <a:ext cx="8072640" cy="9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دورة حياة النشاط الانتاجي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نبؤ بحجم المبيعات لتحديد حجم الانتاج المبدئي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لتصميم في الاقسام الفن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التكلفة  والكمية الكلية لإنتاج الوحد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تقدير حجم الانتاج النهائي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وضع خطة للإنتاج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موافقة قسم الرقاب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ارسال الانتاج التام الى المخازن تمهيدا لتسويقه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2060"/>
                </a:solidFill>
                <a:latin typeface="Times New Roman"/>
                <a:cs typeface="Times New Roman"/>
              </a:rPr>
              <a:t>للمستهل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86920" y="579600"/>
            <a:ext cx="73962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لعملية الإدارية لوظيفة ا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920" y="1447920"/>
            <a:ext cx="775656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ولا تحديد الهدف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هداف كمية مثل كمية أنتاج معين موصفات معينة معدل خطاء مسموح به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هداف وصفية مثل مستوى جودة محدد خامات معينة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ثانيا تخطيط الإنتاج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42920" y="1447920"/>
            <a:ext cx="754056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خطيط للنشاط الإنتاجي يعني وضع استراتيجية متكلمة تضمن ترتيب مدخلات الإنتاج بالنوع و الكم بما يسهل عمليه تدفق مخرجات الإنتاج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خطيط الكفء يضمن تخفيض التكلفة بشكل عام لمساهمته في تقليص كل من نفقات الصيانة و النقل و التخزين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10920" y="579600"/>
            <a:ext cx="79722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 fontScale="89000"/>
          </a:bodyPr>
          <a:p>
            <a:pPr indent="0" algn="ct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من أهم المزايا الاقتصادية و المعنوية المرتبطة بالتخطيط الكف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8920" y="1988640"/>
            <a:ext cx="8404200" cy="2948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حقيق التكامل الرأسي و الأفقي بين مهام الأقسام المختلف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تجنب الأعمال المتكرر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ضمان تدفق عمليات التصني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التحديد لمهام العاملين بشكل أوضح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Verdana"/>
              </a:rPr>
              <a:t>أضافه مزيد من اعتبارات الحماية و السلام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rtl="1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nuha alnumair</cp:lastModifiedBy>
  <dcterms:modified xsi:type="dcterms:W3CDTF">2016-12-13T10:35:43Z</dcterms:modified>
  <cp:revision>49</cp:revision>
  <dc:subject/>
  <dc:title>التسويق..</dc:title>
</cp:coreProperties>
</file>