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391A-FAFD-4E6B-8294-94FD94F20F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4D10-63AB-41AE-A3B3-0294C91C9C20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DAD-CB06-4A3B-A153-A2B13BD1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D03-2949-4FBF-B546-A036A07C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26C-EF3C-46E7-B38F-ED1289C5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91A-3247-40D5-AD22-ED5658CC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8438-33FE-4FE3-9D5F-5F110405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D404-F94E-411E-BCC4-480A4B53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FB4F-1B0A-4A68-B508-89206A51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0E95-DC58-424C-A227-11B95E7A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BDCC-AC83-40E4-B110-341D5CAC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CD1B-20AE-4130-A567-1869AD5D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5D5C-0EC2-4186-9B05-EDE92FBC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7D3-F206-49B7-AEDF-688EFD1E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BB54-B19B-477E-9950-DD17994B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CBD4-1768-476E-BED2-EED363D6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7EDD-2BA9-4794-9A27-214AAA0C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288C-2952-4728-8714-2562F5BB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9426-34E7-4E0E-8110-6FFBC7AD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2B987-1B1C-4194-AEC7-4CBC1C2F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5676-2F3A-4BEA-B72D-216EC94A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F9249-7C58-4F5A-BDC2-EEB38926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2BA1-8319-4750-8DE1-ACB3D168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BA4F-3684-4121-809E-50981FAA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B6F-3A81-4C89-97EE-D165D119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E336-515B-4B53-B0EB-02AE3306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4CCB-6D6D-4C54-A6D3-ACD8A245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BD6C2-8171-48FF-8CEA-A83FB033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D45E2-C9D5-4F32-A7DE-4DE15531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3530-3E07-49C8-9D26-5FE87B65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AA22-2184-42C2-888B-C91C6EEF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6870-CC5C-4C07-90F4-24CF2E44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31A06-27BA-4795-9954-16D2F414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9BA4-0D4D-4943-AFFF-17F2BFDF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16E66-B46D-4BF7-988F-936F5258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37B-7A73-4450-A1C2-2D01973C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EEEEE-818E-44C8-8B76-02E75BEC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F6D83-E2A3-411A-B0CA-B2B7FDCF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D0509-097E-4886-8233-9AEA423E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6F85-987D-4EFF-A5EE-3F9972E2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A752A-09C9-4C44-9693-DFEA769E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230AF-0078-4FDA-8D13-B91EC20A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CF9F-6AC3-4C5A-8F6D-2FDB3838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AE73A-9B7B-41D7-8ABE-8553D87A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67C44-E402-4739-9E66-B692957D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A9FA5-D0F9-44F8-B404-5407CBCC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B7C-E146-4134-8E4F-497651E6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A2020-50DF-4643-A9F4-66A1B456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9D1D8-1957-492C-AAA8-3952A0EE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EDAA6-FA9F-4E8E-ACEC-FC4EC469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E5818-4101-465E-8DCB-9ABA9DBC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51C61-1428-493E-8B72-F1610387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5A13E-C35B-4754-9840-C060E83F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A05B0-BF13-4F98-9399-0A5E01C1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309BF-B7EA-4676-8F8C-CB864D9C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C99F0-7D7B-48FF-AAD8-E6F50816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E7FF5-E5EB-4474-B35B-0513961D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C80-EB20-40CA-89BA-582870F1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9F58C-25F4-4E3F-A8A2-C9A9F89E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B6B-A7CF-40C0-9742-F0066E99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641-39CC-46B6-8EAD-9B2D6F04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C7EA-C946-41DD-BE4A-4C20448F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4F2B-894A-46FA-B9EC-1F79DB7F4202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4451-3814-455A-9CB7-4199E4976F02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F60E-B7C9-4868-AB91-20C1744E2B11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C9DD-C914-428E-9820-164CA9A25A51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6759-03BB-4944-B958-4698CDFD1757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C:\Users\General\AppData\Local\Microsoft\Windows\Temporary Internet Files\Content.IE5\7JNVQ0DU\MP900438597[1].jpg"/>
          <p:cNvPicPr/>
          <p:nvPr/>
        </p:nvPicPr>
        <p:blipFill>
          <a:blip r:embed="rId1"/>
          <a:stretch/>
        </p:blipFill>
        <p:spPr>
          <a:xfrm>
            <a:off x="1368360" y="3789360"/>
            <a:ext cx="640728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ا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C:\Program Files\Microsoft Office\MEDIA\CAGCAT10\j0195812.wmf"/>
          <p:cNvPicPr/>
          <p:nvPr/>
        </p:nvPicPr>
        <p:blipFill>
          <a:blip r:embed="rId1"/>
          <a:stretch/>
        </p:blipFill>
        <p:spPr>
          <a:xfrm rot="21100800">
            <a:off x="760320" y="1843200"/>
            <a:ext cx="24494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428760" y="428760"/>
            <a:ext cx="82152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لات والمعدات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Picture 3" descr="C:\Program Files\Microsoft Office\MEDIA\CAGCAT10\j0199549.wmf"/>
          <p:cNvPicPr/>
          <p:nvPr/>
        </p:nvPicPr>
        <p:blipFill>
          <a:blip r:embed="rId1"/>
          <a:stretch/>
        </p:blipFill>
        <p:spPr>
          <a:xfrm rot="21021600">
            <a:off x="475920" y="4582800"/>
            <a:ext cx="1895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3" descr="C:\Users\General\AppData\Local\Microsoft\Windows\Temporary Internet Files\Content.IE5\9KOXUAMG\MP900438675[1].jpg"/>
          <p:cNvPicPr/>
          <p:nvPr/>
        </p:nvPicPr>
        <p:blipFill>
          <a:blip r:embed="rId1"/>
          <a:stretch/>
        </p:blipFill>
        <p:spPr>
          <a:xfrm>
            <a:off x="-17640" y="4292640"/>
            <a:ext cx="3076920" cy="2468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C:\Users\General\AppData\Local\Microsoft\Windows\Temporary Internet Files\Content.IE5\9KOXUAMG\MP900438695[1].jpg"/>
          <p:cNvPicPr/>
          <p:nvPr/>
        </p:nvPicPr>
        <p:blipFill>
          <a:blip r:embed="rId2"/>
          <a:stretch/>
        </p:blipFill>
        <p:spPr>
          <a:xfrm>
            <a:off x="7920" y="2060640"/>
            <a:ext cx="3051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Sultan H. Binsaeed</cp:lastModifiedBy>
  <dcterms:modified xsi:type="dcterms:W3CDTF">2016-04-14T06:27:04Z</dcterms:modified>
  <cp:revision>32</cp:revision>
  <dc:subject/>
  <dc:title>التسويق..</dc:title>
</cp:coreProperties>
</file>