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8C64-16E5-433B-9E02-CE67C8D137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D7C6-6D10-4857-81D9-8DEB87465AA4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ADD-943C-4798-A6C4-BE5D6345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84B-FA60-45FF-BA6D-24583702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0E1-CA0B-4EF2-90D7-6851CFF5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6D8-8340-4720-BC58-F0C64633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E819-57D6-4BCA-A910-E2C42B4F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EB66-D162-4431-9E5B-74570A2C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4527-C372-48D8-8E58-A490B9DD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45B4-BB29-4C51-9658-A19B6DDD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89A2-2B7C-413C-AFF3-53EBC100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D27E-EA3F-4D89-81A5-7364C049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CDD1-E9B9-4B6C-BD5F-D2FF1E57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3E4-099F-46B2-8E02-C68534FF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B86D-17AF-4A48-AC49-E58AB23A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5AE5-3534-4302-A682-E3D3A57E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5654-D5D8-47E3-AE6A-B6C5C87F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36A8-5507-4815-80D1-3EF8221B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F546-79F4-459A-AFE9-AC8C881B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7C05A-81D1-401F-91B6-B4FF7706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05B7-6831-46C8-9538-0A7957F2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CB91-E162-457A-9B08-95712453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1C7F-905D-4F36-AF0B-66625093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D03BA-7684-4E7E-B8AC-C43412E0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DC5-89BD-4E8C-B056-CB241461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8620-88A9-4272-82B3-BC1AEFD1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FED9F-83F1-49FD-A1A2-B7B76FC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4C8B-88A0-46B7-8E5A-BAF05ACA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07D8-7A9B-40E3-91F6-8457F42C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609D9-DD20-4BFB-81BB-FD84609A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DD0C-EF37-4A47-8207-BFB2C45B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56B1F-9895-4ED2-82CB-4069B942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70CBC-948F-44DF-BA1B-C0FD13BB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8B00-BEB6-46AA-B9FF-9FE20148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4C965-9D86-4A1D-A5BF-21CCF7EF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DB0-33B4-4973-8B48-134E87D1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69D3-3202-4ABE-BA69-3F600383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E97C9-621A-455A-9FAA-B138FBD5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518B5-0E67-4EEE-85D5-85C22677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9EA14-E162-48BA-8ACB-1527CF77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2495A-273B-4543-A140-067276F4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0AF11-22E8-4D2D-9635-F5F293EC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9E58-93B1-4E3E-9252-7218EB20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AFCA-74E2-457A-9155-7EED4D64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5B03-BB2C-4F28-A9E4-87112D37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0654-2277-4D65-AF2D-E32CE458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4BC-8AD7-437D-89E3-5138B1AB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DD9B-94DD-4A1C-83A7-B4E6185B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C2C3A-6B6B-4D2D-9985-9E3E7712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F8465-70E9-4D6F-BAD3-500BFDAD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6C34F-9519-4648-A8DF-98BEE729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DC88D-5746-478C-B563-6262946E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1E989-FA60-4200-B819-9AFE7052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6A572-2572-4F15-94CA-6EC4D083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E5AC4-94E7-4158-96F3-A9482B14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18183-AE5B-47E2-BB60-6803F88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A8C6B-6118-4AB9-B328-E0B1FEE8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F58-3E1F-4071-8837-E0984DFD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E4BE4-C1D9-4EC4-A279-ECC60863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292-743C-4F7C-A80C-9846F2EB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846-998D-4DBF-9D87-AA4288E7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5F4-8640-4545-8374-129EFCD0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255E-76F2-406F-9447-788A5896079F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C3C0-D71D-449A-8E39-9D08F5119208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C441-DA11-4583-B08A-C7D253959A24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C7BE-9437-458C-941A-A3CEB2B50BF7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0262-8428-4B1C-86C3-DD01B64C8BE3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:\Users\General\AppData\Local\Microsoft\Windows\Temporary Internet Files\Content.IE5\7JNVQ0DU\MP900438597[1].jpg"/>
          <p:cNvPicPr/>
          <p:nvPr/>
        </p:nvPicPr>
        <p:blipFill>
          <a:blip r:embed="rId1"/>
          <a:stretch/>
        </p:blipFill>
        <p:spPr>
          <a:xfrm>
            <a:off x="1368360" y="3789360"/>
            <a:ext cx="640728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ا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 rot="21100800">
            <a:off x="760320" y="1843200"/>
            <a:ext cx="24494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428760" y="428760"/>
            <a:ext cx="8215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لات والمعدا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3" descr="C:\Program Files\Microsoft Office\MEDIA\CAGCAT10\j0199549.wmf"/>
          <p:cNvPicPr/>
          <p:nvPr/>
        </p:nvPicPr>
        <p:blipFill>
          <a:blip r:embed="rId1"/>
          <a:stretch/>
        </p:blipFill>
        <p:spPr>
          <a:xfrm rot="21021600">
            <a:off x="475920" y="4582800"/>
            <a:ext cx="1895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3" descr="C:\Users\General\AppData\Local\Microsoft\Windows\Temporary Internet Files\Content.IE5\9KOXUAMG\MP900438675[1].jpg"/>
          <p:cNvPicPr/>
          <p:nvPr/>
        </p:nvPicPr>
        <p:blipFill>
          <a:blip r:embed="rId1"/>
          <a:stretch/>
        </p:blipFill>
        <p:spPr>
          <a:xfrm>
            <a:off x="-17640" y="4292640"/>
            <a:ext cx="3076920" cy="2468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Users\General\AppData\Local\Microsoft\Windows\Temporary Internet Files\Content.IE5\9KOXUAMG\MP900438695[1].jpg"/>
          <p:cNvPicPr/>
          <p:nvPr/>
        </p:nvPicPr>
        <p:blipFill>
          <a:blip r:embed="rId2"/>
          <a:stretch/>
        </p:blipFill>
        <p:spPr>
          <a:xfrm>
            <a:off x="7920" y="2060640"/>
            <a:ext cx="3051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6-04-14T06:27:04Z</dcterms:modified>
  <cp:revision>32</cp:revision>
  <dc:subject/>
  <dc:title>التسويق..</dc:title>
</cp:coreProperties>
</file>