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960-5BA3-4500-A2E9-6BAB81008B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51BE-3192-4993-AB9A-9F321F50FBFB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431-7117-46FA-ACC0-608611D4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BD1-09C2-42A0-B91F-598AD4B4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66A-ECE1-4D39-947B-09606237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0AE-6BF9-4A6B-A19B-E3E3F90F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CF1E-9719-4818-8C3D-B0894218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500F-57B2-4490-BD05-E44B946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0FF-9C0C-431D-B3CB-ECB98EC5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33B0-0EDD-4A1F-A6A5-3B27D836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3DD0-B4C7-492E-B561-01BBA44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4798-4CE7-4663-A424-DAF47EFE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450B-82E6-478E-A3C8-7BCD6D9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3C9-3EA5-4673-947B-5CD5734F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858-E8CF-4AD0-B11D-E77A199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4D7-4CC1-49C0-AA9F-CB2FFD5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D720-FE75-480B-B57D-71CAD3F9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AC2-CDB3-4E90-9F87-F32363DD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6794-4B9C-4819-B4B6-6277C8BD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3019-A4BE-4B74-8964-FD07DC07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2125-4A86-4B20-85D1-C9219D09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981F-13A6-4C08-B111-72D3EBF8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80F2-7BB6-4862-BEB3-F1DFAF2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01C2-E10E-4436-AB87-940119B9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9D9-B908-47CA-97E4-A92C9CB9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72EA-25C5-422A-8BA9-EAB3EBBB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A13C-981F-4E89-BC39-445ECBD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8065-28C5-4864-ABD6-CDCBB42F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FF75-FEE6-4880-BB0E-B2221AA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4ABC-01EC-45C3-ABCE-DE70084F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4C72-97A6-495D-9694-93EC2B56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ECAA-11B1-4309-8E86-CFA32F8E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667B1-A0B3-4F25-A8C4-CC9FDD7C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8835-6817-489F-B6C7-13DA08A4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070F1-3D5C-4D95-94D6-2E9A4F7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353-6B10-406B-A598-D311C66D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2659-1FDA-49DD-9633-E6A21DBD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C13D-4C88-48E2-AFB5-BA1E178A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E8CE-FC8F-4EA5-ACA1-6A46C958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32C32-CCBB-4539-B914-B8BCEBF3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C406-6E67-43F7-B94D-ADA6E99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186B-93D0-42AD-9C17-67A40E1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7CE9-4D84-4784-88B1-8B7DE77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D704-A3FF-44F3-95B9-D6A96DE2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0D6B-6392-4FA2-AB05-2F3FC613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0C3BC-4442-4635-B34A-4DF838BF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BBC-6A75-473E-B533-F2B03329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5D68-3220-4EB9-AC1F-54D5FC2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DAF9-3117-4027-A7DE-65DF1F87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BAE57-2432-42F5-9C97-F05E9BB0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7CEE-559B-4D29-9FF9-29812C49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AEC68-78C4-4B9C-936A-B856CB13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2DD03-75E9-437F-AB3F-320FCB69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9753-54D8-40F5-8534-EC9C0B56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40C0E-EBCB-450B-ABE6-03544BD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F0DD-0E05-40CA-B705-22C6CABB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9FAC-5493-42D9-9D26-A691D070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A8C-DE4B-45D8-89BB-A432B35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7D7B5-5412-42CE-BCC2-4E25399F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6C8-7C14-48BF-A42F-1661857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87F-B4B9-4605-B1E3-DC550B4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5C8-32A3-4DFA-BDF8-F667C51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577E-647A-4E45-AF47-97F47069422A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4B8-57E3-4B12-8D47-477FC6286435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48C8-84A3-4858-B415-99EFDAFF67B3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A51D-3631-42AD-A007-08D26515292E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04F-8AF1-45FC-853E-02F8B01B8014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4-14T06:27:04Z</dcterms:modified>
  <cp:revision>32</cp:revision>
  <dc:subject/>
  <dc:title>التسويق..</dc:title>
</cp:coreProperties>
</file>