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78DD-5FDB-4452-B02E-2E125F8B73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7598-276C-49DE-8E5C-C562B0CD44AB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F5B-C841-4C34-A3FE-3ED310FB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101-001A-42B3-B6C0-7D49F58B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BAF-4F62-469A-95AA-BBC52956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A9D-BFFB-4FD0-8F36-CE9391DF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42CF-D19B-49D4-BBF3-C86AA882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F6EA-FE43-46FB-8C5A-EA0BA8A4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E8AF-DC70-48D0-BF84-6AD2BD45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FF58-A971-41A4-AD0B-6FFDC7A5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8D4B-E4F7-4EFE-9054-26D7CCEB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E6F8-6D23-421A-832F-6530396B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28D2-98C9-46B8-AF82-7C53B024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C1E-6CBD-4E78-909E-F919F199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57D4-A21F-417F-9EB9-125C3924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AE31-7695-45A1-B4A8-0C62159C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F260-CC89-433E-BD7D-7D89D05A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22C7-6F57-475A-90E6-3D40BAB3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25DA-CE90-4FB1-9CC4-A2A43018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0CA7-7C51-43AA-A9A5-10ECB7DF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C87F-8284-4D85-8BAF-0F593FB1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C5677-9F71-4AA3-A30D-1159597B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A98E8-1975-4797-AB79-B673FD36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435A-AAEE-4EB8-9386-EF2BDAE5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EFC-4EF9-4C97-882A-4D358B0E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59C6-55E5-4660-BF5E-F46DFF5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EE18-695B-4BD6-8D00-19B01FFD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5DF0-62BA-46CD-A6FF-8D7E5A6D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074AB-D59B-4524-B4BD-ADA5C419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880FD-C8DA-45B0-9DE9-F7B550EA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67EA-2CC4-418F-8A61-C6B90487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C1BA0-5318-4AD0-8C0B-ADE1A91A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0784-FE3A-4209-8430-329CA291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54B8E-33F1-442E-B8B1-7B0903E6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208FE-4064-431A-B35D-EE8A79E7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EAD-FB87-46DF-995C-9BFA29ED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B3C78-812F-4079-8071-D8A80BEF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2523-F423-467F-8CC5-A007FE14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1E759-6988-4090-9481-50D2AD66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BF16-431D-4669-B493-A2EBEF1D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0861-8A18-4B54-8F1F-A056E78F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E93E-E67D-4ABD-AAD0-AE51C6C1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263F3-94B2-4CED-B51A-5E5DA1F8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4A6F-0DC9-4DAC-B226-7554BF0F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3D876-9200-4005-A4F7-DE3FA75B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3F487-20BD-4063-A846-0B7C65E3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0C9-88B9-4C02-A57E-B9BD4D68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08BC7-05A9-4334-95AB-4775CDBE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A2165-6507-44CA-98A0-C75E7CA5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EA51F-A02F-45E7-9208-8E7B08E0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95CDA-ABD8-496A-930C-BD140B35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E1F71-7FDF-455C-8C63-A5D94CFE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7C976-2880-4332-B3ED-BEBB2DA0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D92A1-08EC-45A2-8E65-18B2B186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DDD8B-CAA5-47DB-A5AD-ABA3E3B9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DBD55-2A1F-437A-B4CC-38CA0B4F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B5956-4F3A-45B7-9119-A7735688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B8D-708B-4C2D-A20D-EC451D94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78568-683F-4CA4-A221-265506AA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BD7-6A5F-46F1-B21F-E02A59BA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69A-2DB9-4EAA-99D7-C273072A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568-FD3A-4FF4-BC6A-9A544B7F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7868-8BA0-4A32-A770-20614875E429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BA17-25F9-492E-979C-2D8E7F432CF8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DE9E-D95B-4D47-B5AF-B7966CD0095E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DD0E-C3B8-4B2F-BC35-9E4B4F1B03B2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96C6-C256-46D3-A3FF-0375258EB32C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:\Users\General\AppData\Local\Microsoft\Windows\Temporary Internet Files\Content.IE5\7JNVQ0DU\MP900438597[1].jpg"/>
          <p:cNvPicPr/>
          <p:nvPr/>
        </p:nvPicPr>
        <p:blipFill>
          <a:blip r:embed="rId1"/>
          <a:stretch/>
        </p:blipFill>
        <p:spPr>
          <a:xfrm>
            <a:off x="1368360" y="3789360"/>
            <a:ext cx="640728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ا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 rot="21100800">
            <a:off x="760320" y="1843200"/>
            <a:ext cx="24494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428760" y="428760"/>
            <a:ext cx="8215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لات والمعدا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3" descr="C:\Program Files\Microsoft Office\MEDIA\CAGCAT10\j0199549.wmf"/>
          <p:cNvPicPr/>
          <p:nvPr/>
        </p:nvPicPr>
        <p:blipFill>
          <a:blip r:embed="rId1"/>
          <a:stretch/>
        </p:blipFill>
        <p:spPr>
          <a:xfrm rot="21021600">
            <a:off x="475920" y="4582800"/>
            <a:ext cx="1895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3" descr="C:\Users\General\AppData\Local\Microsoft\Windows\Temporary Internet Files\Content.IE5\9KOXUAMG\MP900438675[1].jpg"/>
          <p:cNvPicPr/>
          <p:nvPr/>
        </p:nvPicPr>
        <p:blipFill>
          <a:blip r:embed="rId1"/>
          <a:stretch/>
        </p:blipFill>
        <p:spPr>
          <a:xfrm>
            <a:off x="-17640" y="4292640"/>
            <a:ext cx="3076920" cy="2468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Users\General\AppData\Local\Microsoft\Windows\Temporary Internet Files\Content.IE5\9KOXUAMG\MP900438695[1].jpg"/>
          <p:cNvPicPr/>
          <p:nvPr/>
        </p:nvPicPr>
        <p:blipFill>
          <a:blip r:embed="rId2"/>
          <a:stretch/>
        </p:blipFill>
        <p:spPr>
          <a:xfrm>
            <a:off x="7920" y="2060640"/>
            <a:ext cx="3051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6-04-14T06:27:04Z</dcterms:modified>
  <cp:revision>32</cp:revision>
  <dc:subject/>
  <dc:title>التسويق..</dc:title>
</cp:coreProperties>
</file>