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112-4C62-4190-984F-39F84733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964-830E-4219-B761-BAED6EFE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018-CF2A-4038-ACAA-7533B438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410-EB52-4C10-A16D-01D53CB2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E14-06D2-4C10-AD91-3E168FE7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3A5-5323-4958-8C2C-5A4F9DD2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C2D-112F-4EB7-A4BD-F05450C2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FB8B-E942-49BD-930F-C9C911F7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FB89-E288-45AD-B26D-A49F2F3B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408-9D96-4285-9492-6758E818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C1D-97E1-4F74-AC13-82D6DF98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D11-C0FD-4651-B36F-B9DC27CF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776A-4B7D-4BE5-8309-31AB82C1585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إدارة التسوي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andy-Shop-candy-235358_415_600.jpg"/>
          <p:cNvPicPr/>
          <p:nvPr/>
        </p:nvPicPr>
        <p:blipFill>
          <a:blip r:embed="rId1"/>
          <a:stretch/>
        </p:blipFill>
        <p:spPr>
          <a:xfrm>
            <a:off x="785880" y="1714680"/>
            <a:ext cx="7858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حالة دراسية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ؤسسة محمد الحربي التجارية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ا هي الأخطاء التي أدت إلى الحالة التي آلت إليها المؤسسة؟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ما هي القرارات التي كان من الواجب أن يتخذها محمد الحربي للحفاظ على معدل نمو معقول لمؤسسة وتفادي المصير الذي آلت إليه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هل تعتقد أن أسلوب محمد الحربي في الإدارة سليماً، وهل هو يصلح ليكون مديراً للمؤسسة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0720" y="1483920"/>
            <a:ext cx="425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4f81bd"/>
                </a:solidFill>
                <a:uFillTx/>
                <a:latin typeface="Calibri"/>
              </a:rPr>
              <a:t>المحتوي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عنصر نائب للمحتوى 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460680" cy="5318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851280" y="2781000"/>
            <a:ext cx="483552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فهوم التسوي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ناصر المزيج التسويق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333360"/>
            <a:ext cx="82296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80"/>
                </a:solidFill>
                <a:latin typeface="Times New Roman"/>
                <a:cs typeface="Times New Roman"/>
              </a:rPr>
              <a:t>مفهوم التسوي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نشاط انساني يعمل على اشباع رغبات واحتياجات كل من المنتج والمستهلك عن طريق عملية التبادل بينه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يجب التفريق بين ثلاثة مصطلحات وهي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(( التسويق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المفهوم التسويق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إدارة التسويق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تسويق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لية إدارية تحدد مجموعة الانشطة التسويقية اللازمة لتحقيق الأهدا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فهوم التسويقي: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سفة او طريقة من احدى طرق التفكير التي يتبناها رجال التسويق في الشرك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إدارة التسويق 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جهة المسؤولة عن تطبيق المفهوم التسويق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عناصر المزيج التسويقي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4Ps.jpg"/>
          <p:cNvPicPr/>
          <p:nvPr/>
        </p:nvPicPr>
        <p:blipFill>
          <a:blip r:embed="rId1"/>
          <a:stretch/>
        </p:blipFill>
        <p:spPr>
          <a:xfrm>
            <a:off x="700200" y="1600200"/>
            <a:ext cx="7743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1f497d"/>
                </a:solidFill>
                <a:latin typeface="Calibri"/>
              </a:rPr>
              <a:t>أولاً: المنت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76000" y="1125000"/>
            <a:ext cx="7210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تعريف المنتج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كل ما يمكن بيع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أشكال المنتج:  </a:t>
            </a:r>
            <a:r>
              <a:rPr b="0" lang="ar-SA" sz="2800" spc="-1" strike="noStrike">
                <a:solidFill>
                  <a:srgbClr val="254061"/>
                </a:solidFill>
                <a:latin typeface="Calibri"/>
              </a:rPr>
              <a:t>(سلعة مادية ، خدمة ، فكرة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إذن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سلع هي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خدمات هي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وتقسم إلى مجموعتين هما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سلع الاستهلاك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سلع الصناعية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trademarksoftheworld.jpg"/>
          <p:cNvPicPr/>
          <p:nvPr/>
        </p:nvPicPr>
        <p:blipFill>
          <a:blip r:embed="rId1"/>
          <a:stretch/>
        </p:blipFill>
        <p:spPr>
          <a:xfrm>
            <a:off x="41400" y="2781360"/>
            <a:ext cx="47862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ثانياً: التسعي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د من أصعب القرارات التسويق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أهداف التسعير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ظيم الرب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حقيق حجم مبيعات كبي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فاظ على استقرار السو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wp42053654.jpg"/>
          <p:cNvPicPr/>
          <p:nvPr/>
        </p:nvPicPr>
        <p:blipFill>
          <a:blip r:embed="rId1"/>
          <a:stretch/>
        </p:blipFill>
        <p:spPr>
          <a:xfrm>
            <a:off x="0" y="407196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lowprice.jpg"/>
          <p:cNvPicPr/>
          <p:nvPr/>
        </p:nvPicPr>
        <p:blipFill>
          <a:blip r:embed="rId2"/>
          <a:stretch/>
        </p:blipFill>
        <p:spPr>
          <a:xfrm rot="21324000">
            <a:off x="1832040" y="2513880"/>
            <a:ext cx="23954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m1.jpg"/>
          <p:cNvPicPr/>
          <p:nvPr/>
        </p:nvPicPr>
        <p:blipFill>
          <a:blip r:embed="rId3"/>
          <a:stretch/>
        </p:blipFill>
        <p:spPr>
          <a:xfrm>
            <a:off x="0" y="0"/>
            <a:ext cx="23605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572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ثالثاً: الترويج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627280" y="1071360"/>
            <a:ext cx="65167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هو عملية الاتصال بالجمهور بهدف التأثير على سلوكه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عناصر الترويج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( المزيج الترويجي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إعل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بيع الشخصي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دعاية والن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نشيط المبيع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تسويق المبا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3558228218_f3f0420f9a.jpg"/>
          <p:cNvPicPr/>
          <p:nvPr/>
        </p:nvPicPr>
        <p:blipFill>
          <a:blip r:embed="rId1"/>
          <a:stretch/>
        </p:blipFill>
        <p:spPr>
          <a:xfrm>
            <a:off x="0" y="1557360"/>
            <a:ext cx="4572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رابعاً: التوز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المهمة التي يتم من خلالها نقل السلع والخدمات من مصادر انتاجها إلى المستهلك الأخير، وعن طريقه يتم نقل المنافع الزمانية والمكانية ومنفعة الحياز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pike_place_market.jpg"/>
          <p:cNvPicPr/>
          <p:nvPr/>
        </p:nvPicPr>
        <p:blipFill>
          <a:blip r:embed="rId1"/>
          <a:stretch/>
        </p:blipFill>
        <p:spPr>
          <a:xfrm>
            <a:off x="0" y="328608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0" y="4869000"/>
            <a:ext cx="914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neral</dc:creator>
  <dc:description/>
  <dc:language>en-US</dc:language>
  <cp:lastModifiedBy>General</cp:lastModifiedBy>
  <dcterms:modified xsi:type="dcterms:W3CDTF">2012-11-18T21:50:09Z</dcterms:modified>
  <cp:revision>30</cp:revision>
  <dc:subject/>
  <dc:title>إدارة التسويق</dc:title>
</cp:coreProperties>
</file>