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18C-7BE6-4258-911D-949207F8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0E8-646A-4189-83F9-573B934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86B-0A74-4D24-91E0-0B8671B3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318-C6CF-4FA3-9F7C-2136E31C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24F-10C2-4329-AD0D-E77B7A3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E4F-95BC-4CFD-943B-DA83846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845-5C86-4396-BFCE-4990C22A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6DF-B23C-42FC-B781-9CFD361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400-3029-484D-83C8-F2D6FA6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7EA-68EA-42AD-82CB-8BC41B8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918-B1D7-4F3D-AE2D-43320B56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1D5-CA6D-4E57-93D4-8EE8CA0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ECBE-5BF2-479D-8511-EC396A4CD6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حالة دراسية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ؤسسة محمد الحربي التجاري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ا هي الأخطاء التي أدت إلى الحالة التي آلت إليها المؤسسة؟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ما هي القرارات التي كان من الواجب أن يتخذها محمد الحربي للحفاظ على معدل نمو معقول لمؤسسة وتفادي المصير الذي آلت إليه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ل تعتقد أن أسلوب محمد الحربي في الإدارة سليماً، وهل هو يصلح ليكون مديراً للمؤسس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General</cp:lastModifiedBy>
  <dcterms:modified xsi:type="dcterms:W3CDTF">2012-11-18T21:50:09Z</dcterms:modified>
  <cp:revision>30</cp:revision>
  <dc:subject/>
  <dc:title>إدارة التسويق</dc:title>
</cp:coreProperties>
</file>