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61D-DBE9-47EA-A96F-573F5A77C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D12E-5766-43E1-B80D-7D4EF487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29A-17D5-43BA-B494-44A450C7F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334-1F25-4A11-AF8E-CD3F08FC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198-F7A5-4270-8221-DACAD528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058D-B648-40DF-9F51-D415B89A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247-7532-4F06-9EA5-DA18C2B1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D95-4B1F-49DE-8EA9-0CC28E06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EEC-4182-4C5D-9E29-A9E43AF2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52F-7727-47C2-9EB2-6A1AAAC1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E5D-A9C3-4AEC-A871-8F7F92E7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21D1-CCA5-4F80-96E1-DFA0911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438C-EA97-45AB-B60A-1365DE0C209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إدارة التسوي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Candy-Shop-candy-235358_415_600.jpg"/>
          <p:cNvPicPr/>
          <p:nvPr/>
        </p:nvPicPr>
        <p:blipFill>
          <a:blip r:embed="rId1"/>
          <a:stretch/>
        </p:blipFill>
        <p:spPr>
          <a:xfrm>
            <a:off x="785880" y="1714680"/>
            <a:ext cx="7858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00720" y="1483920"/>
            <a:ext cx="425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4f81bd"/>
                </a:solidFill>
                <a:uFillTx/>
                <a:latin typeface="Calibri"/>
              </a:rPr>
              <a:t>المحتوي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460680" cy="5318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51280" y="2781000"/>
            <a:ext cx="483552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فهوم التسوي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ناصر المزيج التسويق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33336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00080"/>
                </a:solidFill>
                <a:latin typeface="Times New Roman"/>
                <a:cs typeface="Times New Roman"/>
              </a:rPr>
              <a:t>مفهوم التسوي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شاط انساني يعمل على اشباع رغبات واحتياجات كل من المنتج والمستهلك عن طريق عملية التبادل بينه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ويجب التفريق بين ثلاثة مصطلحات وهي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(( التسويق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المفهوم التسويق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ar-SA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وإدارة التسويق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سويق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لية إدارية تحدد مجموعة الانشطة التسويقية اللازمة لتحقيق الأهدا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مفهوم التسويقي: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لسفة او طريقة من احدى طرق التفكير التي يتبناها رجال التسويق في الشرك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إدارة التسويق 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جهة المسؤولة عن تطبيق المفهوم التسوي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عناصر المزيج التسويقي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4Ps.jpg"/>
          <p:cNvPicPr/>
          <p:nvPr/>
        </p:nvPicPr>
        <p:blipFill>
          <a:blip r:embed="rId1"/>
          <a:stretch/>
        </p:blipFill>
        <p:spPr>
          <a:xfrm>
            <a:off x="700200" y="1600200"/>
            <a:ext cx="7743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أولاً: المنت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000" y="1125000"/>
            <a:ext cx="7210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ريف المنتج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كل ما يمكن بيع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أشكال المنتج:  </a:t>
            </a:r>
            <a:r>
              <a:rPr b="0" lang="ar-SA" sz="2800" spc="-1" strike="noStrike">
                <a:solidFill>
                  <a:srgbClr val="254061"/>
                </a:solidFill>
                <a:latin typeface="Calibri"/>
              </a:rPr>
              <a:t>(سلعة مادية ، خدمة ، فكرة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إذ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سلع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خدمات هي 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وتقسم إلى مجموعت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استهلاك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سلع الصناعية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trademarksoftheworld.jpg"/>
          <p:cNvPicPr/>
          <p:nvPr/>
        </p:nvPicPr>
        <p:blipFill>
          <a:blip r:embed="rId1"/>
          <a:stretch/>
        </p:blipFill>
        <p:spPr>
          <a:xfrm>
            <a:off x="41400" y="2781360"/>
            <a:ext cx="47862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نياً: التسعي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د من أصعب القرارات التسويقي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أهداف التسعير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ظيم الرب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قيق حجم مبيعات كبي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فاظ على استقرار السو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wp42053654.jpg"/>
          <p:cNvPicPr/>
          <p:nvPr/>
        </p:nvPicPr>
        <p:blipFill>
          <a:blip r:embed="rId1"/>
          <a:stretch/>
        </p:blipFill>
        <p:spPr>
          <a:xfrm>
            <a:off x="0" y="4071960"/>
            <a:ext cx="407196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lowprice.jpg"/>
          <p:cNvPicPr/>
          <p:nvPr/>
        </p:nvPicPr>
        <p:blipFill>
          <a:blip r:embed="rId2"/>
          <a:stretch/>
        </p:blipFill>
        <p:spPr>
          <a:xfrm rot="21324000">
            <a:off x="1832040" y="2513880"/>
            <a:ext cx="2395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m1.jpg"/>
          <p:cNvPicPr/>
          <p:nvPr/>
        </p:nvPicPr>
        <p:blipFill>
          <a:blip r:embed="rId3"/>
          <a:stretch/>
        </p:blipFill>
        <p:spPr>
          <a:xfrm>
            <a:off x="0" y="0"/>
            <a:ext cx="2360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572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ثالثاً: التروي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27280" y="1071360"/>
            <a:ext cx="6516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هو عملية الاتصال بالجمهور بهدف التأثير على سلوكه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عناصر الترويج</a:t>
            </a:r>
            <a:r>
              <a:rPr b="0" lang="ar-SA" sz="2400" spc="-1" strike="noStrike">
                <a:solidFill>
                  <a:srgbClr val="ff0000"/>
                </a:solidFill>
                <a:latin typeface="Calibri"/>
              </a:rPr>
              <a:t>( المزيج الترويجي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إعل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بيع الشخص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عاية والن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نشيط المبي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تسويق المبا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3558228218_f3f0420f9a.jpg"/>
          <p:cNvPicPr/>
          <p:nvPr/>
        </p:nvPicPr>
        <p:blipFill>
          <a:blip r:embed="rId1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f497d"/>
                </a:solidFill>
                <a:latin typeface="Calibri"/>
              </a:rPr>
              <a:t>رابعاً: التوز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 المهمة التي يتم من خلالها نقل السلع والخدمات من مصادر انتاجها إلى المستهلك الأخير، وعن طريقه يتم نقل المنافع الزمانية والمكانية ومنفعة الحياز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pike_place_market.jpg"/>
          <p:cNvPicPr/>
          <p:nvPr/>
        </p:nvPicPr>
        <p:blipFill>
          <a:blip r:embed="rId1"/>
          <a:stretch/>
        </p:blipFill>
        <p:spPr>
          <a:xfrm>
            <a:off x="0" y="328608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0" y="4869000"/>
            <a:ext cx="9144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ral</dc:creator>
  <dc:description/>
  <dc:language>en-US</dc:language>
  <cp:lastModifiedBy>Sultan H. Binsaeed</cp:lastModifiedBy>
  <dcterms:modified xsi:type="dcterms:W3CDTF">2016-04-14T06:26:37Z</dcterms:modified>
  <cp:revision>28</cp:revision>
  <dc:subject/>
  <dc:title>إدارة التسويق</dc:title>
</cp:coreProperties>
</file>