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C55-78B3-4A42-A910-A23D4060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8D0-052B-4F0C-A4D2-FB9F1AB9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BCE-4337-45F6-9392-4D1A1CCD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6F2-7E53-4B51-8E48-10355A97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070-5D50-425F-8646-9FCB1DF2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85B-AF22-4AB3-9ABB-C2793583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28F-96CD-41CA-ABA4-B80F7E17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B19-182A-4EE6-A3CF-4A88EB5F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12F-D81C-4CEF-B2EA-2243B72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DDE-06EF-4F43-9254-B90E026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3F2-D372-4BC5-8EE9-3EA1351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993-782C-457E-B430-F38FB87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2B0-E033-402E-8C26-2D133E7E8A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6-04-14T06:26:37Z</dcterms:modified>
  <cp:revision>28</cp:revision>
  <dc:subject/>
  <dc:title>إدارة التسويق</dc:title>
</cp:coreProperties>
</file>