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ED6-87CC-412D-9102-FA465FC8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B2F-ECD5-4AC9-8D38-341B9206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DBF-D3CB-4668-A4C9-7F4BA80F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502-B333-42C2-8A43-61324128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688-0B66-43AC-A394-C795E34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17E-4038-4948-9463-907FCF9B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80-7594-4DE9-95C4-684E0AF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598-A4A7-44B1-87E4-06D2591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F58-E3B2-42AF-A25D-A1FBF6D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625-2A7E-4B4E-B1BF-BA8890F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E8C-9EFD-4461-A7BB-19A7500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2CF-DA62-4C5D-A9DE-9E792BF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D0A-3E5A-47E8-8D97-3D4571B740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6-04-14T06:26:37Z</dcterms:modified>
  <cp:revision>28</cp:revision>
  <dc:subject/>
  <dc:title>إدارة التسويق</dc:title>
</cp:coreProperties>
</file>