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146-0C7E-4688-8DE6-88114BF7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0BA-0F44-4675-BA96-AF43C524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DD8-0DE6-4555-AD0C-444C4AFF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F6E-E42B-4D3C-92E2-678F8972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F33-7BF0-47E7-8B87-8181D7B6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7EB-B318-4B96-A5C8-5A644CB8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844-0F3A-4507-955D-DAB6A991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7C8-94D0-4A9D-8F6E-F9015971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305-58D4-45E6-B5DF-C6BA1154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8C7-64BA-4BE7-A373-17B43EB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512-30DF-48C0-9C40-5A4F23F6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322-FE9F-4DBD-B68F-3B12F320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DFBE-562A-4FD1-838B-A1E5E456B0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Sultan H. Binsaeed</cp:lastModifiedBy>
  <dcterms:modified xsi:type="dcterms:W3CDTF">2016-04-14T06:26:37Z</dcterms:modified>
  <cp:revision>28</cp:revision>
  <dc:subject/>
  <dc:title>إدارة التسويق</dc:title>
</cp:coreProperties>
</file>