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150-F947-40F9-B089-65620A18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0D5-484F-42C0-BE40-5F4D1BD8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BE9-6E1C-4CAA-A9E9-27DA0E40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904-5D0B-45E9-A593-89473620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A994-BAA1-4217-AC07-E1DDB28C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B8B1-B3A7-411C-BC68-637C249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1959-564E-4AC5-A306-AA655002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4B5B-706D-466A-B490-F9C2BD6A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C39D-07BF-4775-8D64-72A6C12F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786-3E81-4BBE-BCAD-3B731A9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FFC-2551-4F6D-9318-1ABEAC4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DAF-5F74-467C-A507-2108AAC7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4443-1EBB-4645-B14A-9173E4C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DB8D-71A8-40D3-947D-8240985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B13-45B8-4067-BE27-1908FBA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925-32A5-4F05-BB54-BCB36601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C2A-83C4-4CD3-B67B-385B969B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3017-41C7-4311-9FAF-806CAE37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071E-08D2-4970-A5C8-25B045C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FE32-4A36-4D2E-8F55-476924CD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8F57-8C08-40BA-B33A-44BC835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9957-B7F1-4654-A875-D46FD7C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F47-202D-4E17-83BD-9545D8C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949F-1A5D-421E-8D96-58EB198D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ADEB-2F8F-4B9B-837A-64518A8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FAD5-05DF-4F3D-AB3E-722D0D1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E493-2BAB-423D-943C-65FC3993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F5BB-0475-4775-9434-4B927EB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518F-1D0C-45F6-9B58-20F85851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798B-1715-4448-8080-7A3CB9E8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6DE4-F549-41D4-AA73-69CA7BFD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6E31-60AB-4AAD-943B-358D8F8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BB64-4C66-41B3-9851-84956EF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38D-22E5-4A1F-9E7A-5986C757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1BE5-E7E7-4B79-B983-DD660342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57A7-6ACA-4D48-82C6-DD6EBA6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DE238-9FAC-42BE-ABA2-E87A3C96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71AE-6C2F-4DE0-9399-A6A9861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1420-6AFF-4B60-81D3-C455FFF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9FB7-8FB2-4391-B329-BFE9400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18C7D-978D-41E6-8409-E6C6E830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B62E-2F18-457C-9CF5-E4B40FA0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567E-49C2-4ADD-BBFB-36480145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6402-F504-4AEF-B631-C8CA8558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099-1000-41D6-A952-72C29BBC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08EF-EAD4-4F6D-B3B0-9B138C1D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9271-EF53-4C2B-95F2-433E259F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68D2-7B55-4C63-BF2D-73A0AF7E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2EA0F-164E-4892-AA92-C099AA9A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83C5E-6B31-40B7-8B38-878C1D8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947C-F15F-47B9-96C0-2A78924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16F0-D90F-4D3C-AD17-5B568BB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3E37-5F23-40F9-B739-3D09C2F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BF05-CD3B-4ACB-A2C6-F1E200A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BA51-3CDA-4091-989D-C210C58E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148-135A-4577-B678-4C44E82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E007-BA16-4AD8-9985-7AF3D299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C882-1502-4551-A9A8-A24732BA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D45E-A1CB-453D-8129-AAA60642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CD142-7428-41EB-B0F3-8C432C2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E225-C037-471B-A43C-1CAE63A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3325-066E-412F-9152-D301938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13FD-F769-4BAA-B54D-1D5B06C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37AD-5E35-4692-A21F-F152696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A534-5FDD-4EC7-92B6-49012AC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A1882-FBA0-4A79-BC59-1C199C7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D3C-AD1F-4935-BC00-E71AF51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4C325-2861-4089-9C4F-2601726B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51662-DC67-4EA0-B45D-B0F47406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51CB-5288-4036-83AC-DADF409A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A4C46-31AD-413A-971A-5278E62E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BF83-2A28-4565-B594-54F4DA0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EA1C-DD51-49AF-A709-07E46A8F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8DB7D-B266-4A22-85DE-436F03D2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F05D-B6CE-425D-ABA8-F5584A63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2D73-08EA-4EA2-B5BE-40999DA1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0D98-2085-45E9-84C4-E311D07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D33-184B-4737-AB8E-0187F2B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A658-96BB-4DC7-ACFF-359044C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A74A-3B27-4C8A-B157-6458449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500C-140D-495C-A7C3-09936194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45C6-5AEA-4B51-AC43-28A38F9B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FE6D6-316B-4731-8F97-96E15CF3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504-AAC1-4252-9207-893BF31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DC69-781A-4C94-ABA7-AE845A978C89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538E-8F6C-4884-8D90-192C4F65695E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52E-E882-4C76-ACA8-6AE3CB057AC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6FB3-14CE-4EE4-B9BB-F0EBAD6DB9D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9522-673F-4FA3-8981-0FA2FF5AB7B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0DAD-CEF0-46FB-9A66-F345850F70B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F43-8251-41FA-BE29-933D77CEBEA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5-03T13:57:08Z</dcterms:modified>
  <cp:revision>57</cp:revision>
  <dc:subject/>
  <dc:title>التسويق..</dc:title>
</cp:coreProperties>
</file>