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A6BB-52BA-4025-B3A4-AB38EF51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0A81-F5E8-461A-AD0A-5AA749DC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5025-8070-48C8-8900-90BD410D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1D47-AFB8-4FD4-92C3-7A270FB3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F9C5-D5A0-470C-A0F8-D449D927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A58D-A3CB-42B0-B2C9-318B0E91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29AA-998E-456D-94B7-44470534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AD35-DE52-499D-B7D2-50547A23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1A70-5D75-4A6A-ADC7-74E0A8A5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E491-4B3A-4D7B-BA8A-129FCDCD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84E2-F65C-4A0F-8CE0-F86A5A7C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17D-677B-429A-9E08-D36A9D7C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8C32-084C-46A4-A8D4-409AC864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BB15-5DAB-4DCC-8C8F-2254D5E2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0168-F648-4357-BDC6-6E0FB9A7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7143-56F2-4F17-9B0E-8D0B0375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76A3-6125-4801-BD2E-7EB84274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EDF36-EC9E-4B35-87B1-2B14CE14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44DB7-873B-4E15-AAFC-E9EAF5F0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08618-EE92-4427-BCE2-3A607E86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36D6B-55EE-49B1-8C28-7CE8B517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539D4-CE3C-4A07-85A4-170AC89C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9A06-A277-4F46-AA7D-86F35859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22293-606D-409B-9C63-A50B0637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BF868-6512-47B8-8ABB-FF6F544C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8A479-6A31-45A4-B90E-F84A4734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19528-C782-44AA-9024-26280373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C227F-1B15-4BA6-A976-2563793F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8B554-8599-47A4-8A7A-805BB1BE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7C861-9858-43EF-90F1-2F0D0F6F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71259-32C8-4868-BEEE-2618DCFF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FA87F-2025-44E2-81A0-B425C5C7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3A3FF-A60C-4EFF-98F8-4D3A9C46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FF92-91DC-475C-8454-49D97075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A7455-F028-41BB-9EB5-CA35E84D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F873E-1797-4B4F-9B33-9DA068A4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88204-568F-42E9-BE06-9EB4F878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3278F-E02A-46F0-A265-64F171C8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81700-EAC4-4F57-A6D0-81CF2AA7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168E4-9187-478E-8913-DD4C36F0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ADD77-036B-497B-87A8-E330CD29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7FC76-3F9D-4AC5-8546-592992FF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D79A4-D7CA-4819-AC1D-4E6AE9E9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E1F9D-EB86-47FF-90AA-86E29BC4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43F-B267-4544-AD99-89A1237E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6AAF5-A437-4E95-BC00-B5674352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CD802-BE6F-44A0-83E0-60316D31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6E1E0-EAB5-4A1E-8546-11A6187B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0AA24-3C9E-4DB2-8AEF-546A8205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E113E-9AC9-4A13-B787-DB266E7D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33A10-3BBB-474C-A2A4-9C24D3F1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DDC3F-ADEA-4126-A828-2D8F4BCC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21382-85FB-4C23-8D09-6031A356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47E81-FF91-4FC2-AF95-F2F7393E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DB6C6-0A2E-43F1-9321-35B72B18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C4A1-7985-45CF-91D0-C06A2208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A60C6-A8E0-44AC-857D-1523BDFF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E15E6-BD10-48AD-B4FA-30EAF512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5360B-0F66-4FF5-A332-AFF400EC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F3CCE-C01B-43B8-908E-DD997FAD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01046-D972-4302-88EA-C4F54EED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F4F8B-E148-4B3F-AB36-3973FD1D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B4991-7DF7-456C-9BF5-BDF71D8B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1E4E5-6E7B-42D9-96EF-EFD1CCE5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1E0FE-BCF3-4125-B51C-6185645D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15514-44CD-4B91-B934-FF7A7BBC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FF1-A9DC-4DEB-82E3-347972EF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1E516-960D-45BE-A77A-7188378B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BE3EF-B2EC-4906-9C48-EFE32F37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BC85F-93AA-4058-82E0-4084B7FB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8D82B-983E-4428-B7EE-78CA874E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1BF93-EEA9-4873-886B-46124704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B85A8-D3D1-44BB-A2FD-722BA596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9B868-3C60-4769-8657-87896EA2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F70D0-B377-4B70-A5E8-8C0F8499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B4E89-19A8-420F-82C9-2FA375F1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0A7AB-DCB6-452F-975E-84C1B6F3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631-D4DC-4D0E-BC7D-EFF9C547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4DA1C-598C-40F3-B52D-A16A159B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DFF1C-4F57-4482-BFF7-704590C9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1C228-62CC-4F68-B2F7-63B81CA6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52263-C221-4B34-BB0A-37435F0D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92BC4-BB6F-4C6D-ABFC-F730E42F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22D4-0AF2-46F0-84FB-8C2D7638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38B1-91D7-46B5-88CC-36D9CE6ACCA4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ستطيل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مستطيل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مستطيل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مستطيل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مستطيل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مستطيل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مستطيل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مستطيل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2239-B7F1-4E49-AC00-7DD1763D3317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شكل حر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شكل حر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شكل حر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شكل حر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شكل حر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شكل حر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شكل حر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شكل حر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شكل حر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شكل حر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شكل حر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شكل حر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شكل حر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شكل حر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شكل حر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مستطيل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مستطيل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مستطيل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مستطيل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مستطيل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مستطيل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B07C-6B55-4252-8C53-A04C37753269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8BF2-8F81-43C7-BE66-DD3D8DF0E601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مستطيل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مستطيل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مستطيل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مستطيل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مستطيل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مستطيل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مستطيل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مستطيل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مستطيل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مستطيل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9CB5-A3CB-4FA2-BAC6-558AF3193C4F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09CF-8E45-4F1E-8D55-9CF4469230F0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مستطيل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رابط مستقيم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5" name="مجموعة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رابط مستقيم 20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7" name="رابط مستقيم 23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8" name="رابط مستقيم 24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19" name="مجموعة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رابط مستقيم 26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1" name="رابط مستقيم 27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2" name="رابط مستقيم 28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23" name="مجموعة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رابط مستقيم 30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5" name="رابط مستقيم 31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رابط مستقيم 32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FF71-B509-4DCF-83A9-0DA85FFEF17E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719280" y="1487520"/>
            <a:ext cx="7772400" cy="41022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rbel"/>
                <a:ea typeface="Akhbar MT"/>
              </a:rPr>
              <a:t>.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8"/>
          <p:cNvSpPr/>
          <p:nvPr/>
        </p:nvSpPr>
        <p:spPr>
          <a:xfrm>
            <a:off x="257040" y="291960"/>
            <a:ext cx="8418600" cy="88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شكل بيضاوي 1"/>
          <p:cNvSpPr/>
          <p:nvPr/>
        </p:nvSpPr>
        <p:spPr>
          <a:xfrm>
            <a:off x="684360" y="2001960"/>
            <a:ext cx="7704000" cy="17874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بيانات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متطلبات او المعطيات المجردة التي لها صفة الوصف او صفة القياس(الارقام ، الزمن ، الطول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شكل بيضاوي 2"/>
          <p:cNvSpPr/>
          <p:nvPr/>
        </p:nvSpPr>
        <p:spPr>
          <a:xfrm>
            <a:off x="900000" y="4076640"/>
            <a:ext cx="7488360" cy="19447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معلومات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بيانات التي اصبح لها معنى مفهوم واضح بعد معالجتها او تشغيلها مما يكسبها صفة صلاحية امكانية استخدامها لخدمة صانع القرا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357120" y="0"/>
            <a:ext cx="850104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شكل بيضاوي 2"/>
          <p:cNvSpPr/>
          <p:nvPr/>
        </p:nvSpPr>
        <p:spPr>
          <a:xfrm>
            <a:off x="1042920" y="1916280"/>
            <a:ext cx="7345440" cy="31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ذلك النظام الذي يكفل توفير المعلومات التاريخية والحالية والمستقبلية المطلوبة لصانعي القرار بمصداقية من خلال قنوات الاتصال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النقاط الأساسية لنظام المعلومات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النظام ويتكون من(المدخلات،عمليات التشغيل،المخرجات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وسائل توفير المعلومات(شفهية ، مكتوبه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طبيعة المعلومات (ماضية،حاضرة،مستقبلية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4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معلومات عن البيئة الداخلية والخارجية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5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توفير معلومات بالكفاءة المناسبة من حيث(الوقت،النوع،الحجم المناسب،المصداقية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الحاسوب ونظام المعلومات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نقل معلومات الأعمال الى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1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 فئة اصحاب المشروعات التجارية القائمة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فئة المستثمرين المرتقبين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3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فئة المديرين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4</a:t>
            </a:r>
            <a:r>
              <a:rPr b="0" lang="ar-SA" sz="3000" spc="-1" strike="noStrike">
                <a:solidFill>
                  <a:srgbClr val="ffffff"/>
                </a:solidFill>
                <a:latin typeface="Corbel"/>
              </a:rPr>
              <a:t>-المستهلكين المتوقعين 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أدوات الانترنت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Oval 2"/>
          <p:cNvSpPr/>
          <p:nvPr/>
        </p:nvSpPr>
        <p:spPr>
          <a:xfrm>
            <a:off x="5796000" y="3346560"/>
            <a:ext cx="3024000" cy="13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تقنية المحادثة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Oval 3"/>
          <p:cNvSpPr/>
          <p:nvPr/>
        </p:nvSpPr>
        <p:spPr>
          <a:xfrm>
            <a:off x="3203640" y="1778040"/>
            <a:ext cx="3024000" cy="15685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rbel"/>
                <a:cs typeface="Tahoma"/>
              </a:rPr>
              <a:t>تقنية لوحة الاعلانات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Oval 4"/>
          <p:cNvSpPr/>
          <p:nvPr/>
        </p:nvSpPr>
        <p:spPr>
          <a:xfrm>
            <a:off x="627120" y="3346560"/>
            <a:ext cx="2865240" cy="13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orbel"/>
                <a:cs typeface="Tahoma"/>
              </a:rPr>
              <a:t>تقنية الشبكة العنكبوتية الدولية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www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"/>
          <p:cNvSpPr/>
          <p:nvPr/>
        </p:nvSpPr>
        <p:spPr>
          <a:xfrm>
            <a:off x="357120" y="642960"/>
            <a:ext cx="8286840" cy="90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أهمية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مهم لعملية اتخاذ القرارات وسلامة القرارات والأوام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عمل على تنسيق العلاقة الداخلية بين الادارات الداخلية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نظم العلاقة بين المنظمة مع البيئة الخارجية 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ذلك التقنية تلعب دورا كبيرا وايجابيا للبيانات والمعلومات الادارية فهي تكفل السرعة والدقة اللازمة وهي جزأ لا يتجزأ من نظام المعلومات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Sultan H. Binsaeed</cp:lastModifiedBy>
  <dcterms:modified xsi:type="dcterms:W3CDTF">2016-05-03T13:57:08Z</dcterms:modified>
  <cp:revision>57</cp:revision>
  <dc:subject/>
  <dc:title>التسويق..</dc:title>
</cp:coreProperties>
</file>