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1FF-5B2C-4314-8EAC-15FC8467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292-3D11-4383-AA82-1A24D4A8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0C6-85E9-4062-9D24-E2E1874C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C76-D8F0-49E0-90C4-FD7B552D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DB31-DE77-4356-A268-9A994DC3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EBEE-18DB-4A87-92E5-E9FBBEAC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A162-DB82-48D9-8D53-C8CCFC5C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8ABF-F8CC-43FF-AF7D-6E47C1C1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0502-9D90-41C0-BA35-E21A630B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8000-B73F-4A4B-BF48-F24B7D43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4C27-6172-458F-BF37-B939D2B6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1DF-9946-4296-BEFE-F56AA919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3EBF-2967-402A-86C2-93FECD9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C691-3C22-4F12-A626-AB9DF431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097C-A50D-403C-82B4-D9F85AA4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4DB6-71CF-4FD4-AA14-43013A63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56EC-6408-47DE-88DE-7BF4F799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09851-3F0B-4728-9325-F241B2A3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CC95-3EA8-4535-B6B3-34015A08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B6CE-B62D-4203-A90A-4B6DAE3C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7618-188E-409F-B013-CBCB9FDB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F265C-3110-4E38-96BA-779AE2CE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9A0-A5D6-45CC-97B9-7EE8DF90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2D99E-7A5A-4ADA-8C20-EF766224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B069-0C68-44FE-B33D-95FD2C7E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B75A6-B870-49BC-A393-EAB67686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EAD27-4C09-45B5-AA2C-384BAFB4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C777-4A1E-43D5-9EC3-DEF07EEF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DECE-D6F9-4B2C-87A4-49E8A729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EF274-B7D1-408B-B930-2659EE67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54286-D436-452B-B563-0C85B371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ADEEE-29E4-4CD2-BC63-9496A150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29B6B-0EE6-470E-A55B-E1269ACA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D22-FA0E-42CA-AABB-288EC3E9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A575B-3376-472D-9BD2-D794847D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626D-D15F-45DE-B97D-9C2B05F9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CABF-9B4F-4771-8CA1-2DC84B96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C4245-FD50-46B7-B6DD-49A748AE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97BC-AEAF-4A0D-A532-5A6BC462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6E146-464C-40DC-9F31-3ECB48FD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C838A-A893-4192-A9A4-4737552C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08411-273B-4EE7-A71A-CBDFCEFC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CBD1C-9BD2-4F16-88E2-D68F554A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C1835-B9EB-42E6-BC69-6362F8F0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EC8-0CB0-4C9B-B7F5-85E49E28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B0AFE-E5F6-4E21-8B28-6C43ADBA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8F0BF-33ED-4F66-9A30-202CE5D5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5F8E3-753B-4B94-8DEE-B8FF3AD4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FFC5D-FE13-4BDB-88C6-6A77A51D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1D13F-8E2E-4FEB-9B64-68D8284A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C43BD-A0F9-4E65-8F4B-01B6B30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A94EB-636F-4FC7-8603-CABFE212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CAAAD-8297-4F19-9B3A-352692E6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51C9D-3BCD-456A-91DE-16A33506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995FE-970E-45DA-B24B-118E0111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DB2-26E3-41D2-BD0A-552A878E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64641-1B50-40EF-820A-8780A32E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0A573-97C0-42DA-917B-B6D306A2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02512-8E9A-4509-9DE2-2197A882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AE0C-1293-4462-8744-E8428AE0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2322B-C130-4E0A-A924-8E81693A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524D1-A628-4940-AC28-197B6463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455E0-12E6-45CC-BF83-74E95FF6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BE72C-685B-40FB-87A5-5E02AE3F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949E4-46A3-4533-8CA1-30CF9D9E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5DBF-E0FA-4692-8530-707A3746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0CA-FA1A-4CB4-80A6-F182A567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28B01-1ED2-427C-8666-C20CF034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362ED-33F4-40A5-B530-BEE58105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0146C-C710-45E6-955D-3BE426B5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090E7-782E-4FB4-85B2-0434EACD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D576A-7E81-4966-B510-53ADC249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B915F-2F56-490F-8223-F18AEAF0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33D47-88AE-4D7E-A5A0-353CBDBD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68759-548C-4931-8385-801E2B2E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549A0-B45E-432F-86C1-DE1A3089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7CFFC-393A-45E9-9616-26FA6FA1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0C2-D1F3-4E64-A649-87ADAEFF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35D02-5815-43EF-90C3-E42B3CBB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59284-E294-4F95-B8A8-048D0607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54623-6321-41DE-938C-F5B793DA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E0BD1-C1ED-49A2-A758-6AFEFF5E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59E97-FA95-4F43-B42A-452DB630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9A0-D4D0-4DA3-921F-4DDA1A03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140A-70F2-45C6-BE33-C807B43887A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5D0C-CFF1-4AB6-9E1C-27DA5B7BFB9B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8CBF-F243-4A32-B7F0-7ADE3453F30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D051-54B7-441E-8DB2-C75F6C0FEFAB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30FB-1971-4044-A821-716BEFB6ED37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D1C3-1C9F-47F9-AFBF-D178A45A8D2E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C242-61BD-48EE-AC59-58E18B1128C5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719280" y="1487520"/>
            <a:ext cx="7772400" cy="3078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ينظم العلاقة بين المنظمة مع البيئة الخارجية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onsolas"/>
              </a:rPr>
              <a:t>لا يقتصر  دور نظم المعلومات على مجال أتخاذ القرارات فقط بل يمتد إلى مجالات أخرى تتعلق بداخل و خارج المنظمة مثل: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94920" y="2781360"/>
            <a:ext cx="8209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 </a:t>
            </a: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1</a:t>
            </a: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/ تنسيق العلاقة الداخلية بين النظم الفرعية (الداخلية) المكونة للمنظمة كإدارة التمويل و إدارة الإنتاج و إدارة الأفراد إدارة التسوي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أن العلاقة بين هذه الإرادات يصعب إقامتها و تحديد إطارها دون توافر معلومات أو بيانات عن كل من هذه النظم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5280" y="25653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Corbel"/>
              </a:rPr>
              <a:t>2</a:t>
            </a:r>
            <a:r>
              <a:rPr b="0" lang="ar-SA" sz="2400" spc="-1" strike="noStrike">
                <a:solidFill>
                  <a:srgbClr val="00b0f0"/>
                </a:solidFill>
                <a:latin typeface="Corbel"/>
              </a:rPr>
              <a:t>/ تنظيم العلاقة بين المنظمة ككيان اعتباري في المجتمع و الأطراف المتعاملة معها (البيئة الخارجية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Corbel"/>
              </a:rPr>
              <a:t>يجب توفر معلومات عن المستثمرين المرتقبين و المستهلكين المتوقعين قبل بيع حصه للمستثمرين او بيع المنتج بسعر معين للمستهلكين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341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التقنية المعلوماتية </a:t>
            </a:r>
            <a:r>
              <a:rPr b="0" lang="ar-SA" sz="4000" spc="-1" strike="noStrike">
                <a:solidFill>
                  <a:srgbClr val="00b0f0"/>
                </a:solidFill>
                <a:latin typeface="Consolas"/>
              </a:rPr>
              <a:t>هي التي تعني توفير  المعلومات من خلال الأساليب الآلية المتطورة</a:t>
            </a: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و قد شوهد تقدما ملموسا في مجال توفير المعلومات من أنحاء العالم كافة عبر المسافات  الطويلة المقرونة بالسرعة المذهلة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Consolas"/>
              </a:rPr>
              <a:t>و ذلك تحقق من خلال الشبكة العنكبوتية التي يطلق عليها الأنترنت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أدوات الانترنت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Oval 2"/>
          <p:cNvSpPr/>
          <p:nvPr/>
        </p:nvSpPr>
        <p:spPr>
          <a:xfrm>
            <a:off x="5796000" y="3346560"/>
            <a:ext cx="302400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محادثة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Oval 3"/>
          <p:cNvSpPr/>
          <p:nvPr/>
        </p:nvSpPr>
        <p:spPr>
          <a:xfrm>
            <a:off x="3203640" y="1778040"/>
            <a:ext cx="3024000" cy="15685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Tahoma"/>
              </a:rPr>
              <a:t>تقنية لوحة الاعلانات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627120" y="3346560"/>
            <a:ext cx="286524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شبكة العنكبوتية الدولية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ww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24000" y="24591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1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النظام ويتكون من(المدخلات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عمليات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 التشغيل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المخرجات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2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وسائل توفير المعلومات(شفهية ، مكتوبه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3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طبيعة المعلومات (ماضية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حاضرة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مستقبلية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4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معلومات عن البيئة الداخلية والخارجية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5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توفير معلومات بالكفاءة المناسبة من حيث(الوقت،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نوع،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حجم المناسب،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مصداقية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24000" y="76500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omic Sans MS"/>
              </a:rPr>
              <a:t>النقاط الأساسية لنظام المعلومات</a:t>
            </a:r>
            <a:r>
              <a:rPr b="0" lang="ar-SA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onsolas"/>
              </a:rPr>
              <a:t>النظام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4720" y="2459160"/>
            <a:ext cx="8182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نظام عبارة عن مجموعة الأجزاء التي تتكامل مع بعضها بغرض تحقيق هدف معين مشترك و النظام بطبيعته يتكون من مدخلات مختلفة تتمازج مع بعضها مؤدية الى مخرجات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وسائل توفير المعلومات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560" y="2459160"/>
            <a:ext cx="8435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و هي تتفاوت ما بين طرق شفهية و هي التي تتم من خلال المناقشات أو المكالمات الهاتفية المباشرة الشخصية و طرق تحريرية مثل المستندات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طبيعة المعلومات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24000" y="1769760"/>
            <a:ext cx="837072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لا بد أن يتم توفير المعلومات بالشكل الذي يغطي الأزمنة الثلاث الرئيسية و هي الماضي و الحاضر و المستقبل و ذلك لأهمية كل زمن من هذه الأزمنة لصانه القرار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لمعلومات الماضية – المعلومات الحالية-المعلومات المستقبلية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1228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معلومات عن البيئة الداخلية و الخارجية للمنظمة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50560" y="1770120"/>
            <a:ext cx="84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من أساسيات نظام المعلومات توفيره للمعلومات من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لبيئة الداخلية للمنظمة مثل الموارد البشرية و الموارد المادية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لبيئة الخارجية للمنظمة مثل الحالة الاقتصادية السائدة المتوقعة و معدلات التضخم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توفير المعلومات بكفاءة مناسبة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95280" y="1769760"/>
            <a:ext cx="8299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و يقصد هنا أربعة اعتباريات يجب توفرها مجتمعه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عتبارات مناسبة الوقت أي السرعة التي يجب أن تتوافر بها المعلومات لصانع القرار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عتبارات الحجم المناسب الذي يجب أن توفر به المعلومات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عتبارات المصداقية التي يجب أن توفر بها المعلومات أي يجب أن تكون المعلومات دقيقة بعيده عن الشك و التضليل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nuha alnumair</cp:lastModifiedBy>
  <dcterms:modified xsi:type="dcterms:W3CDTF">2016-12-13T11:01:32Z</dcterms:modified>
  <cp:revision>66</cp:revision>
  <dc:subject/>
  <dc:title>التسويق..</dc:title>
</cp:coreProperties>
</file>