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3DFE-10DB-483B-B976-EF893D3A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3EA8-74FE-44F0-B7A7-FD5385F1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1CD2-D50A-4551-ACD8-A78F3CB2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D02-5145-487C-8F9D-68BD511D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10B8-2A5D-4D84-A923-4E897FEC5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6F75-3C24-4D50-8D0C-C93FAC27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B891-045A-4FC5-AB5C-17DB049D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FB41-09DA-4191-99AB-EBCC78DB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CB78-0D20-4BA4-91AE-953F66C8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FF64-AB20-4F6E-85D7-80CA56BA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D883-201F-40A0-86DE-8A70210A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A0C3-108E-4EBE-85BD-C6161E18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BE07-3221-42A9-97B3-886FDB78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E11E-5583-4768-88D9-0370D495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FAED-2BF4-41BA-8CEE-609AACC3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9C42-1BD5-4CF7-9308-7E8708C3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E978-9473-4548-B1DE-721FC0A3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165E7-C9AA-4C37-9157-760049CE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44F75-027C-482E-9388-20C98EEB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717B4-DC81-4D8C-A29F-F90ECCCA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5E87E-B220-46B9-BAF8-57765F36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F6127-646D-4CAC-8B46-6838A7B4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940E-C371-4E40-B169-5C687F20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3EA1C-4D82-42BD-960E-A932010B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6C12F-45A6-428C-847B-4F680A65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C025E-92E5-4FEC-B0EE-30E1F30E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ED1EA-B737-44F4-8272-F4A97E14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B2D2B-D5C4-412E-818A-F4F2531C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E7BB5-061A-4954-A4FE-D3F614D7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77708-B036-444F-B05B-3A0994C0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C08CE-B827-43E5-9A2D-A63CEFE7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294FA-DDB1-4A6F-91C7-A4BFB468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B2D92-B32A-4974-A3F5-9405854E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90B-5C2B-496E-BEF5-63A3D93C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368D5-DC97-445F-B59A-223414F0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D6D72-58E9-4C24-A073-A5CC271C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062C0-A957-4EE9-9123-1C7E0ED3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520F8-6E09-45F1-BE99-54DADB3F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42ADA-DAEC-44DA-85B6-0306B728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D82F4-B6CE-4BE6-83C2-0ED8E3A4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F846E-1F9D-4D4B-A7C6-8F08185D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BE9D8-C84A-4FDB-A5BC-893C91F0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ED238-9011-407D-AE74-17D3779F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46EC7-FBB2-4FC0-8365-7F35B48B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07E-96FE-4BC2-8AC0-61CBC6E6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3ACF2-4755-44CB-83BF-8AE33EA0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71565-D208-41C4-A467-28B78CAF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E166D-0D04-4813-88BF-C2F85DA7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8DFE4-C151-43A9-B7A8-CF354705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AFC25-746E-43A0-BE8F-C0422874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FC69A-C189-4A78-8893-9EC04DF0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48B0C-6955-4276-AAD0-55D0BFBE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3C73A-FF68-4DE9-96A6-29694793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7699B-063F-45D3-A1AC-8D8257C1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7770B-C800-4363-B5E9-54FE1663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2F4B-8D7B-4A43-9742-75689235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B389C-185F-43B9-B52B-E6642A08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FE034-4121-4C5E-BB51-2348697B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E0521-5C99-4DB9-9FEA-C9548550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869FC-C3BC-4489-94D9-4996A590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36AF7-262B-4BDA-8631-807A5B35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BF996-1B4F-4DC4-8D0D-4E264D1E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2953F-0727-4C96-86B5-6CC9CCBD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5DA47-4668-498B-895D-CEDC926B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5AF90-498C-4014-BD66-ECBDB6CC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3BE5B-9E22-4094-8816-D864B9EC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AD17-6BA5-4176-9A7B-DE91DF4B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889D8-EB81-4100-98CC-BEF7A2EE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8F861-8856-4EB3-AA3F-8D215FCF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7E6F6-3402-420E-B0F1-C2F65212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9E591-4A4D-4F3C-B3D6-0DA411DA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9D788-5FBA-4046-903F-A3334161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DE386-3D23-499C-A58C-7B09AB80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DDE32-C546-42C9-901C-D6EBB70B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9D799-D2B3-482D-BAE6-62A59D60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08FB0-DC68-4CB9-A915-3836C68A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70047-4B1E-44D0-BEE4-C92B2B24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411D-53CC-4D98-A5C7-ACC6EEB9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DBFCE-37EA-44C8-9B41-5604CE9D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D3149-AE3E-4BFF-88EE-47E60447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CF0E9-8087-4141-97B2-058A9B70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5105C-2845-4125-8D27-BC96C0E5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A8FCA-C84E-47E4-9C64-33405DE4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50AC-3CA9-415E-99E7-8969577A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4D98-DBCD-49C1-9CC8-A82243899E27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مستطيل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مستطيل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مستطيل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مستطيل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مستطيل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مستطيل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مستطيل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مستطيل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A8B9-2726-4501-9C3D-458244244028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شكل حر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شكل حر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شكل حر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شكل حر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شكل حر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شكل حر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شكل حر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شكل حر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شكل حر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شكل حر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شكل حر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شكل حر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شكل حر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شكل حر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شكل حر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مستطيل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مستطيل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مستطيل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مستطيل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مستطيل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مستطيل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92E7-D295-4E59-84BB-E8E2DB93EB16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0920-D486-401A-82D4-396B75F03429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مستطيل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مستطيل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مستطيل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مستطيل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مستطيل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مستطيل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مستطيل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مستطيل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مستطيل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مستطيل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5D9B-20E7-486C-939E-DED50618472E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C468-FC3E-4433-8EE0-39B809556874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مستطيل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رابط مستقيم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5" name="مجموعة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رابط مستقيم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7" name="رابط مستقيم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8" name="رابط مستقيم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19" name="مجموعة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رابط مستقيم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1" name="رابط مستقيم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2" name="رابط مستقيم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23" name="مجموعة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رابط مستقيم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5" name="رابط مستقيم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6" name="رابط مستقيم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98A7-FE33-4048-B52A-526A7D9AB12D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719280" y="1487520"/>
            <a:ext cx="7772400" cy="3078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rbel"/>
                <a:ea typeface="Akhbar MT"/>
              </a:rPr>
              <a:t>.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"/>
          <p:cNvSpPr/>
          <p:nvPr/>
        </p:nvSpPr>
        <p:spPr>
          <a:xfrm>
            <a:off x="357120" y="642960"/>
            <a:ext cx="8286840" cy="90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أهمية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مهم لعملية اتخاذ القرارات وسلامة القرارات والأوامر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يعمل على تنسيق العلاقة الداخلية بين الادارات الداخلية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ينظم العلاقة بين المنظمة مع البيئة الخارجية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كذلك التقنية تلعب دورا كبيرا وايجابيا للبيانات والمعلومات الادارية فهي تكفل السرعة والدقة اللازمة وهي جزأ لا يتجزأ من نظام المعلومات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Consolas"/>
              </a:rPr>
              <a:t>لا يقتصر  دور نظم المعلومات على مجال أتخاذ القرارات فقط بل يمتد إلى مجالات أخرى تتعلق بداخل و خارج المنظمة مثل: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94920" y="2781360"/>
            <a:ext cx="82090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 </a:t>
            </a: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1</a:t>
            </a: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/ تنسيق العلاقة الداخلية بين النظم الفرعية (الداخلية) المكونة للمنظمة كإدارة التمويل و إدارة الإنتاج و إدارة الأفراد إدارة التسويق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أن العلاقة بين هذه الإرادات يصعب إقامتها و تحديد إطارها دون توافر معلومات أو بيانات عن كل من هذه النظم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95280" y="2565360"/>
            <a:ext cx="8362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f0"/>
                </a:solidFill>
                <a:latin typeface="Corbel"/>
              </a:rPr>
              <a:t>2</a:t>
            </a:r>
            <a:r>
              <a:rPr b="0" lang="ar-SA" sz="2400" spc="-1" strike="noStrike">
                <a:solidFill>
                  <a:srgbClr val="00b0f0"/>
                </a:solidFill>
                <a:latin typeface="Corbel"/>
              </a:rPr>
              <a:t>/ تنظيم العلاقة بين المنظمة ككيان اعتباري في المجتمع و الأطراف المتعاملة معها (البيئة الخارجية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f0"/>
                </a:solidFill>
                <a:latin typeface="Corbel"/>
              </a:rPr>
              <a:t>يجب توفر معلومات عن المستثمرين المرتقبين و المستهلكين المتوقعين قبل بيع حصه للمستثمرين او بيع المنتج بسعر معين للمستهلكين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1341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Consolas"/>
              </a:rPr>
              <a:t>التقنية المعلوماتية </a:t>
            </a:r>
            <a:r>
              <a:rPr b="0" lang="ar-SA" sz="4000" spc="-1" strike="noStrike">
                <a:solidFill>
                  <a:srgbClr val="00b0f0"/>
                </a:solidFill>
                <a:latin typeface="Consolas"/>
              </a:rPr>
              <a:t>هي التي تعني توفير  المعلومات من خلال الأساليب الآلية المتطورة</a:t>
            </a:r>
            <a:r>
              <a:rPr b="0" lang="ar-SA" sz="40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Consolas"/>
              </a:rPr>
              <a:t>و قد شوهد تقدما ملموسا في مجال توفير المعلومات من أنحاء العالم كافة عبر المسافات  الطويلة المقرونة بالسرعة المذهلة </a:t>
            </a: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b0f0"/>
                </a:solidFill>
                <a:latin typeface="Consolas"/>
              </a:rPr>
              <a:t>و ذلك تحقق من خلال الشبكة العنكبوتية التي يطلق عليها الأنترنت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1eeff"/>
                </a:solidFill>
                <a:latin typeface="Consolas"/>
              </a:rPr>
              <a:t>أدوات الانترنت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Oval 2"/>
          <p:cNvSpPr/>
          <p:nvPr/>
        </p:nvSpPr>
        <p:spPr>
          <a:xfrm>
            <a:off x="5796000" y="3346560"/>
            <a:ext cx="3024000" cy="13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rbel"/>
                <a:cs typeface="Tahoma"/>
              </a:rPr>
              <a:t>تقنية المحادثة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Oval 3"/>
          <p:cNvSpPr/>
          <p:nvPr/>
        </p:nvSpPr>
        <p:spPr>
          <a:xfrm>
            <a:off x="3203640" y="1778040"/>
            <a:ext cx="3024000" cy="15685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rbel"/>
                <a:cs typeface="Tahoma"/>
              </a:rPr>
              <a:t>تقنية لوحة الاعلانات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Oval 4"/>
          <p:cNvSpPr/>
          <p:nvPr/>
        </p:nvSpPr>
        <p:spPr>
          <a:xfrm>
            <a:off x="627120" y="3346560"/>
            <a:ext cx="2865240" cy="13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orbel"/>
                <a:cs typeface="Tahoma"/>
              </a:rPr>
              <a:t>تقنية الشبكة العنكبوتية الدولية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www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8"/>
          <p:cNvSpPr/>
          <p:nvPr/>
        </p:nvSpPr>
        <p:spPr>
          <a:xfrm>
            <a:off x="257040" y="291960"/>
            <a:ext cx="8418600" cy="88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شكل بيضاوي 1"/>
          <p:cNvSpPr/>
          <p:nvPr/>
        </p:nvSpPr>
        <p:spPr>
          <a:xfrm>
            <a:off x="684360" y="2001960"/>
            <a:ext cx="7704000" cy="17874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بيانات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ي المتطلبات او المعطيات المجردة التي لها صفة الوصف او صفة القياس(الارقام ، الزمن ، الطول..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شكل بيضاوي 2"/>
          <p:cNvSpPr/>
          <p:nvPr/>
        </p:nvSpPr>
        <p:spPr>
          <a:xfrm>
            <a:off x="900000" y="4076640"/>
            <a:ext cx="7488360" cy="19447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معلومات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Times New Roman"/>
                <a:cs typeface="Times New Roman"/>
              </a:rPr>
              <a:t>هي البيانات التي اصبح لها معنى مفهوم واضح بعد معالجتها او تشغيلها مما يكسبها صفة صلاحية امكانية استخدامها لخدمة صانع القرار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357120" y="0"/>
            <a:ext cx="850104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شكل بيضاوي 2"/>
          <p:cNvSpPr/>
          <p:nvPr/>
        </p:nvSpPr>
        <p:spPr>
          <a:xfrm>
            <a:off x="1042920" y="1916280"/>
            <a:ext cx="7345440" cy="31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ذلك النظام الذي يكفل توفير المعلومات التاريخية والحالية والمستقبلية المطلوبة لصانعي القرار بمصداقية من خلال قنوات الاتصال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24000" y="2459160"/>
            <a:ext cx="8362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1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-النظام ويتكون من(المدخلات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،عمليات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 التشغيل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،المخرجات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2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-وسائل توفير المعلومات(شفهية ، مكتوبه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3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-طبيعة المعلومات (ماضية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،حاضرة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،مستقبلية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4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-معلومات عن البيئة الداخلية والخارجية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5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-توفير معلومات بالكفاءة المناسبة من حيث(الوقت،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النوع،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الحجم المناسب،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المصداقية)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24000" y="76500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Comic Sans MS"/>
              </a:rPr>
              <a:t>النقاط الأساسية لنظام المعلومات</a:t>
            </a:r>
            <a:r>
              <a:rPr b="0" lang="ar-SA" sz="40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Consolas"/>
              </a:rPr>
              <a:t>النظام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4720" y="2459160"/>
            <a:ext cx="8182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النظام عبارة عن مجموعة الأجزاء التي تتكامل مع بعضها بغرض تحقيق هدف معين مشترك و النظام بطبيعته يتكون من مدخلات مختلفة تتمازج مع بعضها مؤدية الى مخرجات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Consolas"/>
              </a:rPr>
              <a:t>وسائل توفير المعلومات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50560" y="2459160"/>
            <a:ext cx="84358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و هي تتفاوت ما بين طرق شفهية و هي التي تتم من خلال المناقشات أو المكالمات الهاتفية المباشرة الشخصية و طرق تحريرية مثل المستندات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Consolas"/>
              </a:rPr>
              <a:t>طبيعة المعلومات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24000" y="1769760"/>
            <a:ext cx="837072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لا بد أن يتم توفير المعلومات بالشكل الذي يغطي الأزمنة الثلاث الرئيسية و هي الماضي و الحاضر و المستقبل و ذلك لأهمية كل زمن من هذه الأزمنة لصانه القرار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المعلومات الماضية – المعلومات الحالية-المعلومات المستقبلية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12280"/>
            <a:ext cx="8229600" cy="11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Consolas"/>
              </a:rPr>
              <a:t>معلومات عن البيئة الداخلية و الخارجية للمنظمة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50560" y="1770120"/>
            <a:ext cx="84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من أساسيات نظام المعلومات توفيره للمعلومات من 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البيئة الداخلية للمنظمة مثل الموارد البشرية و الموارد المادية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البيئة الخارجية للمنظمة مثل الحالة الاقتصادية السائدة المتوقعة و معدلات التضخم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Consolas"/>
              </a:rPr>
              <a:t>توفير المعلومات بكفاءة مناسبة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95280" y="1769760"/>
            <a:ext cx="8299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و يقصد هنا أربعة اعتباريات يجب توفرها مجتمعه 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اعتبارات مناسبة الوقت أي السرعة التي يجب أن تتوافر بها المعلومات لصانع القرار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اعتبارات الحجم المناسب الذي يجب أن توفر به المعلومات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اعتبارات المصداقية التي يجب أن توفر بها المعلومات أي يجب أن تكون المعلومات دقيقة بعيده عن الشك و التضليل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09:41Z</dcterms:created>
  <dc:creator>vip</dc:creator>
  <dc:description/>
  <dc:language>en-US</dc:language>
  <cp:lastModifiedBy>nuha alnumair</cp:lastModifiedBy>
  <dcterms:modified xsi:type="dcterms:W3CDTF">2016-12-13T11:01:32Z</dcterms:modified>
  <cp:revision>66</cp:revision>
  <dc:subject/>
  <dc:title>التسويق..</dc:title>
</cp:coreProperties>
</file>