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FE4-D51A-44BC-963F-BEA0AB49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C47-5DAF-4538-922A-CF5D2D3B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B00D-EFCA-41B5-8B4D-264ABEC3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10C-10AE-40DF-8A1E-FBEA6757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931F-3065-42FC-920B-3FA919DC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462F-456D-4B8D-B56E-75CFF1C9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D8ED-67A1-492B-B7BC-75952EE6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A935-9250-449F-B7C5-D30EA6CC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A25F-64D4-4996-8A7A-35F71CCE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09B4-E2CC-4801-B5F2-CF1589C6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2A22-4F5E-4701-8170-DA0A4F62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480-CF6D-4E0C-9271-332CDF9A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2FA7-06D5-430F-A94B-88F2BB4F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3A19-DEF1-4D3B-9B0A-2EFF8167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9321-12E0-4518-A9F7-932C1B90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6369-A916-4260-A57B-0727EBC3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334B-2BF4-4FA5-A534-70CBD480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3851-4A39-4C4E-8367-33E416B4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8884-14CB-485B-A52D-7D13A595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2FAA8-333D-4965-9E39-C918468F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C65D-9270-4499-B7DB-938DB98E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6FDBB-CBE5-4566-8EAF-44543438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E74-FC82-49FC-BFF8-A46F5F08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A8A7-55F5-4EA5-BEE7-8999B1AC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3E841-EA6E-4DCD-B820-41167239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DBAE-7C80-4750-B7D9-C8547C03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FFD3-1868-4ABC-8912-CD0CD2EB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FA68-D257-47CF-8F7A-E9CE3D4B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63E9-CF4B-4B7D-92D0-7F8CD5D8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B4F7-5131-413A-8B6C-01D9F967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5C01-D9A7-4438-92C0-41050C15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5CFF9-60E7-425F-9726-4D17541C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9169-E91D-4263-849B-0B40DA2C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ECF-0B33-4048-A8C1-6B25317D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E8F17-7D96-432A-A34D-57E63F9B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68D2-C03E-4CC2-B211-E68290C8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56585-5D8F-43F9-8671-66F6792B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682D4-4E43-4F2F-B185-8A5AC638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8B5C-A0F3-4F3A-9191-36A6E470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EDBFF-8D7B-49EE-9075-AE2A72CE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84A0-0E48-4DAB-9461-AA2E3BF5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3ABB-A28F-4138-8579-AC4F62EE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1A4F-F1DC-4036-A789-73893244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8E852-0401-4D11-BB57-EBB21D9C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517-D982-4769-A518-5167B1A0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2E109-6D4F-401A-AE59-9AC9DA78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A38FB-B3A1-4D17-8EF8-9D6B6C81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29261-8A73-4B04-8173-AEBA37D4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097C7-7FBF-4D52-9C19-0337600F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0DCE-BE0F-4817-84DF-387287F6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3876-308F-4749-AE42-50A9CC5B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B0800-A052-48F4-91C6-88AB7751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6560F-4875-4A01-BC1C-5FA4BA73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FF132-5D6D-47CE-910E-0BE0EBB3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D463-A6CF-4A1D-9F1E-0AB604C0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A68-DA0D-4D6A-8E2F-4B3B47E7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F7284-00BC-4641-8CE5-A8E5F018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6D8F9-7D7A-47AF-A4AE-07506C13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AD414-52C1-44DB-BF04-4E1AB907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31EF6-77E7-402F-8114-ADF9407C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3A9EE-C724-49AF-B17D-81FA6287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DDBE7-DF28-4B47-A2C2-84ACDF83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9AAD4-5DC2-472F-AACF-7C0AF22D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A632C-6021-492C-819B-A94FAF57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23A5F-0002-4B79-958B-2F944544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ED6B4-818F-4DC7-AA8E-5CBB8025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333-DF12-48C2-8950-89E5A6D6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5592B-DF3A-442E-8CF2-961D0075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7F691-81F8-4BB9-9317-DCCEBA6F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B5E7B-8624-43B5-B719-9147AF3B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A68A9-D361-4751-AFA6-28B6D7EB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26AED-1043-4D40-B7AF-E205A017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187FE-9511-4260-8CE1-59EA190B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AF4EB-B5D7-46D3-8B80-B2D2E3F1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98544-5CB3-4B02-A107-35BAF998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AC6AD-D478-4608-9705-90DE6E84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7EF57-9439-4014-A687-E97E814E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A43-8D05-4E13-AF51-A8B68203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AF9CE-8B81-49AE-9BA3-A53AD480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FCD58-36CE-497E-9F31-D8C545C1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0340B-B23F-405A-8217-88ECA1F0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F7304-EB5B-4D6E-9AE3-1E64E5B1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F3AD6-CCD6-4AC9-999E-307F4CF1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1F0-5161-40C9-9460-DAB96F9A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0BE3-C200-48F2-9D87-6BB37E8FB30C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635A-1C53-4B48-AB9F-2F5B23636E8B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51D5-82A4-4FBA-BFD9-A4F1E85D291B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E0F7-79F9-4A69-A580-F3FEEBC614B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85DF-B6B9-4C6B-B414-660D7AC584F4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ACCE-7D9E-4E62-B835-59ABB73405A7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BFC9-D0D3-481F-9331-608B37A23903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719280" y="1487520"/>
            <a:ext cx="7772400" cy="3078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ينظم العلاقة بين المنظمة مع البيئة الخارجية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onsolas"/>
              </a:rPr>
              <a:t>لا يقتصر  دور نظم المعلومات على مجال أتخاذ القرارات فقط بل يمتد إلى مجالات أخرى تتعلق بداخل و خارج المنظمة مثل: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94920" y="2781360"/>
            <a:ext cx="8209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1</a:t>
            </a: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/ تنسيق العلاقة الداخلية بين النظم الفرعية (الداخلية) المكونة للمنظمة كإدارة التمويل و إدارة الإنتاج و إدارة الأفراد إدارة التسوي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أن العلاقة بين هذه الإرادات يصعب إقامتها و تحديد إطارها دون توافر معلومات أو بيانات عن كل من هذه النظم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5280" y="25653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2</a:t>
            </a: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/ تنظيم العلاقة بين المنظمة ككيان اعتباري في المجتمع و الأطراف المتعاملة معها (البيئة الخارجية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يجب توفر معلومات عن المستثمرين المرتقبين و المستهلكين المتوقعين قبل بيع حصه للمستثمرين او بيع المنتج بسعر معين للمستهلكين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341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التقنية المعلوماتية </a:t>
            </a:r>
            <a:r>
              <a:rPr b="0" lang="ar-SA" sz="4000" spc="-1" strike="noStrike">
                <a:solidFill>
                  <a:srgbClr val="00b0f0"/>
                </a:solidFill>
                <a:latin typeface="Consolas"/>
              </a:rPr>
              <a:t>هي التي تعني توفير  المعلومات من خلال الأساليب الآلية المتطورة</a:t>
            </a: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و قد شوهد تقدما ملموسا في مجال توفير المعلومات من أنحاء العالم كافة عبر المسافات  الطويلة المقرونة بالسرعة المذهلة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Consolas"/>
              </a:rPr>
              <a:t>و ذلك تحقق من خلال الشبكة العنكبوتية التي يطلق عليها الأنترنت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أدوات الانترنت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Oval 2"/>
          <p:cNvSpPr/>
          <p:nvPr/>
        </p:nvSpPr>
        <p:spPr>
          <a:xfrm>
            <a:off x="5796000" y="3346560"/>
            <a:ext cx="302400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محادثة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Oval 3"/>
          <p:cNvSpPr/>
          <p:nvPr/>
        </p:nvSpPr>
        <p:spPr>
          <a:xfrm>
            <a:off x="3203640" y="1778040"/>
            <a:ext cx="3024000" cy="15685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Tahoma"/>
              </a:rPr>
              <a:t>تقنية لوحة الاعلانات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627120" y="3346560"/>
            <a:ext cx="286524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شبكة العنكبوتية الدولية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w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24000" y="24591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1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النظام ويتكون من(المدخل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عملي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 التشغيل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المخرج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2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وسائل توفير المعلومات(شفهية ، مكتوبه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3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طبيعة المعلومات (ماضي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حاضر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مستقبلي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4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معلومات عن البيئة الداخلية والخارجية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5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توفير معلومات بالكفاءة المناسبة من حيث(الوقت،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نوع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حجم المناسب،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مصداقية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24000" y="76500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omic Sans MS"/>
              </a:rPr>
              <a:t>النقاط الأساسية لنظام المعلومات</a:t>
            </a:r>
            <a:r>
              <a:rPr b="0" lang="ar-SA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onsolas"/>
              </a:rPr>
              <a:t>النظام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4720" y="2459160"/>
            <a:ext cx="8182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نظام عبارة عن مجموعة الأجزاء التي تتكامل مع بعضها بغرض تحقيق هدف معين مشترك و النظام بطبيعته يتكون من مدخلات مختلفة تتمازج مع بعضها مؤدية الى مخرجات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وسائل توفير المعلومات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560" y="2459160"/>
            <a:ext cx="8435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و هي تتفاوت ما بين طرق شفهية و هي التي تتم من خلال المناقشات أو المكالمات الهاتفية المباشرة الشخصية و طرق تحريرية مثل المستندات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طبيعة المعلومات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24000" y="1769760"/>
            <a:ext cx="837072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لا بد أن يتم توفير المعلومات بالشكل الذي يغطي الأزمنة الثلاث الرئيسية و هي الماضي و الحاضر و المستقبل و ذلك لأهمية كل زمن من هذه الأزمنة لصانه القرار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معلومات الماضية – المعلومات الحالية-المعلومات المستقبلية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1228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معلومات عن البيئة الداخلية و الخارجية للمنظمة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50560" y="1770120"/>
            <a:ext cx="84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من أساسيات نظام المعلومات توفيره للمعلومات من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بيئة الداخلية للمنظمة مثل الموارد البشرية و الموارد المادية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بيئة الخارجية للمنظمة مثل الحالة الاقتصادية السائدة المتوقعة و معدلات التضخم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توفير المعلومات بكفاءة مناسبة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95280" y="1769760"/>
            <a:ext cx="8299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و يقصد هنا أربعة اعتباريات يجب توفرها مجتمعه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مناسبة الوقت أي السرعة التي يجب أن تتوافر بها المعلومات لصانع القرار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الحجم المناسب الذي يجب أن توفر به المعلومات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المصداقية التي يجب أن توفر بها المعلومات أي يجب أن تكون المعلومات دقيقة بعيده عن الشك و التضليل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nuha alnumair</cp:lastModifiedBy>
  <dcterms:modified xsi:type="dcterms:W3CDTF">2016-12-13T11:01:32Z</dcterms:modified>
  <cp:revision>66</cp:revision>
  <dc:subject/>
  <dc:title>التسويق..</dc:title>
</cp:coreProperties>
</file>