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2DF-1654-49EA-85C3-90A88C42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71D-8F17-4048-9E8A-37FE46B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3A-95B6-49A8-ACE5-F5516D81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B03-E838-46BD-AB39-A490CA06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CDCE-5E29-4EB8-B557-99DC45A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999F-7116-4980-9454-738C03C8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111-AF5C-45E2-8B9C-7803E315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BB9-03B9-4DEE-B049-C5E02BC7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0DF-C31A-4132-A994-20832BDF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8714-FE9F-41CB-8914-CCECDDD0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D797-B292-4AE9-B0F6-2C98083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A71-8385-4A99-8E31-8219AA9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982C-0D6B-4E9C-AD90-E0E8A1C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BBA-CAFA-42AF-B793-B3C2FD5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6F0-E34F-435E-B266-708FD4F9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3B7-1383-41BE-8DA6-88D4A7FE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441A-F9F6-4FD3-A652-427D6C65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7102-8F12-46AD-8D3C-A0AC62B2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6617-B819-4986-8888-43EBC29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C05C-4E92-4F27-9D48-49B0D7E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66B2-51AF-4BC3-BEE7-EFF445C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0F1B-D19F-451A-AA7A-47405A81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98C-859E-4BB7-A432-4174985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563A-F785-46B2-9744-1D15CC2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F753-C260-44FA-812E-33AD771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D712-6E08-4561-BEB9-46FB25A7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90CD-210B-43E0-BFD5-8A96912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5A5D-E03A-4CE8-9F77-8E97CFD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21DD-562B-40BA-BA1A-E5A1C095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9BD3-5DBB-416E-A4BF-604A35CC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4EDF-029C-40D6-97F0-6016ED0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3193-73EA-4BC8-90CE-A72CD93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E176-EFE5-490D-8D31-A3CF0FB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9DD-0CA7-4787-A85B-2CB8C1C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E668-F714-4449-9CDC-3662C977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D9B7-ADBC-471A-BB11-40F11B8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650E-9A95-4884-B5E2-EC77874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D304-88C5-492B-9E4A-E62B386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4DB4-8ECE-4CB0-A27B-265C358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1860-97CD-4381-9B79-E7D2B9E1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6C2C-9B8F-426F-A5D5-6F0839A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D6A8-67F8-4EEC-8466-899CFFB2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A2DB-2E32-45AC-ABB6-DAE71F6D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9EBF-C09C-4BCE-BE45-91D816F2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108-E3DE-4081-9AAF-D7C6573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BF3B-05E1-48F5-9280-75F42B2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6EAF-C9AC-4554-8F95-ED19533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637E7-EB72-43EC-97ED-8588B95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BBA4-239A-464B-91AF-9D51A3C9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AE78-2501-47D4-BD52-2D87E01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0576-5B71-4B88-92F4-22D98E9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E7F3-EEDE-4551-A481-C86CAAA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BB1D-92D1-412C-B3E7-DE55FDA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53DF-DB3D-4C48-A816-D50D2F2A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28BE-9A66-4D57-8DD5-D54C826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B02-DEE8-4C79-80C3-5E957550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0AD7-AE47-4A5E-89A9-7EA077CB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6473-A930-4724-A471-AF66810E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E3AC4-72FA-4532-BD47-947B971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D54E3-F082-4AF3-8314-7619F9B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6BFE8-8C20-4B68-A6B6-F8899D99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A27F-442A-41D2-8462-0F380BB3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7F34-4DA2-4906-8B86-4B30A0F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AB98-35F1-4105-8DA4-99FBF96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6151-7D72-49A0-887D-E69F6EB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A62B-7452-43F8-A329-966DB35E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1A5-1057-4C8B-9C63-D37EEE6B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D75C-631B-4312-9D8E-CEC4EA26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FBBC-362F-4527-A1F9-2C1F2B50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1A12-9AD4-4D00-B51D-ED38777C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9B1B1-2AC7-40FE-AB94-6217603D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3B50-821C-45CC-A124-7FDDA6B9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FE88-97E0-4604-8D39-D5341C95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740E3-84A7-49A5-AB1C-349BBE0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626C-B0C8-4A71-A9A2-71AFD3B5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814C-86D9-47B6-8125-90D1EEC1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3815-AB85-41A0-8B89-8D9019E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F0F-CAB8-4B4F-87A1-24A1617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7541-4EC0-4F8A-9301-3DB579A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168D-8B04-431D-849B-7CE0542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051EE-B13B-47DC-8559-AB329F7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ADD0-2051-4764-B426-4F3D2679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5F7C-15B0-4696-BD37-4D04725F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FC4-ED36-4348-9E84-B5EF507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830-A3F8-4B36-8061-02557C97FF0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E94-16FB-4D28-8C0A-E187F8B4A8E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5A1-B48A-49DD-BEB1-1FA34FBBF19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DF4F-B770-4077-A68C-A072E1429B6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0CE3-8D74-43FB-95D3-2904247C750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C6D4-CD48-4C74-A1DD-8944DD5BD9E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50E-9B23-4925-A336-283C2910146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5-03T13:57:08Z</dcterms:modified>
  <cp:revision>57</cp:revision>
  <dc:subject/>
  <dc:title>التسويق..</dc:title>
</cp:coreProperties>
</file>