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948-CD93-4FEE-91B2-21A16847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4FF-98F8-4926-8DC7-D1D28767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A1A-4705-4976-AABF-FFF191D9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93E2-B4D7-4DA6-82F9-7024A587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CBE2-D8C2-481F-86EE-55C74D5D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56B7-4C0C-4E44-A2F0-F4DDDDFF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3C4A-C6D6-48F5-9EC6-4B9F404E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3A4B-5F6D-4F2D-87FE-C44DFC54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2F6E-EE0E-4718-B6E0-8B4B9A5B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808D-016A-4860-AD4B-5AA0CD28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FDB9-78F7-44EB-9D43-01EBE370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726-8848-4AA4-A9D0-9020A421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C233-C9E2-450D-B4A5-BE126452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533F-1560-4D30-903D-FCDF359A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0C22-9636-4C05-8D3B-1E34C0D4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5A1B-720D-497E-9127-4FA695C3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4671-E200-4B43-A060-A877459F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062D1-D59C-4969-8390-C0FD2A21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641A1-0D03-432F-B317-32514110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50CE7-C8CE-487F-BA08-0199EE84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6914B-B00E-485F-8E6E-BF21F1C0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E99D0-3BEB-42FA-BBCD-58A9CEEB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8A8C-2C21-4651-8EC5-9EAB1C3B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61444-5FCC-4CA7-AADB-3994DA05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D5502-1FCC-4BCD-A70A-ABB1F18B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4A5A4-171A-41B1-A8F7-7CFCFE14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B619D-BACC-4D72-AD94-646E2E09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D6557-2A18-44ED-9F27-E6451F12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143BE-1B7B-473A-8F90-2FE6B5CC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71E3A-D71E-485A-8B87-4113CF5A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82682-B516-4231-81A3-0742B2DE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0247B-CFC3-4A91-BEA4-851E3413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686E4-B7DC-4344-8982-598C78AC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1B5D-E84D-4BA8-AC1C-9F75410D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D89DC-0EAB-47D8-A241-EDCF9B7B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C51C5-5072-47D3-AD94-721615EA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B7B0C-647F-43A7-97FF-D813CB04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7A817-78DC-4916-B7F3-EE0DFD07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FCFDC-CCE4-41EC-B8C8-A576C6A5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95E3B-D775-40FE-99AA-BA9ACF14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4BAC9-8615-4947-9800-AD86236A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AD622-2288-4CDE-B331-D7AB5DB4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27E36-E7C6-466C-AC7B-DF0FDBFE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ACF61-7FD7-4D10-9EC4-B3F1AAAF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AF7-2A5F-4E3B-A602-E90CE21B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425D2-2ACE-45CB-A10C-346660CC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D77B6-69B6-4042-9174-5D1426C4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72E9B-5047-415C-9581-E6B88B7B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66649-1E17-4BCA-BC38-B3B7C62D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C1795-B365-4CA3-B542-6CE1A890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345CE-31DA-4A35-9517-B571F308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BB39D-BBA9-46D2-8D9E-30830E9C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56379-D82F-44CF-A068-7F84EBE6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A5514-9F9D-4EE7-A790-390217B0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1B51C-AB3F-4F8E-853B-DC34D6E4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713E-80FD-4D3F-88FF-B006F82B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71A1E-A469-47AE-AC45-F4370E78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96E80-1157-498B-A7E4-1A26867D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1C771-126D-4AAA-B7D7-A12CE552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48429-A078-425E-967E-6B06072A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C1B16-B0B8-4063-8684-16670CE5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90EA8-54DC-430B-BF1D-B76779BC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DF7BD-4525-45FD-8C6D-99667811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75AE5-347E-48E3-B560-EF883333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A94E4-FB19-4E4E-9A40-38254CF3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DD90C-2932-4B50-960A-F4B83EDF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E6A6-A61E-478F-8303-F3CD8A39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AEF15-CAC4-4781-929F-C515EED3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F2023-8C45-42AB-8F3A-5152F057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AC85D-A761-457D-9719-383B6F73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5D880-DAF7-4450-BAB1-300B3E0A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CFA64-C04C-42EE-A71F-46381403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88A42-438E-4AA8-B901-D3AC1830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63AE0-8F22-4E13-9E1A-5641DF03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5CD42-D28E-43E3-B215-AFD6A252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4A5D9-893B-4014-9612-A0E9F59B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519BE-C851-4DEC-9B96-567358FB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3410-E58A-460D-A232-5A02123E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D4048-4FFC-4B52-BB16-B14E3818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377FA-E62B-4B4C-89F2-02B231CF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A35BA-A973-48CC-85B6-41670D71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C2980-4539-4660-95D1-14F0AC82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B14CA-782C-4165-B4D1-07CFACBB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481-6A6B-4B46-9FE2-10FF4A05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2C60-A1D9-483A-99FB-55D9282CAF2F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ستطيل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مستطيل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مستطيل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مستطيل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مستطيل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مستطيل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مستطيل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مستطيل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2D0B-FB57-4698-8BDE-99DC0A93A83A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شكل حر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شكل حر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شكل حر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شكل حر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شكل حر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شكل حر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شكل حر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شكل حر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شكل حر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شكل حر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شكل حر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شكل حر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شكل حر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شكل حر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شكل حر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مستطيل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مستطيل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مستطيل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مستطيل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مستطيل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مستطيل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EBE2-1C2E-47C3-A640-1CFDB70D060F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10F2-C0DE-4B7D-9791-2F528F2F89DF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مستطيل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مستطيل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مستطيل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مستطيل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مستطيل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مستطيل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مستطيل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مستطيل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مستطيل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مستطيل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C0F8-65D5-423A-848B-01B18E98D26D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EA4C-B16D-4371-8E08-A96F26ED5D7C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مستطيل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رابط مستقيم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5" name="مجموعة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رابط مستقيم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7" name="رابط مستقيم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8" name="رابط مستقيم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19" name="مجموعة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رابط مستقيم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1" name="رابط مستقيم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2" name="رابط مستقيم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23" name="مجموعة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رابط مستقيم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5" name="رابط مستقيم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رابط مستقيم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BC15-0ECB-4B68-9042-7AB29C2D852D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719280" y="1487520"/>
            <a:ext cx="7772400" cy="41022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rbel"/>
                <a:ea typeface="Akhbar MT"/>
              </a:rPr>
              <a:t>.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8"/>
          <p:cNvSpPr/>
          <p:nvPr/>
        </p:nvSpPr>
        <p:spPr>
          <a:xfrm>
            <a:off x="257040" y="291960"/>
            <a:ext cx="8418600" cy="88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شكل بيضاوي 1"/>
          <p:cNvSpPr/>
          <p:nvPr/>
        </p:nvSpPr>
        <p:spPr>
          <a:xfrm>
            <a:off x="684360" y="2001960"/>
            <a:ext cx="7704000" cy="17874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بيانات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متطلبات او المعطيات المجردة التي لها صفة الوصف او صفة القياس(الارقام ، الزمن ، الطول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شكل بيضاوي 2"/>
          <p:cNvSpPr/>
          <p:nvPr/>
        </p:nvSpPr>
        <p:spPr>
          <a:xfrm>
            <a:off x="900000" y="4076640"/>
            <a:ext cx="7488360" cy="19447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معلومات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بيانات التي اصبح لها معنى مفهوم واضح بعد معالجتها او تشغيلها مما يكسبها صفة صلاحية امكانية استخدامها لخدمة صانع القرا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357120" y="0"/>
            <a:ext cx="850104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شكل بيضاوي 2"/>
          <p:cNvSpPr/>
          <p:nvPr/>
        </p:nvSpPr>
        <p:spPr>
          <a:xfrm>
            <a:off x="1042920" y="1916280"/>
            <a:ext cx="7345440" cy="31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ذلك النظام الذي يكفل توفير المعلومات التاريخية والحالية والمستقبلية المطلوبة لصانعي القرار بمصداقية من خلال قنوات الاتصال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النقاط الأساسية لنظام المعلومات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النظام ويتكون من(المدخلات،عمليات التشغيل،المخرجات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وسائل توفير المعلومات(شفهية ، مكتوبه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طبيعة المعلومات (ماضية،حاضرة،مستقبلية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4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معلومات عن البيئة الداخلية والخارجية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5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توفير معلومات بالكفاءة المناسبة من حيث(الوقت،النوع،الحجم المناسب،المصداقية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الحاسوب ونظام المعلومات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نقل معلومات الأعمال الى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 فئة اصحاب المشروعات التجارية القائمة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فئة المستثمرين المرتقبين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فئة المديرين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4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المستهلكين المتوقعين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أدوات الانترنت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Oval 2"/>
          <p:cNvSpPr/>
          <p:nvPr/>
        </p:nvSpPr>
        <p:spPr>
          <a:xfrm>
            <a:off x="5796000" y="3346560"/>
            <a:ext cx="3024000" cy="13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تقنية المحادثة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Oval 3"/>
          <p:cNvSpPr/>
          <p:nvPr/>
        </p:nvSpPr>
        <p:spPr>
          <a:xfrm>
            <a:off x="3203640" y="1778040"/>
            <a:ext cx="3024000" cy="15685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rbel"/>
                <a:cs typeface="Tahoma"/>
              </a:rPr>
              <a:t>تقنية لوحة الاعلانات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Oval 4"/>
          <p:cNvSpPr/>
          <p:nvPr/>
        </p:nvSpPr>
        <p:spPr>
          <a:xfrm>
            <a:off x="627120" y="3346560"/>
            <a:ext cx="2865240" cy="13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orbel"/>
                <a:cs typeface="Tahoma"/>
              </a:rPr>
              <a:t>تقنية الشبكة العنكبوتية الدولية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www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"/>
          <p:cNvSpPr/>
          <p:nvPr/>
        </p:nvSpPr>
        <p:spPr>
          <a:xfrm>
            <a:off x="357120" y="642960"/>
            <a:ext cx="8286840" cy="90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أهمية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مهم لعملية اتخاذ القرارات وسلامة القرارات والأوام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عمل على تنسيق العلاقة الداخلية بين الادارات الداخلية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نظم العلاقة بين المنظمة مع البيئة الخارجية 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ذلك التقنية تلعب دورا كبيرا وايجابيا للبيانات والمعلومات الادارية فهي تكفل السرعة والدقة اللازمة وهي جزأ لا يتجزأ من نظام المعلومات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Sultan H. Binsaeed</cp:lastModifiedBy>
  <dcterms:modified xsi:type="dcterms:W3CDTF">2016-05-03T13:57:08Z</dcterms:modified>
  <cp:revision>57</cp:revision>
  <dc:subject/>
  <dc:title>التسويق..</dc:title>
</cp:coreProperties>
</file>