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4216B-A0F6-43EB-B5AF-054587865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EED70-3CE6-4A39-86EA-8B54248E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D6B80-B08C-4A55-AD5E-972F23457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DD20B-573B-4559-8997-04A357D7C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06266-BC5E-4707-83BD-9F804A6DA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22773-4976-4732-9852-9FB11BD1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63119-231D-4801-977A-167B3642E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58830-4060-4126-AE0C-9196913B4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F0AA4-B4EB-4C3C-89EA-6FFFE0207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278A2-30E3-4C3F-8B68-BDB3579B7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FFDB1-576C-466E-9291-B8F1A3930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A3E0-9AFC-428B-A7BC-7D6FE37D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C1D54-7D1D-4FB8-ADCF-D1E71BF6F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4B5C-7615-49A5-BAF4-F0C4ACEA5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2CCA0-0C1A-4DDF-B584-BCB6F5132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5098E-9204-483D-9AB1-5696550CA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CE8F1-1ACD-44FD-9519-3E8A10B5C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99BDC-6970-4233-9C39-DF52CB8EA8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D9191-E45D-4EF0-9B33-DED410189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EAB64-F4B8-4586-B6DF-6598B78DE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C8B33-A49C-4915-A2F6-E7CAB2BDF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5DF48-BFA3-400F-BCE8-1C4471613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861D-9EBB-4C95-91E3-58D2B77F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8A5D2-DBA8-47E6-A002-08F39894B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A6835-1D78-4344-8B01-356EF2370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C13B3-6A6A-414A-8DB6-7AECC6A20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49612-3D08-4C48-B14D-0C2B651D9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5984C-0470-4CA9-B7AA-F89EE38C3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AE8BC-7FB8-4615-8EFB-E1A3FB870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419F5-A08B-4E14-B4F8-7EC92B633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1EF86-3C68-4727-B564-B3BF2F0C97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F48AD-D94A-4A5E-8551-E0FD9518B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07ED4-6910-448D-9F1F-B55D015C9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920A-DDAC-491E-A73D-4BDF0025F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44016-91A0-43E3-8412-4C5303A13A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AD978-EDCE-42C9-B834-22003D0BC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D1CBD-37E7-41D9-9CE5-163DE3F11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07D43-AA98-45B2-ACFD-E776AD09D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A6937-CC6E-4C2C-B182-797492985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4238A-53F9-4E32-96FF-7CED7431A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39476-8CA0-4BA3-BABE-5C13580B2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38720-6E44-4891-AC7F-4488102A7E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96463-4FD6-4A2C-B4CB-CA844AD56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4246-F399-4D14-A374-56F960954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A902D-7942-4ACC-A719-C689F7A5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DBD2-B2D4-4F77-90F2-0A70BE18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4426-FB1C-446F-9FEC-17C4200B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1A44-50B5-4BCB-A7B5-3CBE53400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6A97-E9FF-4925-A785-4F469FEEDE59}"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AC7C-91FA-4786-A9E2-3C6D5D09189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1759-B73F-4385-B6E2-FCF28B39C88B}"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5A41-74C1-4910-9B26-FEEC35B72E5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195560"/>
            <a:ext cx="7858080" cy="3528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640" y="620640"/>
            <a:ext cx="8229600" cy="3960720"/>
          </a:xfrm>
          <a:prstGeom prst="rect">
            <a:avLst/>
          </a:prstGeom>
          <a:noFill/>
          <a:ln w="0">
            <a:noFill/>
          </a:ln>
        </p:spPr>
        <p:txBody>
          <a:bodyPr anchor="t">
            <a:normAutofit fontScale="70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0000"/>
                </a:solidFill>
                <a:latin typeface="Times New Roman"/>
              </a:rPr>
              <a:t>لماذا ندرس هذا المقرر؟</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هدف المقرر تزويد الطلاب بمعلومات شاملة عن: </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إدارة وتنظيم برامج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عرف على التخطيط والتنظيم الإداري.</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 التعرف على مهارات إعداد وتنظيم وادارة برامج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تزويد الطلاب بمفاهيم وتطبيقات الإدارة في ميدان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تزويد الطلاب بمهارات القيادة اللازم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تخاذ القرارات للإداري الناجح لبرامج التربية الخاصة</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   ويشمل أيضا التعرف على آلية الإعداد والتقييم لبرامج التربية الخاصة وتنسيق الخدمات المرتبطة بها، وتطوير الموظفين العاملين بتلك الإدارات، والاستفادة القصوى من مصادر الدعم المالية والبشرية، ويتعرض هذا المقرر للقوانين والأنظمة واللوائح والضوابط المرتبطة بتقديم خدمات التربية الخاصة في المملكة العربية السعودية.</a:t>
            </a:r>
            <a:endParaRPr b="0" lang="en-US" sz="26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468360" y="1197000"/>
            <a:ext cx="7848720" cy="4665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Majalla UI"/>
              </a:rPr>
              <a:t>موضوع</a:t>
            </a:r>
            <a:r>
              <a:rPr b="1" lang="ar-EG" sz="2400" spc="-1" strike="noStrike">
                <a:solidFill>
                  <a:srgbClr val="ff0000"/>
                </a:solidFill>
                <a:latin typeface="Arial"/>
                <a:ea typeface="Majalla UI"/>
              </a:rPr>
              <a:t> المقرر</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مدخل إلى الإدارة التربوية (التخطيط، التنظيم، التوجيه، الرقابة، اتخاذ القرار)</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المهارات الحديثة في الإدارة التربوية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ea typeface="Simplified Arabic"/>
              </a:rPr>
              <a:t>(إدارة الوقت، إدارة الاجتماعات، إدارة الصراع والأزمات، إدارة ضغوط العمل والرضا الوظيفي، التحفيز، الإبداع الإداري). عملية اتخاذ القرارات في العمل الإداري</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مدير المدرسة (القائد التربوي).</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المشرف التربوي (المهام – السمات – الكفايات).</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قوانين وأنظمة التربية الخاصة، القواعد التنظيمية لمعاهد وبرامج التربية الخاصة بالمملكة العربية السعودية.</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تنسيق الخدمات في برامج التربية الخاصة مع جميع الأطراف والمستفيدين.</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تقويم برامج التربية الخاصة، الجودة الشاملة والاعتماد في التربية الخاصة.</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052640"/>
            <a:ext cx="8229600" cy="5271840"/>
          </a:xfrm>
          <a:prstGeom prst="rect">
            <a:avLst/>
          </a:prstGeom>
          <a:noFill/>
          <a:ln w="0">
            <a:noFill/>
          </a:ln>
        </p:spPr>
        <p:txBody>
          <a:bodyPr anchor="t">
            <a:norm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Times New Roman"/>
              </a:rPr>
              <a:t>المرجع الرئيس والمراجع المساعدة:</a:t>
            </a:r>
            <a:endParaRPr b="0" lang="en-US" sz="26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اتب سلامة السعود(</a:t>
            </a:r>
            <a:r>
              <a:rPr b="0" lang="ar-SA" sz="1800" spc="-1" strike="noStrike">
                <a:solidFill>
                  <a:srgbClr val="000000"/>
                </a:solidFill>
                <a:latin typeface="Times New Roman"/>
              </a:rPr>
              <a:t>2009</a:t>
            </a:r>
            <a:r>
              <a:rPr b="0" lang="ar-SA" sz="1800" spc="-1" strike="noStrike">
                <a:solidFill>
                  <a:srgbClr val="000000"/>
                </a:solidFill>
                <a:latin typeface="Times New Roman"/>
              </a:rPr>
              <a:t>). الإدارة التربوية مفاهيم وأفاق، عمان، طارق للخدمات المكتبية .</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أمانة العامة للتربية الخاصة (</a:t>
            </a:r>
            <a:r>
              <a:rPr b="0" lang="ar-SA" sz="1800" spc="-1" strike="noStrike">
                <a:solidFill>
                  <a:srgbClr val="000000"/>
                </a:solidFill>
                <a:latin typeface="Times New Roman"/>
              </a:rPr>
              <a:t>2002</a:t>
            </a:r>
            <a:r>
              <a:rPr b="0" lang="ar-SA" sz="1800" spc="-1" strike="noStrike">
                <a:solidFill>
                  <a:srgbClr val="000000"/>
                </a:solidFill>
                <a:latin typeface="Times New Roman"/>
              </a:rPr>
              <a:t>). القواعد التنظيمية لمعاهد وبرامج التربية الخاصة بوزارة المعارف. وزارة التربية والتعليم: الأمانة العامة للتربية الخاصة.</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عتصم عبدالفتاح الشيخ(</a:t>
            </a:r>
            <a:r>
              <a:rPr b="0" lang="ar-SA" sz="1800" spc="-1" strike="noStrike">
                <a:solidFill>
                  <a:srgbClr val="000000"/>
                </a:solidFill>
                <a:latin typeface="Times New Roman"/>
              </a:rPr>
              <a:t>2010</a:t>
            </a:r>
            <a:r>
              <a:rPr b="0" lang="ar-SA" sz="1800" spc="-1" strike="noStrike">
                <a:solidFill>
                  <a:srgbClr val="000000"/>
                </a:solidFill>
                <a:latin typeface="Times New Roman"/>
              </a:rPr>
              <a:t>). الإدارة التربوية الحديثة وأثرها في التعليم، عمان, دار البداية.</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مل لطفي أبو طاحون(</a:t>
            </a:r>
            <a:r>
              <a:rPr b="0" lang="ar-SA" sz="1800" spc="-1" strike="noStrike">
                <a:solidFill>
                  <a:srgbClr val="000000"/>
                </a:solidFill>
                <a:latin typeface="Times New Roman"/>
              </a:rPr>
              <a:t>2006</a:t>
            </a:r>
            <a:r>
              <a:rPr b="0" lang="ar-SA" sz="1800" spc="-1" strike="noStrike">
                <a:solidFill>
                  <a:srgbClr val="000000"/>
                </a:solidFill>
                <a:latin typeface="Times New Roman"/>
              </a:rPr>
              <a:t>). القيادة التربوية الفاعلة، عمان, أمواج للنشر.</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ليمان عبدالله بن سرحان (</a:t>
            </a:r>
            <a:r>
              <a:rPr b="0" lang="ar-SA" sz="1800" spc="-1" strike="noStrike">
                <a:solidFill>
                  <a:srgbClr val="000000"/>
                </a:solidFill>
                <a:latin typeface="Times New Roman"/>
              </a:rPr>
              <a:t>2014</a:t>
            </a:r>
            <a:r>
              <a:rPr b="0" lang="ar-SA" sz="1800" spc="-1" strike="noStrike">
                <a:solidFill>
                  <a:srgbClr val="000000"/>
                </a:solidFill>
                <a:latin typeface="Times New Roman"/>
              </a:rPr>
              <a:t>). قضايا معاصرة في الإدارة المدرسية، عمان, دار وائل.</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يهاب الببلاوي (</a:t>
            </a:r>
            <a:r>
              <a:rPr b="0" lang="ar-SA" sz="1800" spc="-1" strike="noStrike">
                <a:solidFill>
                  <a:srgbClr val="000000"/>
                </a:solidFill>
                <a:latin typeface="Times New Roman"/>
              </a:rPr>
              <a:t>2012</a:t>
            </a:r>
            <a:r>
              <a:rPr b="0" lang="ar-SA" sz="1800" spc="-1" strike="noStrike">
                <a:solidFill>
                  <a:srgbClr val="000000"/>
                </a:solidFill>
                <a:latin typeface="Times New Roman"/>
              </a:rPr>
              <a:t>) الإدارة والاشراف في التربية الخاصة، الرياض دار الزهراء.</a:t>
            </a:r>
            <a:endParaRPr b="0" lang="en-US" sz="1800" spc="-1" strike="noStrike">
              <a:solidFill>
                <a:srgbClr val="000000"/>
              </a:solidFill>
              <a:latin typeface="Times New Roman"/>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بد الجبار، عبدالعزيز، وآخرون (</a:t>
            </a:r>
            <a:r>
              <a:rPr b="0" lang="ar-SA" sz="1800" spc="-1" strike="noStrike">
                <a:solidFill>
                  <a:srgbClr val="000000"/>
                </a:solidFill>
                <a:latin typeface="Times New Roman"/>
              </a:rPr>
              <a:t>2005</a:t>
            </a:r>
            <a:r>
              <a:rPr b="0" lang="ar-SA" sz="1800" spc="-1" strike="noStrike">
                <a:solidFill>
                  <a:srgbClr val="000000"/>
                </a:solidFill>
                <a:latin typeface="Times New Roman"/>
              </a:rPr>
              <a:t>). دليل المشرف التربوي في مجال التربية الخاصة. وزارة التربية والتعليم: الأمانة العامة للتربية الخاصة</a:t>
            </a:r>
            <a:r>
              <a:rPr b="0" lang="ar-SA" sz="2600" spc="-1" strike="noStrike">
                <a:solidFill>
                  <a:srgbClr val="000000"/>
                </a:solidFill>
                <a:latin typeface="Times New Roman"/>
              </a:rPr>
              <a:t>.</a:t>
            </a:r>
            <a:endParaRPr b="0" lang="en-US" sz="26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حمد التميمي (</a:t>
            </a:r>
            <a:r>
              <a:rPr b="0" lang="ar-SA" sz="1800" spc="-1" strike="noStrike">
                <a:solidFill>
                  <a:srgbClr val="000000"/>
                </a:solidFill>
                <a:latin typeface="Times New Roman"/>
              </a:rPr>
              <a:t>2015</a:t>
            </a:r>
            <a:r>
              <a:rPr b="0" lang="ar-SA" sz="1800" spc="-1" strike="noStrike">
                <a:solidFill>
                  <a:srgbClr val="000000"/>
                </a:solidFill>
                <a:latin typeface="Times New Roman"/>
              </a:rPr>
              <a:t>) قيادة التربية الخاصة (مترجم)، الرياض، جامعة الملك سعود</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20:50:13Z</dcterms:created>
  <dc:creator>skills</dc:creator>
  <dc:description/>
  <dc:language>en-US</dc:language>
  <cp:lastModifiedBy>Windows User</cp:lastModifiedBy>
  <dcterms:modified xsi:type="dcterms:W3CDTF">2016-09-28T08:32:06Z</dcterms:modified>
  <cp:revision>67</cp:revision>
  <dc:subject/>
  <dc:title>الشريحة 1</dc:title>
</cp:coreProperties>
</file>