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9.jpeg" ContentType="image/jpeg"/>
  <Override PartName="/ppt/media/image31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46.jpeg" ContentType="image/jpeg"/>
  <Override PartName="/ppt/media/image47.jpeg" ContentType="image/jpeg"/>
  <Override PartName="/ppt/media/image30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7B77-8421-4A67-8BCC-2A3C7AEF5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A209-3CDA-4D40-A620-16189BD62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EC34-69C1-4270-91A1-9627776C2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2090-C7E9-451D-B16F-6D0A4C684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046D-9813-451D-99A9-3437AF93E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C55D-60EB-47D8-AB12-39C5132DA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E4CB-D370-4829-856D-F02205688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99B0-2A4B-4E65-9B72-3A585425F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D85B-5F32-4F62-AB32-C18FC005F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5419-1A9A-4AF1-9ACB-B11D57D75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CB6E-15BE-4002-9461-FCA2F0525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CFC1-778D-42A0-BD07-7E66DCA9E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16A6-9B61-4567-B169-F3EF86389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74E5-95EC-4DF1-8C88-2B0CC036A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AFA3-207B-4029-819D-723205FB6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8E51-9CC4-419D-AA26-4F95047A5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C817-1549-448B-8C27-B4C725067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671A-B27A-4669-BB92-E9F722A8C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7D4D-DA84-48D3-B4E9-24078E226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6225-190D-4997-90BF-2E4EEAE55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F070-3BB1-442B-9C78-453E3EF64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952C-A609-4E5A-AE97-885E29EA9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5866-276A-4881-BE9A-ACFDA9508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ECC2-7A4E-41CF-89D4-CC28E598A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F674-2DE3-4AC7-BA06-BA16FE351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574D-09EE-4E60-983B-5D7F8423E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23A7-471C-4AB8-8778-B3DDCADC2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F364-AE31-4EAD-A330-6D09393DB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8632-1169-4851-B166-1E4080306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F493-6F74-40A4-9A5E-F3ADF5865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3014-FEAC-498A-89B4-11454632E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0C1A-4077-4E4A-9C47-4A779FF4D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EB12-2887-4E45-BD0F-E8ACBE76B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A3AF-D49D-4440-B47C-E1BD5422C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DEB5-065E-46E9-A67D-373C148AC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7050-B104-41AD-A574-A4A3FAF2C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6913-7C83-4116-A9DF-A6D98D7E3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FFEC-048B-452C-AF88-F5F33D758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0209-21F4-4CE4-B840-276ADB149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3FD2-365F-4A1D-834C-2DE67C9B8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7EAE-A01C-43B4-B7FA-E451B2EA0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5B77-4FAE-42FE-A23A-66C5192F2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0870-D09C-4FD6-8B0D-EEC11607F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9D06-E643-4DA9-B2BA-3A22D6A00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B9F5-7CF5-4113-8FC8-7983D20D5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0315-E0F5-4F45-80F4-FBECF3C6C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C33B-AC8A-4BAC-8AC5-EC58A7F98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C335-01F2-4239-B8DF-001F1AC14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20D5-228C-48FF-9828-6A927DCF2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173E-2EE0-4BB7-B9E1-1353F6DF4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21FB-B238-4D46-939B-710838BB9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B36A-919B-4C1F-B42A-5FCCBD952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8D2A-00F1-46B9-9AF8-FC4682433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B8D5-FD6C-4F97-9AEB-3B3BA3D3E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2E17-B56C-4CD1-8074-202FD4920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50E7-49FA-4536-92D3-B209B2470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E5CF-CC4A-47F4-99B1-2D4E505D0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FBF-94E2-4C8C-BA28-6B94A383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42B-BD02-4FEF-A2C3-4BB1D8AB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0BF-32E4-4565-805F-4A09296D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72C-F1CC-45D3-B7D7-D1B3E56B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CFD0-B424-45A7-B6E5-B29677E3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3E67-BEEE-488F-86DB-5D1A0E6C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991D-74C2-4CB6-A07E-797F048C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3242-9E81-472E-BE04-F3491136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FEDB-D6AA-47CA-A243-809855EF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CDDB-FBF1-4C5A-AFC2-914B99A3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6890-5D57-4857-96C4-13CAB64F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AB5-7725-4CAC-8120-520CC52A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B153-916B-4F34-A8E0-19EA45A0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6334-865C-473C-A085-FD073007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8341-C141-49F3-B8EC-B7FB45F3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EDC2-03F1-45B0-835A-73698ECC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96B8-3964-4381-9D54-DCF16C57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9140C-4880-42F1-926E-633D25C0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328ED-BBD7-4109-92A2-8625963D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BA953-A53B-49FF-A8E2-6BDD66F6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795CA-2300-40D9-8924-14AEA6B6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E359F-D62B-4150-8ABC-81C1E86A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92F8-47D0-4297-B7BC-82DF42DA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88AAC-2367-48E3-A4A9-27B8053D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A914C-31F8-4818-8C1B-C85E73E0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435FE-E38A-468E-BF82-4ACC744C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6DBF7-4D2B-41D7-9DDE-1B89D01A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3CBF7-D78C-47A6-910E-F930D924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805EF-6C64-4AD6-ACF7-1C0B5101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7537F-0BE4-4FFE-99AF-AC44D1EE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266C5-BABD-4E3C-9908-DA4E5FEB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06F6E-608D-4BF2-8D39-B22DED09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B39DB-E6C4-4514-A148-B313C699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C9C-85A3-4EBD-AF4F-3241AA68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584F5-997F-450A-AF06-111C11C4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05CD1-B2BD-4117-A28A-1341FDBD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04440-B754-4910-9F8A-03736454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1C621-B815-40E9-A3C2-4345EF2E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026DA-EC3E-442C-A6E2-09B1C6AC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D2AE8-57E5-452D-8E26-F8BC2161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90EA8-294F-451A-9444-013E85B7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3C68E-57F4-4255-A3A8-2F3A7AEA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43560-7C58-4883-A8B6-295251FC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80A9F-6AE9-41DC-AFC5-088A83F9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C49-7609-434A-A56B-5A3450BA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02352-D3EB-4908-B04B-C95F4FD2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BF9FE-594B-458C-B686-A405C923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F557A-1C0D-4F32-848C-1A757AF9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D4BED-18E4-4D7A-ACDA-9902CDA9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C7074-C3FE-46A6-AB78-72F848AE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67789-97F8-4A8C-A815-10839C9D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94DDF-AA83-4B01-ABAC-6B967895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1A27A-D6BC-40E5-9E48-551D2056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12170-F162-4EBC-98D4-2830E890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8A7B3-5E1E-40A9-AFE5-925C10E5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786-B0F2-4EC1-A32A-64144984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C53E1-4508-456E-971D-B34E3D1D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AD718-6EE1-4FB8-8CFA-B39E7701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0BD09-6E14-4160-A386-118263E6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DE089-CE4C-45AC-B3F7-12CFACA4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232D3-98A2-4D71-8E35-95082E07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E0862-217E-4AB8-A042-43E1C99B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B5751-DA2B-46E2-BF7D-CB5CA908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4525A-1FEE-48C9-B403-42297619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8DEA7-BFB3-4B41-AC04-FECF2BAC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8088D-8840-420E-8828-CAC4755E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485-D17F-483E-8F02-07CB289A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90049-803E-461B-BB5C-A8A4B6FE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93B03-DAE6-445B-ABAF-D210B829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9DCA9-5D96-4687-A858-01B22EF0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5FA80-EBA1-450D-9F59-7455803F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77D32-D692-4F2C-8700-9AB497CE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E0C54-46C3-40AA-AD16-70C6C0F0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7D877-2CD7-4348-9312-C12D2D86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6CDF4-9EBE-412F-BA83-CF1A9B61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300D2-76FC-4DD6-A73A-441E15C2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44666-F770-4F89-B630-44FDDB37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B5E-0C21-4DCE-BADA-135C1420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1053B-6CF9-4DC0-80AB-0545F665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91FF0-4788-4A82-8015-B798A417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B119F-FB64-4FC9-9D2A-3092FEA4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E59BE-366D-4D3A-9918-17883B09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B66D2-9ECB-43FC-8ACE-F59AF2F1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F6DCF-8CA0-4587-B1B3-65206FF7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AACC7-8B2F-4DF7-8643-66DE5AF1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F8633-9379-429A-8E6D-EC362FB2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6A5DA-8E63-4833-B95B-BC16703A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396FC-5FBC-4D09-BC96-07DB4B7C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B46-D5F3-4443-89BE-FE5FBA86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A97BC-C77F-4F65-992A-54B1E775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8CF6B-E337-4EB1-B504-19012579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F4D2A-1AE8-4F2D-9E26-7EC61D3C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EC217-8EDC-4EB1-8BEA-7330042C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A471F-33B8-4D36-BAF9-37B9590C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921AB-7DD7-4CE0-B487-4ED73D15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828B9-9BDD-4DC4-9847-444979A6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C82C-D8C1-4BEB-8D4F-6DCDAB585AE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7B3F-FFE7-4421-A5E1-C71C0440A4E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0026-D1E2-4A59-9982-3ACA775D123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288C-EEA9-4266-AAEB-DCAF8E02324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491B-0E9A-4FF5-8974-EC0B02A4DDC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45C2-7E25-4271-9058-664F34555BB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7C3B-CD60-493A-B007-FBED93FE486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A809-2436-446C-8298-A83BCFD9783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http://4.bp.blogspot.com/-qXRHCShuC9s/T2MWJLgCUmI/AAAAAAAAA30/fHyneuJDo_Q/s1600/macromedia%2Bdreamweaver.png"/>
          <p:cNvPicPr/>
          <p:nvPr/>
        </p:nvPicPr>
        <p:blipFill>
          <a:blip r:embed="rId1"/>
          <a:stretch/>
        </p:blipFill>
        <p:spPr>
          <a:xfrm>
            <a:off x="684360" y="700200"/>
            <a:ext cx="7848360" cy="5918040"/>
          </a:xfrm>
          <a:prstGeom prst="rect">
            <a:avLst/>
          </a:prstGeom>
          <a:ln w="0">
            <a:noFill/>
          </a:ln>
        </p:spPr>
      </p:pic>
      <p:sp>
        <p:nvSpPr>
          <p:cNvPr id="360" name="مربع نص 5"/>
          <p:cNvSpPr/>
          <p:nvPr/>
        </p:nvSpPr>
        <p:spPr>
          <a:xfrm>
            <a:off x="1908000" y="1700280"/>
            <a:ext cx="511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 20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b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D1B0-A0DD-4597-9FFF-8B67A3960C7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00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Window&gt;Insert, Properties, Files Have a Check Mark When Activ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2" name="Group 7"/>
          <p:cNvGrpSpPr/>
          <p:nvPr/>
        </p:nvGrpSpPr>
        <p:grpSpPr>
          <a:xfrm>
            <a:off x="1116000" y="1341360"/>
            <a:ext cx="7056360" cy="4896000"/>
            <a:chOff x="1116000" y="1341360"/>
            <a:chExt cx="7056360" cy="4896000"/>
          </a:xfrm>
        </p:grpSpPr>
        <p:pic>
          <p:nvPicPr>
            <p:cNvPr id="393" name="Picture 5" descr="dream5"/>
            <p:cNvPicPr/>
            <p:nvPr/>
          </p:nvPicPr>
          <p:blipFill>
            <a:blip r:embed="rId1"/>
            <a:stretch/>
          </p:blipFill>
          <p:spPr>
            <a:xfrm>
              <a:off x="1116000" y="1414080"/>
              <a:ext cx="7056360" cy="4823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94" name="Rectangle 7"/>
            <p:cNvSpPr/>
            <p:nvPr/>
          </p:nvSpPr>
          <p:spPr>
            <a:xfrm>
              <a:off x="6163560" y="1341360"/>
              <a:ext cx="2004120" cy="262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81AE-E381-4815-8837-57F4B0D70EA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ting Up a New Websi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7" name="Picture 4" descr="dream4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64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Text Box 5"/>
          <p:cNvSpPr/>
          <p:nvPr/>
        </p:nvSpPr>
        <p:spPr>
          <a:xfrm>
            <a:off x="1905120" y="327672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&gt;Files Checked You Will See The Files Palette on the 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6781680" y="2286000"/>
            <a:ext cx="2057400" cy="4191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5562720" y="266688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"/>
          <p:cNvSpPr/>
          <p:nvPr/>
        </p:nvSpPr>
        <p:spPr>
          <a:xfrm>
            <a:off x="5334120" y="1447920"/>
            <a:ext cx="76176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FBE0-A0F4-4BFA-A578-F82A4CEB2BB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560" y="53640"/>
            <a:ext cx="7988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From the Pop Up Files Palette Window: Select Manage Sit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4" name="Picture 4" descr="dream5"/>
          <p:cNvPicPr/>
          <p:nvPr/>
        </p:nvPicPr>
        <p:blipFill>
          <a:blip r:embed="rId1"/>
          <a:stretch/>
        </p:blipFill>
        <p:spPr>
          <a:xfrm>
            <a:off x="325440" y="2011320"/>
            <a:ext cx="8742240" cy="400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5" name="Oval 5"/>
          <p:cNvSpPr/>
          <p:nvPr/>
        </p:nvSpPr>
        <p:spPr>
          <a:xfrm>
            <a:off x="6705720" y="3352680"/>
            <a:ext cx="205740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6633-E24A-4019-B0FD-7D37789917E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lect The New Button&gt;Si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8" name="Picture 4" descr="dream6"/>
          <p:cNvPicPr/>
          <p:nvPr/>
        </p:nvPicPr>
        <p:blipFill>
          <a:blip r:embed="rId1"/>
          <a:stretch/>
        </p:blipFill>
        <p:spPr>
          <a:xfrm>
            <a:off x="228600" y="1560600"/>
            <a:ext cx="8610480" cy="45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9" name="Oval 5"/>
          <p:cNvSpPr/>
          <p:nvPr/>
        </p:nvSpPr>
        <p:spPr>
          <a:xfrm>
            <a:off x="4800600" y="3809880"/>
            <a:ext cx="205740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99B2-5028-42DB-B104-EA5457F7AD8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 the New Site Defini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12" name="Picture 4" descr="dream7"/>
          <p:cNvPicPr/>
          <p:nvPr/>
        </p:nvPicPr>
        <p:blipFill>
          <a:blip r:embed="rId1"/>
          <a:stretch/>
        </p:blipFill>
        <p:spPr>
          <a:xfrm>
            <a:off x="0" y="1295280"/>
            <a:ext cx="5334120" cy="515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3" name="Rectangle 8"/>
          <p:cNvSpPr/>
          <p:nvPr/>
        </p:nvSpPr>
        <p:spPr>
          <a:xfrm>
            <a:off x="1905120" y="1981080"/>
            <a:ext cx="183816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1600200" y="2209680"/>
            <a:ext cx="294156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1447920" y="2522520"/>
            <a:ext cx="316224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1752480" y="3124080"/>
            <a:ext cx="279576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2"/>
          <p:cNvSpPr/>
          <p:nvPr/>
        </p:nvSpPr>
        <p:spPr>
          <a:xfrm>
            <a:off x="2535120" y="1371600"/>
            <a:ext cx="588960" cy="36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5410080" y="1066680"/>
            <a:ext cx="33530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ame Your Web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lick on the Folder Icon &amp; Locate the website1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lick on the Folder Icon &amp; Locate the images folder inside of the website1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3"/>
          <p:cNvSpPr/>
          <p:nvPr/>
        </p:nvSpPr>
        <p:spPr>
          <a:xfrm>
            <a:off x="4343400" y="6095880"/>
            <a:ext cx="7412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1602000" y="1905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1290960" y="214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11448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7"/>
          <p:cNvSpPr/>
          <p:nvPr/>
        </p:nvSpPr>
        <p:spPr>
          <a:xfrm>
            <a:off x="1443240" y="306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76320" y="1752480"/>
            <a:ext cx="91440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9684-F646-4A7D-A805-60471406AFC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44280"/>
            <a:ext cx="8534520" cy="9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The File Structure You Create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27" name="Group 6"/>
          <p:cNvGrpSpPr/>
          <p:nvPr/>
        </p:nvGrpSpPr>
        <p:grpSpPr>
          <a:xfrm>
            <a:off x="1143000" y="1295280"/>
            <a:ext cx="6781680" cy="4654800"/>
            <a:chOff x="1143000" y="1295280"/>
            <a:chExt cx="6781680" cy="4654800"/>
          </a:xfrm>
        </p:grpSpPr>
        <p:pic>
          <p:nvPicPr>
            <p:cNvPr id="428" name="Picture 4" descr="dream8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6781680" cy="465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29" name="AutoShape 6"/>
            <p:cNvSpPr/>
            <p:nvPr/>
          </p:nvSpPr>
          <p:spPr>
            <a:xfrm>
              <a:off x="4419360" y="2811240"/>
              <a:ext cx="1828800" cy="206640"/>
            </a:xfrm>
            <a:prstGeom prst="rightArrow">
              <a:avLst>
                <a:gd name="adj1" fmla="val 50000"/>
                <a:gd name="adj2" fmla="val 2212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7"/>
            <p:cNvSpPr/>
            <p:nvPr/>
          </p:nvSpPr>
          <p:spPr>
            <a:xfrm>
              <a:off x="4114800" y="2604600"/>
              <a:ext cx="1828800" cy="206640"/>
            </a:xfrm>
            <a:prstGeom prst="rightArrow">
              <a:avLst>
                <a:gd name="adj1" fmla="val 50000"/>
                <a:gd name="adj2" fmla="val 2212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A149-FA2B-4333-AEEE-37494F8CC2A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791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Begin Creating the index.html main webpag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33" name="Group 5"/>
          <p:cNvGrpSpPr/>
          <p:nvPr/>
        </p:nvGrpSpPr>
        <p:grpSpPr>
          <a:xfrm>
            <a:off x="1066680" y="1268280"/>
            <a:ext cx="7021800" cy="4869000"/>
            <a:chOff x="1066680" y="1268280"/>
            <a:chExt cx="7021800" cy="4869000"/>
          </a:xfrm>
        </p:grpSpPr>
        <p:pic>
          <p:nvPicPr>
            <p:cNvPr id="434" name="Picture 5" descr="dream3"/>
            <p:cNvPicPr/>
            <p:nvPr/>
          </p:nvPicPr>
          <p:blipFill>
            <a:blip r:embed="rId1"/>
            <a:stretch/>
          </p:blipFill>
          <p:spPr>
            <a:xfrm>
              <a:off x="1066680" y="1420560"/>
              <a:ext cx="7021800" cy="4716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35" name="Oval 6"/>
            <p:cNvSpPr/>
            <p:nvPr/>
          </p:nvSpPr>
          <p:spPr>
            <a:xfrm>
              <a:off x="2285640" y="1268280"/>
              <a:ext cx="2133720" cy="685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248F-7C64-4E6A-B1F0-6E2C6C12F80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Modify&gt;Page Properti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38" name="Group 7"/>
          <p:cNvGrpSpPr/>
          <p:nvPr/>
        </p:nvGrpSpPr>
        <p:grpSpPr>
          <a:xfrm>
            <a:off x="826920" y="1341360"/>
            <a:ext cx="7345440" cy="4775400"/>
            <a:chOff x="826920" y="1341360"/>
            <a:chExt cx="7345440" cy="4775400"/>
          </a:xfrm>
        </p:grpSpPr>
        <p:pic>
          <p:nvPicPr>
            <p:cNvPr id="439" name="Picture 5" descr="dream6"/>
            <p:cNvPicPr/>
            <p:nvPr/>
          </p:nvPicPr>
          <p:blipFill>
            <a:blip r:embed="rId1"/>
            <a:stretch/>
          </p:blipFill>
          <p:spPr>
            <a:xfrm>
              <a:off x="826920" y="1467720"/>
              <a:ext cx="7345440" cy="4649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0" name="Oval 6"/>
            <p:cNvSpPr/>
            <p:nvPr/>
          </p:nvSpPr>
          <p:spPr>
            <a:xfrm>
              <a:off x="4030200" y="1341360"/>
              <a:ext cx="2107440" cy="613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4BD2-0A7D-4F90-B266-B76DBFA9591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Appearance, Set Font, Text, Background Colo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43" name="Group 8"/>
          <p:cNvGrpSpPr/>
          <p:nvPr/>
        </p:nvGrpSpPr>
        <p:grpSpPr>
          <a:xfrm>
            <a:off x="1187280" y="1622520"/>
            <a:ext cx="6958080" cy="4398840"/>
            <a:chOff x="1187280" y="1622520"/>
            <a:chExt cx="6958080" cy="4398840"/>
          </a:xfrm>
        </p:grpSpPr>
        <p:pic>
          <p:nvPicPr>
            <p:cNvPr id="444" name="Picture 5" descr="dream7"/>
            <p:cNvPicPr/>
            <p:nvPr/>
          </p:nvPicPr>
          <p:blipFill>
            <a:blip r:embed="rId1"/>
            <a:stretch/>
          </p:blipFill>
          <p:spPr>
            <a:xfrm>
              <a:off x="1187280" y="1622520"/>
              <a:ext cx="6958080" cy="4398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5" name="Oval 6"/>
            <p:cNvSpPr/>
            <p:nvPr/>
          </p:nvSpPr>
          <p:spPr>
            <a:xfrm>
              <a:off x="4391280" y="2576160"/>
              <a:ext cx="1423800" cy="329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7"/>
            <p:cNvSpPr/>
            <p:nvPr/>
          </p:nvSpPr>
          <p:spPr>
            <a:xfrm>
              <a:off x="2397600" y="3037320"/>
              <a:ext cx="1210320" cy="263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9AE8-1A15-4F18-86C7-1439E42273A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Links, Set Link, Visited Link Color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49" name="Group 8"/>
          <p:cNvGrpSpPr/>
          <p:nvPr/>
        </p:nvGrpSpPr>
        <p:grpSpPr>
          <a:xfrm>
            <a:off x="1116000" y="1413000"/>
            <a:ext cx="7257960" cy="4721040"/>
            <a:chOff x="1116000" y="1413000"/>
            <a:chExt cx="7257960" cy="4721040"/>
          </a:xfrm>
        </p:grpSpPr>
        <p:pic>
          <p:nvPicPr>
            <p:cNvPr id="450" name="Picture 5" descr="dream8"/>
            <p:cNvPicPr/>
            <p:nvPr/>
          </p:nvPicPr>
          <p:blipFill>
            <a:blip r:embed="rId1"/>
            <a:stretch/>
          </p:blipFill>
          <p:spPr>
            <a:xfrm>
              <a:off x="1116000" y="1413000"/>
              <a:ext cx="7257960" cy="4721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51" name="Oval 6"/>
            <p:cNvSpPr/>
            <p:nvPr/>
          </p:nvSpPr>
          <p:spPr>
            <a:xfrm>
              <a:off x="4304160" y="2485440"/>
              <a:ext cx="1482840" cy="357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7"/>
            <p:cNvSpPr/>
            <p:nvPr/>
          </p:nvSpPr>
          <p:spPr>
            <a:xfrm>
              <a:off x="2376360" y="2986200"/>
              <a:ext cx="1260360" cy="357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ECD3-8892-4456-A61F-239F183510F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Website Plann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even considering the practical aspects of creating a website, there are some important fundamental question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need to ask yourself fir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are we hoping to achiev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's our target audienc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catergory, if any, does our site fall into: ecommerce, informational, educational, social networking, etc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visually exciting does it need to be to be effectiv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tone do we want our content to convey, could it be serious or witty, complex or simpl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AB2D-C7B3-4C38-A234-92BC7D118C8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36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Click the Curser on the Page, Select Alignment, Type in Tex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5651640" y="2260440"/>
            <a:ext cx="29718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Alignment B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7"/>
          <p:cNvGrpSpPr/>
          <p:nvPr/>
        </p:nvGrpSpPr>
        <p:grpSpPr>
          <a:xfrm>
            <a:off x="755640" y="1515960"/>
            <a:ext cx="4462560" cy="4505400"/>
            <a:chOff x="755640" y="1515960"/>
            <a:chExt cx="4462560" cy="4505400"/>
          </a:xfrm>
        </p:grpSpPr>
        <p:pic>
          <p:nvPicPr>
            <p:cNvPr id="457" name="Picture 6" descr="title"/>
            <p:cNvPicPr/>
            <p:nvPr/>
          </p:nvPicPr>
          <p:blipFill>
            <a:blip r:embed="rId1"/>
            <a:stretch/>
          </p:blipFill>
          <p:spPr>
            <a:xfrm>
              <a:off x="755640" y="1515960"/>
              <a:ext cx="4462560" cy="4505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58" name="Oval 7"/>
            <p:cNvSpPr/>
            <p:nvPr/>
          </p:nvSpPr>
          <p:spPr>
            <a:xfrm>
              <a:off x="3882600" y="5208120"/>
              <a:ext cx="775080" cy="3128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0"/>
            <p:cNvSpPr/>
            <p:nvPr/>
          </p:nvSpPr>
          <p:spPr>
            <a:xfrm>
              <a:off x="4076280" y="4081680"/>
              <a:ext cx="281520" cy="1063800"/>
            </a:xfrm>
            <a:prstGeom prst="downArrow">
              <a:avLst>
                <a:gd name="adj1" fmla="val 50000"/>
                <a:gd name="adj2" fmla="val 9446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BAC1-2953-448D-B6F7-961BA09FEF8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2360" y="189000"/>
            <a:ext cx="8352000" cy="88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Highlight Text, Select Ariel Fo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62" name="Group 8"/>
          <p:cNvGrpSpPr/>
          <p:nvPr/>
        </p:nvGrpSpPr>
        <p:grpSpPr>
          <a:xfrm>
            <a:off x="3708360" y="1582560"/>
            <a:ext cx="4137120" cy="4510440"/>
            <a:chOff x="3708360" y="1582560"/>
            <a:chExt cx="4137120" cy="4510440"/>
          </a:xfrm>
        </p:grpSpPr>
        <p:pic>
          <p:nvPicPr>
            <p:cNvPr id="463" name="Picture 5" descr="titlefont"/>
            <p:cNvPicPr/>
            <p:nvPr/>
          </p:nvPicPr>
          <p:blipFill>
            <a:blip r:embed="rId1"/>
            <a:stretch/>
          </p:blipFill>
          <p:spPr>
            <a:xfrm>
              <a:off x="3711240" y="1582560"/>
              <a:ext cx="4134240" cy="4510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64" name="Oval 6"/>
            <p:cNvSpPr/>
            <p:nvPr/>
          </p:nvSpPr>
          <p:spPr>
            <a:xfrm>
              <a:off x="3708360" y="5166360"/>
              <a:ext cx="3017520" cy="308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7"/>
          <p:cNvSpPr/>
          <p:nvPr/>
        </p:nvSpPr>
        <p:spPr>
          <a:xfrm>
            <a:off x="250920" y="2421000"/>
            <a:ext cx="2971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nt Pop-up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34EC-7C39-4BFB-8757-C502908B3CF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Highlight Text, &amp; Select the Title </a:t>
            </a:r>
            <a:br>
              <a:rPr sz="3200"/>
            </a:b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Format Siz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324000" y="1484280"/>
            <a:ext cx="25905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-up Format for Title Heading Size: Exampl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8"/>
          <p:cNvGrpSpPr/>
          <p:nvPr/>
        </p:nvGrpSpPr>
        <p:grpSpPr>
          <a:xfrm>
            <a:off x="3305160" y="1341360"/>
            <a:ext cx="4579920" cy="4792680"/>
            <a:chOff x="3305160" y="1341360"/>
            <a:chExt cx="4579920" cy="4792680"/>
          </a:xfrm>
        </p:grpSpPr>
        <p:pic>
          <p:nvPicPr>
            <p:cNvPr id="470" name="Picture 5" descr="titlesize"/>
            <p:cNvPicPr/>
            <p:nvPr/>
          </p:nvPicPr>
          <p:blipFill>
            <a:blip r:embed="rId1"/>
            <a:stretch/>
          </p:blipFill>
          <p:spPr>
            <a:xfrm>
              <a:off x="3305160" y="1341360"/>
              <a:ext cx="4579920" cy="4792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71" name="Oval 7"/>
            <p:cNvSpPr/>
            <p:nvPr/>
          </p:nvSpPr>
          <p:spPr>
            <a:xfrm>
              <a:off x="3612240" y="5268960"/>
              <a:ext cx="1157040" cy="3326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486B-B257-4588-A062-842D5BF34EA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360" y="759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Or to Create a Title With a Graphic: Insert&gt;Table or Select Table Ic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74" name="Group 10"/>
          <p:cNvGrpSpPr/>
          <p:nvPr/>
        </p:nvGrpSpPr>
        <p:grpSpPr>
          <a:xfrm>
            <a:off x="900000" y="1515960"/>
            <a:ext cx="7718400" cy="4649760"/>
            <a:chOff x="900000" y="1515960"/>
            <a:chExt cx="7718400" cy="4649760"/>
          </a:xfrm>
        </p:grpSpPr>
        <p:pic>
          <p:nvPicPr>
            <p:cNvPr id="475" name="Picture 5" descr="dream9"/>
            <p:cNvPicPr/>
            <p:nvPr/>
          </p:nvPicPr>
          <p:blipFill>
            <a:blip r:embed="rId1"/>
            <a:stretch/>
          </p:blipFill>
          <p:spPr>
            <a:xfrm>
              <a:off x="900000" y="1584360"/>
              <a:ext cx="7425000" cy="458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76" name="Oval 6"/>
            <p:cNvSpPr/>
            <p:nvPr/>
          </p:nvSpPr>
          <p:spPr>
            <a:xfrm>
              <a:off x="3597480" y="1515960"/>
              <a:ext cx="824040" cy="410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"/>
            <p:cNvSpPr/>
            <p:nvPr/>
          </p:nvSpPr>
          <p:spPr>
            <a:xfrm>
              <a:off x="3597480" y="2473920"/>
              <a:ext cx="2172960" cy="342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8"/>
            <p:cNvSpPr/>
            <p:nvPr/>
          </p:nvSpPr>
          <p:spPr>
            <a:xfrm>
              <a:off x="3147840" y="1721160"/>
              <a:ext cx="374400" cy="342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9"/>
            <p:cNvSpPr/>
            <p:nvPr/>
          </p:nvSpPr>
          <p:spPr>
            <a:xfrm>
              <a:off x="5695920" y="3569040"/>
              <a:ext cx="292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ables control object pla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CFEF-7018-4775-9807-90BA48958C6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titletable"/>
          <p:cNvPicPr/>
          <p:nvPr/>
        </p:nvPicPr>
        <p:blipFill>
          <a:blip r:embed="rId1"/>
          <a:stretch/>
        </p:blipFill>
        <p:spPr>
          <a:xfrm>
            <a:off x="762120" y="1523880"/>
            <a:ext cx="5102280" cy="471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2360" y="759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 Row, Column, Table Width, </a:t>
            </a:r>
            <a:br>
              <a:rPr sz="3200"/>
            </a:b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Border, OK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6172200" y="2057400"/>
            <a:ext cx="25909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tle Exampl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Colum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0"/>
          <p:cNvSpPr/>
          <p:nvPr/>
        </p:nvSpPr>
        <p:spPr>
          <a:xfrm>
            <a:off x="2514600" y="2286000"/>
            <a:ext cx="297180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8D60-0B5F-438B-A839-A9111C43D69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Adjust Column Width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5791320" y="167652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g Table Column Line Left or Right to Adjust the Wid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7"/>
          <p:cNvGrpSpPr/>
          <p:nvPr/>
        </p:nvGrpSpPr>
        <p:grpSpPr>
          <a:xfrm>
            <a:off x="684360" y="1295280"/>
            <a:ext cx="4694040" cy="4870440"/>
            <a:chOff x="684360" y="1295280"/>
            <a:chExt cx="4694040" cy="4870440"/>
          </a:xfrm>
        </p:grpSpPr>
        <p:pic>
          <p:nvPicPr>
            <p:cNvPr id="489" name="Picture 6" descr="titletableadjust"/>
            <p:cNvPicPr/>
            <p:nvPr/>
          </p:nvPicPr>
          <p:blipFill>
            <a:blip r:embed="rId1"/>
            <a:stretch/>
          </p:blipFill>
          <p:spPr>
            <a:xfrm>
              <a:off x="684360" y="1295280"/>
              <a:ext cx="4694040" cy="4870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90" name="AutoShape 8"/>
            <p:cNvSpPr/>
            <p:nvPr/>
          </p:nvSpPr>
          <p:spPr>
            <a:xfrm>
              <a:off x="1827720" y="2756520"/>
              <a:ext cx="533520" cy="1669680"/>
            </a:xfrm>
            <a:prstGeom prst="upArrow">
              <a:avLst>
                <a:gd name="adj1" fmla="val 50000"/>
                <a:gd name="adj2" fmla="val 7823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0"/>
            <p:cNvSpPr/>
            <p:nvPr/>
          </p:nvSpPr>
          <p:spPr>
            <a:xfrm>
              <a:off x="1827720" y="2269440"/>
              <a:ext cx="609480" cy="4172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44F7-CCAB-4A31-B127-C4F1CE74319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18"/>
          <p:cNvGrpSpPr/>
          <p:nvPr/>
        </p:nvGrpSpPr>
        <p:grpSpPr>
          <a:xfrm>
            <a:off x="76320" y="1959120"/>
            <a:ext cx="5943600" cy="4060800"/>
            <a:chOff x="76320" y="1959120"/>
            <a:chExt cx="5943600" cy="4060800"/>
          </a:xfrm>
        </p:grpSpPr>
        <p:grpSp>
          <p:nvGrpSpPr>
            <p:cNvPr id="494" name="Group 16"/>
            <p:cNvGrpSpPr/>
            <p:nvPr/>
          </p:nvGrpSpPr>
          <p:grpSpPr>
            <a:xfrm>
              <a:off x="76320" y="1959120"/>
              <a:ext cx="5943600" cy="4060800"/>
              <a:chOff x="76320" y="1959120"/>
              <a:chExt cx="5943600" cy="4060800"/>
            </a:xfrm>
          </p:grpSpPr>
          <p:grpSp>
            <p:nvGrpSpPr>
              <p:cNvPr id="495" name="Group 10"/>
              <p:cNvGrpSpPr/>
              <p:nvPr/>
            </p:nvGrpSpPr>
            <p:grpSpPr>
              <a:xfrm>
                <a:off x="76320" y="1959120"/>
                <a:ext cx="5943600" cy="4060800"/>
                <a:chOff x="76320" y="1959120"/>
                <a:chExt cx="5943600" cy="4060800"/>
              </a:xfrm>
            </p:grpSpPr>
            <p:pic>
              <p:nvPicPr>
                <p:cNvPr id="496" name="Picture 5" descr="saveas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6320" y="1959120"/>
                  <a:ext cx="5943600" cy="406080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497" name="Rectangle 8"/>
                <p:cNvSpPr/>
                <p:nvPr/>
              </p:nvSpPr>
              <p:spPr>
                <a:xfrm>
                  <a:off x="228600" y="3886200"/>
                  <a:ext cx="1219320" cy="190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Rectangle 9"/>
                <p:cNvSpPr/>
                <p:nvPr/>
              </p:nvSpPr>
              <p:spPr>
                <a:xfrm>
                  <a:off x="3352680" y="3886200"/>
                  <a:ext cx="2667240" cy="190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Rectangle 13"/>
              <p:cNvSpPr/>
              <p:nvPr/>
            </p:nvSpPr>
            <p:spPr>
              <a:xfrm>
                <a:off x="76320" y="3048120"/>
                <a:ext cx="1371600" cy="289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14"/>
              <p:cNvSpPr/>
              <p:nvPr/>
            </p:nvSpPr>
            <p:spPr>
              <a:xfrm>
                <a:off x="3276720" y="3124080"/>
                <a:ext cx="2743200" cy="281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Line 17"/>
            <p:cNvSpPr/>
            <p:nvPr/>
          </p:nvSpPr>
          <p:spPr>
            <a:xfrm>
              <a:off x="6019920" y="198108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23640" y="53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Before Adding Graphic Images go to File&gt;Save As&gt;name your fi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6248520" y="1940040"/>
            <a:ext cx="2571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 to use all lowercase letters, no spaces or special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6"/>
          <p:cNvSpPr/>
          <p:nvPr/>
        </p:nvSpPr>
        <p:spPr>
          <a:xfrm>
            <a:off x="1371600" y="1828800"/>
            <a:ext cx="6094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7"/>
          <p:cNvSpPr/>
          <p:nvPr/>
        </p:nvSpPr>
        <p:spPr>
          <a:xfrm>
            <a:off x="1447920" y="3276720"/>
            <a:ext cx="18288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BDFE-1800-4F57-B038-3E941A58B55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Click in the Left Cell, Insert&gt;Image, or use the Image Icon, Locate.gif or .jpg Fi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08" name="Group 7"/>
          <p:cNvGrpSpPr/>
          <p:nvPr/>
        </p:nvGrpSpPr>
        <p:grpSpPr>
          <a:xfrm>
            <a:off x="890640" y="1581120"/>
            <a:ext cx="6705720" cy="4368960"/>
            <a:chOff x="890640" y="1581120"/>
            <a:chExt cx="6705720" cy="4368960"/>
          </a:xfrm>
        </p:grpSpPr>
        <p:pic>
          <p:nvPicPr>
            <p:cNvPr id="509" name="Picture 5" descr="titlelogo"/>
            <p:cNvPicPr/>
            <p:nvPr/>
          </p:nvPicPr>
          <p:blipFill>
            <a:blip r:embed="rId1"/>
            <a:stretch/>
          </p:blipFill>
          <p:spPr>
            <a:xfrm>
              <a:off x="890640" y="1581120"/>
              <a:ext cx="6705720" cy="4368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10" name="Oval 8"/>
            <p:cNvSpPr/>
            <p:nvPr/>
          </p:nvSpPr>
          <p:spPr>
            <a:xfrm>
              <a:off x="3862440" y="1834920"/>
              <a:ext cx="533160" cy="380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1C9D-664B-4727-8ED0-0649312B225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Click in the Right Cell &amp; Type to Add the Tit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13" name="Picture 5" descr="titleintable"/>
          <p:cNvPicPr/>
          <p:nvPr/>
        </p:nvPicPr>
        <p:blipFill>
          <a:blip r:embed="rId1"/>
          <a:stretch/>
        </p:blipFill>
        <p:spPr>
          <a:xfrm>
            <a:off x="380880" y="1901880"/>
            <a:ext cx="8382240" cy="381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4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42C4-4F65-45C9-89FD-969C3183EB5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lect the Table, Select BG to Add a Background Cell Colo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5867280" y="262584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7"/>
          <p:cNvGrpSpPr/>
          <p:nvPr/>
        </p:nvGrpSpPr>
        <p:grpSpPr>
          <a:xfrm>
            <a:off x="900000" y="1413000"/>
            <a:ext cx="4591080" cy="4752720"/>
            <a:chOff x="900000" y="1413000"/>
            <a:chExt cx="4591080" cy="4752720"/>
          </a:xfrm>
        </p:grpSpPr>
        <p:pic>
          <p:nvPicPr>
            <p:cNvPr id="518" name="Picture 5" descr="titletablecolor"/>
            <p:cNvPicPr/>
            <p:nvPr/>
          </p:nvPicPr>
          <p:blipFill>
            <a:blip r:embed="rId1"/>
            <a:stretch/>
          </p:blipFill>
          <p:spPr>
            <a:xfrm>
              <a:off x="900000" y="1413000"/>
              <a:ext cx="4591080" cy="4752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19" name="Oval 6"/>
            <p:cNvSpPr/>
            <p:nvPr/>
          </p:nvSpPr>
          <p:spPr>
            <a:xfrm>
              <a:off x="3493440" y="5746680"/>
              <a:ext cx="1286280" cy="2793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9730-5F74-4A65-8440-15A6E8F2411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ite Content &amp; Information Structur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bably the most important aspect of website 'structural design' is how you breakdown the content into logical sections (Main Areas, Pages, Headers, Sub-Headers, Lists, etc). You need to create a strong hierarchy for the site and breakdown content into small uni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s a good idea to create a graphical schema/flowchart/sitemap for the site. This can help you visualise a logical hierarch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F7B6-A836-4762-8A3D-83B30C6FC1E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To Make Border Invisible, Select Table, Set Border to 0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22" name="Group 10"/>
          <p:cNvGrpSpPr/>
          <p:nvPr/>
        </p:nvGrpSpPr>
        <p:grpSpPr>
          <a:xfrm>
            <a:off x="611280" y="1362240"/>
            <a:ext cx="8304120" cy="4803480"/>
            <a:chOff x="611280" y="1362240"/>
            <a:chExt cx="8304120" cy="4803480"/>
          </a:xfrm>
        </p:grpSpPr>
        <p:pic>
          <p:nvPicPr>
            <p:cNvPr id="523" name="Picture 5" descr="titlenoborder"/>
            <p:cNvPicPr/>
            <p:nvPr/>
          </p:nvPicPr>
          <p:blipFill>
            <a:blip r:embed="rId1"/>
            <a:stretch/>
          </p:blipFill>
          <p:spPr>
            <a:xfrm>
              <a:off x="611280" y="1362240"/>
              <a:ext cx="5051520" cy="4803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24" name="Oval 6"/>
            <p:cNvSpPr/>
            <p:nvPr/>
          </p:nvSpPr>
          <p:spPr>
            <a:xfrm>
              <a:off x="4277160" y="5462280"/>
              <a:ext cx="1122120" cy="347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8"/>
            <p:cNvSpPr/>
            <p:nvPr/>
          </p:nvSpPr>
          <p:spPr>
            <a:xfrm>
              <a:off x="5549040" y="2621520"/>
              <a:ext cx="2394000" cy="347400"/>
            </a:xfrm>
            <a:prstGeom prst="leftArrow">
              <a:avLst>
                <a:gd name="adj1" fmla="val 50000"/>
                <a:gd name="adj2" fmla="val 1722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9"/>
            <p:cNvSpPr/>
            <p:nvPr/>
          </p:nvSpPr>
          <p:spPr>
            <a:xfrm>
              <a:off x="5848200" y="2065680"/>
              <a:ext cx="30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 Edge of T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FF8C-47DB-4D59-B5B0-39FBDF19591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To Add Navigation Table, Insert&gt;Table or Table Ic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6248520" y="2057400"/>
            <a:ext cx="2514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 Columns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7"/>
          <p:cNvGrpSpPr/>
          <p:nvPr/>
        </p:nvGrpSpPr>
        <p:grpSpPr>
          <a:xfrm>
            <a:off x="684360" y="1650960"/>
            <a:ext cx="5114880" cy="4299120"/>
            <a:chOff x="684360" y="1650960"/>
            <a:chExt cx="5114880" cy="4299120"/>
          </a:xfrm>
        </p:grpSpPr>
        <p:pic>
          <p:nvPicPr>
            <p:cNvPr id="531" name="Picture 5" descr="navigtable"/>
            <p:cNvPicPr/>
            <p:nvPr/>
          </p:nvPicPr>
          <p:blipFill>
            <a:blip r:embed="rId1"/>
            <a:stretch/>
          </p:blipFill>
          <p:spPr>
            <a:xfrm>
              <a:off x="684360" y="1650960"/>
              <a:ext cx="5114880" cy="4299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32" name="Oval 7"/>
            <p:cNvSpPr/>
            <p:nvPr/>
          </p:nvSpPr>
          <p:spPr>
            <a:xfrm>
              <a:off x="2485440" y="1726200"/>
              <a:ext cx="432000" cy="36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9"/>
            <p:cNvSpPr/>
            <p:nvPr/>
          </p:nvSpPr>
          <p:spPr>
            <a:xfrm>
              <a:off x="2989800" y="2889360"/>
              <a:ext cx="2665440" cy="306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DF2F-337C-4104-87C9-46A952721D7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lick Inside of the First Cell to Add a Flash Navigation Butt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36" name="Picture 6" descr="navtable2"/>
          <p:cNvPicPr/>
          <p:nvPr/>
        </p:nvPicPr>
        <p:blipFill>
          <a:blip r:embed="rId1"/>
          <a:stretch/>
        </p:blipFill>
        <p:spPr>
          <a:xfrm>
            <a:off x="380880" y="2367000"/>
            <a:ext cx="8458200" cy="318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7" name="AutoShape 7"/>
          <p:cNvSpPr/>
          <p:nvPr/>
        </p:nvSpPr>
        <p:spPr>
          <a:xfrm>
            <a:off x="1143000" y="4876920"/>
            <a:ext cx="380880" cy="1447560"/>
          </a:xfrm>
          <a:prstGeom prst="upArrow">
            <a:avLst>
              <a:gd name="adj1" fmla="val 50000"/>
              <a:gd name="adj2" fmla="val 9501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3F5F-DC04-41EF-948C-7D914A6EF4C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Insert&gt;Media&gt;Flash Butt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40" name="Group 7"/>
          <p:cNvGrpSpPr/>
          <p:nvPr/>
        </p:nvGrpSpPr>
        <p:grpSpPr>
          <a:xfrm>
            <a:off x="1332000" y="1295280"/>
            <a:ext cx="6440400" cy="4942080"/>
            <a:chOff x="1332000" y="1295280"/>
            <a:chExt cx="6440400" cy="4942080"/>
          </a:xfrm>
        </p:grpSpPr>
        <p:pic>
          <p:nvPicPr>
            <p:cNvPr id="541" name="Picture 5" descr="navbutton1"/>
            <p:cNvPicPr/>
            <p:nvPr/>
          </p:nvPicPr>
          <p:blipFill>
            <a:blip r:embed="rId1"/>
            <a:stretch/>
          </p:blipFill>
          <p:spPr>
            <a:xfrm>
              <a:off x="1332000" y="1368000"/>
              <a:ext cx="6289200" cy="4869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42" name="Oval 6"/>
            <p:cNvSpPr/>
            <p:nvPr/>
          </p:nvSpPr>
          <p:spPr>
            <a:xfrm>
              <a:off x="3983760" y="2022480"/>
              <a:ext cx="2273040" cy="3636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7"/>
            <p:cNvSpPr/>
            <p:nvPr/>
          </p:nvSpPr>
          <p:spPr>
            <a:xfrm>
              <a:off x="5878080" y="2604600"/>
              <a:ext cx="1894320" cy="3636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8"/>
            <p:cNvSpPr/>
            <p:nvPr/>
          </p:nvSpPr>
          <p:spPr>
            <a:xfrm>
              <a:off x="3908160" y="1295280"/>
              <a:ext cx="909000" cy="3636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B540-9B8D-480C-A9DE-B8BEA6FF6CF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52000" y="43920"/>
            <a:ext cx="878364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Button Settings: Style, Text, Font, Link, 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Size, Apply, OK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7" name="Picture 5" descr="navbutton2"/>
          <p:cNvPicPr/>
          <p:nvPr/>
        </p:nvPicPr>
        <p:blipFill>
          <a:blip r:embed="rId1"/>
          <a:stretch/>
        </p:blipFill>
        <p:spPr>
          <a:xfrm>
            <a:off x="755640" y="1577880"/>
            <a:ext cx="4903920" cy="444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8" name="Text Box 6"/>
          <p:cNvSpPr/>
          <p:nvPr/>
        </p:nvSpPr>
        <p:spPr>
          <a:xfrm>
            <a:off x="6012000" y="1484280"/>
            <a:ext cx="2751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when uploading your website to the server to add your .swf Flash buttons you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77A1-8387-4AB2-A523-4816D437E36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Repeat to Add All Button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51" name="Picture 5" descr="navbutton3"/>
          <p:cNvPicPr/>
          <p:nvPr/>
        </p:nvPicPr>
        <p:blipFill>
          <a:blip r:embed="rId1"/>
          <a:stretch/>
        </p:blipFill>
        <p:spPr>
          <a:xfrm>
            <a:off x="380880" y="1228680"/>
            <a:ext cx="8458200" cy="34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2" name="Oval 6"/>
          <p:cNvSpPr/>
          <p:nvPr/>
        </p:nvSpPr>
        <p:spPr>
          <a:xfrm>
            <a:off x="533520" y="3438360"/>
            <a:ext cx="190476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609480" y="4941720"/>
            <a:ext cx="8077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If you need to edit the button after has been created or to check the links just double click on the button again, change the features, Apply, O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5EC6-D18A-4949-A43E-8856D73918F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Example of Completed Title &amp; 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Navigation Button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56" name="Picture 5" descr="navcomplete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336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7" name="Text Box 6"/>
          <p:cNvSpPr/>
          <p:nvPr/>
        </p:nvSpPr>
        <p:spPr>
          <a:xfrm>
            <a:off x="395280" y="5384880"/>
            <a:ext cx="835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You May Have Different Titles For Your Navigation Butt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A43B-ACA8-4180-939C-8A98B5D0EE7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78508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External Links: Type Text &amp; Highlight, Type in Link URL &amp; Press Return Key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60" name="Group 7"/>
          <p:cNvGrpSpPr/>
          <p:nvPr/>
        </p:nvGrpSpPr>
        <p:grpSpPr>
          <a:xfrm>
            <a:off x="1295280" y="1469880"/>
            <a:ext cx="6019920" cy="4838760"/>
            <a:chOff x="1295280" y="1469880"/>
            <a:chExt cx="6019920" cy="4838760"/>
          </a:xfrm>
        </p:grpSpPr>
        <p:pic>
          <p:nvPicPr>
            <p:cNvPr id="561" name="Picture 5" descr="externallink"/>
            <p:cNvPicPr/>
            <p:nvPr/>
          </p:nvPicPr>
          <p:blipFill>
            <a:blip r:embed="rId1"/>
            <a:stretch/>
          </p:blipFill>
          <p:spPr>
            <a:xfrm>
              <a:off x="1447560" y="1469880"/>
              <a:ext cx="5867640" cy="4838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62" name="Oval 6"/>
            <p:cNvSpPr/>
            <p:nvPr/>
          </p:nvSpPr>
          <p:spPr>
            <a:xfrm>
              <a:off x="5105520" y="5432400"/>
              <a:ext cx="20574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7"/>
            <p:cNvSpPr/>
            <p:nvPr/>
          </p:nvSpPr>
          <p:spPr>
            <a:xfrm>
              <a:off x="1295280" y="3298680"/>
              <a:ext cx="266688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8"/>
            <p:cNvSpPr/>
            <p:nvPr/>
          </p:nvSpPr>
          <p:spPr>
            <a:xfrm>
              <a:off x="2590560" y="4776840"/>
              <a:ext cx="464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ttp://www.google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2CF9-67AD-4507-99AE-4278897BC3E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50920" y="-270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Internal Links: Type Text &amp; Highlight, Type in Link URL &amp; Press Return Key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67" name="Group 7"/>
          <p:cNvGrpSpPr/>
          <p:nvPr/>
        </p:nvGrpSpPr>
        <p:grpSpPr>
          <a:xfrm>
            <a:off x="1378080" y="1557360"/>
            <a:ext cx="5715000" cy="4611600"/>
            <a:chOff x="1378080" y="1557360"/>
            <a:chExt cx="5715000" cy="4611600"/>
          </a:xfrm>
        </p:grpSpPr>
        <p:pic>
          <p:nvPicPr>
            <p:cNvPr id="568" name="Picture 5" descr="internallink"/>
            <p:cNvPicPr/>
            <p:nvPr/>
          </p:nvPicPr>
          <p:blipFill>
            <a:blip r:embed="rId1"/>
            <a:stretch/>
          </p:blipFill>
          <p:spPr>
            <a:xfrm>
              <a:off x="1530360" y="1557360"/>
              <a:ext cx="5562720" cy="4611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69" name="Oval 6"/>
            <p:cNvSpPr/>
            <p:nvPr/>
          </p:nvSpPr>
          <p:spPr>
            <a:xfrm>
              <a:off x="4883400" y="5294520"/>
              <a:ext cx="190476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>
              <a:off x="1378080" y="3693960"/>
              <a:ext cx="1523880" cy="380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8"/>
            <p:cNvSpPr/>
            <p:nvPr/>
          </p:nvSpPr>
          <p:spPr>
            <a:xfrm>
              <a:off x="4730760" y="476100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dex.htm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2972-C111-4DCB-9EE7-E2541D2F1AE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092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E-Mail Links: Type Text &amp; Highlight, Type in Link URL &amp; Press Return Key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74" name="Group 10"/>
          <p:cNvGrpSpPr/>
          <p:nvPr/>
        </p:nvGrpSpPr>
        <p:grpSpPr>
          <a:xfrm>
            <a:off x="1676520" y="1427040"/>
            <a:ext cx="6019560" cy="4665600"/>
            <a:chOff x="1676520" y="1427040"/>
            <a:chExt cx="6019560" cy="4665600"/>
          </a:xfrm>
        </p:grpSpPr>
        <p:grpSp>
          <p:nvGrpSpPr>
            <p:cNvPr id="575" name="Group 10"/>
            <p:cNvGrpSpPr/>
            <p:nvPr/>
          </p:nvGrpSpPr>
          <p:grpSpPr>
            <a:xfrm>
              <a:off x="1752480" y="1427040"/>
              <a:ext cx="5640480" cy="4665600"/>
              <a:chOff x="1752480" y="1427040"/>
              <a:chExt cx="5640480" cy="4665600"/>
            </a:xfrm>
          </p:grpSpPr>
          <p:pic>
            <p:nvPicPr>
              <p:cNvPr id="576" name="Picture 5" descr="emaillink"/>
              <p:cNvPicPr/>
              <p:nvPr/>
            </p:nvPicPr>
            <p:blipFill>
              <a:blip r:embed="rId1"/>
              <a:stretch/>
            </p:blipFill>
            <p:spPr>
              <a:xfrm>
                <a:off x="1752480" y="1427040"/>
                <a:ext cx="5640480" cy="4665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577" name="Rectangle 9"/>
              <p:cNvSpPr/>
              <p:nvPr/>
            </p:nvSpPr>
            <p:spPr>
              <a:xfrm>
                <a:off x="5638680" y="5406840"/>
                <a:ext cx="10670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Oval 7"/>
            <p:cNvSpPr/>
            <p:nvPr/>
          </p:nvSpPr>
          <p:spPr>
            <a:xfrm>
              <a:off x="5181480" y="5178600"/>
              <a:ext cx="243828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8"/>
            <p:cNvSpPr/>
            <p:nvPr/>
          </p:nvSpPr>
          <p:spPr>
            <a:xfrm>
              <a:off x="1676520" y="3578400"/>
              <a:ext cx="2895480" cy="380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1"/>
            <p:cNvSpPr/>
            <p:nvPr/>
          </p:nvSpPr>
          <p:spPr>
            <a:xfrm>
              <a:off x="1905120" y="4569120"/>
              <a:ext cx="579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ailto:hollandj@emporia.ed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Text Box 12"/>
          <p:cNvSpPr/>
          <p:nvPr/>
        </p:nvSpPr>
        <p:spPr>
          <a:xfrm>
            <a:off x="5562720" y="534528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lto:hollandj@emporia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ADCE-B722-4508-9D5E-A7DF4EDAEB4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9" name="عنصر نائب للمحتوى 3" descr="schema.gif"/>
          <p:cNvPicPr/>
          <p:nvPr/>
        </p:nvPicPr>
        <p:blipFill>
          <a:blip r:embed="rId1"/>
          <a:stretch/>
        </p:blipFill>
        <p:spPr>
          <a:xfrm>
            <a:off x="1332000" y="1303200"/>
            <a:ext cx="6821280" cy="4934160"/>
          </a:xfrm>
          <a:prstGeom prst="rect">
            <a:avLst/>
          </a:prstGeom>
          <a:ln w="0">
            <a:noFill/>
          </a:ln>
        </p:spPr>
      </p:pic>
      <p:sp>
        <p:nvSpPr>
          <p:cNvPr id="370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EB1E-A6F8-4B7B-9A05-A08107D7C5A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6360" y="4392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Inserting Graphics and Text in Tab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4" name="مربع نص 7"/>
          <p:cNvSpPr/>
          <p:nvPr/>
        </p:nvSpPr>
        <p:spPr>
          <a:xfrm>
            <a:off x="611280" y="1700280"/>
            <a:ext cx="77058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Control placement of elements in relation to each o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Specify amount of space between each page el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Always plan how your table will look with all the text and graphics in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Even a rough sketch will save you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B484-CFB7-4ABF-A142-7417132BA52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311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lick in the Left Cell, Select Insert&gt;Image or Image Ic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87" name="Picture 5" descr="graphicselect"/>
          <p:cNvPicPr/>
          <p:nvPr/>
        </p:nvPicPr>
        <p:blipFill>
          <a:blip r:embed="rId1"/>
          <a:stretch/>
        </p:blipFill>
        <p:spPr>
          <a:xfrm>
            <a:off x="482760" y="1341360"/>
            <a:ext cx="5384520" cy="475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8" name="Oval 6"/>
          <p:cNvSpPr/>
          <p:nvPr/>
        </p:nvSpPr>
        <p:spPr>
          <a:xfrm>
            <a:off x="2252520" y="1600200"/>
            <a:ext cx="4572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6516720" y="1628640"/>
            <a:ext cx="205740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te Graphic Imag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g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jp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80D3-8353-4ADA-A5B3-F98E406B784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35344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lick in the Right Cell &amp; Add Your Text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2" name="Picture 5" descr="graphicwithtext"/>
          <p:cNvPicPr/>
          <p:nvPr/>
        </p:nvPicPr>
        <p:blipFill>
          <a:blip r:embed="rId1"/>
          <a:stretch/>
        </p:blipFill>
        <p:spPr>
          <a:xfrm>
            <a:off x="684360" y="1600200"/>
            <a:ext cx="5932440" cy="46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3" name="Text Box 6"/>
          <p:cNvSpPr/>
          <p:nvPr/>
        </p:nvSpPr>
        <p:spPr>
          <a:xfrm>
            <a:off x="7010280" y="1601640"/>
            <a:ext cx="17528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eed to Adjust Column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Font to A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AA81-C4E9-474A-A565-A7DA45E53D9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Anchors Are Used to Jump Down on a Long Page of Text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6" name="Picture 5" descr="anchors"/>
          <p:cNvPicPr/>
          <p:nvPr/>
        </p:nvPicPr>
        <p:blipFill>
          <a:blip r:embed="rId1"/>
          <a:stretch/>
        </p:blipFill>
        <p:spPr>
          <a:xfrm>
            <a:off x="1692360" y="1447920"/>
            <a:ext cx="5775120" cy="47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7" name="Oval 7"/>
          <p:cNvSpPr/>
          <p:nvPr/>
        </p:nvSpPr>
        <p:spPr>
          <a:xfrm>
            <a:off x="1295280" y="3429000"/>
            <a:ext cx="624852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B9B6-3662-4F7A-801B-656C9D06BD3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Highlight Word, In the Link Box Type in #nam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00" name="Group 9"/>
          <p:cNvGrpSpPr/>
          <p:nvPr/>
        </p:nvGrpSpPr>
        <p:grpSpPr>
          <a:xfrm>
            <a:off x="1001880" y="1447920"/>
            <a:ext cx="5657760" cy="4684680"/>
            <a:chOff x="1001880" y="1447920"/>
            <a:chExt cx="5657760" cy="4684680"/>
          </a:xfrm>
        </p:grpSpPr>
        <p:pic>
          <p:nvPicPr>
            <p:cNvPr id="601" name="Picture 5" descr="anchors"/>
            <p:cNvPicPr/>
            <p:nvPr/>
          </p:nvPicPr>
          <p:blipFill>
            <a:blip r:embed="rId1"/>
            <a:stretch/>
          </p:blipFill>
          <p:spPr>
            <a:xfrm>
              <a:off x="1001880" y="1447920"/>
              <a:ext cx="5657760" cy="4684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02" name="Oval 6"/>
            <p:cNvSpPr/>
            <p:nvPr/>
          </p:nvSpPr>
          <p:spPr>
            <a:xfrm>
              <a:off x="1186920" y="3285000"/>
              <a:ext cx="91440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7"/>
            <p:cNvSpPr/>
            <p:nvPr/>
          </p:nvSpPr>
          <p:spPr>
            <a:xfrm>
              <a:off x="4411440" y="5267880"/>
              <a:ext cx="160020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 Box 8"/>
          <p:cNvSpPr/>
          <p:nvPr/>
        </p:nvSpPr>
        <p:spPr>
          <a:xfrm>
            <a:off x="6858000" y="5638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#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2F23-E65A-4A61-A6B6-4F70A1B6204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Highlight Text to Link To, Insert&gt;Named Anchor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07" name="Group 9"/>
          <p:cNvGrpSpPr/>
          <p:nvPr/>
        </p:nvGrpSpPr>
        <p:grpSpPr>
          <a:xfrm>
            <a:off x="1116000" y="1371600"/>
            <a:ext cx="6948360" cy="4721400"/>
            <a:chOff x="1116000" y="1371600"/>
            <a:chExt cx="6948360" cy="4721400"/>
          </a:xfrm>
        </p:grpSpPr>
        <p:pic>
          <p:nvPicPr>
            <p:cNvPr id="608" name="Picture 5" descr="anchorinsert"/>
            <p:cNvPicPr/>
            <p:nvPr/>
          </p:nvPicPr>
          <p:blipFill>
            <a:blip r:embed="rId1"/>
            <a:stretch/>
          </p:blipFill>
          <p:spPr>
            <a:xfrm>
              <a:off x="1116000" y="1513800"/>
              <a:ext cx="6948360" cy="4579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09" name="Oval 6"/>
            <p:cNvSpPr/>
            <p:nvPr/>
          </p:nvSpPr>
          <p:spPr>
            <a:xfrm>
              <a:off x="1179000" y="4008600"/>
              <a:ext cx="909360" cy="569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7"/>
            <p:cNvSpPr/>
            <p:nvPr/>
          </p:nvSpPr>
          <p:spPr>
            <a:xfrm>
              <a:off x="3680640" y="1371600"/>
              <a:ext cx="757800" cy="427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8"/>
            <p:cNvSpPr/>
            <p:nvPr/>
          </p:nvSpPr>
          <p:spPr>
            <a:xfrm>
              <a:off x="3680640" y="3509640"/>
              <a:ext cx="1970640" cy="356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EA7D-5264-4D39-9207-9FDD6AD21B0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Type in Exact Name Match, Example: august, OK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14" name="Group 8"/>
          <p:cNvGrpSpPr/>
          <p:nvPr/>
        </p:nvGrpSpPr>
        <p:grpSpPr>
          <a:xfrm>
            <a:off x="903240" y="1523880"/>
            <a:ext cx="6908760" cy="4497480"/>
            <a:chOff x="903240" y="1523880"/>
            <a:chExt cx="6908760" cy="4497480"/>
          </a:xfrm>
        </p:grpSpPr>
        <p:pic>
          <p:nvPicPr>
            <p:cNvPr id="615" name="Picture 5" descr="anchorinsertname"/>
            <p:cNvPicPr/>
            <p:nvPr/>
          </p:nvPicPr>
          <p:blipFill>
            <a:blip r:embed="rId1"/>
            <a:stretch/>
          </p:blipFill>
          <p:spPr>
            <a:xfrm>
              <a:off x="903240" y="1523880"/>
              <a:ext cx="6908760" cy="4497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16" name="Oval 6"/>
            <p:cNvSpPr/>
            <p:nvPr/>
          </p:nvSpPr>
          <p:spPr>
            <a:xfrm>
              <a:off x="3463200" y="4393800"/>
              <a:ext cx="2474280" cy="3499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مستطيل مستدير الزوايا 6"/>
          <p:cNvSpPr/>
          <p:nvPr/>
        </p:nvSpPr>
        <p:spPr>
          <a:xfrm>
            <a:off x="2195640" y="2924280"/>
            <a:ext cx="5400720" cy="50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E061-783E-4A89-B8A5-05C0F177934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5640" y="43920"/>
            <a:ext cx="8964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Notice the Yellow Anchor,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This Will Not Show When Posted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20" name="Group 7"/>
          <p:cNvGrpSpPr/>
          <p:nvPr/>
        </p:nvGrpSpPr>
        <p:grpSpPr>
          <a:xfrm>
            <a:off x="1619280" y="1557360"/>
            <a:ext cx="6087960" cy="4140000"/>
            <a:chOff x="1619280" y="1557360"/>
            <a:chExt cx="6087960" cy="4140000"/>
          </a:xfrm>
        </p:grpSpPr>
        <p:pic>
          <p:nvPicPr>
            <p:cNvPr id="621" name="Picture 5" descr="anchorinsertname2"/>
            <p:cNvPicPr/>
            <p:nvPr/>
          </p:nvPicPr>
          <p:blipFill>
            <a:blip r:embed="rId1"/>
            <a:stretch/>
          </p:blipFill>
          <p:spPr>
            <a:xfrm>
              <a:off x="1693080" y="1557360"/>
              <a:ext cx="6014160" cy="414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22" name="Oval 6"/>
            <p:cNvSpPr/>
            <p:nvPr/>
          </p:nvSpPr>
          <p:spPr>
            <a:xfrm>
              <a:off x="1619280" y="3474360"/>
              <a:ext cx="1111680" cy="308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FB81-C0CA-4F87-91EB-7A3AE5F95AF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File&gt;Save As, Provide Name &amp; Locati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25" name="Group 7"/>
          <p:cNvGrpSpPr/>
          <p:nvPr/>
        </p:nvGrpSpPr>
        <p:grpSpPr>
          <a:xfrm>
            <a:off x="152280" y="1579680"/>
            <a:ext cx="6400440" cy="4581000"/>
            <a:chOff x="152280" y="1579680"/>
            <a:chExt cx="6400440" cy="4581000"/>
          </a:xfrm>
        </p:grpSpPr>
        <p:pic>
          <p:nvPicPr>
            <p:cNvPr id="626" name="Picture 5" descr="saveas"/>
            <p:cNvPicPr/>
            <p:nvPr/>
          </p:nvPicPr>
          <p:blipFill>
            <a:blip r:embed="rId1"/>
            <a:stretch/>
          </p:blipFill>
          <p:spPr>
            <a:xfrm>
              <a:off x="152280" y="1579680"/>
              <a:ext cx="6400440" cy="4581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27" name="Rectangle 6"/>
            <p:cNvSpPr/>
            <p:nvPr/>
          </p:nvSpPr>
          <p:spPr>
            <a:xfrm>
              <a:off x="352440" y="4031280"/>
              <a:ext cx="1231200" cy="193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Oval 8"/>
          <p:cNvSpPr/>
          <p:nvPr/>
        </p:nvSpPr>
        <p:spPr>
          <a:xfrm>
            <a:off x="1523880" y="1447920"/>
            <a:ext cx="7621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9"/>
          <p:cNvSpPr/>
          <p:nvPr/>
        </p:nvSpPr>
        <p:spPr>
          <a:xfrm>
            <a:off x="1523880" y="3124080"/>
            <a:ext cx="236232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6629400" y="2133720"/>
            <a:ext cx="2362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6323-2D7A-4A29-9509-EEA86D76AFE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an Duplicate Pag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ce the index.html page is set up as desired with the logo, header, and navigation buttons it can serve as a template for creating new pag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be sure to save each new page with new na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7ACD-5B9F-40AD-A9EE-4C58CDD8FEC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280" y="1698120"/>
            <a:ext cx="8007480" cy="266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 folder on your computer called website1 to hold all web pages and graphics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ptional: inside of the website1 folder create a folder called images to hold your graphic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304920" y="48150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l folders, webpages, and graphic names must be lowercase, no spaces, and no special characters for ease of linking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مربع نص 6"/>
          <p:cNvSpPr/>
          <p:nvPr/>
        </p:nvSpPr>
        <p:spPr>
          <a:xfrm>
            <a:off x="611280" y="333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  <a:ea typeface="Arial"/>
              </a:rPr>
              <a:t>Getting St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C5B0-7111-474A-968E-22B55CA33CA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099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File&gt;Preview in Browser&gt;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Select the desired browser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36" name="Group 9"/>
          <p:cNvGrpSpPr/>
          <p:nvPr/>
        </p:nvGrpSpPr>
        <p:grpSpPr>
          <a:xfrm>
            <a:off x="1116000" y="1295280"/>
            <a:ext cx="7265880" cy="4726080"/>
            <a:chOff x="1116000" y="1295280"/>
            <a:chExt cx="7265880" cy="4726080"/>
          </a:xfrm>
        </p:grpSpPr>
        <p:pic>
          <p:nvPicPr>
            <p:cNvPr id="637" name="Picture 6" descr="previewinternetexp"/>
            <p:cNvPicPr/>
            <p:nvPr/>
          </p:nvPicPr>
          <p:blipFill>
            <a:blip r:embed="rId1"/>
            <a:stretch/>
          </p:blipFill>
          <p:spPr>
            <a:xfrm>
              <a:off x="1116000" y="1399680"/>
              <a:ext cx="7265880" cy="4621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38" name="Oval 7"/>
            <p:cNvSpPr/>
            <p:nvPr/>
          </p:nvSpPr>
          <p:spPr>
            <a:xfrm>
              <a:off x="2483280" y="4663800"/>
              <a:ext cx="2268720" cy="3434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8"/>
            <p:cNvSpPr/>
            <p:nvPr/>
          </p:nvSpPr>
          <p:spPr>
            <a:xfrm>
              <a:off x="2483280" y="1295280"/>
              <a:ext cx="756000" cy="412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9"/>
            <p:cNvSpPr/>
            <p:nvPr/>
          </p:nvSpPr>
          <p:spPr>
            <a:xfrm>
              <a:off x="4600800" y="4801320"/>
              <a:ext cx="1965960" cy="3434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A3D1-B283-4F2F-8B65-F7AEA800B07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Notice How the Browser Opens in Front To Preview What it Will Look Like When Uploaded to the Server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43" name="Group 8"/>
          <p:cNvGrpSpPr/>
          <p:nvPr/>
        </p:nvGrpSpPr>
        <p:grpSpPr>
          <a:xfrm>
            <a:off x="990720" y="1700280"/>
            <a:ext cx="7311960" cy="4470480"/>
            <a:chOff x="990720" y="1700280"/>
            <a:chExt cx="7311960" cy="4470480"/>
          </a:xfrm>
        </p:grpSpPr>
        <p:pic>
          <p:nvPicPr>
            <p:cNvPr id="644" name="Picture 5" descr="preview"/>
            <p:cNvPicPr/>
            <p:nvPr/>
          </p:nvPicPr>
          <p:blipFill>
            <a:blip r:embed="rId1"/>
            <a:stretch/>
          </p:blipFill>
          <p:spPr>
            <a:xfrm>
              <a:off x="990720" y="1700280"/>
              <a:ext cx="7311960" cy="4470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45" name="Oval 6"/>
            <p:cNvSpPr/>
            <p:nvPr/>
          </p:nvSpPr>
          <p:spPr>
            <a:xfrm>
              <a:off x="2057400" y="2665440"/>
              <a:ext cx="83808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Text Box 7"/>
          <p:cNvSpPr/>
          <p:nvPr/>
        </p:nvSpPr>
        <p:spPr>
          <a:xfrm>
            <a:off x="2705040" y="5724360"/>
            <a:ext cx="55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en Finished Viewing Browser Red Button 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1454-C7D9-4906-A971-A8856914265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Optional: File&gt;Preview in Browser&gt;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Edit Browser List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49" name="Group 9"/>
          <p:cNvGrpSpPr/>
          <p:nvPr/>
        </p:nvGrpSpPr>
        <p:grpSpPr>
          <a:xfrm>
            <a:off x="1042920" y="1295280"/>
            <a:ext cx="7338960" cy="4942080"/>
            <a:chOff x="1042920" y="1295280"/>
            <a:chExt cx="7338960" cy="4942080"/>
          </a:xfrm>
        </p:grpSpPr>
        <p:pic>
          <p:nvPicPr>
            <p:cNvPr id="650" name="Picture 5" descr="previewinternetexp"/>
            <p:cNvPicPr/>
            <p:nvPr/>
          </p:nvPicPr>
          <p:blipFill>
            <a:blip r:embed="rId1"/>
            <a:stretch/>
          </p:blipFill>
          <p:spPr>
            <a:xfrm>
              <a:off x="1042920" y="1404360"/>
              <a:ext cx="7338960" cy="483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51" name="Oval 6"/>
            <p:cNvSpPr/>
            <p:nvPr/>
          </p:nvSpPr>
          <p:spPr>
            <a:xfrm>
              <a:off x="2347560" y="4817880"/>
              <a:ext cx="2291400" cy="359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8"/>
            <p:cNvSpPr/>
            <p:nvPr/>
          </p:nvSpPr>
          <p:spPr>
            <a:xfrm>
              <a:off x="4257360" y="5249160"/>
              <a:ext cx="2291400" cy="359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7"/>
            <p:cNvSpPr/>
            <p:nvPr/>
          </p:nvSpPr>
          <p:spPr>
            <a:xfrm>
              <a:off x="2423880" y="1295280"/>
              <a:ext cx="763560" cy="431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4413-9A6E-4070-8AB3-9F957831001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For Selecting Primary &amp; Secondary Browser Choices</a:t>
            </a: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56" name="Picture 5" descr="selectbrowser"/>
          <p:cNvPicPr/>
          <p:nvPr/>
        </p:nvPicPr>
        <p:blipFill>
          <a:blip r:embed="rId1"/>
          <a:stretch/>
        </p:blipFill>
        <p:spPr>
          <a:xfrm>
            <a:off x="1258920" y="1341360"/>
            <a:ext cx="6840360" cy="49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CEF2-9CC7-4942-9683-615F4760178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Viewing Options: HTML Code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59" name="Picture 5" descr="code"/>
          <p:cNvPicPr/>
          <p:nvPr/>
        </p:nvPicPr>
        <p:blipFill>
          <a:blip r:embed="rId1"/>
          <a:stretch/>
        </p:blipFill>
        <p:spPr>
          <a:xfrm>
            <a:off x="2050920" y="1424160"/>
            <a:ext cx="5264280" cy="482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0" name="Oval 6"/>
          <p:cNvSpPr/>
          <p:nvPr/>
        </p:nvSpPr>
        <p:spPr>
          <a:xfrm>
            <a:off x="2050920" y="2060640"/>
            <a:ext cx="714600" cy="503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E682-AAD2-4590-AFF5-2A1F1E84998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532764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Viewing Options: 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Split Code &amp; Design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63" name="Picture 6" descr="splitcodedesign"/>
          <p:cNvPicPr/>
          <p:nvPr/>
        </p:nvPicPr>
        <p:blipFill>
          <a:blip r:embed="rId1"/>
          <a:stretch/>
        </p:blipFill>
        <p:spPr>
          <a:xfrm>
            <a:off x="241200" y="1428840"/>
            <a:ext cx="6311880" cy="47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4" name="Oval 7"/>
          <p:cNvSpPr/>
          <p:nvPr/>
        </p:nvSpPr>
        <p:spPr>
          <a:xfrm>
            <a:off x="762120" y="2057400"/>
            <a:ext cx="8380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8"/>
          <p:cNvSpPr/>
          <p:nvPr/>
        </p:nvSpPr>
        <p:spPr>
          <a:xfrm>
            <a:off x="0" y="4800600"/>
            <a:ext cx="312408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0"/>
          <p:cNvSpPr/>
          <p:nvPr/>
        </p:nvSpPr>
        <p:spPr>
          <a:xfrm>
            <a:off x="1371600" y="2743200"/>
            <a:ext cx="449568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1"/>
          <p:cNvSpPr/>
          <p:nvPr/>
        </p:nvSpPr>
        <p:spPr>
          <a:xfrm>
            <a:off x="6705720" y="2057400"/>
            <a:ext cx="2133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Can Highlight Areas in Design Mode &amp; See It in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D8BD-ED46-472C-A76D-CC22FC5FE65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6360" y="188640"/>
            <a:ext cx="799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Viewing Options: Design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For Creating &amp; Editing Web Pages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70" name="Picture 6" descr="designmode"/>
          <p:cNvPicPr/>
          <p:nvPr/>
        </p:nvPicPr>
        <p:blipFill>
          <a:blip r:embed="rId1"/>
          <a:stretch/>
        </p:blipFill>
        <p:spPr>
          <a:xfrm>
            <a:off x="457200" y="1905120"/>
            <a:ext cx="8001000" cy="418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1" name="Oval 7"/>
          <p:cNvSpPr/>
          <p:nvPr/>
        </p:nvSpPr>
        <p:spPr>
          <a:xfrm>
            <a:off x="1523880" y="2590920"/>
            <a:ext cx="914400" cy="5331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4758-100E-47FB-BD87-0B909A9EA0B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File&gt;Save As, Provide Name &amp; Location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74" name="Group 5"/>
          <p:cNvGrpSpPr/>
          <p:nvPr/>
        </p:nvGrpSpPr>
        <p:grpSpPr>
          <a:xfrm>
            <a:off x="152280" y="1579680"/>
            <a:ext cx="6400440" cy="4581000"/>
            <a:chOff x="152280" y="1579680"/>
            <a:chExt cx="6400440" cy="4581000"/>
          </a:xfrm>
        </p:grpSpPr>
        <p:pic>
          <p:nvPicPr>
            <p:cNvPr id="675" name="Picture 6" descr="saveas"/>
            <p:cNvPicPr/>
            <p:nvPr/>
          </p:nvPicPr>
          <p:blipFill>
            <a:blip r:embed="rId1"/>
            <a:stretch/>
          </p:blipFill>
          <p:spPr>
            <a:xfrm>
              <a:off x="152280" y="1579680"/>
              <a:ext cx="6400440" cy="4581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76" name="Rectangle 7"/>
            <p:cNvSpPr/>
            <p:nvPr/>
          </p:nvSpPr>
          <p:spPr>
            <a:xfrm>
              <a:off x="352440" y="4031280"/>
              <a:ext cx="1231200" cy="193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Oval 8"/>
          <p:cNvSpPr/>
          <p:nvPr/>
        </p:nvSpPr>
        <p:spPr>
          <a:xfrm>
            <a:off x="1523880" y="1447920"/>
            <a:ext cx="7621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9"/>
          <p:cNvSpPr/>
          <p:nvPr/>
        </p:nvSpPr>
        <p:spPr>
          <a:xfrm>
            <a:off x="1523880" y="3124080"/>
            <a:ext cx="236232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6629400" y="2133720"/>
            <a:ext cx="2362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0ED7-E7F3-4DE9-B249-25895180F80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7280" y="43920"/>
            <a:ext cx="874872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New Folder: website1 (save webpage files 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inside of the folder)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82" name="Group 11"/>
          <p:cNvGrpSpPr/>
          <p:nvPr/>
        </p:nvGrpSpPr>
        <p:grpSpPr>
          <a:xfrm>
            <a:off x="468360" y="1600200"/>
            <a:ext cx="6305400" cy="4421160"/>
            <a:chOff x="468360" y="1600200"/>
            <a:chExt cx="6305400" cy="4421160"/>
          </a:xfrm>
        </p:grpSpPr>
        <p:pic>
          <p:nvPicPr>
            <p:cNvPr id="683" name="Picture 10" descr="saving"/>
            <p:cNvPicPr/>
            <p:nvPr/>
          </p:nvPicPr>
          <p:blipFill>
            <a:blip r:embed="rId1"/>
            <a:stretch/>
          </p:blipFill>
          <p:spPr>
            <a:xfrm>
              <a:off x="468360" y="1600200"/>
              <a:ext cx="6305400" cy="4421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84" name="Oval 6"/>
            <p:cNvSpPr/>
            <p:nvPr/>
          </p:nvSpPr>
          <p:spPr>
            <a:xfrm>
              <a:off x="2057040" y="2464560"/>
              <a:ext cx="1306080" cy="3344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7"/>
            <p:cNvSpPr/>
            <p:nvPr/>
          </p:nvSpPr>
          <p:spPr>
            <a:xfrm>
              <a:off x="1331280" y="1929240"/>
              <a:ext cx="2902320" cy="401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8"/>
            <p:cNvSpPr/>
            <p:nvPr/>
          </p:nvSpPr>
          <p:spPr>
            <a:xfrm>
              <a:off x="533160" y="5615640"/>
              <a:ext cx="1306080" cy="3344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9"/>
            <p:cNvSpPr/>
            <p:nvPr/>
          </p:nvSpPr>
          <p:spPr>
            <a:xfrm>
              <a:off x="2057040" y="4478040"/>
              <a:ext cx="1306080" cy="3344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 Box 11"/>
          <p:cNvSpPr/>
          <p:nvPr/>
        </p:nvSpPr>
        <p:spPr>
          <a:xfrm>
            <a:off x="6934320" y="1600200"/>
            <a:ext cx="18288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inder: Lowercase, No Spaces, No Special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59AF-214A-4096-B89B-BFD47D16E4D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87280" y="115560"/>
            <a:ext cx="8245440" cy="95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Example of Files in Your 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website1 folder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1" name="AutoShape 8"/>
          <p:cNvSpPr/>
          <p:nvPr/>
        </p:nvSpPr>
        <p:spPr>
          <a:xfrm>
            <a:off x="3505320" y="3352680"/>
            <a:ext cx="609480" cy="1219320"/>
          </a:xfrm>
          <a:custGeom>
            <a:avLst/>
            <a:gdLst>
              <a:gd name="textAreaLeft" fmla="*/ 350640 w 609480"/>
              <a:gd name="textAreaRight" fmla="*/ 514440 w 609480"/>
              <a:gd name="textAreaTop" fmla="*/ 164160 h 1219320"/>
              <a:gd name="textAreaBottom" fmla="*/ 52200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9" descr="webfolder"/>
          <p:cNvPicPr/>
          <p:nvPr/>
        </p:nvPicPr>
        <p:blipFill>
          <a:blip r:embed="rId1"/>
          <a:stretch/>
        </p:blipFill>
        <p:spPr>
          <a:xfrm>
            <a:off x="826920" y="1341360"/>
            <a:ext cx="4262760" cy="479916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7"/>
          <p:cNvSpPr/>
          <p:nvPr/>
        </p:nvSpPr>
        <p:spPr>
          <a:xfrm>
            <a:off x="5334120" y="13716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ust Have a Main Page Named index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1"/>
          <p:cNvSpPr/>
          <p:nvPr/>
        </p:nvSpPr>
        <p:spPr>
          <a:xfrm>
            <a:off x="5257800" y="3645000"/>
            <a:ext cx="3657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age names may be different from this example &amp; will be an exact name match to  your navigation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C8E6-1140-413D-AAB6-91CFA17C663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8" descr="dream1"/>
          <p:cNvPicPr/>
          <p:nvPr/>
        </p:nvPicPr>
        <p:blipFill>
          <a:blip r:embed="rId1"/>
          <a:stretch/>
        </p:blipFill>
        <p:spPr>
          <a:xfrm>
            <a:off x="1979640" y="1300320"/>
            <a:ext cx="5564160" cy="486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Launch Dreamweaver Select HT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3639960" y="2565360"/>
            <a:ext cx="121932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5660-B2E9-44BF-BFF0-9FF70E071B1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eaa2e"/>
                </a:solidFill>
                <a:latin typeface="Gill Sans MT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C5DE-DA73-4BAA-B4D8-9C59736B1CA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New Page Appear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0" name="Picture 10" descr="dream2"/>
          <p:cNvPicPr/>
          <p:nvPr/>
        </p:nvPicPr>
        <p:blipFill>
          <a:blip r:embed="rId1"/>
          <a:stretch/>
        </p:blipFill>
        <p:spPr>
          <a:xfrm>
            <a:off x="1295280" y="1415880"/>
            <a:ext cx="6553440" cy="482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A899-D50D-468E-A8D4-771AB903EA5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Or Select File&gt;New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3" name="Picture 5" descr="dream3"/>
          <p:cNvPicPr/>
          <p:nvPr/>
        </p:nvPicPr>
        <p:blipFill>
          <a:blip r:embed="rId1"/>
          <a:stretch/>
        </p:blipFill>
        <p:spPr>
          <a:xfrm>
            <a:off x="1066680" y="1295280"/>
            <a:ext cx="7021800" cy="471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4" name="Oval 6"/>
          <p:cNvSpPr/>
          <p:nvPr/>
        </p:nvSpPr>
        <p:spPr>
          <a:xfrm>
            <a:off x="2286000" y="1143000"/>
            <a:ext cx="213372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ECCE-6CCF-4CD4-A5BD-E57E0188AEA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8" descr="dream3"/>
          <p:cNvPicPr/>
          <p:nvPr/>
        </p:nvPicPr>
        <p:blipFill>
          <a:blip r:embed="rId1"/>
          <a:stretch/>
        </p:blipFill>
        <p:spPr>
          <a:xfrm>
            <a:off x="1523880" y="1219320"/>
            <a:ext cx="6410520" cy="513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lect HTML, Crea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3362400" y="1901880"/>
            <a:ext cx="121896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7"/>
          <p:cNvSpPr/>
          <p:nvPr/>
        </p:nvSpPr>
        <p:spPr>
          <a:xfrm>
            <a:off x="6791400" y="6019920"/>
            <a:ext cx="121896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F591-69C1-480A-9129-A82C0667701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01:54:30Z</dcterms:created>
  <dc:creator>Janet Holland</dc:creator>
  <dc:description/>
  <dc:language>en-US</dc:language>
  <cp:lastModifiedBy>Bader</cp:lastModifiedBy>
  <cp:lastPrinted>2005-06-09T14:21:05Z</cp:lastPrinted>
  <dcterms:modified xsi:type="dcterms:W3CDTF">2012-03-30T16:27:35Z</dcterms:modified>
  <cp:revision>176</cp:revision>
  <dc:subject/>
  <dc:title>Macromedia Dreamweaver MX2004</dc:title>
</cp:coreProperties>
</file>