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9.jpeg" ContentType="image/jpeg"/>
  <Override PartName="/ppt/media/image31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46.jpeg" ContentType="image/jpeg"/>
  <Override PartName="/ppt/media/image47.jpeg" ContentType="image/jpeg"/>
  <Override PartName="/ppt/media/image30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5ACB-5D13-4B3B-8B3B-476AD52C6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1420-E317-4AD9-9FC1-BE3959D2A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D332-9038-4119-B35A-1D98D54DD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0BCD-1B7E-41FC-A6D1-E6E08239A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2E1B-316B-4A9F-8FA1-A1C5D12EB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2F0D-E1F9-4F5C-A5D3-C63EC6A33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913C-D45F-4E42-B59D-5C1AC22CF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16C5-B547-415E-B08F-61561C051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1B67-6B2A-4E8B-94A9-FC3F89E52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9785-3159-44C9-AEB1-DFFF5AD01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FF72-C545-45CC-B169-7F37317F9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9A2E-E6D1-4BEF-8E8C-2999AB8F0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77D4-86AF-4F15-8AB5-0662A477E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B4E5-00EE-4683-BE50-5E592A4F8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1307-C70E-4D8E-B6C8-A376DE117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C4CC-D5E6-4F8D-8F44-FA64D4305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215D-A669-49B8-B53E-98E1AA124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C818-8A5D-4E4A-ADF7-35D635695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B04D-42A1-48DB-B779-1D55D25B1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7273-3FA3-43E7-93D8-E098A6BD0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54CD-BE08-4EE9-8181-EC0E64682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1B02-CA44-4D83-985A-ABBEB5E61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E69A-F452-4C96-85D0-F8607BA81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5DB3-AEED-4B4F-9EBB-15E3A05B7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FF09-6222-42DE-9794-FF7C1E117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F725-2236-4D17-B46A-B8C68373B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7B29-B880-4010-BAD1-2FBD3D6F9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3444-D42E-4302-B8F5-3B53E8206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CD85-9E46-4833-A406-D768681B6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1FE7-79A3-4236-AE9D-D657F355B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8277-A819-488B-B3D8-58BAE62CF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7FC7-18B1-468E-8B6E-5133272A4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A1B4-7278-42C5-8158-1F252DFA4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F10C-8088-47E6-BB7C-38F6E4F69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16B9-31CB-4C04-A8B1-22F30C9CE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D9F5-A39F-42C3-9F36-87E8A9E81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12BD-2FD6-4078-9201-5B39ABF4A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DD65-9E1B-4090-9A63-E465EA546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D032-3BD9-4CFE-9098-42B8447E4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F23A-66C3-4B42-8777-8E08D68F6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979A-2F5F-4726-8662-F4E33A907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C3A7-FB25-4F14-9237-735C8A798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C855-5FE4-4C35-A272-787B97703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C08F-6193-4FB1-877E-E0B9BFBCB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EEDE-BE7E-4358-970B-8656D8648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F4A8-B4DF-4D5C-A920-2FB6C7328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4ECC-6153-4A51-B413-52ED0CA4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F128-8466-4DA4-A094-4A438E28B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8DB2-6A66-453E-80F0-BFC66856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8564-51C8-4934-A951-AAAE1E4E8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52D6-5FE2-4879-A1E3-F0A409807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B773-6AB3-4FD2-BCC4-C633F92AE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60DC-3B5C-4926-82FB-1ADF348B6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C90C-082C-41AC-9681-E72C4B400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9922-B9CF-4EA3-8C3D-7DAFA847B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8745-07B9-41F2-959D-0FCE609F7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585B-2E66-4AE0-9E49-9153B12D3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E75-9FFC-4A3E-89EA-1137F28A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E6E-3397-4B3F-8FCA-E56A0377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486-BED0-4C21-A240-75526DC1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BFE-383F-4CE3-A654-83275583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9A77-2201-490A-BA10-8AA3542F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B36A-11B0-4184-9DE3-6FCB7B55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D944-544E-43CB-8081-01FE75B3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607C-A3A4-4737-9FAF-D0AFF81A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5A3F-A246-4101-92B7-E39EDB70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4DC2-FC60-44A8-8DD7-07E6622D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FA65-7BE9-4921-9489-D545956E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75F-F6FA-47BE-B99F-4EFE0643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8837-D305-47F4-B7B7-60269F47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F8E5-D387-476B-A21A-FB6A1983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8658-5F17-4575-B713-5AACBE8B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086C-105E-4891-B2A0-7C4E2F22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443B-00EF-428D-B008-D3596F6C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8B59F-E684-4924-B246-3CEE710F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6AA8-4C80-427D-B9B6-538276FC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3706-BE0F-48DB-96DE-44DCF984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60D47-1BE4-43A4-8B9A-C0A3E89D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125BF-BE19-4188-BF5A-E8021A84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222-65E8-4268-B9FA-4E10A618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059DF-CCB9-490A-97A7-73F5872E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3014C-BD14-478F-88B3-CBE6BAEF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9B9C8-BF5B-4F73-AC50-6C6D6A14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5B574-97AE-468E-9FF8-3913D5BC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CA89C-A834-48D1-9A16-955690B2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82239-BF7B-4C1A-9237-FEB91DCF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2679-1D9C-4332-AFF1-8D8A1907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757EF-4D9F-41D2-B9F5-3795C9FC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08F3C-F943-4E39-B0EF-25EF0B45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626FE-64EE-4ECB-926E-94EF0D65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0D8-9EE0-4700-A319-E50A417F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DAEB8-981A-41DB-9793-8D2ADD24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063CB-9BE8-4A64-9A37-086FBD61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D36C4-9DB6-48A2-86A1-F2888455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007A0-A2D2-47AB-8616-6B31B92F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AE608-74F5-4FA3-B993-575350F3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E4C70-8406-4407-8023-67460D9C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AB777-250D-4292-A34B-0250B562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6F80F-A7BE-4BB1-B7AF-B1677402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F58A9-DF6A-4F69-97AA-DD799AEF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B60DF-A1DE-44B7-A665-8C17B51E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730-1BC8-4EDE-A6C6-64DB55EB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AD505-D80D-4F01-96EF-3FAA8F3A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FC8D6-C217-410C-80E5-F47EB196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C397F-26C8-405D-BA25-F603258C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D0312-13ED-4B96-8267-F6DBF07D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4798A-DAB0-4800-B4D6-4925E90F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89002-E822-4ABA-9881-B86CA77C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93048-821E-4056-8B7C-F8B245F1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D7A8A-5CD7-4CA0-A59E-99AEBA24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8FE47-E249-4D76-9385-9256A1FD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4D6A9-DE2A-4495-AF63-6C5FCC66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B93-38AD-4FB7-A9E1-5701AB13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7B4B5-9FA3-49C9-A548-C33D318B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2AFE3-3526-425D-BB81-AB3184FD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49D38-05E2-4D80-B06F-940B1EE0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88003-809B-4225-93AA-45B0DB15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FC2E5-4EA4-4384-8979-872BDC9F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CCE30-8721-46DF-8CE5-760721AE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DB0F9-A66C-4EF0-8FB5-4B09CE2E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0BEF6-DE8E-4A10-9A0E-D57C17CB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3362C-8DBA-4A25-B97F-54436763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B7FB5-A0A2-4EA7-9BF9-B6041EBF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08D-18C6-4585-9A5B-9D620B33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6AA99-94AF-40C3-8B7A-59F1DE68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FC7E0-446C-4279-A95C-DB999ED4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36F41-DC90-4FB0-86B4-EA984ACD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1C41D-AB4C-4B27-97EC-AFA37468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70049-5362-4ADF-8EDB-DC359FC0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F789D-0911-44CD-9B99-95F22476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E23BA-8381-4905-89EB-8E571C4F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1E1C9-A7C7-4D9E-9DDB-4240439A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9D385-CEBB-4A7D-9856-7146D558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D7850-0A54-4841-B255-09262BEA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4D3-1CCE-45E4-9F4D-12172EFA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192D3-8BE5-4F2E-9FDA-FCE373EA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BDAE9-B646-466A-9793-2AF98464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2AF78-7DD8-49B5-9EFC-2C509F28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DD8F7-7F59-4B45-8895-D30713A4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ED93A-8BD0-46EF-A3DB-89C00974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2EF70-BDD2-4697-BB1E-6E87F0D1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1EFAD-75EA-45A0-A52A-66CD8C37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0C73F-6BC4-4472-A4B5-90D9B2AD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8763B-B852-4087-8DEB-48124398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585A3-A683-4961-83BE-0F96CCDF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E8C-03A3-4E62-B41F-773A36E9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B1013-2E93-48AD-AAC8-643DFD14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2DD3E-D4C5-4892-9E31-D4E9DF59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199BE-CE4F-41F8-AA75-0AFED5E6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8664C-DCCC-4936-B22F-BCC7F2A0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10A1C-A2EE-4243-B708-93EAB3F3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D5B9E-244A-4C93-B464-D8A47756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97F13-805F-4A21-A962-A05E6567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F03E-747D-4E37-A253-67A1ABCC9A5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D858-952A-4638-B5C8-E85A9BB5050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AFBA-6718-4478-AF19-1448F71CEDF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488A-DE48-4C4E-8631-3A582A3977B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E135-8184-485D-BB10-70616318ED2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48C9-2904-45D4-A3B4-AD8BA8B51D6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695C-0931-48BD-B3B1-0564E4C534C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39CB-72D1-47FA-BD8A-C0A19CF153A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http://4.bp.blogspot.com/-qXRHCShuC9s/T2MWJLgCUmI/AAAAAAAAA30/fHyneuJDo_Q/s1600/macromedia%2Bdreamweaver.png"/>
          <p:cNvPicPr/>
          <p:nvPr/>
        </p:nvPicPr>
        <p:blipFill>
          <a:blip r:embed="rId1"/>
          <a:stretch/>
        </p:blipFill>
        <p:spPr>
          <a:xfrm>
            <a:off x="684360" y="700200"/>
            <a:ext cx="7848360" cy="5918040"/>
          </a:xfrm>
          <a:prstGeom prst="rect">
            <a:avLst/>
          </a:prstGeom>
          <a:ln w="0">
            <a:noFill/>
          </a:ln>
        </p:spPr>
      </p:pic>
      <p:sp>
        <p:nvSpPr>
          <p:cNvPr id="360" name="مربع نص 5"/>
          <p:cNvSpPr/>
          <p:nvPr/>
        </p:nvSpPr>
        <p:spPr>
          <a:xfrm>
            <a:off x="1908000" y="1700280"/>
            <a:ext cx="511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 2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2ED0-07F2-4F11-AC2A-A6243B081BB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00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Window&gt;Insert, Properties, Files Have a Check Mark When Activ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2" name="Group 7"/>
          <p:cNvGrpSpPr/>
          <p:nvPr/>
        </p:nvGrpSpPr>
        <p:grpSpPr>
          <a:xfrm>
            <a:off x="1116000" y="1341360"/>
            <a:ext cx="7056360" cy="4896000"/>
            <a:chOff x="1116000" y="1341360"/>
            <a:chExt cx="7056360" cy="4896000"/>
          </a:xfrm>
        </p:grpSpPr>
        <p:pic>
          <p:nvPicPr>
            <p:cNvPr id="393" name="Picture 5" descr="dream5"/>
            <p:cNvPicPr/>
            <p:nvPr/>
          </p:nvPicPr>
          <p:blipFill>
            <a:blip r:embed="rId1"/>
            <a:stretch/>
          </p:blipFill>
          <p:spPr>
            <a:xfrm>
              <a:off x="1116000" y="1414080"/>
              <a:ext cx="7056360" cy="4823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94" name="Rectangle 7"/>
            <p:cNvSpPr/>
            <p:nvPr/>
          </p:nvSpPr>
          <p:spPr>
            <a:xfrm>
              <a:off x="6163560" y="1341360"/>
              <a:ext cx="2004120" cy="262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F494-FE1C-4917-B731-64DB83DB0F7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ting Up a New Websi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7" name="Picture 4" descr="dream4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Text Box 5"/>
          <p:cNvSpPr/>
          <p:nvPr/>
        </p:nvSpPr>
        <p:spPr>
          <a:xfrm>
            <a:off x="1905120" y="327672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&gt;Files Checked You Will See The Files Palette on the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6781680" y="2286000"/>
            <a:ext cx="2057400" cy="4191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5562720" y="26668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"/>
          <p:cNvSpPr/>
          <p:nvPr/>
        </p:nvSpPr>
        <p:spPr>
          <a:xfrm>
            <a:off x="5334120" y="1447920"/>
            <a:ext cx="76176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CE87-E2A2-492B-87B5-2FB03170942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53640"/>
            <a:ext cx="7988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From the Pop Up Files Palette Window: Select Manage Sit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4" name="Picture 4" descr="dream5"/>
          <p:cNvPicPr/>
          <p:nvPr/>
        </p:nvPicPr>
        <p:blipFill>
          <a:blip r:embed="rId1"/>
          <a:stretch/>
        </p:blipFill>
        <p:spPr>
          <a:xfrm>
            <a:off x="325440" y="2011320"/>
            <a:ext cx="8742240" cy="400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5" name="Oval 5"/>
          <p:cNvSpPr/>
          <p:nvPr/>
        </p:nvSpPr>
        <p:spPr>
          <a:xfrm>
            <a:off x="6705720" y="3352680"/>
            <a:ext cx="205740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D1A7-CA60-4D3B-B1F3-3E674071866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The New Button&gt;Si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8" name="Picture 4" descr="dream6"/>
          <p:cNvPicPr/>
          <p:nvPr/>
        </p:nvPicPr>
        <p:blipFill>
          <a:blip r:embed="rId1"/>
          <a:stretch/>
        </p:blipFill>
        <p:spPr>
          <a:xfrm>
            <a:off x="228600" y="1560600"/>
            <a:ext cx="8610480" cy="45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9" name="Oval 5"/>
          <p:cNvSpPr/>
          <p:nvPr/>
        </p:nvSpPr>
        <p:spPr>
          <a:xfrm>
            <a:off x="4800600" y="3809880"/>
            <a:ext cx="205740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1E8C-D50D-468A-B7B2-71F8B9862B7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 the New Site Defini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2" name="Picture 4" descr="dream7"/>
          <p:cNvPicPr/>
          <p:nvPr/>
        </p:nvPicPr>
        <p:blipFill>
          <a:blip r:embed="rId1"/>
          <a:stretch/>
        </p:blipFill>
        <p:spPr>
          <a:xfrm>
            <a:off x="0" y="1295280"/>
            <a:ext cx="5334120" cy="515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3" name="Rectangle 8"/>
          <p:cNvSpPr/>
          <p:nvPr/>
        </p:nvSpPr>
        <p:spPr>
          <a:xfrm>
            <a:off x="1905120" y="1981080"/>
            <a:ext cx="18381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1600200" y="2209680"/>
            <a:ext cx="29415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1447920" y="2522520"/>
            <a:ext cx="316224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1752480" y="3124080"/>
            <a:ext cx="279576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2"/>
          <p:cNvSpPr/>
          <p:nvPr/>
        </p:nvSpPr>
        <p:spPr>
          <a:xfrm>
            <a:off x="2535120" y="1371600"/>
            <a:ext cx="58896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5410080" y="1066680"/>
            <a:ext cx="33530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ame Your Web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lick on the Folder Icon &amp; Locate the website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lick on the Folder Icon &amp; Locate the images folder inside of the website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3"/>
          <p:cNvSpPr/>
          <p:nvPr/>
        </p:nvSpPr>
        <p:spPr>
          <a:xfrm>
            <a:off x="4343400" y="6095880"/>
            <a:ext cx="74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1602000" y="1905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1290960" y="214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11448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7"/>
          <p:cNvSpPr/>
          <p:nvPr/>
        </p:nvSpPr>
        <p:spPr>
          <a:xfrm>
            <a:off x="1443240" y="306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76320" y="1752480"/>
            <a:ext cx="9144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770E-522E-4179-8F8B-7FAF940E382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44280"/>
            <a:ext cx="8534520" cy="9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The File Structure You Creat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7" name="Group 6"/>
          <p:cNvGrpSpPr/>
          <p:nvPr/>
        </p:nvGrpSpPr>
        <p:grpSpPr>
          <a:xfrm>
            <a:off x="1143000" y="1295280"/>
            <a:ext cx="6781680" cy="4654800"/>
            <a:chOff x="1143000" y="1295280"/>
            <a:chExt cx="6781680" cy="4654800"/>
          </a:xfrm>
        </p:grpSpPr>
        <p:pic>
          <p:nvPicPr>
            <p:cNvPr id="428" name="Picture 4" descr="dream8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6781680" cy="465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29" name="AutoShape 6"/>
            <p:cNvSpPr/>
            <p:nvPr/>
          </p:nvSpPr>
          <p:spPr>
            <a:xfrm>
              <a:off x="4419360" y="2811240"/>
              <a:ext cx="1828800" cy="206640"/>
            </a:xfrm>
            <a:prstGeom prst="rightArrow">
              <a:avLst>
                <a:gd name="adj1" fmla="val 50000"/>
                <a:gd name="adj2" fmla="val 2212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7"/>
            <p:cNvSpPr/>
            <p:nvPr/>
          </p:nvSpPr>
          <p:spPr>
            <a:xfrm>
              <a:off x="4114800" y="2604600"/>
              <a:ext cx="1828800" cy="206640"/>
            </a:xfrm>
            <a:prstGeom prst="rightArrow">
              <a:avLst>
                <a:gd name="adj1" fmla="val 50000"/>
                <a:gd name="adj2" fmla="val 2212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5A18-9241-46DB-A1A3-C8B1E69BCA2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791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egin Creating the index.html main webpag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33" name="Group 5"/>
          <p:cNvGrpSpPr/>
          <p:nvPr/>
        </p:nvGrpSpPr>
        <p:grpSpPr>
          <a:xfrm>
            <a:off x="1066680" y="1268280"/>
            <a:ext cx="7021800" cy="4869000"/>
            <a:chOff x="1066680" y="1268280"/>
            <a:chExt cx="7021800" cy="4869000"/>
          </a:xfrm>
        </p:grpSpPr>
        <p:pic>
          <p:nvPicPr>
            <p:cNvPr id="434" name="Picture 5" descr="dream3"/>
            <p:cNvPicPr/>
            <p:nvPr/>
          </p:nvPicPr>
          <p:blipFill>
            <a:blip r:embed="rId1"/>
            <a:stretch/>
          </p:blipFill>
          <p:spPr>
            <a:xfrm>
              <a:off x="1066680" y="1420560"/>
              <a:ext cx="7021800" cy="4716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35" name="Oval 6"/>
            <p:cNvSpPr/>
            <p:nvPr/>
          </p:nvSpPr>
          <p:spPr>
            <a:xfrm>
              <a:off x="2285640" y="1268280"/>
              <a:ext cx="2133720" cy="685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72CF-36FC-475E-AEEC-62C0595F145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Modify&gt;Page Properti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38" name="Group 7"/>
          <p:cNvGrpSpPr/>
          <p:nvPr/>
        </p:nvGrpSpPr>
        <p:grpSpPr>
          <a:xfrm>
            <a:off x="826920" y="1341360"/>
            <a:ext cx="7345440" cy="4775400"/>
            <a:chOff x="826920" y="1341360"/>
            <a:chExt cx="7345440" cy="4775400"/>
          </a:xfrm>
        </p:grpSpPr>
        <p:pic>
          <p:nvPicPr>
            <p:cNvPr id="439" name="Picture 5" descr="dream6"/>
            <p:cNvPicPr/>
            <p:nvPr/>
          </p:nvPicPr>
          <p:blipFill>
            <a:blip r:embed="rId1"/>
            <a:stretch/>
          </p:blipFill>
          <p:spPr>
            <a:xfrm>
              <a:off x="826920" y="1467720"/>
              <a:ext cx="7345440" cy="4649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0" name="Oval 6"/>
            <p:cNvSpPr/>
            <p:nvPr/>
          </p:nvSpPr>
          <p:spPr>
            <a:xfrm>
              <a:off x="4030200" y="1341360"/>
              <a:ext cx="2107440" cy="613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FF9B-8AC8-4AF4-8507-E8EF8EF1C4C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Appearance, Set Font, Text, Background Col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43" name="Group 8"/>
          <p:cNvGrpSpPr/>
          <p:nvPr/>
        </p:nvGrpSpPr>
        <p:grpSpPr>
          <a:xfrm>
            <a:off x="1187280" y="1622520"/>
            <a:ext cx="6958080" cy="4398840"/>
            <a:chOff x="1187280" y="1622520"/>
            <a:chExt cx="6958080" cy="4398840"/>
          </a:xfrm>
        </p:grpSpPr>
        <p:pic>
          <p:nvPicPr>
            <p:cNvPr id="444" name="Picture 5" descr="dream7"/>
            <p:cNvPicPr/>
            <p:nvPr/>
          </p:nvPicPr>
          <p:blipFill>
            <a:blip r:embed="rId1"/>
            <a:stretch/>
          </p:blipFill>
          <p:spPr>
            <a:xfrm>
              <a:off x="1187280" y="1622520"/>
              <a:ext cx="6958080" cy="4398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5" name="Oval 6"/>
            <p:cNvSpPr/>
            <p:nvPr/>
          </p:nvSpPr>
          <p:spPr>
            <a:xfrm>
              <a:off x="4391280" y="2576160"/>
              <a:ext cx="1423800" cy="329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2397600" y="3037320"/>
              <a:ext cx="1210320" cy="26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72CD-1FB4-4FB8-ABBE-778B03C3EE1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Links, Set Link, Visited Link Colo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49" name="Group 8"/>
          <p:cNvGrpSpPr/>
          <p:nvPr/>
        </p:nvGrpSpPr>
        <p:grpSpPr>
          <a:xfrm>
            <a:off x="1116000" y="1413000"/>
            <a:ext cx="7257960" cy="4721040"/>
            <a:chOff x="1116000" y="1413000"/>
            <a:chExt cx="7257960" cy="4721040"/>
          </a:xfrm>
        </p:grpSpPr>
        <p:pic>
          <p:nvPicPr>
            <p:cNvPr id="450" name="Picture 5" descr="dream8"/>
            <p:cNvPicPr/>
            <p:nvPr/>
          </p:nvPicPr>
          <p:blipFill>
            <a:blip r:embed="rId1"/>
            <a:stretch/>
          </p:blipFill>
          <p:spPr>
            <a:xfrm>
              <a:off x="1116000" y="1413000"/>
              <a:ext cx="7257960" cy="4721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1" name="Oval 6"/>
            <p:cNvSpPr/>
            <p:nvPr/>
          </p:nvSpPr>
          <p:spPr>
            <a:xfrm>
              <a:off x="4304160" y="2485440"/>
              <a:ext cx="1482840" cy="357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7"/>
            <p:cNvSpPr/>
            <p:nvPr/>
          </p:nvSpPr>
          <p:spPr>
            <a:xfrm>
              <a:off x="2376360" y="2986200"/>
              <a:ext cx="1260360" cy="357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204C-E38E-4F67-BC84-E775550570E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Website Plann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even considering the practical aspects of creating a website, there are some important fundamental questio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need to ask yourself fir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are we hoping to achiev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's our target audienc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catergory, if any, does our site fall into: ecommerce, informational, educational, social networking, etc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visually exciting does it need to be to be effectiv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tone do we want our content to convey, could it be serious or witty, complex or simpl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A9F0-D247-4377-8914-E55E9827185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36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the Curser on the Page, Select Alignment, Type in Tex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5651640" y="2260440"/>
            <a:ext cx="29718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Alignment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7"/>
          <p:cNvGrpSpPr/>
          <p:nvPr/>
        </p:nvGrpSpPr>
        <p:grpSpPr>
          <a:xfrm>
            <a:off x="755640" y="1515960"/>
            <a:ext cx="4462560" cy="4505400"/>
            <a:chOff x="755640" y="1515960"/>
            <a:chExt cx="4462560" cy="4505400"/>
          </a:xfrm>
        </p:grpSpPr>
        <p:pic>
          <p:nvPicPr>
            <p:cNvPr id="457" name="Picture 6" descr="title"/>
            <p:cNvPicPr/>
            <p:nvPr/>
          </p:nvPicPr>
          <p:blipFill>
            <a:blip r:embed="rId1"/>
            <a:stretch/>
          </p:blipFill>
          <p:spPr>
            <a:xfrm>
              <a:off x="755640" y="1515960"/>
              <a:ext cx="4462560" cy="4505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8" name="Oval 7"/>
            <p:cNvSpPr/>
            <p:nvPr/>
          </p:nvSpPr>
          <p:spPr>
            <a:xfrm>
              <a:off x="3882600" y="5208120"/>
              <a:ext cx="775080" cy="3128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0"/>
            <p:cNvSpPr/>
            <p:nvPr/>
          </p:nvSpPr>
          <p:spPr>
            <a:xfrm>
              <a:off x="4076280" y="4081680"/>
              <a:ext cx="281520" cy="1063800"/>
            </a:xfrm>
            <a:prstGeom prst="downArrow">
              <a:avLst>
                <a:gd name="adj1" fmla="val 50000"/>
                <a:gd name="adj2" fmla="val 9446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889D-7772-43BB-A736-182AAC36C55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2360" y="189000"/>
            <a:ext cx="8352000" cy="8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Highlight Text, Select Ariel Fo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2" name="Group 8"/>
          <p:cNvGrpSpPr/>
          <p:nvPr/>
        </p:nvGrpSpPr>
        <p:grpSpPr>
          <a:xfrm>
            <a:off x="3708360" y="1582560"/>
            <a:ext cx="4137120" cy="4510440"/>
            <a:chOff x="3708360" y="1582560"/>
            <a:chExt cx="4137120" cy="4510440"/>
          </a:xfrm>
        </p:grpSpPr>
        <p:pic>
          <p:nvPicPr>
            <p:cNvPr id="463" name="Picture 5" descr="titlefont"/>
            <p:cNvPicPr/>
            <p:nvPr/>
          </p:nvPicPr>
          <p:blipFill>
            <a:blip r:embed="rId1"/>
            <a:stretch/>
          </p:blipFill>
          <p:spPr>
            <a:xfrm>
              <a:off x="3711240" y="1582560"/>
              <a:ext cx="4134240" cy="451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64" name="Oval 6"/>
            <p:cNvSpPr/>
            <p:nvPr/>
          </p:nvSpPr>
          <p:spPr>
            <a:xfrm>
              <a:off x="3708360" y="5166360"/>
              <a:ext cx="3017520" cy="308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7"/>
          <p:cNvSpPr/>
          <p:nvPr/>
        </p:nvSpPr>
        <p:spPr>
          <a:xfrm>
            <a:off x="250920" y="2421000"/>
            <a:ext cx="2971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nt Pop-up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4C02-3828-4B16-8B30-557F853D03B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Highlight Text, &amp; Select the Title </a:t>
            </a:r>
            <a:br>
              <a:rPr sz="3200"/>
            </a:b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Format Siz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24000" y="1484280"/>
            <a:ext cx="25905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-up Format for Title Heading Size: Exampl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8"/>
          <p:cNvGrpSpPr/>
          <p:nvPr/>
        </p:nvGrpSpPr>
        <p:grpSpPr>
          <a:xfrm>
            <a:off x="3305160" y="1341360"/>
            <a:ext cx="4579920" cy="4792680"/>
            <a:chOff x="3305160" y="1341360"/>
            <a:chExt cx="4579920" cy="4792680"/>
          </a:xfrm>
        </p:grpSpPr>
        <p:pic>
          <p:nvPicPr>
            <p:cNvPr id="470" name="Picture 5" descr="titlesize"/>
            <p:cNvPicPr/>
            <p:nvPr/>
          </p:nvPicPr>
          <p:blipFill>
            <a:blip r:embed="rId1"/>
            <a:stretch/>
          </p:blipFill>
          <p:spPr>
            <a:xfrm>
              <a:off x="3305160" y="1341360"/>
              <a:ext cx="4579920" cy="4792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1" name="Oval 7"/>
            <p:cNvSpPr/>
            <p:nvPr/>
          </p:nvSpPr>
          <p:spPr>
            <a:xfrm>
              <a:off x="3612240" y="5268960"/>
              <a:ext cx="1157040" cy="3326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5B9E-817F-4511-9B4F-92E75972F63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360" y="759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Or to Create a Title With a Graphic: Insert&gt;Table or Select Table Ic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74" name="Group 10"/>
          <p:cNvGrpSpPr/>
          <p:nvPr/>
        </p:nvGrpSpPr>
        <p:grpSpPr>
          <a:xfrm>
            <a:off x="900000" y="1515960"/>
            <a:ext cx="7718400" cy="4649760"/>
            <a:chOff x="900000" y="1515960"/>
            <a:chExt cx="7718400" cy="4649760"/>
          </a:xfrm>
        </p:grpSpPr>
        <p:pic>
          <p:nvPicPr>
            <p:cNvPr id="475" name="Picture 5" descr="dream9"/>
            <p:cNvPicPr/>
            <p:nvPr/>
          </p:nvPicPr>
          <p:blipFill>
            <a:blip r:embed="rId1"/>
            <a:stretch/>
          </p:blipFill>
          <p:spPr>
            <a:xfrm>
              <a:off x="900000" y="1584360"/>
              <a:ext cx="7425000" cy="458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6" name="Oval 6"/>
            <p:cNvSpPr/>
            <p:nvPr/>
          </p:nvSpPr>
          <p:spPr>
            <a:xfrm>
              <a:off x="3597480" y="1515960"/>
              <a:ext cx="824040" cy="410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"/>
            <p:cNvSpPr/>
            <p:nvPr/>
          </p:nvSpPr>
          <p:spPr>
            <a:xfrm>
              <a:off x="3597480" y="2473920"/>
              <a:ext cx="2172960" cy="342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8"/>
            <p:cNvSpPr/>
            <p:nvPr/>
          </p:nvSpPr>
          <p:spPr>
            <a:xfrm>
              <a:off x="3147840" y="1721160"/>
              <a:ext cx="374400" cy="342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9"/>
            <p:cNvSpPr/>
            <p:nvPr/>
          </p:nvSpPr>
          <p:spPr>
            <a:xfrm>
              <a:off x="5695920" y="3569040"/>
              <a:ext cx="292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ables control object pla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7712-F668-47C2-945B-C7BF77A31E5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titletable"/>
          <p:cNvPicPr/>
          <p:nvPr/>
        </p:nvPicPr>
        <p:blipFill>
          <a:blip r:embed="rId1"/>
          <a:stretch/>
        </p:blipFill>
        <p:spPr>
          <a:xfrm>
            <a:off x="762120" y="1523880"/>
            <a:ext cx="5102280" cy="471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2360" y="75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 Row, Column, Table Width, </a:t>
            </a:r>
            <a:br>
              <a:rPr sz="3200"/>
            </a:b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order, O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6172200" y="2057400"/>
            <a:ext cx="2590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tle Examp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0"/>
          <p:cNvSpPr/>
          <p:nvPr/>
        </p:nvSpPr>
        <p:spPr>
          <a:xfrm>
            <a:off x="2514600" y="2286000"/>
            <a:ext cx="297180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6EB5-43C1-4504-871F-A2A2F7E10A1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Adjust Column Width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5791320" y="167652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g Table Column Line Left or Right to Adjust the Wi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7"/>
          <p:cNvGrpSpPr/>
          <p:nvPr/>
        </p:nvGrpSpPr>
        <p:grpSpPr>
          <a:xfrm>
            <a:off x="684360" y="1295280"/>
            <a:ext cx="4694040" cy="4870440"/>
            <a:chOff x="684360" y="1295280"/>
            <a:chExt cx="4694040" cy="4870440"/>
          </a:xfrm>
        </p:grpSpPr>
        <p:pic>
          <p:nvPicPr>
            <p:cNvPr id="489" name="Picture 6" descr="titletableadjust"/>
            <p:cNvPicPr/>
            <p:nvPr/>
          </p:nvPicPr>
          <p:blipFill>
            <a:blip r:embed="rId1"/>
            <a:stretch/>
          </p:blipFill>
          <p:spPr>
            <a:xfrm>
              <a:off x="684360" y="1295280"/>
              <a:ext cx="4694040" cy="487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90" name="AutoShape 8"/>
            <p:cNvSpPr/>
            <p:nvPr/>
          </p:nvSpPr>
          <p:spPr>
            <a:xfrm>
              <a:off x="1827720" y="2756520"/>
              <a:ext cx="533520" cy="1669680"/>
            </a:xfrm>
            <a:prstGeom prst="upArrow">
              <a:avLst>
                <a:gd name="adj1" fmla="val 50000"/>
                <a:gd name="adj2" fmla="val 7823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0"/>
            <p:cNvSpPr/>
            <p:nvPr/>
          </p:nvSpPr>
          <p:spPr>
            <a:xfrm>
              <a:off x="1827720" y="2269440"/>
              <a:ext cx="609480" cy="4172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F506-E727-4D6C-8870-B1043BC708A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18"/>
          <p:cNvGrpSpPr/>
          <p:nvPr/>
        </p:nvGrpSpPr>
        <p:grpSpPr>
          <a:xfrm>
            <a:off x="76320" y="1959120"/>
            <a:ext cx="5943600" cy="4060800"/>
            <a:chOff x="76320" y="1959120"/>
            <a:chExt cx="5943600" cy="4060800"/>
          </a:xfrm>
        </p:grpSpPr>
        <p:grpSp>
          <p:nvGrpSpPr>
            <p:cNvPr id="494" name="Group 16"/>
            <p:cNvGrpSpPr/>
            <p:nvPr/>
          </p:nvGrpSpPr>
          <p:grpSpPr>
            <a:xfrm>
              <a:off x="76320" y="1959120"/>
              <a:ext cx="5943600" cy="4060800"/>
              <a:chOff x="76320" y="1959120"/>
              <a:chExt cx="5943600" cy="4060800"/>
            </a:xfrm>
          </p:grpSpPr>
          <p:grpSp>
            <p:nvGrpSpPr>
              <p:cNvPr id="495" name="Group 10"/>
              <p:cNvGrpSpPr/>
              <p:nvPr/>
            </p:nvGrpSpPr>
            <p:grpSpPr>
              <a:xfrm>
                <a:off x="76320" y="1959120"/>
                <a:ext cx="5943600" cy="4060800"/>
                <a:chOff x="76320" y="1959120"/>
                <a:chExt cx="5943600" cy="4060800"/>
              </a:xfrm>
            </p:grpSpPr>
            <p:pic>
              <p:nvPicPr>
                <p:cNvPr id="496" name="Picture 5" descr="saveas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6320" y="1959120"/>
                  <a:ext cx="5943600" cy="406080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497" name="Rectangle 8"/>
                <p:cNvSpPr/>
                <p:nvPr/>
              </p:nvSpPr>
              <p:spPr>
                <a:xfrm>
                  <a:off x="228600" y="3886200"/>
                  <a:ext cx="1219320" cy="19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Rectangle 9"/>
                <p:cNvSpPr/>
                <p:nvPr/>
              </p:nvSpPr>
              <p:spPr>
                <a:xfrm>
                  <a:off x="3352680" y="3886200"/>
                  <a:ext cx="2667240" cy="19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Rectangle 13"/>
              <p:cNvSpPr/>
              <p:nvPr/>
            </p:nvSpPr>
            <p:spPr>
              <a:xfrm>
                <a:off x="76320" y="3048120"/>
                <a:ext cx="1371600" cy="289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14"/>
              <p:cNvSpPr/>
              <p:nvPr/>
            </p:nvSpPr>
            <p:spPr>
              <a:xfrm>
                <a:off x="3276720" y="3124080"/>
                <a:ext cx="2743200" cy="281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Line 17"/>
            <p:cNvSpPr/>
            <p:nvPr/>
          </p:nvSpPr>
          <p:spPr>
            <a:xfrm>
              <a:off x="6019920" y="198108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23640" y="53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efore Adding Graphic Images go to File&gt;Save As&gt;name your fi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6248520" y="1940040"/>
            <a:ext cx="2571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 to use all lowercase letters, no spaces or special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"/>
          <p:cNvSpPr/>
          <p:nvPr/>
        </p:nvSpPr>
        <p:spPr>
          <a:xfrm>
            <a:off x="1371600" y="1828800"/>
            <a:ext cx="6094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"/>
          <p:cNvSpPr/>
          <p:nvPr/>
        </p:nvSpPr>
        <p:spPr>
          <a:xfrm>
            <a:off x="1447920" y="3276720"/>
            <a:ext cx="18288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D7BB-A7DA-405E-B9BC-B56BE68DE17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in the Left Cell, Insert&gt;Image, or use the Image Icon, Locate.gif or .jpg Fi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8" name="Group 7"/>
          <p:cNvGrpSpPr/>
          <p:nvPr/>
        </p:nvGrpSpPr>
        <p:grpSpPr>
          <a:xfrm>
            <a:off x="890640" y="1581120"/>
            <a:ext cx="6705720" cy="4368960"/>
            <a:chOff x="890640" y="1581120"/>
            <a:chExt cx="6705720" cy="4368960"/>
          </a:xfrm>
        </p:grpSpPr>
        <p:pic>
          <p:nvPicPr>
            <p:cNvPr id="509" name="Picture 5" descr="titlelogo"/>
            <p:cNvPicPr/>
            <p:nvPr/>
          </p:nvPicPr>
          <p:blipFill>
            <a:blip r:embed="rId1"/>
            <a:stretch/>
          </p:blipFill>
          <p:spPr>
            <a:xfrm>
              <a:off x="890640" y="1581120"/>
              <a:ext cx="6705720" cy="4368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10" name="Oval 8"/>
            <p:cNvSpPr/>
            <p:nvPr/>
          </p:nvSpPr>
          <p:spPr>
            <a:xfrm>
              <a:off x="3862440" y="1834920"/>
              <a:ext cx="53316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46F7-31C7-4964-AFBC-990F1486006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in the Right Cell &amp; Type to Add the Tit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3" name="Picture 5" descr="titleintable"/>
          <p:cNvPicPr/>
          <p:nvPr/>
        </p:nvPicPr>
        <p:blipFill>
          <a:blip r:embed="rId1"/>
          <a:stretch/>
        </p:blipFill>
        <p:spPr>
          <a:xfrm>
            <a:off x="380880" y="1901880"/>
            <a:ext cx="8382240" cy="381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C3CC-DADC-40DC-A8CE-6306D8E9474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the Table, Select BG to Add a Background Cell Col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5867280" y="262584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7"/>
          <p:cNvGrpSpPr/>
          <p:nvPr/>
        </p:nvGrpSpPr>
        <p:grpSpPr>
          <a:xfrm>
            <a:off x="900000" y="1413000"/>
            <a:ext cx="4591080" cy="4752720"/>
            <a:chOff x="900000" y="1413000"/>
            <a:chExt cx="4591080" cy="4752720"/>
          </a:xfrm>
        </p:grpSpPr>
        <p:pic>
          <p:nvPicPr>
            <p:cNvPr id="518" name="Picture 5" descr="titletablecolor"/>
            <p:cNvPicPr/>
            <p:nvPr/>
          </p:nvPicPr>
          <p:blipFill>
            <a:blip r:embed="rId1"/>
            <a:stretch/>
          </p:blipFill>
          <p:spPr>
            <a:xfrm>
              <a:off x="900000" y="1413000"/>
              <a:ext cx="4591080" cy="4752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19" name="Oval 6"/>
            <p:cNvSpPr/>
            <p:nvPr/>
          </p:nvSpPr>
          <p:spPr>
            <a:xfrm>
              <a:off x="3493440" y="5746680"/>
              <a:ext cx="1286280" cy="2793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69C1-FD52-4117-8ABE-C060650022A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ite Content &amp; Information Structur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bably the most important aspect of website 'structural design' is how you breakdown the content into logical sections (Main Areas, Pages, Headers, Sub-Headers, Lists, etc). You need to create a strong hierarchy for the site and breakdown content into small uni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a good idea to create a graphical schema/flowchart/sitemap for the site. This can help you visualise a logical hierarch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8A40-E02E-42A3-A751-C95C67BCA3A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To Make Border Invisible, Select Table, Set Border to 0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2" name="Group 10"/>
          <p:cNvGrpSpPr/>
          <p:nvPr/>
        </p:nvGrpSpPr>
        <p:grpSpPr>
          <a:xfrm>
            <a:off x="611280" y="1362240"/>
            <a:ext cx="8304120" cy="4803480"/>
            <a:chOff x="611280" y="1362240"/>
            <a:chExt cx="8304120" cy="4803480"/>
          </a:xfrm>
        </p:grpSpPr>
        <p:pic>
          <p:nvPicPr>
            <p:cNvPr id="523" name="Picture 5" descr="titlenoborder"/>
            <p:cNvPicPr/>
            <p:nvPr/>
          </p:nvPicPr>
          <p:blipFill>
            <a:blip r:embed="rId1"/>
            <a:stretch/>
          </p:blipFill>
          <p:spPr>
            <a:xfrm>
              <a:off x="611280" y="1362240"/>
              <a:ext cx="5051520" cy="4803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24" name="Oval 6"/>
            <p:cNvSpPr/>
            <p:nvPr/>
          </p:nvSpPr>
          <p:spPr>
            <a:xfrm>
              <a:off x="4277160" y="5462280"/>
              <a:ext cx="1122120" cy="347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8"/>
            <p:cNvSpPr/>
            <p:nvPr/>
          </p:nvSpPr>
          <p:spPr>
            <a:xfrm>
              <a:off x="5549040" y="2621520"/>
              <a:ext cx="2394000" cy="347400"/>
            </a:xfrm>
            <a:prstGeom prst="leftArrow">
              <a:avLst>
                <a:gd name="adj1" fmla="val 50000"/>
                <a:gd name="adj2" fmla="val 1722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9"/>
            <p:cNvSpPr/>
            <p:nvPr/>
          </p:nvSpPr>
          <p:spPr>
            <a:xfrm>
              <a:off x="5848200" y="2065680"/>
              <a:ext cx="30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 Edge of T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3845-37CF-4A09-9D61-C8B9469884F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o Add Navigation Table, Insert&gt;Table or Table Ic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6248520" y="2057400"/>
            <a:ext cx="2514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 Columns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7"/>
          <p:cNvGrpSpPr/>
          <p:nvPr/>
        </p:nvGrpSpPr>
        <p:grpSpPr>
          <a:xfrm>
            <a:off x="684360" y="1650960"/>
            <a:ext cx="5114880" cy="4299120"/>
            <a:chOff x="684360" y="1650960"/>
            <a:chExt cx="5114880" cy="4299120"/>
          </a:xfrm>
        </p:grpSpPr>
        <p:pic>
          <p:nvPicPr>
            <p:cNvPr id="531" name="Picture 5" descr="navigtable"/>
            <p:cNvPicPr/>
            <p:nvPr/>
          </p:nvPicPr>
          <p:blipFill>
            <a:blip r:embed="rId1"/>
            <a:stretch/>
          </p:blipFill>
          <p:spPr>
            <a:xfrm>
              <a:off x="684360" y="1650960"/>
              <a:ext cx="5114880" cy="4299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2" name="Oval 7"/>
            <p:cNvSpPr/>
            <p:nvPr/>
          </p:nvSpPr>
          <p:spPr>
            <a:xfrm>
              <a:off x="2485440" y="1726200"/>
              <a:ext cx="432000" cy="36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9"/>
            <p:cNvSpPr/>
            <p:nvPr/>
          </p:nvSpPr>
          <p:spPr>
            <a:xfrm>
              <a:off x="2989800" y="2889360"/>
              <a:ext cx="2665440" cy="306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6B44-3542-4BD5-852E-1B8545C1BF8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side of the First Cell to Add a Flash Navigation Butt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36" name="Picture 6" descr="navtable2"/>
          <p:cNvPicPr/>
          <p:nvPr/>
        </p:nvPicPr>
        <p:blipFill>
          <a:blip r:embed="rId1"/>
          <a:stretch/>
        </p:blipFill>
        <p:spPr>
          <a:xfrm>
            <a:off x="380880" y="2367000"/>
            <a:ext cx="8458200" cy="318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7" name="AutoShape 7"/>
          <p:cNvSpPr/>
          <p:nvPr/>
        </p:nvSpPr>
        <p:spPr>
          <a:xfrm>
            <a:off x="1143000" y="4876920"/>
            <a:ext cx="380880" cy="1447560"/>
          </a:xfrm>
          <a:prstGeom prst="upArrow">
            <a:avLst>
              <a:gd name="adj1" fmla="val 50000"/>
              <a:gd name="adj2" fmla="val 950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097E-613E-4B0C-8F43-83147F8923C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sert&gt;Media&gt;Flash Butt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40" name="Group 7"/>
          <p:cNvGrpSpPr/>
          <p:nvPr/>
        </p:nvGrpSpPr>
        <p:grpSpPr>
          <a:xfrm>
            <a:off x="1332000" y="1295280"/>
            <a:ext cx="6440400" cy="4942080"/>
            <a:chOff x="1332000" y="1295280"/>
            <a:chExt cx="6440400" cy="4942080"/>
          </a:xfrm>
        </p:grpSpPr>
        <p:pic>
          <p:nvPicPr>
            <p:cNvPr id="541" name="Picture 5" descr="navbutton1"/>
            <p:cNvPicPr/>
            <p:nvPr/>
          </p:nvPicPr>
          <p:blipFill>
            <a:blip r:embed="rId1"/>
            <a:stretch/>
          </p:blipFill>
          <p:spPr>
            <a:xfrm>
              <a:off x="1332000" y="1368000"/>
              <a:ext cx="6289200" cy="4869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42" name="Oval 6"/>
            <p:cNvSpPr/>
            <p:nvPr/>
          </p:nvSpPr>
          <p:spPr>
            <a:xfrm>
              <a:off x="3983760" y="2022480"/>
              <a:ext cx="227304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7"/>
            <p:cNvSpPr/>
            <p:nvPr/>
          </p:nvSpPr>
          <p:spPr>
            <a:xfrm>
              <a:off x="5878080" y="2604600"/>
              <a:ext cx="189432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8"/>
            <p:cNvSpPr/>
            <p:nvPr/>
          </p:nvSpPr>
          <p:spPr>
            <a:xfrm>
              <a:off x="3908160" y="1295280"/>
              <a:ext cx="90900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BABE-3B74-4C8E-879C-962D7D374FC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52000" y="43920"/>
            <a:ext cx="878364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Button Settings: Style, Text, Font, Link, 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Size, Apply, OK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7" name="Picture 5" descr="navbutton2"/>
          <p:cNvPicPr/>
          <p:nvPr/>
        </p:nvPicPr>
        <p:blipFill>
          <a:blip r:embed="rId1"/>
          <a:stretch/>
        </p:blipFill>
        <p:spPr>
          <a:xfrm>
            <a:off x="755640" y="1577880"/>
            <a:ext cx="4903920" cy="444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8" name="Text Box 6"/>
          <p:cNvSpPr/>
          <p:nvPr/>
        </p:nvSpPr>
        <p:spPr>
          <a:xfrm>
            <a:off x="6012000" y="1484280"/>
            <a:ext cx="2751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when uploading your website to the server to add your .swf Flash buttons you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D7D9-E7E6-4096-968A-9AC8C3DD6F4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Repeat to Add All Button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51" name="Picture 5" descr="navbutton3"/>
          <p:cNvPicPr/>
          <p:nvPr/>
        </p:nvPicPr>
        <p:blipFill>
          <a:blip r:embed="rId1"/>
          <a:stretch/>
        </p:blipFill>
        <p:spPr>
          <a:xfrm>
            <a:off x="380880" y="1228680"/>
            <a:ext cx="8458200" cy="34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2" name="Oval 6"/>
          <p:cNvSpPr/>
          <p:nvPr/>
        </p:nvSpPr>
        <p:spPr>
          <a:xfrm>
            <a:off x="533520" y="3438360"/>
            <a:ext cx="190476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609480" y="4941720"/>
            <a:ext cx="8077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If you need to edit the button after has been created or to check the links just double click on the button again, change the features, Apply, O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8349-2F0A-4EA0-BE62-B5EC7BCC766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xample of Completed Title &amp; 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Navigation Button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56" name="Picture 5" descr="navcomplete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336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7" name="Text Box 6"/>
          <p:cNvSpPr/>
          <p:nvPr/>
        </p:nvSpPr>
        <p:spPr>
          <a:xfrm>
            <a:off x="395280" y="5384880"/>
            <a:ext cx="835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You May Have Different Titles For Your Navigation Butt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E2BD-F5E3-472C-B7B9-E99F4B2EF6B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78508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xterna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60" name="Group 7"/>
          <p:cNvGrpSpPr/>
          <p:nvPr/>
        </p:nvGrpSpPr>
        <p:grpSpPr>
          <a:xfrm>
            <a:off x="1295280" y="1469880"/>
            <a:ext cx="6019920" cy="4838760"/>
            <a:chOff x="1295280" y="1469880"/>
            <a:chExt cx="6019920" cy="4838760"/>
          </a:xfrm>
        </p:grpSpPr>
        <p:pic>
          <p:nvPicPr>
            <p:cNvPr id="561" name="Picture 5" descr="externallink"/>
            <p:cNvPicPr/>
            <p:nvPr/>
          </p:nvPicPr>
          <p:blipFill>
            <a:blip r:embed="rId1"/>
            <a:stretch/>
          </p:blipFill>
          <p:spPr>
            <a:xfrm>
              <a:off x="1447560" y="1469880"/>
              <a:ext cx="5867640" cy="4838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2" name="Oval 6"/>
            <p:cNvSpPr/>
            <p:nvPr/>
          </p:nvSpPr>
          <p:spPr>
            <a:xfrm>
              <a:off x="5105520" y="5432400"/>
              <a:ext cx="20574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7"/>
            <p:cNvSpPr/>
            <p:nvPr/>
          </p:nvSpPr>
          <p:spPr>
            <a:xfrm>
              <a:off x="1295280" y="3298680"/>
              <a:ext cx="266688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8"/>
            <p:cNvSpPr/>
            <p:nvPr/>
          </p:nvSpPr>
          <p:spPr>
            <a:xfrm>
              <a:off x="2590560" y="4776840"/>
              <a:ext cx="464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ttp://www.google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478E-79F5-4730-AC4D-2115004B3CC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50920" y="-270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terna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67" name="Group 7"/>
          <p:cNvGrpSpPr/>
          <p:nvPr/>
        </p:nvGrpSpPr>
        <p:grpSpPr>
          <a:xfrm>
            <a:off x="1378080" y="1557360"/>
            <a:ext cx="5715000" cy="4611600"/>
            <a:chOff x="1378080" y="1557360"/>
            <a:chExt cx="5715000" cy="4611600"/>
          </a:xfrm>
        </p:grpSpPr>
        <p:pic>
          <p:nvPicPr>
            <p:cNvPr id="568" name="Picture 5" descr="internallink"/>
            <p:cNvPicPr/>
            <p:nvPr/>
          </p:nvPicPr>
          <p:blipFill>
            <a:blip r:embed="rId1"/>
            <a:stretch/>
          </p:blipFill>
          <p:spPr>
            <a:xfrm>
              <a:off x="1530360" y="1557360"/>
              <a:ext cx="5562720" cy="4611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9" name="Oval 6"/>
            <p:cNvSpPr/>
            <p:nvPr/>
          </p:nvSpPr>
          <p:spPr>
            <a:xfrm>
              <a:off x="4883400" y="5294520"/>
              <a:ext cx="190476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>
              <a:off x="1378080" y="3693960"/>
              <a:ext cx="152388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8"/>
            <p:cNvSpPr/>
            <p:nvPr/>
          </p:nvSpPr>
          <p:spPr>
            <a:xfrm>
              <a:off x="4730760" y="47610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dex.htm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A171-6020-4565-89C2-42F9BE90B57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092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-Mai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74" name="Group 10"/>
          <p:cNvGrpSpPr/>
          <p:nvPr/>
        </p:nvGrpSpPr>
        <p:grpSpPr>
          <a:xfrm>
            <a:off x="1676520" y="1427040"/>
            <a:ext cx="6019560" cy="4665600"/>
            <a:chOff x="1676520" y="1427040"/>
            <a:chExt cx="6019560" cy="4665600"/>
          </a:xfrm>
        </p:grpSpPr>
        <p:grpSp>
          <p:nvGrpSpPr>
            <p:cNvPr id="575" name="Group 10"/>
            <p:cNvGrpSpPr/>
            <p:nvPr/>
          </p:nvGrpSpPr>
          <p:grpSpPr>
            <a:xfrm>
              <a:off x="1752480" y="1427040"/>
              <a:ext cx="5640480" cy="4665600"/>
              <a:chOff x="1752480" y="1427040"/>
              <a:chExt cx="5640480" cy="4665600"/>
            </a:xfrm>
          </p:grpSpPr>
          <p:pic>
            <p:nvPicPr>
              <p:cNvPr id="576" name="Picture 5" descr="emaillink"/>
              <p:cNvPicPr/>
              <p:nvPr/>
            </p:nvPicPr>
            <p:blipFill>
              <a:blip r:embed="rId1"/>
              <a:stretch/>
            </p:blipFill>
            <p:spPr>
              <a:xfrm>
                <a:off x="1752480" y="1427040"/>
                <a:ext cx="5640480" cy="4665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577" name="Rectangle 9"/>
              <p:cNvSpPr/>
              <p:nvPr/>
            </p:nvSpPr>
            <p:spPr>
              <a:xfrm>
                <a:off x="5638680" y="5406840"/>
                <a:ext cx="10670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Oval 7"/>
            <p:cNvSpPr/>
            <p:nvPr/>
          </p:nvSpPr>
          <p:spPr>
            <a:xfrm>
              <a:off x="5181480" y="5178600"/>
              <a:ext cx="243828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8"/>
            <p:cNvSpPr/>
            <p:nvPr/>
          </p:nvSpPr>
          <p:spPr>
            <a:xfrm>
              <a:off x="1676520" y="3578400"/>
              <a:ext cx="289548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1"/>
            <p:cNvSpPr/>
            <p:nvPr/>
          </p:nvSpPr>
          <p:spPr>
            <a:xfrm>
              <a:off x="1905120" y="4569120"/>
              <a:ext cx="57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ailto:hollandj@emporia.ed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Text Box 12"/>
          <p:cNvSpPr/>
          <p:nvPr/>
        </p:nvSpPr>
        <p:spPr>
          <a:xfrm>
            <a:off x="5562720" y="534528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lto:hollandj@emporia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539D-D80E-4918-9473-A0212C1F55A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9" name="عنصر نائب للمحتوى 3" descr="schema.gif"/>
          <p:cNvPicPr/>
          <p:nvPr/>
        </p:nvPicPr>
        <p:blipFill>
          <a:blip r:embed="rId1"/>
          <a:stretch/>
        </p:blipFill>
        <p:spPr>
          <a:xfrm>
            <a:off x="1332000" y="1303200"/>
            <a:ext cx="6821280" cy="493416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68DD-B8FF-49BA-BD3B-3C4FF7D84CE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360" y="4392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serting Graphics and Text in Tab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4" name="مربع نص 7"/>
          <p:cNvSpPr/>
          <p:nvPr/>
        </p:nvSpPr>
        <p:spPr>
          <a:xfrm>
            <a:off x="611280" y="1700280"/>
            <a:ext cx="77058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Control placement of elements in relation to each 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Specify amount of space between each page el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Always plan how your table will look with all the text and graphics in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Even a rough sketch will save you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D567-BD90-4F3F-BC2E-91CFFE9AA2E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311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 the Left Cell, Select Insert&gt;Image or Image Ic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87" name="Picture 5" descr="graphicselect"/>
          <p:cNvPicPr/>
          <p:nvPr/>
        </p:nvPicPr>
        <p:blipFill>
          <a:blip r:embed="rId1"/>
          <a:stretch/>
        </p:blipFill>
        <p:spPr>
          <a:xfrm>
            <a:off x="482760" y="1341360"/>
            <a:ext cx="5384520" cy="475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8" name="Oval 6"/>
          <p:cNvSpPr/>
          <p:nvPr/>
        </p:nvSpPr>
        <p:spPr>
          <a:xfrm>
            <a:off x="2252520" y="1600200"/>
            <a:ext cx="4572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6516720" y="1628640"/>
            <a:ext cx="20574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te Graphic Ima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g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jp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8508-78A9-4621-8F57-437E796B19A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5344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 the Right Cell &amp; Add Your Text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2" name="Picture 5" descr="graphicwithtext"/>
          <p:cNvPicPr/>
          <p:nvPr/>
        </p:nvPicPr>
        <p:blipFill>
          <a:blip r:embed="rId1"/>
          <a:stretch/>
        </p:blipFill>
        <p:spPr>
          <a:xfrm>
            <a:off x="684360" y="1600200"/>
            <a:ext cx="5932440" cy="46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3" name="Text Box 6"/>
          <p:cNvSpPr/>
          <p:nvPr/>
        </p:nvSpPr>
        <p:spPr>
          <a:xfrm>
            <a:off x="7010280" y="1601640"/>
            <a:ext cx="17528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Adjust Column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Font to A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F93D-637D-4E28-8D60-22386E86499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Anchors Are Used to Jump Down on a Long Page of Text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6" name="Picture 5" descr="anchors"/>
          <p:cNvPicPr/>
          <p:nvPr/>
        </p:nvPicPr>
        <p:blipFill>
          <a:blip r:embed="rId1"/>
          <a:stretch/>
        </p:blipFill>
        <p:spPr>
          <a:xfrm>
            <a:off x="1692360" y="1447920"/>
            <a:ext cx="5775120" cy="47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7" name="Oval 7"/>
          <p:cNvSpPr/>
          <p:nvPr/>
        </p:nvSpPr>
        <p:spPr>
          <a:xfrm>
            <a:off x="1295280" y="3429000"/>
            <a:ext cx="62485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8295-EA9E-40D9-A89C-7F102B47A63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Highlight Word, In the Link Box Type in #nam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00" name="Group 9"/>
          <p:cNvGrpSpPr/>
          <p:nvPr/>
        </p:nvGrpSpPr>
        <p:grpSpPr>
          <a:xfrm>
            <a:off x="1001880" y="1447920"/>
            <a:ext cx="5657760" cy="4684680"/>
            <a:chOff x="1001880" y="1447920"/>
            <a:chExt cx="5657760" cy="4684680"/>
          </a:xfrm>
        </p:grpSpPr>
        <p:pic>
          <p:nvPicPr>
            <p:cNvPr id="601" name="Picture 5" descr="anchors"/>
            <p:cNvPicPr/>
            <p:nvPr/>
          </p:nvPicPr>
          <p:blipFill>
            <a:blip r:embed="rId1"/>
            <a:stretch/>
          </p:blipFill>
          <p:spPr>
            <a:xfrm>
              <a:off x="1001880" y="1447920"/>
              <a:ext cx="5657760" cy="4684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2" name="Oval 6"/>
            <p:cNvSpPr/>
            <p:nvPr/>
          </p:nvSpPr>
          <p:spPr>
            <a:xfrm>
              <a:off x="1186920" y="3285000"/>
              <a:ext cx="9144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7"/>
            <p:cNvSpPr/>
            <p:nvPr/>
          </p:nvSpPr>
          <p:spPr>
            <a:xfrm>
              <a:off x="4411440" y="5267880"/>
              <a:ext cx="16002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 Box 8"/>
          <p:cNvSpPr/>
          <p:nvPr/>
        </p:nvSpPr>
        <p:spPr>
          <a:xfrm>
            <a:off x="6858000" y="563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#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F08E-C644-4224-B6F2-364E01B49E3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Highlight Text to Link To, Insert&gt;Named Ancho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07" name="Group 9"/>
          <p:cNvGrpSpPr/>
          <p:nvPr/>
        </p:nvGrpSpPr>
        <p:grpSpPr>
          <a:xfrm>
            <a:off x="1116000" y="1371600"/>
            <a:ext cx="6948360" cy="4721400"/>
            <a:chOff x="1116000" y="1371600"/>
            <a:chExt cx="6948360" cy="4721400"/>
          </a:xfrm>
        </p:grpSpPr>
        <p:pic>
          <p:nvPicPr>
            <p:cNvPr id="608" name="Picture 5" descr="anchorinsert"/>
            <p:cNvPicPr/>
            <p:nvPr/>
          </p:nvPicPr>
          <p:blipFill>
            <a:blip r:embed="rId1"/>
            <a:stretch/>
          </p:blipFill>
          <p:spPr>
            <a:xfrm>
              <a:off x="1116000" y="1513800"/>
              <a:ext cx="6948360" cy="4579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9" name="Oval 6"/>
            <p:cNvSpPr/>
            <p:nvPr/>
          </p:nvSpPr>
          <p:spPr>
            <a:xfrm>
              <a:off x="1179000" y="4008600"/>
              <a:ext cx="909360" cy="569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7"/>
            <p:cNvSpPr/>
            <p:nvPr/>
          </p:nvSpPr>
          <p:spPr>
            <a:xfrm>
              <a:off x="3680640" y="1371600"/>
              <a:ext cx="757800" cy="427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8"/>
            <p:cNvSpPr/>
            <p:nvPr/>
          </p:nvSpPr>
          <p:spPr>
            <a:xfrm>
              <a:off x="3680640" y="3509640"/>
              <a:ext cx="1970640" cy="356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6A8A-16C7-4FB2-813D-BFFBCAC0C47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ype in Exact Name Match, Example: august, OK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14" name="Group 8"/>
          <p:cNvGrpSpPr/>
          <p:nvPr/>
        </p:nvGrpSpPr>
        <p:grpSpPr>
          <a:xfrm>
            <a:off x="903240" y="1523880"/>
            <a:ext cx="6908760" cy="4497480"/>
            <a:chOff x="903240" y="1523880"/>
            <a:chExt cx="6908760" cy="4497480"/>
          </a:xfrm>
        </p:grpSpPr>
        <p:pic>
          <p:nvPicPr>
            <p:cNvPr id="615" name="Picture 5" descr="anchorinsertname"/>
            <p:cNvPicPr/>
            <p:nvPr/>
          </p:nvPicPr>
          <p:blipFill>
            <a:blip r:embed="rId1"/>
            <a:stretch/>
          </p:blipFill>
          <p:spPr>
            <a:xfrm>
              <a:off x="903240" y="1523880"/>
              <a:ext cx="6908760" cy="4497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16" name="Oval 6"/>
            <p:cNvSpPr/>
            <p:nvPr/>
          </p:nvSpPr>
          <p:spPr>
            <a:xfrm>
              <a:off x="3463200" y="4393800"/>
              <a:ext cx="2474280" cy="3499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مستطيل مستدير الزوايا 6"/>
          <p:cNvSpPr/>
          <p:nvPr/>
        </p:nvSpPr>
        <p:spPr>
          <a:xfrm>
            <a:off x="2195640" y="2924280"/>
            <a:ext cx="5400720" cy="50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6DE6-5D5A-415C-8561-63DAD4879D3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5640" y="4392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Notice the Yellow Anchor,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his Will Not Show When Posted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20" name="Group 7"/>
          <p:cNvGrpSpPr/>
          <p:nvPr/>
        </p:nvGrpSpPr>
        <p:grpSpPr>
          <a:xfrm>
            <a:off x="1619280" y="1557360"/>
            <a:ext cx="6087960" cy="4140000"/>
            <a:chOff x="1619280" y="1557360"/>
            <a:chExt cx="6087960" cy="4140000"/>
          </a:xfrm>
        </p:grpSpPr>
        <p:pic>
          <p:nvPicPr>
            <p:cNvPr id="621" name="Picture 5" descr="anchorinsertname2"/>
            <p:cNvPicPr/>
            <p:nvPr/>
          </p:nvPicPr>
          <p:blipFill>
            <a:blip r:embed="rId1"/>
            <a:stretch/>
          </p:blipFill>
          <p:spPr>
            <a:xfrm>
              <a:off x="1693080" y="1557360"/>
              <a:ext cx="6014160" cy="414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22" name="Oval 6"/>
            <p:cNvSpPr/>
            <p:nvPr/>
          </p:nvSpPr>
          <p:spPr>
            <a:xfrm>
              <a:off x="1619280" y="3474360"/>
              <a:ext cx="1111680" cy="308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74FF-8942-4842-9D7A-AAB496D3613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File&gt;Save As, Provide Name &amp; Locati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25" name="Group 7"/>
          <p:cNvGrpSpPr/>
          <p:nvPr/>
        </p:nvGrpSpPr>
        <p:grpSpPr>
          <a:xfrm>
            <a:off x="152280" y="1579680"/>
            <a:ext cx="6400440" cy="4581000"/>
            <a:chOff x="152280" y="1579680"/>
            <a:chExt cx="6400440" cy="4581000"/>
          </a:xfrm>
        </p:grpSpPr>
        <p:pic>
          <p:nvPicPr>
            <p:cNvPr id="626" name="Picture 5" descr="saveas"/>
            <p:cNvPicPr/>
            <p:nvPr/>
          </p:nvPicPr>
          <p:blipFill>
            <a:blip r:embed="rId1"/>
            <a:stretch/>
          </p:blipFill>
          <p:spPr>
            <a:xfrm>
              <a:off x="152280" y="1579680"/>
              <a:ext cx="6400440" cy="4581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27" name="Rectangle 6"/>
            <p:cNvSpPr/>
            <p:nvPr/>
          </p:nvSpPr>
          <p:spPr>
            <a:xfrm>
              <a:off x="352440" y="4031280"/>
              <a:ext cx="1231200" cy="19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Oval 8"/>
          <p:cNvSpPr/>
          <p:nvPr/>
        </p:nvSpPr>
        <p:spPr>
          <a:xfrm>
            <a:off x="1523880" y="1447920"/>
            <a:ext cx="762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9"/>
          <p:cNvSpPr/>
          <p:nvPr/>
        </p:nvSpPr>
        <p:spPr>
          <a:xfrm>
            <a:off x="1523880" y="3124080"/>
            <a:ext cx="236232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6629400" y="2133720"/>
            <a:ext cx="2362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1C57-D34C-4D69-AF6F-59BEB17992E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an Duplicate Pag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ce the index.html page is set up as desired with the logo, header, and navigation buttons it can serve as a template for creating new pag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be sure to save each new page with new na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54C5-45F0-4D44-A763-3798EAFC61F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280" y="1698120"/>
            <a:ext cx="8007480" cy="266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 folder on your computer called website1 to hold all web pages and graphics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ptional: inside of the website1 folder create a folder called images to hold your graphic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304920" y="48150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 folders, webpages, and graphic names must be lowercase, no spaces, and no special characters for ease of linking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مربع نص 6"/>
          <p:cNvSpPr/>
          <p:nvPr/>
        </p:nvSpPr>
        <p:spPr>
          <a:xfrm>
            <a:off x="611280" y="333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  <a:ea typeface="Arial"/>
              </a:rPr>
              <a:t>Getting St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B030-9400-42DD-B068-C6CE6E31040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099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File&gt;Preview in Browser&gt;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Select the desired browse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36" name="Group 9"/>
          <p:cNvGrpSpPr/>
          <p:nvPr/>
        </p:nvGrpSpPr>
        <p:grpSpPr>
          <a:xfrm>
            <a:off x="1116000" y="1295280"/>
            <a:ext cx="7265880" cy="4726080"/>
            <a:chOff x="1116000" y="1295280"/>
            <a:chExt cx="7265880" cy="4726080"/>
          </a:xfrm>
        </p:grpSpPr>
        <p:pic>
          <p:nvPicPr>
            <p:cNvPr id="637" name="Picture 6" descr="previewinternetexp"/>
            <p:cNvPicPr/>
            <p:nvPr/>
          </p:nvPicPr>
          <p:blipFill>
            <a:blip r:embed="rId1"/>
            <a:stretch/>
          </p:blipFill>
          <p:spPr>
            <a:xfrm>
              <a:off x="1116000" y="1399680"/>
              <a:ext cx="7265880" cy="4621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38" name="Oval 7"/>
            <p:cNvSpPr/>
            <p:nvPr/>
          </p:nvSpPr>
          <p:spPr>
            <a:xfrm>
              <a:off x="2483280" y="4663800"/>
              <a:ext cx="2268720" cy="343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8"/>
            <p:cNvSpPr/>
            <p:nvPr/>
          </p:nvSpPr>
          <p:spPr>
            <a:xfrm>
              <a:off x="2483280" y="1295280"/>
              <a:ext cx="756000" cy="412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9"/>
            <p:cNvSpPr/>
            <p:nvPr/>
          </p:nvSpPr>
          <p:spPr>
            <a:xfrm>
              <a:off x="4600800" y="4801320"/>
              <a:ext cx="1965960" cy="343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9A4D-A885-4A81-AED5-63CD1DEF876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Notice How the Browser Opens in Front To Preview What it Will Look Like When Uploaded to the Server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43" name="Group 8"/>
          <p:cNvGrpSpPr/>
          <p:nvPr/>
        </p:nvGrpSpPr>
        <p:grpSpPr>
          <a:xfrm>
            <a:off x="990720" y="1700280"/>
            <a:ext cx="7311960" cy="4470480"/>
            <a:chOff x="990720" y="1700280"/>
            <a:chExt cx="7311960" cy="4470480"/>
          </a:xfrm>
        </p:grpSpPr>
        <p:pic>
          <p:nvPicPr>
            <p:cNvPr id="644" name="Picture 5" descr="preview"/>
            <p:cNvPicPr/>
            <p:nvPr/>
          </p:nvPicPr>
          <p:blipFill>
            <a:blip r:embed="rId1"/>
            <a:stretch/>
          </p:blipFill>
          <p:spPr>
            <a:xfrm>
              <a:off x="990720" y="1700280"/>
              <a:ext cx="7311960" cy="4470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45" name="Oval 6"/>
            <p:cNvSpPr/>
            <p:nvPr/>
          </p:nvSpPr>
          <p:spPr>
            <a:xfrm>
              <a:off x="2057400" y="2665440"/>
              <a:ext cx="83808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Text Box 7"/>
          <p:cNvSpPr/>
          <p:nvPr/>
        </p:nvSpPr>
        <p:spPr>
          <a:xfrm>
            <a:off x="2705040" y="5724360"/>
            <a:ext cx="55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en Finished Viewing Browser Red Button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799A-3E16-460B-8A37-23465C3D458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Optional: File&gt;Preview in Browser&gt;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Edit Browser List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49" name="Group 9"/>
          <p:cNvGrpSpPr/>
          <p:nvPr/>
        </p:nvGrpSpPr>
        <p:grpSpPr>
          <a:xfrm>
            <a:off x="1042920" y="1295280"/>
            <a:ext cx="7338960" cy="4942080"/>
            <a:chOff x="1042920" y="1295280"/>
            <a:chExt cx="7338960" cy="4942080"/>
          </a:xfrm>
        </p:grpSpPr>
        <p:pic>
          <p:nvPicPr>
            <p:cNvPr id="650" name="Picture 5" descr="previewinternetexp"/>
            <p:cNvPicPr/>
            <p:nvPr/>
          </p:nvPicPr>
          <p:blipFill>
            <a:blip r:embed="rId1"/>
            <a:stretch/>
          </p:blipFill>
          <p:spPr>
            <a:xfrm>
              <a:off x="1042920" y="1404360"/>
              <a:ext cx="7338960" cy="483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51" name="Oval 6"/>
            <p:cNvSpPr/>
            <p:nvPr/>
          </p:nvSpPr>
          <p:spPr>
            <a:xfrm>
              <a:off x="2347560" y="4817880"/>
              <a:ext cx="2291400" cy="359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8"/>
            <p:cNvSpPr/>
            <p:nvPr/>
          </p:nvSpPr>
          <p:spPr>
            <a:xfrm>
              <a:off x="4257360" y="5249160"/>
              <a:ext cx="2291400" cy="359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7"/>
            <p:cNvSpPr/>
            <p:nvPr/>
          </p:nvSpPr>
          <p:spPr>
            <a:xfrm>
              <a:off x="2423880" y="1295280"/>
              <a:ext cx="763560" cy="431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B8D5-1F87-4AF7-B7CB-D0125ECF9BC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For Selecting Primary &amp; Secondary Browser Choices</a:t>
            </a: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56" name="Picture 5" descr="selectbrowser"/>
          <p:cNvPicPr/>
          <p:nvPr/>
        </p:nvPicPr>
        <p:blipFill>
          <a:blip r:embed="rId1"/>
          <a:stretch/>
        </p:blipFill>
        <p:spPr>
          <a:xfrm>
            <a:off x="1258920" y="1341360"/>
            <a:ext cx="6840360" cy="49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D26D-434A-4A91-8D71-4AEB885D3B9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HTML Code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59" name="Picture 5" descr="code"/>
          <p:cNvPicPr/>
          <p:nvPr/>
        </p:nvPicPr>
        <p:blipFill>
          <a:blip r:embed="rId1"/>
          <a:stretch/>
        </p:blipFill>
        <p:spPr>
          <a:xfrm>
            <a:off x="2050920" y="1424160"/>
            <a:ext cx="5264280" cy="482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0" name="Oval 6"/>
          <p:cNvSpPr/>
          <p:nvPr/>
        </p:nvSpPr>
        <p:spPr>
          <a:xfrm>
            <a:off x="2050920" y="2060640"/>
            <a:ext cx="714600" cy="503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834E-8FA5-4220-9317-4780856A87F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532764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Split Code &amp; Design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63" name="Picture 6" descr="splitcodedesign"/>
          <p:cNvPicPr/>
          <p:nvPr/>
        </p:nvPicPr>
        <p:blipFill>
          <a:blip r:embed="rId1"/>
          <a:stretch/>
        </p:blipFill>
        <p:spPr>
          <a:xfrm>
            <a:off x="241200" y="1428840"/>
            <a:ext cx="6311880" cy="47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4" name="Oval 7"/>
          <p:cNvSpPr/>
          <p:nvPr/>
        </p:nvSpPr>
        <p:spPr>
          <a:xfrm>
            <a:off x="762120" y="2057400"/>
            <a:ext cx="8380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8"/>
          <p:cNvSpPr/>
          <p:nvPr/>
        </p:nvSpPr>
        <p:spPr>
          <a:xfrm>
            <a:off x="0" y="4800600"/>
            <a:ext cx="312408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0"/>
          <p:cNvSpPr/>
          <p:nvPr/>
        </p:nvSpPr>
        <p:spPr>
          <a:xfrm>
            <a:off x="1371600" y="2743200"/>
            <a:ext cx="449568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1"/>
          <p:cNvSpPr/>
          <p:nvPr/>
        </p:nvSpPr>
        <p:spPr>
          <a:xfrm>
            <a:off x="6705720" y="2057400"/>
            <a:ext cx="2133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Can Highlight Areas in Design Mode &amp; See It in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61AD-D481-4DCC-9F51-FA63F21C644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6360" y="188640"/>
            <a:ext cx="799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Design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For Creating &amp; Editing Web Pages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70" name="Picture 6" descr="designmode"/>
          <p:cNvPicPr/>
          <p:nvPr/>
        </p:nvPicPr>
        <p:blipFill>
          <a:blip r:embed="rId1"/>
          <a:stretch/>
        </p:blipFill>
        <p:spPr>
          <a:xfrm>
            <a:off x="457200" y="1905120"/>
            <a:ext cx="8001000" cy="418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1" name="Oval 7"/>
          <p:cNvSpPr/>
          <p:nvPr/>
        </p:nvSpPr>
        <p:spPr>
          <a:xfrm>
            <a:off x="1523880" y="2590920"/>
            <a:ext cx="914400" cy="5331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6B85-EA98-44BF-A835-076F390F029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File&gt;Save As, Provide Name &amp; Location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74" name="Group 5"/>
          <p:cNvGrpSpPr/>
          <p:nvPr/>
        </p:nvGrpSpPr>
        <p:grpSpPr>
          <a:xfrm>
            <a:off x="152280" y="1579680"/>
            <a:ext cx="6400440" cy="4581000"/>
            <a:chOff x="152280" y="1579680"/>
            <a:chExt cx="6400440" cy="4581000"/>
          </a:xfrm>
        </p:grpSpPr>
        <p:pic>
          <p:nvPicPr>
            <p:cNvPr id="675" name="Picture 6" descr="saveas"/>
            <p:cNvPicPr/>
            <p:nvPr/>
          </p:nvPicPr>
          <p:blipFill>
            <a:blip r:embed="rId1"/>
            <a:stretch/>
          </p:blipFill>
          <p:spPr>
            <a:xfrm>
              <a:off x="152280" y="1579680"/>
              <a:ext cx="6400440" cy="4581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76" name="Rectangle 7"/>
            <p:cNvSpPr/>
            <p:nvPr/>
          </p:nvSpPr>
          <p:spPr>
            <a:xfrm>
              <a:off x="352440" y="4031280"/>
              <a:ext cx="1231200" cy="19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Oval 8"/>
          <p:cNvSpPr/>
          <p:nvPr/>
        </p:nvSpPr>
        <p:spPr>
          <a:xfrm>
            <a:off x="1523880" y="1447920"/>
            <a:ext cx="762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9"/>
          <p:cNvSpPr/>
          <p:nvPr/>
        </p:nvSpPr>
        <p:spPr>
          <a:xfrm>
            <a:off x="1523880" y="3124080"/>
            <a:ext cx="236232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6629400" y="2133720"/>
            <a:ext cx="2362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BF2A-B38C-4F4E-A6ED-F8FBC07E985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7280" y="43920"/>
            <a:ext cx="874872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New Folder: website1 (save webpage files 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inside of the folder)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82" name="Group 11"/>
          <p:cNvGrpSpPr/>
          <p:nvPr/>
        </p:nvGrpSpPr>
        <p:grpSpPr>
          <a:xfrm>
            <a:off x="468360" y="1600200"/>
            <a:ext cx="6305400" cy="4421160"/>
            <a:chOff x="468360" y="1600200"/>
            <a:chExt cx="6305400" cy="4421160"/>
          </a:xfrm>
        </p:grpSpPr>
        <p:pic>
          <p:nvPicPr>
            <p:cNvPr id="683" name="Picture 10" descr="saving"/>
            <p:cNvPicPr/>
            <p:nvPr/>
          </p:nvPicPr>
          <p:blipFill>
            <a:blip r:embed="rId1"/>
            <a:stretch/>
          </p:blipFill>
          <p:spPr>
            <a:xfrm>
              <a:off x="468360" y="1600200"/>
              <a:ext cx="6305400" cy="4421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84" name="Oval 6"/>
            <p:cNvSpPr/>
            <p:nvPr/>
          </p:nvSpPr>
          <p:spPr>
            <a:xfrm>
              <a:off x="2057040" y="2464560"/>
              <a:ext cx="1306080" cy="334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"/>
            <p:cNvSpPr/>
            <p:nvPr/>
          </p:nvSpPr>
          <p:spPr>
            <a:xfrm>
              <a:off x="1331280" y="1929240"/>
              <a:ext cx="2902320" cy="401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8"/>
            <p:cNvSpPr/>
            <p:nvPr/>
          </p:nvSpPr>
          <p:spPr>
            <a:xfrm>
              <a:off x="533160" y="5615640"/>
              <a:ext cx="1306080" cy="334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9"/>
            <p:cNvSpPr/>
            <p:nvPr/>
          </p:nvSpPr>
          <p:spPr>
            <a:xfrm>
              <a:off x="2057040" y="4478040"/>
              <a:ext cx="1306080" cy="334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11"/>
          <p:cNvSpPr/>
          <p:nvPr/>
        </p:nvSpPr>
        <p:spPr>
          <a:xfrm>
            <a:off x="6934320" y="1600200"/>
            <a:ext cx="18288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inder: Lowercase, No Spaces, No Special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A730-7361-4AE0-A616-230141DFAC3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87280" y="115560"/>
            <a:ext cx="8245440" cy="95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Example of Files in Your 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website1 folder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AutoShape 8"/>
          <p:cNvSpPr/>
          <p:nvPr/>
        </p:nvSpPr>
        <p:spPr>
          <a:xfrm>
            <a:off x="3505320" y="3352680"/>
            <a:ext cx="609480" cy="1219320"/>
          </a:xfrm>
          <a:custGeom>
            <a:avLst/>
            <a:gdLst>
              <a:gd name="textAreaLeft" fmla="*/ 350640 w 609480"/>
              <a:gd name="textAreaRight" fmla="*/ 514440 w 609480"/>
              <a:gd name="textAreaTop" fmla="*/ 164160 h 1219320"/>
              <a:gd name="textAreaBottom" fmla="*/ 5220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9" descr="webfolder"/>
          <p:cNvPicPr/>
          <p:nvPr/>
        </p:nvPicPr>
        <p:blipFill>
          <a:blip r:embed="rId1"/>
          <a:stretch/>
        </p:blipFill>
        <p:spPr>
          <a:xfrm>
            <a:off x="826920" y="1341360"/>
            <a:ext cx="4262760" cy="47991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7"/>
          <p:cNvSpPr/>
          <p:nvPr/>
        </p:nvSpPr>
        <p:spPr>
          <a:xfrm>
            <a:off x="5334120" y="13716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st Have a Main Page Named index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1"/>
          <p:cNvSpPr/>
          <p:nvPr/>
        </p:nvSpPr>
        <p:spPr>
          <a:xfrm>
            <a:off x="5257800" y="3645000"/>
            <a:ext cx="365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age names may be different from this example &amp; will be an exact name match to  your navigation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D31C-D4D4-44EE-BF67-C58D6380A71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8" descr="dream1"/>
          <p:cNvPicPr/>
          <p:nvPr/>
        </p:nvPicPr>
        <p:blipFill>
          <a:blip r:embed="rId1"/>
          <a:stretch/>
        </p:blipFill>
        <p:spPr>
          <a:xfrm>
            <a:off x="1979640" y="1300320"/>
            <a:ext cx="5564160" cy="486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Launch Dreamweaver Select HT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3639960" y="2565360"/>
            <a:ext cx="121932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F7A8-79E5-4271-8EC0-5E5A3B3E21D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eaa2e"/>
                </a:solidFill>
                <a:latin typeface="Gill Sans MT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268F-63E9-4C0A-A8E8-4DAE3047D13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New Page Appea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0" name="Picture 10" descr="dream2"/>
          <p:cNvPicPr/>
          <p:nvPr/>
        </p:nvPicPr>
        <p:blipFill>
          <a:blip r:embed="rId1"/>
          <a:stretch/>
        </p:blipFill>
        <p:spPr>
          <a:xfrm>
            <a:off x="1295280" y="1415880"/>
            <a:ext cx="6553440" cy="482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CC28-2424-4091-B3C2-66A77D5189D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Or Select File&gt;New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3" name="Picture 5" descr="dream3"/>
          <p:cNvPicPr/>
          <p:nvPr/>
        </p:nvPicPr>
        <p:blipFill>
          <a:blip r:embed="rId1"/>
          <a:stretch/>
        </p:blipFill>
        <p:spPr>
          <a:xfrm>
            <a:off x="1066680" y="1295280"/>
            <a:ext cx="7021800" cy="471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4" name="Oval 6"/>
          <p:cNvSpPr/>
          <p:nvPr/>
        </p:nvSpPr>
        <p:spPr>
          <a:xfrm>
            <a:off x="2286000" y="1143000"/>
            <a:ext cx="213372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B9CB-D536-4153-B99F-AD72D9F24AF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8" descr="dream3"/>
          <p:cNvPicPr/>
          <p:nvPr/>
        </p:nvPicPr>
        <p:blipFill>
          <a:blip r:embed="rId1"/>
          <a:stretch/>
        </p:blipFill>
        <p:spPr>
          <a:xfrm>
            <a:off x="1523880" y="1219320"/>
            <a:ext cx="6410520" cy="51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HTML, Crea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3362400" y="1901880"/>
            <a:ext cx="121896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7"/>
          <p:cNvSpPr/>
          <p:nvPr/>
        </p:nvSpPr>
        <p:spPr>
          <a:xfrm>
            <a:off x="6791400" y="6019920"/>
            <a:ext cx="121896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68BB-2196-48FA-94FF-8CE5A2C7B27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01:54:30Z</dcterms:created>
  <dc:creator>Janet Holland</dc:creator>
  <dc:description/>
  <dc:language>en-US</dc:language>
  <cp:lastModifiedBy>Bader</cp:lastModifiedBy>
  <cp:lastPrinted>2005-06-09T14:21:05Z</cp:lastPrinted>
  <dcterms:modified xsi:type="dcterms:W3CDTF">2012-03-30T16:27:35Z</dcterms:modified>
  <cp:revision>176</cp:revision>
  <dc:subject/>
  <dc:title>Macromedia Dreamweaver MX2004</dc:title>
</cp:coreProperties>
</file>