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949-BB3A-4914-8C22-BAC337DBF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9FA0-686D-4A18-847A-B287B184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628E-FD2C-4DB3-9316-84A2F7370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8F4-C437-4C7D-82DF-6201B6EBE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DDBC-74B3-4EA4-96AA-4BA0CBEB0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B70E-2493-4C8E-8C85-90A341A11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BEA3-5C11-4081-BA7D-9A167A76D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6254-3261-4ABE-B33E-FEEAF6279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E4A-6C29-4EE0-B565-826CC2EB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7179-EF4A-4B19-B0FA-1D0B4B4A2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1E24-14C0-4ABF-9C2F-3EE60275D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54A8-EFC4-4228-A868-B03916A4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0522-D6A3-4BC4-AE6E-028A6CE07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6944-F27B-4F56-A373-30BE51B6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70A3-0123-48A9-A01A-6FB823E6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A4BC-642D-4AE7-A580-16066FF1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3456-EB1A-44CE-8881-F4594167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A205-2133-4835-B0F6-1D3E83CF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DC85-6778-416F-8915-EE40A0799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F1CA-236C-433A-BBBF-473F18DE7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AB94-B842-4168-A04C-B11CDDEB2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42EB-044D-4D4E-B685-65A825AC7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2A24-B280-4585-9E02-AB34CF73D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6FE2-CE04-4E44-BC40-F987FFB23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96B2-506E-4A51-A785-F0C3FA422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630B-1887-4B61-8498-E2D7A9593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1D85-8550-46AC-B6E8-B6F3CB83D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B61-B0E6-4264-95C4-E0CBA318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37E0-A0E1-45D8-98CD-FAB1E8B08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A7B1-EDD4-4CC6-958D-E5168AB3A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D7E-4DBB-4F01-8462-2AE500715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F403-8A71-431A-8490-EBF964B48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D885-7370-47F3-9523-96608239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3D49-2039-4EC7-99AC-B9A78881F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2469-6BF1-4CD5-B598-EFC278FD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5A11-883C-44E0-9D2B-B2FD6259F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E3DF-4ED0-4F32-A87B-5C7558AE7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6337-7164-4F56-8642-BFA9BDC9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028F-960E-4D20-9E03-206CF96C7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C419-E3D4-4669-8751-15E11704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8829-0108-4206-BFF9-B806E6DC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FFFB-14D9-42BA-9529-9513BA270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345D-E3AD-434E-9467-0B9889E3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DC5B-3C94-4D45-9FB4-CA9E0FBE0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F5D1-B570-46EF-A98E-ADEEA23C2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DA6-72DB-4265-AA2E-95323877D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F5DC-A53B-4E57-B376-FCD7E3DA2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7381-E6AA-4287-8F5B-53977F138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FFD4-B2E9-489D-BE4C-D67812A19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CD3C-37C3-43EB-9F5B-914DBF4E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186E-2119-42B4-9B11-0BFE5C68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F6B1-EC5F-4D98-BB53-1369C313C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4C9C-C59C-4ABB-B2ED-1E4558882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FE2-5CC0-41BB-8AD1-46B108FA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B0C-0BAD-4891-99AF-E9677149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E11-A33F-4D53-AA0D-3CE60DA5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E71-D116-43B8-B3FB-90ECDF0C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0DDF4-843F-47B4-8A2F-A7E20808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ACD4-94CA-44B1-8E0D-006524C3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EC35-D485-4500-81C2-1E8653D1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16FE-BCEB-426E-A10E-063BAA34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9E50-7642-447F-88AE-D69CA62E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86BD-7038-4365-A59F-E77A6606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98C4-7025-46A5-A36C-42B9F040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2253-9999-4EEE-8CA9-145E4EED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4A69-A7F2-4C14-A7DC-CAEE97E8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D58E-8CA6-4B57-AB25-6294DF1D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838C-47BA-4084-BD68-11A24B52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790D-2498-45AF-B7F8-5CDF8804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4E9F-9B6E-42F4-9F51-F3F52D44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5C927-890A-496A-A353-ACED2E3D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3F7D5-35A7-4560-8366-46672E88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8F15-8CFE-438D-A563-17547AEA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DAF75-29C5-4FA0-95BE-190D5B39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17E60-2666-4BF6-BF0D-EBD44951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F48-BAE4-4343-BFF8-01EB22D1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2CE33-7DAF-49D0-98D1-84031D16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741B1-1255-4BF6-91EB-8D77504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8AC9C-4535-4220-97AD-8B23B6B6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AC088-B249-4661-A185-952D7383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90E49-BB2E-4813-B7F3-75E167C0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6E2E6-B8D4-47A0-94AF-A8D23C95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BE98-2736-4411-95B6-FC7840A4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7AF06-995F-4F89-90DE-BF36B35C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5C79-87E3-44E2-A6FE-CBF08BF6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F3D7F-A5EB-4F00-A780-EDB28388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205C-F0F8-484D-B3DA-1AE49580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2B8E0-C535-43E3-867F-21C3A2FF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215E3-5DB6-4EA9-9262-F352EF78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F872-497F-4F55-A7EB-66753D5A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B08B2-ADA7-470C-BB22-1D05A5C9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8F90-03EF-477F-9A84-572E8738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F81C-E7CC-413C-9042-D54836BE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5843F-7530-43C1-AFCE-D8982C79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AE84-1BBB-4AF6-B4BF-B108B102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2A95-2E52-4181-A9D6-7B40DE19B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1E64C-55AC-4715-951F-BFF392A1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AAA-0BC7-4A0C-99AC-7DF03E3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2322-E43D-47AE-95BD-D46CDBD6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E1F9B-65CB-454A-81DC-14406893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60F79-1B5B-4ADE-B182-AED2AC38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9894-5794-445B-9D74-58CF2DEE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441DB-6BFE-4FA1-A290-41B6378E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56D58-26CD-468E-8E85-04769646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0F60-E980-4E96-935C-130B580D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011C-233D-4C4E-BBEF-0AFD3D2D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D77D-2E11-48D0-B96B-AB325A5F4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8B1D7-6CFE-4C08-B2BD-0A6CD8F5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76FE-1BE9-4F18-9174-49A8425F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56E9B-C39D-4990-AA64-64C95071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B706-C050-428B-8C22-167BA1E8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065E-985E-4931-844A-423F6BF0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81BC5-A063-4EF1-AB20-D539E612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81CB6-18CB-47E7-B700-09369D85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83F2E-A106-424F-80DD-591B2286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21C08-5FBC-47BF-B597-98F4EA77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9566A-C608-467B-AA3E-DF44F55F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DE857-EC74-4D20-BB91-41DAD2F6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92F6F-FFC5-426B-8252-03AD8E9F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7E4-4331-4FCE-B2E7-3F3FB3F6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E3BD6-BBE4-40A1-8E1A-B77A6131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EB0A9-2FFF-4756-ABA8-AD0B68F8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28DFD-5C29-4E47-8FB1-A8BCA8CD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7A03F-5FF2-40AC-AB09-BCAC1308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C0125-98D6-4CD4-9688-E859878F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8A6C6-0AB2-4988-ABF8-C45E58D9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6EEEB-1BE2-4105-9B8D-85D5E58F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38C3A-A2F9-428D-8E45-29317B1C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7F14C-8975-4BB8-B0CA-49A78BBE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B940F-78FF-4BF3-A599-C883C003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9F4-70E4-4CBE-8AD4-877ECF14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DBA7B-225D-464A-8976-1A567250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E3350-E447-454B-A440-208A3AA3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2623-9CA8-4F86-A2BD-3CBA3E69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B29A9-E50A-485D-8086-209DA00F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FAD6B-7465-4D97-B3B8-05DB75C8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F54CF-24F9-4978-B7A3-01E25256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F6413-F4C5-441D-98CD-17088C85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143AF-168A-49B8-8419-4F51BD6A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FFCC5-D42B-4AEB-AF58-50BFD530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06075-936D-4C43-BDFF-E150678F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DDB-C319-4813-8530-45F227D8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A3310-4057-436D-947E-B0FD2708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1F743-64AE-4D93-8694-BDFFC648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0C2F1-7830-44F0-B517-D7EA8174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E9E7A-DF2F-4356-9F84-B838EDE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7A60C-08B0-4FD6-8BDE-4F7EF1DC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33350-15F3-49E3-B4B6-BA7C47FE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100FF-A997-44EA-9D4B-0EA4956E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1441-064A-45CD-89E9-C2E0114DFB9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CED0-48F5-4470-AC05-21F6B6FFCCE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3588-9BAA-4381-9D2F-ECC97010F68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CF31-E8C7-4C50-9CFD-39C013CDD99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26EB-7180-4FAD-A02D-06F7A3F3A18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0FA7-8E89-4FF1-87A3-495BE6BE169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AD5C-1A40-49B4-AEE0-3975ED9A97BE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299B-13BB-4C4F-AEBB-3AD871751B1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http://4.bp.blogspot.com/-qXRHCShuC9s/T2MWJLgCUmI/AAAAAAAAA30/fHyneuJDo_Q/s1600/macromedia%2Bdreamweaver.png"/>
          <p:cNvPicPr/>
          <p:nvPr/>
        </p:nvPicPr>
        <p:blipFill>
          <a:blip r:embed="rId1"/>
          <a:stretch/>
        </p:blipFill>
        <p:spPr>
          <a:xfrm>
            <a:off x="684360" y="700200"/>
            <a:ext cx="7848360" cy="5918040"/>
          </a:xfrm>
          <a:prstGeom prst="rect">
            <a:avLst/>
          </a:prstGeom>
          <a:ln w="0">
            <a:noFill/>
          </a:ln>
        </p:spPr>
      </p:pic>
      <p:sp>
        <p:nvSpPr>
          <p:cNvPr id="360" name="مربع نص 5"/>
          <p:cNvSpPr/>
          <p:nvPr/>
        </p:nvSpPr>
        <p:spPr>
          <a:xfrm>
            <a:off x="1908000" y="1700280"/>
            <a:ext cx="51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 2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BBCB-3B5A-4C6C-A57E-46AD413B649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00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indow&gt;Insert, Properties, Files Have a Check Mark When A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2" name="Group 7"/>
          <p:cNvGrpSpPr/>
          <p:nvPr/>
        </p:nvGrpSpPr>
        <p:grpSpPr>
          <a:xfrm>
            <a:off x="1116000" y="1341360"/>
            <a:ext cx="7056360" cy="4896000"/>
            <a:chOff x="1116000" y="1341360"/>
            <a:chExt cx="7056360" cy="4896000"/>
          </a:xfrm>
        </p:grpSpPr>
        <p:pic>
          <p:nvPicPr>
            <p:cNvPr id="393" name="Picture 5" descr="dream5"/>
            <p:cNvPicPr/>
            <p:nvPr/>
          </p:nvPicPr>
          <p:blipFill>
            <a:blip r:embed="rId1"/>
            <a:stretch/>
          </p:blipFill>
          <p:spPr>
            <a:xfrm>
              <a:off x="1116000" y="1414080"/>
              <a:ext cx="7056360" cy="482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4" name="Rectangle 7"/>
            <p:cNvSpPr/>
            <p:nvPr/>
          </p:nvSpPr>
          <p:spPr>
            <a:xfrm>
              <a:off x="6163560" y="1341360"/>
              <a:ext cx="2004120" cy="262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D1E9-63E3-4507-866A-C4900AA5E5D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ting Up a New Web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Picture 4" descr="dream4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5"/>
          <p:cNvSpPr/>
          <p:nvPr/>
        </p:nvSpPr>
        <p:spPr>
          <a:xfrm>
            <a:off x="1905120" y="327672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&gt;Files Checked You Will See The Files Palette on the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781680" y="2286000"/>
            <a:ext cx="2057400" cy="4191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5562720" y="2666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5334120" y="1447920"/>
            <a:ext cx="76176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AD57-9852-4CA6-BCA8-03C42AC7A42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5364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rom the Pop Up Files Palette Window: Select Manage Sit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4" name="Picture 4" descr="dream5"/>
          <p:cNvPicPr/>
          <p:nvPr/>
        </p:nvPicPr>
        <p:blipFill>
          <a:blip r:embed="rId1"/>
          <a:stretch/>
        </p:blipFill>
        <p:spPr>
          <a:xfrm>
            <a:off x="325440" y="2011320"/>
            <a:ext cx="874224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5" name="Oval 5"/>
          <p:cNvSpPr/>
          <p:nvPr/>
        </p:nvSpPr>
        <p:spPr>
          <a:xfrm>
            <a:off x="6705720" y="3352680"/>
            <a:ext cx="20574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4ADA-3EB6-4C0F-B52D-952C535E744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New Button&gt;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8" name="Picture 4" descr="dream6"/>
          <p:cNvPicPr/>
          <p:nvPr/>
        </p:nvPicPr>
        <p:blipFill>
          <a:blip r:embed="rId1"/>
          <a:stretch/>
        </p:blipFill>
        <p:spPr>
          <a:xfrm>
            <a:off x="228600" y="1560600"/>
            <a:ext cx="861048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9" name="Oval 5"/>
          <p:cNvSpPr/>
          <p:nvPr/>
        </p:nvSpPr>
        <p:spPr>
          <a:xfrm>
            <a:off x="4800600" y="3809880"/>
            <a:ext cx="205740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1053-D0CE-4F8B-9CC6-F5B9C5576FB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the New Site Defin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2" name="Picture 4" descr="dream7"/>
          <p:cNvPicPr/>
          <p:nvPr/>
        </p:nvPicPr>
        <p:blipFill>
          <a:blip r:embed="rId1"/>
          <a:stretch/>
        </p:blipFill>
        <p:spPr>
          <a:xfrm>
            <a:off x="0" y="1295280"/>
            <a:ext cx="5334120" cy="51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Rectangle 8"/>
          <p:cNvSpPr/>
          <p:nvPr/>
        </p:nvSpPr>
        <p:spPr>
          <a:xfrm>
            <a:off x="1905120" y="1981080"/>
            <a:ext cx="18381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1600200" y="2209680"/>
            <a:ext cx="29415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1447920" y="2522520"/>
            <a:ext cx="316224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752480" y="3124080"/>
            <a:ext cx="27957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2"/>
          <p:cNvSpPr/>
          <p:nvPr/>
        </p:nvSpPr>
        <p:spPr>
          <a:xfrm>
            <a:off x="2535120" y="1371600"/>
            <a:ext cx="58896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5410080" y="10666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me Your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Folder Icon &amp; Locate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on the Folder Icon &amp; Locate the images folder inside of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3"/>
          <p:cNvSpPr/>
          <p:nvPr/>
        </p:nvSpPr>
        <p:spPr>
          <a:xfrm>
            <a:off x="4343400" y="6095880"/>
            <a:ext cx="74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602000" y="190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2909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1448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44324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76320" y="1752480"/>
            <a:ext cx="9144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8665-B96A-41A3-B643-C2E952EB013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44280"/>
            <a:ext cx="8534520" cy="9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he File Structure You Crea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7" name="Group 6"/>
          <p:cNvGrpSpPr/>
          <p:nvPr/>
        </p:nvGrpSpPr>
        <p:grpSpPr>
          <a:xfrm>
            <a:off x="1143000" y="1295280"/>
            <a:ext cx="6781680" cy="4654800"/>
            <a:chOff x="1143000" y="1295280"/>
            <a:chExt cx="6781680" cy="4654800"/>
          </a:xfrm>
        </p:grpSpPr>
        <p:pic>
          <p:nvPicPr>
            <p:cNvPr id="428" name="Picture 4" descr="dream8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6781680" cy="465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9" name="AutoShape 6"/>
            <p:cNvSpPr/>
            <p:nvPr/>
          </p:nvSpPr>
          <p:spPr>
            <a:xfrm>
              <a:off x="4419360" y="281124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7"/>
            <p:cNvSpPr/>
            <p:nvPr/>
          </p:nvSpPr>
          <p:spPr>
            <a:xfrm>
              <a:off x="4114800" y="260460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7193-7366-429A-B12D-6A9AE385460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791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gin Creating the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index.html</a:t>
            </a: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 main webpa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3" name="Group 5"/>
          <p:cNvGrpSpPr/>
          <p:nvPr/>
        </p:nvGrpSpPr>
        <p:grpSpPr>
          <a:xfrm>
            <a:off x="1066680" y="1268280"/>
            <a:ext cx="7021800" cy="4869000"/>
            <a:chOff x="1066680" y="1268280"/>
            <a:chExt cx="7021800" cy="4869000"/>
          </a:xfrm>
        </p:grpSpPr>
        <p:pic>
          <p:nvPicPr>
            <p:cNvPr id="434" name="Picture 5" descr="dream3"/>
            <p:cNvPicPr/>
            <p:nvPr/>
          </p:nvPicPr>
          <p:blipFill>
            <a:blip r:embed="rId1"/>
            <a:stretch/>
          </p:blipFill>
          <p:spPr>
            <a:xfrm>
              <a:off x="1066680" y="1420560"/>
              <a:ext cx="7021800" cy="471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5" name="Oval 6"/>
            <p:cNvSpPr/>
            <p:nvPr/>
          </p:nvSpPr>
          <p:spPr>
            <a:xfrm>
              <a:off x="2285640" y="1268280"/>
              <a:ext cx="213372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5934-D9D3-4D6D-90CE-5A9ECCFA576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Modify&gt;Page Properti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826920" y="1341360"/>
            <a:ext cx="7345440" cy="4775400"/>
            <a:chOff x="826920" y="1341360"/>
            <a:chExt cx="7345440" cy="4775400"/>
          </a:xfrm>
        </p:grpSpPr>
        <p:pic>
          <p:nvPicPr>
            <p:cNvPr id="439" name="Picture 5" descr="dream6"/>
            <p:cNvPicPr/>
            <p:nvPr/>
          </p:nvPicPr>
          <p:blipFill>
            <a:blip r:embed="rId1"/>
            <a:stretch/>
          </p:blipFill>
          <p:spPr>
            <a:xfrm>
              <a:off x="826920" y="1467720"/>
              <a:ext cx="7345440" cy="464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0" name="Oval 6"/>
            <p:cNvSpPr/>
            <p:nvPr/>
          </p:nvSpPr>
          <p:spPr>
            <a:xfrm>
              <a:off x="4030200" y="1341360"/>
              <a:ext cx="2107440" cy="613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92FD-F42D-4ECD-AD30-6F60993B337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ppearance, Set Font, Text, Background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187280" y="1622520"/>
            <a:ext cx="6958080" cy="4398840"/>
            <a:chOff x="1187280" y="1622520"/>
            <a:chExt cx="6958080" cy="4398840"/>
          </a:xfrm>
        </p:grpSpPr>
        <p:pic>
          <p:nvPicPr>
            <p:cNvPr id="444" name="Picture 5" descr="dream7"/>
            <p:cNvPicPr/>
            <p:nvPr/>
          </p:nvPicPr>
          <p:blipFill>
            <a:blip r:embed="rId1"/>
            <a:stretch/>
          </p:blipFill>
          <p:spPr>
            <a:xfrm>
              <a:off x="1187280" y="1622520"/>
              <a:ext cx="6958080" cy="439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5" name="Oval 6"/>
            <p:cNvSpPr/>
            <p:nvPr/>
          </p:nvSpPr>
          <p:spPr>
            <a:xfrm>
              <a:off x="4391280" y="2576160"/>
              <a:ext cx="1423800" cy="329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2397600" y="3037320"/>
              <a:ext cx="1210320" cy="26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0221-8BC6-443A-B483-AEEDBC56B42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inks, Set Link, Visited Link Col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9" name="Group 8"/>
          <p:cNvGrpSpPr/>
          <p:nvPr/>
        </p:nvGrpSpPr>
        <p:grpSpPr>
          <a:xfrm>
            <a:off x="1116000" y="1413000"/>
            <a:ext cx="7257960" cy="4721040"/>
            <a:chOff x="1116000" y="1413000"/>
            <a:chExt cx="7257960" cy="4721040"/>
          </a:xfrm>
        </p:grpSpPr>
        <p:pic>
          <p:nvPicPr>
            <p:cNvPr id="450" name="Picture 5" descr="dream8"/>
            <p:cNvPicPr/>
            <p:nvPr/>
          </p:nvPicPr>
          <p:blipFill>
            <a:blip r:embed="rId1"/>
            <a:stretch/>
          </p:blipFill>
          <p:spPr>
            <a:xfrm>
              <a:off x="1116000" y="1413000"/>
              <a:ext cx="7257960" cy="4721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1" name="Oval 6"/>
            <p:cNvSpPr/>
            <p:nvPr/>
          </p:nvSpPr>
          <p:spPr>
            <a:xfrm>
              <a:off x="4304160" y="2485440"/>
              <a:ext cx="148284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376360" y="2986200"/>
              <a:ext cx="126036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81A9-5407-44FD-9787-8C7C0FC9B46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ebsite Plan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even considering the practical aspects of creating a website, there are some important fundamental ques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need to ask yourself fir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we hoping to achie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's our target audien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catergory, if any, does our site fall into: ecommerce, informational, educational, social networking,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visually exciting does it need to be to be effecti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tone do we want our content to convey, could it be serious or witty, complex or simpl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CD9B-A60E-410C-A42B-E8C42A613B4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the Curser on the Page, Select Alignment, Type in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5651640" y="2260440"/>
            <a:ext cx="297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Alignment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7"/>
          <p:cNvGrpSpPr/>
          <p:nvPr/>
        </p:nvGrpSpPr>
        <p:grpSpPr>
          <a:xfrm>
            <a:off x="755640" y="1515960"/>
            <a:ext cx="4462560" cy="4505400"/>
            <a:chOff x="755640" y="1515960"/>
            <a:chExt cx="4462560" cy="4505400"/>
          </a:xfrm>
        </p:grpSpPr>
        <p:pic>
          <p:nvPicPr>
            <p:cNvPr id="457" name="Picture 6" descr="title"/>
            <p:cNvPicPr/>
            <p:nvPr/>
          </p:nvPicPr>
          <p:blipFill>
            <a:blip r:embed="rId1"/>
            <a:stretch/>
          </p:blipFill>
          <p:spPr>
            <a:xfrm>
              <a:off x="755640" y="1515960"/>
              <a:ext cx="4462560" cy="4505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8" name="Oval 7"/>
            <p:cNvSpPr/>
            <p:nvPr/>
          </p:nvSpPr>
          <p:spPr>
            <a:xfrm>
              <a:off x="3882600" y="5208120"/>
              <a:ext cx="775080" cy="31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0"/>
            <p:cNvSpPr/>
            <p:nvPr/>
          </p:nvSpPr>
          <p:spPr>
            <a:xfrm>
              <a:off x="4076280" y="4081680"/>
              <a:ext cx="281520" cy="1063800"/>
            </a:xfrm>
            <a:prstGeom prst="downArrow">
              <a:avLst>
                <a:gd name="adj1" fmla="val 50000"/>
                <a:gd name="adj2" fmla="val 9446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77E7-868E-4E5F-B27E-02FFDD905D5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2360" y="189000"/>
            <a:ext cx="83520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Select Ariel Fo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3708360" y="1582560"/>
            <a:ext cx="4137120" cy="4510440"/>
            <a:chOff x="3708360" y="1582560"/>
            <a:chExt cx="4137120" cy="4510440"/>
          </a:xfrm>
        </p:grpSpPr>
        <p:pic>
          <p:nvPicPr>
            <p:cNvPr id="463" name="Picture 5" descr="titlefont"/>
            <p:cNvPicPr/>
            <p:nvPr/>
          </p:nvPicPr>
          <p:blipFill>
            <a:blip r:embed="rId1"/>
            <a:stretch/>
          </p:blipFill>
          <p:spPr>
            <a:xfrm>
              <a:off x="3711240" y="1582560"/>
              <a:ext cx="4134240" cy="451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64" name="Oval 6"/>
            <p:cNvSpPr/>
            <p:nvPr/>
          </p:nvSpPr>
          <p:spPr>
            <a:xfrm>
              <a:off x="3708360" y="5166360"/>
              <a:ext cx="3017520" cy="308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7"/>
          <p:cNvSpPr/>
          <p:nvPr/>
        </p:nvSpPr>
        <p:spPr>
          <a:xfrm>
            <a:off x="250920" y="2421000"/>
            <a:ext cx="2971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 Pop-up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C605-60B7-4C03-998C-0FB89502124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&amp; Select the Title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ormat Si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4000" y="1484280"/>
            <a:ext cx="25905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-up Format for Title Heading Size: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8"/>
          <p:cNvGrpSpPr/>
          <p:nvPr/>
        </p:nvGrpSpPr>
        <p:grpSpPr>
          <a:xfrm>
            <a:off x="3305160" y="1341360"/>
            <a:ext cx="4579920" cy="4792680"/>
            <a:chOff x="3305160" y="1341360"/>
            <a:chExt cx="4579920" cy="4792680"/>
          </a:xfrm>
        </p:grpSpPr>
        <p:pic>
          <p:nvPicPr>
            <p:cNvPr id="470" name="Picture 5" descr="titlesize"/>
            <p:cNvPicPr/>
            <p:nvPr/>
          </p:nvPicPr>
          <p:blipFill>
            <a:blip r:embed="rId1"/>
            <a:stretch/>
          </p:blipFill>
          <p:spPr>
            <a:xfrm>
              <a:off x="3305160" y="1341360"/>
              <a:ext cx="4579920" cy="4792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Oval 7"/>
            <p:cNvSpPr/>
            <p:nvPr/>
          </p:nvSpPr>
          <p:spPr>
            <a:xfrm>
              <a:off x="3612240" y="5268960"/>
              <a:ext cx="1157040" cy="3326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98F4-2A1C-4E5B-9DFB-FA6A4B73F5F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360" y="75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to Create a Title With a Graphic: Insert&gt;Table or Select Table Ic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74" name="Group 10"/>
          <p:cNvGrpSpPr/>
          <p:nvPr/>
        </p:nvGrpSpPr>
        <p:grpSpPr>
          <a:xfrm>
            <a:off x="900000" y="1515960"/>
            <a:ext cx="7718400" cy="4649760"/>
            <a:chOff x="900000" y="1515960"/>
            <a:chExt cx="7718400" cy="4649760"/>
          </a:xfrm>
        </p:grpSpPr>
        <p:pic>
          <p:nvPicPr>
            <p:cNvPr id="475" name="Picture 5" descr="dream9"/>
            <p:cNvPicPr/>
            <p:nvPr/>
          </p:nvPicPr>
          <p:blipFill>
            <a:blip r:embed="rId1"/>
            <a:stretch/>
          </p:blipFill>
          <p:spPr>
            <a:xfrm>
              <a:off x="900000" y="1584360"/>
              <a:ext cx="7425000" cy="458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6" name="Oval 6"/>
            <p:cNvSpPr/>
            <p:nvPr/>
          </p:nvSpPr>
          <p:spPr>
            <a:xfrm>
              <a:off x="3597480" y="1515960"/>
              <a:ext cx="824040" cy="410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"/>
            <p:cNvSpPr/>
            <p:nvPr/>
          </p:nvSpPr>
          <p:spPr>
            <a:xfrm>
              <a:off x="3597480" y="2473920"/>
              <a:ext cx="217296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"/>
            <p:cNvSpPr/>
            <p:nvPr/>
          </p:nvSpPr>
          <p:spPr>
            <a:xfrm>
              <a:off x="3147840" y="1721160"/>
              <a:ext cx="37440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9"/>
            <p:cNvSpPr/>
            <p:nvPr/>
          </p:nvSpPr>
          <p:spPr>
            <a:xfrm>
              <a:off x="5695920" y="3569040"/>
              <a:ext cx="29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ables control object pl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6EAF-DE19-41C8-8A0A-1623AB2D3F8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titletable"/>
          <p:cNvPicPr/>
          <p:nvPr/>
        </p:nvPicPr>
        <p:blipFill>
          <a:blip r:embed="rId1"/>
          <a:stretch/>
        </p:blipFill>
        <p:spPr>
          <a:xfrm>
            <a:off x="762120" y="1523880"/>
            <a:ext cx="5102280" cy="471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236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Row, Column, Table Width,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order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172200" y="2057400"/>
            <a:ext cx="2590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tle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2514600" y="2286000"/>
            <a:ext cx="29718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752A-C91B-4B76-880A-9DB1E4F50B8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djust Column Width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5791320" y="16765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 Table Column Line Left or Right to Adjust the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7"/>
          <p:cNvGrpSpPr/>
          <p:nvPr/>
        </p:nvGrpSpPr>
        <p:grpSpPr>
          <a:xfrm>
            <a:off x="684360" y="1295280"/>
            <a:ext cx="4694040" cy="4870440"/>
            <a:chOff x="684360" y="1295280"/>
            <a:chExt cx="4694040" cy="4870440"/>
          </a:xfrm>
        </p:grpSpPr>
        <p:pic>
          <p:nvPicPr>
            <p:cNvPr id="489" name="Picture 6" descr="titletableadjust"/>
            <p:cNvPicPr/>
            <p:nvPr/>
          </p:nvPicPr>
          <p:blipFill>
            <a:blip r:embed="rId1"/>
            <a:stretch/>
          </p:blipFill>
          <p:spPr>
            <a:xfrm>
              <a:off x="684360" y="1295280"/>
              <a:ext cx="4694040" cy="487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0" name="AutoShape 8"/>
            <p:cNvSpPr/>
            <p:nvPr/>
          </p:nvSpPr>
          <p:spPr>
            <a:xfrm>
              <a:off x="1827720" y="2756520"/>
              <a:ext cx="533520" cy="1669680"/>
            </a:xfrm>
            <a:prstGeom prst="upArrow">
              <a:avLst>
                <a:gd name="adj1" fmla="val 50000"/>
                <a:gd name="adj2" fmla="val 7823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0"/>
            <p:cNvSpPr/>
            <p:nvPr/>
          </p:nvSpPr>
          <p:spPr>
            <a:xfrm>
              <a:off x="1827720" y="2269440"/>
              <a:ext cx="609480" cy="417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DD40-31DE-4F74-B3E2-8A5DC5802D7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18"/>
          <p:cNvGrpSpPr/>
          <p:nvPr/>
        </p:nvGrpSpPr>
        <p:grpSpPr>
          <a:xfrm>
            <a:off x="76320" y="1959120"/>
            <a:ext cx="5943600" cy="4060800"/>
            <a:chOff x="76320" y="1959120"/>
            <a:chExt cx="5943600" cy="4060800"/>
          </a:xfrm>
        </p:grpSpPr>
        <p:grpSp>
          <p:nvGrpSpPr>
            <p:cNvPr id="494" name="Group 16"/>
            <p:cNvGrpSpPr/>
            <p:nvPr/>
          </p:nvGrpSpPr>
          <p:grpSpPr>
            <a:xfrm>
              <a:off x="76320" y="1959120"/>
              <a:ext cx="5943600" cy="4060800"/>
              <a:chOff x="76320" y="1959120"/>
              <a:chExt cx="5943600" cy="4060800"/>
            </a:xfrm>
          </p:grpSpPr>
          <p:grpSp>
            <p:nvGrpSpPr>
              <p:cNvPr id="495" name="Group 10"/>
              <p:cNvGrpSpPr/>
              <p:nvPr/>
            </p:nvGrpSpPr>
            <p:grpSpPr>
              <a:xfrm>
                <a:off x="76320" y="1959120"/>
                <a:ext cx="5943600" cy="4060800"/>
                <a:chOff x="76320" y="1959120"/>
                <a:chExt cx="5943600" cy="4060800"/>
              </a:xfrm>
            </p:grpSpPr>
            <p:pic>
              <p:nvPicPr>
                <p:cNvPr id="496" name="Picture 5" descr="savea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320" y="1959120"/>
                  <a:ext cx="5943600" cy="40608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497" name="Rectangle 8"/>
                <p:cNvSpPr/>
                <p:nvPr/>
              </p:nvSpPr>
              <p:spPr>
                <a:xfrm>
                  <a:off x="228600" y="3886200"/>
                  <a:ext cx="121932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9"/>
                <p:cNvSpPr/>
                <p:nvPr/>
              </p:nvSpPr>
              <p:spPr>
                <a:xfrm>
                  <a:off x="3352680" y="3886200"/>
                  <a:ext cx="266724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Rectangle 13"/>
              <p:cNvSpPr/>
              <p:nvPr/>
            </p:nvSpPr>
            <p:spPr>
              <a:xfrm>
                <a:off x="76320" y="3048120"/>
                <a:ext cx="1371600" cy="28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4"/>
              <p:cNvSpPr/>
              <p:nvPr/>
            </p:nvSpPr>
            <p:spPr>
              <a:xfrm>
                <a:off x="3276720" y="3124080"/>
                <a:ext cx="274320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Line 17"/>
            <p:cNvSpPr/>
            <p:nvPr/>
          </p:nvSpPr>
          <p:spPr>
            <a:xfrm>
              <a:off x="6019920" y="19810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fore Adding Graphic Images go to  File&gt;Save As&gt;name your file(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index.html</a:t>
            </a: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6300720" y="1268280"/>
            <a:ext cx="2571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to use all lowercase letters, no spaces or special characters in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"/>
          <p:cNvSpPr/>
          <p:nvPr/>
        </p:nvSpPr>
        <p:spPr>
          <a:xfrm>
            <a:off x="1371600" y="182880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"/>
          <p:cNvSpPr/>
          <p:nvPr/>
        </p:nvSpPr>
        <p:spPr>
          <a:xfrm>
            <a:off x="1447920" y="3276720"/>
            <a:ext cx="18288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E3C-0586-4952-B8D6-B55315CB1FC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Left Cell, Insert&gt;Image, or use the Image Icon, Locate.gif or .jpg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890640" y="1581120"/>
            <a:ext cx="6705720" cy="4368960"/>
            <a:chOff x="890640" y="1581120"/>
            <a:chExt cx="6705720" cy="4368960"/>
          </a:xfrm>
        </p:grpSpPr>
        <p:pic>
          <p:nvPicPr>
            <p:cNvPr id="509" name="Picture 5" descr="titlelogo"/>
            <p:cNvPicPr/>
            <p:nvPr/>
          </p:nvPicPr>
          <p:blipFill>
            <a:blip r:embed="rId1"/>
            <a:stretch/>
          </p:blipFill>
          <p:spPr>
            <a:xfrm>
              <a:off x="890640" y="1581120"/>
              <a:ext cx="6705720" cy="4368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0" name="Oval 8"/>
            <p:cNvSpPr/>
            <p:nvPr/>
          </p:nvSpPr>
          <p:spPr>
            <a:xfrm>
              <a:off x="3862440" y="1834920"/>
              <a:ext cx="53316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7CE5-8F69-41EB-940E-C71CDD0929B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Right Cell &amp; Type to Add the Tit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3" name="Picture 5" descr="titleintable"/>
          <p:cNvPicPr/>
          <p:nvPr/>
        </p:nvPicPr>
        <p:blipFill>
          <a:blip r:embed="rId1"/>
          <a:stretch/>
        </p:blipFill>
        <p:spPr>
          <a:xfrm>
            <a:off x="380880" y="1901880"/>
            <a:ext cx="8382240" cy="38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04CF-1344-4225-8621-4732E3E4ACD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Table, Select BG to Add a Background Cell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867280" y="262584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900000" y="1413000"/>
            <a:ext cx="4591080" cy="4752720"/>
            <a:chOff x="900000" y="1413000"/>
            <a:chExt cx="4591080" cy="4752720"/>
          </a:xfrm>
        </p:grpSpPr>
        <p:pic>
          <p:nvPicPr>
            <p:cNvPr id="518" name="Picture 5" descr="titletablecolor"/>
            <p:cNvPicPr/>
            <p:nvPr/>
          </p:nvPicPr>
          <p:blipFill>
            <a:blip r:embed="rId1"/>
            <a:stretch/>
          </p:blipFill>
          <p:spPr>
            <a:xfrm>
              <a:off x="900000" y="1413000"/>
              <a:ext cx="4591080" cy="475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9" name="Oval 6"/>
            <p:cNvSpPr/>
            <p:nvPr/>
          </p:nvSpPr>
          <p:spPr>
            <a:xfrm>
              <a:off x="3493440" y="5746680"/>
              <a:ext cx="1286280" cy="2793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CD28-A16F-4037-8073-4C31A7811CB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ite Content &amp; Information 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ably the most important aspect of website 'structural design' is how you breakdown the content into logical sections (Main Areas, Pages, Headers, Sub-Headers, Lists, etc). You need to create a strong hierarchy for the site and breakdown content into small uni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good idea to create a graphical schema/flowchart/sitemap for the site. This can help you visualise a logical hierarch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0550-492B-4E29-8DA5-E11B7DCA372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o Make Border Invisible, Select Table, Set Border to 0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2" name="Group 10"/>
          <p:cNvGrpSpPr/>
          <p:nvPr/>
        </p:nvGrpSpPr>
        <p:grpSpPr>
          <a:xfrm>
            <a:off x="611280" y="1362240"/>
            <a:ext cx="8304120" cy="4803480"/>
            <a:chOff x="611280" y="1362240"/>
            <a:chExt cx="8304120" cy="4803480"/>
          </a:xfrm>
        </p:grpSpPr>
        <p:pic>
          <p:nvPicPr>
            <p:cNvPr id="523" name="Picture 5" descr="titlenoborder"/>
            <p:cNvPicPr/>
            <p:nvPr/>
          </p:nvPicPr>
          <p:blipFill>
            <a:blip r:embed="rId1"/>
            <a:stretch/>
          </p:blipFill>
          <p:spPr>
            <a:xfrm>
              <a:off x="611280" y="1362240"/>
              <a:ext cx="5051520" cy="480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4" name="Oval 6"/>
            <p:cNvSpPr/>
            <p:nvPr/>
          </p:nvSpPr>
          <p:spPr>
            <a:xfrm>
              <a:off x="4277160" y="5462280"/>
              <a:ext cx="1122120" cy="347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8"/>
            <p:cNvSpPr/>
            <p:nvPr/>
          </p:nvSpPr>
          <p:spPr>
            <a:xfrm>
              <a:off x="5549040" y="2621520"/>
              <a:ext cx="2394000" cy="347400"/>
            </a:xfrm>
            <a:prstGeom prst="leftArrow">
              <a:avLst>
                <a:gd name="adj1" fmla="val 50000"/>
                <a:gd name="adj2" fmla="val 1722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5848200" y="2065680"/>
              <a:ext cx="30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 Edge of 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5819-5C07-416C-AD14-2954A31FE3C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o Add Navigation Table, Insert&gt;Table or Tabl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6248520" y="2057400"/>
            <a:ext cx="2514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Columns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684360" y="1650960"/>
            <a:ext cx="5114880" cy="4299120"/>
            <a:chOff x="684360" y="1650960"/>
            <a:chExt cx="5114880" cy="4299120"/>
          </a:xfrm>
        </p:grpSpPr>
        <p:pic>
          <p:nvPicPr>
            <p:cNvPr id="531" name="Picture 5" descr="navigtable"/>
            <p:cNvPicPr/>
            <p:nvPr/>
          </p:nvPicPr>
          <p:blipFill>
            <a:blip r:embed="rId1"/>
            <a:stretch/>
          </p:blipFill>
          <p:spPr>
            <a:xfrm>
              <a:off x="684360" y="1650960"/>
              <a:ext cx="5114880" cy="4299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2" name="Oval 7"/>
            <p:cNvSpPr/>
            <p:nvPr/>
          </p:nvSpPr>
          <p:spPr>
            <a:xfrm>
              <a:off x="2485440" y="1726200"/>
              <a:ext cx="432000" cy="36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2989800" y="2889360"/>
              <a:ext cx="2665440" cy="306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208A-D66A-4B2C-BA63-0D960866C30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side of the First Cell to Add a Flash Navigation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36" name="Picture 6" descr="navtable2"/>
          <p:cNvPicPr/>
          <p:nvPr/>
        </p:nvPicPr>
        <p:blipFill>
          <a:blip r:embed="rId1"/>
          <a:stretch/>
        </p:blipFill>
        <p:spPr>
          <a:xfrm>
            <a:off x="380880" y="2367000"/>
            <a:ext cx="8458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7" name="AutoShape 7"/>
          <p:cNvSpPr/>
          <p:nvPr/>
        </p:nvSpPr>
        <p:spPr>
          <a:xfrm>
            <a:off x="1143000" y="4876920"/>
            <a:ext cx="380880" cy="1447560"/>
          </a:xfrm>
          <a:prstGeom prst="up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1588-1B9A-496D-A217-E83D2A05067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&gt;Media&gt;Flash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332000" y="1295280"/>
            <a:ext cx="6440400" cy="4942080"/>
            <a:chOff x="1332000" y="1295280"/>
            <a:chExt cx="6440400" cy="4942080"/>
          </a:xfrm>
        </p:grpSpPr>
        <p:pic>
          <p:nvPicPr>
            <p:cNvPr id="541" name="Picture 5" descr="navbutton1"/>
            <p:cNvPicPr/>
            <p:nvPr/>
          </p:nvPicPr>
          <p:blipFill>
            <a:blip r:embed="rId1"/>
            <a:stretch/>
          </p:blipFill>
          <p:spPr>
            <a:xfrm>
              <a:off x="1332000" y="1368000"/>
              <a:ext cx="6289200" cy="4869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2" name="Oval 6"/>
            <p:cNvSpPr/>
            <p:nvPr/>
          </p:nvSpPr>
          <p:spPr>
            <a:xfrm>
              <a:off x="3983760" y="2022480"/>
              <a:ext cx="227304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7"/>
            <p:cNvSpPr/>
            <p:nvPr/>
          </p:nvSpPr>
          <p:spPr>
            <a:xfrm>
              <a:off x="5878080" y="2604600"/>
              <a:ext cx="189432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8"/>
            <p:cNvSpPr/>
            <p:nvPr/>
          </p:nvSpPr>
          <p:spPr>
            <a:xfrm>
              <a:off x="3908160" y="1295280"/>
              <a:ext cx="90900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C0E8-628C-4582-A444-C0413D64D41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2000" y="43920"/>
            <a:ext cx="878364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Button Settings: Style, Text, Font, Link,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ize, Apply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7" name="Picture 5" descr="navbutton2"/>
          <p:cNvPicPr/>
          <p:nvPr/>
        </p:nvPicPr>
        <p:blipFill>
          <a:blip r:embed="rId1"/>
          <a:stretch/>
        </p:blipFill>
        <p:spPr>
          <a:xfrm>
            <a:off x="755640" y="1577880"/>
            <a:ext cx="4903920" cy="444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8" name="Text Box 6"/>
          <p:cNvSpPr/>
          <p:nvPr/>
        </p:nvSpPr>
        <p:spPr>
          <a:xfrm>
            <a:off x="6012000" y="1484280"/>
            <a:ext cx="275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en uploading your website to the server to add your .swf Flash buttons you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7A80-135E-41C7-BECD-72FBA54C072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Repeat to Add All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1" name="Picture 5" descr="navbutton3"/>
          <p:cNvPicPr/>
          <p:nvPr/>
        </p:nvPicPr>
        <p:blipFill>
          <a:blip r:embed="rId1"/>
          <a:stretch/>
        </p:blipFill>
        <p:spPr>
          <a:xfrm>
            <a:off x="380880" y="1228680"/>
            <a:ext cx="845820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2" name="Oval 6"/>
          <p:cNvSpPr/>
          <p:nvPr/>
        </p:nvSpPr>
        <p:spPr>
          <a:xfrm>
            <a:off x="533520" y="3438360"/>
            <a:ext cx="19047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609480" y="494172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f you need to edit the button after has been created or to check the links just double click on the button again, change the features, Apply, O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C3B3-D371-4FC4-B3DE-2445DA4C3FF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ample of Completed Title &amp;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avigation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6" name="Picture 5" descr="navcomplete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7" name="Text Box 6"/>
          <p:cNvSpPr/>
          <p:nvPr/>
        </p:nvSpPr>
        <p:spPr>
          <a:xfrm>
            <a:off x="395280" y="53848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You May Have Different Titles For Your Navigation Butt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E16E-7E80-4CB8-A861-FB996832CEB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0" name="Group 7"/>
          <p:cNvGrpSpPr/>
          <p:nvPr/>
        </p:nvGrpSpPr>
        <p:grpSpPr>
          <a:xfrm>
            <a:off x="1295280" y="1469880"/>
            <a:ext cx="6019920" cy="4838760"/>
            <a:chOff x="1295280" y="1469880"/>
            <a:chExt cx="6019920" cy="4838760"/>
          </a:xfrm>
        </p:grpSpPr>
        <p:pic>
          <p:nvPicPr>
            <p:cNvPr id="561" name="Picture 5" descr="externallink"/>
            <p:cNvPicPr/>
            <p:nvPr/>
          </p:nvPicPr>
          <p:blipFill>
            <a:blip r:embed="rId1"/>
            <a:stretch/>
          </p:blipFill>
          <p:spPr>
            <a:xfrm>
              <a:off x="1447560" y="1469880"/>
              <a:ext cx="5867640" cy="4838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2" name="Oval 6"/>
            <p:cNvSpPr/>
            <p:nvPr/>
          </p:nvSpPr>
          <p:spPr>
            <a:xfrm>
              <a:off x="5105520" y="5432400"/>
              <a:ext cx="20574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7"/>
            <p:cNvSpPr/>
            <p:nvPr/>
          </p:nvSpPr>
          <p:spPr>
            <a:xfrm>
              <a:off x="1295280" y="3298680"/>
              <a:ext cx="266688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8"/>
            <p:cNvSpPr/>
            <p:nvPr/>
          </p:nvSpPr>
          <p:spPr>
            <a:xfrm>
              <a:off x="2590560" y="4776840"/>
              <a:ext cx="46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ttp://www.google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386-1F40-4F2A-BB2B-EBAE5268EC3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7" name="Group 7"/>
          <p:cNvGrpSpPr/>
          <p:nvPr/>
        </p:nvGrpSpPr>
        <p:grpSpPr>
          <a:xfrm>
            <a:off x="1378080" y="1557360"/>
            <a:ext cx="5715000" cy="4611600"/>
            <a:chOff x="1378080" y="1557360"/>
            <a:chExt cx="5715000" cy="4611600"/>
          </a:xfrm>
        </p:grpSpPr>
        <p:pic>
          <p:nvPicPr>
            <p:cNvPr id="568" name="Picture 5" descr="internallink"/>
            <p:cNvPicPr/>
            <p:nvPr/>
          </p:nvPicPr>
          <p:blipFill>
            <a:blip r:embed="rId1"/>
            <a:stretch/>
          </p:blipFill>
          <p:spPr>
            <a:xfrm>
              <a:off x="1530360" y="1557360"/>
              <a:ext cx="5562720" cy="461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9" name="Oval 6"/>
            <p:cNvSpPr/>
            <p:nvPr/>
          </p:nvSpPr>
          <p:spPr>
            <a:xfrm>
              <a:off x="4883400" y="5294520"/>
              <a:ext cx="190476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>
              <a:off x="1378080" y="3693960"/>
              <a:ext cx="15238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"/>
            <p:cNvSpPr/>
            <p:nvPr/>
          </p:nvSpPr>
          <p:spPr>
            <a:xfrm>
              <a:off x="4730760" y="47610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dex.htm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D9B0-8E4B-486C-AE2A-59AEDBF017C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-Mai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1676520" y="1427040"/>
            <a:ext cx="6019560" cy="4665600"/>
            <a:chOff x="1676520" y="1427040"/>
            <a:chExt cx="6019560" cy="4665600"/>
          </a:xfrm>
        </p:grpSpPr>
        <p:grpSp>
          <p:nvGrpSpPr>
            <p:cNvPr id="575" name="Group 10"/>
            <p:cNvGrpSpPr/>
            <p:nvPr/>
          </p:nvGrpSpPr>
          <p:grpSpPr>
            <a:xfrm>
              <a:off x="1752480" y="1427040"/>
              <a:ext cx="5640480" cy="4665600"/>
              <a:chOff x="1752480" y="1427040"/>
              <a:chExt cx="5640480" cy="4665600"/>
            </a:xfrm>
          </p:grpSpPr>
          <p:pic>
            <p:nvPicPr>
              <p:cNvPr id="576" name="Picture 5" descr="emaillink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1427040"/>
                <a:ext cx="5640480" cy="4665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77" name="Rectangle 9"/>
              <p:cNvSpPr/>
              <p:nvPr/>
            </p:nvSpPr>
            <p:spPr>
              <a:xfrm>
                <a:off x="5638680" y="5406840"/>
                <a:ext cx="10670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7"/>
            <p:cNvSpPr/>
            <p:nvPr/>
          </p:nvSpPr>
          <p:spPr>
            <a:xfrm>
              <a:off x="5181480" y="5178600"/>
              <a:ext cx="24382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8"/>
            <p:cNvSpPr/>
            <p:nvPr/>
          </p:nvSpPr>
          <p:spPr>
            <a:xfrm>
              <a:off x="1676520" y="3578400"/>
              <a:ext cx="28954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1905120" y="4569120"/>
              <a:ext cx="57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ailto:hollandj@emporia.ed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12"/>
          <p:cNvSpPr/>
          <p:nvPr/>
        </p:nvSpPr>
        <p:spPr>
          <a:xfrm>
            <a:off x="5562720" y="5345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9F0C-CFB9-4BC1-B9C4-B6E9599B73E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عنصر نائب للمحتوى 3" descr="schema.gif"/>
          <p:cNvPicPr/>
          <p:nvPr/>
        </p:nvPicPr>
        <p:blipFill>
          <a:blip r:embed="rId1"/>
          <a:stretch/>
        </p:blipFill>
        <p:spPr>
          <a:xfrm>
            <a:off x="1332000" y="1303200"/>
            <a:ext cx="6821280" cy="493416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91C8-8115-43F9-87A6-02F1EE0EEAD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ing Graphics and Text in Tab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مربع نص 7"/>
          <p:cNvSpPr/>
          <p:nvPr/>
        </p:nvSpPr>
        <p:spPr>
          <a:xfrm>
            <a:off x="611280" y="1700280"/>
            <a:ext cx="7705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ontrol placement of elements in relation 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pecify amount of space between each page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lways plan how your table will look with all the text and graphics i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Even a rough sketch will save you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8B3F-375A-47AC-B333-99E2CC7731A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31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Left Cell, Select Insert&gt;Image or Imag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7" name="Picture 5" descr="graphicselect"/>
          <p:cNvPicPr/>
          <p:nvPr/>
        </p:nvPicPr>
        <p:blipFill>
          <a:blip r:embed="rId1"/>
          <a:stretch/>
        </p:blipFill>
        <p:spPr>
          <a:xfrm>
            <a:off x="482760" y="1341360"/>
            <a:ext cx="5384520" cy="475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8" name="Oval 6"/>
          <p:cNvSpPr/>
          <p:nvPr/>
        </p:nvSpPr>
        <p:spPr>
          <a:xfrm>
            <a:off x="225252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6516720" y="1628640"/>
            <a:ext cx="2057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 Graphic Im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g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j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609A-F3DB-4071-8614-BB8C6A74D43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Right Cell &amp; Add Your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2" name="Picture 5" descr="graphicwithtext"/>
          <p:cNvPicPr/>
          <p:nvPr/>
        </p:nvPicPr>
        <p:blipFill>
          <a:blip r:embed="rId1"/>
          <a:stretch/>
        </p:blipFill>
        <p:spPr>
          <a:xfrm>
            <a:off x="684360" y="1600200"/>
            <a:ext cx="5932440" cy="46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Text Box 6"/>
          <p:cNvSpPr/>
          <p:nvPr/>
        </p:nvSpPr>
        <p:spPr>
          <a:xfrm>
            <a:off x="7010280" y="1601640"/>
            <a:ext cx="17528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just Column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nt to A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2822-BF54-431D-9D53-42A851F1061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Anchors Are Used to Jump Down on a Long Page of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6" name="Picture 5" descr="anchors"/>
          <p:cNvPicPr/>
          <p:nvPr/>
        </p:nvPicPr>
        <p:blipFill>
          <a:blip r:embed="rId1"/>
          <a:stretch/>
        </p:blipFill>
        <p:spPr>
          <a:xfrm>
            <a:off x="1692360" y="1447920"/>
            <a:ext cx="5775120" cy="47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7" name="Oval 7"/>
          <p:cNvSpPr/>
          <p:nvPr/>
        </p:nvSpPr>
        <p:spPr>
          <a:xfrm>
            <a:off x="1295280" y="3429000"/>
            <a:ext cx="6248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2B41-89F2-43C6-A814-76F5474032F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Word, In the Link Box Type in #nam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0" name="Group 9"/>
          <p:cNvGrpSpPr/>
          <p:nvPr/>
        </p:nvGrpSpPr>
        <p:grpSpPr>
          <a:xfrm>
            <a:off x="1001880" y="1447920"/>
            <a:ext cx="5657760" cy="4684680"/>
            <a:chOff x="1001880" y="1447920"/>
            <a:chExt cx="5657760" cy="4684680"/>
          </a:xfrm>
        </p:grpSpPr>
        <p:pic>
          <p:nvPicPr>
            <p:cNvPr id="601" name="Picture 5" descr="anchors"/>
            <p:cNvPicPr/>
            <p:nvPr/>
          </p:nvPicPr>
          <p:blipFill>
            <a:blip r:embed="rId1"/>
            <a:stretch/>
          </p:blipFill>
          <p:spPr>
            <a:xfrm>
              <a:off x="1001880" y="1447920"/>
              <a:ext cx="5657760" cy="4684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2" name="Oval 6"/>
            <p:cNvSpPr/>
            <p:nvPr/>
          </p:nvSpPr>
          <p:spPr>
            <a:xfrm>
              <a:off x="1186920" y="3285000"/>
              <a:ext cx="9144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7"/>
            <p:cNvSpPr/>
            <p:nvPr/>
          </p:nvSpPr>
          <p:spPr>
            <a:xfrm>
              <a:off x="4411440" y="5267880"/>
              <a:ext cx="1600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8"/>
          <p:cNvSpPr/>
          <p:nvPr/>
        </p:nvSpPr>
        <p:spPr>
          <a:xfrm>
            <a:off x="685800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#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72CD-06AF-494B-A725-051B9E91969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Text to Link To, Insert&gt;Named Anch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7" name="Group 9"/>
          <p:cNvGrpSpPr/>
          <p:nvPr/>
        </p:nvGrpSpPr>
        <p:grpSpPr>
          <a:xfrm>
            <a:off x="1116000" y="1371600"/>
            <a:ext cx="6948360" cy="4721400"/>
            <a:chOff x="1116000" y="1371600"/>
            <a:chExt cx="6948360" cy="4721400"/>
          </a:xfrm>
        </p:grpSpPr>
        <p:pic>
          <p:nvPicPr>
            <p:cNvPr id="608" name="Picture 5" descr="anchorinsert"/>
            <p:cNvPicPr/>
            <p:nvPr/>
          </p:nvPicPr>
          <p:blipFill>
            <a:blip r:embed="rId1"/>
            <a:stretch/>
          </p:blipFill>
          <p:spPr>
            <a:xfrm>
              <a:off x="1116000" y="1513800"/>
              <a:ext cx="6948360" cy="457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9" name="Oval 6"/>
            <p:cNvSpPr/>
            <p:nvPr/>
          </p:nvSpPr>
          <p:spPr>
            <a:xfrm>
              <a:off x="1179000" y="4008600"/>
              <a:ext cx="909360" cy="569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"/>
            <p:cNvSpPr/>
            <p:nvPr/>
          </p:nvSpPr>
          <p:spPr>
            <a:xfrm>
              <a:off x="3680640" y="1371600"/>
              <a:ext cx="757800" cy="427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8"/>
            <p:cNvSpPr/>
            <p:nvPr/>
          </p:nvSpPr>
          <p:spPr>
            <a:xfrm>
              <a:off x="3680640" y="3509640"/>
              <a:ext cx="1970640" cy="356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6A55-7CFF-4E2F-BAC9-7F588F84DD2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ype in Exact Name Match, Example: august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903240" y="1523880"/>
            <a:ext cx="6908760" cy="4497480"/>
            <a:chOff x="903240" y="1523880"/>
            <a:chExt cx="6908760" cy="4497480"/>
          </a:xfrm>
        </p:grpSpPr>
        <p:pic>
          <p:nvPicPr>
            <p:cNvPr id="615" name="Picture 5" descr="anchorinsertname"/>
            <p:cNvPicPr/>
            <p:nvPr/>
          </p:nvPicPr>
          <p:blipFill>
            <a:blip r:embed="rId1"/>
            <a:stretch/>
          </p:blipFill>
          <p:spPr>
            <a:xfrm>
              <a:off x="903240" y="1523880"/>
              <a:ext cx="6908760" cy="449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6" name="Oval 6"/>
            <p:cNvSpPr/>
            <p:nvPr/>
          </p:nvSpPr>
          <p:spPr>
            <a:xfrm>
              <a:off x="3463200" y="4393800"/>
              <a:ext cx="2474280" cy="349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مستطيل مستدير الزوايا 6"/>
          <p:cNvSpPr/>
          <p:nvPr/>
        </p:nvSpPr>
        <p:spPr>
          <a:xfrm>
            <a:off x="2195640" y="2924280"/>
            <a:ext cx="540072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5122-EDA5-4D0B-A69D-E69006FC3DE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5640" y="4392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otice the Yellow Anchor,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his Will Not Show When Posted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0" name="Group 7"/>
          <p:cNvGrpSpPr/>
          <p:nvPr/>
        </p:nvGrpSpPr>
        <p:grpSpPr>
          <a:xfrm>
            <a:off x="1619280" y="1557360"/>
            <a:ext cx="6087960" cy="4140000"/>
            <a:chOff x="1619280" y="1557360"/>
            <a:chExt cx="6087960" cy="4140000"/>
          </a:xfrm>
        </p:grpSpPr>
        <p:pic>
          <p:nvPicPr>
            <p:cNvPr id="621" name="Picture 5" descr="anchorinsertname2"/>
            <p:cNvPicPr/>
            <p:nvPr/>
          </p:nvPicPr>
          <p:blipFill>
            <a:blip r:embed="rId1"/>
            <a:stretch/>
          </p:blipFill>
          <p:spPr>
            <a:xfrm>
              <a:off x="1693080" y="1557360"/>
              <a:ext cx="6014160" cy="41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22" name="Oval 6"/>
            <p:cNvSpPr/>
            <p:nvPr/>
          </p:nvSpPr>
          <p:spPr>
            <a:xfrm>
              <a:off x="1619280" y="3474360"/>
              <a:ext cx="1111680" cy="308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4101-3EF5-43CA-AF6A-EAA5AAF00E8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an Duplicate Pag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the index.html page is set up as desired with the logo, header, and navigation buttons it can serve as a template for creating new pag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save the current page(index.html) as a new filename, then edit the new page to su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164A-2092-4716-8343-CB8E3CE6871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99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File&gt;Preview in Browser&gt;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elect the desired browse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116000" y="1295280"/>
            <a:ext cx="7265880" cy="4726080"/>
            <a:chOff x="1116000" y="1295280"/>
            <a:chExt cx="7265880" cy="4726080"/>
          </a:xfrm>
        </p:grpSpPr>
        <p:pic>
          <p:nvPicPr>
            <p:cNvPr id="629" name="Picture 6" descr="previewinternetexp"/>
            <p:cNvPicPr/>
            <p:nvPr/>
          </p:nvPicPr>
          <p:blipFill>
            <a:blip r:embed="rId1"/>
            <a:stretch/>
          </p:blipFill>
          <p:spPr>
            <a:xfrm>
              <a:off x="1116000" y="1399680"/>
              <a:ext cx="7265880" cy="462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0" name="Oval 7"/>
            <p:cNvSpPr/>
            <p:nvPr/>
          </p:nvSpPr>
          <p:spPr>
            <a:xfrm>
              <a:off x="2483280" y="4663800"/>
              <a:ext cx="226872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8"/>
            <p:cNvSpPr/>
            <p:nvPr/>
          </p:nvSpPr>
          <p:spPr>
            <a:xfrm>
              <a:off x="2483280" y="1295280"/>
              <a:ext cx="756000" cy="412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4600800" y="4801320"/>
              <a:ext cx="196596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848C-CF3E-4401-873C-CF1A1D79064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1698120"/>
            <a:ext cx="800748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 folder on your computer called website1 to hold all web pages and graphics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onal: inside of the website1 folder create a folder called images to hold your graph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04920" y="4815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folders, webpages, and graphic names must be lowercase, no spaces, and no special characters for ease of linking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ربع نص 6"/>
          <p:cNvSpPr/>
          <p:nvPr/>
        </p:nvSpPr>
        <p:spPr>
          <a:xfrm>
            <a:off x="6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  <a:ea typeface="Arial"/>
              </a:rPr>
              <a:t>Getting 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AB5A-E6AB-48F2-8BB0-3B217FBC177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Notice How the Browser Opens in Front To Preview What it Will Look Like When Uploaded to the Server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35" name="Group 8"/>
          <p:cNvGrpSpPr/>
          <p:nvPr/>
        </p:nvGrpSpPr>
        <p:grpSpPr>
          <a:xfrm>
            <a:off x="990720" y="1700280"/>
            <a:ext cx="7311960" cy="4470480"/>
            <a:chOff x="990720" y="1700280"/>
            <a:chExt cx="7311960" cy="4470480"/>
          </a:xfrm>
        </p:grpSpPr>
        <p:pic>
          <p:nvPicPr>
            <p:cNvPr id="636" name="Picture 5" descr="preview"/>
            <p:cNvPicPr/>
            <p:nvPr/>
          </p:nvPicPr>
          <p:blipFill>
            <a:blip r:embed="rId1"/>
            <a:stretch/>
          </p:blipFill>
          <p:spPr>
            <a:xfrm>
              <a:off x="990720" y="1700280"/>
              <a:ext cx="7311960" cy="4470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7" name="Oval 6"/>
            <p:cNvSpPr/>
            <p:nvPr/>
          </p:nvSpPr>
          <p:spPr>
            <a:xfrm>
              <a:off x="2057400" y="2665440"/>
              <a:ext cx="8380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7"/>
          <p:cNvSpPr/>
          <p:nvPr/>
        </p:nvSpPr>
        <p:spPr>
          <a:xfrm>
            <a:off x="2705040" y="572436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en Finished Viewing Browser Red Button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622E-8FA4-4EF2-B811-A87C3259B8B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Optional: File&gt;Preview in Browser&gt;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Edit Browser List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41" name="Group 9"/>
          <p:cNvGrpSpPr/>
          <p:nvPr/>
        </p:nvGrpSpPr>
        <p:grpSpPr>
          <a:xfrm>
            <a:off x="1042920" y="1295280"/>
            <a:ext cx="7338960" cy="4942080"/>
            <a:chOff x="1042920" y="1295280"/>
            <a:chExt cx="7338960" cy="4942080"/>
          </a:xfrm>
        </p:grpSpPr>
        <p:pic>
          <p:nvPicPr>
            <p:cNvPr id="642" name="Picture 5" descr="previewinternetexp"/>
            <p:cNvPicPr/>
            <p:nvPr/>
          </p:nvPicPr>
          <p:blipFill>
            <a:blip r:embed="rId1"/>
            <a:stretch/>
          </p:blipFill>
          <p:spPr>
            <a:xfrm>
              <a:off x="1042920" y="1404360"/>
              <a:ext cx="7338960" cy="483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3" name="Oval 6"/>
            <p:cNvSpPr/>
            <p:nvPr/>
          </p:nvSpPr>
          <p:spPr>
            <a:xfrm>
              <a:off x="2347560" y="481788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8"/>
            <p:cNvSpPr/>
            <p:nvPr/>
          </p:nvSpPr>
          <p:spPr>
            <a:xfrm>
              <a:off x="4257360" y="524916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7"/>
            <p:cNvSpPr/>
            <p:nvPr/>
          </p:nvSpPr>
          <p:spPr>
            <a:xfrm>
              <a:off x="2423880" y="1295280"/>
              <a:ext cx="763560" cy="431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FB85-2FEB-41AD-9A93-5530066B8C8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Selecting Primary &amp; Secondary Browser Choices</a:t>
            </a: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48" name="Picture 5" descr="selectbrowser"/>
          <p:cNvPicPr/>
          <p:nvPr/>
        </p:nvPicPr>
        <p:blipFill>
          <a:blip r:embed="rId1"/>
          <a:stretch/>
        </p:blipFill>
        <p:spPr>
          <a:xfrm>
            <a:off x="1258920" y="1341360"/>
            <a:ext cx="6840360" cy="49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43FC-B3C8-461F-BFEE-5BEF14DCE1E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HTML Code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51" name="Picture 5" descr="code"/>
          <p:cNvPicPr/>
          <p:nvPr/>
        </p:nvPicPr>
        <p:blipFill>
          <a:blip r:embed="rId1"/>
          <a:stretch/>
        </p:blipFill>
        <p:spPr>
          <a:xfrm>
            <a:off x="2050920" y="1424160"/>
            <a:ext cx="5264280" cy="48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2" name="Oval 6"/>
          <p:cNvSpPr/>
          <p:nvPr/>
        </p:nvSpPr>
        <p:spPr>
          <a:xfrm>
            <a:off x="2050920" y="2060640"/>
            <a:ext cx="714600" cy="503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9953-C6F4-4AD0-A2E5-F576B577827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532764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Split Code &amp; Design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5" name="Oval 7"/>
          <p:cNvSpPr/>
          <p:nvPr/>
        </p:nvSpPr>
        <p:spPr>
          <a:xfrm>
            <a:off x="762120" y="20574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8"/>
          <p:cNvSpPr/>
          <p:nvPr/>
        </p:nvSpPr>
        <p:spPr>
          <a:xfrm>
            <a:off x="0" y="4800600"/>
            <a:ext cx="31240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0"/>
          <p:cNvSpPr/>
          <p:nvPr/>
        </p:nvSpPr>
        <p:spPr>
          <a:xfrm>
            <a:off x="1371600" y="2743200"/>
            <a:ext cx="44956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6705720" y="2057400"/>
            <a:ext cx="213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Highlight Areas in Design Mode &amp; See It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DE80-08C5-44F6-AB4B-5EEA7B37704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799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Design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Creating &amp; Editing Web Pages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61" name="Picture 6" descr="designmode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1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2" name="Oval 7"/>
          <p:cNvSpPr/>
          <p:nvPr/>
        </p:nvSpPr>
        <p:spPr>
          <a:xfrm>
            <a:off x="1523880" y="2590920"/>
            <a:ext cx="91440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E8E8-3114-4BC7-843D-28051806B31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aa2e"/>
                </a:solidFill>
                <a:latin typeface="Gill Sans MT"/>
              </a:rPr>
              <a:t>http://macromedia-dreamweaver.soft32.com</a:t>
            </a:r>
            <a:r>
              <a:rPr b="0" lang="en-US" sz="3200" spc="-1" strike="noStrike">
                <a:solidFill>
                  <a:srgbClr val="6eaa2e"/>
                </a:solidFill>
                <a:latin typeface="Gill Sans MT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6CB4-6C60-4861-89DD-379A12541F0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8" descr="dream1"/>
          <p:cNvPicPr/>
          <p:nvPr/>
        </p:nvPicPr>
        <p:blipFill>
          <a:blip r:embed="rId1"/>
          <a:stretch/>
        </p:blipFill>
        <p:spPr>
          <a:xfrm>
            <a:off x="1979640" y="1300320"/>
            <a:ext cx="5564160" cy="48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aunch Dreamweaver Select HT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3639960" y="2565360"/>
            <a:ext cx="12193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26F8-9255-48A2-B88A-AA3257B0926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New Page Appea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0" name="Picture 10" descr="dream2"/>
          <p:cNvPicPr/>
          <p:nvPr/>
        </p:nvPicPr>
        <p:blipFill>
          <a:blip r:embed="rId1"/>
          <a:stretch/>
        </p:blipFill>
        <p:spPr>
          <a:xfrm>
            <a:off x="1295280" y="1415880"/>
            <a:ext cx="655344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6C99-8E20-467E-9D9E-EFF49A8114C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Select File&gt;Ne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3" name="Picture 5" descr="dream3"/>
          <p:cNvPicPr/>
          <p:nvPr/>
        </p:nvPicPr>
        <p:blipFill>
          <a:blip r:embed="rId1"/>
          <a:stretch/>
        </p:blipFill>
        <p:spPr>
          <a:xfrm>
            <a:off x="1066680" y="12952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4" name="Oval 6"/>
          <p:cNvSpPr/>
          <p:nvPr/>
        </p:nvSpPr>
        <p:spPr>
          <a:xfrm>
            <a:off x="2286000" y="11430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246B-DB0D-440C-B9F4-DCFD6FE04F8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8" descr="dream3"/>
          <p:cNvPicPr/>
          <p:nvPr/>
        </p:nvPicPr>
        <p:blipFill>
          <a:blip r:embed="rId1"/>
          <a:stretch/>
        </p:blipFill>
        <p:spPr>
          <a:xfrm>
            <a:off x="1523880" y="1219320"/>
            <a:ext cx="6410520" cy="51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HTML, Crea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3362400" y="19018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6791400" y="6019920"/>
            <a:ext cx="121896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4B88-52A7-4B2F-AC2D-FEB95B2D4C0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54:30Z</dcterms:created>
  <dc:creator>Janet Holland</dc:creator>
  <dc:description/>
  <dc:language>en-US</dc:language>
  <cp:lastModifiedBy>AN</cp:lastModifiedBy>
  <cp:lastPrinted>2005-06-09T14:21:05Z</cp:lastPrinted>
  <dcterms:modified xsi:type="dcterms:W3CDTF">2013-04-06T07:57:08Z</dcterms:modified>
  <cp:revision>182</cp:revision>
  <dc:subject/>
  <dc:title>Macromedia Dreamweaver MX2004</dc:title>
</cp:coreProperties>
</file>