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362D-D9D3-483B-A76E-9061793BC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974D-F069-4A7B-BD5C-5B6C91E9F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0C59-8B36-47F5-8D0F-FAC750ADC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9941-3236-4DF3-9989-2FD34B9F7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C334-36C7-472B-89B3-258E4654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7395-BAD1-44E7-B63F-EAD018325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D9F7-D0D8-4A66-B895-F637FCD8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23DD-E258-4A47-B6B4-604BA4742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AA01-BED2-4EDC-B7F6-D127ADD4E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156A-9C92-49BF-B295-C5C52D4AF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E21F-0FA0-4100-9332-6AB8865E8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3E50-5879-40F6-9D6E-739D853BF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75E0-8278-4DE2-A303-54415BD0D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854E-74E0-44BE-931F-FF078881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5E40-A322-4D46-80A0-B4F88B768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6ADC-981C-48D4-91E7-5D64F688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F1A1-66B0-4183-81B3-1A9BAD605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2798-265D-4641-AB12-57E6A592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679B-49F8-4106-9EE9-661FF32CD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495C-4400-47E4-9106-40ED401B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737E-CE4A-43A7-9111-9E0537448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CF44-607A-4E25-8DE1-2CF2B82D7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E75F-4F06-4E3A-8B44-CE258769B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1B68-C0D0-4214-864E-D1F0C4E57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85CD-E0FF-4D47-B681-8CFA775D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E5D3-EE5C-4F81-ABE3-72CFB45BC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A1FD-9AAB-42BB-B946-00604FA42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8CF1-8519-4F3D-ABA8-1CF9A1806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5552-9F54-4EF0-90F4-B0FEFDD17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B644-0C5E-4293-BA7C-0721F81A7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AEA6-D304-4247-B5D3-41C298D86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61FC-DF4C-4801-8F9B-B5E81609B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F567-7CCB-4201-A137-9B346545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51DC-167E-482F-A67A-0A7EC0A1E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5D4C-6CA3-45EF-8E0D-FC0F024F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3C44-AFC5-4044-BF0F-310C0EEA8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A591-49B5-47F3-8187-09D296F4B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846-63A0-4A3B-89D3-832027A7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405A-483D-45FF-A4F6-3345BADD8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423E-9A25-4215-8644-8A8E2AC9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0D00-10F3-4ED8-8A03-BA40351E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258D-D71A-4906-8F6F-064E72997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6663-2F3D-4A9E-A3D6-2C178F44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7909-D981-4356-975E-5E6201D98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A314-5B7D-4A30-BFDF-9989F719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D685-A32C-4431-B7BB-7B340CFB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822C-A983-4FA5-989F-5FACC0FD1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69BE-43C5-48E0-96A5-77B0E5DEA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892E-3B4F-4A01-BDC2-D32561FF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F75B-4056-43A6-8DEA-1BC0BCFFF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9C5C-66D3-4F45-A3B1-A87DA9E43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284-4544-40ED-89C4-700621AEE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DFB2-0234-406A-8CB4-03A4E36DA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E1F-F8DC-409B-BD6D-F1FA8D91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F00-FBD7-4D26-BC94-3A16A9FC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263-AD7D-444E-805B-EC28D77A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304-5F1B-4080-AF8E-AD3EABA1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F8FF-BAA1-4E1E-B46E-3BA9BE22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7F45-A4D4-42C8-903E-5310B171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26B5-5358-47EA-ACFB-5A88EEBF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B1B6-0BB2-4B40-92DE-022268B3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6075-B72C-4F7B-9E21-21EED45A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C33E-19E2-4124-9E2B-F2782300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718A-98D5-4794-8623-5776A573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5A9-D3B3-49DC-A8E3-110B61EE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3B1B-0023-498D-BC75-39B75193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A916-D2D2-40E1-AED3-1B74584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2D64-1E41-4D7B-8009-92498DEB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E69E-0279-4C47-B771-B85CE08E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6C8B-20DD-4D59-B670-F055E25E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2A37-26D6-4968-98F2-1F6CA50F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B57F-A7AD-403E-BDFD-773BBEC0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104B-F70B-4443-81E2-83D01A43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C2B0-3605-469E-83FA-D4384D1D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6806-208B-45D7-A47C-400995E9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8F1-CF0D-4420-899A-23920624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A5CE-485C-4B42-9658-735DFABC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6297-190D-4DDD-BEC6-711B2553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1519-6A7D-4841-85E0-11D55F5C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B9E4-F527-4FE5-8CDB-4B8CD47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EBB0-8413-46C6-8BA1-F1049B05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54B1-4014-406C-AA04-2F883C1E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E1B4-83A2-435F-AE5F-02163D3D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58ED-3720-4F5E-A5A2-90DC3A30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26B70-32B7-4D60-AF04-272C33B9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90093-D15A-46FF-AC85-64D5A6FA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F68-3603-446F-B1D4-CBADD59E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018D-D49D-48E4-918E-5C9C6CA6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EA71-EFED-44EC-9F2F-E920EBCC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9948B-C703-496D-BAD3-5A7FD3F3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09D2-30FD-4CE8-A564-7C816E4A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D767A-77D8-4AAC-9E3E-E574F2C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58AB0-05FB-4A71-AE99-9E133599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6110-2DB0-4527-BF7E-DAB22B4D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7A8D-AE22-4CF6-A6C8-2B679D7C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78FE-13D2-46DF-8D4A-53097E83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5B6C9-27B4-423A-A094-CA9BA75A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FA1-4902-4B46-A2A5-4C54B3C1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64E93-ECB8-47C2-B787-7430D716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2253B-74D3-4AD1-880D-DFF58246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A0082-186A-40A8-BEA9-4161CE7F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CBA23-F749-4273-8993-A8BDBD48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71B1A-ECE8-4C82-AA3C-D0718F0C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196BB-967E-4949-884F-CFF7AC5B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64611-E4FA-4C63-B7B6-3299578C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E6525-936C-4C35-8B21-6B03D86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BCDF8-A67D-4EDE-B67C-5FC523D6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8D632-B248-4AC1-BB50-FF373EA5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823-70AA-472B-A934-6956D608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37170-6C01-4D87-BEED-52DB1A78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80263-8A26-46A6-A56D-7ED756E3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33F14-E347-4201-8663-3EB71EE5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A93C7-D664-45BB-9FEC-ACE25A04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26EA8-A44C-498D-84E1-AC4E4E27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11488-B3DB-4D4B-9955-854E234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FF551-742F-4955-A3AA-8255AD93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FC964-AF25-4264-954C-1854E48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B43AA-8890-486E-B91E-E8870FBF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83B21-151C-484A-AAE2-559194F4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B92-A1CE-4F44-983A-FFEBD95B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1844D-8363-4053-8A1E-A24D4B66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7C53E-D985-4512-B103-0E3D2CB8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35FAB-B39B-4AE0-A0FF-203254D8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064E-7DC2-4E5E-B1B5-F55CD96D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52CA4-A896-4DB5-8F32-89D0F14F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A242D-BCCE-4339-98B7-93C5F807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1963F-2537-43B6-B397-0E34F534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E1519-D39A-4759-A687-22D1E9FE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58C13-01FD-4451-89FB-BCB0063C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8EA80-6FD7-4187-B978-B42D3164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4A4-9336-4D16-8F36-6731C6AA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1F0DA-BDE2-490C-A140-F5E6AA51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66EA8-6E01-4545-ADA3-E27673B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4E41-3DAB-49C5-840B-FBEA1A4D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53E8F-367C-4472-A803-8715CD4D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5FB9F-9AF0-4E62-A4E2-7D98B168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4F02B-B874-4BF5-A082-1745BC73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82406-44D2-47E4-B682-93909B29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6B8AC-5074-4D4C-85AC-F3CBD741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950E1-B7BF-488E-9626-7FBBF34D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E7006-42B6-4A3A-BBCD-E0BB10F7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BAE-E64E-4226-8D60-C277B7BB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3F671-68A0-46A5-A915-BBB65A9E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D4780-286B-4DBF-81CC-58E2614D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62EF3-4CBF-42DD-AF06-348052FE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E02C8-9DA2-4937-84E0-31D1961C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A784C-3F64-4C06-9E87-62079F98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A9941-5614-43AF-9895-8F37CE81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7A1A5-41CB-4A8D-8501-76CE0EFF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E24A-FB6F-4B18-B884-96FB5309700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2599-DCC2-41D3-8CBC-454173F0EEE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8B36-CFD8-4986-BB56-EDE73696041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0843-AFAB-48CA-A3D6-84C6BD693E9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743E-F042-4702-888F-54FCF16A837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F8AB-F7D3-424F-AD7B-EDBBBE4AEDA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08B1-E132-48F3-A9A7-E57611B3878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C03E-4779-4377-85B6-ED7F8A4475E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http://4.bp.blogspot.com/-qXRHCShuC9s/T2MWJLgCUmI/AAAAAAAAA30/fHyneuJDo_Q/s1600/macromedia%2Bdreamweaver.png"/>
          <p:cNvPicPr/>
          <p:nvPr/>
        </p:nvPicPr>
        <p:blipFill>
          <a:blip r:embed="rId1"/>
          <a:stretch/>
        </p:blipFill>
        <p:spPr>
          <a:xfrm>
            <a:off x="684360" y="700200"/>
            <a:ext cx="7848360" cy="5918040"/>
          </a:xfrm>
          <a:prstGeom prst="rect">
            <a:avLst/>
          </a:prstGeom>
          <a:ln w="0">
            <a:noFill/>
          </a:ln>
        </p:spPr>
      </p:pic>
      <p:sp>
        <p:nvSpPr>
          <p:cNvPr id="360" name="مربع نص 5"/>
          <p:cNvSpPr/>
          <p:nvPr/>
        </p:nvSpPr>
        <p:spPr>
          <a:xfrm>
            <a:off x="1908000" y="1700280"/>
            <a:ext cx="51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 2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EBB6-2DB8-4B9C-839C-85274802193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00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indow&gt;Insert, Properties, Files Have a Check Mark When A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2" name="Group 7"/>
          <p:cNvGrpSpPr/>
          <p:nvPr/>
        </p:nvGrpSpPr>
        <p:grpSpPr>
          <a:xfrm>
            <a:off x="1116000" y="1341360"/>
            <a:ext cx="7056360" cy="4896000"/>
            <a:chOff x="1116000" y="1341360"/>
            <a:chExt cx="7056360" cy="4896000"/>
          </a:xfrm>
        </p:grpSpPr>
        <p:pic>
          <p:nvPicPr>
            <p:cNvPr id="393" name="Picture 5" descr="dream5"/>
            <p:cNvPicPr/>
            <p:nvPr/>
          </p:nvPicPr>
          <p:blipFill>
            <a:blip r:embed="rId1"/>
            <a:stretch/>
          </p:blipFill>
          <p:spPr>
            <a:xfrm>
              <a:off x="1116000" y="1414080"/>
              <a:ext cx="7056360" cy="482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4" name="Rectangle 7"/>
            <p:cNvSpPr/>
            <p:nvPr/>
          </p:nvSpPr>
          <p:spPr>
            <a:xfrm>
              <a:off x="6163560" y="1341360"/>
              <a:ext cx="2004120" cy="262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4857-E117-47BA-BC8F-7BF8D07855F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ting Up a New Web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7" name="Picture 4" descr="dream4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5"/>
          <p:cNvSpPr/>
          <p:nvPr/>
        </p:nvSpPr>
        <p:spPr>
          <a:xfrm>
            <a:off x="1905120" y="327672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&gt;Files Checked You Will See The Files Palette on the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781680" y="2286000"/>
            <a:ext cx="2057400" cy="4191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5562720" y="2666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5334120" y="1447920"/>
            <a:ext cx="76176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776C-DF14-4E2E-A623-5DF15BD8F3F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5364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rom the Pop Up Files Palette Window: Select Manage Sit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4" name="Picture 4" descr="dream5"/>
          <p:cNvPicPr/>
          <p:nvPr/>
        </p:nvPicPr>
        <p:blipFill>
          <a:blip r:embed="rId1"/>
          <a:stretch/>
        </p:blipFill>
        <p:spPr>
          <a:xfrm>
            <a:off x="325440" y="2011320"/>
            <a:ext cx="874224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5" name="Oval 5"/>
          <p:cNvSpPr/>
          <p:nvPr/>
        </p:nvSpPr>
        <p:spPr>
          <a:xfrm>
            <a:off x="6705720" y="3352680"/>
            <a:ext cx="20574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86F2-A207-4132-B6C2-78A3C39617B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New Button&gt;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8" name="Picture 4" descr="dream6"/>
          <p:cNvPicPr/>
          <p:nvPr/>
        </p:nvPicPr>
        <p:blipFill>
          <a:blip r:embed="rId1"/>
          <a:stretch/>
        </p:blipFill>
        <p:spPr>
          <a:xfrm>
            <a:off x="228600" y="1560600"/>
            <a:ext cx="8610480" cy="45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9" name="Oval 5"/>
          <p:cNvSpPr/>
          <p:nvPr/>
        </p:nvSpPr>
        <p:spPr>
          <a:xfrm>
            <a:off x="4800600" y="3809880"/>
            <a:ext cx="205740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E090-6327-4FB9-B19E-786439ED75B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the New Site Defin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2" name="Picture 4" descr="dream7"/>
          <p:cNvPicPr/>
          <p:nvPr/>
        </p:nvPicPr>
        <p:blipFill>
          <a:blip r:embed="rId1"/>
          <a:stretch/>
        </p:blipFill>
        <p:spPr>
          <a:xfrm>
            <a:off x="0" y="1295280"/>
            <a:ext cx="5334120" cy="515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Rectangle 8"/>
          <p:cNvSpPr/>
          <p:nvPr/>
        </p:nvSpPr>
        <p:spPr>
          <a:xfrm>
            <a:off x="1905120" y="1981080"/>
            <a:ext cx="18381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1600200" y="2209680"/>
            <a:ext cx="29415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1447920" y="2522520"/>
            <a:ext cx="316224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752480" y="3124080"/>
            <a:ext cx="27957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2"/>
          <p:cNvSpPr/>
          <p:nvPr/>
        </p:nvSpPr>
        <p:spPr>
          <a:xfrm>
            <a:off x="2535120" y="1371600"/>
            <a:ext cx="58896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5410080" y="106668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me Your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Folder Icon &amp; Locate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on the Folder Icon &amp; Locate the images folder inside of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3"/>
          <p:cNvSpPr/>
          <p:nvPr/>
        </p:nvSpPr>
        <p:spPr>
          <a:xfrm>
            <a:off x="4343400" y="6095880"/>
            <a:ext cx="74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602000" y="190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29096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1448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1443240" y="306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76320" y="1752480"/>
            <a:ext cx="9144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9EAA-CB9C-4B8A-887B-DFC42DB85A1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44280"/>
            <a:ext cx="8534520" cy="9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he File Structure You Creat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7" name="Group 6"/>
          <p:cNvGrpSpPr/>
          <p:nvPr/>
        </p:nvGrpSpPr>
        <p:grpSpPr>
          <a:xfrm>
            <a:off x="1143000" y="1295280"/>
            <a:ext cx="6781680" cy="4654800"/>
            <a:chOff x="1143000" y="1295280"/>
            <a:chExt cx="6781680" cy="4654800"/>
          </a:xfrm>
        </p:grpSpPr>
        <p:pic>
          <p:nvPicPr>
            <p:cNvPr id="428" name="Picture 4" descr="dream8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6781680" cy="465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9" name="AutoShape 6"/>
            <p:cNvSpPr/>
            <p:nvPr/>
          </p:nvSpPr>
          <p:spPr>
            <a:xfrm>
              <a:off x="4419360" y="281124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7"/>
            <p:cNvSpPr/>
            <p:nvPr/>
          </p:nvSpPr>
          <p:spPr>
            <a:xfrm>
              <a:off x="4114800" y="260460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CC82-D189-47B6-AF4F-EBE13AD0301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791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gin Creating the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index.html</a:t>
            </a: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 main webpa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3" name="Group 5"/>
          <p:cNvGrpSpPr/>
          <p:nvPr/>
        </p:nvGrpSpPr>
        <p:grpSpPr>
          <a:xfrm>
            <a:off x="1066680" y="1268280"/>
            <a:ext cx="7021800" cy="4869000"/>
            <a:chOff x="1066680" y="1268280"/>
            <a:chExt cx="7021800" cy="4869000"/>
          </a:xfrm>
        </p:grpSpPr>
        <p:pic>
          <p:nvPicPr>
            <p:cNvPr id="434" name="Picture 5" descr="dream3"/>
            <p:cNvPicPr/>
            <p:nvPr/>
          </p:nvPicPr>
          <p:blipFill>
            <a:blip r:embed="rId1"/>
            <a:stretch/>
          </p:blipFill>
          <p:spPr>
            <a:xfrm>
              <a:off x="1066680" y="1420560"/>
              <a:ext cx="7021800" cy="471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35" name="Oval 6"/>
            <p:cNvSpPr/>
            <p:nvPr/>
          </p:nvSpPr>
          <p:spPr>
            <a:xfrm>
              <a:off x="2285640" y="1268280"/>
              <a:ext cx="213372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7D8D-895F-40AC-B568-2368EADA832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Modify&gt;Page Properti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8" name="Group 7"/>
          <p:cNvGrpSpPr/>
          <p:nvPr/>
        </p:nvGrpSpPr>
        <p:grpSpPr>
          <a:xfrm>
            <a:off x="826920" y="1341360"/>
            <a:ext cx="7345440" cy="4775400"/>
            <a:chOff x="826920" y="1341360"/>
            <a:chExt cx="7345440" cy="4775400"/>
          </a:xfrm>
        </p:grpSpPr>
        <p:pic>
          <p:nvPicPr>
            <p:cNvPr id="439" name="Picture 5" descr="dream6"/>
            <p:cNvPicPr/>
            <p:nvPr/>
          </p:nvPicPr>
          <p:blipFill>
            <a:blip r:embed="rId1"/>
            <a:stretch/>
          </p:blipFill>
          <p:spPr>
            <a:xfrm>
              <a:off x="826920" y="1467720"/>
              <a:ext cx="7345440" cy="4649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0" name="Oval 6"/>
            <p:cNvSpPr/>
            <p:nvPr/>
          </p:nvSpPr>
          <p:spPr>
            <a:xfrm>
              <a:off x="4030200" y="1341360"/>
              <a:ext cx="2107440" cy="613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A0AE-4425-46D5-82FA-B773431A3BB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ppearance, Set Font, Text, Background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3" name="Group 8"/>
          <p:cNvGrpSpPr/>
          <p:nvPr/>
        </p:nvGrpSpPr>
        <p:grpSpPr>
          <a:xfrm>
            <a:off x="1187280" y="1622520"/>
            <a:ext cx="6958080" cy="4398840"/>
            <a:chOff x="1187280" y="1622520"/>
            <a:chExt cx="6958080" cy="4398840"/>
          </a:xfrm>
        </p:grpSpPr>
        <p:pic>
          <p:nvPicPr>
            <p:cNvPr id="444" name="Picture 5" descr="dream7"/>
            <p:cNvPicPr/>
            <p:nvPr/>
          </p:nvPicPr>
          <p:blipFill>
            <a:blip r:embed="rId1"/>
            <a:stretch/>
          </p:blipFill>
          <p:spPr>
            <a:xfrm>
              <a:off x="1187280" y="1622520"/>
              <a:ext cx="6958080" cy="4398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5" name="Oval 6"/>
            <p:cNvSpPr/>
            <p:nvPr/>
          </p:nvSpPr>
          <p:spPr>
            <a:xfrm>
              <a:off x="4391280" y="2576160"/>
              <a:ext cx="1423800" cy="329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2397600" y="3037320"/>
              <a:ext cx="1210320" cy="26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7DA0-6A23-483D-9989-2A424B2F453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inks, Set Link, Visited Link Col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9" name="Group 8"/>
          <p:cNvGrpSpPr/>
          <p:nvPr/>
        </p:nvGrpSpPr>
        <p:grpSpPr>
          <a:xfrm>
            <a:off x="1116000" y="1413000"/>
            <a:ext cx="7257960" cy="4721040"/>
            <a:chOff x="1116000" y="1413000"/>
            <a:chExt cx="7257960" cy="4721040"/>
          </a:xfrm>
        </p:grpSpPr>
        <p:pic>
          <p:nvPicPr>
            <p:cNvPr id="450" name="Picture 5" descr="dream8"/>
            <p:cNvPicPr/>
            <p:nvPr/>
          </p:nvPicPr>
          <p:blipFill>
            <a:blip r:embed="rId1"/>
            <a:stretch/>
          </p:blipFill>
          <p:spPr>
            <a:xfrm>
              <a:off x="1116000" y="1413000"/>
              <a:ext cx="7257960" cy="4721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1" name="Oval 6"/>
            <p:cNvSpPr/>
            <p:nvPr/>
          </p:nvSpPr>
          <p:spPr>
            <a:xfrm>
              <a:off x="4304160" y="2485440"/>
              <a:ext cx="148284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2376360" y="2986200"/>
              <a:ext cx="126036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428C-8378-4629-91C5-284355B1811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ebsite Plan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even considering the practical aspects of creating a website, there are some important fundamental ques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need to ask yourself fir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we hoping to achie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's our target audienc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catergory, if any, does our site fall into: ecommerce, informational, educational, social networking,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visually exciting does it need to be to be effecti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tone do we want our content to convey, could it be serious or witty, complex or simpl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FCEB-1F9A-4E14-8BD7-E1CC99D3232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the Curser on the Page, Select Alignment, Type in Tex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5651640" y="2260440"/>
            <a:ext cx="297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Alignment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7"/>
          <p:cNvGrpSpPr/>
          <p:nvPr/>
        </p:nvGrpSpPr>
        <p:grpSpPr>
          <a:xfrm>
            <a:off x="755640" y="1515960"/>
            <a:ext cx="4462560" cy="4505400"/>
            <a:chOff x="755640" y="1515960"/>
            <a:chExt cx="4462560" cy="4505400"/>
          </a:xfrm>
        </p:grpSpPr>
        <p:pic>
          <p:nvPicPr>
            <p:cNvPr id="457" name="Picture 6" descr="title"/>
            <p:cNvPicPr/>
            <p:nvPr/>
          </p:nvPicPr>
          <p:blipFill>
            <a:blip r:embed="rId1"/>
            <a:stretch/>
          </p:blipFill>
          <p:spPr>
            <a:xfrm>
              <a:off x="755640" y="1515960"/>
              <a:ext cx="4462560" cy="4505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8" name="Oval 7"/>
            <p:cNvSpPr/>
            <p:nvPr/>
          </p:nvSpPr>
          <p:spPr>
            <a:xfrm>
              <a:off x="3882600" y="5208120"/>
              <a:ext cx="775080" cy="312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0"/>
            <p:cNvSpPr/>
            <p:nvPr/>
          </p:nvSpPr>
          <p:spPr>
            <a:xfrm>
              <a:off x="4076280" y="4081680"/>
              <a:ext cx="281520" cy="1063800"/>
            </a:xfrm>
            <a:prstGeom prst="downArrow">
              <a:avLst>
                <a:gd name="adj1" fmla="val 50000"/>
                <a:gd name="adj2" fmla="val 9446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D154-2E30-48CF-9547-DC4ED335275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2360" y="189000"/>
            <a:ext cx="83520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Select Ariel Fo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3708360" y="1582560"/>
            <a:ext cx="4137120" cy="4510440"/>
            <a:chOff x="3708360" y="1582560"/>
            <a:chExt cx="4137120" cy="4510440"/>
          </a:xfrm>
        </p:grpSpPr>
        <p:pic>
          <p:nvPicPr>
            <p:cNvPr id="463" name="Picture 5" descr="titlefont"/>
            <p:cNvPicPr/>
            <p:nvPr/>
          </p:nvPicPr>
          <p:blipFill>
            <a:blip r:embed="rId1"/>
            <a:stretch/>
          </p:blipFill>
          <p:spPr>
            <a:xfrm>
              <a:off x="3711240" y="1582560"/>
              <a:ext cx="4134240" cy="451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64" name="Oval 6"/>
            <p:cNvSpPr/>
            <p:nvPr/>
          </p:nvSpPr>
          <p:spPr>
            <a:xfrm>
              <a:off x="3708360" y="5166360"/>
              <a:ext cx="3017520" cy="308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7"/>
          <p:cNvSpPr/>
          <p:nvPr/>
        </p:nvSpPr>
        <p:spPr>
          <a:xfrm>
            <a:off x="250920" y="2421000"/>
            <a:ext cx="2971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 Pop-up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2056-BE0B-4C51-A984-3B49487E74F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&amp; Select the Title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ormat Si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24000" y="1484280"/>
            <a:ext cx="25905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-up Format for Title Heading Size: 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8"/>
          <p:cNvGrpSpPr/>
          <p:nvPr/>
        </p:nvGrpSpPr>
        <p:grpSpPr>
          <a:xfrm>
            <a:off x="3305160" y="1341360"/>
            <a:ext cx="4579920" cy="4792680"/>
            <a:chOff x="3305160" y="1341360"/>
            <a:chExt cx="4579920" cy="4792680"/>
          </a:xfrm>
        </p:grpSpPr>
        <p:pic>
          <p:nvPicPr>
            <p:cNvPr id="470" name="Picture 5" descr="titlesize"/>
            <p:cNvPicPr/>
            <p:nvPr/>
          </p:nvPicPr>
          <p:blipFill>
            <a:blip r:embed="rId1"/>
            <a:stretch/>
          </p:blipFill>
          <p:spPr>
            <a:xfrm>
              <a:off x="3305160" y="1341360"/>
              <a:ext cx="4579920" cy="4792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1" name="Oval 7"/>
            <p:cNvSpPr/>
            <p:nvPr/>
          </p:nvSpPr>
          <p:spPr>
            <a:xfrm>
              <a:off x="3612240" y="5268960"/>
              <a:ext cx="1157040" cy="3326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E1B5-724A-4ECD-A890-FF566120135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360" y="75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to Create a Title With a Graphic: Insert&gt;Table or Select Table Ic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74" name="Group 10"/>
          <p:cNvGrpSpPr/>
          <p:nvPr/>
        </p:nvGrpSpPr>
        <p:grpSpPr>
          <a:xfrm>
            <a:off x="900000" y="1515960"/>
            <a:ext cx="7718400" cy="4649760"/>
            <a:chOff x="900000" y="1515960"/>
            <a:chExt cx="7718400" cy="4649760"/>
          </a:xfrm>
        </p:grpSpPr>
        <p:pic>
          <p:nvPicPr>
            <p:cNvPr id="475" name="Picture 5" descr="dream9"/>
            <p:cNvPicPr/>
            <p:nvPr/>
          </p:nvPicPr>
          <p:blipFill>
            <a:blip r:embed="rId1"/>
            <a:stretch/>
          </p:blipFill>
          <p:spPr>
            <a:xfrm>
              <a:off x="900000" y="1584360"/>
              <a:ext cx="7425000" cy="458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6" name="Oval 6"/>
            <p:cNvSpPr/>
            <p:nvPr/>
          </p:nvSpPr>
          <p:spPr>
            <a:xfrm>
              <a:off x="3597480" y="1515960"/>
              <a:ext cx="824040" cy="410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"/>
            <p:cNvSpPr/>
            <p:nvPr/>
          </p:nvSpPr>
          <p:spPr>
            <a:xfrm>
              <a:off x="3597480" y="2473920"/>
              <a:ext cx="217296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"/>
            <p:cNvSpPr/>
            <p:nvPr/>
          </p:nvSpPr>
          <p:spPr>
            <a:xfrm>
              <a:off x="3147840" y="1721160"/>
              <a:ext cx="37440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9"/>
            <p:cNvSpPr/>
            <p:nvPr/>
          </p:nvSpPr>
          <p:spPr>
            <a:xfrm>
              <a:off x="5695920" y="3569040"/>
              <a:ext cx="292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ables control object pla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F48F-0E76-4FE5-B62A-11B05FC09BC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titletable"/>
          <p:cNvPicPr/>
          <p:nvPr/>
        </p:nvPicPr>
        <p:blipFill>
          <a:blip r:embed="rId1"/>
          <a:stretch/>
        </p:blipFill>
        <p:spPr>
          <a:xfrm>
            <a:off x="762120" y="1523880"/>
            <a:ext cx="5102280" cy="471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236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Row, Column, Table Width,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order, 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6172200" y="2057400"/>
            <a:ext cx="2590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tle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2514600" y="2286000"/>
            <a:ext cx="29718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1C6E-DFBC-472B-8B58-2C26AE3302C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djust Column Width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5791320" y="16765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g Table Column Line Left or Right to Adjust the 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7"/>
          <p:cNvGrpSpPr/>
          <p:nvPr/>
        </p:nvGrpSpPr>
        <p:grpSpPr>
          <a:xfrm>
            <a:off x="684360" y="1295280"/>
            <a:ext cx="4694040" cy="4870440"/>
            <a:chOff x="684360" y="1295280"/>
            <a:chExt cx="4694040" cy="4870440"/>
          </a:xfrm>
        </p:grpSpPr>
        <p:pic>
          <p:nvPicPr>
            <p:cNvPr id="489" name="Picture 6" descr="titletableadjust"/>
            <p:cNvPicPr/>
            <p:nvPr/>
          </p:nvPicPr>
          <p:blipFill>
            <a:blip r:embed="rId1"/>
            <a:stretch/>
          </p:blipFill>
          <p:spPr>
            <a:xfrm>
              <a:off x="684360" y="1295280"/>
              <a:ext cx="4694040" cy="487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0" name="AutoShape 8"/>
            <p:cNvSpPr/>
            <p:nvPr/>
          </p:nvSpPr>
          <p:spPr>
            <a:xfrm>
              <a:off x="1827720" y="2756520"/>
              <a:ext cx="533520" cy="1669680"/>
            </a:xfrm>
            <a:prstGeom prst="upArrow">
              <a:avLst>
                <a:gd name="adj1" fmla="val 50000"/>
                <a:gd name="adj2" fmla="val 7823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0"/>
            <p:cNvSpPr/>
            <p:nvPr/>
          </p:nvSpPr>
          <p:spPr>
            <a:xfrm>
              <a:off x="1827720" y="2269440"/>
              <a:ext cx="609480" cy="417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8582-3BDD-4B95-AAB4-2D6D9BD9440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18"/>
          <p:cNvGrpSpPr/>
          <p:nvPr/>
        </p:nvGrpSpPr>
        <p:grpSpPr>
          <a:xfrm>
            <a:off x="76320" y="1959120"/>
            <a:ext cx="5943600" cy="4060800"/>
            <a:chOff x="76320" y="1959120"/>
            <a:chExt cx="5943600" cy="4060800"/>
          </a:xfrm>
        </p:grpSpPr>
        <p:grpSp>
          <p:nvGrpSpPr>
            <p:cNvPr id="494" name="Group 16"/>
            <p:cNvGrpSpPr/>
            <p:nvPr/>
          </p:nvGrpSpPr>
          <p:grpSpPr>
            <a:xfrm>
              <a:off x="76320" y="1959120"/>
              <a:ext cx="5943600" cy="4060800"/>
              <a:chOff x="76320" y="1959120"/>
              <a:chExt cx="5943600" cy="4060800"/>
            </a:xfrm>
          </p:grpSpPr>
          <p:grpSp>
            <p:nvGrpSpPr>
              <p:cNvPr id="495" name="Group 10"/>
              <p:cNvGrpSpPr/>
              <p:nvPr/>
            </p:nvGrpSpPr>
            <p:grpSpPr>
              <a:xfrm>
                <a:off x="76320" y="1959120"/>
                <a:ext cx="5943600" cy="4060800"/>
                <a:chOff x="76320" y="1959120"/>
                <a:chExt cx="5943600" cy="4060800"/>
              </a:xfrm>
            </p:grpSpPr>
            <p:pic>
              <p:nvPicPr>
                <p:cNvPr id="496" name="Picture 5" descr="savea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320" y="1959120"/>
                  <a:ext cx="5943600" cy="40608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497" name="Rectangle 8"/>
                <p:cNvSpPr/>
                <p:nvPr/>
              </p:nvSpPr>
              <p:spPr>
                <a:xfrm>
                  <a:off x="228600" y="3886200"/>
                  <a:ext cx="121932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9"/>
                <p:cNvSpPr/>
                <p:nvPr/>
              </p:nvSpPr>
              <p:spPr>
                <a:xfrm>
                  <a:off x="3352680" y="3886200"/>
                  <a:ext cx="266724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Rectangle 13"/>
              <p:cNvSpPr/>
              <p:nvPr/>
            </p:nvSpPr>
            <p:spPr>
              <a:xfrm>
                <a:off x="76320" y="3048120"/>
                <a:ext cx="1371600" cy="289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4"/>
              <p:cNvSpPr/>
              <p:nvPr/>
            </p:nvSpPr>
            <p:spPr>
              <a:xfrm>
                <a:off x="3276720" y="3124080"/>
                <a:ext cx="2743200" cy="28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Line 17"/>
            <p:cNvSpPr/>
            <p:nvPr/>
          </p:nvSpPr>
          <p:spPr>
            <a:xfrm>
              <a:off x="6019920" y="19810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fore Adding Graphic Images go to  File&gt;Save As&gt;name your file(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index.html</a:t>
            </a: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6300720" y="1268280"/>
            <a:ext cx="2571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to use all lowercase letters, no spaces or special characters in you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"/>
          <p:cNvSpPr/>
          <p:nvPr/>
        </p:nvSpPr>
        <p:spPr>
          <a:xfrm>
            <a:off x="1371600" y="182880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"/>
          <p:cNvSpPr/>
          <p:nvPr/>
        </p:nvSpPr>
        <p:spPr>
          <a:xfrm>
            <a:off x="1447920" y="3276720"/>
            <a:ext cx="18288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4752-372B-4FD7-862E-A18164AF6EA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Left Cell, Insert&gt;Image, or use the Image Icon, Locate.gif or .jpg F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890640" y="1581120"/>
            <a:ext cx="6705720" cy="4368960"/>
            <a:chOff x="890640" y="1581120"/>
            <a:chExt cx="6705720" cy="4368960"/>
          </a:xfrm>
        </p:grpSpPr>
        <p:pic>
          <p:nvPicPr>
            <p:cNvPr id="509" name="Picture 5" descr="titlelogo"/>
            <p:cNvPicPr/>
            <p:nvPr/>
          </p:nvPicPr>
          <p:blipFill>
            <a:blip r:embed="rId1"/>
            <a:stretch/>
          </p:blipFill>
          <p:spPr>
            <a:xfrm>
              <a:off x="890640" y="1581120"/>
              <a:ext cx="6705720" cy="4368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0" name="Oval 8"/>
            <p:cNvSpPr/>
            <p:nvPr/>
          </p:nvSpPr>
          <p:spPr>
            <a:xfrm>
              <a:off x="3862440" y="1834920"/>
              <a:ext cx="53316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5435-8AF4-4106-9744-01E5C23C006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Right Cell &amp; Type to Add the Tit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3" name="Picture 5" descr="titleintable"/>
          <p:cNvPicPr/>
          <p:nvPr/>
        </p:nvPicPr>
        <p:blipFill>
          <a:blip r:embed="rId1"/>
          <a:stretch/>
        </p:blipFill>
        <p:spPr>
          <a:xfrm>
            <a:off x="380880" y="1901880"/>
            <a:ext cx="8382240" cy="381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C9B3-3219-40FD-BDC4-82E79BE05F7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Table, Select BG to Add a Background Cell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867280" y="262584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900000" y="1413000"/>
            <a:ext cx="4591080" cy="4752720"/>
            <a:chOff x="900000" y="1413000"/>
            <a:chExt cx="4591080" cy="4752720"/>
          </a:xfrm>
        </p:grpSpPr>
        <p:pic>
          <p:nvPicPr>
            <p:cNvPr id="518" name="Picture 5" descr="titletablecolor"/>
            <p:cNvPicPr/>
            <p:nvPr/>
          </p:nvPicPr>
          <p:blipFill>
            <a:blip r:embed="rId1"/>
            <a:stretch/>
          </p:blipFill>
          <p:spPr>
            <a:xfrm>
              <a:off x="900000" y="1413000"/>
              <a:ext cx="4591080" cy="475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9" name="Oval 6"/>
            <p:cNvSpPr/>
            <p:nvPr/>
          </p:nvSpPr>
          <p:spPr>
            <a:xfrm>
              <a:off x="3493440" y="5746680"/>
              <a:ext cx="1286280" cy="2793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05DB-0B00-4401-B646-DF5952AC50C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ite Content &amp; Information 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bably the most important aspect of website 'structural design' is how you breakdown the content into logical sections (Main Areas, Pages, Headers, Sub-Headers, Lists, etc). You need to create a strong hierarchy for the site and breakdown content into small uni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good idea to create a graphical schema/flowchart/sitemap for the site. This can help you visualise a logical hierarch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4008-CEDC-4D40-9633-720FA70E4D3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o Make Border Invisible, Select Table, Set Border to 0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2" name="Group 10"/>
          <p:cNvGrpSpPr/>
          <p:nvPr/>
        </p:nvGrpSpPr>
        <p:grpSpPr>
          <a:xfrm>
            <a:off x="611280" y="1362240"/>
            <a:ext cx="8304120" cy="4803480"/>
            <a:chOff x="611280" y="1362240"/>
            <a:chExt cx="8304120" cy="4803480"/>
          </a:xfrm>
        </p:grpSpPr>
        <p:pic>
          <p:nvPicPr>
            <p:cNvPr id="523" name="Picture 5" descr="titlenoborder"/>
            <p:cNvPicPr/>
            <p:nvPr/>
          </p:nvPicPr>
          <p:blipFill>
            <a:blip r:embed="rId1"/>
            <a:stretch/>
          </p:blipFill>
          <p:spPr>
            <a:xfrm>
              <a:off x="611280" y="1362240"/>
              <a:ext cx="5051520" cy="480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4" name="Oval 6"/>
            <p:cNvSpPr/>
            <p:nvPr/>
          </p:nvSpPr>
          <p:spPr>
            <a:xfrm>
              <a:off x="4277160" y="5462280"/>
              <a:ext cx="1122120" cy="347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8"/>
            <p:cNvSpPr/>
            <p:nvPr/>
          </p:nvSpPr>
          <p:spPr>
            <a:xfrm>
              <a:off x="5549040" y="2621520"/>
              <a:ext cx="2394000" cy="347400"/>
            </a:xfrm>
            <a:prstGeom prst="leftArrow">
              <a:avLst>
                <a:gd name="adj1" fmla="val 50000"/>
                <a:gd name="adj2" fmla="val 1722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5848200" y="2065680"/>
              <a:ext cx="30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 Edge of 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0C72-83E0-47DC-9B70-13D0337C653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o Add Navigation Table, Insert&gt;Table or Tabl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6248520" y="2057400"/>
            <a:ext cx="2514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 Columns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7"/>
          <p:cNvGrpSpPr/>
          <p:nvPr/>
        </p:nvGrpSpPr>
        <p:grpSpPr>
          <a:xfrm>
            <a:off x="684360" y="1650960"/>
            <a:ext cx="5114880" cy="4299120"/>
            <a:chOff x="684360" y="1650960"/>
            <a:chExt cx="5114880" cy="4299120"/>
          </a:xfrm>
        </p:grpSpPr>
        <p:pic>
          <p:nvPicPr>
            <p:cNvPr id="531" name="Picture 5" descr="navigtable"/>
            <p:cNvPicPr/>
            <p:nvPr/>
          </p:nvPicPr>
          <p:blipFill>
            <a:blip r:embed="rId1"/>
            <a:stretch/>
          </p:blipFill>
          <p:spPr>
            <a:xfrm>
              <a:off x="684360" y="1650960"/>
              <a:ext cx="5114880" cy="4299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2" name="Oval 7"/>
            <p:cNvSpPr/>
            <p:nvPr/>
          </p:nvSpPr>
          <p:spPr>
            <a:xfrm>
              <a:off x="2485440" y="1726200"/>
              <a:ext cx="432000" cy="36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2989800" y="2889360"/>
              <a:ext cx="2665440" cy="306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D07B-F481-4F99-964C-7A7BC961E3D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side of the First Cell to Add a Flash Navigation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36" name="Picture 6" descr="navtable2"/>
          <p:cNvPicPr/>
          <p:nvPr/>
        </p:nvPicPr>
        <p:blipFill>
          <a:blip r:embed="rId1"/>
          <a:stretch/>
        </p:blipFill>
        <p:spPr>
          <a:xfrm>
            <a:off x="380880" y="2367000"/>
            <a:ext cx="8458200" cy="31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7" name="AutoShape 7"/>
          <p:cNvSpPr/>
          <p:nvPr/>
        </p:nvSpPr>
        <p:spPr>
          <a:xfrm>
            <a:off x="1143000" y="4876920"/>
            <a:ext cx="380880" cy="1447560"/>
          </a:xfrm>
          <a:prstGeom prst="up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E6DB-53E6-4DCE-AC67-AEB4AE7861D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&gt;Media&gt;Flash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1332000" y="1295280"/>
            <a:ext cx="6440400" cy="4942080"/>
            <a:chOff x="1332000" y="1295280"/>
            <a:chExt cx="6440400" cy="4942080"/>
          </a:xfrm>
        </p:grpSpPr>
        <p:pic>
          <p:nvPicPr>
            <p:cNvPr id="541" name="Picture 5" descr="navbutton1"/>
            <p:cNvPicPr/>
            <p:nvPr/>
          </p:nvPicPr>
          <p:blipFill>
            <a:blip r:embed="rId1"/>
            <a:stretch/>
          </p:blipFill>
          <p:spPr>
            <a:xfrm>
              <a:off x="1332000" y="1368000"/>
              <a:ext cx="6289200" cy="4869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2" name="Oval 6"/>
            <p:cNvSpPr/>
            <p:nvPr/>
          </p:nvSpPr>
          <p:spPr>
            <a:xfrm>
              <a:off x="3983760" y="2022480"/>
              <a:ext cx="227304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7"/>
            <p:cNvSpPr/>
            <p:nvPr/>
          </p:nvSpPr>
          <p:spPr>
            <a:xfrm>
              <a:off x="5878080" y="2604600"/>
              <a:ext cx="189432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8"/>
            <p:cNvSpPr/>
            <p:nvPr/>
          </p:nvSpPr>
          <p:spPr>
            <a:xfrm>
              <a:off x="3908160" y="1295280"/>
              <a:ext cx="90900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B031-46CF-41B0-A08C-16BA24B1686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2000" y="43920"/>
            <a:ext cx="878364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Button Settings: Style, Text, Font, Link,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ize, Apply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7" name="Picture 5" descr="navbutton2"/>
          <p:cNvPicPr/>
          <p:nvPr/>
        </p:nvPicPr>
        <p:blipFill>
          <a:blip r:embed="rId1"/>
          <a:stretch/>
        </p:blipFill>
        <p:spPr>
          <a:xfrm>
            <a:off x="755640" y="1577880"/>
            <a:ext cx="4903920" cy="444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8" name="Text Box 6"/>
          <p:cNvSpPr/>
          <p:nvPr/>
        </p:nvSpPr>
        <p:spPr>
          <a:xfrm>
            <a:off x="6012000" y="1484280"/>
            <a:ext cx="275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when uploading your website to the server to add your .swf Flash buttons you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1973-4C46-4746-97AD-3AABEF59E36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Repeat to Add All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1" name="Picture 5" descr="navbutton3"/>
          <p:cNvPicPr/>
          <p:nvPr/>
        </p:nvPicPr>
        <p:blipFill>
          <a:blip r:embed="rId1"/>
          <a:stretch/>
        </p:blipFill>
        <p:spPr>
          <a:xfrm>
            <a:off x="380880" y="1228680"/>
            <a:ext cx="845820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2" name="Oval 6"/>
          <p:cNvSpPr/>
          <p:nvPr/>
        </p:nvSpPr>
        <p:spPr>
          <a:xfrm>
            <a:off x="533520" y="3438360"/>
            <a:ext cx="19047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609480" y="494172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If you need to edit the button after has been created or to check the links just double click on the button again, change the features, Apply, O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7A92-3A7E-4B0C-8DCA-FAB2BEC23D8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ample of Completed Title &amp;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avigation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6" name="Picture 5" descr="navcomplete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7" name="Text Box 6"/>
          <p:cNvSpPr/>
          <p:nvPr/>
        </p:nvSpPr>
        <p:spPr>
          <a:xfrm>
            <a:off x="395280" y="538488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You May Have Different Titles For Your Navigation Butt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C318-601F-4716-9559-6A3DC6649F8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0" name="Group 7"/>
          <p:cNvGrpSpPr/>
          <p:nvPr/>
        </p:nvGrpSpPr>
        <p:grpSpPr>
          <a:xfrm>
            <a:off x="1295280" y="1469880"/>
            <a:ext cx="6019920" cy="4838760"/>
            <a:chOff x="1295280" y="1469880"/>
            <a:chExt cx="6019920" cy="4838760"/>
          </a:xfrm>
        </p:grpSpPr>
        <p:pic>
          <p:nvPicPr>
            <p:cNvPr id="561" name="Picture 5" descr="externallink"/>
            <p:cNvPicPr/>
            <p:nvPr/>
          </p:nvPicPr>
          <p:blipFill>
            <a:blip r:embed="rId1"/>
            <a:stretch/>
          </p:blipFill>
          <p:spPr>
            <a:xfrm>
              <a:off x="1447560" y="1469880"/>
              <a:ext cx="5867640" cy="4838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2" name="Oval 6"/>
            <p:cNvSpPr/>
            <p:nvPr/>
          </p:nvSpPr>
          <p:spPr>
            <a:xfrm>
              <a:off x="5105520" y="5432400"/>
              <a:ext cx="20574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7"/>
            <p:cNvSpPr/>
            <p:nvPr/>
          </p:nvSpPr>
          <p:spPr>
            <a:xfrm>
              <a:off x="1295280" y="3298680"/>
              <a:ext cx="266688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8"/>
            <p:cNvSpPr/>
            <p:nvPr/>
          </p:nvSpPr>
          <p:spPr>
            <a:xfrm>
              <a:off x="2590560" y="4776840"/>
              <a:ext cx="46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ttp://www.google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4FD3-4306-4711-BF7D-38141A02615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920" y="-270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7" name="Group 7"/>
          <p:cNvGrpSpPr/>
          <p:nvPr/>
        </p:nvGrpSpPr>
        <p:grpSpPr>
          <a:xfrm>
            <a:off x="1378080" y="1557360"/>
            <a:ext cx="5715000" cy="4611600"/>
            <a:chOff x="1378080" y="1557360"/>
            <a:chExt cx="5715000" cy="4611600"/>
          </a:xfrm>
        </p:grpSpPr>
        <p:pic>
          <p:nvPicPr>
            <p:cNvPr id="568" name="Picture 5" descr="internallink"/>
            <p:cNvPicPr/>
            <p:nvPr/>
          </p:nvPicPr>
          <p:blipFill>
            <a:blip r:embed="rId1"/>
            <a:stretch/>
          </p:blipFill>
          <p:spPr>
            <a:xfrm>
              <a:off x="1530360" y="1557360"/>
              <a:ext cx="5562720" cy="461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9" name="Oval 6"/>
            <p:cNvSpPr/>
            <p:nvPr/>
          </p:nvSpPr>
          <p:spPr>
            <a:xfrm>
              <a:off x="4883400" y="5294520"/>
              <a:ext cx="190476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>
              <a:off x="1378080" y="3693960"/>
              <a:ext cx="15238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"/>
            <p:cNvSpPr/>
            <p:nvPr/>
          </p:nvSpPr>
          <p:spPr>
            <a:xfrm>
              <a:off x="4730760" y="47610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dex.htm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0A9D-B8AC-4E80-8EB0-D2620DA1088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-Mai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1676520" y="1427040"/>
            <a:ext cx="6019560" cy="4665600"/>
            <a:chOff x="1676520" y="1427040"/>
            <a:chExt cx="6019560" cy="4665600"/>
          </a:xfrm>
        </p:grpSpPr>
        <p:grpSp>
          <p:nvGrpSpPr>
            <p:cNvPr id="575" name="Group 10"/>
            <p:cNvGrpSpPr/>
            <p:nvPr/>
          </p:nvGrpSpPr>
          <p:grpSpPr>
            <a:xfrm>
              <a:off x="1752480" y="1427040"/>
              <a:ext cx="5640480" cy="4665600"/>
              <a:chOff x="1752480" y="1427040"/>
              <a:chExt cx="5640480" cy="4665600"/>
            </a:xfrm>
          </p:grpSpPr>
          <p:pic>
            <p:nvPicPr>
              <p:cNvPr id="576" name="Picture 5" descr="emaillink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1427040"/>
                <a:ext cx="5640480" cy="4665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77" name="Rectangle 9"/>
              <p:cNvSpPr/>
              <p:nvPr/>
            </p:nvSpPr>
            <p:spPr>
              <a:xfrm>
                <a:off x="5638680" y="5406840"/>
                <a:ext cx="10670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Oval 7"/>
            <p:cNvSpPr/>
            <p:nvPr/>
          </p:nvSpPr>
          <p:spPr>
            <a:xfrm>
              <a:off x="5181480" y="5178600"/>
              <a:ext cx="24382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8"/>
            <p:cNvSpPr/>
            <p:nvPr/>
          </p:nvSpPr>
          <p:spPr>
            <a:xfrm>
              <a:off x="1676520" y="3578400"/>
              <a:ext cx="28954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1905120" y="4569120"/>
              <a:ext cx="57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ailto:hollandj@emporia.ed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12"/>
          <p:cNvSpPr/>
          <p:nvPr/>
        </p:nvSpPr>
        <p:spPr>
          <a:xfrm>
            <a:off x="5562720" y="53452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to:hollandj@emporia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1150-D014-4B25-A775-85D23188303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عنصر نائب للمحتوى 3" descr="schema.gif"/>
          <p:cNvPicPr/>
          <p:nvPr/>
        </p:nvPicPr>
        <p:blipFill>
          <a:blip r:embed="rId1"/>
          <a:stretch/>
        </p:blipFill>
        <p:spPr>
          <a:xfrm>
            <a:off x="1332000" y="1303200"/>
            <a:ext cx="6821280" cy="493416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0228-BAF7-49A4-8A7A-7FF35FBB5E2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ing Graphics and Text in Tab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مربع نص 7"/>
          <p:cNvSpPr/>
          <p:nvPr/>
        </p:nvSpPr>
        <p:spPr>
          <a:xfrm>
            <a:off x="611280" y="1700280"/>
            <a:ext cx="7705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ontrol placement of elements in relation 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pecify amount of space between each page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Always plan how your table will look with all the text and graphics in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Even a rough sketch will save you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CE68-B5DF-43D1-BAEA-B3EBBAA3384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31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Left Cell, Select Insert&gt;Image or Imag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7" name="Picture 5" descr="graphicselect"/>
          <p:cNvPicPr/>
          <p:nvPr/>
        </p:nvPicPr>
        <p:blipFill>
          <a:blip r:embed="rId1"/>
          <a:stretch/>
        </p:blipFill>
        <p:spPr>
          <a:xfrm>
            <a:off x="482760" y="1341360"/>
            <a:ext cx="5384520" cy="475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8" name="Oval 6"/>
          <p:cNvSpPr/>
          <p:nvPr/>
        </p:nvSpPr>
        <p:spPr>
          <a:xfrm>
            <a:off x="2252520" y="160020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6516720" y="1628640"/>
            <a:ext cx="2057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 Graphic Im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g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jp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EFC9-7676-421A-9675-9D0F992F2F8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Right Cell &amp; Add Your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2" name="Picture 5" descr="graphicwithtext"/>
          <p:cNvPicPr/>
          <p:nvPr/>
        </p:nvPicPr>
        <p:blipFill>
          <a:blip r:embed="rId1"/>
          <a:stretch/>
        </p:blipFill>
        <p:spPr>
          <a:xfrm>
            <a:off x="684360" y="1600200"/>
            <a:ext cx="5932440" cy="46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Text Box 6"/>
          <p:cNvSpPr/>
          <p:nvPr/>
        </p:nvSpPr>
        <p:spPr>
          <a:xfrm>
            <a:off x="7010280" y="1601640"/>
            <a:ext cx="17528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just Column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Font to A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6E2E-1C31-41DA-8228-14C688AAEC8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Anchors Are Used to Jump Down on a Long Page of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6" name="Picture 5" descr="anchors"/>
          <p:cNvPicPr/>
          <p:nvPr/>
        </p:nvPicPr>
        <p:blipFill>
          <a:blip r:embed="rId1"/>
          <a:stretch/>
        </p:blipFill>
        <p:spPr>
          <a:xfrm>
            <a:off x="1692360" y="1447920"/>
            <a:ext cx="5775120" cy="47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7" name="Oval 7"/>
          <p:cNvSpPr/>
          <p:nvPr/>
        </p:nvSpPr>
        <p:spPr>
          <a:xfrm>
            <a:off x="1295280" y="3429000"/>
            <a:ext cx="62485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D31A-9ABE-4FA5-9CA1-30EE790569A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Word, In the Link Box Type in #nam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0" name="Group 9"/>
          <p:cNvGrpSpPr/>
          <p:nvPr/>
        </p:nvGrpSpPr>
        <p:grpSpPr>
          <a:xfrm>
            <a:off x="1001880" y="1447920"/>
            <a:ext cx="5657760" cy="4684680"/>
            <a:chOff x="1001880" y="1447920"/>
            <a:chExt cx="5657760" cy="4684680"/>
          </a:xfrm>
        </p:grpSpPr>
        <p:pic>
          <p:nvPicPr>
            <p:cNvPr id="601" name="Picture 5" descr="anchors"/>
            <p:cNvPicPr/>
            <p:nvPr/>
          </p:nvPicPr>
          <p:blipFill>
            <a:blip r:embed="rId1"/>
            <a:stretch/>
          </p:blipFill>
          <p:spPr>
            <a:xfrm>
              <a:off x="1001880" y="1447920"/>
              <a:ext cx="5657760" cy="4684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2" name="Oval 6"/>
            <p:cNvSpPr/>
            <p:nvPr/>
          </p:nvSpPr>
          <p:spPr>
            <a:xfrm>
              <a:off x="1186920" y="3285000"/>
              <a:ext cx="9144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7"/>
            <p:cNvSpPr/>
            <p:nvPr/>
          </p:nvSpPr>
          <p:spPr>
            <a:xfrm>
              <a:off x="4411440" y="5267880"/>
              <a:ext cx="1600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8"/>
          <p:cNvSpPr/>
          <p:nvPr/>
        </p:nvSpPr>
        <p:spPr>
          <a:xfrm>
            <a:off x="685800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#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D2FD-CCA7-4560-AF3A-745F7053713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Text to Link To, Insert&gt;Named Ancho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7" name="Group 9"/>
          <p:cNvGrpSpPr/>
          <p:nvPr/>
        </p:nvGrpSpPr>
        <p:grpSpPr>
          <a:xfrm>
            <a:off x="1116000" y="1371600"/>
            <a:ext cx="6948360" cy="4721400"/>
            <a:chOff x="1116000" y="1371600"/>
            <a:chExt cx="6948360" cy="4721400"/>
          </a:xfrm>
        </p:grpSpPr>
        <p:pic>
          <p:nvPicPr>
            <p:cNvPr id="608" name="Picture 5" descr="anchorinsert"/>
            <p:cNvPicPr/>
            <p:nvPr/>
          </p:nvPicPr>
          <p:blipFill>
            <a:blip r:embed="rId1"/>
            <a:stretch/>
          </p:blipFill>
          <p:spPr>
            <a:xfrm>
              <a:off x="1116000" y="1513800"/>
              <a:ext cx="6948360" cy="457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9" name="Oval 6"/>
            <p:cNvSpPr/>
            <p:nvPr/>
          </p:nvSpPr>
          <p:spPr>
            <a:xfrm>
              <a:off x="1179000" y="4008600"/>
              <a:ext cx="909360" cy="569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7"/>
            <p:cNvSpPr/>
            <p:nvPr/>
          </p:nvSpPr>
          <p:spPr>
            <a:xfrm>
              <a:off x="3680640" y="1371600"/>
              <a:ext cx="757800" cy="427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8"/>
            <p:cNvSpPr/>
            <p:nvPr/>
          </p:nvSpPr>
          <p:spPr>
            <a:xfrm>
              <a:off x="3680640" y="3509640"/>
              <a:ext cx="1970640" cy="356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90A4-0682-42EB-B514-D06817FD2B4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ype in Exact Name Match, Example: august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14" name="Group 8"/>
          <p:cNvGrpSpPr/>
          <p:nvPr/>
        </p:nvGrpSpPr>
        <p:grpSpPr>
          <a:xfrm>
            <a:off x="903240" y="1523880"/>
            <a:ext cx="6908760" cy="4497480"/>
            <a:chOff x="903240" y="1523880"/>
            <a:chExt cx="6908760" cy="4497480"/>
          </a:xfrm>
        </p:grpSpPr>
        <p:pic>
          <p:nvPicPr>
            <p:cNvPr id="615" name="Picture 5" descr="anchorinsertname"/>
            <p:cNvPicPr/>
            <p:nvPr/>
          </p:nvPicPr>
          <p:blipFill>
            <a:blip r:embed="rId1"/>
            <a:stretch/>
          </p:blipFill>
          <p:spPr>
            <a:xfrm>
              <a:off x="903240" y="1523880"/>
              <a:ext cx="6908760" cy="449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16" name="Oval 6"/>
            <p:cNvSpPr/>
            <p:nvPr/>
          </p:nvSpPr>
          <p:spPr>
            <a:xfrm>
              <a:off x="3463200" y="4393800"/>
              <a:ext cx="2474280" cy="3499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مستطيل مستدير الزوايا 6"/>
          <p:cNvSpPr/>
          <p:nvPr/>
        </p:nvSpPr>
        <p:spPr>
          <a:xfrm>
            <a:off x="2195640" y="2924280"/>
            <a:ext cx="5400720" cy="50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55EF-61B4-4148-9C3E-24275C1954C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5640" y="4392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otice the Yellow Anchor,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his Will Not Show When Posted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0" name="Group 7"/>
          <p:cNvGrpSpPr/>
          <p:nvPr/>
        </p:nvGrpSpPr>
        <p:grpSpPr>
          <a:xfrm>
            <a:off x="1619280" y="1557360"/>
            <a:ext cx="6087960" cy="4140000"/>
            <a:chOff x="1619280" y="1557360"/>
            <a:chExt cx="6087960" cy="4140000"/>
          </a:xfrm>
        </p:grpSpPr>
        <p:pic>
          <p:nvPicPr>
            <p:cNvPr id="621" name="Picture 5" descr="anchorinsertname2"/>
            <p:cNvPicPr/>
            <p:nvPr/>
          </p:nvPicPr>
          <p:blipFill>
            <a:blip r:embed="rId1"/>
            <a:stretch/>
          </p:blipFill>
          <p:spPr>
            <a:xfrm>
              <a:off x="1693080" y="1557360"/>
              <a:ext cx="6014160" cy="41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22" name="Oval 6"/>
            <p:cNvSpPr/>
            <p:nvPr/>
          </p:nvSpPr>
          <p:spPr>
            <a:xfrm>
              <a:off x="1619280" y="3474360"/>
              <a:ext cx="1111680" cy="308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626-7AB3-446E-A662-65304E32537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an Duplicate Pag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the index.html page is set up as desired with the logo, header, and navigation buttons it can serve as a template for creating new pag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save the current page(index.html) as a new filename, then edit the new page to su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8A7D-C17A-4917-B82C-CB23B627CAB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99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File&gt;Preview in Browser&gt;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elect the desired browse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116000" y="1295280"/>
            <a:ext cx="7265880" cy="4726080"/>
            <a:chOff x="1116000" y="1295280"/>
            <a:chExt cx="7265880" cy="4726080"/>
          </a:xfrm>
        </p:grpSpPr>
        <p:pic>
          <p:nvPicPr>
            <p:cNvPr id="629" name="Picture 6" descr="previewinternetexp"/>
            <p:cNvPicPr/>
            <p:nvPr/>
          </p:nvPicPr>
          <p:blipFill>
            <a:blip r:embed="rId1"/>
            <a:stretch/>
          </p:blipFill>
          <p:spPr>
            <a:xfrm>
              <a:off x="1116000" y="1399680"/>
              <a:ext cx="7265880" cy="462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0" name="Oval 7"/>
            <p:cNvSpPr/>
            <p:nvPr/>
          </p:nvSpPr>
          <p:spPr>
            <a:xfrm>
              <a:off x="2483280" y="4663800"/>
              <a:ext cx="226872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8"/>
            <p:cNvSpPr/>
            <p:nvPr/>
          </p:nvSpPr>
          <p:spPr>
            <a:xfrm>
              <a:off x="2483280" y="1295280"/>
              <a:ext cx="756000" cy="412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9"/>
            <p:cNvSpPr/>
            <p:nvPr/>
          </p:nvSpPr>
          <p:spPr>
            <a:xfrm>
              <a:off x="4600800" y="4801320"/>
              <a:ext cx="196596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AF55-C02A-4F11-B0AB-6AECAAE79FD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1698120"/>
            <a:ext cx="800748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 folder on your computer called website1 to hold all web pages and graphics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onal: inside of the website1 folder create a folder called images to hold your graph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04920" y="4815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folders, webpages, and graphic names must be lowercase, no spaces, and no special characters for ease of linking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ربع نص 6"/>
          <p:cNvSpPr/>
          <p:nvPr/>
        </p:nvSpPr>
        <p:spPr>
          <a:xfrm>
            <a:off x="61128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  <a:ea typeface="Arial"/>
              </a:rPr>
              <a:t>Getting 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674A-3B70-4CC3-8BC5-4ACA5338134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Notice How the Browser Opens in Front To Preview What it Will Look Like When Uploaded to the Server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35" name="Group 8"/>
          <p:cNvGrpSpPr/>
          <p:nvPr/>
        </p:nvGrpSpPr>
        <p:grpSpPr>
          <a:xfrm>
            <a:off x="990720" y="1700280"/>
            <a:ext cx="7311960" cy="4470480"/>
            <a:chOff x="990720" y="1700280"/>
            <a:chExt cx="7311960" cy="4470480"/>
          </a:xfrm>
        </p:grpSpPr>
        <p:pic>
          <p:nvPicPr>
            <p:cNvPr id="636" name="Picture 5" descr="preview"/>
            <p:cNvPicPr/>
            <p:nvPr/>
          </p:nvPicPr>
          <p:blipFill>
            <a:blip r:embed="rId1"/>
            <a:stretch/>
          </p:blipFill>
          <p:spPr>
            <a:xfrm>
              <a:off x="990720" y="1700280"/>
              <a:ext cx="7311960" cy="4470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7" name="Oval 6"/>
            <p:cNvSpPr/>
            <p:nvPr/>
          </p:nvSpPr>
          <p:spPr>
            <a:xfrm>
              <a:off x="2057400" y="2665440"/>
              <a:ext cx="8380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7"/>
          <p:cNvSpPr/>
          <p:nvPr/>
        </p:nvSpPr>
        <p:spPr>
          <a:xfrm>
            <a:off x="2705040" y="572436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en Finished Viewing Browser Red Button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1A5D-44B8-4170-B8D0-F8BFB4D18F8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Optional: File&gt;Preview in Browser&gt;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Edit Browser List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41" name="Group 9"/>
          <p:cNvGrpSpPr/>
          <p:nvPr/>
        </p:nvGrpSpPr>
        <p:grpSpPr>
          <a:xfrm>
            <a:off x="1042920" y="1295280"/>
            <a:ext cx="7338960" cy="4942080"/>
            <a:chOff x="1042920" y="1295280"/>
            <a:chExt cx="7338960" cy="4942080"/>
          </a:xfrm>
        </p:grpSpPr>
        <p:pic>
          <p:nvPicPr>
            <p:cNvPr id="642" name="Picture 5" descr="previewinternetexp"/>
            <p:cNvPicPr/>
            <p:nvPr/>
          </p:nvPicPr>
          <p:blipFill>
            <a:blip r:embed="rId1"/>
            <a:stretch/>
          </p:blipFill>
          <p:spPr>
            <a:xfrm>
              <a:off x="1042920" y="1404360"/>
              <a:ext cx="7338960" cy="483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3" name="Oval 6"/>
            <p:cNvSpPr/>
            <p:nvPr/>
          </p:nvSpPr>
          <p:spPr>
            <a:xfrm>
              <a:off x="2347560" y="481788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8"/>
            <p:cNvSpPr/>
            <p:nvPr/>
          </p:nvSpPr>
          <p:spPr>
            <a:xfrm>
              <a:off x="4257360" y="524916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7"/>
            <p:cNvSpPr/>
            <p:nvPr/>
          </p:nvSpPr>
          <p:spPr>
            <a:xfrm>
              <a:off x="2423880" y="1295280"/>
              <a:ext cx="763560" cy="431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81A2-1FA0-495C-8D23-E470D4CD4BC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Selecting Primary &amp; Secondary Browser Choices</a:t>
            </a: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48" name="Picture 5" descr="selectbrowser"/>
          <p:cNvPicPr/>
          <p:nvPr/>
        </p:nvPicPr>
        <p:blipFill>
          <a:blip r:embed="rId1"/>
          <a:stretch/>
        </p:blipFill>
        <p:spPr>
          <a:xfrm>
            <a:off x="1258920" y="1341360"/>
            <a:ext cx="6840360" cy="49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AA13-B624-48F1-AFDE-E30A8611EB7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HTML Code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51" name="Picture 5" descr="code"/>
          <p:cNvPicPr/>
          <p:nvPr/>
        </p:nvPicPr>
        <p:blipFill>
          <a:blip r:embed="rId1"/>
          <a:stretch/>
        </p:blipFill>
        <p:spPr>
          <a:xfrm>
            <a:off x="2050920" y="1424160"/>
            <a:ext cx="5264280" cy="48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2" name="Oval 6"/>
          <p:cNvSpPr/>
          <p:nvPr/>
        </p:nvSpPr>
        <p:spPr>
          <a:xfrm>
            <a:off x="2050920" y="2060640"/>
            <a:ext cx="714600" cy="503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3AE3-E6E7-4F7D-8F56-3CF206664F7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532764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Split Code &amp; Design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5" name="Oval 7"/>
          <p:cNvSpPr/>
          <p:nvPr/>
        </p:nvSpPr>
        <p:spPr>
          <a:xfrm>
            <a:off x="762120" y="205740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8"/>
          <p:cNvSpPr/>
          <p:nvPr/>
        </p:nvSpPr>
        <p:spPr>
          <a:xfrm>
            <a:off x="0" y="4800600"/>
            <a:ext cx="31240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0"/>
          <p:cNvSpPr/>
          <p:nvPr/>
        </p:nvSpPr>
        <p:spPr>
          <a:xfrm>
            <a:off x="1371600" y="2743200"/>
            <a:ext cx="44956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6705720" y="2057400"/>
            <a:ext cx="2133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Highlight Areas in Design Mode &amp; See It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EA74-B231-4218-B45C-F42A14CE429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799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Design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Creating &amp; Editing Web Pages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61" name="Picture 6" descr="designmode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1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2" name="Oval 7"/>
          <p:cNvSpPr/>
          <p:nvPr/>
        </p:nvSpPr>
        <p:spPr>
          <a:xfrm>
            <a:off x="1523880" y="2590920"/>
            <a:ext cx="914400" cy="5331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7967-24A5-4A51-8244-9E37A0BBED4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aa2e"/>
                </a:solidFill>
                <a:latin typeface="Gill Sans MT"/>
              </a:rPr>
              <a:t>http://macromedia-dreamweaver.soft32.com</a:t>
            </a:r>
            <a:r>
              <a:rPr b="0" lang="en-US" sz="3200" spc="-1" strike="noStrike">
                <a:solidFill>
                  <a:srgbClr val="6eaa2e"/>
                </a:solidFill>
                <a:latin typeface="Gill Sans MT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3D98-C362-4940-A9DC-ECF98233E9E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8" descr="dream1"/>
          <p:cNvPicPr/>
          <p:nvPr/>
        </p:nvPicPr>
        <p:blipFill>
          <a:blip r:embed="rId1"/>
          <a:stretch/>
        </p:blipFill>
        <p:spPr>
          <a:xfrm>
            <a:off x="1979640" y="1300320"/>
            <a:ext cx="5564160" cy="48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aunch Dreamweaver Select HT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3639960" y="2565360"/>
            <a:ext cx="12193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6F79-B61B-4114-8BEB-52F64A4A8B8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New Page Appea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0" name="Picture 10" descr="dream2"/>
          <p:cNvPicPr/>
          <p:nvPr/>
        </p:nvPicPr>
        <p:blipFill>
          <a:blip r:embed="rId1"/>
          <a:stretch/>
        </p:blipFill>
        <p:spPr>
          <a:xfrm>
            <a:off x="1295280" y="1415880"/>
            <a:ext cx="655344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889E-64B8-4CCF-B50B-B0A53A4BAFF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Select File&gt;Ne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3" name="Picture 5" descr="dream3"/>
          <p:cNvPicPr/>
          <p:nvPr/>
        </p:nvPicPr>
        <p:blipFill>
          <a:blip r:embed="rId1"/>
          <a:stretch/>
        </p:blipFill>
        <p:spPr>
          <a:xfrm>
            <a:off x="1066680" y="1295280"/>
            <a:ext cx="7021800" cy="47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4" name="Oval 6"/>
          <p:cNvSpPr/>
          <p:nvPr/>
        </p:nvSpPr>
        <p:spPr>
          <a:xfrm>
            <a:off x="2286000" y="1143000"/>
            <a:ext cx="21337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1324-39CF-4E85-8EF8-08DD689A3DB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8" descr="dream3"/>
          <p:cNvPicPr/>
          <p:nvPr/>
        </p:nvPicPr>
        <p:blipFill>
          <a:blip r:embed="rId1"/>
          <a:stretch/>
        </p:blipFill>
        <p:spPr>
          <a:xfrm>
            <a:off x="1523880" y="1219320"/>
            <a:ext cx="6410520" cy="51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HTML, Crea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3362400" y="1901880"/>
            <a:ext cx="12189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6791400" y="6019920"/>
            <a:ext cx="121896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67E8-A880-43E3-BD6B-51CF83919FF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01:54:30Z</dcterms:created>
  <dc:creator>Janet Holland</dc:creator>
  <dc:description/>
  <dc:language>en-US</dc:language>
  <cp:lastModifiedBy>AN</cp:lastModifiedBy>
  <cp:lastPrinted>2005-06-09T14:21:05Z</cp:lastPrinted>
  <dcterms:modified xsi:type="dcterms:W3CDTF">2013-04-06T07:57:08Z</dcterms:modified>
  <cp:revision>182</cp:revision>
  <dc:subject/>
  <dc:title>Macromedia Dreamweaver MX2004</dc:title>
</cp:coreProperties>
</file>