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9.jpeg" ContentType="image/jpeg"/>
  <Override PartName="/ppt/media/image33.jpeg" ContentType="image/jpeg"/>
  <Override PartName="/ppt/media/image27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90B7-4CBD-4C43-9A16-BD76B26BE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852C-85FF-41A0-995E-053973310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BC9E-62CC-4045-B8B5-ECE546156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2CA9-24BA-4FDB-A6F9-5F807BE64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B729-3C47-4807-A01D-7B2906901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8520-4A73-40A6-B19D-9A45DBE80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355E-0680-4112-9B88-802C1A7BC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BBE8-CE6D-43A3-B389-2F8A80A51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5FB6-9B32-4AD4-969F-232E67ADF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6AD8-C9DB-470A-9A3A-DADBFA626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364E-A699-414E-BBD8-BA10DA522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8B8C-3010-4B67-B5D1-E5E92F7D7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8776-E326-4CE2-AAAA-B19CFA915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B3F6-7807-4BEE-8404-99A90DDF1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71D9-1039-4FFA-8D7D-546E174C1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1222-8C17-4987-91E0-9F42690F2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1726-6241-473D-9307-CA0632451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338D-C2BD-4E18-B5F1-9317A01A0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7722-FC6C-42B9-9F2C-BE88E0CCB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ED90-EE2E-40BA-A0F3-97A3235EF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BEDB-C335-420C-BCD2-2089050E6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57B6-7B21-4FF1-9EE9-6429BB3F0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EF02-AC08-4299-A9FE-65EAA6D6A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CDE2-520C-4015-9452-5F23EE1F1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CA41-708C-4CC3-B02E-43AC75AFA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1925-5D09-421C-9DCF-A055C2BD1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9DA0-EF11-4140-8756-E3DF4E5BA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9AAC-2258-447C-B6B2-00D3D7E0C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2C01-AC5D-42ED-882D-2449595EA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FC5F-54EE-4187-BC51-662E6B557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31CB-FC77-479F-AF93-9D943C24A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6796-3B3E-4349-BA92-830111DBB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869B-A833-4A27-A591-9A5A9410E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52C1-DE74-41A4-9E1A-99306D46E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CE55-1BC6-4F1C-91F0-289B4AC6F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E4DC-37B3-4E59-9C08-AF8608C74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F9A2-AB78-4368-962C-941064C40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EB61-CD31-4D0C-9DB3-56D262223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AC20-A117-413C-A364-6CA0CCB9C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B114-EFB9-4C80-B653-CDE43E53E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1CD9-0CFB-4E9C-A015-FC60E5BFE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7955-EFE7-4CCF-80A1-8A1A0B21A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54FE-3FEA-4041-82EF-A53AE635D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0993-8310-4CD2-9F7D-05FE57FD3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4971-BD6A-4CC2-98E6-6A07E5C7E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2E6F-9981-4438-9A74-0BCA7B250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99EB-5DB2-4322-A06E-347D6ACD8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C8BA-C6AC-4CEE-BF45-BAAE784FB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AE01-55F1-4A57-ABDA-A7B183B0B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5F7C-94D7-4588-987F-A8BA42622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69A7-C9E9-4F86-A484-CC83DE75D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60E5-8CD4-4A93-A1E7-66BCF141E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2C55-8C0B-4ABA-B7ED-63186C6BA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CB96-DB4A-4972-8124-B7072455E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59E5-E0EB-4C70-9F82-97302A513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4BAC-0FE7-4288-B14B-B37987F79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0E49-4784-4B20-B532-9B49B4963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28F-C944-44C7-A83B-B00D8484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8670-49BE-4FE4-90C5-A190DEF8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C029-5C85-49B1-9AC8-706CEFA2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E17-88E5-4760-8533-217838F5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8826-2802-4E2E-9093-FB18DB57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9C25-84D8-400E-89C0-448E22D1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4383-31A6-4EAF-AF2C-6E2F3516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2B75-908B-4FE1-B1BA-D42A425E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93A0-47CD-43B1-ADEE-5F7111B4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7E23-1FDF-436B-898A-55EBB2B7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257B-8004-4AE7-A23B-B2191F37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7A5E-8CD2-4FA0-A62B-B16D6B76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1529-8EA3-4500-BE86-8D5A988E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1CDF-522D-4BCF-9DD4-65AEC30E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A04E-E1DE-4AC7-951A-6E03FF18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234F-299F-452A-8C12-7EA2DD3B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ABA1-36B7-4AB2-A173-F5A0EA4F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CD6A4-7DC3-428B-9B54-323B3ED2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3FE74-BFDA-46D5-A65A-739CD9EB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B13DE-7EDC-4EE2-BED4-C2FAD39A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32670-4118-4A94-AE47-5DEB411F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5326B-A0B4-4DD9-8D43-26DA81F1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501-6A11-4396-99CB-4CD44DD1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BB438-40AA-45FC-BBA2-1DE3A7C3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5FFEF-25F1-4C4D-B930-2247B02E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C5963-6D02-480B-9C9B-172EA47F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DD41F-EB3F-4F72-B15A-ADE718DD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0E322-1406-4007-95F7-A02D0329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9A9BA-67DA-43AF-B61E-495EF227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1FE0B-9463-492B-99A8-A86822C4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11109-BF22-43CD-B8A5-87DADD0A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A3878-5BDD-448C-BAD8-36C321CC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2F1F0-A4E8-4114-81FE-ECEDCF28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73D9-B95D-4840-8315-AE2DEA18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14C68-6437-4E83-9F3C-EEE6D553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51551-4712-406A-B5DD-B4726967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F37A6-06A7-4A18-A8D8-6029DF5E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926E6-CB2B-4113-BF21-436EFC2D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B6FB7-272E-49A6-9777-E5F498A1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F560C-AE57-4048-9437-3DFA80E5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74F16-7810-445E-B8AF-7F9DBEF3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6D8D8-5DD9-4C75-8380-32F7494C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26BB3-D7E7-46BD-A67F-EC773551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B718F-8C39-4D07-B8A8-AE352216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053-0998-457A-87BD-8E87A2FB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02FBE-C973-4E6D-8752-E9241E2F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B8D77-B20C-4018-B907-C46CF1A1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AB46E-EF5D-4AA9-80CF-18344D19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7E942-D68B-4B7F-BF05-16316B7C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1FCD5-E1E4-4EFA-981D-64066150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7352A-AD52-4B11-9185-C5E88DB4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3359B-AB07-4E59-B59F-9AA9B284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239ED-8642-4E0C-ACC0-A54E697E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B6245-B4D0-44E2-8803-9D56B711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C27BB-2A46-44A1-B732-5F657BFC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9C46-684B-4958-901D-9AA912A2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53023-4975-4ACB-A1D4-2A264A5A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C6E3B-C4DF-4712-B9F2-3B82A25E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CB11F-15BF-40EC-B0EE-7D70E5F9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3C177-15D9-46A4-948A-C03F39B3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A2C70-39B4-49F5-9C07-B093166A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0C88B-23A8-4855-8C77-2AEC5C60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16E2A-618F-4AAA-9F85-A601A971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77325-653A-4655-AB82-E66ADDF6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5316D-46D1-4409-A185-948136EE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37466-87DE-4978-9F4F-2EF38C17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ED0-EDD0-4813-91C1-A3600117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674E6-0AC0-44E3-BDD3-4D46E0E0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3036F-73A6-4B38-AAFD-BB5283D2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96BF1-E79E-481B-AE87-E5672D9C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0B3B4-009C-4210-8C1F-738A6E90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F91E2-AA0E-43BA-8BE8-35FAF527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3CDF5-9D88-4C3F-B8D5-8DE7F0C2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246F8-C1A6-4BF4-8259-0B798B1C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9E54C-2C2A-46D5-8DD2-F69C86CA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813DF-F28C-4408-8CF9-DC84CC52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D1E99-753A-45E6-9AAB-1A3E504F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363-0053-40D9-9C3F-59DBC62E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CA515-A3CD-4D92-89E0-63815B14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C15F2-1847-4A9F-9B2C-F10CE92E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97A96-1C89-4E7B-B4D1-2FE52F7C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FF0FB-6412-45BD-A012-785E2D0E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9EEBB-13A3-4835-A5E1-4653FD8C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560CE-CD9E-4258-8909-38A01993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24E2B-D82C-4791-BD09-54A5168B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49CB0-2A88-4154-B9A1-2940F6D8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75781-89FA-4BD8-8219-F643BBB7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D67FE-A5F7-4002-A753-997F0478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C33B-13A4-4737-9E5E-26A049D7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1FFCC-E179-47BB-BC80-B7CD02BB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949DF-7A2C-4FEF-B5D6-058A1A1D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1F7A0-BBF7-4E73-899A-4A4014EE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55E9C-C372-4FC6-9B85-1ACB4299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3B0C9-2E15-408E-AAAD-AEBB0F80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0D94B-325B-45F0-A6C5-5766F59B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4248F-EF12-4060-9CFA-58FF7067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372A-719B-4FA6-8C23-C5788977EB5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023B-8B23-4FE6-9F62-E2152EF82EA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B7E5-A5FB-48EF-8DBB-B28B9FB8E4D4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7D19-DA95-4815-AACC-FCA830FBFFA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670A-1590-45B3-AD9D-919D21646B9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8784-C63E-476F-9288-79AF7FEB17A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B815-E558-4816-8051-10B18476F792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EC32-4A20-43EA-A2F6-FBEA66C5F3E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http://4.bp.blogspot.com/-qXRHCShuC9s/T2MWJLgCUmI/AAAAAAAAA30/fHyneuJDo_Q/s1600/macromedia%2Bdreamweaver.png"/>
          <p:cNvPicPr/>
          <p:nvPr/>
        </p:nvPicPr>
        <p:blipFill>
          <a:blip r:embed="rId1"/>
          <a:stretch/>
        </p:blipFill>
        <p:spPr>
          <a:xfrm>
            <a:off x="684360" y="700200"/>
            <a:ext cx="7848360" cy="5918040"/>
          </a:xfrm>
          <a:prstGeom prst="rect">
            <a:avLst/>
          </a:prstGeom>
          <a:ln w="0">
            <a:noFill/>
          </a:ln>
        </p:spPr>
      </p:pic>
      <p:sp>
        <p:nvSpPr>
          <p:cNvPr id="360" name="مربع نص 5"/>
          <p:cNvSpPr/>
          <p:nvPr/>
        </p:nvSpPr>
        <p:spPr>
          <a:xfrm>
            <a:off x="1908000" y="1700280"/>
            <a:ext cx="5112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 20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b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indow&gt;Insert, Properties, Files Have a Check Mark When Activ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AutoShape 3">
            <a:hlinkClick r:id="" action="ppaction://hlinkshowjump?jump=nextslide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4">
            <a:hlinkClick r:id="" action="ppaction://hlinkshowjump?jump=previousslide"/>
          </p:cNvPr>
          <p:cNvSpPr/>
          <p:nvPr/>
        </p:nvSpPr>
        <p:spPr>
          <a:xfrm>
            <a:off x="78487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5" descr="dream5"/>
          <p:cNvPicPr/>
          <p:nvPr/>
        </p:nvPicPr>
        <p:blipFill>
          <a:blip r:embed="rId1"/>
          <a:stretch/>
        </p:blipFill>
        <p:spPr>
          <a:xfrm>
            <a:off x="914400" y="1523880"/>
            <a:ext cx="7243920" cy="50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6" name="Rectangle 7"/>
          <p:cNvSpPr/>
          <p:nvPr/>
        </p:nvSpPr>
        <p:spPr>
          <a:xfrm>
            <a:off x="6095880" y="1447920"/>
            <a:ext cx="2057400" cy="27432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tting Up a New Websi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8" name="Picture 4" descr="dream4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64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9" name="Text Box 5"/>
          <p:cNvSpPr/>
          <p:nvPr/>
        </p:nvSpPr>
        <p:spPr>
          <a:xfrm>
            <a:off x="1905120" y="327672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&gt;Files Checked You Will See The Files Palette on the 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6781680" y="2286000"/>
            <a:ext cx="2057400" cy="4191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7"/>
          <p:cNvSpPr/>
          <p:nvPr/>
        </p:nvSpPr>
        <p:spPr>
          <a:xfrm>
            <a:off x="5562720" y="266688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8"/>
          <p:cNvSpPr/>
          <p:nvPr/>
        </p:nvSpPr>
        <p:spPr>
          <a:xfrm>
            <a:off x="5334120" y="1447920"/>
            <a:ext cx="76176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From the Pop Up Files Palette Window: Select Manage Sit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4" name="Picture 4" descr="dream5"/>
          <p:cNvPicPr/>
          <p:nvPr/>
        </p:nvPicPr>
        <p:blipFill>
          <a:blip r:embed="rId1"/>
          <a:stretch/>
        </p:blipFill>
        <p:spPr>
          <a:xfrm>
            <a:off x="325440" y="2011320"/>
            <a:ext cx="8742240" cy="400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5" name="Oval 5"/>
          <p:cNvSpPr/>
          <p:nvPr/>
        </p:nvSpPr>
        <p:spPr>
          <a:xfrm>
            <a:off x="6705720" y="3352680"/>
            <a:ext cx="205740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lect The New Button&gt;Si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7" name="Picture 4" descr="dream6"/>
          <p:cNvPicPr/>
          <p:nvPr/>
        </p:nvPicPr>
        <p:blipFill>
          <a:blip r:embed="rId1"/>
          <a:stretch/>
        </p:blipFill>
        <p:spPr>
          <a:xfrm>
            <a:off x="228600" y="1560600"/>
            <a:ext cx="8610480" cy="45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Oval 5"/>
          <p:cNvSpPr/>
          <p:nvPr/>
        </p:nvSpPr>
        <p:spPr>
          <a:xfrm>
            <a:off x="4800600" y="3809880"/>
            <a:ext cx="205740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t the New Site Defini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0" name="Picture 4" descr="dream7"/>
          <p:cNvPicPr/>
          <p:nvPr/>
        </p:nvPicPr>
        <p:blipFill>
          <a:blip r:embed="rId1"/>
          <a:stretch/>
        </p:blipFill>
        <p:spPr>
          <a:xfrm>
            <a:off x="0" y="1295280"/>
            <a:ext cx="5334120" cy="515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1" name="Rectangle 8"/>
          <p:cNvSpPr/>
          <p:nvPr/>
        </p:nvSpPr>
        <p:spPr>
          <a:xfrm>
            <a:off x="1905120" y="1981080"/>
            <a:ext cx="183816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1600200" y="2209680"/>
            <a:ext cx="294156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1447920" y="2522520"/>
            <a:ext cx="316224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1752480" y="3124080"/>
            <a:ext cx="279576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2"/>
          <p:cNvSpPr/>
          <p:nvPr/>
        </p:nvSpPr>
        <p:spPr>
          <a:xfrm>
            <a:off x="2535120" y="1371600"/>
            <a:ext cx="588960" cy="36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5410080" y="1066680"/>
            <a:ext cx="33530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ame Your Web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lick on the Folder Icon &amp; Locate the website1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lick on the Folder Icon &amp; Locate the images folder inside of the website1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3"/>
          <p:cNvSpPr/>
          <p:nvPr/>
        </p:nvSpPr>
        <p:spPr>
          <a:xfrm>
            <a:off x="4343400" y="6095880"/>
            <a:ext cx="7412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1602000" y="1905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1290960" y="214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11448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7"/>
          <p:cNvSpPr/>
          <p:nvPr/>
        </p:nvSpPr>
        <p:spPr>
          <a:xfrm>
            <a:off x="1443240" y="306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8"/>
          <p:cNvSpPr/>
          <p:nvPr/>
        </p:nvSpPr>
        <p:spPr>
          <a:xfrm>
            <a:off x="76320" y="1752480"/>
            <a:ext cx="91440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e File Structure You Create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14" name="Picture 4" descr="dream8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514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5" name="AutoShape 6"/>
          <p:cNvSpPr/>
          <p:nvPr/>
        </p:nvSpPr>
        <p:spPr>
          <a:xfrm>
            <a:off x="4419720" y="2971800"/>
            <a:ext cx="1828800" cy="228600"/>
          </a:xfrm>
          <a:prstGeom prst="rightArrow">
            <a:avLst>
              <a:gd name="adj1" fmla="val 50000"/>
              <a:gd name="adj2" fmla="val 20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7"/>
          <p:cNvSpPr/>
          <p:nvPr/>
        </p:nvSpPr>
        <p:spPr>
          <a:xfrm>
            <a:off x="4114800" y="2743200"/>
            <a:ext cx="1828800" cy="228600"/>
          </a:xfrm>
          <a:prstGeom prst="rightArrow">
            <a:avLst>
              <a:gd name="adj1" fmla="val 50000"/>
              <a:gd name="adj2" fmla="val 20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egin Creating the index.html main webpag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18" name="Picture 5" descr="dream3"/>
          <p:cNvPicPr/>
          <p:nvPr/>
        </p:nvPicPr>
        <p:blipFill>
          <a:blip r:embed="rId1"/>
          <a:stretch/>
        </p:blipFill>
        <p:spPr>
          <a:xfrm>
            <a:off x="1066680" y="1752480"/>
            <a:ext cx="7021800" cy="471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9" name="Oval 6"/>
          <p:cNvSpPr/>
          <p:nvPr/>
        </p:nvSpPr>
        <p:spPr>
          <a:xfrm>
            <a:off x="2286000" y="1600200"/>
            <a:ext cx="213372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dify&gt;Page Properti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AutoShape 3">
            <a:hlinkClick r:id="" action="ppaction://hlinkshowjump?jump=nextslide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4">
            <a:hlinkClick r:id="" action="ppaction://hlinkshowjump?jump=previousslide"/>
          </p:cNvPr>
          <p:cNvSpPr/>
          <p:nvPr/>
        </p:nvSpPr>
        <p:spPr>
          <a:xfrm>
            <a:off x="78487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5" descr="dream6"/>
          <p:cNvPicPr/>
          <p:nvPr/>
        </p:nvPicPr>
        <p:blipFill>
          <a:blip r:embed="rId1"/>
          <a:stretch/>
        </p:blipFill>
        <p:spPr>
          <a:xfrm>
            <a:off x="755640" y="1284120"/>
            <a:ext cx="7702560" cy="519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4" name="Oval 6"/>
          <p:cNvSpPr/>
          <p:nvPr/>
        </p:nvSpPr>
        <p:spPr>
          <a:xfrm>
            <a:off x="4114800" y="1143000"/>
            <a:ext cx="220968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Appearance, Set</a:t>
            </a:r>
            <a:br>
              <a:rPr sz="2900"/>
            </a:b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Font, Text, Background Color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AutoShape 3">
            <a:hlinkClick r:id="" action="ppaction://hlinkshowjump?jump=nextslide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4">
            <a:hlinkClick r:id="" action="ppaction://hlinkshowjump?jump=previousslide"/>
          </p:cNvPr>
          <p:cNvSpPr/>
          <p:nvPr/>
        </p:nvSpPr>
        <p:spPr>
          <a:xfrm>
            <a:off x="78487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5" descr="dream7"/>
          <p:cNvPicPr/>
          <p:nvPr/>
        </p:nvPicPr>
        <p:blipFill>
          <a:blip r:embed="rId1"/>
          <a:stretch/>
        </p:blipFill>
        <p:spPr>
          <a:xfrm>
            <a:off x="914400" y="1335240"/>
            <a:ext cx="7446960" cy="508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9" name="Oval 6"/>
          <p:cNvSpPr/>
          <p:nvPr/>
        </p:nvSpPr>
        <p:spPr>
          <a:xfrm>
            <a:off x="4343400" y="2438280"/>
            <a:ext cx="152388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7"/>
          <p:cNvSpPr/>
          <p:nvPr/>
        </p:nvSpPr>
        <p:spPr>
          <a:xfrm>
            <a:off x="2209680" y="2971800"/>
            <a:ext cx="129564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inks, Set Link, Visited Link Color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2" name="AutoShape 3">
            <a:hlinkClick r:id="" action="ppaction://hlinkshowjump?jump=nextslide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4">
            <a:hlinkClick r:id="" action="ppaction://hlinkshowjump?jump=previousslide"/>
          </p:cNvPr>
          <p:cNvSpPr/>
          <p:nvPr/>
        </p:nvSpPr>
        <p:spPr>
          <a:xfrm>
            <a:off x="78487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5" descr="dream8"/>
          <p:cNvPicPr/>
          <p:nvPr/>
        </p:nvPicPr>
        <p:blipFill>
          <a:blip r:embed="rId1"/>
          <a:stretch/>
        </p:blipFill>
        <p:spPr>
          <a:xfrm>
            <a:off x="914400" y="1371600"/>
            <a:ext cx="7459560" cy="503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Oval 6"/>
          <p:cNvSpPr/>
          <p:nvPr/>
        </p:nvSpPr>
        <p:spPr>
          <a:xfrm>
            <a:off x="4191120" y="2514600"/>
            <a:ext cx="152388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7"/>
          <p:cNvSpPr/>
          <p:nvPr/>
        </p:nvSpPr>
        <p:spPr>
          <a:xfrm>
            <a:off x="2209680" y="3048120"/>
            <a:ext cx="129564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Website Plann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fore even considering the practical aspects of creating a website, there are some important fundamental question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need to ask yourself fir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are we hoping to achiev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's our target audienc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catergory, if any, does our site fall into: ecommerce, informational, educational, social networking, etc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 visually exciting does it need to be to be effectiv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tone do we want our content to convey, could it be serious or witty, complex or simpl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he Curser on the Page, Select Alignment, Type in Tex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38" name="Picture 6" descr="title"/>
          <p:cNvPicPr/>
          <p:nvPr/>
        </p:nvPicPr>
        <p:blipFill>
          <a:blip r:embed="rId1"/>
          <a:stretch/>
        </p:blipFill>
        <p:spPr>
          <a:xfrm>
            <a:off x="752400" y="1371600"/>
            <a:ext cx="482616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9" name="Oval 7"/>
          <p:cNvSpPr/>
          <p:nvPr/>
        </p:nvSpPr>
        <p:spPr>
          <a:xfrm>
            <a:off x="4133880" y="5867280"/>
            <a:ext cx="83808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"/>
          <p:cNvSpPr/>
          <p:nvPr/>
        </p:nvSpPr>
        <p:spPr>
          <a:xfrm>
            <a:off x="5796000" y="2708280"/>
            <a:ext cx="29718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Alignment Bu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0"/>
          <p:cNvSpPr/>
          <p:nvPr/>
        </p:nvSpPr>
        <p:spPr>
          <a:xfrm>
            <a:off x="4343400" y="4495680"/>
            <a:ext cx="304920" cy="1295640"/>
          </a:xfrm>
          <a:prstGeom prst="downArrow">
            <a:avLst>
              <a:gd name="adj1" fmla="val 50000"/>
              <a:gd name="adj2" fmla="val 106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ghlight Text, Select Ariel Fo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5" descr="titlefont"/>
          <p:cNvPicPr/>
          <p:nvPr/>
        </p:nvPicPr>
        <p:blipFill>
          <a:blip r:embed="rId1"/>
          <a:stretch/>
        </p:blipFill>
        <p:spPr>
          <a:xfrm>
            <a:off x="3355920" y="1295280"/>
            <a:ext cx="448956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6" name="Oval 6"/>
          <p:cNvSpPr/>
          <p:nvPr/>
        </p:nvSpPr>
        <p:spPr>
          <a:xfrm>
            <a:off x="3352680" y="5715000"/>
            <a:ext cx="327672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304920" y="4038480"/>
            <a:ext cx="2971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nt Pop-up M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Highlight Text, &amp; Select the Title 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rmat Siz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5" descr="titlesize"/>
          <p:cNvPicPr/>
          <p:nvPr/>
        </p:nvPicPr>
        <p:blipFill>
          <a:blip r:embed="rId1"/>
          <a:stretch/>
        </p:blipFill>
        <p:spPr>
          <a:xfrm>
            <a:off x="3029040" y="1371600"/>
            <a:ext cx="482580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2" name="Text Box 6"/>
          <p:cNvSpPr/>
          <p:nvPr/>
        </p:nvSpPr>
        <p:spPr>
          <a:xfrm>
            <a:off x="324000" y="1700280"/>
            <a:ext cx="25905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-up Format for Title Heading Size: Exampl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3352680" y="5867280"/>
            <a:ext cx="121932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r to Create a Title With a Graphic: Insert&gt;Table or Select Table Ic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AutoShape 3">
            <a:hlinkClick r:id="" action="ppaction://hlinkshowjump?jump=nextslide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4">
            <a:hlinkClick r:id="" action="ppaction://hlinkshowjump?jump=previousslide"/>
          </p:cNvPr>
          <p:cNvSpPr/>
          <p:nvPr/>
        </p:nvSpPr>
        <p:spPr>
          <a:xfrm>
            <a:off x="78487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5" descr="dream9"/>
          <p:cNvPicPr/>
          <p:nvPr/>
        </p:nvPicPr>
        <p:blipFill>
          <a:blip r:embed="rId1"/>
          <a:stretch/>
        </p:blipFill>
        <p:spPr>
          <a:xfrm>
            <a:off x="914400" y="1447920"/>
            <a:ext cx="7550280" cy="51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8" name="Oval 6"/>
          <p:cNvSpPr/>
          <p:nvPr/>
        </p:nvSpPr>
        <p:spPr>
          <a:xfrm>
            <a:off x="3657600" y="1371600"/>
            <a:ext cx="8380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7"/>
          <p:cNvSpPr/>
          <p:nvPr/>
        </p:nvSpPr>
        <p:spPr>
          <a:xfrm>
            <a:off x="3657600" y="2438280"/>
            <a:ext cx="220968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8"/>
          <p:cNvSpPr/>
          <p:nvPr/>
        </p:nvSpPr>
        <p:spPr>
          <a:xfrm>
            <a:off x="3200400" y="1600200"/>
            <a:ext cx="38088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5791320" y="36576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ables control object 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8" descr="titletable"/>
          <p:cNvPicPr/>
          <p:nvPr/>
        </p:nvPicPr>
        <p:blipFill>
          <a:blip r:embed="rId1"/>
          <a:stretch/>
        </p:blipFill>
        <p:spPr>
          <a:xfrm>
            <a:off x="762120" y="1523880"/>
            <a:ext cx="5102280" cy="48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t Row, Column, Table Width, Border, OK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6172200" y="2057400"/>
            <a:ext cx="25909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tle Exampl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Colum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2514600" y="2286000"/>
            <a:ext cx="297180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djust Column Width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67" name="Picture 6" descr="titletableadjust"/>
          <p:cNvPicPr/>
          <p:nvPr/>
        </p:nvPicPr>
        <p:blipFill>
          <a:blip r:embed="rId1"/>
          <a:stretch/>
        </p:blipFill>
        <p:spPr>
          <a:xfrm>
            <a:off x="685800" y="1295280"/>
            <a:ext cx="469260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8" name="AutoShape 8"/>
          <p:cNvSpPr/>
          <p:nvPr/>
        </p:nvSpPr>
        <p:spPr>
          <a:xfrm>
            <a:off x="1828800" y="2895480"/>
            <a:ext cx="533520" cy="1828800"/>
          </a:xfrm>
          <a:prstGeom prst="upArrow">
            <a:avLst>
              <a:gd name="adj1" fmla="val 50000"/>
              <a:gd name="adj2" fmla="val 8569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5791320" y="167652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g Table Column Line Left or Right to Adjust the Wid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0"/>
          <p:cNvSpPr/>
          <p:nvPr/>
        </p:nvSpPr>
        <p:spPr>
          <a:xfrm>
            <a:off x="1828800" y="2362320"/>
            <a:ext cx="6094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18"/>
          <p:cNvGrpSpPr/>
          <p:nvPr/>
        </p:nvGrpSpPr>
        <p:grpSpPr>
          <a:xfrm>
            <a:off x="76320" y="1959120"/>
            <a:ext cx="5943600" cy="4060800"/>
            <a:chOff x="76320" y="1959120"/>
            <a:chExt cx="5943600" cy="4060800"/>
          </a:xfrm>
        </p:grpSpPr>
        <p:grpSp>
          <p:nvGrpSpPr>
            <p:cNvPr id="472" name="Group 16"/>
            <p:cNvGrpSpPr/>
            <p:nvPr/>
          </p:nvGrpSpPr>
          <p:grpSpPr>
            <a:xfrm>
              <a:off x="76320" y="1959120"/>
              <a:ext cx="5943600" cy="4060800"/>
              <a:chOff x="76320" y="1959120"/>
              <a:chExt cx="5943600" cy="4060800"/>
            </a:xfrm>
          </p:grpSpPr>
          <p:grpSp>
            <p:nvGrpSpPr>
              <p:cNvPr id="473" name="Group 10"/>
              <p:cNvGrpSpPr/>
              <p:nvPr/>
            </p:nvGrpSpPr>
            <p:grpSpPr>
              <a:xfrm>
                <a:off x="76320" y="1959120"/>
                <a:ext cx="5943600" cy="4060800"/>
                <a:chOff x="76320" y="1959120"/>
                <a:chExt cx="5943600" cy="4060800"/>
              </a:xfrm>
            </p:grpSpPr>
            <p:pic>
              <p:nvPicPr>
                <p:cNvPr id="474" name="Picture 5" descr="saveas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6320" y="1959120"/>
                  <a:ext cx="5943600" cy="406080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475" name="Rectangle 8"/>
                <p:cNvSpPr/>
                <p:nvPr/>
              </p:nvSpPr>
              <p:spPr>
                <a:xfrm>
                  <a:off x="228600" y="3886200"/>
                  <a:ext cx="1219320" cy="190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Rectangle 9"/>
                <p:cNvSpPr/>
                <p:nvPr/>
              </p:nvSpPr>
              <p:spPr>
                <a:xfrm>
                  <a:off x="3352680" y="3886200"/>
                  <a:ext cx="2667240" cy="190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" name="Rectangle 13"/>
              <p:cNvSpPr/>
              <p:nvPr/>
            </p:nvSpPr>
            <p:spPr>
              <a:xfrm>
                <a:off x="76320" y="3048120"/>
                <a:ext cx="1371600" cy="289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14"/>
              <p:cNvSpPr/>
              <p:nvPr/>
            </p:nvSpPr>
            <p:spPr>
              <a:xfrm>
                <a:off x="3276720" y="3124080"/>
                <a:ext cx="2743200" cy="281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Line 17"/>
            <p:cNvSpPr/>
            <p:nvPr/>
          </p:nvSpPr>
          <p:spPr>
            <a:xfrm>
              <a:off x="6019920" y="198108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efore Adding Graphic Images go to File&gt;Save As&gt;name your fi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6248520" y="2082960"/>
            <a:ext cx="297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 to use all lowercase letters, no spaces or special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6"/>
          <p:cNvSpPr/>
          <p:nvPr/>
        </p:nvSpPr>
        <p:spPr>
          <a:xfrm>
            <a:off x="1371600" y="1828800"/>
            <a:ext cx="6094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7"/>
          <p:cNvSpPr/>
          <p:nvPr/>
        </p:nvSpPr>
        <p:spPr>
          <a:xfrm>
            <a:off x="1447920" y="3276720"/>
            <a:ext cx="18288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5" descr="titlelogo"/>
          <p:cNvPicPr/>
          <p:nvPr/>
        </p:nvPicPr>
        <p:blipFill>
          <a:blip r:embed="rId1"/>
          <a:stretch/>
        </p:blipFill>
        <p:spPr>
          <a:xfrm>
            <a:off x="152280" y="2489040"/>
            <a:ext cx="6705720" cy="43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Click in the Left Cell, Insert&gt;Image, or use the Image Icon, Locate </a:t>
            </a:r>
            <a:br>
              <a:rPr sz="2900"/>
            </a:b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.gif or .jpg Fil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7010280" y="2819520"/>
            <a:ext cx="213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Insert M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533520" y="563868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sert Logo or Graphic in a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8"/>
          <p:cNvSpPr/>
          <p:nvPr/>
        </p:nvSpPr>
        <p:spPr>
          <a:xfrm>
            <a:off x="3124080" y="2743200"/>
            <a:ext cx="53352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in the Right Cell &amp; Type to Add the Tit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0" name="Picture 5" descr="titleintable"/>
          <p:cNvPicPr/>
          <p:nvPr/>
        </p:nvPicPr>
        <p:blipFill>
          <a:blip r:embed="rId1"/>
          <a:stretch/>
        </p:blipFill>
        <p:spPr>
          <a:xfrm>
            <a:off x="380880" y="1901880"/>
            <a:ext cx="8382240" cy="381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lect the Table, Select BG to Add a Background Cell Colo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2" name="Picture 5" descr="titletablecolor"/>
          <p:cNvPicPr/>
          <p:nvPr/>
        </p:nvPicPr>
        <p:blipFill>
          <a:blip r:embed="rId1"/>
          <a:stretch/>
        </p:blipFill>
        <p:spPr>
          <a:xfrm>
            <a:off x="739800" y="1447920"/>
            <a:ext cx="489600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3" name="Text Box 7"/>
          <p:cNvSpPr/>
          <p:nvPr/>
        </p:nvSpPr>
        <p:spPr>
          <a:xfrm>
            <a:off x="5943600" y="464832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 M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9" descr="color"/>
          <p:cNvPicPr/>
          <p:nvPr/>
        </p:nvPicPr>
        <p:blipFill>
          <a:blip r:embed="rId2"/>
          <a:stretch/>
        </p:blipFill>
        <p:spPr>
          <a:xfrm>
            <a:off x="3352680" y="4952880"/>
            <a:ext cx="1917720" cy="1317600"/>
          </a:xfrm>
          <a:prstGeom prst="rect">
            <a:avLst/>
          </a:prstGeom>
          <a:ln w="0">
            <a:noFill/>
          </a:ln>
        </p:spPr>
      </p:pic>
      <p:sp>
        <p:nvSpPr>
          <p:cNvPr id="495" name="Oval 6"/>
          <p:cNvSpPr/>
          <p:nvPr/>
        </p:nvSpPr>
        <p:spPr>
          <a:xfrm>
            <a:off x="3505320" y="6172200"/>
            <a:ext cx="137160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ite Content &amp; Information Structur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bably the most important aspect of website 'structural design' is how you breakdown the content into logical sections (Main Areas, Pages, Headers, Sub-Headers, Lists, etc). You need to create a strong hierarchy for the site and breakdown content into small uni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is a good idea to create a graphical schema/flowchart/sitemap for the site. This can help you visualise a logical hierarch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To Make Border Invisible, Select Table, Set Border to 0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5" descr="titlenoborder"/>
          <p:cNvPicPr/>
          <p:nvPr/>
        </p:nvPicPr>
        <p:blipFill>
          <a:blip r:embed="rId1"/>
          <a:stretch/>
        </p:blipFill>
        <p:spPr>
          <a:xfrm>
            <a:off x="457200" y="1362240"/>
            <a:ext cx="5145120" cy="526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0" name="Oval 6"/>
          <p:cNvSpPr/>
          <p:nvPr/>
        </p:nvSpPr>
        <p:spPr>
          <a:xfrm>
            <a:off x="4191120" y="5857920"/>
            <a:ext cx="11430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5867280" y="464832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 M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8"/>
          <p:cNvSpPr/>
          <p:nvPr/>
        </p:nvSpPr>
        <p:spPr>
          <a:xfrm>
            <a:off x="5486400" y="2743200"/>
            <a:ext cx="2438280" cy="380880"/>
          </a:xfrm>
          <a:prstGeom prst="leftArrow">
            <a:avLst>
              <a:gd name="adj1" fmla="val 50000"/>
              <a:gd name="adj2" fmla="val 1600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5791320" y="2133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Edge of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To Add Navigation Table, Insert&gt;Table or Table Ic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05" name="Picture 5" descr="navigtable"/>
          <p:cNvPicPr/>
          <p:nvPr/>
        </p:nvPicPr>
        <p:blipFill>
          <a:blip r:embed="rId1"/>
          <a:stretch/>
        </p:blipFill>
        <p:spPr>
          <a:xfrm>
            <a:off x="533520" y="1506600"/>
            <a:ext cx="5410080" cy="535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6" name="Oval 7"/>
          <p:cNvSpPr/>
          <p:nvPr/>
        </p:nvSpPr>
        <p:spPr>
          <a:xfrm>
            <a:off x="2438280" y="1600200"/>
            <a:ext cx="4572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6248520" y="2057400"/>
            <a:ext cx="25146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 Columns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9"/>
          <p:cNvSpPr/>
          <p:nvPr/>
        </p:nvSpPr>
        <p:spPr>
          <a:xfrm>
            <a:off x="2971800" y="3048120"/>
            <a:ext cx="281952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Inside of the First Cell to Add a Flash Navigation Butt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10" name="Picture 6" descr="navtable2"/>
          <p:cNvPicPr/>
          <p:nvPr/>
        </p:nvPicPr>
        <p:blipFill>
          <a:blip r:embed="rId1"/>
          <a:stretch/>
        </p:blipFill>
        <p:spPr>
          <a:xfrm>
            <a:off x="380880" y="2367000"/>
            <a:ext cx="8458200" cy="318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1" name="AutoShape 7"/>
          <p:cNvSpPr/>
          <p:nvPr/>
        </p:nvSpPr>
        <p:spPr>
          <a:xfrm>
            <a:off x="1143000" y="4876920"/>
            <a:ext cx="380880" cy="1447560"/>
          </a:xfrm>
          <a:prstGeom prst="upArrow">
            <a:avLst>
              <a:gd name="adj1" fmla="val 50000"/>
              <a:gd name="adj2" fmla="val 9501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sert&gt;Media&gt;Flash Butt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13" name="Picture 5" descr="navbutton1"/>
          <p:cNvPicPr/>
          <p:nvPr/>
        </p:nvPicPr>
        <p:blipFill>
          <a:blip r:embed="rId1"/>
          <a:stretch/>
        </p:blipFill>
        <p:spPr>
          <a:xfrm>
            <a:off x="1295280" y="1371600"/>
            <a:ext cx="6324840" cy="51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4" name="Oval 6"/>
          <p:cNvSpPr/>
          <p:nvPr/>
        </p:nvSpPr>
        <p:spPr>
          <a:xfrm>
            <a:off x="3962520" y="2057400"/>
            <a:ext cx="22860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7"/>
          <p:cNvSpPr/>
          <p:nvPr/>
        </p:nvSpPr>
        <p:spPr>
          <a:xfrm>
            <a:off x="5867280" y="2666880"/>
            <a:ext cx="190512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8"/>
          <p:cNvSpPr/>
          <p:nvPr/>
        </p:nvSpPr>
        <p:spPr>
          <a:xfrm>
            <a:off x="3886200" y="1295280"/>
            <a:ext cx="91440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utton Settings: Style, Text, Font, Link, Size, Apply, OK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18" name="Picture 5" descr="navbutton2"/>
          <p:cNvPicPr/>
          <p:nvPr/>
        </p:nvPicPr>
        <p:blipFill>
          <a:blip r:embed="rId1"/>
          <a:stretch/>
        </p:blipFill>
        <p:spPr>
          <a:xfrm>
            <a:off x="0" y="1403280"/>
            <a:ext cx="6019920" cy="54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9" name="Text Box 6"/>
          <p:cNvSpPr/>
          <p:nvPr/>
        </p:nvSpPr>
        <p:spPr>
          <a:xfrm>
            <a:off x="6400800" y="1600200"/>
            <a:ext cx="2362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when uploading your website to the server to add your .swf Flash buttons you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peat to Add All Butt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21" name="Picture 5" descr="navbutton3"/>
          <p:cNvPicPr/>
          <p:nvPr/>
        </p:nvPicPr>
        <p:blipFill>
          <a:blip r:embed="rId1"/>
          <a:stretch/>
        </p:blipFill>
        <p:spPr>
          <a:xfrm>
            <a:off x="380880" y="1228680"/>
            <a:ext cx="8458200" cy="349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2" name="Oval 6"/>
          <p:cNvSpPr/>
          <p:nvPr/>
        </p:nvSpPr>
        <p:spPr>
          <a:xfrm>
            <a:off x="533520" y="3438360"/>
            <a:ext cx="190476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609480" y="52135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need to edit the button after has been created or to check the links just double click on the button again, change the features, Apply, 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 of Completed Title &amp; Navigation Butt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25" name="Picture 5" descr="navcomplete"/>
          <p:cNvPicPr/>
          <p:nvPr/>
        </p:nvPicPr>
        <p:blipFill>
          <a:blip r:embed="rId1"/>
          <a:stretch/>
        </p:blipFill>
        <p:spPr>
          <a:xfrm>
            <a:off x="228600" y="1752480"/>
            <a:ext cx="8763120" cy="336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Text Box 6"/>
          <p:cNvSpPr/>
          <p:nvPr/>
        </p:nvSpPr>
        <p:spPr>
          <a:xfrm>
            <a:off x="1066680" y="53341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May Have Different Titles For Your Navigation But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5" descr="externallink"/>
          <p:cNvPicPr/>
          <p:nvPr/>
        </p:nvPicPr>
        <p:blipFill>
          <a:blip r:embed="rId1"/>
          <a:stretch/>
        </p:blipFill>
        <p:spPr>
          <a:xfrm>
            <a:off x="1447920" y="2057400"/>
            <a:ext cx="5867280" cy="483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8" name="Oval 6"/>
          <p:cNvSpPr/>
          <p:nvPr/>
        </p:nvSpPr>
        <p:spPr>
          <a:xfrm>
            <a:off x="5105520" y="6019920"/>
            <a:ext cx="20574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7"/>
          <p:cNvSpPr/>
          <p:nvPr/>
        </p:nvSpPr>
        <p:spPr>
          <a:xfrm>
            <a:off x="1295280" y="3886200"/>
            <a:ext cx="266724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ternal Links: Type Text &amp; Highlight, Type in Link URL &amp; Press Return Ke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2590920" y="536400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5" descr="internallink"/>
          <p:cNvPicPr/>
          <p:nvPr/>
        </p:nvPicPr>
        <p:blipFill>
          <a:blip r:embed="rId1"/>
          <a:stretch/>
        </p:blipFill>
        <p:spPr>
          <a:xfrm>
            <a:off x="1447920" y="2130480"/>
            <a:ext cx="5562360" cy="46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3" name="Oval 6"/>
          <p:cNvSpPr/>
          <p:nvPr/>
        </p:nvSpPr>
        <p:spPr>
          <a:xfrm>
            <a:off x="4800600" y="5867280"/>
            <a:ext cx="190512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Internal Links: Type Text &amp; Highlight, Type in Link URL &amp; Press Return Ke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5" name="Oval 7"/>
          <p:cNvSpPr/>
          <p:nvPr/>
        </p:nvSpPr>
        <p:spPr>
          <a:xfrm>
            <a:off x="1295280" y="4267080"/>
            <a:ext cx="152424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8"/>
          <p:cNvSpPr/>
          <p:nvPr/>
        </p:nvSpPr>
        <p:spPr>
          <a:xfrm>
            <a:off x="4648320" y="53341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10"/>
          <p:cNvGrpSpPr/>
          <p:nvPr/>
        </p:nvGrpSpPr>
        <p:grpSpPr>
          <a:xfrm>
            <a:off x="1752480" y="2192400"/>
            <a:ext cx="5640480" cy="4665600"/>
            <a:chOff x="1752480" y="2192400"/>
            <a:chExt cx="5640480" cy="4665600"/>
          </a:xfrm>
        </p:grpSpPr>
        <p:pic>
          <p:nvPicPr>
            <p:cNvPr id="538" name="Picture 5" descr="emaillink"/>
            <p:cNvPicPr/>
            <p:nvPr/>
          </p:nvPicPr>
          <p:blipFill>
            <a:blip r:embed="rId1"/>
            <a:stretch/>
          </p:blipFill>
          <p:spPr>
            <a:xfrm>
              <a:off x="1752480" y="2192400"/>
              <a:ext cx="5640480" cy="4665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39" name="Rectangle 9"/>
            <p:cNvSpPr/>
            <p:nvPr/>
          </p:nvSpPr>
          <p:spPr>
            <a:xfrm>
              <a:off x="5638680" y="6172200"/>
              <a:ext cx="10670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-Mail Links: Type Text &amp; Highlight, Type in Link URL &amp; Press Return Ke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1" name="Oval 7"/>
          <p:cNvSpPr/>
          <p:nvPr/>
        </p:nvSpPr>
        <p:spPr>
          <a:xfrm>
            <a:off x="5181480" y="5943600"/>
            <a:ext cx="243864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8"/>
          <p:cNvSpPr/>
          <p:nvPr/>
        </p:nvSpPr>
        <p:spPr>
          <a:xfrm>
            <a:off x="1676520" y="4343400"/>
            <a:ext cx="289548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1905120" y="53341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lto:hollandj@emporia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5562720" y="609588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lto:hollandj@emporia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6" name="عنصر نائب للمحتوى 3" descr="schema.gif"/>
          <p:cNvPicPr/>
          <p:nvPr/>
        </p:nvPicPr>
        <p:blipFill>
          <a:blip r:embed="rId1"/>
          <a:stretch/>
        </p:blipFill>
        <p:spPr>
          <a:xfrm>
            <a:off x="1246320" y="836640"/>
            <a:ext cx="72673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Inserting Graphics and Text</a:t>
            </a:r>
            <a:br>
              <a:rPr sz="3200"/>
            </a:b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in Tab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6" name="مربع نص 7"/>
          <p:cNvSpPr/>
          <p:nvPr/>
        </p:nvSpPr>
        <p:spPr>
          <a:xfrm>
            <a:off x="611280" y="1700280"/>
            <a:ext cx="7705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Gill Sans MT"/>
              </a:rPr>
              <a:t>Control placement of elements in relation to each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Gill Sans MT"/>
              </a:rPr>
              <a:t>Specify amount of space between each page el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Gill Sans MT"/>
              </a:rPr>
              <a:t>Always plan how your table will look with all the text and graphics in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5f5f"/>
                </a:solidFill>
                <a:latin typeface="Gill Sans MT"/>
                <a:ea typeface="MS PGothic"/>
              </a:rPr>
              <a:t>Even a rough sketch will save you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Click in the Left Cell, Select Insert&gt;Image or Image Ic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8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5" descr="graphicselect"/>
          <p:cNvPicPr/>
          <p:nvPr/>
        </p:nvPicPr>
        <p:blipFill>
          <a:blip r:embed="rId1"/>
          <a:stretch/>
        </p:blipFill>
        <p:spPr>
          <a:xfrm>
            <a:off x="195120" y="1506600"/>
            <a:ext cx="6053400" cy="535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1" name="Oval 6"/>
          <p:cNvSpPr/>
          <p:nvPr/>
        </p:nvSpPr>
        <p:spPr>
          <a:xfrm>
            <a:off x="2252520" y="1600200"/>
            <a:ext cx="4572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6705720" y="2057400"/>
            <a:ext cx="205740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te Graphic Imag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g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jp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in the Right Cell &amp; Add Your Tex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4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5" descr="graphicwithtext"/>
          <p:cNvPicPr/>
          <p:nvPr/>
        </p:nvPicPr>
        <p:blipFill>
          <a:blip r:embed="rId1"/>
          <a:stretch/>
        </p:blipFill>
        <p:spPr>
          <a:xfrm>
            <a:off x="304920" y="1600200"/>
            <a:ext cx="6311880" cy="494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7" name="Text Box 6"/>
          <p:cNvSpPr/>
          <p:nvPr/>
        </p:nvSpPr>
        <p:spPr>
          <a:xfrm>
            <a:off x="7010280" y="1601640"/>
            <a:ext cx="17528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eed to Adjust Column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Font to A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Anchors Are Used to Jump Down on a Long Page of Text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9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5" descr="anchors"/>
          <p:cNvPicPr/>
          <p:nvPr/>
        </p:nvPicPr>
        <p:blipFill>
          <a:blip r:embed="rId1"/>
          <a:stretch/>
        </p:blipFill>
        <p:spPr>
          <a:xfrm>
            <a:off x="1219320" y="1447920"/>
            <a:ext cx="6248160" cy="517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2" name="Oval 7"/>
          <p:cNvSpPr/>
          <p:nvPr/>
        </p:nvSpPr>
        <p:spPr>
          <a:xfrm>
            <a:off x="1295280" y="3429000"/>
            <a:ext cx="624852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Highlight Word, In the Link Box Type in #nam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4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5" descr="anchors"/>
          <p:cNvPicPr/>
          <p:nvPr/>
        </p:nvPicPr>
        <p:blipFill>
          <a:blip r:embed="rId1"/>
          <a:stretch/>
        </p:blipFill>
        <p:spPr>
          <a:xfrm>
            <a:off x="380880" y="1447920"/>
            <a:ext cx="6248520" cy="517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7" name="Oval 6"/>
          <p:cNvSpPr/>
          <p:nvPr/>
        </p:nvSpPr>
        <p:spPr>
          <a:xfrm>
            <a:off x="609480" y="3429000"/>
            <a:ext cx="91440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7"/>
          <p:cNvSpPr/>
          <p:nvPr/>
        </p:nvSpPr>
        <p:spPr>
          <a:xfrm>
            <a:off x="4343400" y="5562720"/>
            <a:ext cx="160020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6858000" y="5638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#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Highlight Text to Link To, Insert&gt;Named Anchor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1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anchorinsert"/>
          <p:cNvPicPr/>
          <p:nvPr/>
        </p:nvPicPr>
        <p:blipFill>
          <a:blip r:embed="rId1"/>
          <a:stretch/>
        </p:blipFill>
        <p:spPr>
          <a:xfrm>
            <a:off x="1079640" y="1523880"/>
            <a:ext cx="6984720" cy="489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4" name="Oval 6"/>
          <p:cNvSpPr/>
          <p:nvPr/>
        </p:nvSpPr>
        <p:spPr>
          <a:xfrm>
            <a:off x="1143000" y="4191120"/>
            <a:ext cx="91440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7"/>
          <p:cNvSpPr/>
          <p:nvPr/>
        </p:nvSpPr>
        <p:spPr>
          <a:xfrm>
            <a:off x="3657600" y="1371600"/>
            <a:ext cx="76212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8"/>
          <p:cNvSpPr/>
          <p:nvPr/>
        </p:nvSpPr>
        <p:spPr>
          <a:xfrm>
            <a:off x="3657600" y="3657600"/>
            <a:ext cx="198108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Type in Exact Name Match, Example: august, OK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8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anchorinsertname"/>
          <p:cNvPicPr/>
          <p:nvPr/>
        </p:nvPicPr>
        <p:blipFill>
          <a:blip r:embed="rId1"/>
          <a:stretch/>
        </p:blipFill>
        <p:spPr>
          <a:xfrm>
            <a:off x="903240" y="1523880"/>
            <a:ext cx="7021440" cy="489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1" name="Oval 6"/>
          <p:cNvSpPr/>
          <p:nvPr/>
        </p:nvSpPr>
        <p:spPr>
          <a:xfrm>
            <a:off x="3505320" y="4648320"/>
            <a:ext cx="25146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مستطيل مستدير الزوايا 6"/>
          <p:cNvSpPr/>
          <p:nvPr/>
        </p:nvSpPr>
        <p:spPr>
          <a:xfrm>
            <a:off x="2195640" y="2924280"/>
            <a:ext cx="5400720" cy="50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Notice the Yellow Anchor,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is Will Not Show When Poste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4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5" descr="anchorinsertname2"/>
          <p:cNvPicPr/>
          <p:nvPr/>
        </p:nvPicPr>
        <p:blipFill>
          <a:blip r:embed="rId1"/>
          <a:stretch/>
        </p:blipFill>
        <p:spPr>
          <a:xfrm>
            <a:off x="1523880" y="1521000"/>
            <a:ext cx="6183360" cy="510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7" name="Oval 6"/>
          <p:cNvSpPr/>
          <p:nvPr/>
        </p:nvSpPr>
        <p:spPr>
          <a:xfrm>
            <a:off x="1447920" y="3886200"/>
            <a:ext cx="11430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le&gt;Save As, Provide Name &amp; Loc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9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7"/>
          <p:cNvGrpSpPr/>
          <p:nvPr/>
        </p:nvGrpSpPr>
        <p:grpSpPr>
          <a:xfrm>
            <a:off x="152280" y="1579680"/>
            <a:ext cx="6400440" cy="4581000"/>
            <a:chOff x="152280" y="1579680"/>
            <a:chExt cx="6400440" cy="4581000"/>
          </a:xfrm>
        </p:grpSpPr>
        <p:pic>
          <p:nvPicPr>
            <p:cNvPr id="592" name="Picture 5" descr="saveas"/>
            <p:cNvPicPr/>
            <p:nvPr/>
          </p:nvPicPr>
          <p:blipFill>
            <a:blip r:embed="rId1"/>
            <a:stretch/>
          </p:blipFill>
          <p:spPr>
            <a:xfrm>
              <a:off x="152280" y="1579680"/>
              <a:ext cx="6400440" cy="4581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93" name="Rectangle 6"/>
            <p:cNvSpPr/>
            <p:nvPr/>
          </p:nvSpPr>
          <p:spPr>
            <a:xfrm>
              <a:off x="352440" y="4031280"/>
              <a:ext cx="1231200" cy="193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Oval 8"/>
          <p:cNvSpPr/>
          <p:nvPr/>
        </p:nvSpPr>
        <p:spPr>
          <a:xfrm>
            <a:off x="1523880" y="1447920"/>
            <a:ext cx="76212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9"/>
          <p:cNvSpPr/>
          <p:nvPr/>
        </p:nvSpPr>
        <p:spPr>
          <a:xfrm>
            <a:off x="1523880" y="3124080"/>
            <a:ext cx="236232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0"/>
          <p:cNvSpPr/>
          <p:nvPr/>
        </p:nvSpPr>
        <p:spPr>
          <a:xfrm>
            <a:off x="6629400" y="2133720"/>
            <a:ext cx="2362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an Duplicate Pag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ce the index.html page is set up as desired with the logo, header, and navigation buttons it can serve as a template for creating new pag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ust be sure to save each new page with new name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007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a folder on your computer called website1 to hold all web pages and graphic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example of what your link will look like when you set it up later: map.jpg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ptional: inside of the website1 folder create a folder called images to hold your graphic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</a:t>
            </a:r>
            <a:br>
              <a:rPr sz="2800"/>
            </a:b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304920" y="59436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l folders, webpages, and graphic names must be lowercase, no spaces, and no special characters for ease of linking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مربع نص 6"/>
          <p:cNvSpPr/>
          <p:nvPr/>
        </p:nvSpPr>
        <p:spPr>
          <a:xfrm>
            <a:off x="611280" y="333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bcc3e"/>
                </a:solidFill>
                <a:latin typeface="Arial"/>
              </a:rPr>
              <a:t>Getting Sta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le&gt;Preview in Browser&gt;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lect the desired brows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0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6" descr="previewinternetexp"/>
          <p:cNvPicPr/>
          <p:nvPr/>
        </p:nvPicPr>
        <p:blipFill>
          <a:blip r:embed="rId1"/>
          <a:stretch/>
        </p:blipFill>
        <p:spPr>
          <a:xfrm>
            <a:off x="1060560" y="1411200"/>
            <a:ext cx="7321320" cy="512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3" name="Oval 7"/>
          <p:cNvSpPr/>
          <p:nvPr/>
        </p:nvSpPr>
        <p:spPr>
          <a:xfrm>
            <a:off x="2438280" y="5029200"/>
            <a:ext cx="22860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8"/>
          <p:cNvSpPr/>
          <p:nvPr/>
        </p:nvSpPr>
        <p:spPr>
          <a:xfrm>
            <a:off x="2438280" y="1295280"/>
            <a:ext cx="76212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9"/>
          <p:cNvSpPr/>
          <p:nvPr/>
        </p:nvSpPr>
        <p:spPr>
          <a:xfrm>
            <a:off x="4572000" y="5181480"/>
            <a:ext cx="198108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Notice How the Browser Opens in Front To Preview What it Will Look Like When Uploaded to the Server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5" descr="preview"/>
          <p:cNvPicPr/>
          <p:nvPr/>
        </p:nvPicPr>
        <p:blipFill>
          <a:blip r:embed="rId1"/>
          <a:stretch/>
        </p:blipFill>
        <p:spPr>
          <a:xfrm>
            <a:off x="990720" y="2082960"/>
            <a:ext cx="7311960" cy="447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0" name="Oval 6"/>
          <p:cNvSpPr/>
          <p:nvPr/>
        </p:nvSpPr>
        <p:spPr>
          <a:xfrm>
            <a:off x="2057400" y="3048120"/>
            <a:ext cx="8380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7"/>
          <p:cNvSpPr/>
          <p:nvPr/>
        </p:nvSpPr>
        <p:spPr>
          <a:xfrm>
            <a:off x="3352680" y="551484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Finished Viewing Browser Red Button C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ptional: File&gt;Preview in Browser&gt;Edit Browser Lis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3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5" descr="previewinternetexp"/>
          <p:cNvPicPr/>
          <p:nvPr/>
        </p:nvPicPr>
        <p:blipFill>
          <a:blip r:embed="rId1"/>
          <a:stretch/>
        </p:blipFill>
        <p:spPr>
          <a:xfrm>
            <a:off x="1060560" y="1411200"/>
            <a:ext cx="7321320" cy="512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6" name="Oval 6"/>
          <p:cNvSpPr/>
          <p:nvPr/>
        </p:nvSpPr>
        <p:spPr>
          <a:xfrm>
            <a:off x="2362320" y="5029200"/>
            <a:ext cx="22860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8"/>
          <p:cNvSpPr/>
          <p:nvPr/>
        </p:nvSpPr>
        <p:spPr>
          <a:xfrm>
            <a:off x="4267080" y="5486400"/>
            <a:ext cx="22860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7"/>
          <p:cNvSpPr/>
          <p:nvPr/>
        </p:nvSpPr>
        <p:spPr>
          <a:xfrm>
            <a:off x="2438280" y="1295280"/>
            <a:ext cx="76212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r Selecting Primary &amp; Secondary Browser Choices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0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5" descr="selectbrowser"/>
          <p:cNvPicPr/>
          <p:nvPr/>
        </p:nvPicPr>
        <p:blipFill>
          <a:blip r:embed="rId1"/>
          <a:stretch/>
        </p:blipFill>
        <p:spPr>
          <a:xfrm>
            <a:off x="990720" y="1371600"/>
            <a:ext cx="7108560" cy="511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ewing Options: HTML Co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4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5" descr="code"/>
          <p:cNvPicPr/>
          <p:nvPr/>
        </p:nvPicPr>
        <p:blipFill>
          <a:blip r:embed="rId1"/>
          <a:stretch/>
        </p:blipFill>
        <p:spPr>
          <a:xfrm>
            <a:off x="1639800" y="1424160"/>
            <a:ext cx="5675400" cy="52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7" name="Oval 6"/>
          <p:cNvSpPr/>
          <p:nvPr/>
        </p:nvSpPr>
        <p:spPr>
          <a:xfrm>
            <a:off x="1639800" y="2133720"/>
            <a:ext cx="838440" cy="5331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ewing Options: 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plit Code &amp; Desig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9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6" descr="splitcodedesign"/>
          <p:cNvPicPr/>
          <p:nvPr/>
        </p:nvPicPr>
        <p:blipFill>
          <a:blip r:embed="rId1"/>
          <a:stretch/>
        </p:blipFill>
        <p:spPr>
          <a:xfrm>
            <a:off x="241200" y="1428840"/>
            <a:ext cx="6311880" cy="48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2" name="Oval 7"/>
          <p:cNvSpPr/>
          <p:nvPr/>
        </p:nvSpPr>
        <p:spPr>
          <a:xfrm>
            <a:off x="762120" y="2057400"/>
            <a:ext cx="8380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8"/>
          <p:cNvSpPr/>
          <p:nvPr/>
        </p:nvSpPr>
        <p:spPr>
          <a:xfrm>
            <a:off x="0" y="4800600"/>
            <a:ext cx="312408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0"/>
          <p:cNvSpPr/>
          <p:nvPr/>
        </p:nvSpPr>
        <p:spPr>
          <a:xfrm>
            <a:off x="1371600" y="2743200"/>
            <a:ext cx="449568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6705720" y="2057400"/>
            <a:ext cx="2133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Can Highlight Areas in Design Mode &amp; See It in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iewing Options: Design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r Creating &amp; Editing Web Pag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7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6" descr="designmode"/>
          <p:cNvPicPr/>
          <p:nvPr/>
        </p:nvPicPr>
        <p:blipFill>
          <a:blip r:embed="rId1"/>
          <a:stretch/>
        </p:blipFill>
        <p:spPr>
          <a:xfrm>
            <a:off x="457200" y="1905120"/>
            <a:ext cx="8001000" cy="442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0" name="Oval 7"/>
          <p:cNvSpPr/>
          <p:nvPr/>
        </p:nvSpPr>
        <p:spPr>
          <a:xfrm>
            <a:off x="1523880" y="2590920"/>
            <a:ext cx="914400" cy="5331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le&gt;Save As, Provide Name &amp; Loc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2" name="AutoShape 3">
            <a:hlinkClick r:id="" action="ppaction://hlinkshowjump?jump=nextslide"/>
          </p:cNvPr>
          <p:cNvSpPr/>
          <p:nvPr/>
        </p:nvSpPr>
        <p:spPr>
          <a:xfrm>
            <a:off x="8453520" y="654516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4">
            <a:hlinkClick r:id="" action="ppaction://hlinkshowjump?jump=previousslide"/>
          </p:cNvPr>
          <p:cNvSpPr/>
          <p:nvPr/>
        </p:nvSpPr>
        <p:spPr>
          <a:xfrm>
            <a:off x="7843680" y="654516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4581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5"/>
          <p:cNvGrpSpPr/>
          <p:nvPr/>
        </p:nvGrpSpPr>
        <p:grpSpPr>
          <a:xfrm>
            <a:off x="152280" y="1579680"/>
            <a:ext cx="6400440" cy="4581000"/>
            <a:chOff x="152280" y="1579680"/>
            <a:chExt cx="6400440" cy="4581000"/>
          </a:xfrm>
        </p:grpSpPr>
        <p:pic>
          <p:nvPicPr>
            <p:cNvPr id="645" name="Picture 6" descr="saveas"/>
            <p:cNvPicPr/>
            <p:nvPr/>
          </p:nvPicPr>
          <p:blipFill>
            <a:blip r:embed="rId1"/>
            <a:stretch/>
          </p:blipFill>
          <p:spPr>
            <a:xfrm>
              <a:off x="152280" y="1579680"/>
              <a:ext cx="6400440" cy="4581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46" name="Rectangle 7"/>
            <p:cNvSpPr/>
            <p:nvPr/>
          </p:nvSpPr>
          <p:spPr>
            <a:xfrm>
              <a:off x="352440" y="4031280"/>
              <a:ext cx="1231200" cy="193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Oval 8"/>
          <p:cNvSpPr/>
          <p:nvPr/>
        </p:nvSpPr>
        <p:spPr>
          <a:xfrm>
            <a:off x="1523880" y="1447920"/>
            <a:ext cx="76212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9"/>
          <p:cNvSpPr/>
          <p:nvPr/>
        </p:nvSpPr>
        <p:spPr>
          <a:xfrm>
            <a:off x="1523880" y="3124080"/>
            <a:ext cx="2362320" cy="381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0"/>
          <p:cNvSpPr/>
          <p:nvPr/>
        </p:nvSpPr>
        <p:spPr>
          <a:xfrm>
            <a:off x="6629400" y="2133720"/>
            <a:ext cx="2362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10" descr="saving"/>
          <p:cNvPicPr/>
          <p:nvPr/>
        </p:nvPicPr>
        <p:blipFill>
          <a:blip r:embed="rId1"/>
          <a:stretch/>
        </p:blipFill>
        <p:spPr>
          <a:xfrm>
            <a:off x="152280" y="1600200"/>
            <a:ext cx="6621480" cy="503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New Folder: website1 (save webpage files inside of the folder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2" name="AutoShape 3">
            <a:hlinkClick r:id="" action="ppaction://hlinkshowjump?jump=nextslide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4">
            <a:hlinkClick r:id="" action="ppaction://hlinkshowjump?jump=previousslide"/>
          </p:cNvPr>
          <p:cNvSpPr/>
          <p:nvPr/>
        </p:nvSpPr>
        <p:spPr>
          <a:xfrm>
            <a:off x="78487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6"/>
          <p:cNvSpPr/>
          <p:nvPr/>
        </p:nvSpPr>
        <p:spPr>
          <a:xfrm>
            <a:off x="1820880" y="2584440"/>
            <a:ext cx="13716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7"/>
          <p:cNvSpPr/>
          <p:nvPr/>
        </p:nvSpPr>
        <p:spPr>
          <a:xfrm>
            <a:off x="1058760" y="1974960"/>
            <a:ext cx="304812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8"/>
          <p:cNvSpPr/>
          <p:nvPr/>
        </p:nvSpPr>
        <p:spPr>
          <a:xfrm>
            <a:off x="220680" y="6172200"/>
            <a:ext cx="13716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9"/>
          <p:cNvSpPr/>
          <p:nvPr/>
        </p:nvSpPr>
        <p:spPr>
          <a:xfrm>
            <a:off x="1820880" y="4876920"/>
            <a:ext cx="13716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1"/>
          <p:cNvSpPr/>
          <p:nvPr/>
        </p:nvSpPr>
        <p:spPr>
          <a:xfrm>
            <a:off x="6934320" y="1600200"/>
            <a:ext cx="18288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inder: Lowercase, No Spaces, No Special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 of Files in Your 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ebsite1 fold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0" name="AutoShape 3">
            <a:hlinkClick r:id="" action="ppaction://hlinkshowjump?jump=nextslide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3794"/>
                </a:moveTo>
                <a:lnTo>
                  <a:pt x="31281" y="10800"/>
                </a:lnTo>
                <a:lnTo>
                  <a:pt x="1726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4">
            <a:hlinkClick r:id="" action="ppaction://hlinkshowjump?jump=previousslide"/>
          </p:cNvPr>
          <p:cNvSpPr/>
          <p:nvPr/>
        </p:nvSpPr>
        <p:spPr>
          <a:xfrm>
            <a:off x="78487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8"/>
          <p:cNvSpPr/>
          <p:nvPr/>
        </p:nvSpPr>
        <p:spPr>
          <a:xfrm>
            <a:off x="3505320" y="3352680"/>
            <a:ext cx="609480" cy="1219320"/>
          </a:xfrm>
          <a:custGeom>
            <a:avLst/>
            <a:gdLst>
              <a:gd name="textAreaLeft" fmla="*/ 350640 w 609480"/>
              <a:gd name="textAreaRight" fmla="*/ 514440 w 609480"/>
              <a:gd name="textAreaTop" fmla="*/ 164160 h 1219320"/>
              <a:gd name="textAreaBottom" fmla="*/ 52200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9" descr="webfolder"/>
          <p:cNvPicPr/>
          <p:nvPr/>
        </p:nvPicPr>
        <p:blipFill>
          <a:blip r:embed="rId1"/>
          <a:stretch/>
        </p:blipFill>
        <p:spPr>
          <a:xfrm>
            <a:off x="304920" y="1469880"/>
            <a:ext cx="4784760" cy="538812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7"/>
          <p:cNvSpPr/>
          <p:nvPr/>
        </p:nvSpPr>
        <p:spPr>
          <a:xfrm>
            <a:off x="5334120" y="13716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ust Have a Main Page Named index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5257800" y="3809880"/>
            <a:ext cx="3657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age names may be different from this example &amp; will be an exact name match to  your navigation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8" descr="dream1"/>
          <p:cNvPicPr/>
          <p:nvPr/>
        </p:nvPicPr>
        <p:blipFill>
          <a:blip r:embed="rId1"/>
          <a:stretch/>
        </p:blipFill>
        <p:spPr>
          <a:xfrm>
            <a:off x="1751040" y="1563840"/>
            <a:ext cx="5792760" cy="506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Launch Dreamweaver</a:t>
            </a:r>
            <a:br>
              <a:rPr sz="3200"/>
            </a:b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Select HTM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3505320" y="2895480"/>
            <a:ext cx="121896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New Page Appear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4" name="Picture 10" descr="dream2"/>
          <p:cNvPicPr/>
          <p:nvPr/>
        </p:nvPicPr>
        <p:blipFill>
          <a:blip r:embed="rId1"/>
          <a:stretch/>
        </p:blipFill>
        <p:spPr>
          <a:xfrm>
            <a:off x="1295280" y="1415880"/>
            <a:ext cx="6553440" cy="482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Or Select File&gt;New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6" name="Picture 5" descr="dream3"/>
          <p:cNvPicPr/>
          <p:nvPr/>
        </p:nvPicPr>
        <p:blipFill>
          <a:blip r:embed="rId1"/>
          <a:stretch/>
        </p:blipFill>
        <p:spPr>
          <a:xfrm>
            <a:off x="1066680" y="1295280"/>
            <a:ext cx="7021800" cy="471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7" name="Oval 6"/>
          <p:cNvSpPr/>
          <p:nvPr/>
        </p:nvSpPr>
        <p:spPr>
          <a:xfrm>
            <a:off x="2286000" y="1143000"/>
            <a:ext cx="213372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dream3"/>
          <p:cNvPicPr/>
          <p:nvPr/>
        </p:nvPicPr>
        <p:blipFill>
          <a:blip r:embed="rId1"/>
          <a:stretch/>
        </p:blipFill>
        <p:spPr>
          <a:xfrm>
            <a:off x="1523880" y="1219320"/>
            <a:ext cx="6410520" cy="513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lect HTML, Crea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Oval 6"/>
          <p:cNvSpPr/>
          <p:nvPr/>
        </p:nvSpPr>
        <p:spPr>
          <a:xfrm>
            <a:off x="3362400" y="1901880"/>
            <a:ext cx="121896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7"/>
          <p:cNvSpPr/>
          <p:nvPr/>
        </p:nvSpPr>
        <p:spPr>
          <a:xfrm>
            <a:off x="6791400" y="6019920"/>
            <a:ext cx="121896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01:54:30Z</dcterms:created>
  <dc:creator>Janet Holland</dc:creator>
  <dc:description/>
  <dc:language>en-US</dc:language>
  <cp:lastModifiedBy>DELL</cp:lastModifiedBy>
  <cp:lastPrinted>2005-06-09T14:21:05Z</cp:lastPrinted>
  <dcterms:modified xsi:type="dcterms:W3CDTF">2012-03-29T22:56:58Z</dcterms:modified>
  <cp:revision>164</cp:revision>
  <dc:subject/>
  <dc:title>Macromedia Dreamweaver MX2004</dc:title>
</cp:coreProperties>
</file>