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9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C65B-430E-405D-B54D-6083CB9E8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C56A-1E8D-49B3-93EE-D07EF90E2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4CC1-7427-4D5C-B0FA-446065863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F5D4-1283-439C-929E-E5EC772BA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A306-924A-467D-A5EC-4830A5FE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6C01-21DB-4829-83D2-F5BB3F8E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263D-567F-495B-852C-E7481AF5D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9730-550A-4987-A64D-FC519FA3D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DF6D-7E82-48FE-9209-3F2174568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C388-011F-4107-9098-F1A659A6D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7FD2-08B1-400F-B245-092BFDD8A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A898-13F3-484C-860B-65A4FBD44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7E1D-558A-4732-9C91-D2D7CB8E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29D9-24E7-438E-84A1-FA1B79BE3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D9AC-D4AA-4C90-9241-48266562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1407-634C-4E2C-8CAA-E324082A5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80CF-5AA4-44B5-B915-FE082EB79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9877-331A-4DC9-9286-A1922AAEE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3E65-DB37-41F6-9B40-C34B765AA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C373-F523-4F27-AB98-6CCD62ED9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677A-3D75-4399-9603-B9D2A5495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76A9-44A3-4F14-AD1B-BD9F8F353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E33F-6E86-47C7-97A8-E3FBB497E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A4C1-367F-4A7E-8A7F-64E4DA9F7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E8DC-AFE9-44DC-91E1-2A831D132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2723-3226-4236-A795-6EDA8DE30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B4D0-93F4-4956-8F63-9B500EBF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32A1-764D-49FB-A1A2-49212E541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1F8D-FEB8-438C-B62E-697501F92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170E-7BDD-485D-916B-EEDAB32EB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A036-09AA-405D-8E04-0E06F0BEB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5364-B497-427B-9768-2C49E6FB5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0D89-7FEE-493E-9DBE-69DBA0FEA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CE43-49A0-4D3E-A899-E557A5662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5FF2-8CAF-49C1-886E-31CDA45BD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1900-A796-47FE-B2E0-67494BA29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AC59-1821-467D-AF86-5F0188F38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1949-DB8C-4C30-B43F-F2CF5DCA1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072C-D38D-4BE4-B83A-F8EB0B9F2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ED70-AB15-4A93-8C00-CBC37AE9D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A4C5-4BCA-459F-A126-95E9699D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3B23-38D6-414B-ABED-222DD7ADC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2111-84B6-419C-9DFA-849998A7E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EBA0-5E9D-4D6E-A2B1-1DA8F30E0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4E29-0D2D-4B6D-A735-96156A96D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82FF-BB0E-4C8B-AD04-C1455F2D9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9732-2842-45FD-85DE-DD04A1321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14B7-0B76-4180-A45B-BB8264D7E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7AC2-7A43-4457-AACF-55DD84152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5CF0-38AF-4D3A-8E9A-F175B28D4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1174-12C3-480C-BE01-37F5B01F5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6695-6340-498C-9767-9FB6D1C2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9D14-D9B6-4760-A497-5895D6C98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4E03-6A26-4419-BF81-70FFCD8A4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5941-DA42-4A1C-8588-D80E1873B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462A-60FE-4FD7-AE8D-82D23E88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79EF-5EEC-4B9A-B6E9-31BC5A76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CB1-1C56-47FF-B39F-15B8A9D4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CAD-D572-4E52-8FDA-6ECCB71D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2A9-A1C1-4BD8-AC3E-7D1F14CF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728-603D-416C-87AF-6669D542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6002-5789-4C85-A4C8-75E5BD42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7122-C015-45EE-8557-6CEF63C4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C4D6-49F0-45B4-81FE-760CA5A6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F19A-D058-4A20-9C54-45AA8AC2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9336-1F4B-487E-A216-B8E8B7BE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902E-638A-4209-838B-5884469C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FBDA-B320-49EB-962A-1CCF3BEB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57A-74DF-4AB6-85E7-1F75217F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0CEA-33DC-4303-ABC4-7B89628D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CA5A-56A4-4931-B918-85D5B5B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3D02-B0EF-449F-904F-94AD9AFF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F975-7CA4-4427-9FD4-935D03A9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8C8B-A584-43A9-9ACD-36640275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B66C-E67A-460A-96C5-5639DF65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9DF7-4C42-44F8-91A2-8B3C0E85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E5E53-65A0-4CBC-8F8D-36BB0DD8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9C16-00F2-4F9C-9676-812EDCFC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83E3-50E2-43A0-8507-AF860114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55F-7828-40C2-A490-1363D260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89D6-A5AA-4EBE-A6EF-5C08F6F4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30587-26F0-40D5-AAA8-B7DB0E6C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0B769-571E-4D84-827E-07551594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1158E-D455-49DC-BE7E-25A39265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D1CDB-7766-491E-BC49-C5C0A08A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9E23C-C100-4105-81A5-81DAD5DD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16265-FF34-43CD-96FB-9958E55E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5E896-790D-4349-B994-2B1601EF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93899-C76A-49A5-8B7B-B63A7994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261D-B7C8-47B2-8235-678EEBAC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023-541D-4024-8094-556ED9E1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A764D-AAB3-443F-9748-819732E9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FDB1E-1F7A-422E-9B82-60E4D99F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3401-320C-4E90-B674-FB7A2AE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705D4-B3E0-4D1A-A17E-C3EC4C09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EE8DE-465C-4976-B0DB-05177F7C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3B063-D67E-4183-8E36-A7B8FF04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DECED-52FC-4A8A-9320-BD08CD5C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7900-3B47-42C1-9F91-CCE1D2B3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17C76-7D6B-4B92-8DCD-D09141F2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7CFC8-3582-4EC6-BCDF-EA025D46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C69-8C71-42EF-97F1-F2507F81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DE161-BA72-42C3-9EE2-58D6D52A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ECD10-0A40-4B21-B808-6C775560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355E9-5A12-4C5A-9FF1-09483C00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139A0-B3EC-4BF7-9CC9-66AC60F7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DA26A-2694-4B89-A8F3-924BA644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3437D-D614-40BC-B0A6-9BFC6FF9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36470-CFBF-4035-9F7D-5A5AB99A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E59E7-1FD5-4FE9-B605-D72C3FDC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91059-C8EF-4913-8002-F4BEC143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B469B-1737-44F3-8307-5C27F10B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DAB-1096-4966-A849-325C44AF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6DA1-06CE-469A-803B-217CCADD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D3E0D-D8C6-4A75-8B7C-C46E276C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85FC0-BF37-4F18-9D93-DB0E28AA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889DD-2945-47F9-A251-D1B46F5E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91C75-2F09-48EB-89CC-DE2B672E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78E6C-77D8-4538-A832-921E1902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2F9A7-D46A-4D3D-917B-CC878C0B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3A0B2-2AE9-4786-852B-C0952276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7F8EF-4443-4F65-A702-B4791A01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0B481-0097-4349-842D-9D1324B9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E89-4A73-4688-B75E-D901E531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C7EDF-F956-462C-A97F-4355828E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811CE-339D-4BC0-8A4E-B3FB21A1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CD101-01EC-4B3D-964D-245BFC91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C3251-326D-4469-ADFE-3930FE20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F9612-006E-41F6-B6C3-0AC2086A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23F63-1FDD-4A2B-AF22-BB0BD448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319DB-6ABF-4452-B046-122B9BCE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B5224-F165-4369-BF87-61474351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C9081-6F9A-4186-80A3-4F6F3CBE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2D737-62AE-478F-BA7C-7D25DF5B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786-01B6-4372-BC7E-9FE1AA30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3E073-9B88-4778-BA02-9B929406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39A00-0B86-439A-86A8-F4E06390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D5E66-DC97-44CD-ACB0-A5611F01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0DED1-87D7-4EFA-8F35-4AD8815C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65327-C393-4C9D-B79F-CEBEE45F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594E3-1C71-4C08-97B2-E4F8AAB1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B7767-4EAD-4688-BDA7-6DA16902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6AE58-0200-4781-BED8-D52408C6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C06C7-70E1-468B-8BEF-31138993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26132-E7B4-4C3F-938E-6A98B36E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BB1-7403-41CD-9663-D9BA5F12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44C90-54BA-4962-B8A2-9C5AB9AC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36FB6-13AD-47A9-980A-2F1610C9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5D2ED-DC6E-465B-A9DD-EA26B2E6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53EC2-E10B-45D3-AB07-A34D17DA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4E08E-0797-4034-8E03-ADB60C8B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C966D-1FB7-4D31-ABB8-357054D8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8C8EC-9412-49C3-AF5C-4A80E265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A582-C9C2-461D-9997-7503FD27A1A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269E-F325-4E92-8CC4-FD6EA9175E9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E7F9-E039-4A61-8F08-5DA03A6CAC2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35AD-5C1E-4E9F-9F73-01A30AA6601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200E-8EB2-4D37-BD80-194B86D6EBF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C86B-2A93-4381-8C2D-EFCF29A2C3B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41A4-4BAE-4461-B892-6BE4A3DFE1C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DC9A-43A5-4259-BBB6-09E1F024D65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http://4.bp.blogspot.com/-qXRHCShuC9s/T2MWJLgCUmI/AAAAAAAAA30/fHyneuJDo_Q/s1600/macromedia%2Bdreamweaver.png"/>
          <p:cNvPicPr/>
          <p:nvPr/>
        </p:nvPicPr>
        <p:blipFill>
          <a:blip r:embed="rId1"/>
          <a:stretch/>
        </p:blipFill>
        <p:spPr>
          <a:xfrm>
            <a:off x="684360" y="700200"/>
            <a:ext cx="7848360" cy="5918040"/>
          </a:xfrm>
          <a:prstGeom prst="rect">
            <a:avLst/>
          </a:prstGeom>
          <a:ln w="0">
            <a:noFill/>
          </a:ln>
        </p:spPr>
      </p:pic>
      <p:sp>
        <p:nvSpPr>
          <p:cNvPr id="360" name="مربع نص 5"/>
          <p:cNvSpPr/>
          <p:nvPr/>
        </p:nvSpPr>
        <p:spPr>
          <a:xfrm>
            <a:off x="1908000" y="1700280"/>
            <a:ext cx="511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 2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indow&gt;Insert, Properties, Files Have a Check Mark When Activ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dream5"/>
          <p:cNvPicPr/>
          <p:nvPr/>
        </p:nvPicPr>
        <p:blipFill>
          <a:blip r:embed="rId1"/>
          <a:stretch/>
        </p:blipFill>
        <p:spPr>
          <a:xfrm>
            <a:off x="914400" y="1523880"/>
            <a:ext cx="7243920" cy="50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6" name="Rectangle 7"/>
          <p:cNvSpPr/>
          <p:nvPr/>
        </p:nvSpPr>
        <p:spPr>
          <a:xfrm>
            <a:off x="6095880" y="1447920"/>
            <a:ext cx="2057400" cy="2743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ting Up a New Web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8" name="Picture 4" descr="dream4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9" name="Text Box 5"/>
          <p:cNvSpPr/>
          <p:nvPr/>
        </p:nvSpPr>
        <p:spPr>
          <a:xfrm>
            <a:off x="1905120" y="327672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&gt;Files Checked You Will See The Files Palette on the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81680" y="2286000"/>
            <a:ext cx="2057400" cy="4191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5562720" y="2666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5334120" y="1447920"/>
            <a:ext cx="76176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From the Pop Up Files Palette Window: Select Manage Sit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4" name="Picture 4" descr="dream5"/>
          <p:cNvPicPr/>
          <p:nvPr/>
        </p:nvPicPr>
        <p:blipFill>
          <a:blip r:embed="rId1"/>
          <a:stretch/>
        </p:blipFill>
        <p:spPr>
          <a:xfrm>
            <a:off x="325440" y="2011320"/>
            <a:ext cx="8742240" cy="400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5" name="Oval 5"/>
          <p:cNvSpPr/>
          <p:nvPr/>
        </p:nvSpPr>
        <p:spPr>
          <a:xfrm>
            <a:off x="6705720" y="3352680"/>
            <a:ext cx="20574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lect The New Button&gt;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7" name="Picture 4" descr="dream6"/>
          <p:cNvPicPr/>
          <p:nvPr/>
        </p:nvPicPr>
        <p:blipFill>
          <a:blip r:embed="rId1"/>
          <a:stretch/>
        </p:blipFill>
        <p:spPr>
          <a:xfrm>
            <a:off x="228600" y="1560600"/>
            <a:ext cx="8610480" cy="45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Oval 5"/>
          <p:cNvSpPr/>
          <p:nvPr/>
        </p:nvSpPr>
        <p:spPr>
          <a:xfrm>
            <a:off x="4800600" y="3809880"/>
            <a:ext cx="205740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the New Site Defini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0" name="Picture 4" descr="dream7"/>
          <p:cNvPicPr/>
          <p:nvPr/>
        </p:nvPicPr>
        <p:blipFill>
          <a:blip r:embed="rId1"/>
          <a:stretch/>
        </p:blipFill>
        <p:spPr>
          <a:xfrm>
            <a:off x="0" y="1295280"/>
            <a:ext cx="5334120" cy="515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Rectangle 8"/>
          <p:cNvSpPr/>
          <p:nvPr/>
        </p:nvSpPr>
        <p:spPr>
          <a:xfrm>
            <a:off x="1905120" y="1981080"/>
            <a:ext cx="18381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1600200" y="2209680"/>
            <a:ext cx="29415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1447920" y="2522520"/>
            <a:ext cx="316224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1752480" y="3124080"/>
            <a:ext cx="27957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2"/>
          <p:cNvSpPr/>
          <p:nvPr/>
        </p:nvSpPr>
        <p:spPr>
          <a:xfrm>
            <a:off x="2535120" y="1371600"/>
            <a:ext cx="58896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5410080" y="1066680"/>
            <a:ext cx="33530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ame Your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on the Folder Icon &amp; Locate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on the Folder Icon &amp; Locate the images folder inside of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3"/>
          <p:cNvSpPr/>
          <p:nvPr/>
        </p:nvSpPr>
        <p:spPr>
          <a:xfrm>
            <a:off x="4343400" y="6095880"/>
            <a:ext cx="74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1602000" y="1905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1290960" y="214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11448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1443240" y="306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76320" y="1752480"/>
            <a:ext cx="9144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File Structure You Creat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4" name="Picture 4" descr="dream8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514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5" name="AutoShape 6"/>
          <p:cNvSpPr/>
          <p:nvPr/>
        </p:nvSpPr>
        <p:spPr>
          <a:xfrm>
            <a:off x="4419720" y="297180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4114800" y="274320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egin Creating the index.html main webpag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8" name="Picture 5" descr="dream3"/>
          <p:cNvPicPr/>
          <p:nvPr/>
        </p:nvPicPr>
        <p:blipFill>
          <a:blip r:embed="rId1"/>
          <a:stretch/>
        </p:blipFill>
        <p:spPr>
          <a:xfrm>
            <a:off x="1066680" y="1752480"/>
            <a:ext cx="7021800" cy="47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9" name="Oval 6"/>
          <p:cNvSpPr/>
          <p:nvPr/>
        </p:nvSpPr>
        <p:spPr>
          <a:xfrm>
            <a:off x="2286000" y="1600200"/>
            <a:ext cx="213372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dify&gt;Page Properti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dream6"/>
          <p:cNvPicPr/>
          <p:nvPr/>
        </p:nvPicPr>
        <p:blipFill>
          <a:blip r:embed="rId1"/>
          <a:stretch/>
        </p:blipFill>
        <p:spPr>
          <a:xfrm>
            <a:off x="755640" y="1284120"/>
            <a:ext cx="7702560" cy="519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4" name="Oval 6"/>
          <p:cNvSpPr/>
          <p:nvPr/>
        </p:nvSpPr>
        <p:spPr>
          <a:xfrm>
            <a:off x="4114800" y="1143000"/>
            <a:ext cx="220968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Appearance, Set</a:t>
            </a:r>
            <a:br>
              <a:rPr sz="2900"/>
            </a:b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Font, Text, Background Colo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dream7"/>
          <p:cNvPicPr/>
          <p:nvPr/>
        </p:nvPicPr>
        <p:blipFill>
          <a:blip r:embed="rId1"/>
          <a:stretch/>
        </p:blipFill>
        <p:spPr>
          <a:xfrm>
            <a:off x="914400" y="1335240"/>
            <a:ext cx="7446960" cy="508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Oval 6"/>
          <p:cNvSpPr/>
          <p:nvPr/>
        </p:nvSpPr>
        <p:spPr>
          <a:xfrm>
            <a:off x="4343400" y="2438280"/>
            <a:ext cx="152388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7"/>
          <p:cNvSpPr/>
          <p:nvPr/>
        </p:nvSpPr>
        <p:spPr>
          <a:xfrm>
            <a:off x="2209680" y="2971800"/>
            <a:ext cx="129564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inks, Set Link, Visited Link Colo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2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" descr="dream8"/>
          <p:cNvPicPr/>
          <p:nvPr/>
        </p:nvPicPr>
        <p:blipFill>
          <a:blip r:embed="rId1"/>
          <a:stretch/>
        </p:blipFill>
        <p:spPr>
          <a:xfrm>
            <a:off x="914400" y="1371600"/>
            <a:ext cx="7459560" cy="50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Oval 6"/>
          <p:cNvSpPr/>
          <p:nvPr/>
        </p:nvSpPr>
        <p:spPr>
          <a:xfrm>
            <a:off x="4191120" y="2514600"/>
            <a:ext cx="152388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2209680" y="3048120"/>
            <a:ext cx="129564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ebsite Plann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even considering the practical aspects of creating a website, there are some important fundamental ques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need to ask yourself fir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we hoping to achie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's our target audienc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catergory, if any, does our site fall into: ecommerce, informational, educational, social networking, etc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visually exciting does it need to be to be effecti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tone do we want our content to convey, could it be serious or witty, complex or simpl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he Curser on the Page, Select Alignment, Type in Tex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38" name="Picture 6" descr="title"/>
          <p:cNvPicPr/>
          <p:nvPr/>
        </p:nvPicPr>
        <p:blipFill>
          <a:blip r:embed="rId1"/>
          <a:stretch/>
        </p:blipFill>
        <p:spPr>
          <a:xfrm>
            <a:off x="752400" y="1371600"/>
            <a:ext cx="482616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9" name="Oval 7"/>
          <p:cNvSpPr/>
          <p:nvPr/>
        </p:nvSpPr>
        <p:spPr>
          <a:xfrm>
            <a:off x="4133880" y="5867280"/>
            <a:ext cx="83808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5796000" y="2708280"/>
            <a:ext cx="2971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Alignment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0"/>
          <p:cNvSpPr/>
          <p:nvPr/>
        </p:nvSpPr>
        <p:spPr>
          <a:xfrm>
            <a:off x="4343400" y="4495680"/>
            <a:ext cx="304920" cy="1295640"/>
          </a:xfrm>
          <a:prstGeom prst="downArrow">
            <a:avLst>
              <a:gd name="adj1" fmla="val 50000"/>
              <a:gd name="adj2" fmla="val 10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ghlight Text, Select Ariel Fo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titlefont"/>
          <p:cNvPicPr/>
          <p:nvPr/>
        </p:nvPicPr>
        <p:blipFill>
          <a:blip r:embed="rId1"/>
          <a:stretch/>
        </p:blipFill>
        <p:spPr>
          <a:xfrm>
            <a:off x="3355920" y="1295280"/>
            <a:ext cx="448956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6" name="Oval 6"/>
          <p:cNvSpPr/>
          <p:nvPr/>
        </p:nvSpPr>
        <p:spPr>
          <a:xfrm>
            <a:off x="3352680" y="5715000"/>
            <a:ext cx="327672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304920" y="4038480"/>
            <a:ext cx="2971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 Pop-up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ghlight Text, &amp; Select the Title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t Siz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5" descr="titlesize"/>
          <p:cNvPicPr/>
          <p:nvPr/>
        </p:nvPicPr>
        <p:blipFill>
          <a:blip r:embed="rId1"/>
          <a:stretch/>
        </p:blipFill>
        <p:spPr>
          <a:xfrm>
            <a:off x="3029040" y="1371600"/>
            <a:ext cx="48258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2" name="Text Box 6"/>
          <p:cNvSpPr/>
          <p:nvPr/>
        </p:nvSpPr>
        <p:spPr>
          <a:xfrm>
            <a:off x="324000" y="1700280"/>
            <a:ext cx="25905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-up Format for Title Heading Size: 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3352680" y="5867280"/>
            <a:ext cx="121932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r to Create a Title With a Graphic: Insert&gt;Table or Select Table Ic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5" descr="dream9"/>
          <p:cNvPicPr/>
          <p:nvPr/>
        </p:nvPicPr>
        <p:blipFill>
          <a:blip r:embed="rId1"/>
          <a:stretch/>
        </p:blipFill>
        <p:spPr>
          <a:xfrm>
            <a:off x="914400" y="1447920"/>
            <a:ext cx="7550280" cy="51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8" name="Oval 6"/>
          <p:cNvSpPr/>
          <p:nvPr/>
        </p:nvSpPr>
        <p:spPr>
          <a:xfrm>
            <a:off x="3657600" y="1371600"/>
            <a:ext cx="8380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7"/>
          <p:cNvSpPr/>
          <p:nvPr/>
        </p:nvSpPr>
        <p:spPr>
          <a:xfrm>
            <a:off x="3657600" y="2438280"/>
            <a:ext cx="220968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8"/>
          <p:cNvSpPr/>
          <p:nvPr/>
        </p:nvSpPr>
        <p:spPr>
          <a:xfrm>
            <a:off x="3200400" y="1600200"/>
            <a:ext cx="38088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791320" y="3657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bles control object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titletable"/>
          <p:cNvPicPr/>
          <p:nvPr/>
        </p:nvPicPr>
        <p:blipFill>
          <a:blip r:embed="rId1"/>
          <a:stretch/>
        </p:blipFill>
        <p:spPr>
          <a:xfrm>
            <a:off x="762120" y="1523880"/>
            <a:ext cx="5102280" cy="48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 Row, Column, Table Width, Border, O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6172200" y="2057400"/>
            <a:ext cx="2590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tle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2514600" y="2286000"/>
            <a:ext cx="29718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djust Column Width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7" name="Picture 6" descr="titletableadjust"/>
          <p:cNvPicPr/>
          <p:nvPr/>
        </p:nvPicPr>
        <p:blipFill>
          <a:blip r:embed="rId1"/>
          <a:stretch/>
        </p:blipFill>
        <p:spPr>
          <a:xfrm>
            <a:off x="685800" y="1295280"/>
            <a:ext cx="46926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8" name="AutoShape 8"/>
          <p:cNvSpPr/>
          <p:nvPr/>
        </p:nvSpPr>
        <p:spPr>
          <a:xfrm>
            <a:off x="1828800" y="2895480"/>
            <a:ext cx="533520" cy="1828800"/>
          </a:xfrm>
          <a:prstGeom prst="upArrow">
            <a:avLst>
              <a:gd name="adj1" fmla="val 50000"/>
              <a:gd name="adj2" fmla="val 8569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5791320" y="16765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g Table Column Line Left or Right to Adjust the 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0"/>
          <p:cNvSpPr/>
          <p:nvPr/>
        </p:nvSpPr>
        <p:spPr>
          <a:xfrm>
            <a:off x="1828800" y="2362320"/>
            <a:ext cx="6094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18"/>
          <p:cNvGrpSpPr/>
          <p:nvPr/>
        </p:nvGrpSpPr>
        <p:grpSpPr>
          <a:xfrm>
            <a:off x="76320" y="1959120"/>
            <a:ext cx="5943600" cy="4060800"/>
            <a:chOff x="76320" y="1959120"/>
            <a:chExt cx="5943600" cy="4060800"/>
          </a:xfrm>
        </p:grpSpPr>
        <p:grpSp>
          <p:nvGrpSpPr>
            <p:cNvPr id="472" name="Group 16"/>
            <p:cNvGrpSpPr/>
            <p:nvPr/>
          </p:nvGrpSpPr>
          <p:grpSpPr>
            <a:xfrm>
              <a:off x="76320" y="1959120"/>
              <a:ext cx="5943600" cy="4060800"/>
              <a:chOff x="76320" y="1959120"/>
              <a:chExt cx="5943600" cy="4060800"/>
            </a:xfrm>
          </p:grpSpPr>
          <p:grpSp>
            <p:nvGrpSpPr>
              <p:cNvPr id="473" name="Group 10"/>
              <p:cNvGrpSpPr/>
              <p:nvPr/>
            </p:nvGrpSpPr>
            <p:grpSpPr>
              <a:xfrm>
                <a:off x="76320" y="1959120"/>
                <a:ext cx="5943600" cy="4060800"/>
                <a:chOff x="76320" y="1959120"/>
                <a:chExt cx="5943600" cy="4060800"/>
              </a:xfrm>
            </p:grpSpPr>
            <p:pic>
              <p:nvPicPr>
                <p:cNvPr id="474" name="Picture 5" descr="saveas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320" y="1959120"/>
                  <a:ext cx="5943600" cy="406080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475" name="Rectangle 8"/>
                <p:cNvSpPr/>
                <p:nvPr/>
              </p:nvSpPr>
              <p:spPr>
                <a:xfrm>
                  <a:off x="228600" y="3886200"/>
                  <a:ext cx="121932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Rectangle 9"/>
                <p:cNvSpPr/>
                <p:nvPr/>
              </p:nvSpPr>
              <p:spPr>
                <a:xfrm>
                  <a:off x="3352680" y="3886200"/>
                  <a:ext cx="266724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Rectangle 13"/>
              <p:cNvSpPr/>
              <p:nvPr/>
            </p:nvSpPr>
            <p:spPr>
              <a:xfrm>
                <a:off x="76320" y="3048120"/>
                <a:ext cx="1371600" cy="289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4"/>
              <p:cNvSpPr/>
              <p:nvPr/>
            </p:nvSpPr>
            <p:spPr>
              <a:xfrm>
                <a:off x="3276720" y="3124080"/>
                <a:ext cx="2743200" cy="281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17"/>
            <p:cNvSpPr/>
            <p:nvPr/>
          </p:nvSpPr>
          <p:spPr>
            <a:xfrm>
              <a:off x="6019920" y="198108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efore Adding Graphic Images go to File&gt;Save As&gt;name your f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6248520" y="2082960"/>
            <a:ext cx="297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 to use all lowercase letters, no spaces or special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6"/>
          <p:cNvSpPr/>
          <p:nvPr/>
        </p:nvSpPr>
        <p:spPr>
          <a:xfrm>
            <a:off x="1371600" y="1828800"/>
            <a:ext cx="6094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7"/>
          <p:cNvSpPr/>
          <p:nvPr/>
        </p:nvSpPr>
        <p:spPr>
          <a:xfrm>
            <a:off x="1447920" y="3276720"/>
            <a:ext cx="18288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5" descr="titlelogo"/>
          <p:cNvPicPr/>
          <p:nvPr/>
        </p:nvPicPr>
        <p:blipFill>
          <a:blip r:embed="rId1"/>
          <a:stretch/>
        </p:blipFill>
        <p:spPr>
          <a:xfrm>
            <a:off x="152280" y="2489040"/>
            <a:ext cx="6705720" cy="43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lick in the Left Cell, Insert&gt;Image, or use the Image Icon, Locate </a:t>
            </a:r>
            <a:br>
              <a:rPr sz="2900"/>
            </a:b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.gif or .jpg Fil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7010280" y="281952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Insert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533520" y="56386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sert Logo or Graphic in a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8"/>
          <p:cNvSpPr/>
          <p:nvPr/>
        </p:nvSpPr>
        <p:spPr>
          <a:xfrm>
            <a:off x="3124080" y="2743200"/>
            <a:ext cx="53352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in the Right Cell &amp; Type to Add the Tit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0" name="Picture 5" descr="titleintable"/>
          <p:cNvPicPr/>
          <p:nvPr/>
        </p:nvPicPr>
        <p:blipFill>
          <a:blip r:embed="rId1"/>
          <a:stretch/>
        </p:blipFill>
        <p:spPr>
          <a:xfrm>
            <a:off x="380880" y="1901880"/>
            <a:ext cx="8382240" cy="381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lect the Table, Select BG to Add a Background Cell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2" name="Picture 5" descr="titletablecolor"/>
          <p:cNvPicPr/>
          <p:nvPr/>
        </p:nvPicPr>
        <p:blipFill>
          <a:blip r:embed="rId1"/>
          <a:stretch/>
        </p:blipFill>
        <p:spPr>
          <a:xfrm>
            <a:off x="739800" y="1447920"/>
            <a:ext cx="489600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3" name="Text Box 7"/>
          <p:cNvSpPr/>
          <p:nvPr/>
        </p:nvSpPr>
        <p:spPr>
          <a:xfrm>
            <a:off x="5943600" y="46483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9" descr="color"/>
          <p:cNvPicPr/>
          <p:nvPr/>
        </p:nvPicPr>
        <p:blipFill>
          <a:blip r:embed="rId2"/>
          <a:stretch/>
        </p:blipFill>
        <p:spPr>
          <a:xfrm>
            <a:off x="3352680" y="4952880"/>
            <a:ext cx="1917720" cy="1317600"/>
          </a:xfrm>
          <a:prstGeom prst="rect">
            <a:avLst/>
          </a:prstGeom>
          <a:ln w="0">
            <a:noFill/>
          </a:ln>
        </p:spPr>
      </p:pic>
      <p:sp>
        <p:nvSpPr>
          <p:cNvPr id="495" name="Oval 6"/>
          <p:cNvSpPr/>
          <p:nvPr/>
        </p:nvSpPr>
        <p:spPr>
          <a:xfrm>
            <a:off x="3505320" y="6172200"/>
            <a:ext cx="137160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ite Content &amp; Information Structur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bably the most important aspect of website 'structural design' is how you breakdown the content into logical sections (Main Areas, Pages, Headers, Sub-Headers, Lists, etc). You need to create a strong hierarchy for the site and breakdown content into small uni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a good idea to create a graphical schema/flowchart/sitemap for the site. This can help you visualise a logical hierarch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o Make Border Invisible, Select Table, Set Border to 0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titlenoborder"/>
          <p:cNvPicPr/>
          <p:nvPr/>
        </p:nvPicPr>
        <p:blipFill>
          <a:blip r:embed="rId1"/>
          <a:stretch/>
        </p:blipFill>
        <p:spPr>
          <a:xfrm>
            <a:off x="457200" y="1362240"/>
            <a:ext cx="5145120" cy="526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0" name="Oval 6"/>
          <p:cNvSpPr/>
          <p:nvPr/>
        </p:nvSpPr>
        <p:spPr>
          <a:xfrm>
            <a:off x="4191120" y="5857920"/>
            <a:ext cx="11430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5867280" y="46483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5486400" y="2743200"/>
            <a:ext cx="2438280" cy="380880"/>
          </a:xfrm>
          <a:prstGeom prst="leftArrow">
            <a:avLst>
              <a:gd name="adj1" fmla="val 50000"/>
              <a:gd name="adj2" fmla="val 1600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5791320" y="2133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dge of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o Add Navigation Table, Insert&gt;Table or Tabl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5" name="Picture 5" descr="navigtable"/>
          <p:cNvPicPr/>
          <p:nvPr/>
        </p:nvPicPr>
        <p:blipFill>
          <a:blip r:embed="rId1"/>
          <a:stretch/>
        </p:blipFill>
        <p:spPr>
          <a:xfrm>
            <a:off x="533520" y="1506600"/>
            <a:ext cx="5410080" cy="535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Oval 7"/>
          <p:cNvSpPr/>
          <p:nvPr/>
        </p:nvSpPr>
        <p:spPr>
          <a:xfrm>
            <a:off x="2438280" y="1600200"/>
            <a:ext cx="4572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6248520" y="2057400"/>
            <a:ext cx="2514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 Columns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2971800" y="3048120"/>
            <a:ext cx="281952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Inside of the First Cell to Add a Flash Navigation Butt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0" name="Picture 6" descr="navtable2"/>
          <p:cNvPicPr/>
          <p:nvPr/>
        </p:nvPicPr>
        <p:blipFill>
          <a:blip r:embed="rId1"/>
          <a:stretch/>
        </p:blipFill>
        <p:spPr>
          <a:xfrm>
            <a:off x="380880" y="2367000"/>
            <a:ext cx="8458200" cy="31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1" name="AutoShape 7"/>
          <p:cNvSpPr/>
          <p:nvPr/>
        </p:nvSpPr>
        <p:spPr>
          <a:xfrm>
            <a:off x="1143000" y="4876920"/>
            <a:ext cx="380880" cy="1447560"/>
          </a:xfrm>
          <a:prstGeom prst="upArrow">
            <a:avLst>
              <a:gd name="adj1" fmla="val 50000"/>
              <a:gd name="adj2" fmla="val 950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sert&gt;Media&gt;Flash Butt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3" name="Picture 5" descr="navbutton1"/>
          <p:cNvPicPr/>
          <p:nvPr/>
        </p:nvPicPr>
        <p:blipFill>
          <a:blip r:embed="rId1"/>
          <a:stretch/>
        </p:blipFill>
        <p:spPr>
          <a:xfrm>
            <a:off x="1295280" y="1371600"/>
            <a:ext cx="6324840" cy="51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4" name="Oval 6"/>
          <p:cNvSpPr/>
          <p:nvPr/>
        </p:nvSpPr>
        <p:spPr>
          <a:xfrm>
            <a:off x="3962520" y="2057400"/>
            <a:ext cx="22860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7"/>
          <p:cNvSpPr/>
          <p:nvPr/>
        </p:nvSpPr>
        <p:spPr>
          <a:xfrm>
            <a:off x="5867280" y="2666880"/>
            <a:ext cx="190512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"/>
          <p:cNvSpPr/>
          <p:nvPr/>
        </p:nvSpPr>
        <p:spPr>
          <a:xfrm>
            <a:off x="3886200" y="1295280"/>
            <a:ext cx="91440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utton Settings: Style, Text, Font, Link, Size, Apply, O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8" name="Picture 5" descr="navbutton2"/>
          <p:cNvPicPr/>
          <p:nvPr/>
        </p:nvPicPr>
        <p:blipFill>
          <a:blip r:embed="rId1"/>
          <a:stretch/>
        </p:blipFill>
        <p:spPr>
          <a:xfrm>
            <a:off x="0" y="1403280"/>
            <a:ext cx="601992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9" name="Text Box 6"/>
          <p:cNvSpPr/>
          <p:nvPr/>
        </p:nvSpPr>
        <p:spPr>
          <a:xfrm>
            <a:off x="6400800" y="1600200"/>
            <a:ext cx="2362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when uploading your website to the server to add your .swf Flash buttons you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peat to Add All Butt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21" name="Picture 5" descr="navbutton3"/>
          <p:cNvPicPr/>
          <p:nvPr/>
        </p:nvPicPr>
        <p:blipFill>
          <a:blip r:embed="rId1"/>
          <a:stretch/>
        </p:blipFill>
        <p:spPr>
          <a:xfrm>
            <a:off x="380880" y="1228680"/>
            <a:ext cx="8458200" cy="34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2" name="Oval 6"/>
          <p:cNvSpPr/>
          <p:nvPr/>
        </p:nvSpPr>
        <p:spPr>
          <a:xfrm>
            <a:off x="533520" y="3438360"/>
            <a:ext cx="19047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609480" y="5213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need to edit the button after has been created or to check the links just double click on the button again, change the features, Apply, 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of Completed Title &amp; Navigation Butt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25" name="Picture 5" descr="navcomplete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Text Box 6"/>
          <p:cNvSpPr/>
          <p:nvPr/>
        </p:nvSpPr>
        <p:spPr>
          <a:xfrm>
            <a:off x="1066680" y="53341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May Have Different Titles For Your Navigation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externallink"/>
          <p:cNvPicPr/>
          <p:nvPr/>
        </p:nvPicPr>
        <p:blipFill>
          <a:blip r:embed="rId1"/>
          <a:stretch/>
        </p:blipFill>
        <p:spPr>
          <a:xfrm>
            <a:off x="1447920" y="2057400"/>
            <a:ext cx="5867280" cy="48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8" name="Oval 6"/>
          <p:cNvSpPr/>
          <p:nvPr/>
        </p:nvSpPr>
        <p:spPr>
          <a:xfrm>
            <a:off x="5105520" y="6019920"/>
            <a:ext cx="20574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7"/>
          <p:cNvSpPr/>
          <p:nvPr/>
        </p:nvSpPr>
        <p:spPr>
          <a:xfrm>
            <a:off x="1295280" y="3886200"/>
            <a:ext cx="266724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ternal Links: Type Text &amp; Highlight, Type in Link URL &amp; Press Return Ke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2590920" y="53640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5" descr="internallink"/>
          <p:cNvPicPr/>
          <p:nvPr/>
        </p:nvPicPr>
        <p:blipFill>
          <a:blip r:embed="rId1"/>
          <a:stretch/>
        </p:blipFill>
        <p:spPr>
          <a:xfrm>
            <a:off x="1447920" y="2130480"/>
            <a:ext cx="5562360" cy="46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3" name="Oval 6"/>
          <p:cNvSpPr/>
          <p:nvPr/>
        </p:nvSpPr>
        <p:spPr>
          <a:xfrm>
            <a:off x="4800600" y="5867280"/>
            <a:ext cx="1905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ernal Links: Type Text &amp; Highlight, Type in Link URL &amp; Press Return Ke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5" name="Oval 7"/>
          <p:cNvSpPr/>
          <p:nvPr/>
        </p:nvSpPr>
        <p:spPr>
          <a:xfrm>
            <a:off x="1295280" y="4267080"/>
            <a:ext cx="152424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8"/>
          <p:cNvSpPr/>
          <p:nvPr/>
        </p:nvSpPr>
        <p:spPr>
          <a:xfrm>
            <a:off x="4648320" y="5334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10"/>
          <p:cNvGrpSpPr/>
          <p:nvPr/>
        </p:nvGrpSpPr>
        <p:grpSpPr>
          <a:xfrm>
            <a:off x="1752480" y="2192400"/>
            <a:ext cx="5640480" cy="4665600"/>
            <a:chOff x="1752480" y="2192400"/>
            <a:chExt cx="5640480" cy="4665600"/>
          </a:xfrm>
        </p:grpSpPr>
        <p:pic>
          <p:nvPicPr>
            <p:cNvPr id="538" name="Picture 5" descr="emaillink"/>
            <p:cNvPicPr/>
            <p:nvPr/>
          </p:nvPicPr>
          <p:blipFill>
            <a:blip r:embed="rId1"/>
            <a:stretch/>
          </p:blipFill>
          <p:spPr>
            <a:xfrm>
              <a:off x="1752480" y="2192400"/>
              <a:ext cx="5640480" cy="4665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9" name="Rectangle 9"/>
            <p:cNvSpPr/>
            <p:nvPr/>
          </p:nvSpPr>
          <p:spPr>
            <a:xfrm>
              <a:off x="5638680" y="6172200"/>
              <a:ext cx="10670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Mail Links: Type Text &amp; Highlight, Type in Link URL &amp; Press Return Ke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1" name="Oval 7"/>
          <p:cNvSpPr/>
          <p:nvPr/>
        </p:nvSpPr>
        <p:spPr>
          <a:xfrm>
            <a:off x="5181480" y="5943600"/>
            <a:ext cx="243864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8"/>
          <p:cNvSpPr/>
          <p:nvPr/>
        </p:nvSpPr>
        <p:spPr>
          <a:xfrm>
            <a:off x="1676520" y="4343400"/>
            <a:ext cx="289548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1905120" y="53341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to:hollandj@emporia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5562720" y="60958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to:hollandj@emporia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6" name="عنصر نائب للمحتوى 3" descr="schema.gif"/>
          <p:cNvPicPr/>
          <p:nvPr/>
        </p:nvPicPr>
        <p:blipFill>
          <a:blip r:embed="rId1"/>
          <a:stretch/>
        </p:blipFill>
        <p:spPr>
          <a:xfrm>
            <a:off x="1246320" y="836640"/>
            <a:ext cx="7267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Inserting Graphics and Text</a:t>
            </a:r>
            <a:br>
              <a:rPr sz="3200"/>
            </a:b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in Tab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6" name="مربع نص 7"/>
          <p:cNvSpPr/>
          <p:nvPr/>
        </p:nvSpPr>
        <p:spPr>
          <a:xfrm>
            <a:off x="611280" y="1700280"/>
            <a:ext cx="770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Gill Sans MT"/>
              </a:rPr>
              <a:t>Control placement of elements in relation to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Gill Sans MT"/>
              </a:rPr>
              <a:t>Specify amount of space between each page e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Gill Sans MT"/>
              </a:rPr>
              <a:t>Always plan how your table will look with all the text and graphics in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Gill Sans MT"/>
                <a:ea typeface="MS PGothic"/>
              </a:rPr>
              <a:t>Even a rough sketch will save you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lick in the Left Cell, Select Insert&gt;Image or Imag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graphicselect"/>
          <p:cNvPicPr/>
          <p:nvPr/>
        </p:nvPicPr>
        <p:blipFill>
          <a:blip r:embed="rId1"/>
          <a:stretch/>
        </p:blipFill>
        <p:spPr>
          <a:xfrm>
            <a:off x="195120" y="1506600"/>
            <a:ext cx="6053400" cy="535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1" name="Oval 6"/>
          <p:cNvSpPr/>
          <p:nvPr/>
        </p:nvSpPr>
        <p:spPr>
          <a:xfrm>
            <a:off x="2252520" y="1600200"/>
            <a:ext cx="4572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6705720" y="2057400"/>
            <a:ext cx="2057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e Graphic Ima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g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jp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in the Right Cell &amp; Add Your Tex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4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graphicwithtext"/>
          <p:cNvPicPr/>
          <p:nvPr/>
        </p:nvPicPr>
        <p:blipFill>
          <a:blip r:embed="rId1"/>
          <a:stretch/>
        </p:blipFill>
        <p:spPr>
          <a:xfrm>
            <a:off x="304920" y="1600200"/>
            <a:ext cx="6311880" cy="494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7" name="Text Box 6"/>
          <p:cNvSpPr/>
          <p:nvPr/>
        </p:nvSpPr>
        <p:spPr>
          <a:xfrm>
            <a:off x="7010280" y="1601640"/>
            <a:ext cx="17528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just Column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Font to A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Anchors Are Used to Jump Down on a Long Page of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9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" descr="anchors"/>
          <p:cNvPicPr/>
          <p:nvPr/>
        </p:nvPicPr>
        <p:blipFill>
          <a:blip r:embed="rId1"/>
          <a:stretch/>
        </p:blipFill>
        <p:spPr>
          <a:xfrm>
            <a:off x="1219320" y="1447920"/>
            <a:ext cx="6248160" cy="517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2" name="Oval 7"/>
          <p:cNvSpPr/>
          <p:nvPr/>
        </p:nvSpPr>
        <p:spPr>
          <a:xfrm>
            <a:off x="1295280" y="3429000"/>
            <a:ext cx="62485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Highlight Word, In the Link Box Type in #nam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4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anchors"/>
          <p:cNvPicPr/>
          <p:nvPr/>
        </p:nvPicPr>
        <p:blipFill>
          <a:blip r:embed="rId1"/>
          <a:stretch/>
        </p:blipFill>
        <p:spPr>
          <a:xfrm>
            <a:off x="380880" y="1447920"/>
            <a:ext cx="6248520" cy="517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7" name="Oval 6"/>
          <p:cNvSpPr/>
          <p:nvPr/>
        </p:nvSpPr>
        <p:spPr>
          <a:xfrm>
            <a:off x="609480" y="3429000"/>
            <a:ext cx="9144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7"/>
          <p:cNvSpPr/>
          <p:nvPr/>
        </p:nvSpPr>
        <p:spPr>
          <a:xfrm>
            <a:off x="4343400" y="5562720"/>
            <a:ext cx="1600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685800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#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Highlight Text to Link To, Insert&gt;Named Ancho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1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anchorinsert"/>
          <p:cNvPicPr/>
          <p:nvPr/>
        </p:nvPicPr>
        <p:blipFill>
          <a:blip r:embed="rId1"/>
          <a:stretch/>
        </p:blipFill>
        <p:spPr>
          <a:xfrm>
            <a:off x="1079640" y="1523880"/>
            <a:ext cx="6984720" cy="48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4" name="Oval 6"/>
          <p:cNvSpPr/>
          <p:nvPr/>
        </p:nvSpPr>
        <p:spPr>
          <a:xfrm>
            <a:off x="1143000" y="4191120"/>
            <a:ext cx="9144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7"/>
          <p:cNvSpPr/>
          <p:nvPr/>
        </p:nvSpPr>
        <p:spPr>
          <a:xfrm>
            <a:off x="3657600" y="137160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8"/>
          <p:cNvSpPr/>
          <p:nvPr/>
        </p:nvSpPr>
        <p:spPr>
          <a:xfrm>
            <a:off x="3657600" y="3657600"/>
            <a:ext cx="198108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ype in Exact Name Match, Example: august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8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anchorinsertname"/>
          <p:cNvPicPr/>
          <p:nvPr/>
        </p:nvPicPr>
        <p:blipFill>
          <a:blip r:embed="rId1"/>
          <a:stretch/>
        </p:blipFill>
        <p:spPr>
          <a:xfrm>
            <a:off x="903240" y="1523880"/>
            <a:ext cx="7021440" cy="48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1" name="Oval 6"/>
          <p:cNvSpPr/>
          <p:nvPr/>
        </p:nvSpPr>
        <p:spPr>
          <a:xfrm>
            <a:off x="3505320" y="4648320"/>
            <a:ext cx="25146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مستطيل مستدير الزوايا 6"/>
          <p:cNvSpPr/>
          <p:nvPr/>
        </p:nvSpPr>
        <p:spPr>
          <a:xfrm>
            <a:off x="2195640" y="2924280"/>
            <a:ext cx="5400720" cy="50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otice the Yellow Anchor,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is Will Not Show When Post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4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anchorinsertname2"/>
          <p:cNvPicPr/>
          <p:nvPr/>
        </p:nvPicPr>
        <p:blipFill>
          <a:blip r:embed="rId1"/>
          <a:stretch/>
        </p:blipFill>
        <p:spPr>
          <a:xfrm>
            <a:off x="1523880" y="1521000"/>
            <a:ext cx="6183360" cy="510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7" name="Oval 6"/>
          <p:cNvSpPr/>
          <p:nvPr/>
        </p:nvSpPr>
        <p:spPr>
          <a:xfrm>
            <a:off x="1447920" y="3886200"/>
            <a:ext cx="11430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le&gt;Save As, Provide Name &amp; Lo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152280" y="1579680"/>
            <a:ext cx="6400440" cy="4581000"/>
            <a:chOff x="152280" y="1579680"/>
            <a:chExt cx="6400440" cy="4581000"/>
          </a:xfrm>
        </p:grpSpPr>
        <p:pic>
          <p:nvPicPr>
            <p:cNvPr id="592" name="Picture 5" descr="saveas"/>
            <p:cNvPicPr/>
            <p:nvPr/>
          </p:nvPicPr>
          <p:blipFill>
            <a:blip r:embed="rId1"/>
            <a:stretch/>
          </p:blipFill>
          <p:spPr>
            <a:xfrm>
              <a:off x="152280" y="1579680"/>
              <a:ext cx="6400440" cy="4581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93" name="Rectangle 6"/>
            <p:cNvSpPr/>
            <p:nvPr/>
          </p:nvSpPr>
          <p:spPr>
            <a:xfrm>
              <a:off x="352440" y="4031280"/>
              <a:ext cx="1231200" cy="19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Oval 8"/>
          <p:cNvSpPr/>
          <p:nvPr/>
        </p:nvSpPr>
        <p:spPr>
          <a:xfrm>
            <a:off x="1523880" y="144792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1523880" y="3124080"/>
            <a:ext cx="236232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6629400" y="2133720"/>
            <a:ext cx="2362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n Duplicate Pag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the index.html page is set up as desired with the logo, header, and navigation buttons it can serve as a template for creating new pag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be sure to save each new page with new nam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007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 folder on your computer called website1 to hold all web pages and graphic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example of what your link will look like when you set it up later: map.jpg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tional: inside of the website1 folder create a folder called images to hold your graphic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304920" y="59436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 folders, webpages, and graphic names must be lowercase, no spaces, and no special characters for ease of linking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مربع نص 6"/>
          <p:cNvSpPr/>
          <p:nvPr/>
        </p:nvSpPr>
        <p:spPr>
          <a:xfrm>
            <a:off x="611280" y="333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bcc3e"/>
                </a:solidFill>
                <a:latin typeface="Arial"/>
              </a:rPr>
              <a:t>Getting Sta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le&gt;Preview in Browser&gt;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lect the desired brows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0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6" descr="previewinternetexp"/>
          <p:cNvPicPr/>
          <p:nvPr/>
        </p:nvPicPr>
        <p:blipFill>
          <a:blip r:embed="rId1"/>
          <a:stretch/>
        </p:blipFill>
        <p:spPr>
          <a:xfrm>
            <a:off x="1060560" y="1411200"/>
            <a:ext cx="7321320" cy="51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3" name="Oval 7"/>
          <p:cNvSpPr/>
          <p:nvPr/>
        </p:nvSpPr>
        <p:spPr>
          <a:xfrm>
            <a:off x="2438280" y="5029200"/>
            <a:ext cx="22860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8"/>
          <p:cNvSpPr/>
          <p:nvPr/>
        </p:nvSpPr>
        <p:spPr>
          <a:xfrm>
            <a:off x="2438280" y="129528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9"/>
          <p:cNvSpPr/>
          <p:nvPr/>
        </p:nvSpPr>
        <p:spPr>
          <a:xfrm>
            <a:off x="4572000" y="5181480"/>
            <a:ext cx="198108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tice How the Browser Opens in Front To Preview What it Will Look Like When Uploaded to the Serve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preview"/>
          <p:cNvPicPr/>
          <p:nvPr/>
        </p:nvPicPr>
        <p:blipFill>
          <a:blip r:embed="rId1"/>
          <a:stretch/>
        </p:blipFill>
        <p:spPr>
          <a:xfrm>
            <a:off x="990720" y="2082960"/>
            <a:ext cx="7311960" cy="447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0" name="Oval 6"/>
          <p:cNvSpPr/>
          <p:nvPr/>
        </p:nvSpPr>
        <p:spPr>
          <a:xfrm>
            <a:off x="2057400" y="3048120"/>
            <a:ext cx="8380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3352680" y="551484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Finished Viewing Browser Red Button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ptional: File&gt;Preview in Browser&gt;Edit Browser Lis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3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5" descr="previewinternetexp"/>
          <p:cNvPicPr/>
          <p:nvPr/>
        </p:nvPicPr>
        <p:blipFill>
          <a:blip r:embed="rId1"/>
          <a:stretch/>
        </p:blipFill>
        <p:spPr>
          <a:xfrm>
            <a:off x="1060560" y="1411200"/>
            <a:ext cx="7321320" cy="51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6" name="Oval 6"/>
          <p:cNvSpPr/>
          <p:nvPr/>
        </p:nvSpPr>
        <p:spPr>
          <a:xfrm>
            <a:off x="2362320" y="5029200"/>
            <a:ext cx="22860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"/>
          <p:cNvSpPr/>
          <p:nvPr/>
        </p:nvSpPr>
        <p:spPr>
          <a:xfrm>
            <a:off x="4267080" y="5486400"/>
            <a:ext cx="22860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7"/>
          <p:cNvSpPr/>
          <p:nvPr/>
        </p:nvSpPr>
        <p:spPr>
          <a:xfrm>
            <a:off x="2438280" y="129528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 Selecting Primary &amp; Secondary Browser Choice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0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selectbrowser"/>
          <p:cNvPicPr/>
          <p:nvPr/>
        </p:nvPicPr>
        <p:blipFill>
          <a:blip r:embed="rId1"/>
          <a:stretch/>
        </p:blipFill>
        <p:spPr>
          <a:xfrm>
            <a:off x="990720" y="1371600"/>
            <a:ext cx="7108560" cy="511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ewing Options: HTML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4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5" descr="code"/>
          <p:cNvPicPr/>
          <p:nvPr/>
        </p:nvPicPr>
        <p:blipFill>
          <a:blip r:embed="rId1"/>
          <a:stretch/>
        </p:blipFill>
        <p:spPr>
          <a:xfrm>
            <a:off x="1639800" y="1424160"/>
            <a:ext cx="5675400" cy="52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7" name="Oval 6"/>
          <p:cNvSpPr/>
          <p:nvPr/>
        </p:nvSpPr>
        <p:spPr>
          <a:xfrm>
            <a:off x="1639800" y="2133720"/>
            <a:ext cx="838440" cy="5331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ewing Options: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plit Code &amp; Desig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9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6" descr="splitcodedesign"/>
          <p:cNvPicPr/>
          <p:nvPr/>
        </p:nvPicPr>
        <p:blipFill>
          <a:blip r:embed="rId1"/>
          <a:stretch/>
        </p:blipFill>
        <p:spPr>
          <a:xfrm>
            <a:off x="241200" y="1428840"/>
            <a:ext cx="6311880" cy="48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2" name="Oval 7"/>
          <p:cNvSpPr/>
          <p:nvPr/>
        </p:nvSpPr>
        <p:spPr>
          <a:xfrm>
            <a:off x="762120" y="2057400"/>
            <a:ext cx="8380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8"/>
          <p:cNvSpPr/>
          <p:nvPr/>
        </p:nvSpPr>
        <p:spPr>
          <a:xfrm>
            <a:off x="0" y="4800600"/>
            <a:ext cx="31240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0"/>
          <p:cNvSpPr/>
          <p:nvPr/>
        </p:nvSpPr>
        <p:spPr>
          <a:xfrm>
            <a:off x="1371600" y="2743200"/>
            <a:ext cx="44956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705720" y="2057400"/>
            <a:ext cx="2133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Highlight Areas in Design Mode &amp; See It in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ewing Options: Design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 Creating &amp; Editing Web Pag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6" descr="designmode"/>
          <p:cNvPicPr/>
          <p:nvPr/>
        </p:nvPicPr>
        <p:blipFill>
          <a:blip r:embed="rId1"/>
          <a:stretch/>
        </p:blipFill>
        <p:spPr>
          <a:xfrm>
            <a:off x="457200" y="1905120"/>
            <a:ext cx="8001000" cy="442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0" name="Oval 7"/>
          <p:cNvSpPr/>
          <p:nvPr/>
        </p:nvSpPr>
        <p:spPr>
          <a:xfrm>
            <a:off x="1523880" y="2590920"/>
            <a:ext cx="914400" cy="5331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le&gt;Save As, Provide Name &amp; Lo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2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5"/>
          <p:cNvGrpSpPr/>
          <p:nvPr/>
        </p:nvGrpSpPr>
        <p:grpSpPr>
          <a:xfrm>
            <a:off x="152280" y="1579680"/>
            <a:ext cx="6400440" cy="4581000"/>
            <a:chOff x="152280" y="1579680"/>
            <a:chExt cx="6400440" cy="4581000"/>
          </a:xfrm>
        </p:grpSpPr>
        <p:pic>
          <p:nvPicPr>
            <p:cNvPr id="645" name="Picture 6" descr="saveas"/>
            <p:cNvPicPr/>
            <p:nvPr/>
          </p:nvPicPr>
          <p:blipFill>
            <a:blip r:embed="rId1"/>
            <a:stretch/>
          </p:blipFill>
          <p:spPr>
            <a:xfrm>
              <a:off x="152280" y="1579680"/>
              <a:ext cx="6400440" cy="4581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46" name="Rectangle 7"/>
            <p:cNvSpPr/>
            <p:nvPr/>
          </p:nvSpPr>
          <p:spPr>
            <a:xfrm>
              <a:off x="352440" y="4031280"/>
              <a:ext cx="1231200" cy="19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Oval 8"/>
          <p:cNvSpPr/>
          <p:nvPr/>
        </p:nvSpPr>
        <p:spPr>
          <a:xfrm>
            <a:off x="1523880" y="144792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9"/>
          <p:cNvSpPr/>
          <p:nvPr/>
        </p:nvSpPr>
        <p:spPr>
          <a:xfrm>
            <a:off x="1523880" y="3124080"/>
            <a:ext cx="236232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0"/>
          <p:cNvSpPr/>
          <p:nvPr/>
        </p:nvSpPr>
        <p:spPr>
          <a:xfrm>
            <a:off x="6629400" y="2133720"/>
            <a:ext cx="2362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10" descr="saving"/>
          <p:cNvPicPr/>
          <p:nvPr/>
        </p:nvPicPr>
        <p:blipFill>
          <a:blip r:embed="rId1"/>
          <a:stretch/>
        </p:blipFill>
        <p:spPr>
          <a:xfrm>
            <a:off x="152280" y="1600200"/>
            <a:ext cx="6621480" cy="503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ew Folder: website1 (save webpage files inside of the folder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2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6"/>
          <p:cNvSpPr/>
          <p:nvPr/>
        </p:nvSpPr>
        <p:spPr>
          <a:xfrm>
            <a:off x="1820880" y="2584440"/>
            <a:ext cx="13716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7"/>
          <p:cNvSpPr/>
          <p:nvPr/>
        </p:nvSpPr>
        <p:spPr>
          <a:xfrm>
            <a:off x="1058760" y="1974960"/>
            <a:ext cx="3048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8"/>
          <p:cNvSpPr/>
          <p:nvPr/>
        </p:nvSpPr>
        <p:spPr>
          <a:xfrm>
            <a:off x="220680" y="6172200"/>
            <a:ext cx="13716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9"/>
          <p:cNvSpPr/>
          <p:nvPr/>
        </p:nvSpPr>
        <p:spPr>
          <a:xfrm>
            <a:off x="1820880" y="4876920"/>
            <a:ext cx="13716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1"/>
          <p:cNvSpPr/>
          <p:nvPr/>
        </p:nvSpPr>
        <p:spPr>
          <a:xfrm>
            <a:off x="6934320" y="1600200"/>
            <a:ext cx="18288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inder: Lowercase, No Spaces, No Special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of Files in Your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ebsite1 fold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0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8"/>
          <p:cNvSpPr/>
          <p:nvPr/>
        </p:nvSpPr>
        <p:spPr>
          <a:xfrm>
            <a:off x="3505320" y="3352680"/>
            <a:ext cx="609480" cy="1219320"/>
          </a:xfrm>
          <a:custGeom>
            <a:avLst/>
            <a:gdLst>
              <a:gd name="textAreaLeft" fmla="*/ 350640 w 609480"/>
              <a:gd name="textAreaRight" fmla="*/ 514440 w 609480"/>
              <a:gd name="textAreaTop" fmla="*/ 164160 h 1219320"/>
              <a:gd name="textAreaBottom" fmla="*/ 5220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9" descr="webfolder"/>
          <p:cNvPicPr/>
          <p:nvPr/>
        </p:nvPicPr>
        <p:blipFill>
          <a:blip r:embed="rId1"/>
          <a:stretch/>
        </p:blipFill>
        <p:spPr>
          <a:xfrm>
            <a:off x="304920" y="1469880"/>
            <a:ext cx="4784760" cy="538812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7"/>
          <p:cNvSpPr/>
          <p:nvPr/>
        </p:nvSpPr>
        <p:spPr>
          <a:xfrm>
            <a:off x="5334120" y="13716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st Have a Main Page Named index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5257800" y="380988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age names may be different from this example &amp; will be an exact name match to  your navigation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8" descr="dream1"/>
          <p:cNvPicPr/>
          <p:nvPr/>
        </p:nvPicPr>
        <p:blipFill>
          <a:blip r:embed="rId1"/>
          <a:stretch/>
        </p:blipFill>
        <p:spPr>
          <a:xfrm>
            <a:off x="1751040" y="1563840"/>
            <a:ext cx="5792760" cy="50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Launch Dreamweaver</a:t>
            </a:r>
            <a:br>
              <a:rPr sz="3200"/>
            </a:b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elect HT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3505320" y="2895480"/>
            <a:ext cx="121896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New Page Appea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4" name="Picture 10" descr="dream2"/>
          <p:cNvPicPr/>
          <p:nvPr/>
        </p:nvPicPr>
        <p:blipFill>
          <a:blip r:embed="rId1"/>
          <a:stretch/>
        </p:blipFill>
        <p:spPr>
          <a:xfrm>
            <a:off x="1295280" y="1415880"/>
            <a:ext cx="6553440" cy="482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Or Select File&gt;Ne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6" name="Picture 5" descr="dream3"/>
          <p:cNvPicPr/>
          <p:nvPr/>
        </p:nvPicPr>
        <p:blipFill>
          <a:blip r:embed="rId1"/>
          <a:stretch/>
        </p:blipFill>
        <p:spPr>
          <a:xfrm>
            <a:off x="1066680" y="1295280"/>
            <a:ext cx="7021800" cy="47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7" name="Oval 6"/>
          <p:cNvSpPr/>
          <p:nvPr/>
        </p:nvSpPr>
        <p:spPr>
          <a:xfrm>
            <a:off x="2286000" y="1143000"/>
            <a:ext cx="213372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dream3"/>
          <p:cNvPicPr/>
          <p:nvPr/>
        </p:nvPicPr>
        <p:blipFill>
          <a:blip r:embed="rId1"/>
          <a:stretch/>
        </p:blipFill>
        <p:spPr>
          <a:xfrm>
            <a:off x="1523880" y="1219320"/>
            <a:ext cx="6410520" cy="51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lect HTML, Crea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Oval 6"/>
          <p:cNvSpPr/>
          <p:nvPr/>
        </p:nvSpPr>
        <p:spPr>
          <a:xfrm>
            <a:off x="3362400" y="1901880"/>
            <a:ext cx="121896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7"/>
          <p:cNvSpPr/>
          <p:nvPr/>
        </p:nvSpPr>
        <p:spPr>
          <a:xfrm>
            <a:off x="6791400" y="6019920"/>
            <a:ext cx="121896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01:54:30Z</dcterms:created>
  <dc:creator>Janet Holland</dc:creator>
  <dc:description/>
  <dc:language>en-US</dc:language>
  <cp:lastModifiedBy>DELL</cp:lastModifiedBy>
  <cp:lastPrinted>2005-06-09T14:21:05Z</cp:lastPrinted>
  <dcterms:modified xsi:type="dcterms:W3CDTF">2012-03-29T22:56:58Z</dcterms:modified>
  <cp:revision>164</cp:revision>
  <dc:subject/>
  <dc:title>Macromedia Dreamweaver MX2004</dc:title>
</cp:coreProperties>
</file>