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9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24.jpeg" ContentType="image/jpeg"/>
  <Override PartName="/ppt/media/image14.png" ContentType="image/png"/>
  <Override PartName="/ppt/media/image1.png" ContentType="image/pn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30.jpeg" ContentType="image/jpeg"/>
  <Override PartName="/ppt/media/image31.jpeg" ContentType="image/jpeg"/>
  <Override PartName="/ppt/media/image33.jpeg" ContentType="image/jpeg"/>
  <Override PartName="/ppt/media/image27.jpeg" ContentType="image/jpeg"/>
  <Override PartName="/ppt/media/image37.jpeg" ContentType="image/jpeg"/>
  <Override PartName="/ppt/media/image13.png" ContentType="image/png"/>
  <Override PartName="/ppt/media/image32.jpeg" ContentType="image/jpeg"/>
  <Override PartName="/ppt/media/image38.jpeg" ContentType="image/jpeg"/>
  <Override PartName="/ppt/media/image40.jpeg" ContentType="image/jpeg"/>
  <Override PartName="/ppt/media/image44.jpeg" ContentType="image/jpeg"/>
  <Override PartName="/ppt/media/image36.jpeg" ContentType="image/jpeg"/>
  <Override PartName="/ppt/media/image41.jpeg" ContentType="image/jpeg"/>
  <Override PartName="/ppt/media/image45.jpeg" ContentType="image/jpeg"/>
  <Override PartName="/ppt/media/image42.jpeg" ContentType="image/jpeg"/>
  <Override PartName="/ppt/media/image46.jpeg" ContentType="image/jpeg"/>
  <Override PartName="/ppt/media/image39.jpeg" ContentType="image/jpeg"/>
  <Override PartName="/ppt/media/image8.png" ContentType="image/pn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35.jpeg" ContentType="image/jpeg"/>
  <Override PartName="/ppt/media/image29.jpeg" ContentType="image/jpeg"/>
  <Override PartName="/ppt/media/image5.png" ContentType="image/png"/>
  <Override PartName="/ppt/media/image4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  <p:sldId id="304" r:id="rId59"/>
    <p:sldId id="305" r:id="rId60"/>
    <p:sldId id="306" r:id="rId61"/>
    <p:sldId id="307" r:id="rId62"/>
    <p:sldId id="308" r:id="rId63"/>
    <p:sldId id="309" r:id="rId64"/>
    <p:sldId id="310" r:id="rId65"/>
    <p:sldId id="311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slide" Target="slides/slide49.xml"/><Relationship Id="rId60" Type="http://schemas.openxmlformats.org/officeDocument/2006/relationships/slide" Target="slides/slide50.xml"/><Relationship Id="rId61" Type="http://schemas.openxmlformats.org/officeDocument/2006/relationships/slide" Target="slides/slide51.xml"/><Relationship Id="rId62" Type="http://schemas.openxmlformats.org/officeDocument/2006/relationships/slide" Target="slides/slide52.xml"/><Relationship Id="rId63" Type="http://schemas.openxmlformats.org/officeDocument/2006/relationships/slide" Target="slides/slide53.xml"/><Relationship Id="rId64" Type="http://schemas.openxmlformats.org/officeDocument/2006/relationships/slide" Target="slides/slide54.xml"/><Relationship Id="rId65" Type="http://schemas.openxmlformats.org/officeDocument/2006/relationships/slide" Target="slides/slide55.xml"/><Relationship Id="rId66" Type="http://schemas.openxmlformats.org/officeDocument/2006/relationships/slide" Target="slides/slide56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C67EE-F573-4693-B2A7-042806CEC8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F2EB5-E92D-4588-AE92-29D1AC8E9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60CA3-26E4-4E6A-A386-D0F3430F1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650E8-A6CB-49C7-A8E4-4EC8E8D7A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C4289-630E-4D0D-9910-D009F1B70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82D7C-5CCE-4BC3-A4A1-0BAB4C8E4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34433-7B5D-4FBE-8770-08DB50647C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F7613-2042-4EA1-99E8-AA8D9A599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AFADA-044B-43BD-A7B0-9C3E6D8C2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5617E-6537-4FFC-A093-D2113FE3C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37686-A046-4DE6-8C52-1B152C0C20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FF5C4-D1C7-460F-84C6-E06F584F8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C576C-AAFA-48FD-9B10-A32447A73C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FD423-8B17-4FA1-8561-EC56EE0F3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A03FE-CD15-4706-8305-D2C0FB513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A5952-83F7-491A-AD97-E6893FA928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16FA5-7D8F-48FB-BA53-AE193062A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2179A-BEE7-4B5E-AF83-168A6E76FA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AADC4-0F41-4ACA-9BE0-348195AA3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0788C-4C54-41B1-907B-95757970D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7485A-DF00-4DD1-A9B3-D7D1FF215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0F345-1EC0-465F-B8D7-F05737BBF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7B4A5-1CDD-4F68-A7C0-3C09F8079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1F340-C429-48CB-89F5-641E561033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6A2E1-BD10-4F1A-BA1C-5C092A3C0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AC405-06B0-4384-9DC2-71356A601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787F0-EFFC-4403-AC40-BB6CD44B99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C7A85-8EEB-4EFD-B3B4-78185BE1A8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C6260-4F38-4ABA-9154-0F9E88C6A9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8FCCD-A366-43CE-A683-F4A0C8359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FFE40-4304-4957-A241-DF5CAC210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06DAF-2C30-47FD-AB20-CBD16A8872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EABD6-955C-4241-A05A-9AB6EB5C43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08CFB-95CE-45AE-81D7-0EB111758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26654-42AB-4181-AF7E-6C62C7B422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FAC95-4ABB-4199-8F0C-AA0145B90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89D53-C535-4B69-90DE-143D4C868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4793A-7CCD-42D0-9A05-C83FC652EC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A76F5-829E-4F51-AA32-3675647E0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AA4D6-091C-4F3A-85BA-67A5722BAA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7A16F-BB93-4623-83FE-E81285FC3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8639B-E011-47D6-A26F-5958D6CF7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C265B-C8E3-4FB1-A286-9A2CFA088E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C8BDC-6603-4749-B639-A87ABAD65D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DBA72-5FD9-43DC-BE65-7E4F2C21C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5A1D1-78CB-49E8-8C53-5BA8B2701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2C0AF-BD8E-4666-B123-1D7E9779B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D8690-3D6A-4B37-88A5-1725907C9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08D1D-156E-46A5-8E36-D09F7BC32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E284F-9A96-46BC-BA57-33FEB20F9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A427D-B308-417B-8521-6B7D2210AC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F78CB-7C17-443B-B1E9-79A30E9F8F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A72F3-A52F-4F84-916E-1DBCE4647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3E9B-C799-4E57-BAD3-63B08F601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DF31-E590-49E1-8C57-70BAF0978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E930-6B62-4B04-ABFA-B0811357C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30A9-B0EA-44E2-9CDC-574111B60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BC049-6CA9-4129-B48D-3FEBDB3F7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61238-DFEE-4104-A152-D6E068D4B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B401E-59A5-42CD-8130-B3E7161F0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C4F33-1F60-4A26-883A-A7E9440B5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4A8CA-7000-48CB-B769-2B6ED0EB5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41503-E587-43E6-AFEA-873CC7129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7FA73-37A7-4853-A550-4D52D490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E053-CC76-4825-AF3F-DC99F5239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5C51F-41FB-4736-870A-1DA8E32E6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A1DBA-F54E-4060-84A0-A31223AA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9006C-F741-42FF-80E6-C89EFD562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60E15-686E-49EA-8D31-AA020E50D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20DF9-6636-40FD-AD84-BF89DD032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AFB1C-6FB3-465F-9671-800C4D5B5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E7858-3ABF-4737-B15B-69497BF6B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29A10-39E5-4856-BBA2-ED658C7D6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14B71-CA7D-466B-96FE-E857DD152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17FA1-8F62-4917-A99C-39F22AA24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4346-536E-4409-B4FB-773F4E3B5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521C7-7AF8-4D91-8AFB-4208ADBD1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AE33A-2D13-4E80-851B-0D016162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3389B-7144-4EC3-B637-CC47C6DC6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55CE0-0414-4CA8-8EE4-B161D600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E3FAB-E335-4863-AEF5-3F1B70114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68E99-404D-487B-B63A-E07B1556B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D99F2-32E4-4E8E-8EF4-7F84C9CFF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C854E-4316-476E-9673-341EC2F6B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781CD-7484-45E4-B5F4-5D9E471B2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E31B7-847E-4372-A646-6DED50835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9A42-E972-49BB-AFBB-F3FC542A6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85158-383E-48F8-9060-528638753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31776-8F9A-46C5-AD47-4EE694942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41842-8BF4-4420-BD5A-7F9B46BEA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222A8-514C-44F9-B7A7-4BA10120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CDFB8-D7E0-453C-9BAE-7D1FE775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C7E1C-F867-4B05-9E06-90717FF2D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4E778-161B-4592-BF31-D8EF9C4E1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06C4C-897E-43BB-93F8-9FA83432F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A9399-1EDE-4E25-8880-5A4EA3E9C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A2984-E5AE-4BE1-99BF-1C673B3DA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73E4-A9BC-403C-863D-C06AA4FEA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635C93-9565-48E2-A2F9-97D843190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1E4DF9-29D9-428C-AA73-6E79FDB09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828656-381C-44F7-AE72-5FE3FCA0E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81FF3B-3280-4C91-9430-16B07A3D1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4F75DA-7328-428F-8585-C57DF168F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28E28-AC56-4BB6-9699-0789B413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99F9F-5DE1-49F0-BBCC-16755BB2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FC933C-85EA-48AF-B0E3-66D0FEA3D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5C926C-8D29-4328-94B1-47B5BDEBB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69F60E-D3ED-4BAF-9D20-551FE0895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6CE8-8A2C-4797-890C-40FAF15A6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0CBA17-B308-4822-8ECF-8C9BBEACF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65699B-2771-44F9-B52D-04A44C2E2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C1F2AD-B6AD-4FA4-B95F-B1BA864D1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2C1D27-335F-4633-9035-68BA0B201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DFC807-5FD4-497E-B5CD-14A2CEE5A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272692-BDE5-4321-B53F-065894BE8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D4C8F5-A592-4F39-B2F1-0D0F7AD5C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63E0A5-C4C8-401B-A790-2039B663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540E34-94EF-466D-8709-0BE0362C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EF7A31-5563-4AFD-A871-F0CA3AA0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48AB-2C5C-4B8A-8BCF-C4E08D32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779859-198C-48CE-AA44-BAE7BB0FB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258BDA-6E05-4E00-A750-9ED3685F8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5F7AB-3DE7-46A9-90D0-2C0E36F1A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B7ABDC-7AD6-435E-9D4C-49640399A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150CE2-0343-45A5-BB39-52EFF02C2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BFE43A-C424-49CE-B935-A606B5DBE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2309A0-8844-42BD-8EFD-37139366E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A48D4D-16A7-4AB6-8138-054E4A67E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5700C4-2B49-4AC1-81AF-341D4D683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CEA33E-BA5D-471D-927C-A06F66FD6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A1B0-570C-4B28-B6FE-F9CFF3B7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2032C5-E5A9-4D1E-B16C-EFF40DAC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23458F-E97C-4467-B439-075A99FA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FC2FFF-35D2-46B5-82AC-E1AE4B72D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905832-E2BB-4C2A-957A-BBEA58A45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C91E07-E31E-4B56-ADA0-961937193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777AFD-D7BC-45E8-9146-026F444C8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B4CCF3-0D87-45C2-9CCD-1F26D6CDE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25BBF0-8622-4E81-87C8-41A1F9C94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32E51F-1AE4-4987-B28D-9BC08ECAF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084FD2-D4F3-40D7-A4BE-8C0A7C68A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834A-5B93-486A-B586-B48FEFDF4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A43BAD-D311-4A73-AA6B-44FFB9DA3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F4BA6E-19DD-4E0C-B78A-1732DF8CB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D5F73C-425E-408C-8778-C7A0A0C8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57EC85-CFA3-4DD0-8832-419000376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F64EB5-FAB6-4F17-8CD8-482478E39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46330C-3EC6-4622-B1E5-5953DFBBA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9F7902-9B02-4909-A469-9491F727B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92d05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5959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4d4d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59595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28338-6AC3-43C6-907C-BD757D1AFA39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رابط مستقيم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5959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رابط مستقيم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5959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مثلث متساوي الساقين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مستطيل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مستطيل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مستطيل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مستطيل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92d05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5959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4d4d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59595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D7245-18AC-4701-BAC8-80046AEB5CEC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مستطيل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مستطيل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92d05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5959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4d4d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59595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B2848-9FBF-45C0-A7B6-B9FB916244E7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رابط مستقيم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5959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رابط مستقيم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5959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مثلث متساوي الساقين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مثلث متساوي الساقين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92d05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5959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4d4d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59595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DEDB7-A535-43D1-83B1-FA98C9882148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رابط مستقيم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5959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مثلث متساوي الساقين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92d05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5959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4d4d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59595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BAD38-9E83-402E-8A99-FF43DD909720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رابط مستقيم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5959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رابط مستقيم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5959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مثلث متساوي الساقين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92d05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5959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4d4d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59595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AA0F3-0A7E-4FEA-B194-2C1DF7B30B54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رابط مستقيم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5959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مثلث متساوي الساقين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مستطيل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92d05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5959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4d4d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59595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B7884-9B40-425A-BAF1-EC43AA1E6ECE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رابط مستقيم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5959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مثلث متساوي الساقين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رابط مستقيم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5959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92d05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5959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4d4d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59595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138EF-FFE0-416F-BFEE-657F2A686D45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6" descr="http://4.bp.blogspot.com/-qXRHCShuC9s/T2MWJLgCUmI/AAAAAAAAA30/fHyneuJDo_Q/s1600/macromedia%2Bdreamweaver.png"/>
          <p:cNvPicPr/>
          <p:nvPr/>
        </p:nvPicPr>
        <p:blipFill>
          <a:blip r:embed="rId1"/>
          <a:stretch/>
        </p:blipFill>
        <p:spPr>
          <a:xfrm>
            <a:off x="684360" y="700200"/>
            <a:ext cx="7848360" cy="5918040"/>
          </a:xfrm>
          <a:prstGeom prst="rect">
            <a:avLst/>
          </a:prstGeom>
          <a:ln w="0">
            <a:noFill/>
          </a:ln>
        </p:spPr>
      </p:pic>
      <p:sp>
        <p:nvSpPr>
          <p:cNvPr id="360" name="مربع نص 5"/>
          <p:cNvSpPr/>
          <p:nvPr/>
        </p:nvSpPr>
        <p:spPr>
          <a:xfrm>
            <a:off x="1908000" y="1700280"/>
            <a:ext cx="5112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 20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eb Desig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1216080" y="635472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43EAA-531D-4798-9B2B-478AD1ADE0AB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800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Window&gt;Insert, Properties, Files Have a Check Mark When Activ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392" name="Group 7"/>
          <p:cNvGrpSpPr/>
          <p:nvPr/>
        </p:nvGrpSpPr>
        <p:grpSpPr>
          <a:xfrm>
            <a:off x="1116000" y="1341360"/>
            <a:ext cx="7056360" cy="4896000"/>
            <a:chOff x="1116000" y="1341360"/>
            <a:chExt cx="7056360" cy="4896000"/>
          </a:xfrm>
        </p:grpSpPr>
        <p:pic>
          <p:nvPicPr>
            <p:cNvPr id="393" name="Picture 5" descr="dream5"/>
            <p:cNvPicPr/>
            <p:nvPr/>
          </p:nvPicPr>
          <p:blipFill>
            <a:blip r:embed="rId1"/>
            <a:stretch/>
          </p:blipFill>
          <p:spPr>
            <a:xfrm>
              <a:off x="1116000" y="1414080"/>
              <a:ext cx="7056360" cy="48232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394" name="Rectangle 7"/>
            <p:cNvSpPr/>
            <p:nvPr/>
          </p:nvSpPr>
          <p:spPr>
            <a:xfrm>
              <a:off x="6163560" y="1341360"/>
              <a:ext cx="2004120" cy="262260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Slide Number Placeholder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32A48-02C6-4767-848A-E8E2D03DE93B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Setting Up a New Websit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97" name="Picture 4" descr="dream4"/>
          <p:cNvPicPr/>
          <p:nvPr/>
        </p:nvPicPr>
        <p:blipFill>
          <a:blip r:embed="rId1"/>
          <a:stretch/>
        </p:blipFill>
        <p:spPr>
          <a:xfrm>
            <a:off x="228600" y="1600200"/>
            <a:ext cx="8686800" cy="464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98" name="Text Box 5"/>
          <p:cNvSpPr/>
          <p:nvPr/>
        </p:nvSpPr>
        <p:spPr>
          <a:xfrm>
            <a:off x="1905120" y="3276720"/>
            <a:ext cx="4495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dow&gt;Files Checked You Will See The Files Palette on the Righ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6"/>
          <p:cNvSpPr/>
          <p:nvPr/>
        </p:nvSpPr>
        <p:spPr>
          <a:xfrm>
            <a:off x="6781680" y="2286000"/>
            <a:ext cx="2057400" cy="41911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7"/>
          <p:cNvSpPr/>
          <p:nvPr/>
        </p:nvSpPr>
        <p:spPr>
          <a:xfrm>
            <a:off x="5562720" y="2666880"/>
            <a:ext cx="1143000" cy="381240"/>
          </a:xfrm>
          <a:prstGeom prst="rightArrow">
            <a:avLst>
              <a:gd name="adj1" fmla="val 50000"/>
              <a:gd name="adj2" fmla="val 7495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8"/>
          <p:cNvSpPr/>
          <p:nvPr/>
        </p:nvSpPr>
        <p:spPr>
          <a:xfrm>
            <a:off x="5334120" y="1447920"/>
            <a:ext cx="761760" cy="457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lide Number Placeholder 7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49911-F393-4D94-93CF-F9E327F354ED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50560" y="53640"/>
            <a:ext cx="7988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From the Pop Up Files Palette Window: Select Manage Sit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04" name="Picture 4" descr="dream5"/>
          <p:cNvPicPr/>
          <p:nvPr/>
        </p:nvPicPr>
        <p:blipFill>
          <a:blip r:embed="rId1"/>
          <a:stretch/>
        </p:blipFill>
        <p:spPr>
          <a:xfrm>
            <a:off x="325440" y="2011320"/>
            <a:ext cx="8742240" cy="400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05" name="Oval 5"/>
          <p:cNvSpPr/>
          <p:nvPr/>
        </p:nvSpPr>
        <p:spPr>
          <a:xfrm>
            <a:off x="6705720" y="3352680"/>
            <a:ext cx="2057400" cy="5335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89935-1013-4FB2-B479-791A6E2F052D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Select The New Button&gt;Sit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08" name="Picture 4" descr="dream6"/>
          <p:cNvPicPr/>
          <p:nvPr/>
        </p:nvPicPr>
        <p:blipFill>
          <a:blip r:embed="rId1"/>
          <a:stretch/>
        </p:blipFill>
        <p:spPr>
          <a:xfrm>
            <a:off x="228600" y="1560600"/>
            <a:ext cx="8610480" cy="453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09" name="Oval 5"/>
          <p:cNvSpPr/>
          <p:nvPr/>
        </p:nvSpPr>
        <p:spPr>
          <a:xfrm>
            <a:off x="4800600" y="3809880"/>
            <a:ext cx="2057400" cy="6098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0DBCC-1375-4856-ADB3-BE60AF22B7B8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Set the New Site Definition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12" name="Picture 4" descr="dream7"/>
          <p:cNvPicPr/>
          <p:nvPr/>
        </p:nvPicPr>
        <p:blipFill>
          <a:blip r:embed="rId1"/>
          <a:stretch/>
        </p:blipFill>
        <p:spPr>
          <a:xfrm>
            <a:off x="0" y="1295280"/>
            <a:ext cx="5334120" cy="515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13" name="Rectangle 8"/>
          <p:cNvSpPr/>
          <p:nvPr/>
        </p:nvSpPr>
        <p:spPr>
          <a:xfrm>
            <a:off x="1905120" y="1981080"/>
            <a:ext cx="1838160" cy="220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9"/>
          <p:cNvSpPr/>
          <p:nvPr/>
        </p:nvSpPr>
        <p:spPr>
          <a:xfrm>
            <a:off x="1600200" y="2209680"/>
            <a:ext cx="2941560" cy="220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0"/>
          <p:cNvSpPr/>
          <p:nvPr/>
        </p:nvSpPr>
        <p:spPr>
          <a:xfrm>
            <a:off x="1447920" y="2522520"/>
            <a:ext cx="3162240" cy="220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11"/>
          <p:cNvSpPr/>
          <p:nvPr/>
        </p:nvSpPr>
        <p:spPr>
          <a:xfrm>
            <a:off x="1752480" y="3124080"/>
            <a:ext cx="2795760" cy="228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Oval 12"/>
          <p:cNvSpPr/>
          <p:nvPr/>
        </p:nvSpPr>
        <p:spPr>
          <a:xfrm>
            <a:off x="2535120" y="1371600"/>
            <a:ext cx="588960" cy="368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5"/>
          <p:cNvSpPr/>
          <p:nvPr/>
        </p:nvSpPr>
        <p:spPr>
          <a:xfrm>
            <a:off x="5410080" y="1066680"/>
            <a:ext cx="335304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Name Your Web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Click on the Folder Icon &amp; Locate the website1 fol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Click on the Folder Icon &amp; Locate the images folder inside of the website1 fol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Oval 13"/>
          <p:cNvSpPr/>
          <p:nvPr/>
        </p:nvSpPr>
        <p:spPr>
          <a:xfrm>
            <a:off x="4343400" y="6095880"/>
            <a:ext cx="741240" cy="228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4"/>
          <p:cNvSpPr/>
          <p:nvPr/>
        </p:nvSpPr>
        <p:spPr>
          <a:xfrm>
            <a:off x="1602000" y="1905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5"/>
          <p:cNvSpPr/>
          <p:nvPr/>
        </p:nvSpPr>
        <p:spPr>
          <a:xfrm>
            <a:off x="1290960" y="2147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6"/>
          <p:cNvSpPr/>
          <p:nvPr/>
        </p:nvSpPr>
        <p:spPr>
          <a:xfrm>
            <a:off x="1144800" y="24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7"/>
          <p:cNvSpPr/>
          <p:nvPr/>
        </p:nvSpPr>
        <p:spPr>
          <a:xfrm>
            <a:off x="1443240" y="3062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8"/>
          <p:cNvSpPr/>
          <p:nvPr/>
        </p:nvSpPr>
        <p:spPr>
          <a:xfrm>
            <a:off x="76320" y="1752480"/>
            <a:ext cx="914400" cy="304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1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16308-040E-4FF7-B6DF-8B404EBB3D6B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28240" y="44280"/>
            <a:ext cx="8534520" cy="959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The File Structure You Created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427" name="Group 6"/>
          <p:cNvGrpSpPr/>
          <p:nvPr/>
        </p:nvGrpSpPr>
        <p:grpSpPr>
          <a:xfrm>
            <a:off x="1143000" y="1295280"/>
            <a:ext cx="6781680" cy="4654800"/>
            <a:chOff x="1143000" y="1295280"/>
            <a:chExt cx="6781680" cy="4654800"/>
          </a:xfrm>
        </p:grpSpPr>
        <p:pic>
          <p:nvPicPr>
            <p:cNvPr id="428" name="Picture 4" descr="dream8"/>
            <p:cNvPicPr/>
            <p:nvPr/>
          </p:nvPicPr>
          <p:blipFill>
            <a:blip r:embed="rId1"/>
            <a:stretch/>
          </p:blipFill>
          <p:spPr>
            <a:xfrm>
              <a:off x="1143000" y="1295280"/>
              <a:ext cx="6781680" cy="46548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429" name="AutoShape 6"/>
            <p:cNvSpPr/>
            <p:nvPr/>
          </p:nvSpPr>
          <p:spPr>
            <a:xfrm>
              <a:off x="4419360" y="2811240"/>
              <a:ext cx="1828800" cy="206640"/>
            </a:xfrm>
            <a:prstGeom prst="rightArrow">
              <a:avLst>
                <a:gd name="adj1" fmla="val 50000"/>
                <a:gd name="adj2" fmla="val 221254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AutoShape 7"/>
            <p:cNvSpPr/>
            <p:nvPr/>
          </p:nvSpPr>
          <p:spPr>
            <a:xfrm>
              <a:off x="4114800" y="2604600"/>
              <a:ext cx="1828800" cy="206640"/>
            </a:xfrm>
            <a:prstGeom prst="rightArrow">
              <a:avLst>
                <a:gd name="adj1" fmla="val 50000"/>
                <a:gd name="adj2" fmla="val 221254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CD40D-A191-4541-A9B8-D527697CB405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23640" y="43920"/>
            <a:ext cx="7918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Begin Creating the </a:t>
            </a:r>
            <a:r>
              <a:rPr b="1" lang="en-US" sz="3200" spc="-1" strike="noStrike">
                <a:solidFill>
                  <a:srgbClr val="ff0000"/>
                </a:solidFill>
                <a:latin typeface="Bookman Old Style"/>
              </a:rPr>
              <a:t>index.html</a:t>
            </a: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 main webpag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433" name="Group 5"/>
          <p:cNvGrpSpPr/>
          <p:nvPr/>
        </p:nvGrpSpPr>
        <p:grpSpPr>
          <a:xfrm>
            <a:off x="1066680" y="1268280"/>
            <a:ext cx="7021800" cy="4869000"/>
            <a:chOff x="1066680" y="1268280"/>
            <a:chExt cx="7021800" cy="4869000"/>
          </a:xfrm>
        </p:grpSpPr>
        <p:pic>
          <p:nvPicPr>
            <p:cNvPr id="434" name="Picture 5" descr="dream3"/>
            <p:cNvPicPr/>
            <p:nvPr/>
          </p:nvPicPr>
          <p:blipFill>
            <a:blip r:embed="rId1"/>
            <a:stretch/>
          </p:blipFill>
          <p:spPr>
            <a:xfrm>
              <a:off x="1066680" y="1420560"/>
              <a:ext cx="7021800" cy="47167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435" name="Oval 6"/>
            <p:cNvSpPr/>
            <p:nvPr/>
          </p:nvSpPr>
          <p:spPr>
            <a:xfrm>
              <a:off x="2285640" y="1268280"/>
              <a:ext cx="2133720" cy="6858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6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B7F4F-3618-4672-85EB-0B621FCACBEF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Modify&gt;Page Properti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438" name="Group 7"/>
          <p:cNvGrpSpPr/>
          <p:nvPr/>
        </p:nvGrpSpPr>
        <p:grpSpPr>
          <a:xfrm>
            <a:off x="826920" y="1341360"/>
            <a:ext cx="7345440" cy="4775400"/>
            <a:chOff x="826920" y="1341360"/>
            <a:chExt cx="7345440" cy="4775400"/>
          </a:xfrm>
        </p:grpSpPr>
        <p:pic>
          <p:nvPicPr>
            <p:cNvPr id="439" name="Picture 5" descr="dream6"/>
            <p:cNvPicPr/>
            <p:nvPr/>
          </p:nvPicPr>
          <p:blipFill>
            <a:blip r:embed="rId1"/>
            <a:stretch/>
          </p:blipFill>
          <p:spPr>
            <a:xfrm>
              <a:off x="826920" y="1467720"/>
              <a:ext cx="7345440" cy="46490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440" name="Oval 6"/>
            <p:cNvSpPr/>
            <p:nvPr/>
          </p:nvSpPr>
          <p:spPr>
            <a:xfrm>
              <a:off x="4030200" y="1341360"/>
              <a:ext cx="2107440" cy="6138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1" name="Slide Number Placeholder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AC816-50E7-4EC3-96EA-7A12B205DA28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Appearance, Set Font, Text, Background Color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443" name="Group 8"/>
          <p:cNvGrpSpPr/>
          <p:nvPr/>
        </p:nvGrpSpPr>
        <p:grpSpPr>
          <a:xfrm>
            <a:off x="1187280" y="1622520"/>
            <a:ext cx="6958080" cy="4398840"/>
            <a:chOff x="1187280" y="1622520"/>
            <a:chExt cx="6958080" cy="4398840"/>
          </a:xfrm>
        </p:grpSpPr>
        <p:pic>
          <p:nvPicPr>
            <p:cNvPr id="444" name="Picture 5" descr="dream7"/>
            <p:cNvPicPr/>
            <p:nvPr/>
          </p:nvPicPr>
          <p:blipFill>
            <a:blip r:embed="rId1"/>
            <a:stretch/>
          </p:blipFill>
          <p:spPr>
            <a:xfrm>
              <a:off x="1187280" y="1622520"/>
              <a:ext cx="6958080" cy="4398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445" name="Oval 6"/>
            <p:cNvSpPr/>
            <p:nvPr/>
          </p:nvSpPr>
          <p:spPr>
            <a:xfrm>
              <a:off x="4391280" y="2576160"/>
              <a:ext cx="1423800" cy="3294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7"/>
            <p:cNvSpPr/>
            <p:nvPr/>
          </p:nvSpPr>
          <p:spPr>
            <a:xfrm>
              <a:off x="2397600" y="3037320"/>
              <a:ext cx="1210320" cy="26352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Slide Number Placeholder 7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1BA3C-B3D2-4EBB-BA7C-237FFB62D854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Links, Set Link, Visited Link Color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449" name="Group 8"/>
          <p:cNvGrpSpPr/>
          <p:nvPr/>
        </p:nvGrpSpPr>
        <p:grpSpPr>
          <a:xfrm>
            <a:off x="1116000" y="1413000"/>
            <a:ext cx="7257960" cy="4721040"/>
            <a:chOff x="1116000" y="1413000"/>
            <a:chExt cx="7257960" cy="4721040"/>
          </a:xfrm>
        </p:grpSpPr>
        <p:pic>
          <p:nvPicPr>
            <p:cNvPr id="450" name="Picture 5" descr="dream8"/>
            <p:cNvPicPr/>
            <p:nvPr/>
          </p:nvPicPr>
          <p:blipFill>
            <a:blip r:embed="rId1"/>
            <a:stretch/>
          </p:blipFill>
          <p:spPr>
            <a:xfrm>
              <a:off x="1116000" y="1413000"/>
              <a:ext cx="7257960" cy="47210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451" name="Oval 6"/>
            <p:cNvSpPr/>
            <p:nvPr/>
          </p:nvSpPr>
          <p:spPr>
            <a:xfrm>
              <a:off x="4304160" y="2485440"/>
              <a:ext cx="1482840" cy="35748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7"/>
            <p:cNvSpPr/>
            <p:nvPr/>
          </p:nvSpPr>
          <p:spPr>
            <a:xfrm>
              <a:off x="2376360" y="2986200"/>
              <a:ext cx="1260360" cy="35748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Slide Number Placeholder 7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A4702-C5A7-47AA-BB12-2F4FBAD0C3DF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Website Planning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efore even considering the practical aspects of creating a website, there are some important fundamental question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 need to ask yourself firs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spcBef>
                <a:spcPts val="601"/>
              </a:spcBef>
              <a:buClr>
                <a:srgbClr val="92d050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at are we hoping to achieve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spcBef>
                <a:spcPts val="601"/>
              </a:spcBef>
              <a:buClr>
                <a:srgbClr val="92d050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o's our target audience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spcBef>
                <a:spcPts val="601"/>
              </a:spcBef>
              <a:buClr>
                <a:srgbClr val="92d050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at catergory, if any, does our site fall into: ecommerce, informational, educational, social networking, etc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spcBef>
                <a:spcPts val="601"/>
              </a:spcBef>
              <a:buClr>
                <a:srgbClr val="92d050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How visually exciting does it need to be to be effective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spcBef>
                <a:spcPts val="601"/>
              </a:spcBef>
              <a:buClr>
                <a:srgbClr val="92d050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at tone do we want our content to convey, could it be serious or witty, complex or simple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197C0-C990-43A5-B18B-B5C94AA0AEED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6360" y="43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Click the Curser on the Page, Select Alignment, Type in Tex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5" name="Text Box 8"/>
          <p:cNvSpPr/>
          <p:nvPr/>
        </p:nvSpPr>
        <p:spPr>
          <a:xfrm>
            <a:off x="5651640" y="2260440"/>
            <a:ext cx="297180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ndow&gt; Propert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enter Alignment But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Group 7"/>
          <p:cNvGrpSpPr/>
          <p:nvPr/>
        </p:nvGrpSpPr>
        <p:grpSpPr>
          <a:xfrm>
            <a:off x="755640" y="1515960"/>
            <a:ext cx="4462560" cy="4505400"/>
            <a:chOff x="755640" y="1515960"/>
            <a:chExt cx="4462560" cy="4505400"/>
          </a:xfrm>
        </p:grpSpPr>
        <p:pic>
          <p:nvPicPr>
            <p:cNvPr id="457" name="Picture 6" descr="title"/>
            <p:cNvPicPr/>
            <p:nvPr/>
          </p:nvPicPr>
          <p:blipFill>
            <a:blip r:embed="rId1"/>
            <a:stretch/>
          </p:blipFill>
          <p:spPr>
            <a:xfrm>
              <a:off x="755640" y="1515960"/>
              <a:ext cx="4462560" cy="45054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458" name="Oval 7"/>
            <p:cNvSpPr/>
            <p:nvPr/>
          </p:nvSpPr>
          <p:spPr>
            <a:xfrm>
              <a:off x="3882600" y="5208120"/>
              <a:ext cx="775080" cy="31284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AutoShape 10"/>
            <p:cNvSpPr/>
            <p:nvPr/>
          </p:nvSpPr>
          <p:spPr>
            <a:xfrm>
              <a:off x="4076280" y="4081680"/>
              <a:ext cx="281520" cy="1063800"/>
            </a:xfrm>
            <a:prstGeom prst="downArrow">
              <a:avLst>
                <a:gd name="adj1" fmla="val 50000"/>
                <a:gd name="adj2" fmla="val 94469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Slide Number Placeholder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A5848-BC78-4F4A-BC5C-24D337C58DEF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52360" y="189000"/>
            <a:ext cx="8352000" cy="88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Highlight Text, Select Ariel Fon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462" name="Group 8"/>
          <p:cNvGrpSpPr/>
          <p:nvPr/>
        </p:nvGrpSpPr>
        <p:grpSpPr>
          <a:xfrm>
            <a:off x="3708360" y="1582560"/>
            <a:ext cx="4137120" cy="4510440"/>
            <a:chOff x="3708360" y="1582560"/>
            <a:chExt cx="4137120" cy="4510440"/>
          </a:xfrm>
        </p:grpSpPr>
        <p:pic>
          <p:nvPicPr>
            <p:cNvPr id="463" name="Picture 5" descr="titlefont"/>
            <p:cNvPicPr/>
            <p:nvPr/>
          </p:nvPicPr>
          <p:blipFill>
            <a:blip r:embed="rId1"/>
            <a:stretch/>
          </p:blipFill>
          <p:spPr>
            <a:xfrm>
              <a:off x="3711240" y="1582560"/>
              <a:ext cx="4134240" cy="45104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464" name="Oval 6"/>
            <p:cNvSpPr/>
            <p:nvPr/>
          </p:nvSpPr>
          <p:spPr>
            <a:xfrm>
              <a:off x="3708360" y="5166360"/>
              <a:ext cx="3017520" cy="30888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Text Box 7"/>
          <p:cNvSpPr/>
          <p:nvPr/>
        </p:nvSpPr>
        <p:spPr>
          <a:xfrm>
            <a:off x="250920" y="2421000"/>
            <a:ext cx="29718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ndow&gt; Proper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nt Pop-up Men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Slide Number Placeholder 7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73C21-91F6-4B38-8D29-5E0A244A6F24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Highlight Text, &amp; Select the Title </a:t>
            </a:r>
            <a:br>
              <a:rPr sz="3200"/>
            </a:b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Format Siz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8" name="Text Box 6"/>
          <p:cNvSpPr/>
          <p:nvPr/>
        </p:nvSpPr>
        <p:spPr>
          <a:xfrm>
            <a:off x="324000" y="1484280"/>
            <a:ext cx="259056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ndow&gt; Proper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p-up Format for Title Heading Size: Exampl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9" name="Group 8"/>
          <p:cNvGrpSpPr/>
          <p:nvPr/>
        </p:nvGrpSpPr>
        <p:grpSpPr>
          <a:xfrm>
            <a:off x="3305160" y="1341360"/>
            <a:ext cx="4579920" cy="4792680"/>
            <a:chOff x="3305160" y="1341360"/>
            <a:chExt cx="4579920" cy="4792680"/>
          </a:xfrm>
        </p:grpSpPr>
        <p:pic>
          <p:nvPicPr>
            <p:cNvPr id="470" name="Picture 5" descr="titlesize"/>
            <p:cNvPicPr/>
            <p:nvPr/>
          </p:nvPicPr>
          <p:blipFill>
            <a:blip r:embed="rId1"/>
            <a:stretch/>
          </p:blipFill>
          <p:spPr>
            <a:xfrm>
              <a:off x="3305160" y="1341360"/>
              <a:ext cx="4579920" cy="47926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471" name="Oval 7"/>
            <p:cNvSpPr/>
            <p:nvPr/>
          </p:nvSpPr>
          <p:spPr>
            <a:xfrm>
              <a:off x="3612240" y="5268960"/>
              <a:ext cx="1157040" cy="33264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Slide Number Placeholder 7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E44F3-7DE2-4700-9A06-4119C92820E9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44360" y="7596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Or to Create a Title With a Graphic: Insert&gt;Table or Select Table Ico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474" name="Group 10"/>
          <p:cNvGrpSpPr/>
          <p:nvPr/>
        </p:nvGrpSpPr>
        <p:grpSpPr>
          <a:xfrm>
            <a:off x="900000" y="1515960"/>
            <a:ext cx="7718400" cy="4649760"/>
            <a:chOff x="900000" y="1515960"/>
            <a:chExt cx="7718400" cy="4649760"/>
          </a:xfrm>
        </p:grpSpPr>
        <p:pic>
          <p:nvPicPr>
            <p:cNvPr id="475" name="Picture 5" descr="dream9"/>
            <p:cNvPicPr/>
            <p:nvPr/>
          </p:nvPicPr>
          <p:blipFill>
            <a:blip r:embed="rId1"/>
            <a:stretch/>
          </p:blipFill>
          <p:spPr>
            <a:xfrm>
              <a:off x="900000" y="1584360"/>
              <a:ext cx="7425000" cy="4581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476" name="Oval 6"/>
            <p:cNvSpPr/>
            <p:nvPr/>
          </p:nvSpPr>
          <p:spPr>
            <a:xfrm>
              <a:off x="3597480" y="1515960"/>
              <a:ext cx="824040" cy="4104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7"/>
            <p:cNvSpPr/>
            <p:nvPr/>
          </p:nvSpPr>
          <p:spPr>
            <a:xfrm>
              <a:off x="3597480" y="2473920"/>
              <a:ext cx="2172960" cy="3420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8"/>
            <p:cNvSpPr/>
            <p:nvPr/>
          </p:nvSpPr>
          <p:spPr>
            <a:xfrm>
              <a:off x="3147840" y="1721160"/>
              <a:ext cx="374400" cy="3420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 Box 9"/>
            <p:cNvSpPr/>
            <p:nvPr/>
          </p:nvSpPr>
          <p:spPr>
            <a:xfrm>
              <a:off x="5695920" y="3569040"/>
              <a:ext cx="2922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Tables control object plac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Slide Number Placeholder 9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BD971-B6BB-4DD2-95FA-A53CDA335F05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8" descr="titletable"/>
          <p:cNvPicPr/>
          <p:nvPr/>
        </p:nvPicPr>
        <p:blipFill>
          <a:blip r:embed="rId1"/>
          <a:stretch/>
        </p:blipFill>
        <p:spPr>
          <a:xfrm>
            <a:off x="762120" y="1523880"/>
            <a:ext cx="5102280" cy="4713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52360" y="759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Set Row, Column, Table Width, </a:t>
            </a:r>
            <a:br>
              <a:rPr sz="3200"/>
            </a:b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Border, OK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3" name="Text Box 9"/>
          <p:cNvSpPr/>
          <p:nvPr/>
        </p:nvSpPr>
        <p:spPr>
          <a:xfrm>
            <a:off x="6172200" y="2057400"/>
            <a:ext cx="25909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itle Example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 R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 Colum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val 10"/>
          <p:cNvSpPr/>
          <p:nvPr/>
        </p:nvSpPr>
        <p:spPr>
          <a:xfrm>
            <a:off x="2514600" y="2286000"/>
            <a:ext cx="2971800" cy="5335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08AC9-41DE-4CC1-9A27-0B61817B3D08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Adjust Column Width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7" name="Text Box 9"/>
          <p:cNvSpPr/>
          <p:nvPr/>
        </p:nvSpPr>
        <p:spPr>
          <a:xfrm>
            <a:off x="5791320" y="1676520"/>
            <a:ext cx="2743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rag Table Column Line Left or Right to Adjust the Wid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Group 7"/>
          <p:cNvGrpSpPr/>
          <p:nvPr/>
        </p:nvGrpSpPr>
        <p:grpSpPr>
          <a:xfrm>
            <a:off x="684360" y="1295280"/>
            <a:ext cx="4694040" cy="4870440"/>
            <a:chOff x="684360" y="1295280"/>
            <a:chExt cx="4694040" cy="4870440"/>
          </a:xfrm>
        </p:grpSpPr>
        <p:pic>
          <p:nvPicPr>
            <p:cNvPr id="489" name="Picture 6" descr="titletableadjust"/>
            <p:cNvPicPr/>
            <p:nvPr/>
          </p:nvPicPr>
          <p:blipFill>
            <a:blip r:embed="rId1"/>
            <a:stretch/>
          </p:blipFill>
          <p:spPr>
            <a:xfrm>
              <a:off x="684360" y="1295280"/>
              <a:ext cx="4694040" cy="48704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490" name="AutoShape 8"/>
            <p:cNvSpPr/>
            <p:nvPr/>
          </p:nvSpPr>
          <p:spPr>
            <a:xfrm>
              <a:off x="1827720" y="2756520"/>
              <a:ext cx="533520" cy="1669680"/>
            </a:xfrm>
            <a:prstGeom prst="upArrow">
              <a:avLst>
                <a:gd name="adj1" fmla="val 50000"/>
                <a:gd name="adj2" fmla="val 78239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Oval 10"/>
            <p:cNvSpPr/>
            <p:nvPr/>
          </p:nvSpPr>
          <p:spPr>
            <a:xfrm>
              <a:off x="1827720" y="2269440"/>
              <a:ext cx="609480" cy="41724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Slide Number Placeholder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7BEE7-C57B-4F3A-B305-96CB8E641B04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3" name="Group 18"/>
          <p:cNvGrpSpPr/>
          <p:nvPr/>
        </p:nvGrpSpPr>
        <p:grpSpPr>
          <a:xfrm>
            <a:off x="76320" y="1959120"/>
            <a:ext cx="5943600" cy="4060800"/>
            <a:chOff x="76320" y="1959120"/>
            <a:chExt cx="5943600" cy="4060800"/>
          </a:xfrm>
        </p:grpSpPr>
        <p:grpSp>
          <p:nvGrpSpPr>
            <p:cNvPr id="494" name="Group 16"/>
            <p:cNvGrpSpPr/>
            <p:nvPr/>
          </p:nvGrpSpPr>
          <p:grpSpPr>
            <a:xfrm>
              <a:off x="76320" y="1959120"/>
              <a:ext cx="5943600" cy="4060800"/>
              <a:chOff x="76320" y="1959120"/>
              <a:chExt cx="5943600" cy="4060800"/>
            </a:xfrm>
          </p:grpSpPr>
          <p:grpSp>
            <p:nvGrpSpPr>
              <p:cNvPr id="495" name="Group 10"/>
              <p:cNvGrpSpPr/>
              <p:nvPr/>
            </p:nvGrpSpPr>
            <p:grpSpPr>
              <a:xfrm>
                <a:off x="76320" y="1959120"/>
                <a:ext cx="5943600" cy="4060800"/>
                <a:chOff x="76320" y="1959120"/>
                <a:chExt cx="5943600" cy="4060800"/>
              </a:xfrm>
            </p:grpSpPr>
            <p:pic>
              <p:nvPicPr>
                <p:cNvPr id="496" name="Picture 5" descr="saveas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6320" y="1959120"/>
                  <a:ext cx="5943600" cy="4060800"/>
                </a:xfrm>
                <a:prstGeom prst="rect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pic>
            <p:sp>
              <p:nvSpPr>
                <p:cNvPr id="497" name="Rectangle 8"/>
                <p:cNvSpPr/>
                <p:nvPr/>
              </p:nvSpPr>
              <p:spPr>
                <a:xfrm>
                  <a:off x="228600" y="3886200"/>
                  <a:ext cx="1219320" cy="1905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Rectangle 9"/>
                <p:cNvSpPr/>
                <p:nvPr/>
              </p:nvSpPr>
              <p:spPr>
                <a:xfrm>
                  <a:off x="3352680" y="3886200"/>
                  <a:ext cx="2667240" cy="1905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9" name="Rectangle 13"/>
              <p:cNvSpPr/>
              <p:nvPr/>
            </p:nvSpPr>
            <p:spPr>
              <a:xfrm>
                <a:off x="76320" y="3048120"/>
                <a:ext cx="1371600" cy="2895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Rectangle 14"/>
              <p:cNvSpPr/>
              <p:nvPr/>
            </p:nvSpPr>
            <p:spPr>
              <a:xfrm>
                <a:off x="3276720" y="3124080"/>
                <a:ext cx="2743200" cy="2819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1" name="Line 17"/>
            <p:cNvSpPr/>
            <p:nvPr/>
          </p:nvSpPr>
          <p:spPr>
            <a:xfrm>
              <a:off x="6019920" y="1981080"/>
              <a:ext cx="0" cy="403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Before Adding Graphic Images go to  File&gt;Save As&gt;name your file( </a:t>
            </a:r>
            <a:r>
              <a:rPr b="1" lang="en-US" sz="3200" spc="-1" strike="noStrike">
                <a:solidFill>
                  <a:srgbClr val="ff0000"/>
                </a:solidFill>
                <a:latin typeface="Bookman Old Style"/>
              </a:rPr>
              <a:t>index.html</a:t>
            </a: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)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3" name="Text Box 4"/>
          <p:cNvSpPr/>
          <p:nvPr/>
        </p:nvSpPr>
        <p:spPr>
          <a:xfrm>
            <a:off x="6300720" y="1268280"/>
            <a:ext cx="25718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member to use all lowercase letters, no spaces or special characters in your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age nam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Oval 6"/>
          <p:cNvSpPr/>
          <p:nvPr/>
        </p:nvSpPr>
        <p:spPr>
          <a:xfrm>
            <a:off x="1371600" y="1828800"/>
            <a:ext cx="609480" cy="457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val 7"/>
          <p:cNvSpPr/>
          <p:nvPr/>
        </p:nvSpPr>
        <p:spPr>
          <a:xfrm>
            <a:off x="1447920" y="3276720"/>
            <a:ext cx="1828800" cy="3808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1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8A42A-B7BF-4B23-A834-0ABADD5F027B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Click in the Left Cell, Insert&gt;Image, or use the Image Icon, Locate.gif or .jpg Fil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508" name="Group 7"/>
          <p:cNvGrpSpPr/>
          <p:nvPr/>
        </p:nvGrpSpPr>
        <p:grpSpPr>
          <a:xfrm>
            <a:off x="890640" y="1581120"/>
            <a:ext cx="6705720" cy="4368960"/>
            <a:chOff x="890640" y="1581120"/>
            <a:chExt cx="6705720" cy="4368960"/>
          </a:xfrm>
        </p:grpSpPr>
        <p:pic>
          <p:nvPicPr>
            <p:cNvPr id="509" name="Picture 5" descr="titlelogo"/>
            <p:cNvPicPr/>
            <p:nvPr/>
          </p:nvPicPr>
          <p:blipFill>
            <a:blip r:embed="rId1"/>
            <a:stretch/>
          </p:blipFill>
          <p:spPr>
            <a:xfrm>
              <a:off x="890640" y="1581120"/>
              <a:ext cx="6705720" cy="43689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510" name="Oval 8"/>
            <p:cNvSpPr/>
            <p:nvPr/>
          </p:nvSpPr>
          <p:spPr>
            <a:xfrm>
              <a:off x="3862440" y="1834920"/>
              <a:ext cx="533160" cy="38088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Slide Number Placeholder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B0B9A-188B-497C-B93D-9808DDAEFA13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Click in the Right Cell &amp; Type to Add the Titl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13" name="Picture 5" descr="titleintable"/>
          <p:cNvPicPr/>
          <p:nvPr/>
        </p:nvPicPr>
        <p:blipFill>
          <a:blip r:embed="rId1"/>
          <a:stretch/>
        </p:blipFill>
        <p:spPr>
          <a:xfrm>
            <a:off x="380880" y="1901880"/>
            <a:ext cx="8382240" cy="3813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14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371E2-C672-49FA-BB32-5743CF06ECB6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Select the Table, Select BG to Add a Background Cell Color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6" name="Text Box 7"/>
          <p:cNvSpPr/>
          <p:nvPr/>
        </p:nvSpPr>
        <p:spPr>
          <a:xfrm>
            <a:off x="5867280" y="2625840"/>
            <a:ext cx="2819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ndow&gt; Properties Men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Group 7"/>
          <p:cNvGrpSpPr/>
          <p:nvPr/>
        </p:nvGrpSpPr>
        <p:grpSpPr>
          <a:xfrm>
            <a:off x="900000" y="1413000"/>
            <a:ext cx="4591080" cy="4752720"/>
            <a:chOff x="900000" y="1413000"/>
            <a:chExt cx="4591080" cy="4752720"/>
          </a:xfrm>
        </p:grpSpPr>
        <p:pic>
          <p:nvPicPr>
            <p:cNvPr id="518" name="Picture 5" descr="titletablecolor"/>
            <p:cNvPicPr/>
            <p:nvPr/>
          </p:nvPicPr>
          <p:blipFill>
            <a:blip r:embed="rId1"/>
            <a:stretch/>
          </p:blipFill>
          <p:spPr>
            <a:xfrm>
              <a:off x="900000" y="1413000"/>
              <a:ext cx="4591080" cy="47527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519" name="Oval 6"/>
            <p:cNvSpPr/>
            <p:nvPr/>
          </p:nvSpPr>
          <p:spPr>
            <a:xfrm>
              <a:off x="3493440" y="5746680"/>
              <a:ext cx="1286280" cy="27936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0" name="Slide Number Placeholder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F1EA4-079F-47CC-8680-383BB28D2078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Site Content &amp; Information Structur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robably the most important aspect of website 'structural design' is how you breakdown the content into logical sections (Main Areas, Pages, Headers, Sub-Headers, Lists, etc). You need to create a strong hierarchy for the site and breakdown content into small unit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t is a good idea to create a graphical schema/flowchart/sitemap for the site. This can help you visualise a logical hierarchy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96B14-6678-4580-A578-45121537BD52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To Make Border Invisible, Select Table, Set Border to 0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522" name="Group 10"/>
          <p:cNvGrpSpPr/>
          <p:nvPr/>
        </p:nvGrpSpPr>
        <p:grpSpPr>
          <a:xfrm>
            <a:off x="611280" y="1362240"/>
            <a:ext cx="8304120" cy="4803480"/>
            <a:chOff x="611280" y="1362240"/>
            <a:chExt cx="8304120" cy="4803480"/>
          </a:xfrm>
        </p:grpSpPr>
        <p:pic>
          <p:nvPicPr>
            <p:cNvPr id="523" name="Picture 5" descr="titlenoborder"/>
            <p:cNvPicPr/>
            <p:nvPr/>
          </p:nvPicPr>
          <p:blipFill>
            <a:blip r:embed="rId1"/>
            <a:stretch/>
          </p:blipFill>
          <p:spPr>
            <a:xfrm>
              <a:off x="611280" y="1362240"/>
              <a:ext cx="5051520" cy="4803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524" name="Oval 6"/>
            <p:cNvSpPr/>
            <p:nvPr/>
          </p:nvSpPr>
          <p:spPr>
            <a:xfrm>
              <a:off x="4277160" y="5462280"/>
              <a:ext cx="1122120" cy="3474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AutoShape 8"/>
            <p:cNvSpPr/>
            <p:nvPr/>
          </p:nvSpPr>
          <p:spPr>
            <a:xfrm>
              <a:off x="5549040" y="2621520"/>
              <a:ext cx="2394000" cy="347400"/>
            </a:xfrm>
            <a:prstGeom prst="leftArrow">
              <a:avLst>
                <a:gd name="adj1" fmla="val 50000"/>
                <a:gd name="adj2" fmla="val 17228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Text Box 9"/>
            <p:cNvSpPr/>
            <p:nvPr/>
          </p:nvSpPr>
          <p:spPr>
            <a:xfrm>
              <a:off x="5848200" y="2065680"/>
              <a:ext cx="306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elect Edge of Ta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Slide Number Placeholder 9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F78A8-5B45-4D13-A767-F488A242020F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To Add Navigation Table, Insert&gt;Table or Table Icon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9" name="Text Box 8"/>
          <p:cNvSpPr/>
          <p:nvPr/>
        </p:nvSpPr>
        <p:spPr>
          <a:xfrm>
            <a:off x="6248520" y="2057400"/>
            <a:ext cx="25146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 R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 Columns Maxim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Group 7"/>
          <p:cNvGrpSpPr/>
          <p:nvPr/>
        </p:nvGrpSpPr>
        <p:grpSpPr>
          <a:xfrm>
            <a:off x="684360" y="1650960"/>
            <a:ext cx="5114880" cy="4299120"/>
            <a:chOff x="684360" y="1650960"/>
            <a:chExt cx="5114880" cy="4299120"/>
          </a:xfrm>
        </p:grpSpPr>
        <p:pic>
          <p:nvPicPr>
            <p:cNvPr id="531" name="Picture 5" descr="navigtable"/>
            <p:cNvPicPr/>
            <p:nvPr/>
          </p:nvPicPr>
          <p:blipFill>
            <a:blip r:embed="rId1"/>
            <a:stretch/>
          </p:blipFill>
          <p:spPr>
            <a:xfrm>
              <a:off x="684360" y="1650960"/>
              <a:ext cx="5114880" cy="42991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532" name="Oval 7"/>
            <p:cNvSpPr/>
            <p:nvPr/>
          </p:nvSpPr>
          <p:spPr>
            <a:xfrm>
              <a:off x="2485440" y="1726200"/>
              <a:ext cx="432000" cy="3672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Oval 9"/>
            <p:cNvSpPr/>
            <p:nvPr/>
          </p:nvSpPr>
          <p:spPr>
            <a:xfrm>
              <a:off x="2989800" y="2889360"/>
              <a:ext cx="2665440" cy="3060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4" name="Slide Number Placeholder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DDD93-913B-4DE6-B0C3-F74CDFAC7502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Click Inside of the First Cell to Add a Flash Navigation Button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36" name="Picture 6" descr="navtable2"/>
          <p:cNvPicPr/>
          <p:nvPr/>
        </p:nvPicPr>
        <p:blipFill>
          <a:blip r:embed="rId1"/>
          <a:stretch/>
        </p:blipFill>
        <p:spPr>
          <a:xfrm>
            <a:off x="380880" y="2367000"/>
            <a:ext cx="8458200" cy="3184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37" name="AutoShape 7"/>
          <p:cNvSpPr/>
          <p:nvPr/>
        </p:nvSpPr>
        <p:spPr>
          <a:xfrm>
            <a:off x="1143000" y="4876920"/>
            <a:ext cx="380880" cy="1447560"/>
          </a:xfrm>
          <a:prstGeom prst="upArrow">
            <a:avLst>
              <a:gd name="adj1" fmla="val 50000"/>
              <a:gd name="adj2" fmla="val 9501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C573C-B4ED-4775-855A-635E968BABFA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Insert&gt;Media&gt;Flash Button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540" name="Group 7"/>
          <p:cNvGrpSpPr/>
          <p:nvPr/>
        </p:nvGrpSpPr>
        <p:grpSpPr>
          <a:xfrm>
            <a:off x="1332000" y="1295280"/>
            <a:ext cx="6440400" cy="4942080"/>
            <a:chOff x="1332000" y="1295280"/>
            <a:chExt cx="6440400" cy="4942080"/>
          </a:xfrm>
        </p:grpSpPr>
        <p:pic>
          <p:nvPicPr>
            <p:cNvPr id="541" name="Picture 5" descr="navbutton1"/>
            <p:cNvPicPr/>
            <p:nvPr/>
          </p:nvPicPr>
          <p:blipFill>
            <a:blip r:embed="rId1"/>
            <a:stretch/>
          </p:blipFill>
          <p:spPr>
            <a:xfrm>
              <a:off x="1332000" y="1368000"/>
              <a:ext cx="6289200" cy="4869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542" name="Oval 6"/>
            <p:cNvSpPr/>
            <p:nvPr/>
          </p:nvSpPr>
          <p:spPr>
            <a:xfrm>
              <a:off x="3983760" y="2022480"/>
              <a:ext cx="2273040" cy="3636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Oval 7"/>
            <p:cNvSpPr/>
            <p:nvPr/>
          </p:nvSpPr>
          <p:spPr>
            <a:xfrm>
              <a:off x="5878080" y="2604600"/>
              <a:ext cx="1894320" cy="3636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8"/>
            <p:cNvSpPr/>
            <p:nvPr/>
          </p:nvSpPr>
          <p:spPr>
            <a:xfrm>
              <a:off x="3908160" y="1295280"/>
              <a:ext cx="909000" cy="3636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Slide Number Placeholder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F7D08-05E9-4083-BC39-C41E0AD8CA00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252000" y="43920"/>
            <a:ext cx="8783640" cy="104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Button Settings: Style, Text, Font, Link, </a:t>
            </a:r>
            <a:br>
              <a:rPr sz="2900"/>
            </a:b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Size, Apply, OK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47" name="Picture 5" descr="navbutton2"/>
          <p:cNvPicPr/>
          <p:nvPr/>
        </p:nvPicPr>
        <p:blipFill>
          <a:blip r:embed="rId1"/>
          <a:stretch/>
        </p:blipFill>
        <p:spPr>
          <a:xfrm>
            <a:off x="755640" y="1577880"/>
            <a:ext cx="4903920" cy="4443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8" name="Text Box 6"/>
          <p:cNvSpPr/>
          <p:nvPr/>
        </p:nvSpPr>
        <p:spPr>
          <a:xfrm>
            <a:off x="6012000" y="1484280"/>
            <a:ext cx="2751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 when uploading your website to the server to add your .swf Flash buttons you cre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35FEC-E7A2-4A8D-BFE7-5E1D671349E7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2960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Repeat to Add All Buttons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51" name="Picture 5" descr="navbutton3"/>
          <p:cNvPicPr/>
          <p:nvPr/>
        </p:nvPicPr>
        <p:blipFill>
          <a:blip r:embed="rId1"/>
          <a:stretch/>
        </p:blipFill>
        <p:spPr>
          <a:xfrm>
            <a:off x="380880" y="1228680"/>
            <a:ext cx="8458200" cy="3495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52" name="Oval 6"/>
          <p:cNvSpPr/>
          <p:nvPr/>
        </p:nvSpPr>
        <p:spPr>
          <a:xfrm>
            <a:off x="533520" y="3438360"/>
            <a:ext cx="1904760" cy="6858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7"/>
          <p:cNvSpPr/>
          <p:nvPr/>
        </p:nvSpPr>
        <p:spPr>
          <a:xfrm>
            <a:off x="609480" y="4941720"/>
            <a:ext cx="80773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Arial"/>
              </a:rPr>
              <a:t>If you need to edit the button after has been created or to check the links just double click on the button again, change the features, Apply, OK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048AF-4ED8-48CB-94C5-B85907CFBEFE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Example of Completed Title &amp; </a:t>
            </a:r>
            <a:br>
              <a:rPr sz="2900"/>
            </a:b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Navigation Buttons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56" name="Picture 5" descr="navcomplete"/>
          <p:cNvPicPr/>
          <p:nvPr/>
        </p:nvPicPr>
        <p:blipFill>
          <a:blip r:embed="rId1"/>
          <a:stretch/>
        </p:blipFill>
        <p:spPr>
          <a:xfrm>
            <a:off x="228600" y="1752480"/>
            <a:ext cx="8763120" cy="3360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57" name="Text Box 6"/>
          <p:cNvSpPr/>
          <p:nvPr/>
        </p:nvSpPr>
        <p:spPr>
          <a:xfrm>
            <a:off x="395280" y="5384880"/>
            <a:ext cx="8353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Arial"/>
              </a:rPr>
              <a:t>You May Have Different Titles For Your Navigation Butt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ED684-989B-4C79-B5DA-4200705B962A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07640" y="188640"/>
            <a:ext cx="8785080" cy="97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External Links: Type Text &amp; Highlight, Type in Link URL &amp; Press Return Key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560" name="Group 7"/>
          <p:cNvGrpSpPr/>
          <p:nvPr/>
        </p:nvGrpSpPr>
        <p:grpSpPr>
          <a:xfrm>
            <a:off x="1295280" y="1469880"/>
            <a:ext cx="6019920" cy="4838760"/>
            <a:chOff x="1295280" y="1469880"/>
            <a:chExt cx="6019920" cy="4838760"/>
          </a:xfrm>
        </p:grpSpPr>
        <p:pic>
          <p:nvPicPr>
            <p:cNvPr id="561" name="Picture 5" descr="externallink"/>
            <p:cNvPicPr/>
            <p:nvPr/>
          </p:nvPicPr>
          <p:blipFill>
            <a:blip r:embed="rId1"/>
            <a:stretch/>
          </p:blipFill>
          <p:spPr>
            <a:xfrm>
              <a:off x="1447560" y="1469880"/>
              <a:ext cx="5867640" cy="48387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562" name="Oval 6"/>
            <p:cNvSpPr/>
            <p:nvPr/>
          </p:nvSpPr>
          <p:spPr>
            <a:xfrm>
              <a:off x="5105520" y="5432400"/>
              <a:ext cx="2057400" cy="4572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Oval 7"/>
            <p:cNvSpPr/>
            <p:nvPr/>
          </p:nvSpPr>
          <p:spPr>
            <a:xfrm>
              <a:off x="1295280" y="3298680"/>
              <a:ext cx="2666880" cy="53316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Text Box 8"/>
            <p:cNvSpPr/>
            <p:nvPr/>
          </p:nvSpPr>
          <p:spPr>
            <a:xfrm>
              <a:off x="2590560" y="4776840"/>
              <a:ext cx="4648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http://www.google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5" name="Slide Number Placeholder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24BE9-85DF-4CED-B668-C891F2924F21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50920" y="-27000"/>
            <a:ext cx="77724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Internal Links: Type Text &amp; Highlight, Type in Link URL &amp; Press Return Key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567" name="Group 7"/>
          <p:cNvGrpSpPr/>
          <p:nvPr/>
        </p:nvGrpSpPr>
        <p:grpSpPr>
          <a:xfrm>
            <a:off x="1378080" y="1557360"/>
            <a:ext cx="5715000" cy="4611600"/>
            <a:chOff x="1378080" y="1557360"/>
            <a:chExt cx="5715000" cy="4611600"/>
          </a:xfrm>
        </p:grpSpPr>
        <p:pic>
          <p:nvPicPr>
            <p:cNvPr id="568" name="Picture 5" descr="internallink"/>
            <p:cNvPicPr/>
            <p:nvPr/>
          </p:nvPicPr>
          <p:blipFill>
            <a:blip r:embed="rId1"/>
            <a:stretch/>
          </p:blipFill>
          <p:spPr>
            <a:xfrm>
              <a:off x="1530360" y="1557360"/>
              <a:ext cx="5562720" cy="46116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569" name="Oval 6"/>
            <p:cNvSpPr/>
            <p:nvPr/>
          </p:nvSpPr>
          <p:spPr>
            <a:xfrm>
              <a:off x="4883400" y="5294520"/>
              <a:ext cx="1904760" cy="4572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Oval 7"/>
            <p:cNvSpPr/>
            <p:nvPr/>
          </p:nvSpPr>
          <p:spPr>
            <a:xfrm>
              <a:off x="1378080" y="3693960"/>
              <a:ext cx="1523880" cy="38088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Text Box 8"/>
            <p:cNvSpPr/>
            <p:nvPr/>
          </p:nvSpPr>
          <p:spPr>
            <a:xfrm>
              <a:off x="4730760" y="4761000"/>
              <a:ext cx="2362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index.htm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Slide Number Placeholder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4D6F6-58A7-4B57-A9D0-EA42B49F1ED5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50920" y="-27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E-Mail Links: Type Text &amp; Highlight, Type in Link URL &amp; Press Return Key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574" name="Group 10"/>
          <p:cNvGrpSpPr/>
          <p:nvPr/>
        </p:nvGrpSpPr>
        <p:grpSpPr>
          <a:xfrm>
            <a:off x="1676520" y="1427040"/>
            <a:ext cx="6019560" cy="4665600"/>
            <a:chOff x="1676520" y="1427040"/>
            <a:chExt cx="6019560" cy="4665600"/>
          </a:xfrm>
        </p:grpSpPr>
        <p:grpSp>
          <p:nvGrpSpPr>
            <p:cNvPr id="575" name="Group 10"/>
            <p:cNvGrpSpPr/>
            <p:nvPr/>
          </p:nvGrpSpPr>
          <p:grpSpPr>
            <a:xfrm>
              <a:off x="1752480" y="1427040"/>
              <a:ext cx="5640480" cy="4665600"/>
              <a:chOff x="1752480" y="1427040"/>
              <a:chExt cx="5640480" cy="4665600"/>
            </a:xfrm>
          </p:grpSpPr>
          <p:pic>
            <p:nvPicPr>
              <p:cNvPr id="576" name="Picture 5" descr="emaillink"/>
              <p:cNvPicPr/>
              <p:nvPr/>
            </p:nvPicPr>
            <p:blipFill>
              <a:blip r:embed="rId1"/>
              <a:stretch/>
            </p:blipFill>
            <p:spPr>
              <a:xfrm>
                <a:off x="1752480" y="1427040"/>
                <a:ext cx="5640480" cy="46656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577" name="Rectangle 9"/>
              <p:cNvSpPr/>
              <p:nvPr/>
            </p:nvSpPr>
            <p:spPr>
              <a:xfrm>
                <a:off x="5638680" y="5406840"/>
                <a:ext cx="10670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8" name="Oval 7"/>
            <p:cNvSpPr/>
            <p:nvPr/>
          </p:nvSpPr>
          <p:spPr>
            <a:xfrm>
              <a:off x="5181480" y="5178600"/>
              <a:ext cx="2438280" cy="4572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Oval 8"/>
            <p:cNvSpPr/>
            <p:nvPr/>
          </p:nvSpPr>
          <p:spPr>
            <a:xfrm>
              <a:off x="1676520" y="3578400"/>
              <a:ext cx="2895480" cy="38088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Text Box 11"/>
            <p:cNvSpPr/>
            <p:nvPr/>
          </p:nvSpPr>
          <p:spPr>
            <a:xfrm>
              <a:off x="1905120" y="4569120"/>
              <a:ext cx="5790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ailto:hollandj@emporia.edu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1" name="Text Box 12"/>
          <p:cNvSpPr/>
          <p:nvPr/>
        </p:nvSpPr>
        <p:spPr>
          <a:xfrm>
            <a:off x="5562720" y="5345280"/>
            <a:ext cx="20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ilto:hollandj@emporia.ed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Slide Number Placeholder 9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19D31-46D1-4CA9-8D12-3C2A287AFB43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69" name="عنصر نائب للمحتوى 3" descr="schema.gif"/>
          <p:cNvPicPr/>
          <p:nvPr/>
        </p:nvPicPr>
        <p:blipFill>
          <a:blip r:embed="rId1"/>
          <a:stretch/>
        </p:blipFill>
        <p:spPr>
          <a:xfrm>
            <a:off x="1332000" y="1303200"/>
            <a:ext cx="6821280" cy="4934160"/>
          </a:xfrm>
          <a:prstGeom prst="rect">
            <a:avLst/>
          </a:prstGeom>
          <a:ln w="0">
            <a:noFill/>
          </a:ln>
        </p:spPr>
      </p:pic>
      <p:sp>
        <p:nvSpPr>
          <p:cNvPr id="370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065B9-FB1B-441E-8FD4-F39092678AA3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6360" y="43920"/>
            <a:ext cx="9144000" cy="96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Inserting Graphics and Text in Tables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4" name="مربع نص 7"/>
          <p:cNvSpPr/>
          <p:nvPr/>
        </p:nvSpPr>
        <p:spPr>
          <a:xfrm>
            <a:off x="611280" y="1700280"/>
            <a:ext cx="770580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Arial"/>
              </a:rPr>
              <a:t>Control placement of elements in relation to each oth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Arial"/>
              </a:rPr>
              <a:t>Specify amount of space between each page eleme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Arial"/>
              </a:rPr>
              <a:t>Always plan how your table will look with all the text and graphics in i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Arial"/>
              </a:rPr>
              <a:t>Even a rough sketch will save you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C75B0-6591-41A8-86BF-B6804E4BDCD7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9311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Click in the Left Cell, Select Insert&gt;Image or Image Icon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87" name="Picture 5" descr="graphicselect"/>
          <p:cNvPicPr/>
          <p:nvPr/>
        </p:nvPicPr>
        <p:blipFill>
          <a:blip r:embed="rId1"/>
          <a:stretch/>
        </p:blipFill>
        <p:spPr>
          <a:xfrm>
            <a:off x="482760" y="1341360"/>
            <a:ext cx="5384520" cy="4759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88" name="Oval 6"/>
          <p:cNvSpPr/>
          <p:nvPr/>
        </p:nvSpPr>
        <p:spPr>
          <a:xfrm>
            <a:off x="2252520" y="1600200"/>
            <a:ext cx="457200" cy="457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7"/>
          <p:cNvSpPr/>
          <p:nvPr/>
        </p:nvSpPr>
        <p:spPr>
          <a:xfrm>
            <a:off x="6516720" y="1628640"/>
            <a:ext cx="2057400" cy="41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cate Graphic Imag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gi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jp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oo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Slide Number Placeholder 7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D60E4-42C9-4AB7-8C61-6CC998AD0DBF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353440" cy="78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Click in the Right Cell &amp; Add Your Text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92" name="Picture 5" descr="graphicwithtext"/>
          <p:cNvPicPr/>
          <p:nvPr/>
        </p:nvPicPr>
        <p:blipFill>
          <a:blip r:embed="rId1"/>
          <a:stretch/>
        </p:blipFill>
        <p:spPr>
          <a:xfrm>
            <a:off x="684360" y="1600200"/>
            <a:ext cx="5932440" cy="4643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93" name="Text Box 6"/>
          <p:cNvSpPr/>
          <p:nvPr/>
        </p:nvSpPr>
        <p:spPr>
          <a:xfrm>
            <a:off x="7010280" y="1601640"/>
            <a:ext cx="175284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Need to Adjust Column Wid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ust Font to Ari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Slide Number Placeholder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7CBC0-1847-4109-A92E-88655360D9C6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Anchors Are Used to Jump Down on a Long Page of Text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96" name="Picture 5" descr="anchors"/>
          <p:cNvPicPr/>
          <p:nvPr/>
        </p:nvPicPr>
        <p:blipFill>
          <a:blip r:embed="rId1"/>
          <a:stretch/>
        </p:blipFill>
        <p:spPr>
          <a:xfrm>
            <a:off x="1692360" y="1447920"/>
            <a:ext cx="5775120" cy="4782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97" name="Oval 7"/>
          <p:cNvSpPr/>
          <p:nvPr/>
        </p:nvSpPr>
        <p:spPr>
          <a:xfrm>
            <a:off x="1295280" y="3429000"/>
            <a:ext cx="6248520" cy="6094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Slide Number Placeholder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1CFEC-CEC1-4EC5-B133-CD82AAB19DB8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Highlight Word, In the Link Box Type in #name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600" name="Group 9"/>
          <p:cNvGrpSpPr/>
          <p:nvPr/>
        </p:nvGrpSpPr>
        <p:grpSpPr>
          <a:xfrm>
            <a:off x="1001880" y="1447920"/>
            <a:ext cx="5657760" cy="4684680"/>
            <a:chOff x="1001880" y="1447920"/>
            <a:chExt cx="5657760" cy="4684680"/>
          </a:xfrm>
        </p:grpSpPr>
        <p:pic>
          <p:nvPicPr>
            <p:cNvPr id="601" name="Picture 5" descr="anchors"/>
            <p:cNvPicPr/>
            <p:nvPr/>
          </p:nvPicPr>
          <p:blipFill>
            <a:blip r:embed="rId1"/>
            <a:stretch/>
          </p:blipFill>
          <p:spPr>
            <a:xfrm>
              <a:off x="1001880" y="1447920"/>
              <a:ext cx="5657760" cy="46846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602" name="Oval 6"/>
            <p:cNvSpPr/>
            <p:nvPr/>
          </p:nvSpPr>
          <p:spPr>
            <a:xfrm>
              <a:off x="1186920" y="3285000"/>
              <a:ext cx="914400" cy="60948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Oval 7"/>
            <p:cNvSpPr/>
            <p:nvPr/>
          </p:nvSpPr>
          <p:spPr>
            <a:xfrm>
              <a:off x="4411440" y="5267880"/>
              <a:ext cx="1600200" cy="60948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4" name="Text Box 8"/>
          <p:cNvSpPr/>
          <p:nvPr/>
        </p:nvSpPr>
        <p:spPr>
          <a:xfrm>
            <a:off x="6858000" y="56386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#augu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lide Number Placeholder 8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8B52B-8101-452A-99F1-12FECA0E0343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Highlight Text to Link To, Insert&gt;Named Anchor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607" name="Group 9"/>
          <p:cNvGrpSpPr/>
          <p:nvPr/>
        </p:nvGrpSpPr>
        <p:grpSpPr>
          <a:xfrm>
            <a:off x="1116000" y="1371600"/>
            <a:ext cx="6948360" cy="4721400"/>
            <a:chOff x="1116000" y="1371600"/>
            <a:chExt cx="6948360" cy="4721400"/>
          </a:xfrm>
        </p:grpSpPr>
        <p:pic>
          <p:nvPicPr>
            <p:cNvPr id="608" name="Picture 5" descr="anchorinsert"/>
            <p:cNvPicPr/>
            <p:nvPr/>
          </p:nvPicPr>
          <p:blipFill>
            <a:blip r:embed="rId1"/>
            <a:stretch/>
          </p:blipFill>
          <p:spPr>
            <a:xfrm>
              <a:off x="1116000" y="1513800"/>
              <a:ext cx="6948360" cy="4579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609" name="Oval 6"/>
            <p:cNvSpPr/>
            <p:nvPr/>
          </p:nvSpPr>
          <p:spPr>
            <a:xfrm>
              <a:off x="1179000" y="4008600"/>
              <a:ext cx="909360" cy="56988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7"/>
            <p:cNvSpPr/>
            <p:nvPr/>
          </p:nvSpPr>
          <p:spPr>
            <a:xfrm>
              <a:off x="3680640" y="1371600"/>
              <a:ext cx="757800" cy="42732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8"/>
            <p:cNvSpPr/>
            <p:nvPr/>
          </p:nvSpPr>
          <p:spPr>
            <a:xfrm>
              <a:off x="3680640" y="3509640"/>
              <a:ext cx="1970640" cy="35604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" name="Slide Number Placeholder 8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C089D-63AC-49CA-A3CA-C9C529084A6C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Type in Exact Name Match, Example: august, OK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614" name="Group 8"/>
          <p:cNvGrpSpPr/>
          <p:nvPr/>
        </p:nvGrpSpPr>
        <p:grpSpPr>
          <a:xfrm>
            <a:off x="903240" y="1523880"/>
            <a:ext cx="6908760" cy="4497480"/>
            <a:chOff x="903240" y="1523880"/>
            <a:chExt cx="6908760" cy="4497480"/>
          </a:xfrm>
        </p:grpSpPr>
        <p:pic>
          <p:nvPicPr>
            <p:cNvPr id="615" name="Picture 5" descr="anchorinsertname"/>
            <p:cNvPicPr/>
            <p:nvPr/>
          </p:nvPicPr>
          <p:blipFill>
            <a:blip r:embed="rId1"/>
            <a:stretch/>
          </p:blipFill>
          <p:spPr>
            <a:xfrm>
              <a:off x="903240" y="1523880"/>
              <a:ext cx="6908760" cy="4497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616" name="Oval 6"/>
            <p:cNvSpPr/>
            <p:nvPr/>
          </p:nvSpPr>
          <p:spPr>
            <a:xfrm>
              <a:off x="3463200" y="4393800"/>
              <a:ext cx="2474280" cy="34992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7" name="مستطيل مستدير الزوايا 6"/>
          <p:cNvSpPr/>
          <p:nvPr/>
        </p:nvSpPr>
        <p:spPr>
          <a:xfrm>
            <a:off x="2195640" y="2924280"/>
            <a:ext cx="5400720" cy="5047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Slide Number Placeholder 7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9CAF8-0133-4A3B-B274-70698C64E094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215640" y="43920"/>
            <a:ext cx="8964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Notice the Yellow Anchor,</a:t>
            </a:r>
            <a:br>
              <a:rPr sz="2900"/>
            </a:b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This Will Not Show When Posted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620" name="Group 7"/>
          <p:cNvGrpSpPr/>
          <p:nvPr/>
        </p:nvGrpSpPr>
        <p:grpSpPr>
          <a:xfrm>
            <a:off x="1619280" y="1557360"/>
            <a:ext cx="6087960" cy="4140000"/>
            <a:chOff x="1619280" y="1557360"/>
            <a:chExt cx="6087960" cy="4140000"/>
          </a:xfrm>
        </p:grpSpPr>
        <p:pic>
          <p:nvPicPr>
            <p:cNvPr id="621" name="Picture 5" descr="anchorinsertname2"/>
            <p:cNvPicPr/>
            <p:nvPr/>
          </p:nvPicPr>
          <p:blipFill>
            <a:blip r:embed="rId1"/>
            <a:stretch/>
          </p:blipFill>
          <p:spPr>
            <a:xfrm>
              <a:off x="1693080" y="1557360"/>
              <a:ext cx="6014160" cy="4140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622" name="Oval 6"/>
            <p:cNvSpPr/>
            <p:nvPr/>
          </p:nvSpPr>
          <p:spPr>
            <a:xfrm>
              <a:off x="1619280" y="3474360"/>
              <a:ext cx="1111680" cy="30852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3" name="Slide Number Placeholder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F8C9C-8DE5-4D1B-AAEB-793D079E2871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59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Can Duplicate Pages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457200" y="1219320"/>
            <a:ext cx="8229600" cy="37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92d05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92d05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92d05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nce the index.html page is set up as desired with the logo, header, and navigation buttons it can serve as a template for creating new page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92d05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92d050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Just save the current page(index.html) as a new filename, then edit the new page to sui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6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4A672-9CD6-4012-A8E0-ACFCD8CA8CC9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099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File&gt;Preview in Browser&gt;</a:t>
            </a:r>
            <a:br>
              <a:rPr sz="2900"/>
            </a:b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Select the desired browser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628" name="Group 9"/>
          <p:cNvGrpSpPr/>
          <p:nvPr/>
        </p:nvGrpSpPr>
        <p:grpSpPr>
          <a:xfrm>
            <a:off x="1116000" y="1295280"/>
            <a:ext cx="7265880" cy="4726080"/>
            <a:chOff x="1116000" y="1295280"/>
            <a:chExt cx="7265880" cy="4726080"/>
          </a:xfrm>
        </p:grpSpPr>
        <p:pic>
          <p:nvPicPr>
            <p:cNvPr id="629" name="Picture 6" descr="previewinternetexp"/>
            <p:cNvPicPr/>
            <p:nvPr/>
          </p:nvPicPr>
          <p:blipFill>
            <a:blip r:embed="rId1"/>
            <a:stretch/>
          </p:blipFill>
          <p:spPr>
            <a:xfrm>
              <a:off x="1116000" y="1399680"/>
              <a:ext cx="7265880" cy="46216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630" name="Oval 7"/>
            <p:cNvSpPr/>
            <p:nvPr/>
          </p:nvSpPr>
          <p:spPr>
            <a:xfrm>
              <a:off x="2483280" y="4663800"/>
              <a:ext cx="2268720" cy="34344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Oval 8"/>
            <p:cNvSpPr/>
            <p:nvPr/>
          </p:nvSpPr>
          <p:spPr>
            <a:xfrm>
              <a:off x="2483280" y="1295280"/>
              <a:ext cx="756000" cy="4122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Oval 9"/>
            <p:cNvSpPr/>
            <p:nvPr/>
          </p:nvSpPr>
          <p:spPr>
            <a:xfrm>
              <a:off x="4600800" y="4801320"/>
              <a:ext cx="1965960" cy="34344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3" name="Slide Number Placeholder 8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5EBA4-3EF6-4C57-85F5-544AEC88C40A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9280" y="1698120"/>
            <a:ext cx="8007480" cy="266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reate a folder on your computer called website1 to hold all web pages and graphics.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ptional: inside of the website1 folder create a folder called images to hold your graphic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2" name="Text Box 8"/>
          <p:cNvSpPr/>
          <p:nvPr/>
        </p:nvSpPr>
        <p:spPr>
          <a:xfrm>
            <a:off x="304920" y="481500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ll folders, webpages, and graphic names must be lowercase, no spaces, and no special characters for ease of linking l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مربع نص 6"/>
          <p:cNvSpPr/>
          <p:nvPr/>
        </p:nvSpPr>
        <p:spPr>
          <a:xfrm>
            <a:off x="611280" y="33336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  <a:ea typeface="Arial"/>
              </a:rPr>
              <a:t>Getting Sta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37233-86C2-4A12-B526-031C4BAA4F5C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bcc3e"/>
                </a:solidFill>
                <a:latin typeface="Bookman Old Style"/>
              </a:rPr>
              <a:t>Notice How the Browser Opens in Front To Preview What it Will Look Like When Uploaded to the Server</a:t>
            </a:r>
            <a:endParaRPr b="0" lang="en-US" sz="26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635" name="Group 8"/>
          <p:cNvGrpSpPr/>
          <p:nvPr/>
        </p:nvGrpSpPr>
        <p:grpSpPr>
          <a:xfrm>
            <a:off x="990720" y="1700280"/>
            <a:ext cx="7311960" cy="4470480"/>
            <a:chOff x="990720" y="1700280"/>
            <a:chExt cx="7311960" cy="4470480"/>
          </a:xfrm>
        </p:grpSpPr>
        <p:pic>
          <p:nvPicPr>
            <p:cNvPr id="636" name="Picture 5" descr="preview"/>
            <p:cNvPicPr/>
            <p:nvPr/>
          </p:nvPicPr>
          <p:blipFill>
            <a:blip r:embed="rId1"/>
            <a:stretch/>
          </p:blipFill>
          <p:spPr>
            <a:xfrm>
              <a:off x="990720" y="1700280"/>
              <a:ext cx="7311960" cy="4470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637" name="Oval 6"/>
            <p:cNvSpPr/>
            <p:nvPr/>
          </p:nvSpPr>
          <p:spPr>
            <a:xfrm>
              <a:off x="2057400" y="2665440"/>
              <a:ext cx="838080" cy="4572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8" name="Text Box 7"/>
          <p:cNvSpPr/>
          <p:nvPr/>
        </p:nvSpPr>
        <p:spPr>
          <a:xfrm>
            <a:off x="2705040" y="5724360"/>
            <a:ext cx="553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hen Finished Viewing Browser Red Button Cl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Slide Number Placeholder 7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A97D1-73FD-4675-B8DA-08B0F38549E3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24000" y="-27360"/>
            <a:ext cx="8208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bcc3e"/>
                </a:solidFill>
                <a:latin typeface="Bookman Old Style"/>
              </a:rPr>
              <a:t>Optional: File&gt;Preview in Browser&gt;</a:t>
            </a:r>
            <a:br>
              <a:rPr sz="2600"/>
            </a:br>
            <a:r>
              <a:rPr b="1" lang="en-US" sz="2600" spc="-1" strike="noStrike">
                <a:solidFill>
                  <a:srgbClr val="6bcc3e"/>
                </a:solidFill>
                <a:latin typeface="Bookman Old Style"/>
              </a:rPr>
              <a:t>Edit Browser List</a:t>
            </a:r>
            <a:endParaRPr b="0" lang="en-US" sz="26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641" name="Group 9"/>
          <p:cNvGrpSpPr/>
          <p:nvPr/>
        </p:nvGrpSpPr>
        <p:grpSpPr>
          <a:xfrm>
            <a:off x="1042920" y="1295280"/>
            <a:ext cx="7338960" cy="4942080"/>
            <a:chOff x="1042920" y="1295280"/>
            <a:chExt cx="7338960" cy="4942080"/>
          </a:xfrm>
        </p:grpSpPr>
        <p:pic>
          <p:nvPicPr>
            <p:cNvPr id="642" name="Picture 5" descr="previewinternetexp"/>
            <p:cNvPicPr/>
            <p:nvPr/>
          </p:nvPicPr>
          <p:blipFill>
            <a:blip r:embed="rId1"/>
            <a:stretch/>
          </p:blipFill>
          <p:spPr>
            <a:xfrm>
              <a:off x="1042920" y="1404360"/>
              <a:ext cx="7338960" cy="4833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643" name="Oval 6"/>
            <p:cNvSpPr/>
            <p:nvPr/>
          </p:nvSpPr>
          <p:spPr>
            <a:xfrm>
              <a:off x="2347560" y="4817880"/>
              <a:ext cx="2291400" cy="35928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Oval 8"/>
            <p:cNvSpPr/>
            <p:nvPr/>
          </p:nvSpPr>
          <p:spPr>
            <a:xfrm>
              <a:off x="4257360" y="5249160"/>
              <a:ext cx="2291400" cy="35928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Oval 7"/>
            <p:cNvSpPr/>
            <p:nvPr/>
          </p:nvSpPr>
          <p:spPr>
            <a:xfrm>
              <a:off x="2423880" y="1295280"/>
              <a:ext cx="763560" cy="43128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Slide Number Placeholder 8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BE880-5615-4DBA-8D1C-7FDC5B088816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bcc3e"/>
                </a:solidFill>
                <a:latin typeface="Bookman Old Style"/>
              </a:rPr>
              <a:t>For Selecting Primary &amp; Secondary Browser Choices</a:t>
            </a:r>
            <a:r>
              <a:rPr b="1" lang="en-US" sz="2600" spc="-1" strike="noStrike">
                <a:solidFill>
                  <a:srgbClr val="6bcc3e"/>
                </a:solidFill>
                <a:latin typeface="Bookman Old Style"/>
              </a:rPr>
              <a:t> </a:t>
            </a:r>
            <a:endParaRPr b="0" lang="en-US" sz="26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648" name="Picture 5" descr="selectbrowser"/>
          <p:cNvPicPr/>
          <p:nvPr/>
        </p:nvPicPr>
        <p:blipFill>
          <a:blip r:embed="rId1"/>
          <a:stretch/>
        </p:blipFill>
        <p:spPr>
          <a:xfrm>
            <a:off x="1258920" y="1341360"/>
            <a:ext cx="6840360" cy="4924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49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FACAD-34ED-4B02-87A8-99DD7024DDD9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73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bcc3e"/>
                </a:solidFill>
                <a:latin typeface="Bookman Old Style"/>
              </a:rPr>
              <a:t>Viewing Options: HTML Code</a:t>
            </a:r>
            <a:endParaRPr b="0" lang="en-US" sz="26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651" name="Picture 5" descr="code"/>
          <p:cNvPicPr/>
          <p:nvPr/>
        </p:nvPicPr>
        <p:blipFill>
          <a:blip r:embed="rId1"/>
          <a:stretch/>
        </p:blipFill>
        <p:spPr>
          <a:xfrm>
            <a:off x="2050920" y="1424160"/>
            <a:ext cx="5264280" cy="4827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52" name="Oval 6"/>
          <p:cNvSpPr/>
          <p:nvPr/>
        </p:nvSpPr>
        <p:spPr>
          <a:xfrm>
            <a:off x="2050920" y="2060640"/>
            <a:ext cx="714600" cy="5032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Slide Number Placeholder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BED57-CFD2-40B9-A6CA-21C49A2E61AA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5327640" cy="85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bcc3e"/>
                </a:solidFill>
                <a:latin typeface="Bookman Old Style"/>
              </a:rPr>
              <a:t>Viewing Options: </a:t>
            </a:r>
            <a:br>
              <a:rPr sz="2600"/>
            </a:br>
            <a:r>
              <a:rPr b="1" lang="en-US" sz="2600" spc="-1" strike="noStrike">
                <a:solidFill>
                  <a:srgbClr val="6bcc3e"/>
                </a:solidFill>
                <a:latin typeface="Bookman Old Style"/>
              </a:rPr>
              <a:t>Split Code &amp; Design</a:t>
            </a:r>
            <a:endParaRPr b="0" lang="en-US" sz="2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55" name="Oval 7"/>
          <p:cNvSpPr/>
          <p:nvPr/>
        </p:nvSpPr>
        <p:spPr>
          <a:xfrm>
            <a:off x="762120" y="2057400"/>
            <a:ext cx="838080" cy="457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Oval 8"/>
          <p:cNvSpPr/>
          <p:nvPr/>
        </p:nvSpPr>
        <p:spPr>
          <a:xfrm>
            <a:off x="0" y="4800600"/>
            <a:ext cx="3124080" cy="5335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Oval 10"/>
          <p:cNvSpPr/>
          <p:nvPr/>
        </p:nvSpPr>
        <p:spPr>
          <a:xfrm>
            <a:off x="1371600" y="2743200"/>
            <a:ext cx="4495680" cy="5335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11"/>
          <p:cNvSpPr/>
          <p:nvPr/>
        </p:nvSpPr>
        <p:spPr>
          <a:xfrm>
            <a:off x="6705720" y="2057400"/>
            <a:ext cx="2133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ou Can Highlight Areas in Design Mode &amp; See It in Co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Slide Number Placeholder 9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7836F-D542-4152-A701-90F235B496E3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96360" y="188640"/>
            <a:ext cx="79916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bcc3e"/>
                </a:solidFill>
                <a:latin typeface="Bookman Old Style"/>
              </a:rPr>
              <a:t>Viewing Options: Design</a:t>
            </a:r>
            <a:br>
              <a:rPr sz="2600"/>
            </a:br>
            <a:r>
              <a:rPr b="1" lang="en-US" sz="2600" spc="-1" strike="noStrike">
                <a:solidFill>
                  <a:srgbClr val="6bcc3e"/>
                </a:solidFill>
                <a:latin typeface="Bookman Old Style"/>
              </a:rPr>
              <a:t>For Creating &amp; Editing Web Pages</a:t>
            </a:r>
            <a:endParaRPr b="0" lang="en-US" sz="26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661" name="Picture 6" descr="designmode"/>
          <p:cNvPicPr/>
          <p:nvPr/>
        </p:nvPicPr>
        <p:blipFill>
          <a:blip r:embed="rId1"/>
          <a:stretch/>
        </p:blipFill>
        <p:spPr>
          <a:xfrm>
            <a:off x="457200" y="1905120"/>
            <a:ext cx="8001000" cy="4187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62" name="Oval 7"/>
          <p:cNvSpPr/>
          <p:nvPr/>
        </p:nvSpPr>
        <p:spPr>
          <a:xfrm>
            <a:off x="1523880" y="2590920"/>
            <a:ext cx="914400" cy="5331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Slide Number Placeholder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010C3-902B-44E2-99B0-628D1BA2DC18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aa2e"/>
                </a:solidFill>
                <a:latin typeface="Gill Sans MT"/>
              </a:rPr>
              <a:t>http://macromedia-dreamweaver.soft32.com</a:t>
            </a:r>
            <a:r>
              <a:rPr b="0" lang="en-US" sz="3200" spc="-1" strike="noStrike">
                <a:solidFill>
                  <a:srgbClr val="6eaa2e"/>
                </a:solidFill>
                <a:latin typeface="Gill Sans MT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712C1-803D-4AB5-AA7B-C59AD2F907F6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8" descr="dream1"/>
          <p:cNvPicPr/>
          <p:nvPr/>
        </p:nvPicPr>
        <p:blipFill>
          <a:blip r:embed="rId1"/>
          <a:stretch/>
        </p:blipFill>
        <p:spPr>
          <a:xfrm>
            <a:off x="1979640" y="1300320"/>
            <a:ext cx="5564160" cy="4865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89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Launch Dreamweaver Select HTML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7" name="Oval 5"/>
          <p:cNvSpPr/>
          <p:nvPr/>
        </p:nvSpPr>
        <p:spPr>
          <a:xfrm>
            <a:off x="3639960" y="2565360"/>
            <a:ext cx="1219320" cy="3049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5EEDC-0026-45E9-95BF-407EE4DD3FAD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New Page Appear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80" name="Picture 10" descr="dream2"/>
          <p:cNvPicPr/>
          <p:nvPr/>
        </p:nvPicPr>
        <p:blipFill>
          <a:blip r:embed="rId1"/>
          <a:stretch/>
        </p:blipFill>
        <p:spPr>
          <a:xfrm>
            <a:off x="1295280" y="1415880"/>
            <a:ext cx="6553440" cy="482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81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058A5-BA83-48E4-A7D5-80D13045A8CF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Or Select File&gt;New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83" name="Picture 5" descr="dream3"/>
          <p:cNvPicPr/>
          <p:nvPr/>
        </p:nvPicPr>
        <p:blipFill>
          <a:blip r:embed="rId1"/>
          <a:stretch/>
        </p:blipFill>
        <p:spPr>
          <a:xfrm>
            <a:off x="1066680" y="1295280"/>
            <a:ext cx="7021800" cy="4716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84" name="Oval 6"/>
          <p:cNvSpPr/>
          <p:nvPr/>
        </p:nvSpPr>
        <p:spPr>
          <a:xfrm>
            <a:off x="2286000" y="1143000"/>
            <a:ext cx="2133720" cy="6858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804C3-EDAF-4B72-A9AD-E30F3700BFAC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8" descr="dream3"/>
          <p:cNvPicPr/>
          <p:nvPr/>
        </p:nvPicPr>
        <p:blipFill>
          <a:blip r:embed="rId1"/>
          <a:stretch/>
        </p:blipFill>
        <p:spPr>
          <a:xfrm>
            <a:off x="1523880" y="1219320"/>
            <a:ext cx="6410520" cy="5137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Select HTML, Creat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8" name="Oval 6"/>
          <p:cNvSpPr/>
          <p:nvPr/>
        </p:nvSpPr>
        <p:spPr>
          <a:xfrm>
            <a:off x="3362400" y="1901880"/>
            <a:ext cx="1218960" cy="3049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7"/>
          <p:cNvSpPr/>
          <p:nvPr/>
        </p:nvSpPr>
        <p:spPr>
          <a:xfrm>
            <a:off x="6791400" y="6019920"/>
            <a:ext cx="1218960" cy="3808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CA9B1-7A94-4E1B-9C86-F8A0137EEE29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30T01:54:30Z</dcterms:created>
  <dc:creator>Janet Holland</dc:creator>
  <dc:description/>
  <dc:language>en-US</dc:language>
  <cp:lastModifiedBy>AN</cp:lastModifiedBy>
  <cp:lastPrinted>2005-06-09T14:21:05Z</cp:lastPrinted>
  <dcterms:modified xsi:type="dcterms:W3CDTF">2013-04-06T07:57:08Z</dcterms:modified>
  <cp:revision>182</cp:revision>
  <dc:subject/>
  <dc:title>Macromedia Dreamweaver MX2004</dc:title>
</cp:coreProperties>
</file>