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9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11.png" ContentType="image/png"/>
  <Override PartName="/ppt/media/image7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671-C54B-45AB-9A73-F3783F14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0B6-E195-4578-BA40-FE3E56C7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09D-9E83-48C7-B52E-D3F059B4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F7B-CE1D-42DF-A685-FF007272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4CA4-B745-4400-AD39-85C0C865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EE40-99F0-4A05-9480-0249B257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4519-CE91-4B58-B5A5-8B088ABA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3C3C-2199-4EBC-8209-717B8799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3531-27B6-4ED4-91DF-A56EA0B4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561D-F046-4BD7-B790-5CFDDDAA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052B-1337-4F81-940A-8FEFC133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943-7433-43C0-AAF1-9C1009B6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5B2B-73F1-4E69-B07A-7DFD7C34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8C7E-ECDB-4A66-8DCD-1C221A3B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375E-F6F2-449C-8224-FE1CF130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2177-82CE-4EB7-91EE-23C280C6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C9F4-B235-4672-B2B4-B2B09CB1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6E0EE-EDCF-4470-B014-443D597A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E2A6C-692D-4F4A-B9E1-953D3997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B78F-819C-4D5E-990B-6B5A8811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F8C34-EFEF-43CE-A1C9-A4FA7DA6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C1984-E81D-4AFC-BA53-09B98E8D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E66-2D31-4757-BFDB-7BD59815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1234-9CA3-48BE-9769-AA738759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44919-A2EC-42EC-AF73-6BE49E8D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86B3-F273-4C9E-8410-1A3DD191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D4845-BF1D-4C14-ADD8-D304F382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F633D-C69E-4F91-9F2D-D1E2CC42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D3C13-F26D-4607-9430-AC229836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29450-1E24-4F1A-82CF-8C36E707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D29E1-7DF8-47F3-A623-173715A0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E0043-06F6-449E-B0BD-D544F6FC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9668F-8B4B-4A9E-B870-B6F194E6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827-FF1A-4252-B72B-383BC42F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CAFA7-BC61-49D9-A417-6B88B4E8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F55CA-AAA1-4A31-8F6D-DB3C0FEE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A24C8-F585-4443-94A0-C68900B0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CE5B5-BD58-4F92-9265-D005DB37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96423-8E59-4166-8DE6-3D37E5F5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15EE2-5525-4202-9EEA-2D8DDCE0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CA5B9-9712-46B5-9501-5827FEA3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2D1F-30AB-4E06-9CEC-7FF98782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7EDEE-F9C9-4B88-A8A0-A4311130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671E3-C83E-4724-9B2B-A19F7D28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A99-70C4-45B7-9467-7209D607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ABE53-C456-4130-8A4E-6C6CA898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CE44B-6A5D-4DC5-B366-BC3EE94B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805BC-4686-4771-AD9F-94683AD0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4D362-AEDD-4F56-B7EB-08F380B7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D7A2B-47C8-4662-A9C5-B80B52E3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14F2-1AF7-4982-96E2-2B3D913D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607AB-AA52-4AD1-AD24-672657F7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B136E-3E2B-4606-BE50-93B6182A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FBE1E-386C-4D18-BE2A-BF039B46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1A055-BA50-453F-8C30-F55796A4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D08-D192-488D-8F1A-B0EE1963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05E21-1906-4E46-89B5-FC74BA45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4932D-7AB1-4A19-A66A-17491C74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343C9-C555-40EF-9246-EF32378D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D5A41-AD0D-421C-86F5-DCEC6C1A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E72C0-66F1-442A-8743-762E1BFE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6D07F-A837-410D-95E1-6EE69FEA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A77CE-FA81-4FD5-B3F9-15D1218F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EE40C-E962-4AF5-B865-99D2F70D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5E683-8F3B-40E4-B947-84054292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FF683-2003-4ABD-9E9F-F601E2F4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21B-041D-42EA-9CAB-3E577C17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A928F-7BCA-4F5B-962A-9F756BFD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E34BB-4002-40AB-99F7-D9AD4A96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1BFAC-4462-4BAC-8822-038EBB12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D552C-8925-449D-BD62-39912CD7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13171-B3F1-49C4-B807-0A2C5A2E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9B01F-9F0D-45FB-A745-D6F9BCF3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0A5F8-2C4A-4BBD-A5D5-A20F7FDB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5C8BD-37EC-473E-A05C-0DB97720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1091D-05DF-441C-8FF0-102442BB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9FAEE-935B-4B16-B5FF-10E1E2DC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3D7-8263-4BFF-B186-4A95077F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A2487-6A17-4E9A-A8BD-950F643B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214A7-8C4C-40F2-A2EF-E8CBB769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F01EE-D2DB-42FD-B0B2-2BF51C4E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C6E36-B9C0-4276-9C18-02EFEF46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ECFEB-3846-4E70-AA46-CA7BEDAB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7C41C-3BF7-46D5-AF00-DCDEDFEC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9CB29-1FBE-493E-8C69-BCEEC36B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56A10-CD8C-4A12-9CC8-B7A1A8F0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857D2-EE89-4EF4-8AA3-E1991F2D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57F7B-3ACF-4C7A-B1AB-62589BC7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D61-AD39-4137-A823-91A10530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3D0D8-7F48-41F1-8759-BEDBF35F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5770A-0107-466C-9040-003F6543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8A7DD-8317-4C10-9E71-F7DB522C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69687-151B-4AAC-B161-058CADFF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846D8-8145-4CBE-B9D4-2EFA5AF8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83837-1C5F-44AE-B0E4-04280DB5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88F8D-FA11-4FF9-BEE9-69CFB577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6B74-16AB-4BBF-9133-E8310D0EC4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9F26-6CFF-447D-9696-4D081B132B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1429-9CD1-4112-B74C-6B377530FA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2410-FCC4-4B9E-95AB-5CFFA1C3CC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6987-0E25-490B-8930-0597CFC3B1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C5FF-D9EB-4E6F-A19C-6040939825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A4E4-30B2-459C-A930-7DD136FA8A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58B8-F39C-4E18-A862-D97A1314F6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1066680" y="-3956040"/>
            <a:ext cx="7821720" cy="7521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hr.gif"/>
          <p:cNvPicPr/>
          <p:nvPr/>
        </p:nvPicPr>
        <p:blipFill>
          <a:blip r:embed="rId2"/>
          <a:stretch/>
        </p:blipFill>
        <p:spPr>
          <a:xfrm>
            <a:off x="0" y="152280"/>
            <a:ext cx="243828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خلال مقارنة الطلب بالعرض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نوعي والكمي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1292650059_140404567_1-Pictures-of--Sahara-HR-Consultants-Contact-us-for-all-kind-of-Jobs-in-Shimoga-404026.jpg"/>
          <p:cNvPicPr/>
          <p:nvPr/>
        </p:nvPicPr>
        <p:blipFill>
          <a:blip r:embed="rId2"/>
          <a:stretch/>
        </p:blipFill>
        <p:spPr>
          <a:xfrm>
            <a:off x="0" y="121932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في حالة الفائض</a:t>
            </a: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ند ندرة سوق العمل (الحل هو اعادة التدريب والتأهيل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ما وفرة سوق العمل (فالحل هو تبني سياسة الاستغناء)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في حالة العجز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1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/عند ندرة سوق العمل مثل : تنشيط الاستقطاب ، التساهل في معايير الاختيار ،تكثيف التدريب رفع مستوى الأجور والمكافآت 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2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/ اما عند وفرة سوق العمل: التعيين باعتبارات متشدد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هو الإلمام الشامل بتفاصيل كل وظيفة عن طريق الدراسة العلمية لكل منها على حدة ، وملاحظة وتسجيل الحقائق التي توضح واجباتها ومسؤولياتها والظروف المحيطة بها والشروط الواجب توافرها في من يشغلها ، على أن تفرغ هذه المعلومات في كشوف تحليل الوظيفة تمهيدا لتوصيف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25494.jpg"/>
          <p:cNvPicPr/>
          <p:nvPr/>
        </p:nvPicPr>
        <p:blipFill>
          <a:blip r:embed="rId2"/>
          <a:stretch/>
        </p:blipFill>
        <p:spPr>
          <a:xfrm>
            <a:off x="0" y="0"/>
            <a:ext cx="135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165160"/>
                </a:solidFill>
                <a:latin typeface="Lucida Sans Unicode"/>
                <a:cs typeface="Arial"/>
              </a:rPr>
              <a:t>يعني التسجيل المنظم لأبعاد الوظيفة ومكوناتها الأساسية والعوامل المحيطة بها في بطاقة أو كشف خاص لوصف الوظيفة كمستند لتعريف الوظيفة بحيث يعكس: عوامل التقييم الداخلة في تكوين الوظيفة ، ومهامها و واجباتها و مسؤولياتها والحد الأدنى من مطالب التأهيل اللازمة لشغلها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ختيار والتعي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رقية والنق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79200" y="274680"/>
            <a:ext cx="8607600" cy="12002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people_puzzle_md_wm.jpg"/>
          <p:cNvPicPr/>
          <p:nvPr/>
        </p:nvPicPr>
        <p:blipFill>
          <a:blip r:embed="rId2"/>
          <a:stretch/>
        </p:blipFill>
        <p:spPr>
          <a:xfrm>
            <a:off x="-68400" y="3021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قصد بهم النشاط الإداري الذي يتعلق بالبحث عن المهارات المطلوبة للمنشأة ، وحث الأفراد الذين تتوافر لديهم الاشتراطات للتقدم للوظائف الشاغرة تمهيدا لاختيار أفضل المهارات للعمل بالمنشأة المعنية 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تعريف الترقية 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نتقال العامل من وظيفة إلى وظيفة أخرى ذات مسؤوليات ومهام أعلى وبالتالي ذات راتب أعلى حاليا أو مستقبل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أسس الترقي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اقدم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أقدمية و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عني تحرك العامل من وظيفة إلى وظيفة أخرى على المستوى الإداري نفسه وبأجر مشابه ، وبأدنى تغير في الواجبات والمسؤوليات ، مع اختلافات في ظروف العم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* 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التنزيل الوظيفي: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و النقل إلى وظيفة أقل مسؤولية وراتب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12120" cy="1146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Job-Transfer.jpg"/>
          <p:cNvPicPr/>
          <p:nvPr/>
        </p:nvPicPr>
        <p:blipFill>
          <a:blip r:embed="rId2"/>
          <a:stretch/>
        </p:blipFill>
        <p:spPr>
          <a:xfrm>
            <a:off x="1752480" y="44956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لبرامج الرسمية التي تستخدمها المنشاة لأجل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ساعدة العاملين على كسب الفاعلية و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للقيام بأعمالهم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training.gif"/>
          <p:cNvPicPr/>
          <p:nvPr/>
        </p:nvPicPr>
        <p:blipFill>
          <a:blip r:embed="rId2"/>
          <a:stretch/>
        </p:blipFill>
        <p:spPr>
          <a:xfrm>
            <a:off x="0" y="190512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و عبارة عن التقييم الدوري لأداء الفرد لوظيفته ومدى اتجاه قدراته وامكانياته نحو التقدم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ويفيد تقييم الأداء في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كتشاف الحاجات التدريب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حكم على فعالية سياسة الاختيار والتعي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وفير معلومات عن العاملين تساعد في تخطيط القوى العام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ح العلاوات والترقية وتنمية الموظ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866529_feedback_form_excellent.jpg"/>
          <p:cNvPicPr/>
          <p:nvPr/>
        </p:nvPicPr>
        <p:blipFill>
          <a:blip r:embed="rId2"/>
          <a:stretch/>
        </p:blipFill>
        <p:spPr>
          <a:xfrm>
            <a:off x="0" y="2666880"/>
            <a:ext cx="144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فهوم وأهداف إدارة الأفراد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Arial"/>
              </a:rPr>
              <a:t>وظائف إدارة الأفراد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عنوان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3352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ff0000"/>
                </a:solidFill>
                <a:uFillTx/>
                <a:latin typeface="Lucida Sans Unicode"/>
                <a:cs typeface="Arial"/>
              </a:rPr>
              <a:t>وظيفة الأفراد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ea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لأنشطة المختلفة التي تمارسها الوحدة التنظيمية المسؤولة عن تدبير القوى العاملة اللازمة للمنظمة ، كما ونوعا وتوقيتا والمحافظة عليها وتعويضها وتنميتها وتحفيز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ff0000"/>
                </a:solidFill>
                <a:uFillTx/>
                <a:latin typeface="Lucida Sans Unicode"/>
                <a:cs typeface="Arial"/>
              </a:rPr>
              <a:t>إدارة الأفراد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2b4a76"/>
                </a:solidFill>
                <a:latin typeface="Lucida Sans Unicode"/>
                <a:cs typeface="Arial"/>
              </a:rPr>
              <a:t>هي الكيفية التي يتعامل بها كل مدير مع مرؤوسيه ليصل بهم إلى تحقيق الأهداف المراد تحقيقها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5e2d37"/>
                </a:solidFill>
                <a:latin typeface="Lucida Sans Unicode"/>
                <a:ea typeface="Arial"/>
              </a:rPr>
              <a:t>*إذن ........ هي وظيفة كل مدير بينما ....... هي أحد وظائف المنظم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ea typeface="Arial"/>
              </a:rPr>
              <a:t>*أهداف إدارة الأفراد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خطيط الموارد البشر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ليل وتصميم الوظائ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ستقطاب والاختيار والتعيي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دريب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قييم الأداء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عويضات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صحة والسلام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goals.jpg"/>
          <p:cNvPicPr/>
          <p:nvPr/>
        </p:nvPicPr>
        <p:blipFill>
          <a:blip r:embed="rId2"/>
          <a:stretch/>
        </p:blipFill>
        <p:spPr>
          <a:xfrm>
            <a:off x="0" y="1676520"/>
            <a:ext cx="4267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تعريف تخطيط الموارد البشرية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هي تقدير احتياجات المنشأة من الأفراد كما ونوعا خلال المدة القادمة مع تحديد الوظائف التي يشغلونها ، والمؤهلات المطلوب توافرها فيمن يشغل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untitledhrr.bmp"/>
          <p:cNvPicPr/>
          <p:nvPr/>
        </p:nvPicPr>
        <p:blipFill>
          <a:blip r:embed="rId2"/>
          <a:stretch/>
        </p:blipFill>
        <p:spPr>
          <a:xfrm>
            <a:off x="304920" y="4267080"/>
            <a:ext cx="6858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دراسة أهداف التنظي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قدير الطلب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نبؤ العر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الفائض أو العج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ستراتيجيات مواجهة الفائض والعج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536400" y="24912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child-development-baby-milk.jpg"/>
          <p:cNvPicPr/>
          <p:nvPr/>
        </p:nvPicPr>
        <p:blipFill>
          <a:blip r:embed="rId2"/>
          <a:stretch/>
        </p:blipFill>
        <p:spPr>
          <a:xfrm>
            <a:off x="152280" y="1371600"/>
            <a:ext cx="3353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ontent Placeholder 3" descr="HRJigsaw.gif"/>
          <p:cNvPicPr/>
          <p:nvPr/>
        </p:nvPicPr>
        <p:blipFill>
          <a:blip r:embed="rId1"/>
          <a:stretch/>
        </p:blipFill>
        <p:spPr>
          <a:xfrm>
            <a:off x="1542960" y="2104920"/>
            <a:ext cx="6058080" cy="3381480"/>
          </a:xfrm>
          <a:prstGeom prst="rect">
            <a:avLst/>
          </a:prstGeom>
          <a:ln w="0">
            <a:noFill/>
          </a:ln>
        </p:spPr>
      </p:pic>
      <p:pic>
        <p:nvPicPr>
          <p:cNvPr id="386" name="Titl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8520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نوعية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الأفراد المطلوب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ea typeface="Arial"/>
              </a:rPr>
              <a:t> عدد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أفراد المطلوب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أجل اختيار الفرد المناسب وتعيين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project_management3.jpg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بيئة الخارجية المؤثرة على العما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عمالة الح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عمالة في فئات العمر المختلف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سياسة الترقية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ظاهر الغياب ودوران العم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20:45:50Z</dcterms:created>
  <dc:creator>Dell</dc:creator>
  <dc:description/>
  <dc:language>en-US</dc:language>
  <cp:lastModifiedBy>Sultan H. Binsaeed</cp:lastModifiedBy>
  <dcterms:modified xsi:type="dcterms:W3CDTF">2016-04-14T06:26:07Z</dcterms:modified>
  <cp:revision>68</cp:revision>
  <dc:subject/>
  <dc:title>الموارد البشرية</dc:title>
</cp:coreProperties>
</file>