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9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11.png" ContentType="image/png"/>
  <Override PartName="/ppt/media/image7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887-7AED-40A2-8A5A-AE6F5A67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B28-B9F2-4D79-BD74-5E771BEF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7AF-A602-4D2D-9F86-593E751F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9D9-79F2-48A4-B190-22EF187E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7A90-AC62-4E8C-AB27-623C3E4D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52C6-8EC0-483E-86BF-654567FF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ED82-6522-4922-8512-AA9637C4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150F-F7BB-4209-8132-D7667058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5745-EDFC-41B2-B687-155C8500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0360-C645-4E3D-9F5C-09D76E36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675B-7508-48D2-96D9-EBDDBD8E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640-4BEB-409A-9CE7-56378D5F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2385-6476-439A-AAC2-7C081E5B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4AAF-E777-4C5F-8BAC-F4AFF56B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E535-A201-4AFE-8413-A64815B7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27D6-9CD0-428B-A61B-8FAEC879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E57B-A6FA-4149-BD39-047B16B9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3E794-FF03-49A0-9E45-0DFFD04E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72E3-6E94-483D-A073-49299FE5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DC1EE-0635-42BE-8957-95FFE62E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88DD-2A11-4F2C-A112-505A41CE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E49C6-3424-4B7C-A7E5-962E7FDE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810-A7B4-4D77-A0D7-C9712B9B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1C8E3-70B4-4FDA-8E0D-FCCDAE0F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4A69-01A6-4E2B-8C84-7C20FB9E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81E7B-511F-468E-A9AB-E049B195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3A366-A0F2-48C3-A1E5-5496798B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7D2EF-06EA-47C7-84B0-79E1561D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CCC4-7939-42F3-AF15-AA7AF016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8120D-29E0-401F-9E7E-CF5EEB72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B9063-2AC1-4159-A886-E2417BF1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52C6E-F7ED-4B2A-AA9C-AB4B8B24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35E5B-D4A2-4920-B99D-1D22A1A6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5FC-5B7C-48AC-95D0-2D24CAF2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638C6-D10A-4CA8-959F-5013C24B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EAD9C-B690-4F7E-BAB9-9E027AE6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59068-EC03-49EF-A366-CA95BD39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B01B7-540C-439A-8D17-06BAA514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9D241-1083-4E15-9242-4E53B2DB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CD122-FAB8-466B-90D2-A3537691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E316C-57C6-4A3C-AEA4-201592C1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9E508-C681-4DF3-8A91-F51E0B09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A4A92-7656-4D48-A862-20B987EF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70105-FC55-4F83-881B-36AAB88F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722-2A38-468B-86A6-86D9F5E5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1C408-0329-49AD-84AC-2AA5CDF2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2E232-0B33-4D5A-83E0-E9304A02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DB67D-AD4F-4FE2-9467-4800E36C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3D25F-7325-42C0-A40B-E6B06F33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CA156-F20B-4A0D-80A6-E7D34941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901AF-0D08-4435-BB3E-3975EDEB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48D20-E814-4365-9DA2-556C4EEA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4B57B-C81E-4B45-A93C-53A446EA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97CEC-0714-4FD2-8C88-5B07522E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02174-E239-4171-ABCA-FCCBE51F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837-7E8A-40BD-8F88-F4ADA1FE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62478-EB41-4BA4-880D-76791D3F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E9CBC-1020-4885-B08E-BFF04F5C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E233A-4220-466D-B830-86F765E3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C075B-7A81-442F-BE38-99B99A9C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A9FE3-9232-450D-8CA9-AA94970A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E77ED-2DA7-432C-9945-F914BF53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9E07B-8BB5-42E1-9769-2C9AD0D4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89102-0463-4D27-AB41-3825CE6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68B4F-AD38-43D8-9E59-E1948C72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EADB9-EC79-4C1E-8BE8-510EFE7C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E94-1881-4F55-B0B2-00515F7F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F95E6-4D44-4A36-858B-9D924AA4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50AF9-3F69-4FC6-8EFF-89B63AEA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7D3E6-B3ED-45DB-93A7-BB893847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00C8C-A6A3-4407-8335-EB01D37E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00C73-C377-4026-A8BF-93EBDB23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13BA6-25DF-4030-9631-A6AD5BDD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2B2E7-F201-4731-B887-1A1082B5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426EF-097C-4E35-B5A7-7095D81A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AAB8B-B16E-4095-BB83-48F1CB7F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2B802-A926-4330-BC65-BF859149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70D-5130-4F30-8196-A0721E0B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9021B-51AE-4BA1-8D48-52230826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E7A86-5982-4EF4-93A2-65FF5C07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7C682-7FC6-47D1-8667-28585FA5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BED44-9D60-401C-AC67-424139E9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8BBAF-5731-4CF5-B9C0-839697EA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C0EFB-9AA9-4BEC-AB93-4F94A063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18863-9293-4BDC-85FD-FC350FBF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518FF-9060-4AFD-856A-3C6FFDB6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8AAEF-BCC6-40B0-B004-888254AE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A1A65-1769-4B86-97C2-C1A8A6DA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17D-AECC-4480-9DF8-D015D8A8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299E4-F48E-4C2C-A453-CD5ABBEC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759D7-83E5-4DE5-A172-BF16C216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A5B99-4128-49F5-A0D1-58EC50FE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1C188-B338-4844-B775-D0C2FF1D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FEDE5-A2BE-4DEA-9A10-BB654A6C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A918A-E090-4464-B92F-9FEC0EC1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9B746-6FB7-4238-B7A2-544FFE70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895F-0A74-4C33-9AED-E642F280E4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5386-61DD-45F3-9D5C-68FE8DE794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11A4-13ED-4D42-B83D-18218AA21D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7167-820F-434A-BC33-1D6981DF39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1AE0-2FAD-411D-B88D-4E611C9FBC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3602-52CF-4551-BAAE-7D699FC13F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9A20-FFD8-4A2A-AD1C-E51BF332B6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7F5D-9DFD-4166-8978-FFEDDEB5A9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1066680" y="-3956040"/>
            <a:ext cx="7821720" cy="7521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hr.gif"/>
          <p:cNvPicPr/>
          <p:nvPr/>
        </p:nvPicPr>
        <p:blipFill>
          <a:blip r:embed="rId2"/>
          <a:stretch/>
        </p:blipFill>
        <p:spPr>
          <a:xfrm>
            <a:off x="0" y="152280"/>
            <a:ext cx="243828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خلال مقارنة الطلب بالعرض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نوعي والكمي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1292650059_140404567_1-Pictures-of--Sahara-HR-Consultants-Contact-us-for-all-kind-of-Jobs-in-Shimoga-404026.jpg"/>
          <p:cNvPicPr/>
          <p:nvPr/>
        </p:nvPicPr>
        <p:blipFill>
          <a:blip r:embed="rId2"/>
          <a:stretch/>
        </p:blipFill>
        <p:spPr>
          <a:xfrm>
            <a:off x="0" y="121932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في حالة الفائض</a:t>
            </a: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ند ندرة سوق العمل (الحل هو اعادة التدريب والتأهيل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ما وفرة سوق العمل (فالحل هو تبني سياسة الاستغناء)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في حالة العجز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1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/عند ندرة سوق العمل مثل : تنشيط الاستقطاب ، التساهل في معايير الاختيار ،تكثيف التدريب رفع مستوى الأجور والمكافآت 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2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/ اما عند وفرة سوق العمل: التعيين باعتبارات متشدد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هو الإلمام الشامل بتفاصيل كل وظيفة عن طريق الدراسة العلمية لكل منها على حدة ، وملاحظة وتسجيل الحقائق التي توضح واجباتها ومسؤولياتها والظروف المحيطة بها والشروط الواجب توافرها في من يشغلها ، على أن تفرغ هذه المعلومات في كشوف تحليل الوظيفة تمهيدا لتوصيف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25494.jpg"/>
          <p:cNvPicPr/>
          <p:nvPr/>
        </p:nvPicPr>
        <p:blipFill>
          <a:blip r:embed="rId2"/>
          <a:stretch/>
        </p:blipFill>
        <p:spPr>
          <a:xfrm>
            <a:off x="0" y="0"/>
            <a:ext cx="135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165160"/>
                </a:solidFill>
                <a:latin typeface="Lucida Sans Unicode"/>
                <a:cs typeface="Arial"/>
              </a:rPr>
              <a:t>يعني التسجيل المنظم لأبعاد الوظيفة ومكوناتها الأساسية والعوامل المحيطة بها في بطاقة أو كشف خاص لوصف الوظيفة كمستند لتعريف الوظيفة بحيث يعكس: عوامل التقييم الداخلة في تكوين الوظيفة ، ومهامها و واجباتها و مسؤولياتها والحد الأدنى من مطالب التأهيل اللازمة لشغلها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ختيار والتعي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رقية والنق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79200" y="274680"/>
            <a:ext cx="8607600" cy="12002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people_puzzle_md_wm.jpg"/>
          <p:cNvPicPr/>
          <p:nvPr/>
        </p:nvPicPr>
        <p:blipFill>
          <a:blip r:embed="rId2"/>
          <a:stretch/>
        </p:blipFill>
        <p:spPr>
          <a:xfrm>
            <a:off x="-68400" y="3021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قصد بهم النشاط الإداري الذي يتعلق بالبحث عن المهارات المطلوبة للمنشأة ، وحث الأفراد الذين تتوافر لديهم الاشتراطات للتقدم للوظائف الشاغرة تمهيدا لاختيار أفضل المهارات للعمل بالمنشأة المعنية 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تعريف الترقية 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نتقال العامل من وظيفة إلى وظيفة أخرى ذات مسؤوليات ومهام أعلى وبالتالي ذات راتب أعلى حاليا أو مستقبل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أسس الترقي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اقدم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أقدمية و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عني تحرك العامل من وظيفة إلى وظيفة أخرى على المستوى الإداري نفسه وبأجر مشابه ، وبأدنى تغير في الواجبات والمسؤوليات ، مع اختلافات في ظروف العم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* 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التنزيل الوظيفي: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و النقل إلى وظيفة أقل مسؤولية وراتب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12120" cy="1146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Job-Transfer.jpg"/>
          <p:cNvPicPr/>
          <p:nvPr/>
        </p:nvPicPr>
        <p:blipFill>
          <a:blip r:embed="rId2"/>
          <a:stretch/>
        </p:blipFill>
        <p:spPr>
          <a:xfrm>
            <a:off x="1752480" y="44956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لبرامج الرسمية التي تستخدمها المنشاة لأجل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ساعدة العاملين على كسب الفاعلية و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للقيام بأعمالهم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training.gif"/>
          <p:cNvPicPr/>
          <p:nvPr/>
        </p:nvPicPr>
        <p:blipFill>
          <a:blip r:embed="rId2"/>
          <a:stretch/>
        </p:blipFill>
        <p:spPr>
          <a:xfrm>
            <a:off x="0" y="190512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و عبارة عن التقييم الدوري لأداء الفرد لوظيفته ومدى اتجاه قدراته وامكانياته نحو التقدم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ويفيد تقييم الأداء في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كتشاف الحاجات التدريب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حكم على فعالية سياسة الاختيار والتعي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وفير معلومات عن العاملين تساعد في تخطيط القوى العام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ح العلاوات والترقية وتنمية الموظ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866529_feedback_form_excellent.jpg"/>
          <p:cNvPicPr/>
          <p:nvPr/>
        </p:nvPicPr>
        <p:blipFill>
          <a:blip r:embed="rId2"/>
          <a:stretch/>
        </p:blipFill>
        <p:spPr>
          <a:xfrm>
            <a:off x="0" y="2666880"/>
            <a:ext cx="144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فهوم وأهداف إدارة الأفراد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Arial"/>
              </a:rPr>
              <a:t>وظائف إدارة الأفراد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عنوان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3352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ff0000"/>
                </a:solidFill>
                <a:uFillTx/>
                <a:latin typeface="Lucida Sans Unicode"/>
                <a:cs typeface="Arial"/>
              </a:rPr>
              <a:t>وظيفة الأفراد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ea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لأنشطة المختلفة التي تمارسها الوحدة التنظيمية المسؤولة عن تدبير القوى العاملة اللازمة للمنظمة ، كما ونوعا وتوقيتا والمحافظة عليها وتعويضها وتنميتها وتحفيز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ff0000"/>
                </a:solidFill>
                <a:uFillTx/>
                <a:latin typeface="Lucida Sans Unicode"/>
                <a:cs typeface="Arial"/>
              </a:rPr>
              <a:t>إدارة الأفراد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2b4a76"/>
                </a:solidFill>
                <a:latin typeface="Lucida Sans Unicode"/>
                <a:cs typeface="Arial"/>
              </a:rPr>
              <a:t>هي الكيفية التي يتعامل بها كل مدير مع مرؤوسيه ليصل بهم إلى تحقيق الأهداف المراد تحقيقها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5e2d37"/>
                </a:solidFill>
                <a:latin typeface="Lucida Sans Unicode"/>
                <a:ea typeface="Arial"/>
              </a:rPr>
              <a:t>*إذن ........ هي وظيفة كل مدير بينما ....... هي أحد وظائف المنظم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ea typeface="Arial"/>
              </a:rPr>
              <a:t>*أهداف إدارة الأفراد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خطيط الموارد البشر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ليل وتصميم الوظائ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ستقطاب والاختيار والتعيي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دريب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قييم الأداء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عويضات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صحة والسلام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goals.jpg"/>
          <p:cNvPicPr/>
          <p:nvPr/>
        </p:nvPicPr>
        <p:blipFill>
          <a:blip r:embed="rId2"/>
          <a:stretch/>
        </p:blipFill>
        <p:spPr>
          <a:xfrm>
            <a:off x="0" y="1676520"/>
            <a:ext cx="4267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تعريف تخطيط الموارد البشرية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هي تقدير احتياجات المنشأة من الأفراد كما ونوعا خلال المدة القادمة مع تحديد الوظائف التي يشغلونها ، والمؤهلات المطلوب توافرها فيمن يشغل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untitledhrr.bmp"/>
          <p:cNvPicPr/>
          <p:nvPr/>
        </p:nvPicPr>
        <p:blipFill>
          <a:blip r:embed="rId2"/>
          <a:stretch/>
        </p:blipFill>
        <p:spPr>
          <a:xfrm>
            <a:off x="304920" y="4267080"/>
            <a:ext cx="6858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دراسة أهداف التنظي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قدير الطلب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نبؤ العر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الفائض أو العج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ستراتيجيات مواجهة الفائض والعج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536400" y="24912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child-development-baby-milk.jpg"/>
          <p:cNvPicPr/>
          <p:nvPr/>
        </p:nvPicPr>
        <p:blipFill>
          <a:blip r:embed="rId2"/>
          <a:stretch/>
        </p:blipFill>
        <p:spPr>
          <a:xfrm>
            <a:off x="152280" y="1371600"/>
            <a:ext cx="3353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ontent Placeholder 3" descr="HRJigsaw.gif"/>
          <p:cNvPicPr/>
          <p:nvPr/>
        </p:nvPicPr>
        <p:blipFill>
          <a:blip r:embed="rId1"/>
          <a:stretch/>
        </p:blipFill>
        <p:spPr>
          <a:xfrm>
            <a:off x="1542960" y="2104920"/>
            <a:ext cx="6058080" cy="3381480"/>
          </a:xfrm>
          <a:prstGeom prst="rect">
            <a:avLst/>
          </a:prstGeom>
          <a:ln w="0">
            <a:noFill/>
          </a:ln>
        </p:spPr>
      </p:pic>
      <p:pic>
        <p:nvPicPr>
          <p:cNvPr id="386" name="Titl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8520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نوعية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الأفراد المطلوب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ea typeface="Arial"/>
              </a:rPr>
              <a:t> عدد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أفراد المطلوب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أجل اختيار الفرد المناسب وتعيين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project_management3.jpg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بيئة الخارجية المؤثرة على العما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عمالة الح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عمالة في فئات العمر المختلف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سياسة الترقية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ظاهر الغياب ودوران العم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20:45:50Z</dcterms:created>
  <dc:creator>Dell</dc:creator>
  <dc:description/>
  <dc:language>en-US</dc:language>
  <cp:lastModifiedBy>Sultan H. Binsaeed</cp:lastModifiedBy>
  <dcterms:modified xsi:type="dcterms:W3CDTF">2016-04-14T06:26:07Z</dcterms:modified>
  <cp:revision>68</cp:revision>
  <dc:subject/>
  <dc:title>الموارد البشرية</dc:title>
</cp:coreProperties>
</file>