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5CA36-84FC-4A8D-BB4A-E6634CB0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73B48-1FA4-45AD-B7DE-D984FAE9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89436-240F-469C-AF6A-53FE2F6C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1963F-6BAB-4162-B57E-854EDAD3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E6DC-1A98-468F-BAEE-F4118A40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2E44-75E1-4CF5-89B7-1D03BB6D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F228-6E24-4C38-A949-1E3F93AF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E019-9B8C-4C64-989A-D57853F2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2A1D-E926-4913-8D87-4DBB2E6A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3C91-C91F-4143-8B5F-5BA4DDE8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3C24-444A-4005-BF5C-34F49E19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A19A0-A721-4D1C-BCB3-75F2F9F3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09F3-BEB7-4A43-A894-BF0BEE62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F390-6261-442C-BB01-8BFD080E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9874-26D5-4DCA-9B1B-FBA78684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513F-D5A7-4A05-811A-62ACE2C3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8A9B-E791-4B91-AD5B-044058B0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F2879-8CA9-465C-A949-26FFE9E8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272A0-4B6F-4D7D-848B-E78C843E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952BD-EC73-4C26-994F-B7015436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9C1DE-D9C5-44E0-93CC-8DA0EDE4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144A2-C69B-4C9A-B2B2-C1A4B58C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E84E3-58C9-43E3-A57B-CC1FE27F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79048-629B-4A88-BF94-3FB22854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F1DE-4401-45B3-918D-2CF98F3C689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D807-4CF5-443F-913A-7591FB66545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4000" y="-594000"/>
            <a:ext cx="8496000" cy="80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bf25a"/>
                </a:solidFill>
                <a:latin typeface="Tahoma"/>
              </a:rPr>
              <a:t>الكشف عن العناصر الغذائية في المستخلص النبات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ffff"/>
                </a:solidFill>
                <a:latin typeface="Tahoma"/>
              </a:rPr>
              <a:t>تحضير المستخلص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</a:rPr>
              <a:t>خذي حوالي 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</a:rPr>
              <a:t> جم من الأجزاء الطرفية لساق النبات المطلوب الكشف عن العناصر الغذائية فيه ، ثم قطعيها إلى أجزاء صغيرة وضعيها في هاون مع حوالي 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</a:rPr>
              <a:t> ملليلتر ماء مقطر وبضع نقاط من حامض الخليك المخفف ( 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</a:rPr>
              <a:t>1:3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</a:rPr>
              <a:t>) ، اسحقي النبات جيداً ثم رشحي واحتفظي بالراشح للكشف عن العناصر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-166320"/>
            <a:ext cx="8964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لكشف عن الحديد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ron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مل من المستخلص في أنبوبة اختبار وأضيفي إليه ثلاث نقاط من محلول ثيوسيانات البوتاسيوم ثم أضيفي نصف مل من حامض يد كل (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CL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) المخفف ولاحظي تكون لون أحمر يزداد بزيادة تركيز الحديد في النبات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4000" y="2536920"/>
            <a:ext cx="806436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8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iron004" descr=""/>
          <p:cNvPicPr/>
          <p:nvPr/>
        </p:nvPicPr>
        <p:blipFill>
          <a:blip r:embed="rId1"/>
          <a:stretch/>
        </p:blipFill>
        <p:spPr>
          <a:xfrm>
            <a:off x="971640" y="3084480"/>
            <a:ext cx="4752720" cy="331308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0" name=""/>
          <p:cNvSpPr/>
          <p:nvPr/>
        </p:nvSpPr>
        <p:spPr>
          <a:xfrm>
            <a:off x="1833120" y="576720"/>
            <a:ext cx="80686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MCS Diwany2 S_I normal."/>
              </a:rPr>
              <a:t>الحديد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منشط لأنزيمات الأكسدة والإختزال في العمليات الحيو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يدخل في تركيب الكلوروفي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يدخل في تركيب الميتوكندري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يدخل في تركيب المركبات الدهنية التي تدخل في تركيب الأغشية النوو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MCS Diwany2 S_I normal."/>
              </a:rPr>
              <a:t>أعراض النقص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صفرار الأوراق مع بقاء العروق خضراء اللون وتشوه كامل للجرانا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1360" y="333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8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50040"/>
            <a:ext cx="856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الكشف عن النترات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Nitrate</a:t>
            </a: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ضعي نقطتين من المستخلص في أنبوبة صغيرة ثم أضيفي إليها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نقاط من محلول داي فينيل أمين </a:t>
            </a: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Diphenylamine</a:t>
            </a:r>
            <a:r>
              <a:rPr b="1" lang="ar-SA" sz="28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ولاحظي تلون المحلول باللون </a:t>
            </a:r>
            <a:r>
              <a:rPr b="1" lang="ar-SA" sz="2800" spc="-1" strike="noStrike">
                <a:solidFill>
                  <a:srgbClr val="0099cc"/>
                </a:solidFill>
                <a:latin typeface="Tahoma"/>
              </a:rPr>
              <a:t>الأزرق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في وقت قصير ولاحظي أيضاَ أن درجة تركيز اللون تتناسب طردياً مع تركيز النترات في محلول النب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7561440" cy="3784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245360" y="415116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يتكون محل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ازرق لونه يتناس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مع تركيز النترات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في المستخل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164000" y="4292640"/>
            <a:ext cx="792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19280" y="-33300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كشف عن الكبريتات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ulphate</a:t>
            </a: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ضعي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مل من المستخلص وأضيفي إليه نقطة من محلول كلوريد الباريوم ورجي الأنبوبة  . لاحظي تكون راسب أبيض . أضيفي نقطتين من محلول حمض الخليك لإبقاء الراسب في حالة معلق ، كثافته تتناسب طردياً مع تركيز الكبريتات في النب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7274160" cy="3405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26920" y="5877000"/>
            <a:ext cx="72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##############################################################################################################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-299880" y="228600"/>
            <a:ext cx="1014732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MCS Diwany2 S_I normal."/>
                <a:cs typeface="Times New Roman"/>
              </a:rPr>
              <a:t>الكبريت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يدخل في تركيب الأحماض الأمي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يدخل في تركيب الفيتامينا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يدخل في تركيب المركبات التي تعطي نكهة خاصة لبعض النباتات ( البصل ، الثوم ، القرنبيط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MCS Diwany2 S_I normal."/>
                <a:cs typeface="Times New Roman"/>
              </a:rPr>
              <a:t>أعراض النق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لكبريت عنصر ثابت </a:t>
            </a:r>
            <a:r>
              <a:rPr b="0" lang="ar-SA" sz="1800" spc="-1" strike="noStrike" u="sng" baseline="30000">
                <a:solidFill>
                  <a:srgbClr val="ebf25a"/>
                </a:solidFill>
                <a:uFillTx/>
                <a:latin typeface="Arial"/>
                <a:ea typeface="Times New Roman"/>
                <a:hlinkClick r:id="rId1" action="ppaction://hlinksldjump"/>
              </a:rPr>
              <a:t>[1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sulfur 8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4681440" cy="32115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5" name=""/>
          <p:cNvSpPr/>
          <p:nvPr/>
        </p:nvSpPr>
        <p:spPr>
          <a:xfrm>
            <a:off x="2773080" y="2205000"/>
            <a:ext cx="6586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Arial"/>
                <a:cs typeface="Times New Roman"/>
              </a:rPr>
              <a:t>اصفرار كامل للأوراق ويمتد الإصفرار إلى العنق ثم إلى بقية النبات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9720" y="6408000"/>
            <a:ext cx="43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 baseline="30000">
                <a:solidFill>
                  <a:srgbClr val="ebf25a"/>
                </a:solidFill>
                <a:uFillTx/>
                <a:latin typeface="Arial"/>
                <a:ea typeface="Times New Roman"/>
                <a:hlinkClick r:id="rId3" action="ppaction://hlinksldjump"/>
              </a:rPr>
              <a:t>[1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اعراض النقص تظهر في الأوراق الحديث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47160"/>
            <a:ext cx="8820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كشف عن الكلوريد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hloride</a:t>
            </a: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مل من المستخلص وأضيفي إليه نقطة من محلول نترات الفضة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% ولاحظي تكون راسب أبيض . أضيفي نقطتين من حامض الخليك مع الرج ليظل الراسب معلقاً وتتناسب كثافة المعلق طردياً مع تركيز الكلوريد في النب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79912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22400" y="250560"/>
            <a:ext cx="893880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MCS Diwany2 S_I normal."/>
              </a:rPr>
              <a:t>الكلوريد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له دور فعال في انتقال الإلكترونات في عملية الفسفرة الضوئية الدائر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له دور مهم في انتقال نواتج الأيض من الأوراق إلى بقية أجزاء النبا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MCS Diwany2 S_I normal."/>
              </a:rPr>
              <a:t>أغراض النق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ذبول ونقص في النم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اصفرار في الأوراق وتبقع في اللون البني الداك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chloride 1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7777080" cy="36432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-471600"/>
            <a:ext cx="871380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الكشف عن المغنيسيوم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Magnesium</a:t>
            </a: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ل من المستخلص وأضيفي إليه نقطة من محلول </a:t>
            </a: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أصفر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تيتان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itan yellow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، رجي الأنبوبة وأضيفي نقطتين من محلول هيدروكسيد الصوديوم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% ثم رجي الأنبوبة ولاحظي تكون لون يتراوح بين </a:t>
            </a:r>
            <a:r>
              <a:rPr b="1" lang="ar-SA" sz="3200" spc="-1" strike="noStrike">
                <a:solidFill>
                  <a:srgbClr val="ff9933"/>
                </a:solidFill>
                <a:latin typeface="Tahoma"/>
              </a:rPr>
              <a:t>البرتقالي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فاتح والأحمر القاتم تبعاً لتركيز المغنيسيوم في النبات وفي عدم وجود المغنيسيوم يتكون لون أصف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42920" y="3262320"/>
            <a:ext cx="748836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9120" y="47160"/>
            <a:ext cx="8894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الكشف عن الكالسيوم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Calcium</a:t>
            </a: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مل من المستخلص في أنبوبة اختبار وأضيفي إليه نقطتين من محلول أكسالات الأمونيوم ، رجي بشدة ولاحظي تكون معلق أبيض تزداد كثافته بزيادة تركيز الكالسيوم في النب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842472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-1165680" y="197640"/>
            <a:ext cx="121377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MCS Diwany2 S_I normal."/>
              </a:rPr>
              <a:t>الكالسيوم :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يدخل في التركيب الصفيحة الوسط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يدخل في تركيب الأغشية الخلوي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يدخل في تركيب الكروماتين في الإنقسامات الخلو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يدخل في تنشيط الإنزيمات المهمة في العمليات الحيو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MCS Diwany2 S_I normal."/>
              </a:rPr>
              <a:t>أغراض النق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صفرار القمم النامية في المجموع الخضري يعقبه جفاف في الأوراق وتشوه الأوراق وتكسير في أعناق الأزها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تلون القمم النامية للمجموع الجذري والخضري  في النهاية باللون البني الداك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835280" y="3102120"/>
            <a:ext cx="5976720" cy="316548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8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09:50:36Z</dcterms:created>
  <dc:creator>HELP</dc:creator>
  <dc:description/>
  <dc:language>en-US</dc:language>
  <cp:lastModifiedBy>HELP</cp:lastModifiedBy>
  <dcterms:modified xsi:type="dcterms:W3CDTF">2008-05-01T10:52:22Z</dcterms:modified>
  <cp:revision>21</cp:revision>
  <dc:subject/>
  <dc:title>الشريحة 1</dc:title>
</cp:coreProperties>
</file>