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B3E9-43C8-4D71-85F0-CAFB6285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5DE1-0C40-4333-BA9B-9DD59C6C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12D2-CC15-48EE-B8E4-96099382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58BF-9705-4014-9192-31E520A9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C999-6D20-489C-A40A-2D6C14BC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E954-7F0C-47EC-B5DB-A41CDDC6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7855-6F5E-45F8-9478-A0539B89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735D-5E6F-44C9-85E4-48709C38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D77F-2A28-4EA6-A6DB-DCB99D7B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158B-7A58-4DAA-9A63-CC371D13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FF59-BB66-4C45-BF76-7E7788C1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CCA7-D095-4E48-8B6E-88583202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0AE5-369E-4616-85AD-B684826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20C2-784B-49B4-AD73-D9D56C5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F229-52A2-4EC4-B2C6-994C2849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7D36-A884-4C63-B557-68A5283A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64AA-FD1B-454D-92BA-7B2E1EEF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E7D21-70DF-4C2B-9893-18EE1497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CCE60-394C-46DD-99FB-1AB6D78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FDF7-81C2-47F4-9BD9-B65CCB42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859E-D453-406A-BE0E-020E7467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5590-3165-4A05-BD0D-534A564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440B-6A5D-476D-B171-2A7814EA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976A-1450-43C4-A119-F0A2A2A2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A533-9C3D-4812-B3EF-C1021BE75C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0337-0EBF-4304-90B8-89976E91AF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-594000"/>
            <a:ext cx="8496000" cy="80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bf25a"/>
                </a:solidFill>
                <a:latin typeface="Tahoma"/>
              </a:rPr>
              <a:t>الكشف عن العناصر الغذائية في المستخلص النبات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ff"/>
                </a:solidFill>
                <a:latin typeface="Tahoma"/>
              </a:rPr>
              <a:t>تحضير المستخلص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خذي حوالي 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 جم من الأجزاء الطرفية لساق النبات المطلوب الكشف عن العناصر الغذائية فيه ، ثم قطعيها إلى أجزاء صغيرة وضعيها في هاون مع حوالي 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 ملليلتر ماء مقطر وبضع نقاط من حامض الخليك المخفف ( 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1:3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</a:rPr>
              <a:t>) ، اسحقي النبات جيداً ثم رشحي واحتفظي بالراشح للكشف عن العناصر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-166320"/>
            <a:ext cx="89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كشف عن الحديد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ron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ل من المستخلص في أنبوبة اختبار وأضيفي إليه ثلاث نقاط من محلول ثيوسيانات البوتاسيوم ثم أضيفي نصف مل من حامض يد كل (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CL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) المخفف ولاحظي تكون لون أحمر يزداد بزيادة تركيز الحديد في النبا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2536920"/>
            <a:ext cx="806436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ron004" descr=""/>
          <p:cNvPicPr/>
          <p:nvPr/>
        </p:nvPicPr>
        <p:blipFill>
          <a:blip r:embed="rId1"/>
          <a:stretch/>
        </p:blipFill>
        <p:spPr>
          <a:xfrm>
            <a:off x="971640" y="3084480"/>
            <a:ext cx="4752720" cy="33130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0" name=""/>
          <p:cNvSpPr/>
          <p:nvPr/>
        </p:nvSpPr>
        <p:spPr>
          <a:xfrm>
            <a:off x="1833120" y="576720"/>
            <a:ext cx="80686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الحديد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منشط لأنزيمات الأكسدة والإختزال في العمليات الحيو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كلوروفي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ميتوكندر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مركبات الدهنية التي تدخل في تركيب الأغشية النوو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أعراض النقص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صفرار الأوراق مع بقاء العروق خضراء اللون وتشوه كامل للجرانا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1360" y="333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50040"/>
            <a:ext cx="856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الكشف عن النترات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Nitrate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ضعي نقطتين من المستخلص في أنبوبة صغيرة ثم أضيفي إليها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نقاط من محلول داي فينيل أمين 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Diphenylamine</a:t>
            </a:r>
            <a:r>
              <a:rPr b="1" lang="ar-SA" sz="2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ولاحظي تلون المحلول باللون </a:t>
            </a:r>
            <a:r>
              <a:rPr b="1" lang="ar-SA" sz="2800" spc="-1" strike="noStrike">
                <a:solidFill>
                  <a:srgbClr val="0099cc"/>
                </a:solidFill>
                <a:latin typeface="Tahoma"/>
              </a:rPr>
              <a:t>الأزرق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في وقت قصير ولاحظي أيضاَ أن درجة تركيز اللون تتناسب طردياً مع تركيز النترات في محلول الن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7561440" cy="3784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245360" y="415116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يتكون محل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ازرق لونه يتناس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مع تركيز النترات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في المستخل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164000" y="4292640"/>
            <a:ext cx="792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19280" y="-33300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كشف عن الكبريت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ulphate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ضعي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مل من المستخلص وأضيفي إليه نقطة من محلول كلوريد الباريوم ورجي الأنبوبة  . لاحظي تكون راسب أبيض . أضيفي نقطتين من محلول حمض الخليك لإبقاء الراسب في حالة معلق ، كثافته تتناسب طردياً مع تركيز الكبريتات في النب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274160" cy="340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5877000"/>
            <a:ext cx="72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#############################################################################################################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299880" y="228600"/>
            <a:ext cx="101473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MCS Diwany2 S_I normal."/>
                <a:cs typeface="Times New Roman"/>
              </a:rPr>
              <a:t>الكبري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أحماض الأمي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فيتامين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مركبات التي تعطي نكهة خاصة لبعض النباتات ( البصل ، الثوم ، القرنبيط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MCS Diwany2 S_I normal."/>
                <a:cs typeface="Times New Roman"/>
              </a:rPr>
              <a:t>أعراض النق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كبريت عنصر ثابت </a:t>
            </a:r>
            <a:r>
              <a:rPr b="0" lang="ar-SA" sz="1800" spc="-1" strike="noStrike" u="sng" baseline="30000">
                <a:solidFill>
                  <a:srgbClr val="ebf25a"/>
                </a:solidFill>
                <a:uFillTx/>
                <a:latin typeface="Arial"/>
                <a:ea typeface="Times New Roman"/>
                <a:hlinkClick r:id="rId1" action="ppaction://hlinksldjump"/>
              </a:rPr>
              <a:t>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sulfur 8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4681440" cy="32115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2773080" y="2205000"/>
            <a:ext cx="65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  <a:cs typeface="Times New Roman"/>
              </a:rPr>
              <a:t>اصفرار كامل للأوراق ويمتد الإصفرار إلى العنق ثم إلى بقية النبات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9720" y="6408000"/>
            <a:ext cx="43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 baseline="30000">
                <a:solidFill>
                  <a:srgbClr val="ebf25a"/>
                </a:solidFill>
                <a:uFillTx/>
                <a:latin typeface="Arial"/>
                <a:ea typeface="Times New Roman"/>
                <a:hlinkClick r:id="rId3" action="ppaction://hlinksldjump"/>
              </a:rPr>
              <a:t>[1]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اعراض النقص تظهر في الأوراق الحديث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47160"/>
            <a:ext cx="8820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كشف عن الكلوريد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hloride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مل من المستخلص وأضيفي إليه نقطة من محلول نترات الفضة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% ولاحظي تكون راسب أبيض . أضيفي نقطتين من حامض الخليك مع الرج ليظل الراسب معلقاً وتتناسب كثافة المعلق طردياً مع تركيز الكلوريد في الن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79912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22400" y="250560"/>
            <a:ext cx="89388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الكلوريد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له دور فعال في انتقال الإلكترونات في عملية الفسفرة الضوئية الدائر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له دور مهم في انتقال نواتج الأيض من الأوراق إلى بقية أجزاء النب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أغراض النق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ذبول ونقص في النم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اصفرار في الأوراق وتبقع في اللون البني الداك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chloride 1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777080" cy="36432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-471600"/>
            <a:ext cx="87138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الكشف عن المغنيسيوم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agnesium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مل من المستخلص وأضيفي إليه نقطة من محلول 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أصفر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تيتان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tan yellow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، رجي الأنبوبة وأضيفي نقطتين من محلول هيدروكسيد الصوديوم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% ثم رجي الأنبوبة ولاحظي تكون لون يتراوح بين </a:t>
            </a:r>
            <a:r>
              <a:rPr b="1" lang="ar-SA" sz="3200" spc="-1" strike="noStrike">
                <a:solidFill>
                  <a:srgbClr val="ff9933"/>
                </a:solidFill>
                <a:latin typeface="Tahoma"/>
              </a:rPr>
              <a:t>البرتقالي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فاتح والأحمر القاتم تبعاً لتركيز المغنيسيوم في النبات وفي عدم وجود المغنيسيوم يتكون لون أص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3262320"/>
            <a:ext cx="7488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9120" y="47160"/>
            <a:ext cx="889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الكشف عن الكالسيوم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alcium</a:t>
            </a: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ل من المستخلص في أنبوبة اختبار وأضيفي إليه نقطتين من محلول أكسالات الأمونيوم ، رجي بشدة ولاحظي تكون معلق أبيض تزداد كثافته بزيادة تركيز الكالسيوم في الن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84247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165680" y="197640"/>
            <a:ext cx="121377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الكالسيوم :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التركيب الصفيحة الوسط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أغشية الخلوي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ركيب الكروماتين في الإنقسامات الخلو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دخل في تنشيط الإنزيمات المهمة في العمليات الحيو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MCS Diwany2 S_I normal."/>
              </a:rPr>
              <a:t>أغراض النق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صفرار القمم النامية في المجموع الخضري يعقبه جفاف في الأوراق وتشوه الأوراق وتكسير في أعناق الأزها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تلون القمم النامية للمجموع الجذري والخضري  في النهاية باللون البني الداك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35280" y="3102120"/>
            <a:ext cx="5976720" cy="3165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50:36Z</dcterms:created>
  <dc:creator>HELP</dc:creator>
  <dc:description/>
  <dc:language>en-US</dc:language>
  <cp:lastModifiedBy>HELP</cp:lastModifiedBy>
  <dcterms:modified xsi:type="dcterms:W3CDTF">2008-05-01T10:52:22Z</dcterms:modified>
  <cp:revision>21</cp:revision>
  <dc:subject/>
  <dc:title>الشريحة 1</dc:title>
</cp:coreProperties>
</file>