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4C1-1976-48E3-88AD-F1297C0D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4E7-CD14-4F74-9F10-B6ECCAB5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001-67EC-4986-B060-3887FAF5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D3F-1716-46F5-9D3B-C8B077E2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6579-201D-40D8-B26F-243B4E58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AF9D-6F24-49D9-9DF5-1D8D36C6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7DA0-B04A-4995-B22F-8AD27628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1C70-B913-4887-BED6-5D4A2E30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53EC-AAC4-4985-BD61-3595E2C8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3160-556F-4E60-A3B8-E935BC4E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38C4-B5F9-4079-90CB-2E668E9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BD7-DB5D-4D43-B5BC-FB3FC9C8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1949-8918-4E99-B33F-9C9DFEFE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2ECD-2020-419E-8844-E145B506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2BC0-42D6-4479-A074-1FA69D24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16AB-5C10-48FD-9F97-623B6D4E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B92A-B1B1-477D-BC3F-91EA5E26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DE4-9A18-4CAC-9C9C-A0B147A0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115-49EE-4813-B0EE-44726FD1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EAC-9ECF-48A0-87AD-1A65651F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F60-0A7B-4765-BF3F-F82F186A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4E4-F333-44B4-AF15-DB78F2C4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063-ADDE-4F0B-91C8-2B26382A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00F-75AE-4B57-8994-DD656149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F497-AEDD-4A64-920E-2BC8B24F7214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03C2-DB1E-4A11-A18A-5022C7C43015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fitofiz-03"/>
          <p:cNvPicPr/>
          <p:nvPr/>
        </p:nvPicPr>
        <p:blipFill>
          <a:blip r:embed="rId1"/>
          <a:stretch/>
        </p:blipFill>
        <p:spPr>
          <a:xfrm>
            <a:off x="142920" y="2116080"/>
            <a:ext cx="2197080" cy="34005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0" name="Rectangle 6"/>
          <p:cNvSpPr/>
          <p:nvPr/>
        </p:nvSpPr>
        <p:spPr>
          <a:xfrm>
            <a:off x="0" y="709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تحس النباتات وتتحرك حركة بطيئة تتوقف على بعض التغيرات في عوامل البيئة ، والتغير في عوامل البيئة تسمى المؤثر ويتبع ذلك حركة تسمى الإستجاب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980000" y="189000"/>
            <a:ext cx="461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</a:rPr>
              <a:t>الاحساس والحرك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835280" y="4385880"/>
            <a:ext cx="6967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MCS Diwany2 S_I normal."/>
                <a:cs typeface="Times New Roman"/>
              </a:rPr>
              <a:t>من استجابات النبات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استجابة النبات للجاذبية الأرضية ( الإنتحاء الأرضي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استجابة النبات لتأثير الرطوبة ( الإنتحاء المائي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استجابة النبات لتأثير الإضاءة ( الإنتحاء الضوئي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114480" y="39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2722680" y="1451520"/>
            <a:ext cx="62514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والمسئول عن هذه الحركه هي </a:t>
            </a:r>
            <a:r>
              <a:rPr b="1" lang="ar-SA" sz="3200" spc="-1" strike="noStrike">
                <a:solidFill>
                  <a:srgbClr val="00b0f0"/>
                </a:solidFill>
                <a:latin typeface="Arial"/>
              </a:rPr>
              <a:t>الأوكسينا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ي مجموعة من المواد التي لها نشاطها الهرموني تتكون داخل جسم النبات بكمية ضئيلة جدا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009760" y="3156840"/>
            <a:ext cx="444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MCS Diwany2 S_I normal."/>
              </a:rPr>
              <a:t>اهميتها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زيادة في طول الن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MCS Diwany2 S_I normal."/>
              </a:rPr>
              <a:t>الزيادة في الإنقسام الخلو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44360" y="1506240"/>
            <a:ext cx="8964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المواد والأدوات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صندوق من خشب او كرتون بأحد جانبيه فتحة ض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نبات نامي في اصي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طريقة العمل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ضع النبات النامي داخل الصندو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ضع مصدراً ضوئياً أمام الثق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ترك التجربة تعمل لمدة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ايا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5"/>
          <p:cNvGrpSpPr/>
          <p:nvPr/>
        </p:nvGrpSpPr>
        <p:grpSpPr>
          <a:xfrm>
            <a:off x="539640" y="2781360"/>
            <a:ext cx="2808360" cy="3742920"/>
            <a:chOff x="539640" y="2781360"/>
            <a:chExt cx="2808360" cy="3742920"/>
          </a:xfrm>
        </p:grpSpPr>
        <p:pic>
          <p:nvPicPr>
            <p:cNvPr id="108" name="Picture 6" descr="light effict"/>
            <p:cNvPicPr/>
            <p:nvPr/>
          </p:nvPicPr>
          <p:blipFill>
            <a:blip r:embed="rId1"/>
            <a:srcRect l="22743" t="26960" r="14761" b="14711"/>
            <a:stretch/>
          </p:blipFill>
          <p:spPr>
            <a:xfrm>
              <a:off x="539640" y="2781360"/>
              <a:ext cx="2808360" cy="30906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09" name="Text Box 7"/>
            <p:cNvSpPr/>
            <p:nvPr/>
          </p:nvSpPr>
          <p:spPr>
            <a:xfrm>
              <a:off x="539640" y="5948640"/>
              <a:ext cx="280836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99"/>
                  </a:solidFill>
                  <a:latin typeface="Times New Roman"/>
                  <a:cs typeface="MCS Diwany4 S_U normal."/>
                </a:rPr>
                <a:t>الإنحناء الضوئي الموجب للسا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2640" y="331920"/>
            <a:ext cx="96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- الإنتحاء الضوئي للساق ( الإنتحاء الموجب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4716360" y="1547640"/>
            <a:ext cx="3456000" cy="4538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042920" y="1547640"/>
            <a:ext cx="338472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486800" y="3045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- الإنتحاء الأرضي السالب للساق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965040" y="1557000"/>
            <a:ext cx="52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المواد والأدوات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صيص يحتوي على نبات نامي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780000" y="2429280"/>
            <a:ext cx="52196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طريقة العمل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نضع أصيص محتوي على نبات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ي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ضع أفقي في مكان مظلم لمدة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اي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61800" y="2603520"/>
            <a:ext cx="34480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260000" y="370440"/>
            <a:ext cx="65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- الإنتحاء الأرضي الموجب للجذ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541600" y="1062000"/>
            <a:ext cx="7331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المواد والأدوات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ادرة فول نامي حيث نحصل على ( الجذير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طباق بت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اء مقط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ط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24000" y="2921040"/>
            <a:ext cx="8569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طريقة العمل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بتي بادرات الفول في وضع أفقي على قطن مبلل بال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م يتم تغطيته ويحفظ في مكان مظلم لمدة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اي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141640" y="4941720"/>
            <a:ext cx="5221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8:26:22Z</dcterms:created>
  <dc:creator>HELP</dc:creator>
  <dc:description/>
  <dc:language>en-US</dc:language>
  <cp:lastModifiedBy>pc</cp:lastModifiedBy>
  <dcterms:modified xsi:type="dcterms:W3CDTF">2017-11-20T10:04:17Z</dcterms:modified>
  <cp:revision>27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