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AF8-0DEC-4DAD-A8C3-573C1D8B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440-E7BD-4315-94A1-82B43F5F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BAC-D273-4432-A8AD-8E51E976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D6B-6647-45BD-B100-52135D57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F560-0B98-40B9-A0E6-5230AD33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7833-7919-4C3B-9E08-1AC4B2BE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0AFC-DD15-4EBD-8696-8B82A947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084D-B0DE-493A-AD95-EFBB18BF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D612-6DE9-40D1-860A-18AC13AE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A925-303F-4728-A6BF-8A76C4D2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B9B1-28C4-4AE7-B748-E1B291D9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A77-4F04-4DA3-89E6-ECDF6063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3961-DABC-40FD-8174-E5108AFB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3061-9C7D-4903-B9EA-B7AB444A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E251-5CA8-477F-9DD4-4419C1A5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8268-6EFB-461A-B19F-A91543AD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9AD9-9982-4BE8-94C8-6166C0A4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1B4-E093-403A-B9E9-1BF765C2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6BC-CE33-4BE3-AA93-1BA7FE04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E93-06FB-4F53-87C9-E6726FA2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3FA-BF13-4DAC-BDD1-13695142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567-D6D3-4404-958A-BF0FC323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0D9-F65E-4CD3-9AAC-E3A8780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DF9-3DF6-4B4A-A125-A06077E7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9AEA-0286-4239-8443-E04730292F7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C415-D0F2-44F0-A822-700F0272A679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fitofiz-03"/>
          <p:cNvPicPr/>
          <p:nvPr/>
        </p:nvPicPr>
        <p:blipFill>
          <a:blip r:embed="rId1"/>
          <a:stretch/>
        </p:blipFill>
        <p:spPr>
          <a:xfrm>
            <a:off x="142920" y="2116080"/>
            <a:ext cx="2197080" cy="34005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" name="Rectangle 6"/>
          <p:cNvSpPr/>
          <p:nvPr/>
        </p:nvSpPr>
        <p:spPr>
          <a:xfrm>
            <a:off x="0" y="709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حس النباتات وتتحرك حركة بطيئة تتوقف على بعض التغيرات في عوامل البيئة ، والتغير في عوامل البيئة تسمى المؤثر ويتبع ذلك حركة تسمى الإستجاب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980000" y="189000"/>
            <a:ext cx="461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الاحساس والحرك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835280" y="4385880"/>
            <a:ext cx="696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MCS Diwany2 S_I normal."/>
                <a:cs typeface="Times New Roman"/>
              </a:rPr>
              <a:t>من استجابات النبات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استجابة النبات للجاذبية الأرضية ( الإنتحاء الأرضي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استجابة النبات لتأثير الرطوبة ( الإنتحاء المائي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استجابة النبات لتأثير الإضاءة ( الإنتحاء الضوئي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114480" y="39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2722680" y="1451520"/>
            <a:ext cx="6251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المسئول عن هذه الحركه هي </a:t>
            </a:r>
            <a:r>
              <a:rPr b="1" lang="ar-SA" sz="3200" spc="-1" strike="noStrike">
                <a:solidFill>
                  <a:srgbClr val="00b0f0"/>
                </a:solidFill>
                <a:latin typeface="Arial"/>
              </a:rPr>
              <a:t>الأوكسين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ي مجموعة من المواد التي لها نشاطها الهرموني تتكون داخل جسم النبات بكمية ضئيلة جدا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009760" y="3156840"/>
            <a:ext cx="444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اهميتها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زيادة في طول الن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الزيادة في الإنقسام الخلو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44360" y="1506240"/>
            <a:ext cx="8964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المواد والأدوات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صندوق من خشب او كرتون بأحد جانبيه فتحة ض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نبات نامي في اصي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ضع النبات النامي داخل الصندو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ضع مصدراً ضوئياً أمام الثق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ترك التجربة تعمل لمدة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ايا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539640" y="2781360"/>
            <a:ext cx="2808360" cy="3742920"/>
            <a:chOff x="539640" y="2781360"/>
            <a:chExt cx="2808360" cy="3742920"/>
          </a:xfrm>
        </p:grpSpPr>
        <p:pic>
          <p:nvPicPr>
            <p:cNvPr id="108" name="Picture 6" descr="light effict"/>
            <p:cNvPicPr/>
            <p:nvPr/>
          </p:nvPicPr>
          <p:blipFill>
            <a:blip r:embed="rId1"/>
            <a:srcRect l="22743" t="26960" r="14761" b="14711"/>
            <a:stretch/>
          </p:blipFill>
          <p:spPr>
            <a:xfrm>
              <a:off x="539640" y="2781360"/>
              <a:ext cx="2808360" cy="30906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09" name="Text Box 7"/>
            <p:cNvSpPr/>
            <p:nvPr/>
          </p:nvSpPr>
          <p:spPr>
            <a:xfrm>
              <a:off x="539640" y="5948640"/>
              <a:ext cx="280836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  <a:cs typeface="MCS Diwany4 S_U normal."/>
                </a:rPr>
                <a:t>الإنحناء الضوئي الموجب للسا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2640" y="331920"/>
            <a:ext cx="96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- الإنتحاء الضوئي للساق ( الإنتحاء الموجب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716360" y="1547640"/>
            <a:ext cx="3456000" cy="4538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042920" y="1547640"/>
            <a:ext cx="338472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486800" y="3045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- الإنتحاء الأرضي السالب للساق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965040" y="1557000"/>
            <a:ext cx="52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المواد والأدوات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صيص يحتوي على نبات نامي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780000" y="2429280"/>
            <a:ext cx="52196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نضع أصيص محتوي على نبات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ي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ضع أفقي في مكان مظلم لمدة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اي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61800" y="2603520"/>
            <a:ext cx="34480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260000" y="370440"/>
            <a:ext cx="65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- الإنتحاء الأرضي الموجب للجذ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541600" y="1062000"/>
            <a:ext cx="7331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المواد والأدوات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ادرة فول نامي حيث نحصل على ( الجذير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طباق بت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اء مقط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4000" y="2921040"/>
            <a:ext cx="856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بتي بادرات الفول في وضع أفقي على قطن مبلل بال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م يتم تغطيته ويحفظ في مكان مظلم لمدة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اي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141640" y="4941720"/>
            <a:ext cx="5221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8:26:22Z</dcterms:created>
  <dc:creator>HELP</dc:creator>
  <dc:description/>
  <dc:language>en-US</dc:language>
  <cp:lastModifiedBy>pc</cp:lastModifiedBy>
  <dcterms:modified xsi:type="dcterms:W3CDTF">2017-11-20T10:04:17Z</dcterms:modified>
  <cp:revision>27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