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CB69-EAD5-46EC-950D-878DE6403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B550-2748-41C3-B4FD-A7B8C710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B0D0-1A7E-44EF-BEEF-88B6CA2DD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3B29-40A8-4252-9EB8-4B48BCF81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17F9-20FA-4793-A3F8-DCB07F848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3702-16C2-4323-858C-EFF48FEF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3F91-2CE3-4D69-92A4-36AB8AD7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8F6B-5564-41EB-9944-AE779E82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17F4-1EE3-4E2D-9658-EFAC1784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FFDD-D611-4C79-8C2D-43381649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A593-EA2A-4991-A527-9051D371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AAEF-A5B8-43FB-A727-B7EC28D9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2B22-EF8D-4588-A8A7-CE155535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6429-CE3E-4767-8CE7-A2F630DE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2908-2C02-4B6D-B6BE-AD2FA3ED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AC0F-FC2F-4BD2-8651-8FABBC556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5A17-A28F-4B6F-9339-88CE91E05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C028-C4A7-48FC-BD33-0215524B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AB44-7B94-41DB-9A39-C0F23E02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C22A-F8F4-40CD-8A0C-BC86244A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3FE7-86A8-4C0A-80BE-ADD3282E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15AA-827B-4AB4-BD6B-6A69E3AE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4553-38BC-46ED-9E00-3CFE9DB0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A77B-49AE-41A2-912E-17F6BA8A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B595-CB16-41B0-98AE-1BE3988F6A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12BD-288A-46A9-AC0B-01E9433781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9079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يعرف النتح بأنه فقد الماء من أنسجة النبات ( ساق ، أوراق ) على هيئة بخارية ، </a:t>
            </a: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يفقد النبات معظم الماء من خلال الثغور تقريبا ما يعادل </a:t>
            </a: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95</a:t>
            </a: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% مما يمتص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71640" y="0"/>
            <a:ext cx="324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ffff00"/>
                </a:solidFill>
                <a:uFillTx/>
                <a:latin typeface="Tahoma"/>
              </a:rPr>
              <a:t>النتح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79280" y="2205000"/>
            <a:ext cx="8964000" cy="4462560"/>
            <a:chOff x="179280" y="2205000"/>
            <a:chExt cx="8964000" cy="4462560"/>
          </a:xfrm>
        </p:grpSpPr>
        <p:cxnSp>
          <p:nvCxnSpPr>
            <p:cNvPr id="84" name="_s2065"/>
            <p:cNvCxnSpPr>
              <a:stCxn id="85" idx="0"/>
              <a:endCxn id="86" idx="2"/>
            </p:cNvCxnSpPr>
            <p:nvPr/>
          </p:nvCxnSpPr>
          <p:spPr>
            <a:xfrm flipV="1" rot="16200000">
              <a:off x="5783400" y="2867400"/>
              <a:ext cx="893160" cy="3137760"/>
            </a:xfrm>
            <a:prstGeom prst="bentConnector3">
              <a:avLst>
                <a:gd name="adj1" fmla="val 4995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7" name="_s2064"/>
            <p:cNvCxnSpPr>
              <a:stCxn id="88" idx="0"/>
              <a:endCxn id="86" idx="2"/>
            </p:cNvCxnSpPr>
            <p:nvPr/>
          </p:nvCxnSpPr>
          <p:spPr>
            <a:xfrm rot="16200000">
              <a:off x="4214880" y="4436280"/>
              <a:ext cx="893160" cy="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" name="_s2063"/>
            <p:cNvCxnSpPr>
              <a:stCxn id="90" idx="0"/>
              <a:endCxn id="86" idx="2"/>
            </p:cNvCxnSpPr>
            <p:nvPr/>
          </p:nvCxnSpPr>
          <p:spPr>
            <a:xfrm flipH="1" flipV="1" rot="5400000">
              <a:off x="2646000" y="2867760"/>
              <a:ext cx="893160" cy="3137760"/>
            </a:xfrm>
            <a:prstGeom prst="bentConnector3">
              <a:avLst>
                <a:gd name="adj1" fmla="val 4995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6" name="_s2059"/>
            <p:cNvSpPr/>
            <p:nvPr/>
          </p:nvSpPr>
          <p:spPr>
            <a:xfrm>
              <a:off x="3316680" y="2205000"/>
              <a:ext cx="2689200" cy="17848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900" spc="-1" strike="noStrike">
                  <a:solidFill>
                    <a:srgbClr val="ffff00"/>
                  </a:solidFill>
                  <a:latin typeface="Tahoma"/>
                </a:rPr>
                <a:t>تنقسم عملية النتح إلى ثلاثة أقسام :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_s2060"/>
            <p:cNvSpPr/>
            <p:nvPr/>
          </p:nvSpPr>
          <p:spPr>
            <a:xfrm>
              <a:off x="179280" y="4882680"/>
              <a:ext cx="2689200" cy="17848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900" spc="-1" strike="noStrike">
                  <a:solidFill>
                    <a:srgbClr val="ffff00"/>
                  </a:solidFill>
                  <a:latin typeface="Tahoma"/>
                </a:rPr>
                <a:t>النتح العديسي : 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ffffff"/>
                  </a:solidFill>
                  <a:latin typeface="Tahoma"/>
                </a:rPr>
                <a:t>وهو الماء المفقود عبر العديسات المنتشرة على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ffffff"/>
                  </a:solidFill>
                  <a:latin typeface="Tahoma"/>
                </a:rPr>
                <a:t> سيقان النبات،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ffffff"/>
                  </a:solidFill>
                  <a:latin typeface="Tahoma"/>
                </a:rPr>
                <a:t> والماء المفقود من خلال الأدمة والعديسات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ffffff"/>
                  </a:solidFill>
                  <a:latin typeface="Tahoma"/>
                </a:rPr>
                <a:t>يعتبر ضئيلاً جداً إذا ما قورن بعملية النتح الثغري</a:t>
              </a: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_s2061"/>
            <p:cNvSpPr/>
            <p:nvPr/>
          </p:nvSpPr>
          <p:spPr>
            <a:xfrm>
              <a:off x="3316680" y="4882680"/>
              <a:ext cx="2689200" cy="17848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900" spc="-1" strike="noStrike">
                  <a:solidFill>
                    <a:srgbClr val="ffff00"/>
                  </a:solidFill>
                  <a:latin typeface="Tahoma"/>
                </a:rPr>
                <a:t>النتح الأدمي :</a:t>
              </a:r>
              <a:r>
                <a:rPr b="1" lang="ar-SA" sz="17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700" spc="-1" strike="noStrike">
                  <a:solidFill>
                    <a:srgbClr val="ffffff"/>
                  </a:solidFill>
                  <a:latin typeface="Tahoma"/>
                </a:rPr>
                <a:t>وهو الماء المفقود عبر الأدمة من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700" spc="-1" strike="noStrike">
                  <a:solidFill>
                    <a:srgbClr val="ffffff"/>
                  </a:solidFill>
                  <a:latin typeface="Tahoma"/>
                </a:rPr>
                <a:t>خلال البشرة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_s2062"/>
            <p:cNvSpPr/>
            <p:nvPr/>
          </p:nvSpPr>
          <p:spPr>
            <a:xfrm>
              <a:off x="6454080" y="4882680"/>
              <a:ext cx="2689200" cy="17848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900" spc="-1" strike="noStrike">
                  <a:solidFill>
                    <a:srgbClr val="ffff00"/>
                  </a:solidFill>
                  <a:latin typeface="Tahoma"/>
                </a:rPr>
                <a:t>النتح الثغري :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100" spc="-1" strike="noStrike">
                  <a:solidFill>
                    <a:srgbClr val="ffff00"/>
                  </a:solidFill>
                  <a:latin typeface="Tahoma"/>
                </a:rPr>
                <a:t> </a:t>
              </a:r>
              <a:r>
                <a:rPr b="1" lang="ar-SA" sz="1900" spc="-1" strike="noStrike">
                  <a:solidFill>
                    <a:srgbClr val="ffffff"/>
                  </a:solidFill>
                  <a:latin typeface="Tahoma"/>
                </a:rPr>
                <a:t>وهو الماء المفقود عبر الثغور</a:t>
              </a: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16000" y="-83520"/>
            <a:ext cx="892800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ff00"/>
                </a:solidFill>
                <a:uFillTx/>
                <a:latin typeface="Tahoma"/>
              </a:rPr>
              <a:t>طريقة العمل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ضعي النباتات ذات الأوراق والنباتات الخالية من الأوراق في دوارق زجاجية محتوية على صبغة الأيوسين المخف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اتركيها لبعض الوقت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يتم عمل قطاع طولي وعرضي في الساق وتحمل على شريحة وتفحص تحت المجهر وذلك لفحص اللون في خشب النبات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26920" y="3573360"/>
            <a:ext cx="4824720" cy="3095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26920" y="295200"/>
            <a:ext cx="76010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 u="sng">
                <a:solidFill>
                  <a:srgbClr val="66ff33"/>
                </a:solidFill>
                <a:uFillTx/>
                <a:latin typeface="Tahoma"/>
              </a:rPr>
              <a:t>المشاهده: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</a:rPr>
              <a:t>تلون الخشب في النباتات التي تحتوي على اوراق وعدم تلون الخشب في النبتات التي لا تحتوي على اورا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45600" y="2038320"/>
            <a:ext cx="304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 u="sng">
                <a:solidFill>
                  <a:srgbClr val="66ff33"/>
                </a:solidFill>
                <a:uFillTx/>
                <a:latin typeface="Tahoma"/>
              </a:rPr>
              <a:t>المناقشه: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17080" y="3213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852640"/>
            <a:ext cx="8943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لنباتات الاولى  نتيجة لوجود الاوراق تحدث عملية النتح التي تؤدي الى تكون قوة الشد في الاوراق  فتعمل هذه القوه على :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سحب عمود الماء من الاسفل الى الاعلى عبر الاوعيه الخشبيه وبذلك يتلون الخشب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لنباتات الثانيه نتيجة لعدم وجود الاوراق لا تحدث عملية النتح وبالتالي  يفتقر النبات الى قوة  الشد في الاوراق مما يؤدي الى عدم تلون اوعية الخش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9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635280" y="392400"/>
            <a:ext cx="492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 u="sng">
                <a:solidFill>
                  <a:srgbClr val="ffff00"/>
                </a:solidFill>
                <a:uFillTx/>
                <a:latin typeface="Tahoma"/>
              </a:rPr>
              <a:t>الكشف عن الثغور على سطحي الورق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9760" y="1411920"/>
            <a:ext cx="6795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66ff33"/>
                </a:solidFill>
                <a:uFillTx/>
                <a:latin typeface="Tahoma"/>
              </a:rPr>
              <a:t>الغرض من التجربة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لكشف عن الثغور على سطحي الورقة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19160" y="2298600"/>
            <a:ext cx="33490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6ff33"/>
                </a:solidFill>
                <a:uFillTx/>
                <a:latin typeface="Tahoma"/>
              </a:rPr>
              <a:t>المواد والأدوات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كؤوس زجاج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نبات التين المطا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نبات الوينك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ماء دافي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-1444320" y="801000"/>
            <a:ext cx="12409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6ff33"/>
                </a:solidFill>
                <a:uFillTx/>
                <a:latin typeface="Tahoma"/>
              </a:rPr>
              <a:t>طريقة العمل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غمسي أوراق نبات التين المطاطي وأخري من نبات الوينكا في ماء داف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476360" y="1989000"/>
            <a:ext cx="6551280" cy="4392360"/>
            <a:chOff x="1476360" y="1989000"/>
            <a:chExt cx="6551280" cy="4392360"/>
          </a:xfrm>
        </p:grpSpPr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1476360" y="1989000"/>
              <a:ext cx="6551280" cy="33314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42" name=""/>
            <p:cNvSpPr/>
            <p:nvPr/>
          </p:nvSpPr>
          <p:spPr>
            <a:xfrm>
              <a:off x="1807920" y="5456880"/>
              <a:ext cx="5970600" cy="92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ffff"/>
                  </a:solidFill>
                  <a:latin typeface="Times New Roman"/>
                  <a:cs typeface="Times New Roman"/>
                </a:rPr>
                <a:t>تركيب الثغــــ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089760" y="439560"/>
            <a:ext cx="238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66ff33"/>
                </a:solidFill>
                <a:uFillTx/>
                <a:latin typeface="Tahoma"/>
              </a:rPr>
              <a:t>النتيجه: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1341360"/>
            <a:ext cx="765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ظهور فقاعات هوائيه على السطح السفلي  لورقة نبات التين المطاط وعلى السطح العلوي والسفلي لورقة نبات الوينك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17840" y="2554200"/>
            <a:ext cx="25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 u="sng">
                <a:solidFill>
                  <a:srgbClr val="66ff33"/>
                </a:solidFill>
                <a:uFillTx/>
                <a:latin typeface="Tahoma"/>
              </a:rPr>
              <a:t>المناقشه: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28464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عندما تغمس  الورقه في الماء الساخن يتمدد الهواء في المسافات البينيه  ، أي يتحول من الحاله الذائبه الى الحاله الغازيه ويخرج خلال الثغور الى خارج الورقه في صورة فقاعات هوائيه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ويدل ظهور الفقاعات الهوائيه على السطح السفلي للورقه بينما توجد على سطحي ورقة الوينكا نظرا لظهور الفقاعات الهوائيه على سطحي الورق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4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4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01000" y="403920"/>
            <a:ext cx="963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Tahoma"/>
              </a:rPr>
              <a:t>الكشف عن النتح باستخدام ورقة كلوريد الكوبال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12520" y="1193400"/>
            <a:ext cx="852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6ff33"/>
                </a:solidFill>
                <a:uFillTx/>
                <a:latin typeface="Tahoma"/>
              </a:rPr>
              <a:t>الغرض من التجربة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لكشف عن النتح باستخدام ورقة كلوريد الكوبالت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cobalt-chloride-test-strips" descr=""/>
          <p:cNvPicPr/>
          <p:nvPr/>
        </p:nvPicPr>
        <p:blipFill>
          <a:blip r:embed="rId2"/>
          <a:stretch/>
        </p:blipFill>
        <p:spPr>
          <a:xfrm>
            <a:off x="0" y="2122560"/>
            <a:ext cx="3203640" cy="30351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491200" y="2205000"/>
            <a:ext cx="70704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66ff33"/>
                </a:solidFill>
                <a:uFillTx/>
                <a:latin typeface="Arial"/>
                <a:cs typeface="MCS Diwany2 S_I normal."/>
              </a:rPr>
              <a:t>المواد والأدوات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Times New Roman"/>
              </a:rPr>
              <a:t>شرائح ( ألواح زجاجية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Times New Roman"/>
              </a:rPr>
              <a:t>أربط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Times New Roman"/>
              </a:rPr>
              <a:t>فرن للتجفي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Times New Roman"/>
              </a:rPr>
              <a:t>ورق ترشي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Times New Roman"/>
              </a:rPr>
              <a:t>محلول من كلوريد الكوبالت (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% -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% 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Times New Roman"/>
              </a:rPr>
              <a:t>أوراق نبات الوينك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9640" y="-845640"/>
            <a:ext cx="842328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66ff33"/>
                </a:solidFill>
                <a:uFillTx/>
                <a:latin typeface="Tahoma"/>
              </a:rPr>
              <a:t>طريقة العمل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حضري أوراق كلوريد الكوبالت الجافة بالطريقة التالية: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غمسي أوراق الترشيح في محلول كلوريد الكوبالت واتركيها تجف تماماً في الفرن ولاحظي تحول لونها من اللون الوردي وهي مبتلة إلى اللون الأزرق وهي جاف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غطي سطحي ورقة نبات الوينكا بأوراق كلوريد الكوبالت الجافة ثم غطي أوراق الكوبالت بالألواح الزجاجية مع استخدام اربطة لتمنع أثر الرطوبة الجوية عن أوراق كلوريد الكوبالت واتركيها لبعض الوق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403280" y="3774960"/>
            <a:ext cx="655344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883480" y="314280"/>
            <a:ext cx="288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66ff33"/>
                </a:solidFill>
                <a:uFillTx/>
                <a:latin typeface="Tahoma"/>
              </a:rPr>
              <a:t>النتيجه:ـ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1341360"/>
            <a:ext cx="88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حول اوراق كلوريد الكوبالت الملاصقه للسطح السفلي من ورقة الوينكا من اللون الازرق الى اللون الوردي في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حين تبقى ورقة كلوريد الكوبالت التي تغطي السطح العلوي زرقاء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10640" y="2205000"/>
            <a:ext cx="278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 u="sng">
                <a:solidFill>
                  <a:srgbClr val="66ff33"/>
                </a:solidFill>
                <a:uFillTx/>
                <a:latin typeface="Tahoma"/>
              </a:rPr>
              <a:t>المناقشه: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1965600" y="2886120"/>
            <a:ext cx="1299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تتحول ورقة كلوريد الكوبالت من اللون الازرق الى </a:t>
            </a:r>
            <a:r>
              <a:rPr b="1" lang="ar-SA" sz="2800" spc="-1" strike="noStrike">
                <a:solidFill>
                  <a:srgbClr val="ff33cc"/>
                </a:solidFill>
                <a:latin typeface="Tahoma"/>
              </a:rPr>
              <a:t>اللون الوردي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  بتأثي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لماء المتبخر  من سطح الورقه النباتيه عن طريق الثغور. وعلى ذلك فأ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لثغور توجد في اوراق نبات التين المطاط على السطح السفلي فقط ، بينم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على سطحي الورقه في اوراق نبات الوينكا.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3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00480" y="332640"/>
            <a:ext cx="58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Tahoma"/>
              </a:rPr>
              <a:t>تصاعد بخار الماء أثناء عملية النتح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83916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كما ذكرنا سابقاً فإن الماء يتصاعد على هيئة بخارية أثناء عملية النتح ، وإذا ما صادف بخار الماء عائق مثل ( ناقوس زجاجي ) فمن الممكن أن يتكثف ويتراكم على الزجا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41720" y="2361240"/>
            <a:ext cx="5324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6ff33"/>
                </a:solidFill>
                <a:uFillTx/>
                <a:latin typeface="Tahoma"/>
              </a:rPr>
              <a:t>المواد والأدوات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ناقوسين زجاجي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إصيصين بهما نبات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لوحين زجاجي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فازل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قماش مدهون بالفازل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9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68360" y="-253440"/>
            <a:ext cx="83772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66ff33"/>
                </a:solidFill>
                <a:uFillTx/>
                <a:latin typeface="Arial"/>
                <a:cs typeface="MCS Diwany2 S_I normal."/>
              </a:rPr>
              <a:t>طريقة العمل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غطي إحدى الإصيصين بالقماش المدهون بالفازلين واربطيه بإحكام حول النبات لكي تمنع فقد الماء من التربة ومن جدران الإصي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أزيلي النبات من الإصيص الثاني وغطيه كما بالخطوة السابق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انقلي الإصيصين تحت ناقوسين وضعيهما فوق لوحين زجاجيي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تأكدي من عدم مرور الهواء من تحت الناقوسين – استعملي الفازلين إذا لزم الأم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دعي التجربة تعمل لعدة ساع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0060-0503-1019-2559 copy" descr=""/>
          <p:cNvPicPr/>
          <p:nvPr/>
        </p:nvPicPr>
        <p:blipFill>
          <a:blip r:embed="rId2"/>
          <a:stretch/>
        </p:blipFill>
        <p:spPr>
          <a:xfrm>
            <a:off x="395280" y="3213000"/>
            <a:ext cx="4392720" cy="3289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0" y="275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171400" y="189000"/>
            <a:ext cx="387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ffff00"/>
                </a:solidFill>
                <a:uFillTx/>
                <a:latin typeface="Tahoma"/>
              </a:rPr>
              <a:t>كيف ينتح النبات ؟:</a:t>
            </a:r>
            <a:r>
              <a:rPr b="1" lang="hi-IN" sz="3200" spc="-1" strike="noStrike">
                <a:solidFill>
                  <a:srgbClr val="ffff00"/>
                </a:solidFill>
                <a:latin typeface="Tahoma"/>
              </a:rPr>
              <a:t>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836640"/>
            <a:ext cx="896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ثناء النهار  يقوم النبات بعملية البناء الضوئي والتي يترتب عليها استهلاك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2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في تفاعلات الظلام  وبالتالي يتحول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H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العصير الخلوي الى قلوي  ومعه يتحول  النشاء المتراكم اثناء الليل الى سك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ومن ثم يتغير الضغط الاسموزي للعصير الخلوي للخلايا الحارسه مما يترتب عليه جذب الماء من الخلايا المساعده فتمتلئ بالماء ويفتح الثغ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3280" y="3284640"/>
            <a:ext cx="1872000" cy="358560"/>
          </a:xfrm>
          <a:prstGeom prst="leftArrow">
            <a:avLst>
              <a:gd name="adj1" fmla="val 50000"/>
              <a:gd name="adj2" fmla="val 13052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69480" y="3041640"/>
            <a:ext cx="147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Tahoma"/>
              </a:rPr>
              <a:t>نشاء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59280" y="2997360"/>
            <a:ext cx="1191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Tahoma"/>
              </a:rPr>
              <a:t>سك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12000" y="278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48360" y="27813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66ff33"/>
                </a:solidFill>
                <a:latin typeface="Tahoma"/>
              </a:rPr>
              <a:t>النها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48360" y="3789360"/>
            <a:ext cx="1120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03640" y="37893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</a:rPr>
              <a:t>وسط قلو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89" descr=""/>
          <p:cNvPicPr/>
          <p:nvPr/>
        </p:nvPicPr>
        <p:blipFill>
          <a:blip r:embed="rId2"/>
          <a:stretch/>
        </p:blipFill>
        <p:spPr>
          <a:xfrm>
            <a:off x="250920" y="2492280"/>
            <a:ext cx="2987640" cy="165888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1" name=""/>
          <p:cNvGrpSpPr/>
          <p:nvPr/>
        </p:nvGrpSpPr>
        <p:grpSpPr>
          <a:xfrm>
            <a:off x="2340000" y="4292640"/>
            <a:ext cx="6335280" cy="2565360"/>
            <a:chOff x="2340000" y="4292640"/>
            <a:chExt cx="6335280" cy="2565360"/>
          </a:xfrm>
        </p:grpSpPr>
        <p:pic>
          <p:nvPicPr>
            <p:cNvPr id="102" name="" descr=""/>
            <p:cNvPicPr/>
            <p:nvPr/>
          </p:nvPicPr>
          <p:blipFill>
            <a:blip r:embed="rId3"/>
            <a:stretch/>
          </p:blipFill>
          <p:spPr>
            <a:xfrm>
              <a:off x="2340000" y="4292640"/>
              <a:ext cx="6335280" cy="19458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03" name=""/>
            <p:cNvSpPr/>
            <p:nvPr/>
          </p:nvSpPr>
          <p:spPr>
            <a:xfrm>
              <a:off x="2660760" y="6318000"/>
              <a:ext cx="5773680" cy="54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ffff"/>
                  </a:solidFill>
                  <a:latin typeface="Times New Roman"/>
                  <a:cs typeface="Times New Roman"/>
                </a:rPr>
                <a:t>تركيب الثغــــ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930280" y="185760"/>
            <a:ext cx="34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 u="sng">
                <a:solidFill>
                  <a:srgbClr val="66ff33"/>
                </a:solidFill>
                <a:uFillTx/>
                <a:latin typeface="Tahoma"/>
              </a:rPr>
              <a:t>المشاهده: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197000"/>
            <a:ext cx="890100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ahoma"/>
              </a:rPr>
              <a:t>يتصاعد بخار الماء اثناء غلق وفتح الثغر ويتراكم على جدار الناقوس الاول بينما لا يتراكم بخار </a:t>
            </a:r>
            <a:r>
              <a:rPr b="0" lang="hi-IN" sz="2800" spc="-1" strike="noStrike">
                <a:solidFill>
                  <a:srgbClr val="ffffff"/>
                </a:solidFill>
                <a:latin typeface="Tahoma"/>
              </a:rPr>
              <a:t>الماء في الناقوس الثاني الذي لا </a:t>
            </a:r>
            <a:r>
              <a:rPr b="0" lang="hi-IN" sz="3200" spc="-1" strike="noStrike">
                <a:solidFill>
                  <a:srgbClr val="ffffff"/>
                </a:solidFill>
                <a:latin typeface="Tahoma"/>
              </a:rPr>
              <a:t>يحوي نبات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67840" y="2690640"/>
            <a:ext cx="369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 u="sng">
                <a:solidFill>
                  <a:srgbClr val="66ff33"/>
                </a:solidFill>
                <a:uFillTx/>
                <a:latin typeface="Tahoma"/>
              </a:rPr>
              <a:t>المناقشه:ـ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-1798560" y="3843360"/>
            <a:ext cx="12557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نتيجة لعدم وجود النبات في الاصيص الثاني لايحدث نتح بينما في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الاصيص الاول تراكم بخار الماء على شكل قطرات من الماء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( تكثف  بخار الماء عند ملامسته سطح بارد)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وذلك لقيام النبات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بالنتح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8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563000" y="407160"/>
            <a:ext cx="423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6ff33"/>
                </a:solidFill>
                <a:uFillTx/>
                <a:latin typeface="Tahoma"/>
              </a:rPr>
              <a:t>طريقة البوتومتي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6ff33"/>
                </a:solidFill>
                <a:uFillTx/>
                <a:latin typeface="Tahoma"/>
              </a:rPr>
              <a:t> </a:t>
            </a:r>
            <a:r>
              <a:rPr b="1" lang="en-US" sz="3200" spc="-1" strike="noStrike" u="sng">
                <a:solidFill>
                  <a:srgbClr val="66ff33"/>
                </a:solidFill>
                <a:uFillTx/>
                <a:latin typeface="Tahoma"/>
              </a:rPr>
              <a:t>Potometer metho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12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otomete" descr=""/>
          <p:cNvPicPr/>
          <p:nvPr/>
        </p:nvPicPr>
        <p:blipFill>
          <a:blip r:embed="rId2"/>
          <a:stretch/>
        </p:blipFill>
        <p:spPr>
          <a:xfrm>
            <a:off x="179280" y="2276640"/>
            <a:ext cx="3456000" cy="4168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71" name=""/>
          <p:cNvSpPr/>
          <p:nvPr/>
        </p:nvSpPr>
        <p:spPr>
          <a:xfrm>
            <a:off x="250920" y="1257120"/>
            <a:ext cx="862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توجد طرز عدة من البوتومترات ولكن فكرة التجربة لا تتغير حيث يقدر الماء المفقود من خلال الأنبوبة الشعرية الملحقة بالبوتومت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78320" y="2515320"/>
            <a:ext cx="717012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6ff33"/>
                </a:solidFill>
                <a:uFillTx/>
                <a:latin typeface="Tahoma"/>
              </a:rPr>
              <a:t>المواد والأدوات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بوتومت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سدادات مطاطية أو فلينية مثقوب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أصيص يحوي نبات نا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أنابيب شعر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03280" y="60840"/>
            <a:ext cx="8640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66ff33"/>
                </a:solidFill>
                <a:uFillTx/>
                <a:latin typeface="Tahoma"/>
              </a:rPr>
              <a:t>طريقة العمل :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- صلي الأنبوبة الشعرية بالبوتومتر من خلال سدادة فلي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- املئي البوتومتر بالما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- اقطعي فرع مورق من النبات تحت الماء لتجنب دخول فقاعات هوائية داخل الخشب والتي تعيق وصول الماء إلى بقية أجزاء النبات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- صلي الفرع المورق بالبوتومتر تحت الماء أيضا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- استخدمي الفازلين حول السدادات الفلينية ثم زني البوتومت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- ثبتي البوتومتر في حامل وعرضيه للظروف الجوية العاد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- يتم وزن البوتومتر مرة أخرى ، ثم يحسب معدل النتح من المعادلة المذكورة سابقا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من الممكن حساب كمية الماء الممتص من خلال الأنبوبة الشعرية الملحقة بالبوتومتر ويتم ذلك بحساب كمية التراجع في الماء وقياس طول قطر الأنبوبة الشعري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كمية الماء الممتص =  ل × ط نق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حيث ل = طول عمود الماء المتراج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ط = 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22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نق = نصف قطر الأنبوبة الشعرية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79280" y="3773520"/>
            <a:ext cx="604836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1425600"/>
            <a:ext cx="8862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كمية الماء الممتص × 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100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 × 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6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كمية الممتص في الساعة =    ـــــــــــــــــــــــــــــــــــــــــــــــــــــــــــــــــــــــــــــــــــــــــــــــ جم/ 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100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 سم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ساع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35280" y="2060640"/>
            <a:ext cx="4248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مساحة السطح الناتح سم</a:t>
            </a:r>
            <a:r>
              <a:rPr b="1" lang="ar-SA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× الزمن ( دقيقة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otomete" descr=""/>
          <p:cNvPicPr/>
          <p:nvPr/>
        </p:nvPicPr>
        <p:blipFill>
          <a:blip r:embed="rId2"/>
          <a:stretch/>
        </p:blipFill>
        <p:spPr>
          <a:xfrm>
            <a:off x="179280" y="2708280"/>
            <a:ext cx="5905440" cy="3881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890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ثناء الليل يقل استهلاك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2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  مما يترتب عليه ذوبانه في الماء في المسافات البينيه ليكون حمض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الكربونيك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عندها يتحول السكر او يتكثف الى نشاء مما يترتب عليه انخفاض قوة امتصاص الخلايا الحارسه للماء من الخلايا المساعده فيرتخي الثغر ويغل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42240" y="2492280"/>
            <a:ext cx="211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00"/>
                </a:solidFill>
                <a:latin typeface="Tahoma"/>
              </a:rPr>
              <a:t>السكر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24360" y="2781360"/>
            <a:ext cx="2519280" cy="358560"/>
          </a:xfrm>
          <a:prstGeom prst="leftArrow">
            <a:avLst>
              <a:gd name="adj1" fmla="val 50000"/>
              <a:gd name="adj2" fmla="val 17565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79640" y="2492280"/>
            <a:ext cx="170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00"/>
                </a:solidFill>
                <a:latin typeface="Tahoma"/>
              </a:rPr>
              <a:t>نشا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88000" y="2133720"/>
            <a:ext cx="1120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66ff33"/>
                </a:solidFill>
                <a:latin typeface="Tahoma"/>
              </a:rPr>
              <a:t>اللي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55560" y="314172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</a:rPr>
              <a:t>وسط حمض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89" descr=""/>
          <p:cNvPicPr/>
          <p:nvPr/>
        </p:nvPicPr>
        <p:blipFill>
          <a:blip r:embed="rId2"/>
          <a:stretch/>
        </p:blipFill>
        <p:spPr>
          <a:xfrm>
            <a:off x="179280" y="1704960"/>
            <a:ext cx="2232000" cy="116856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11" name=""/>
          <p:cNvGrpSpPr/>
          <p:nvPr/>
        </p:nvGrpSpPr>
        <p:grpSpPr>
          <a:xfrm>
            <a:off x="539640" y="3933720"/>
            <a:ext cx="7777080" cy="2734920"/>
            <a:chOff x="539640" y="3933720"/>
            <a:chExt cx="7777080" cy="2734920"/>
          </a:xfrm>
        </p:grpSpPr>
        <p:pic>
          <p:nvPicPr>
            <p:cNvPr id="112" name="" descr=""/>
            <p:cNvPicPr/>
            <p:nvPr/>
          </p:nvPicPr>
          <p:blipFill>
            <a:blip r:embed="rId3"/>
            <a:stretch/>
          </p:blipFill>
          <p:spPr>
            <a:xfrm>
              <a:off x="539640" y="3933720"/>
              <a:ext cx="7777080" cy="20743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13" name=""/>
            <p:cNvSpPr/>
            <p:nvPr/>
          </p:nvSpPr>
          <p:spPr>
            <a:xfrm>
              <a:off x="933480" y="6093000"/>
              <a:ext cx="7087680" cy="57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ffff"/>
                  </a:solidFill>
                  <a:latin typeface="Times New Roman"/>
                  <a:cs typeface="Times New Roman"/>
                </a:rPr>
                <a:t>تركيب الثغــــ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58920" y="79200"/>
            <a:ext cx="752148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ff00"/>
                </a:solidFill>
                <a:uFillTx/>
                <a:latin typeface="MCS Diwany4 S_U normal."/>
                <a:cs typeface="Times New Roman"/>
              </a:rPr>
              <a:t>تقدير النتح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ff33"/>
                </a:solidFill>
                <a:latin typeface="Arial"/>
                <a:cs typeface="Times New Roman"/>
              </a:rPr>
              <a:t>توجد طرقاً عديدة لقياس النتح ، أبسط الطرق ه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Times New Roman"/>
              </a:rPr>
              <a:t>طريقة الوز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Times New Roman"/>
              </a:rPr>
              <a:t>طريقة البوتومتر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tometre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Times New Roman"/>
              </a:rPr>
              <a:t>طريقة كلوريد الكوبلت ومن السهل تنفيذها في المعم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89" descr=""/>
          <p:cNvPicPr/>
          <p:nvPr/>
        </p:nvPicPr>
        <p:blipFill>
          <a:blip r:embed="rId2"/>
          <a:stretch/>
        </p:blipFill>
        <p:spPr>
          <a:xfrm>
            <a:off x="179280" y="3583080"/>
            <a:ext cx="5472360" cy="303840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6" name=""/>
          <p:cNvSpPr/>
          <p:nvPr/>
        </p:nvSpPr>
        <p:spPr>
          <a:xfrm>
            <a:off x="0" y="292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49640" y="332640"/>
            <a:ext cx="681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Tahoma"/>
              </a:rPr>
              <a:t>تقدير النتح عن طريق النقص في الوز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27520" y="1161360"/>
            <a:ext cx="7771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6ff33"/>
                </a:solidFill>
                <a:uFillTx/>
                <a:latin typeface="Tahoma"/>
              </a:rPr>
              <a:t>الغرض من التجرب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تقدير النتح عن طريق النقص في الوز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3280" y="2237040"/>
            <a:ext cx="36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ff00"/>
                </a:solidFill>
                <a:uFillTx/>
                <a:latin typeface="Tahoma"/>
              </a:rPr>
              <a:t>المواد والأدوات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ميز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فرع مور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فازلي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50920" y="-643680"/>
            <a:ext cx="8726400" cy="72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ffff00"/>
                </a:solidFill>
                <a:uFillTx/>
                <a:latin typeface="MCS Diwany2 S_I normal."/>
                <a:cs typeface="Times New Roman"/>
              </a:rPr>
              <a:t>طريقة العمل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Times New Roman"/>
              </a:rPr>
              <a:t>اختاري نباتاً من الحديقة ذات أوراق متوسطة المساح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Times New Roman"/>
              </a:rPr>
              <a:t>اقطعي جزءاً من فرع مورق وغطي الجزء المقطوع من الساق بكمية بسيطة من الفازل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Times New Roman"/>
              </a:rPr>
              <a:t>زني الجزء المقطوع ( الفرع المورق ) بسرعة وسجلي قيمة الوز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Times New Roman"/>
              </a:rPr>
              <a:t>عرضي الفرع المورق للظروف العادية لمدة دقيقتين أو ثلاث وسجلي قيمة الوزن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7c80"/>
                </a:solidFill>
                <a:latin typeface="MCS Diwany2 S_I normal."/>
                <a:cs typeface="Times New Roman"/>
              </a:rPr>
              <a:t>المشاهدة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Times New Roman"/>
              </a:rPr>
              <a:t>يقل الوزن بمرور الزمن ويقدر النقصان في الوزن بالمعادلة التالية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0" y="3070800"/>
            <a:ext cx="21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4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9280" y="431640"/>
            <a:ext cx="8964720" cy="61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و</a:t>
            </a: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- و</a:t>
            </a: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 × </a:t>
            </a: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100</a:t>
            </a: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 × </a:t>
            </a: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معدل النتح = ــــــــــــــــــــــــــــــــــــــــــــــــــــــــــــــــــــــــــــــــــــــــــــــــــــــــــ جم /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سم</a:t>
            </a:r>
            <a:r>
              <a:rPr b="1" lang="ar-SA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/ ساع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ar-SA" sz="2000" spc="-1" strike="noStrike">
                <a:solidFill>
                  <a:srgbClr val="ffff00"/>
                </a:solidFill>
                <a:latin typeface="Tahoma"/>
              </a:rPr>
              <a:t>مساحة السطح الناتح ( سم</a:t>
            </a:r>
            <a:r>
              <a:rPr b="1" lang="ar-SA" sz="20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1" lang="ar-SA" sz="2000" spc="-1" strike="noStrike">
                <a:solidFill>
                  <a:srgbClr val="ffff00"/>
                </a:solidFill>
                <a:latin typeface="Tahoma"/>
              </a:rPr>
              <a:t>) × زمن إجراء التجربة ( بالدقيقة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ff00"/>
                </a:solidFill>
                <a:uFillTx/>
                <a:latin typeface="Arial"/>
              </a:rPr>
              <a:t>حيث: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و</a:t>
            </a:r>
            <a:r>
              <a:rPr b="1" lang="ar-SA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= وزن الفرع المورق عند بدء التجرب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و</a:t>
            </a:r>
            <a:r>
              <a:rPr b="1" lang="ar-SA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= وزن الفرع المورق عند نهاية التجرب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ff7c80"/>
                </a:solidFill>
                <a:uFillTx/>
                <a:latin typeface="MCS Diwany2 S_I normal."/>
                <a:cs typeface="Times New Roman"/>
              </a:rPr>
              <a:t>ملاحظة 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تقاس مساحة الأوراق بجهاز البلانومتر ، إذا لم يتوفر هذا الجهاز فمن الممكن أن يستخدم ورق المربعات ( ورق الرسم البياني 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759760" y="332640"/>
            <a:ext cx="724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ffff00"/>
                </a:solidFill>
                <a:uFillTx/>
                <a:latin typeface="Tahoma"/>
              </a:rPr>
              <a:t>الشد الورقي للنبات ( القوة السالبة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03280" y="988920"/>
            <a:ext cx="71755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6ff33"/>
                </a:solidFill>
                <a:uFillTx/>
                <a:latin typeface="Tahoma"/>
              </a:rPr>
              <a:t>الغرض من التجر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إثبات الشد الورقي للنبات ( القوة السالبة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1994400"/>
            <a:ext cx="88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يفقد النبات الماء على صورة بخارية من خلال الثغور ، هذا ما يعرف بالنتح وللنتح قوة تعمل على امتصاص الجذر للماء تسمى ( القوة السالبة ) ويعتقد أنه يوجد أعمدة مائية في أوعية الخشب تصل بين الورقة والجذر كأنها خيوط متصلة بين الجذر والورقة فإذا جذبت من أعلى حلت أجزاء أخرى مكانها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24000" y="4297320"/>
            <a:ext cx="374328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569560" y="62964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ff00"/>
                </a:solidFill>
                <a:uFillTx/>
                <a:latin typeface="Tahoma"/>
              </a:rPr>
              <a:t>المواد والأدوات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23000" y="1440000"/>
            <a:ext cx="6435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- نباتات بأورا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- نباتات خالية من الأورا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- محلول من صبغة الأيوسي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- دوارق زجاجي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8360" y="765000"/>
            <a:ext cx="3154320" cy="3743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3:45:42Z</dcterms:created>
  <dc:creator>HELP</dc:creator>
  <dc:description/>
  <dc:language>en-US</dc:language>
  <cp:lastModifiedBy>HELP</cp:lastModifiedBy>
  <dcterms:modified xsi:type="dcterms:W3CDTF">2008-03-22T17:16:21Z</dcterms:modified>
  <cp:revision>62</cp:revision>
  <dc:subject/>
  <dc:title>الشريحة 1</dc:title>
</cp:coreProperties>
</file>