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158-1766-48C1-BE8D-29EC3EEF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FC9-01F6-46E5-A5A7-FBAAEB6F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82C-BBD0-4CFB-A33C-96AE81BD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879-5E59-48A5-B64A-70E2665C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920A-72E7-4131-A84D-DB6CC0A5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3A36-5E46-40AC-84AA-E979D87E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80A6-CA2A-4D37-91E2-A91DE454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BA11-0207-45E8-AE83-96B08397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63EB-AA42-4FEB-A7BB-6C4A280F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E259-55CE-4B09-B2DD-B3933CD8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C182-7F0B-4D6B-AA9D-BA9C949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866-B356-41C6-869E-F0D3D221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135D-8520-4C45-ACD5-089D05C7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032C-309B-4F40-B4B1-4E181118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1924-EAB1-4764-841B-9B26B9DF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DCC8-F7E9-41C9-AE9B-4857A80A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32FC-8CA1-48E4-99ED-F2826A00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D0A5-C20F-4E19-9095-3DC0E160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DF0E-FF00-4297-9C49-60F5A8D8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353AA-633C-4264-A9AE-A1FEF93E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53AE-A53D-40D5-A52E-B4FF9137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0B01-4477-4544-B332-A9FA44AB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60E-D96D-4AEA-A76A-4C232B52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E166-DD60-419E-B054-D51CB140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633C-7F8C-4559-A039-4845A7D9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2FA5-31E7-4863-8426-D5EF543A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46905-A2C7-4114-BE08-6913BE5D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87CD-FF70-4704-819D-8FA6DA77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2D7C-854D-406E-8412-AD0A2B54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CC67-095E-46E1-937B-A882FEDA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1AB0-2B68-411F-8AAE-EC517908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B995A-E6EC-49C0-85BC-6E3725B5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1E970-8198-4F8B-968C-875A67AB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8C9-94A9-4876-9114-E0E89C87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71CB-6808-42C6-AFCB-FF1F2FFF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7FEEC-A704-47C9-9D1D-87C4CBBF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877E-1D80-4029-922B-56D5B100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95E18-A635-4B63-BCF9-03FF8D9B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9CA2D-2C46-4925-AF1B-B9C21CDF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75F9-9E33-4EA5-9CCF-3E8D16AE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BAE4-FB1D-458A-B619-FCDDF663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80C68-1932-40B5-81E4-AB8A4A1A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D969E-8BEA-4599-A351-D34EDAB4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08F-6508-4FB6-8AF6-B028DD58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101-B40D-4093-A970-CE723014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4B5-4AB7-4F6B-820E-DA3D70DC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B88-A0E3-4130-96B1-5A39FA2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73D-E4A1-4C6D-A153-3489B924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8F53-8AC8-41CC-B3AB-0F154E908DFF}" type="slidenum">
              <a:rPr b="0" lang="ar-SA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E0BA-0D6C-4B84-B0D4-DB63F7795630}" type="slidenum">
              <a:rPr b="0" lang="ar-SA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115D-68B1-467C-822B-F2F336267ABD}" type="slidenum">
              <a:rPr b="0" lang="ar-SA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1D76-BB38-4F9A-BAC1-DAD88EBD808F}" type="slidenum">
              <a:rPr b="0" lang="ar-SA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900" spc="-1" strike="noStrike">
                <a:solidFill>
                  <a:srgbClr val="ff33cc"/>
                </a:solidFill>
                <a:latin typeface="Arial Narrow"/>
              </a:rPr>
              <a:t>النتح</a:t>
            </a:r>
            <a:br>
              <a:rPr sz="9000"/>
            </a:br>
            <a:r>
              <a:rPr b="0" lang="ar-SA" sz="9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9000" spc="-1" strike="noStrike">
                <a:solidFill>
                  <a:srgbClr val="ffffff"/>
                </a:solidFill>
                <a:latin typeface="Arial Narrow"/>
              </a:rPr>
              <a:t>Transpiration</a:t>
            </a:r>
            <a:endParaRPr b="0" lang="en-US" sz="9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6"/>
          <p:cNvGrpSpPr/>
          <p:nvPr/>
        </p:nvGrpSpPr>
        <p:grpSpPr>
          <a:xfrm>
            <a:off x="1476360" y="1989000"/>
            <a:ext cx="6551280" cy="4392360"/>
            <a:chOff x="1476360" y="1989000"/>
            <a:chExt cx="6551280" cy="4392360"/>
          </a:xfrm>
        </p:grpSpPr>
        <p:pic>
          <p:nvPicPr>
            <p:cNvPr id="206" name="Picture 7" descr="021"/>
            <p:cNvPicPr/>
            <p:nvPr/>
          </p:nvPicPr>
          <p:blipFill>
            <a:blip r:embed="rId1"/>
            <a:stretch/>
          </p:blipFill>
          <p:spPr>
            <a:xfrm>
              <a:off x="1476360" y="1989000"/>
              <a:ext cx="6551280" cy="3331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07" name="Text Box 8"/>
            <p:cNvSpPr/>
            <p:nvPr/>
          </p:nvSpPr>
          <p:spPr>
            <a:xfrm>
              <a:off x="1807920" y="5456880"/>
              <a:ext cx="5970600" cy="9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ركيب الثغــــر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-28080" y="910080"/>
            <a:ext cx="10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- الكشف عن النتح باستخدام ورقة كلوريد الكوبال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6" descr="cobalt-chloride-test-strips"/>
          <p:cNvPicPr/>
          <p:nvPr/>
        </p:nvPicPr>
        <p:blipFill>
          <a:blip r:embed="rId1"/>
          <a:stretch/>
        </p:blipFill>
        <p:spPr>
          <a:xfrm>
            <a:off x="765000" y="1916280"/>
            <a:ext cx="2484720" cy="2665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2259720" y="2529720"/>
            <a:ext cx="7672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Arial"/>
                <a:cs typeface="MCS Diwany2 S_I normal."/>
              </a:rPr>
              <a:t>المواد والأدوات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شرائح ( ألواح زجاجية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أربط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فرن للتجفي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ورق ترشي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محلول من كلوريد الكوبالت (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CS Diwany2 S_I normal.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CS Diwany2 S_I normal."/>
              </a:rPr>
              <a:t>% -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CS Diwany2 S_I normal.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MCS Diwany2 S_I normal."/>
              </a:rPr>
              <a:t>% 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أوراق نبات الوينك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539640" y="-845640"/>
            <a:ext cx="842328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66ff33"/>
                </a:solidFill>
                <a:uFillTx/>
                <a:latin typeface="Tahoma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حضري أوراق كلوريد الكوبالت الجافة بالطريقة التالية: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غمسي أوراق الترشيح في محلول كلوريد الكوبالت واتركيها تجف تماماً في الفرن ولاحظي تحول لونها من اللون الوردي وهي مبتلة إلى اللون الأزرق وهي جاف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غطي سطحي ورقة نبات الوينكا بأوراق كلوريد الكوبالت الجافة ثم غطي أوراق الكوبالت بالألواح الزجاجية مع استخدام اربطة لتمنع أثر الرطوبة الجوية عن أوراق كلوريد الكوبالت واتركيها لبعض الوقت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5" descr="DSC00041"/>
          <p:cNvPicPr/>
          <p:nvPr/>
        </p:nvPicPr>
        <p:blipFill>
          <a:blip r:embed="rId1"/>
          <a:stretch/>
        </p:blipFill>
        <p:spPr>
          <a:xfrm>
            <a:off x="1403280" y="3774960"/>
            <a:ext cx="6553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1281600" y="261720"/>
            <a:ext cx="62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- تصاعد بخار الماء أثناء عملية النتح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39640" y="58176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كما ذكرنا سابقاً فإن الماء يتصاعد على هيئة بخارية أثناء عملية النتح ، وإذا ما صادف بخار الماء عائق مثل ( ناقوس زجاجي ) فمن الممكن أن يتكثف ويتراكم على الزجا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5342400" y="2356560"/>
            <a:ext cx="396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مواد والأدوات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ناقوسين زجاجي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إصيصين بهما نبات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فازل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0060-0503-1019-2559 copy"/>
          <p:cNvPicPr/>
          <p:nvPr/>
        </p:nvPicPr>
        <p:blipFill>
          <a:blip r:embed="rId1"/>
          <a:stretch/>
        </p:blipFill>
        <p:spPr>
          <a:xfrm>
            <a:off x="395280" y="2133720"/>
            <a:ext cx="3583080" cy="2562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8" name="Rectangle 5"/>
          <p:cNvSpPr/>
          <p:nvPr/>
        </p:nvSpPr>
        <p:spPr>
          <a:xfrm>
            <a:off x="565200" y="4161960"/>
            <a:ext cx="8377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Arial"/>
                <a:cs typeface="MCS Diwany2 S_I normal."/>
              </a:rPr>
              <a:t>طريقة العمل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انقلي الإصيصين تحت ناقوسين وضعيهما فوق لوحين زجاجيي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تأكدي من عدم مرور الهواء من تحت الناقوسين – استعملي الفازلين إذا لزم الأ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دعي التجربة تعمل لعدة ساع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1476360" y="911520"/>
            <a:ext cx="750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يعرف النتح بأنه فقد الماء من أنسجة النبات ( ساق ، أوراق ) على هيئة بخاري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9" name="Text Box 5"/>
          <p:cNvGrpSpPr/>
          <p:nvPr/>
        </p:nvGrpSpPr>
        <p:grpSpPr>
          <a:xfrm>
            <a:off x="3870360" y="6480"/>
            <a:ext cx="2438280" cy="1199880"/>
            <a:chOff x="3870360" y="6480"/>
            <a:chExt cx="2438280" cy="1199880"/>
          </a:xfrm>
        </p:grpSpPr>
        <p:pic>
          <p:nvPicPr>
            <p:cNvPr id="170" name="Text Box 5" descr=""/>
            <p:cNvPicPr/>
            <p:nvPr/>
          </p:nvPicPr>
          <p:blipFill>
            <a:blip r:embed="rId1"/>
            <a:stretch/>
          </p:blipFill>
          <p:spPr>
            <a:xfrm>
              <a:off x="3870360" y="6480"/>
              <a:ext cx="243828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936960" y="152280"/>
              <a:ext cx="23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00"/>
                  </a:solidFill>
                  <a:latin typeface="Tahoma"/>
                </a:rPr>
                <a:t>النتح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72" name="رسم تخطيطي 1" descr=""/>
          <p:cNvPicPr/>
          <p:nvPr/>
        </p:nvPicPr>
        <p:blipFill>
          <a:blip r:embed="rId2"/>
          <a:stretch/>
        </p:blipFill>
        <p:spPr>
          <a:xfrm>
            <a:off x="128520" y="1871640"/>
            <a:ext cx="90583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5171400" y="18900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ahoma"/>
              </a:rPr>
              <a:t>كيف ينتح النبات ؟: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79280" y="83664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ثناء النهار  يقوم النبات بعملية البناء الضوئي والتي يترتب عليها استهلاك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 وبالتالي يتحول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العصير الخلوي الى قلوي  ومعه يتحول  النشاء المتراكم اثناء الليل الى سك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من ثم يتغير الضغط الاسموزي للعصير الخلوي للخلايا الحارسه مما يترتب عليه جذب الماء من الخلايا المساعده فتمتلئ بالماء ويفتح الثغ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4643280" y="3284640"/>
            <a:ext cx="1872000" cy="358560"/>
          </a:xfrm>
          <a:prstGeom prst="leftArrow">
            <a:avLst>
              <a:gd name="adj1" fmla="val 50000"/>
              <a:gd name="adj2" fmla="val 130522"/>
            </a:avLst>
          </a:pr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369480" y="304164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ahoma"/>
              </a:rPr>
              <a:t>نشاء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059280" y="2997360"/>
            <a:ext cx="119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ahoma"/>
              </a:rPr>
              <a:t>سك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012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148360" y="278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Tahoma"/>
              </a:rPr>
              <a:t>النه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148360" y="3789360"/>
            <a:ext cx="112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003640" y="3789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سط قلو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987640" y="4581360"/>
            <a:ext cx="43210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1890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ثناء الليل يقل استهلاك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 مما يترتب عليه ذوبانه في الماء في المسافات البينيه ليكون حمض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كربونيك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عندها يتحول السكر او يتكثف الى نشاء مما يترتب عليه انخفاض قوة امتصاص الخلايا الحارسه للماء من الخلايا المساعده فيرتخي الثغر ويغل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042240" y="2492280"/>
            <a:ext cx="211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ahoma"/>
              </a:rPr>
              <a:t>السكر</a:t>
            </a:r>
            <a:r>
              <a:rPr b="1" lang="ar-SA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924360" y="2781360"/>
            <a:ext cx="2519280" cy="358560"/>
          </a:xfrm>
          <a:prstGeom prst="leftArrow">
            <a:avLst>
              <a:gd name="adj1" fmla="val 50000"/>
              <a:gd name="adj2" fmla="val 175653"/>
            </a:avLst>
          </a:pr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979640" y="2492280"/>
            <a:ext cx="170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ahoma"/>
              </a:rPr>
              <a:t>نشا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4788000" y="2133720"/>
            <a:ext cx="112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ff33"/>
                </a:solidFill>
                <a:latin typeface="Tahoma"/>
              </a:rPr>
              <a:t>اللي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255560" y="31417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وسط حمض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987640" y="4076640"/>
            <a:ext cx="4680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1258920" y="79200"/>
            <a:ext cx="75214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00"/>
                </a:solidFill>
                <a:uFillTx/>
                <a:latin typeface="MCS Diwany4 S_U normal."/>
                <a:cs typeface="Times New Roman"/>
              </a:rPr>
              <a:t>تقدير النتح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Times New Roman"/>
              </a:rPr>
              <a:t>توجد طرقاً عديدة لقياس النتح ، أبسط الطرق هي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الوز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البوتومتر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tometre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كلوريد الكوبلت ومن السهل تنفيذها في المعم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29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207360" y="271440"/>
            <a:ext cx="92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- تقدير النتح عن طريق النقص في الوز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5219640" y="1441440"/>
            <a:ext cx="362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المواد والأدو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يزا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رع مور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ازل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مستطيل 1"/>
          <p:cNvSpPr/>
          <p:nvPr/>
        </p:nvSpPr>
        <p:spPr>
          <a:xfrm>
            <a:off x="179280" y="3716280"/>
            <a:ext cx="8688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MCS Diwany2 S_I normal."/>
                <a:cs typeface="Times New Roman"/>
              </a:rPr>
              <a:t>طريقة العمل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اختاري نباتاً من الحديقة ذات أوراق متوسطة المساح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اقطعي ورقتين وخذي الوزن الاول لواحدة والاخرى يؤخذ وزنها بعد ان تغطى بالفازلين تعرض الورقتين للظروف العادي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فترة من الزم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عد ذلك يؤخذ الوزن الثاني لكل واحدة منهم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301120" y="1211040"/>
            <a:ext cx="77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- الشد الورقي للنبات ( القوة السالبة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709640" y="2309760"/>
            <a:ext cx="7175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غرض من التجرب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إثبات الشد الورقي للنبات ( القوة السالبة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64960" y="3777120"/>
            <a:ext cx="889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يفقد النبات الماء على صورة بخارية من خلال الثغور ، هذا ما يعرف بالنتح وللنتح قوة تعمل على امتصاص الجذر للماء تسمى ( القوة السالبة ) ويعتقد أنه يوجد أعمدة مائية في أوعية الخشب تصل بين الورقة والجذر كأنها خيوط متصلة بين الجذر والورقة فإذا جذبت من أعلى حلت أجزاء أخرى مكانها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7" descr="acalypha"/>
          <p:cNvPicPr/>
          <p:nvPr/>
        </p:nvPicPr>
        <p:blipFill>
          <a:blip r:embed="rId1"/>
          <a:stretch/>
        </p:blipFill>
        <p:spPr>
          <a:xfrm>
            <a:off x="358920" y="630360"/>
            <a:ext cx="266544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4606200" y="246240"/>
            <a:ext cx="504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المواد والأدوات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نباتات بأورا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نباتات خالية من الأورا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محلول من صبغة الأيوس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دوارق زجاج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شرائ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- شفرات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ii2045"/>
          <p:cNvPicPr/>
          <p:nvPr/>
        </p:nvPicPr>
        <p:blipFill>
          <a:blip r:embed="rId1"/>
          <a:stretch/>
        </p:blipFill>
        <p:spPr>
          <a:xfrm>
            <a:off x="468360" y="836640"/>
            <a:ext cx="3154320" cy="287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33480" y="3230640"/>
            <a:ext cx="89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طريقة العمل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ضعي النباتات ذات الأوراق والنباتات الخالية من الأوراق في دوارق زجاجية محتوية على صبغة الأيوسين المخف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تركيها لبعض الوقت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يتم عمل قطاع طولي وعرضي في الساق وتحمل على شريحة وتفحص تحت المجهر وذلك لفحص اللون في خشب النبات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971640" y="270360"/>
            <a:ext cx="758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- الكشف عن الثغور على سطحي الور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98520" y="1557360"/>
            <a:ext cx="334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كؤوس زجاج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نبات التين المطا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نبات الوينك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اء دافي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-1596960" y="4174560"/>
            <a:ext cx="12409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طريقة العمل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غمسي أوراق نبات التين المطاطي وأخري من نبات الوينكا في ماء داف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3:45:42Z</dcterms:created>
  <dc:creator>HELP</dc:creator>
  <dc:description/>
  <dc:language>en-US</dc:language>
  <cp:lastModifiedBy>pc</cp:lastModifiedBy>
  <dcterms:modified xsi:type="dcterms:W3CDTF">2017-11-13T10:07:43Z</dcterms:modified>
  <cp:revision>69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