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0D4-B74F-41D7-894D-D04D2836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15C-8290-485C-A77F-9D6871F4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212-DD6E-402C-8789-4ABEB7B7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1FE-831C-47BA-BF4C-76C210BF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1ADF-C309-481F-816F-4D2B8187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26EC-4243-4BBF-9E42-5A4D82CA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1E70-1E56-4376-A9A5-A0D8DB3E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BBA4-DBA5-4E7C-9F75-29C6DAD5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2AC2-EC56-4780-9DF4-515AEC7D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2CE6-6BC6-4544-BFDC-40FFDC72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F046-063B-4AB5-A2FA-E3C7AF2D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A44-0C32-48ED-8C0C-CF1AFA92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B1BA-6207-47A7-BB50-8691C6FA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89A3-17B2-47AA-8515-E556628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78BE-BB34-4793-BEEA-EA64EEB3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51B8-E025-40D9-8A54-A7E54B16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2D4B-1469-42FD-B072-9AED63AD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5C87-27C7-4EA5-A3B5-B05A6CA7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1B56-0A71-4702-836D-9C1AB71F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BD66-55EC-4D27-B261-CA40A030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11C0-6A93-4CB0-8913-057E21E4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7C7C-5022-4CBB-9508-4539F524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D74-4632-418C-8BF4-E02693A7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7516-692B-4AF2-A546-88BF19AE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115D-98A0-4FEF-BCF6-7EC821D8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DE96-2964-4425-B831-4C4A2FE2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B8BB-D13D-4F91-8591-A716E763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F915-81F7-404D-AF14-5A9F2F36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AE49-EBDF-4809-8BE8-8C705378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CD67-D31D-4B02-9836-1782D748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5B019-E21D-4155-A51E-4FBA39C5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81D5-B8B0-4234-A850-581D270F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84F6-6041-4247-9B3C-23AC432F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1AC-4ED8-4756-A950-97204F4A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802F-245E-4EB1-B397-BF91F460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C898-34D5-4A5E-9819-BAC6D380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7419-D1F5-4881-BB19-47BFFFCC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28DB-5CA5-4156-B795-C89D57C1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E37E9-3301-4B7E-9AD5-EB702920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915F-F0FF-48E1-8304-6E327D41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C7E8B-E60F-4345-96B6-C80AEF46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143E-E65D-47F4-8594-A74014FE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AB11-EF34-48CA-BCA9-8CCE21A3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3C7-3BCE-4F1F-9E75-9DC733C7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8BD-5E83-4229-9E61-BED4629D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1A2-6FAA-4888-872C-29A57FB0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FB6-8FB5-4908-A4CD-7BCEEC1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844-869B-4F97-B3E2-7CDE5FFF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2797-C3F0-4969-BD31-AA382492C2CD}" type="slidenum">
              <a:rPr b="0" lang="ar-SA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E24F-4317-4F40-9CA0-30793E828F57}" type="slidenum">
              <a:rPr b="0" lang="ar-SA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8D57-677E-4F94-903F-81674479733E}" type="slidenum">
              <a:rPr b="0" lang="ar-SA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72C5-6992-4D20-9128-B94E1702A0F1}" type="slidenum">
              <a:rPr b="0" lang="ar-SA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900" spc="-1" strike="noStrike">
                <a:solidFill>
                  <a:srgbClr val="ff33cc"/>
                </a:solidFill>
                <a:latin typeface="Arial Narrow"/>
              </a:rPr>
              <a:t>النتح</a:t>
            </a:r>
            <a:br>
              <a:rPr sz="9000"/>
            </a:br>
            <a:r>
              <a:rPr b="0" lang="ar-SA" sz="9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9000" spc="-1" strike="noStrike">
                <a:solidFill>
                  <a:srgbClr val="ffffff"/>
                </a:solidFill>
                <a:latin typeface="Arial Narrow"/>
              </a:rPr>
              <a:t>Transpiration</a:t>
            </a:r>
            <a:endParaRPr b="0" lang="en-US" sz="9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1476360" y="1989000"/>
            <a:ext cx="6551280" cy="4392360"/>
            <a:chOff x="1476360" y="1989000"/>
            <a:chExt cx="6551280" cy="4392360"/>
          </a:xfrm>
        </p:grpSpPr>
        <p:pic>
          <p:nvPicPr>
            <p:cNvPr id="206" name="Picture 7" descr="021"/>
            <p:cNvPicPr/>
            <p:nvPr/>
          </p:nvPicPr>
          <p:blipFill>
            <a:blip r:embed="rId1"/>
            <a:stretch/>
          </p:blipFill>
          <p:spPr>
            <a:xfrm>
              <a:off x="1476360" y="1989000"/>
              <a:ext cx="6551280" cy="3331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07" name="Text Box 8"/>
            <p:cNvSpPr/>
            <p:nvPr/>
          </p:nvSpPr>
          <p:spPr>
            <a:xfrm>
              <a:off x="1807920" y="5456880"/>
              <a:ext cx="5970600" cy="9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ركيب الثغــــر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-28080" y="910080"/>
            <a:ext cx="10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- الكشف عن النتح باستخدام ورقة كلوريد الكوبال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6" descr="cobalt-chloride-test-strips"/>
          <p:cNvPicPr/>
          <p:nvPr/>
        </p:nvPicPr>
        <p:blipFill>
          <a:blip r:embed="rId1"/>
          <a:stretch/>
        </p:blipFill>
        <p:spPr>
          <a:xfrm>
            <a:off x="765000" y="1916280"/>
            <a:ext cx="2484720" cy="2665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2259720" y="2529720"/>
            <a:ext cx="7672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  <a:cs typeface="MCS Diwany2 S_I normal."/>
              </a:rPr>
              <a:t>المواد والأدوات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شرائح ( ألواح زجاجية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أربط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فرن للتجفي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ورق ترشي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محلول من كلوريد الكوبالت (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CS Diwany2 S_I normal.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CS Diwany2 S_I normal."/>
              </a:rPr>
              <a:t>% -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CS Diwany2 S_I normal.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CS Diwany2 S_I normal."/>
              </a:rPr>
              <a:t>% 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أوراق نبات الوينك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539640" y="-845640"/>
            <a:ext cx="842328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66ff33"/>
                </a:solidFill>
                <a:uFillTx/>
                <a:latin typeface="Tahoma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حضري أوراق كلوريد الكوبالت الجافة بالطريقة التالية: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غمسي أوراق الترشيح في محلول كلوريد الكوبالت واتركيها تجف تماماً في الفرن ولاحظي تحول لونها من اللون الوردي وهي مبتلة إلى اللون الأزرق وهي جاف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غطي سطحي ورقة نبات الوينكا بأوراق كلوريد الكوبالت الجافة ثم غطي أوراق الكوبالت بالألواح الزجاجية مع استخدام اربطة لتمنع أثر الرطوبة الجوية عن أوراق كلوريد الكوبالت واتركيها لبعض الوقت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5" descr="DSC00041"/>
          <p:cNvPicPr/>
          <p:nvPr/>
        </p:nvPicPr>
        <p:blipFill>
          <a:blip r:embed="rId1"/>
          <a:stretch/>
        </p:blipFill>
        <p:spPr>
          <a:xfrm>
            <a:off x="1403280" y="3774960"/>
            <a:ext cx="6553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1281600" y="261720"/>
            <a:ext cx="62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- تصاعد بخار الماء أثناء عملية النتح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39640" y="58176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كما ذكرنا سابقاً فإن الماء يتصاعد على هيئة بخارية أثناء عملية النتح ، وإذا ما صادف بخار الماء عائق مثل ( ناقوس زجاجي ) فمن الممكن أن يتكثف ويتراكم على الزجا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5342400" y="2356560"/>
            <a:ext cx="396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مواد والأدوات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ناقوسين زجاجي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إصيصين بهما نبات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فازل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0060-0503-1019-2559 copy"/>
          <p:cNvPicPr/>
          <p:nvPr/>
        </p:nvPicPr>
        <p:blipFill>
          <a:blip r:embed="rId1"/>
          <a:stretch/>
        </p:blipFill>
        <p:spPr>
          <a:xfrm>
            <a:off x="395280" y="2133720"/>
            <a:ext cx="3583080" cy="2562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8" name="Rectangle 5"/>
          <p:cNvSpPr/>
          <p:nvPr/>
        </p:nvSpPr>
        <p:spPr>
          <a:xfrm>
            <a:off x="565200" y="4161960"/>
            <a:ext cx="8377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Arial"/>
                <a:cs typeface="MCS Diwany2 S_I normal."/>
              </a:rPr>
              <a:t>طريقة العمل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انقلي الإصيصين تحت ناقوسين وضعيهما فوق لوحين زجاجيي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تأكدي من عدم مرور الهواء من تحت الناقوسين – استعملي الفازلين إذا لزم الأ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دعي التجربة تعمل لعدة ساع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1476360" y="911520"/>
            <a:ext cx="750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يعرف النتح بأنه فقد الماء من أنسجة النبات ( ساق ، أوراق ) على هيئة بخاري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9" name="Text Box 5"/>
          <p:cNvGrpSpPr/>
          <p:nvPr/>
        </p:nvGrpSpPr>
        <p:grpSpPr>
          <a:xfrm>
            <a:off x="3870360" y="6480"/>
            <a:ext cx="2438280" cy="1199880"/>
            <a:chOff x="3870360" y="6480"/>
            <a:chExt cx="2438280" cy="1199880"/>
          </a:xfrm>
        </p:grpSpPr>
        <p:pic>
          <p:nvPicPr>
            <p:cNvPr id="170" name="Text Box 5" descr=""/>
            <p:cNvPicPr/>
            <p:nvPr/>
          </p:nvPicPr>
          <p:blipFill>
            <a:blip r:embed="rId1"/>
            <a:stretch/>
          </p:blipFill>
          <p:spPr>
            <a:xfrm>
              <a:off x="3870360" y="6480"/>
              <a:ext cx="243828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936960" y="152280"/>
              <a:ext cx="23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00"/>
                  </a:solidFill>
                  <a:latin typeface="Tahoma"/>
                </a:rPr>
                <a:t>النتح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72" name="رسم تخطيطي 1" descr=""/>
          <p:cNvPicPr/>
          <p:nvPr/>
        </p:nvPicPr>
        <p:blipFill>
          <a:blip r:embed="rId2"/>
          <a:stretch/>
        </p:blipFill>
        <p:spPr>
          <a:xfrm>
            <a:off x="128520" y="1871640"/>
            <a:ext cx="90583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5171400" y="18900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ahoma"/>
              </a:rPr>
              <a:t>كيف ينتح النبات ؟: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79280" y="83664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ثناء النهار  يقوم النبات بعملية البناء الضوئي والتي يترتب عليها استهلاك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 وبالتالي يتحول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العصير الخلوي الى قلوي  ومعه يتحول  النشاء المتراكم اثناء الليل الى سك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من ثم يتغير الضغط الاسموزي للعصير الخلوي للخلايا الحارسه مما يترتب عليه جذب الماء من الخلايا المساعده فتمتلئ بالماء ويفتح الثغ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4643280" y="3284640"/>
            <a:ext cx="1872000" cy="358560"/>
          </a:xfrm>
          <a:prstGeom prst="leftArrow">
            <a:avLst>
              <a:gd name="adj1" fmla="val 50000"/>
              <a:gd name="adj2" fmla="val 130522"/>
            </a:avLst>
          </a:pr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369480" y="304164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ahoma"/>
              </a:rPr>
              <a:t>نشاء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059280" y="2997360"/>
            <a:ext cx="119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ahoma"/>
              </a:rPr>
              <a:t>سك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012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148360" y="278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Tahoma"/>
              </a:rPr>
              <a:t>النه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148360" y="3789360"/>
            <a:ext cx="112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003640" y="3789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سط قلو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987640" y="4581360"/>
            <a:ext cx="43210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1890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ثناء الليل يقل استهلاك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 مما يترتب عليه ذوبانه في الماء في المسافات البينيه ليكون حمض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كربونيك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عندها يتحول السكر او يتكثف الى نشاء مما يترتب عليه انخفاض قوة امتصاص الخلايا الحارسه للماء من الخلايا المساعده فيرتخي الثغر ويغل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042240" y="2492280"/>
            <a:ext cx="211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ahoma"/>
              </a:rPr>
              <a:t>السكر</a:t>
            </a:r>
            <a:r>
              <a:rPr b="1" lang="ar-SA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924360" y="2781360"/>
            <a:ext cx="2519280" cy="358560"/>
          </a:xfrm>
          <a:prstGeom prst="leftArrow">
            <a:avLst>
              <a:gd name="adj1" fmla="val 50000"/>
              <a:gd name="adj2" fmla="val 175653"/>
            </a:avLst>
          </a:pr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979640" y="2492280"/>
            <a:ext cx="170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ahoma"/>
              </a:rPr>
              <a:t>نشا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4788000" y="2133720"/>
            <a:ext cx="112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ff33"/>
                </a:solidFill>
                <a:latin typeface="Tahoma"/>
              </a:rPr>
              <a:t>اللي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255560" y="31417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وسط حمض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987640" y="4076640"/>
            <a:ext cx="4680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1258920" y="79200"/>
            <a:ext cx="75214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00"/>
                </a:solidFill>
                <a:uFillTx/>
                <a:latin typeface="MCS Diwany4 S_U normal."/>
                <a:cs typeface="Times New Roman"/>
              </a:rPr>
              <a:t>تقدير النتح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Times New Roman"/>
              </a:rPr>
              <a:t>توجد طرقاً عديدة لقياس النتح ، أبسط الطرق هي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الوز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البوتومتر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tometre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كلوريد الكوبلت ومن السهل تنفيذها في المعم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29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207360" y="271440"/>
            <a:ext cx="92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- تقدير النتح عن طريق النقص في الوز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5219640" y="1441440"/>
            <a:ext cx="362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المواد والأدو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يزا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رع مور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ازل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مستطيل 1"/>
          <p:cNvSpPr/>
          <p:nvPr/>
        </p:nvSpPr>
        <p:spPr>
          <a:xfrm>
            <a:off x="179280" y="3716280"/>
            <a:ext cx="8688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MCS Diwany2 S_I normal."/>
                <a:cs typeface="Times New Roman"/>
              </a:rPr>
              <a:t>طريقة العمل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اختاري نباتاً من الحديقة ذات أوراق متوسطة المساح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اقطعي ورقتين وخذي الوزن الاول لواحدة والاخرى يؤخذ وزنها بعد ان تغطى بالفازلين تعرض الورقتين للظروف العادي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فترة من الزم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عد ذلك يؤخذ الوزن الثاني لكل واحدة منهم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301120" y="1211040"/>
            <a:ext cx="77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- الشد الورقي للنبات ( القوة السالبة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709640" y="2309760"/>
            <a:ext cx="7175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غرض من التجرب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إثبات الشد الورقي للنبات ( القوة السالبة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64960" y="3777120"/>
            <a:ext cx="889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يفقد النبات الماء على صورة بخارية من خلال الثغور ، هذا ما يعرف بالنتح وللنتح قوة تعمل على امتصاص الجذر للماء تسمى ( القوة السالبة ) ويعتقد أنه يوجد أعمدة مائية في أوعية الخشب تصل بين الورقة والجذر كأنها خيوط متصلة بين الجذر والورقة فإذا جذبت من أعلى حلت أجزاء أخرى مكانها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7" descr="acalypha"/>
          <p:cNvPicPr/>
          <p:nvPr/>
        </p:nvPicPr>
        <p:blipFill>
          <a:blip r:embed="rId1"/>
          <a:stretch/>
        </p:blipFill>
        <p:spPr>
          <a:xfrm>
            <a:off x="358920" y="630360"/>
            <a:ext cx="266544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4606200" y="246240"/>
            <a:ext cx="504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المواد والأدوات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نباتات بأورا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نباتات خالية من الأورا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محلول من صبغة الأيوس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دوارق زجاج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شرائ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- شفرات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ii2045"/>
          <p:cNvPicPr/>
          <p:nvPr/>
        </p:nvPicPr>
        <p:blipFill>
          <a:blip r:embed="rId1"/>
          <a:stretch/>
        </p:blipFill>
        <p:spPr>
          <a:xfrm>
            <a:off x="468360" y="836640"/>
            <a:ext cx="3154320" cy="287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33480" y="3230640"/>
            <a:ext cx="89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طريقة العمل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ضعي النباتات ذات الأوراق والنباتات الخالية من الأوراق في دوارق زجاجية محتوية على صبغة الأيوسين المخف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تركيها لبعض الوقت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يتم عمل قطاع طولي وعرضي في الساق وتحمل على شريحة وتفحص تحت المجهر وذلك لفحص اللون في خشب النبات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971640" y="270360"/>
            <a:ext cx="758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- الكشف عن الثغور على سطحي الور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98520" y="1557360"/>
            <a:ext cx="334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كؤوس زجاج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نبات التين المطا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نبات الوينك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اء دافي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-1596960" y="4174560"/>
            <a:ext cx="12409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طريقة العمل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غمسي أوراق نبات التين المطاطي وأخري من نبات الوينكا في ماء داف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3:45:42Z</dcterms:created>
  <dc:creator>HELP</dc:creator>
  <dc:description/>
  <dc:language>en-US</dc:language>
  <cp:lastModifiedBy>pc</cp:lastModifiedBy>
  <dcterms:modified xsi:type="dcterms:W3CDTF">2017-11-13T10:07:43Z</dcterms:modified>
  <cp:revision>69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