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51B-F14B-40F1-8DE8-D1DCB6A2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24C-C12F-4C80-961E-781FFB8D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DAC-BA41-4938-B68E-A2CD7EA4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73F-3C2F-40E3-A791-832A96DF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7F07B-8C97-40EC-8F4A-7DE87598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9EC98-C6AE-4E38-8342-4E0C2DCB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F00CE-A252-4490-8C0D-7272AFBE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008A3-D323-4B3C-ABCF-EC310758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CA64E-BD0A-4BBF-8320-580684F6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2E2C4-D6C6-4B72-A8DC-18042564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E3F5E-3F50-4D51-8D52-9BD794B9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320-E1E5-4C49-A328-03685466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0EE0A-0DEC-4B66-8183-497EF0DB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15888-E9F9-4500-99ED-08733DBD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4E6A8-E985-43A4-B885-AEAA2ABB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9CF93-F570-4A88-AD74-AEDD18A0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A857C-C98B-46FF-9A98-0BC8A2AA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934-5217-44DC-B0CA-190FBB6F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EF0-3192-4FAD-B797-BEBD19BF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67D-61F6-426B-8FED-E0C537FA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6BB-9BAC-464A-9230-8A8CD806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867-8CEF-4427-B4D9-D9151A03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D1E-6D1B-407A-A902-4F5876E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6E5-360B-4FB7-9606-271F82A9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0232-A354-4267-A607-10660F6D42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C922-EA4C-4396-82E0-AC95CFD2E0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42760" y="7920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ffff00"/>
                </a:solidFill>
                <a:uFillTx/>
                <a:latin typeface="Tahoma"/>
              </a:rPr>
              <a:t>الاسموزي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882720"/>
            <a:ext cx="879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ي انتشار المذيب عبر غشاء له خاصية النفاذية الإختيارية من المحلول الأقل التركيز إلى المحلول الأكثر تركيز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162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يدخل الماء الى الخليه تحت  قوة الضغط الاسموزي والتي تساوي قوة الضغط الجداري للخليه ومعاكسه لها في الاتجا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يستمر تدفق دخول الماء الى ان تتساوى القوتان حيث يدخل باستمرار اذا كانت قوة الضغط الاسموزي اعلى من قوة الضغط الجداري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عندما تصل الخليه الى حالة الاتزان تسمى بالامتلاء التام. وعندها يطلق على قوة دخول الماء الى الخليه بقوة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الامتصاص الاسموزي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علما بان خروج جزيئات الماء  اسرع من دخول جزيئات  الذائب والعكس في حالة وجود الضغط  الاسموزي خارج الخليه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urgid,%20normal,%20plasmolysed%20cell" descr=""/>
          <p:cNvPicPr/>
          <p:nvPr/>
        </p:nvPicPr>
        <p:blipFill>
          <a:blip r:embed="rId2"/>
          <a:srcRect l="0" t="0" r="65082" b="0"/>
          <a:stretch/>
        </p:blipFill>
        <p:spPr>
          <a:xfrm>
            <a:off x="1042920" y="1413000"/>
            <a:ext cx="1656000" cy="18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6" name="turgid,%20normal,%20plasmolysed%20cell" descr=""/>
          <p:cNvPicPr/>
          <p:nvPr/>
        </p:nvPicPr>
        <p:blipFill>
          <a:blip r:embed="rId3"/>
          <a:srcRect l="67366" t="0" r="0" b="0"/>
          <a:stretch/>
        </p:blipFill>
        <p:spPr>
          <a:xfrm>
            <a:off x="1763640" y="4797360"/>
            <a:ext cx="2089080" cy="18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5017320" y="115200"/>
            <a:ext cx="4444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  <a:cs typeface="Times New Roman"/>
              </a:rPr>
              <a:t>أنواع المحاليل: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ff00"/>
                </a:solidFill>
                <a:uFillTx/>
                <a:latin typeface="MCS Diwany4 S_U normal."/>
                <a:cs typeface="Times New Roman"/>
              </a:rPr>
              <a:t>محلول ناقص الإسموزي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560" y="1127520"/>
            <a:ext cx="909144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هو المحلول الذي يكون ضغط الإسموزية أقل من الضغط الإسموزي للعصير الخلوي لهذا النبات وهذا المحلول يسبب امتلاء للخلايا النبات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ff00"/>
                </a:solidFill>
                <a:uFillTx/>
                <a:latin typeface="MCS Diwany4 S_U normal."/>
                <a:cs typeface="Times New Roman"/>
              </a:rPr>
              <a:t>محلول زائد الإسموزي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هو المحلول الذي يكون فيه الضغط الإسموزي أعلى من الضغط الإسموزي للعصير الخلوي لهذا النبات وهذا المحلول يسبب البلزمة للخلايا النبات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34929" t="0" r="32645" b="0"/>
          <a:stretch/>
        </p:blipFill>
        <p:spPr>
          <a:xfrm>
            <a:off x="1116000" y="2349360"/>
            <a:ext cx="2087640" cy="21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9280" y="277920"/>
            <a:ext cx="896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ahoma"/>
              </a:rPr>
              <a:t>المحلول سوي الإسموزي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و المحلول الذي يتساوى الضغط الإسموزي مع الضغط الإسموزي للعصير الخلوي لهذا النبات وهذا المحلول لا يسبب امتلاء أو بلزمة الخلايا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4800" y="258480"/>
            <a:ext cx="999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ahoma"/>
              </a:rPr>
              <a:t>الغرض من التجرب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إثبات الخاصية الإسموزية باستخدام ازموسكواب البطاط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27640" y="1868760"/>
            <a:ext cx="42447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ahoma"/>
              </a:rPr>
              <a:t>المواد والأدوات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أطباق بتري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شفرا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درنات البطاط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كلوريد الصوديو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3740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تقشر درنة البطاطس وتقطع منها قطعتين كل منها على شكل مكعب ثم تعمل في كل مكعب فجوة عميقة نوعاً م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تضع في كل فجوة قليل من كلوريد الصوديوم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aCl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ثم توضع أحدى القطعتين في طبق بتري يحتوي على ماء نقي والآخر في طبق لا يحتوي على ماء ، وتترك لبعض الوق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45160" y="4074480"/>
            <a:ext cx="26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ahoma"/>
              </a:rPr>
              <a:t>طريقة العمل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0" t="15959" r="0" b="15290"/>
          <a:stretch/>
        </p:blipFill>
        <p:spPr>
          <a:xfrm>
            <a:off x="3780000" y="260280"/>
            <a:ext cx="5143320" cy="4608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9280" y="3068640"/>
            <a:ext cx="3543480" cy="3789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slide0134_image092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4824360" cy="29527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9" name=""/>
          <p:cNvSpPr/>
          <p:nvPr/>
        </p:nvSpPr>
        <p:spPr>
          <a:xfrm>
            <a:off x="5312880" y="429480"/>
            <a:ext cx="369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  <a:cs typeface="Times New Roman"/>
              </a:rPr>
              <a:t>البلزمة والشفاء من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9840" y="1087920"/>
            <a:ext cx="29070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ff00"/>
                </a:solidFill>
                <a:uFillTx/>
                <a:latin typeface="Tahoma"/>
              </a:rPr>
              <a:t>المواد والأدوات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أطباق بتر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جه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شرائح وأغط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كعبات بص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كلوريد الصوديو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اء مقط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يود مخف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3942360"/>
            <a:ext cx="84250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ff00"/>
                </a:solidFill>
                <a:uFillTx/>
                <a:latin typeface="Tahoma"/>
              </a:rPr>
              <a:t>طريقة العمل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- تفحص سلخة بصل تحت المج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- تغمر السلخة في محلول من كلوريد الصوديوم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aCl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ذات التركيز (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% ) وتترك بعض الوقت ثم تعاد فحصها تحت المج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- تنقل السلخات المستخدمة في الخلطة السابقة للماء النقي وتترك لبعض الوقت ثم تعاد فحصها تحت المج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8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85760" y="403560"/>
            <a:ext cx="71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ahoma"/>
              </a:rPr>
              <a:t>تقدير قوة الإمتصاص الإسموزي بطريقة الإنحنا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90360" y="1037160"/>
            <a:ext cx="6040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ff00"/>
                </a:solidFill>
                <a:uFillTx/>
                <a:latin typeface="Tahoma"/>
              </a:rPr>
              <a:t>الغرض من التجرب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تقدير قوة الإمتصاص الإسموزي بطريقة الإنحنا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7400" y="2084400"/>
            <a:ext cx="46065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ff00"/>
                </a:solidFill>
                <a:uFillTx/>
                <a:latin typeface="Tahoma"/>
              </a:rPr>
              <a:t>المواد والأدوات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أطباق بتري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شفرا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أعناق أوراق الخرو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كلوريد الصوديوم من مختلف التراكي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اء مقط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29480" y="3974400"/>
            <a:ext cx="25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ff00"/>
                </a:solidFill>
                <a:uFillTx/>
                <a:latin typeface="Tahoma"/>
              </a:rPr>
              <a:t>طريقة العم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7000"/>
            <a:ext cx="8955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- نحضر محاليل مختلفة في تركيزاتها من كلوريد الصوديوم (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N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،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0,3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،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0.05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) وماء مقط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- نعمل شق في أعناق أوراق نبات الخروع طولياً إلى أربعة أجزاء ونلاحظ حدوث تقوس ناحية البشرة بعد القطع مباشر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- نضع بعض هذه الأجزاء في أطباق بتري والتي تحتوي على تراكيز مختلفة من كلوريد الصوديو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8351640" cy="46814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5:30:02Z</dcterms:created>
  <dc:creator>HELP</dc:creator>
  <dc:description/>
  <dc:language>en-US</dc:language>
  <cp:lastModifiedBy>HELP</cp:lastModifiedBy>
  <dcterms:modified xsi:type="dcterms:W3CDTF">2008-03-06T16:16:05Z</dcterms:modified>
  <cp:revision>17</cp:revision>
  <dc:subject/>
  <dc:title>الشريحة 1</dc:title>
</cp:coreProperties>
</file>