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41C-5AA9-44FA-9B3A-6081ED04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F09-B59B-44F0-9433-DB42FE8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F63-DA5D-4E66-AD94-CF029ADE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012-1AAA-41AB-AAB2-6292EDAD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FE99-3299-46FB-B382-D2AAA039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E52E-A99A-4B16-ABDB-A806FAE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0E431-1348-4C34-854D-3650B03A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C098-34E8-43F8-9579-BC3FE40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28C86-B5B5-4D9A-82E3-D1F740B1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9D1B3-6B76-47AE-B5E0-857D5EDE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C8982-6D7C-40C2-AE37-10A76B4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40A-1435-42E9-B8E9-8428FA6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CFB8A-E734-4A16-B440-2D95B83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3E988-8DF7-4942-A8E4-17CB586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3CE28-13A5-406E-B8CA-6A87171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4D06B-0457-4C8D-A0E6-40EAD95A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1A590-2589-40C2-9B07-2CC1DC9A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000-2277-4D1B-A6B8-C4E2E9B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A67-E874-4A71-8C25-005BE12E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1EF-505A-42EF-8EC2-5B4743D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031-EFBE-4C26-9965-0944645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EDF-EFED-4D72-A34E-3ADA83E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A3D-BB2F-477F-AC6B-2D42728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D0D-8E52-45D6-B07B-041831D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4B71-B022-4393-A7AA-A0C2F046C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D3BF-0F7E-44CC-B2BF-3E174289B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42760" y="7920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ff00"/>
                </a:solidFill>
                <a:uFillTx/>
                <a:latin typeface="Tahoma"/>
              </a:rPr>
              <a:t>الاسموزي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82720"/>
            <a:ext cx="879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 انتشار المذيب عبر غشاء له خاصية النفاذية الإختيارية من المحلول الأقل التركيز إلى المحلول الأكثر تركيز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16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دخل الماء الى الخليه تحت  قوة الضغط الاسموزي والتي تساوي قوة الضغط الجداري للخليه ومعاكسه لها في الاتجا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يستمر تدفق دخول الماء الى ان تتساوى القوتان حيث يدخل باستمرار اذا كانت قوة الضغط الاسموزي اعلى من قوة الضغط الجداري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ندما تصل الخليه الى حالة الاتزان تسمى بالامتلاء التام. وعندها يطلق على قوة دخول الماء الى الخليه بقوة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لامتصاص الاسموز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لما بان خروج جزيئات الماء  اسرع من دخول جزيئات  الذائب والعكس في حالة وجود الضغط  الاسموزي خارج الخليه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urgid,%20normal,%20plasmolysed%20cell" descr=""/>
          <p:cNvPicPr/>
          <p:nvPr/>
        </p:nvPicPr>
        <p:blipFill>
          <a:blip r:embed="rId2"/>
          <a:srcRect l="0" t="0" r="65082" b="0"/>
          <a:stretch/>
        </p:blipFill>
        <p:spPr>
          <a:xfrm>
            <a:off x="1042920" y="1413000"/>
            <a:ext cx="165600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6" name="turgid,%20normal,%20plasmolysed%20cell" descr=""/>
          <p:cNvPicPr/>
          <p:nvPr/>
        </p:nvPicPr>
        <p:blipFill>
          <a:blip r:embed="rId3"/>
          <a:srcRect l="67366" t="0" r="0" b="0"/>
          <a:stretch/>
        </p:blipFill>
        <p:spPr>
          <a:xfrm>
            <a:off x="1763640" y="4797360"/>
            <a:ext cx="208908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5017320" y="115200"/>
            <a:ext cx="4444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أنواع المحاليل: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MCS Diwany4 S_U normal."/>
                <a:cs typeface="Times New Roman"/>
              </a:rPr>
              <a:t>محلول ناقص الإسموز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60" y="1127520"/>
            <a:ext cx="90914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هو المحلول الذي يكون ضغط الإسموزية أقل من الضغط الإسموزي للعصير الخلوي لهذا النبات وهذا المحلول يسبب امتلاء للخلايا النبات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MCS Diwany4 S_U normal."/>
                <a:cs typeface="Times New Roman"/>
              </a:rPr>
              <a:t>محلول زائد الإسموزي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هو المحلول الذي يكون فيه الضغط الإسموزي أعلى من الضغط الإسموزي للعصير الخلوي لهذا النبات وهذا المحلول يسبب البلزمة للخلايا النبات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34929" t="0" r="32645" b="0"/>
          <a:stretch/>
        </p:blipFill>
        <p:spPr>
          <a:xfrm>
            <a:off x="1116000" y="2349360"/>
            <a:ext cx="20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9280" y="277920"/>
            <a:ext cx="89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لمحلول سوي الإسموز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و المحلول الذي يتساوى الضغط الإسموزي مع الضغط الإسموزي للعصير الخلوي لهذا النبات وهذا المحلول لا يسبب امتلاء أو بلزمة الخلايا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4800" y="258480"/>
            <a:ext cx="999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لغرض من التجرب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إثبات الخاصية الإسموزية باستخدام ازموسكواب البطاط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1868760"/>
            <a:ext cx="4244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طباق بتر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فر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درنات البطاط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كلوريد الصودي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740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قشر درنة البطاطس وتقطع منها قطعتين كل منها على شكل مكعب ثم تعمل في كل مكعب فجوة عميقة نوعاً م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ضع في كل فجوة قليل من كلوريد الصوديوم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Cl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ثم توضع أحدى القطعتين في طبق بتري يحتوي على ماء نقي والآخر في طبق لا يحتوي على ماء ، وتترك لبعض الوق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45160" y="4074480"/>
            <a:ext cx="26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طريقة العمل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15959" r="0" b="15290"/>
          <a:stretch/>
        </p:blipFill>
        <p:spPr>
          <a:xfrm>
            <a:off x="3780000" y="260280"/>
            <a:ext cx="5143320" cy="46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3543480" cy="3789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slide0134_image092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4824360" cy="2952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5312880" y="429480"/>
            <a:ext cx="36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البلزمة والشفاء من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9840" y="1087920"/>
            <a:ext cx="2907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Tahoma"/>
              </a:rPr>
              <a:t>المواد والأدو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طباق بت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جه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رائح وأغط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كعبات بص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كلوريد الصوديو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اء مقط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ود مخف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942360"/>
            <a:ext cx="8425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ff00"/>
                </a:solidFill>
                <a:uFillTx/>
                <a:latin typeface="Tahoma"/>
              </a:rPr>
              <a:t>طريقة العمل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تفحص سلخة بصل تحت المج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تغمر السلخة في محلول من كلوريد الصوديوم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Cl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ذات التركيز (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% ) وتترك بعض الوقت ثم تعاد فحصها تحت المج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تنقل السلخات المستخدمة في الخلطة السابقة للماء النقي وتترك لبعض الوقت ثم تعاد فحصها تحت المج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85760" y="40356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ahoma"/>
              </a:rPr>
              <a:t>تقدير قوة الإمتصاص الإسموزي بطريقة الإنحن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90360" y="1037160"/>
            <a:ext cx="6040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ff00"/>
                </a:solidFill>
                <a:uFillTx/>
                <a:latin typeface="Tahoma"/>
              </a:rPr>
              <a:t>الغرض من التجرب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قدير قوة الإمتصاص الإسموزي بطريقة الإنحنا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7400" y="2084400"/>
            <a:ext cx="4606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ff00"/>
                </a:solidFill>
                <a:uFillTx/>
                <a:latin typeface="Tahoma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طباق بتر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فر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عناق أوراق الخرو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كلوريد الصوديوم من مختلف التراكي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اء مقط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29480" y="397440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ff00"/>
                </a:solidFill>
                <a:uFillTx/>
                <a:latin typeface="Tahoma"/>
              </a:rPr>
              <a:t>طريقة العم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7000"/>
            <a:ext cx="895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نحضر محاليل مختلفة في تركيزاتها من كلوريد الصوديوم (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N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,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.05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) وماء مقط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نعمل شق في أعناق أوراق نبات الخروع طولياً إلى أربعة أجزاء ونلاحظ حدوث تقوس ناحية البشرة بعد القطع مباش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نضع بعض هذه الأجزاء في أطباق بتري والتي تحتوي على تراكيز مختلفة من كلوريد الصودي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351640" cy="46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5:30:02Z</dcterms:created>
  <dc:creator>HELP</dc:creator>
  <dc:description/>
  <dc:language>en-US</dc:language>
  <cp:lastModifiedBy>HELP</cp:lastModifiedBy>
  <dcterms:modified xsi:type="dcterms:W3CDTF">2008-03-06T16:16:05Z</dcterms:modified>
  <cp:revision>17</cp:revision>
  <dc:subject/>
  <dc:title>الشريحة 1</dc:title>
</cp:coreProperties>
</file>