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015F-19BE-4787-B200-113D3C760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0DBD-3A11-4E85-848F-7BBA6836F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27C6-8FAD-43CA-8A69-25A54C1C8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A538-2FEE-4AE7-BD19-18164FE24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AA55F-9A76-47F1-A405-8B9595841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61962-8965-4ABA-BB63-6C6F53F68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4FC7B-7F92-4414-8E24-21A743B87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0711A-3D2F-4671-AB0B-90B0E75C7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90A0E-F45C-4556-9D5F-04F923895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DAF2F-FF93-4ED0-B92D-6A68FA3D4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B6C4A-6E31-4CAC-B2FE-240D4BB4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A3D3-62C6-45F2-B14A-DF6ACE650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FD78F-46F0-48CC-BC7D-A76F5574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E7871-0A08-4FC1-BF45-01368754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AB561-4D5C-459A-8E3A-EDFCEB20C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94763-D99B-4FFC-B7D7-9FB367BF3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EED5F-6252-41EE-A393-80EB131B9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38EB-1E36-47C9-92FB-668D9A6B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0646-A199-4F37-A712-DAFEBEB4C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5296-CC9C-4391-A219-9514A8DA1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3EB9-4888-4995-B637-661B503CD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0B66-53CD-4DF3-B97A-982FAB50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EA82-8B95-4D7F-A66F-CA73EE6D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0DCC-7045-4A7D-912F-A5B197F2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24A39-D4F5-468E-AECA-8DB8E1456B4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B0310-12D1-4137-A0C5-3340BF73B6B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844800" y="370440"/>
            <a:ext cx="591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Verdana"/>
              </a:rPr>
              <a:t>إثبات ظاهرة الفصل الغشائي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279120" y="1276920"/>
            <a:ext cx="301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MCS Diwany2 S_I normal."/>
                <a:cs typeface="Times New Roman"/>
              </a:rPr>
              <a:t>الغرض من التجربة 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5" name="Starch%20test" descr=""/>
          <p:cNvPicPr/>
          <p:nvPr/>
        </p:nvPicPr>
        <p:blipFill>
          <a:blip r:embed="rId1"/>
          <a:stretch/>
        </p:blipFill>
        <p:spPr>
          <a:xfrm>
            <a:off x="611280" y="2349360"/>
            <a:ext cx="3168720" cy="329904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6" name=""/>
          <p:cNvSpPr/>
          <p:nvPr/>
        </p:nvSpPr>
        <p:spPr>
          <a:xfrm>
            <a:off x="3085200" y="1340640"/>
            <a:ext cx="37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eaeaea"/>
                </a:solidFill>
                <a:latin typeface="Arial"/>
                <a:cs typeface="Times New Roman"/>
              </a:rPr>
              <a:t>إثبات ظاهرة الفصل الغشائي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58080" y="1858680"/>
            <a:ext cx="3234960" cy="33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ff00"/>
                </a:solidFill>
                <a:uFillTx/>
                <a:latin typeface="Verdana"/>
              </a:rPr>
              <a:t>المواد والأدوات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كأس زجاجي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أنابيب اختبار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خيط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كيس سلوفان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محلول النشأ الغروي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محلول الكلوريد 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NaC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محلول نترات الفضة </a:t>
            </a: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AgNO3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محلول اليود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ماء مقطر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8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8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8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8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8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8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8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800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95280" y="-99720"/>
            <a:ext cx="847584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ff00"/>
                </a:solidFill>
                <a:uFillTx/>
                <a:latin typeface="Verdana"/>
              </a:rPr>
              <a:t>طريقة العمل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# - نضع مخلوط من محلول النشأ الغروي ومحلول كلوريد الصوديوم في كيس من السلوفان ويتم غلق الكيس من الأعلى  و يوضع في كأس به ماء مقطر نقي ويترك لفترة من الزمن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# - نضع كمية متساوية من الماء المقطر في الأنبوبتين ونكشف عن الكلوريد باستخدام نترات الفضة كما نكشف عن النشأ باستخدام اليود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879640" y="2781360"/>
            <a:ext cx="6085080" cy="3868560"/>
            <a:chOff x="2879640" y="2781360"/>
            <a:chExt cx="6085080" cy="3868560"/>
          </a:xfrm>
        </p:grpSpPr>
        <p:pic>
          <p:nvPicPr>
            <p:cNvPr id="120" name="" descr=""/>
            <p:cNvPicPr/>
            <p:nvPr/>
          </p:nvPicPr>
          <p:blipFill>
            <a:blip r:embed="rId1"/>
            <a:srcRect l="0" t="11122" r="0" b="0"/>
            <a:stretch/>
          </p:blipFill>
          <p:spPr>
            <a:xfrm>
              <a:off x="2879640" y="2781360"/>
              <a:ext cx="6085080" cy="326988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  <p:sp>
          <p:nvSpPr>
            <p:cNvPr id="121" name=""/>
            <p:cNvSpPr/>
            <p:nvPr/>
          </p:nvSpPr>
          <p:spPr>
            <a:xfrm>
              <a:off x="3366360" y="6166800"/>
              <a:ext cx="5277600" cy="4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MCS Diwani0 S_I normal."/>
                  <a:ea typeface="MCS Diwani0 S_I normal."/>
                </a:rPr>
                <a:t>AgNO</a:t>
              </a:r>
              <a:r>
                <a:rPr b="1" lang="en-US" sz="1600" spc="-1" strike="noStrike" baseline="-25000">
                  <a:solidFill>
                    <a:srgbClr val="ffff00"/>
                  </a:solidFill>
                  <a:latin typeface="Times New Roman"/>
                  <a:ea typeface="MCS Diwani0 S_I normal."/>
                </a:rPr>
                <a:t>3</a:t>
              </a:r>
              <a:r>
                <a:rPr b="1" lang="en-US" sz="1600" spc="-1" strike="noStrike">
                  <a:solidFill>
                    <a:srgbClr val="ffff00"/>
                  </a:solidFill>
                  <a:latin typeface="Times New Roman"/>
                  <a:ea typeface="MCS Diwani0 S_I normal."/>
                </a:rPr>
                <a:t> + NaCl </a:t>
              </a:r>
              <a:r>
                <a:rPr b="1" lang="en-US" sz="1600" spc="-1" strike="noStrike">
                  <a:solidFill>
                    <a:srgbClr val="ffff00"/>
                  </a:solidFill>
                  <a:latin typeface="Wingdings"/>
                  <a:ea typeface="Wingdings"/>
                </a:rPr>
                <a:t></a:t>
              </a:r>
              <a:r>
                <a:rPr b="1" lang="en-US" sz="1600" spc="-1" strike="noStrike">
                  <a:solidFill>
                    <a:srgbClr val="ffff00"/>
                  </a:solidFill>
                  <a:latin typeface="Times New Roman"/>
                  <a:ea typeface="MCS Diwani0 S_I normal."/>
                </a:rPr>
                <a:t> AgCl </a:t>
              </a:r>
              <a:r>
                <a:rPr b="1" lang="en-US" sz="1600" spc="-1" strike="noStrike">
                  <a:solidFill>
                    <a:srgbClr val="ffff00"/>
                  </a:solidFill>
                  <a:latin typeface="Wingdings"/>
                  <a:ea typeface="Wingdings"/>
                </a:rPr>
                <a:t></a:t>
              </a:r>
              <a:r>
                <a:rPr b="1" lang="en-US" sz="1600" spc="-1" strike="noStrike">
                  <a:solidFill>
                    <a:srgbClr val="ffff00"/>
                  </a:solidFill>
                  <a:latin typeface="Times New Roman"/>
                  <a:ea typeface="MCS Diwani0 S_I normal."/>
                </a:rPr>
                <a:t> + NaNo</a:t>
              </a:r>
              <a:r>
                <a:rPr b="1" lang="en-US" sz="1600" spc="-1" strike="noStrike" baseline="-25000">
                  <a:solidFill>
                    <a:srgbClr val="ffff00"/>
                  </a:solidFill>
                  <a:latin typeface="Times New Roman"/>
                  <a:ea typeface="MCS Diwani0 S_I normal."/>
                </a:rPr>
                <a:t>3</a:t>
              </a:r>
              <a:endParaRPr b="0" lang="en-US" sz="16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79280" y="2781360"/>
            <a:ext cx="2556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8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8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50920" y="173160"/>
            <a:ext cx="871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انتقال العناصر المختلفة والغازات من التربة أو الجو إلى داخل جسم النبات من نسيج إلى آخر أو من خلية إلى أخرى بطريقة خاصة تعرف بعملية الإنتشار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ويندر أن يوجد من بين العمليات الفسيولوجية التي تحدث في النبات ما لا يرتبط بطريقة مباشرة أو غير مباشرة بظواهر الإنتشار. فما هي ظاهره الانتشار..؟؟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هي محصلة حركة الجزيئات من منطقه طاقها الحره عاليه الى منطقه طاقتها الحره منخفضةحتى حدوث الاتزان الطاقي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ويتحدد معدل انتشار مادة معينة بالعوامل التي تؤثر على انتشارها وفي محاليل الأملاح تنتشر أيونات الملح الواحد مستقلة عن بعضها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35680" y="0"/>
            <a:ext cx="25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 u="sng">
                <a:solidFill>
                  <a:srgbClr val="ffff00"/>
                </a:solidFill>
                <a:uFillTx/>
                <a:latin typeface="Verdana"/>
              </a:rPr>
              <a:t>الانتشار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675520" y="3860640"/>
            <a:ext cx="74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 u="sng">
                <a:solidFill>
                  <a:srgbClr val="ffff00"/>
                </a:solidFill>
                <a:uFillTx/>
                <a:latin typeface="Verdana"/>
              </a:rPr>
              <a:t>يتأثر معدل انتشار المواد المختلفة بالعوامل الآتية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5280" y="4139640"/>
            <a:ext cx="859140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99ff33"/>
                </a:solidFill>
                <a:uFillTx/>
                <a:latin typeface="Verdana"/>
              </a:rPr>
              <a:t>الحجم 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تتناسب سرعة الإنتشار تناسباً عكسياً مع حجم الأيونات أو الجزيئات المنتشرة ، بمعنى أنه كلما صغر حجم الأيون أو الجزيء المنتشر كلما زادت سرعة انتشاره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5454000"/>
            <a:ext cx="894564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99ff33"/>
                </a:solidFill>
                <a:uFillTx/>
                <a:latin typeface="Verdana"/>
              </a:rPr>
              <a:t>الكتلة 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تتناسب سرعة الإنتشار تناسباً عكسياً مع الوزن الذري أو الجزيئي ، لذلك إذا تساوت الدقائق في حجومها فإن الإثقل وزناً تكون هي الأبطأ في سرعة انتشارها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50920" y="561240"/>
            <a:ext cx="8713800" cy="21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99ff33"/>
                </a:solidFill>
                <a:uFillTx/>
                <a:latin typeface="Verdana"/>
              </a:rPr>
              <a:t>درجة التركيز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تنتقل الذرات أو الجزيئات من نقطة درجة التركيز عندها عالية إلى نقطة أخرى درجة التركيز عندها أقل بمعدل أسرع من العكس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99ff33"/>
                </a:solidFill>
                <a:uFillTx/>
                <a:latin typeface="Verdana"/>
              </a:rPr>
              <a:t>درجة الحرارة 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تزداد سرعة الإنتشار بارتفاع درجة الحرارة بسبب زيادة الطاقة الحركية للجزيئات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8064360" cy="403380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0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3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8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1" dur="1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537640" y="288000"/>
            <a:ext cx="752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Verdana"/>
              </a:rPr>
              <a:t>انتشار اليود والنشأ في غروي الجيلاتين المتصلب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Verdana"/>
              </a:rPr>
              <a:t> :</a:t>
            </a:r>
            <a:r>
              <a:rPr b="0" lang="ar-SA" sz="2400" spc="-1" strike="noStrike" u="sng">
                <a:solidFill>
                  <a:srgbClr val="ffff00"/>
                </a:solidFill>
                <a:uFillTx/>
                <a:latin typeface="Verdana"/>
              </a:rPr>
              <a:t>ـ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04920" y="848160"/>
            <a:ext cx="6866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ff33"/>
                </a:solidFill>
                <a:latin typeface="Verdana"/>
              </a:rPr>
              <a:t>الغرض من التجربة 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إثبات انتشار اليود والنشأ في غروي الجيلاتين المتصلب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2" name="jello-jello" descr=""/>
          <p:cNvPicPr/>
          <p:nvPr/>
        </p:nvPicPr>
        <p:blipFill>
          <a:blip r:embed="rId1"/>
          <a:stretch/>
        </p:blipFill>
        <p:spPr>
          <a:xfrm>
            <a:off x="4427640" y="3860640"/>
            <a:ext cx="1944720" cy="557280"/>
          </a:xfrm>
          <a:prstGeom prst="rect">
            <a:avLst/>
          </a:prstGeom>
          <a:ln w="0">
            <a:noFill/>
          </a:ln>
        </p:spPr>
      </p:pic>
      <p:pic>
        <p:nvPicPr>
          <p:cNvPr id="133" name="iodine" descr=""/>
          <p:cNvPicPr/>
          <p:nvPr/>
        </p:nvPicPr>
        <p:blipFill>
          <a:blip r:embed="rId2"/>
          <a:stretch/>
        </p:blipFill>
        <p:spPr>
          <a:xfrm>
            <a:off x="4211640" y="2492280"/>
            <a:ext cx="2376360" cy="12938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400" y="262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519240" y="1935000"/>
            <a:ext cx="281268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ff00"/>
                </a:solidFill>
                <a:uFillTx/>
                <a:latin typeface="Arial"/>
                <a:cs typeface="MCS Diwany2 S_I normal."/>
              </a:rPr>
              <a:t>المواد والإدوات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eaeaea"/>
                </a:solidFill>
                <a:latin typeface="Arial"/>
                <a:cs typeface="Times New Roman"/>
              </a:rPr>
              <a:t>أنابيب اختبار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eaeaea"/>
                </a:solidFill>
                <a:latin typeface="Arial"/>
                <a:cs typeface="Times New Roman"/>
              </a:rPr>
              <a:t>جيلاتين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نشأ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ماء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يود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35680" y="4290120"/>
            <a:ext cx="256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ff00"/>
                </a:solidFill>
                <a:uFillTx/>
                <a:latin typeface="Verdana"/>
              </a:rPr>
              <a:t>طريقة العمل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4713840"/>
            <a:ext cx="8842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eaeaea"/>
                </a:solidFill>
                <a:latin typeface="Verdana"/>
                <a:cs typeface="Arial"/>
              </a:rPr>
              <a:t>نضيف محلول </a:t>
            </a:r>
            <a:r>
              <a:rPr b="1" lang="ar-SA" sz="2000" spc="-1" strike="noStrike">
                <a:solidFill>
                  <a:srgbClr val="eaeaea"/>
                </a:solidFill>
                <a:latin typeface="Verdana"/>
                <a:ea typeface="Arial"/>
              </a:rPr>
              <a:t>10</a:t>
            </a:r>
            <a:r>
              <a:rPr b="1" lang="ar-SA" sz="2000" spc="-1" strike="noStrike">
                <a:solidFill>
                  <a:srgbClr val="eaeaea"/>
                </a:solidFill>
                <a:latin typeface="Verdana"/>
                <a:ea typeface="Arial"/>
              </a:rPr>
              <a:t>% جيلاتين ساخن مع النشأ ويترك حتى يتجمد الجيلاتين ثم نضيف القليل من محلول اليود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في الإنبوبة الأخرى يضاف </a:t>
            </a: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10</a:t>
            </a: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% كمية معينة من اليود إلى الجيلاتين ويترك حتى يجمد ثم يضاف القليل من محلول النشأ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3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rcRect l="0" t="12651" r="0" b="12362"/>
          <a:stretch/>
        </p:blipFill>
        <p:spPr>
          <a:xfrm>
            <a:off x="468360" y="981000"/>
            <a:ext cx="8351640" cy="5184720"/>
          </a:xfrm>
          <a:prstGeom prst="rect">
            <a:avLst/>
          </a:prstGeom>
          <a:ln w="5724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3:07Z</dcterms:created>
  <dc:creator>HELP</dc:creator>
  <dc:description/>
  <dc:language>en-US</dc:language>
  <cp:lastModifiedBy>HELP</cp:lastModifiedBy>
  <dcterms:modified xsi:type="dcterms:W3CDTF">2008-02-29T11:34:17Z</dcterms:modified>
  <cp:revision>9</cp:revision>
  <dc:subject/>
  <dc:title>الشريحة 1</dc:title>
</cp:coreProperties>
</file>