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5A8-0E90-428C-BC64-9869E3B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1AC-E712-472F-B1F7-71C37EBA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206-8033-4D38-A21A-DC63A80D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25F-C718-43C5-B72F-E9446894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2F0C-5EF5-4D1F-957A-1FC4ED84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E46-B7D1-4054-A454-1661728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DCF0-F26F-4A71-8A69-C69F2DF1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B9C6-C198-4427-82B6-FFF46A8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F3E2-BFF8-4992-9175-44FCD612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21D-81CF-450D-9B9D-F239E04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60F7-BAEA-45A6-ABCB-5035243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C48-6865-44C4-948E-43CDEA8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0117-B14A-408E-A7E3-6F8C6A8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6F1B-E5A0-495B-8989-02D7493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D054-82D5-4493-8A82-CD3C7394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DAB-211B-42DB-B160-A557EF4B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4A78-3A6E-4E23-AD99-45AAE2B7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246-092D-4052-87E8-51A0A9D5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4AB-B148-410A-B12A-9956C4E4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169-B499-4140-9CDB-F887A61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ED5-8673-4DE8-8474-BC0B648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4C6-9D97-4E0F-B985-569A3E32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651-9ADB-4ACD-9497-8392F8CB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17B-5F2A-40CA-A709-03DAD71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F2A1-C217-4268-A9E0-FAE3AFF12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54D-A48D-4131-81D7-A1D4ECE142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03480"/>
            <a:ext cx="87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ن كثير من خواص البروتوبلازم محكوم بنفس خواص الغرويات ودراسة الغرويات تعاوننا في فهم خواص البروتوبلاز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1789200"/>
            <a:ext cx="6286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أقسام المحاليل على أساس وجود المادة الذائبة في المادة المذيب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cc66"/>
                </a:solidFill>
                <a:latin typeface="Arial"/>
                <a:cs typeface="Times New Roman"/>
              </a:rPr>
              <a:t>المحلول الحقيقي</a:t>
            </a:r>
            <a:r>
              <a:rPr b="1" lang="ar-SA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rue solut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0" descr=""/>
          <p:cNvPicPr/>
          <p:nvPr/>
        </p:nvPicPr>
        <p:blipFill>
          <a:blip r:embed="rId1"/>
          <a:stretch/>
        </p:blipFill>
        <p:spPr>
          <a:xfrm>
            <a:off x="179280" y="5346720"/>
            <a:ext cx="819360" cy="15112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250920" y="2982240"/>
            <a:ext cx="8688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cc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هي الحالة التي يكون فيها الذائب منتشراً خلال المذيب(الماء) في صورة أيونات أو جزيئات لا يمكن رؤيتها بالعين المجردة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ماء والمل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ماء والسك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و أي ماده مذابه غير الملح قطر دقائقها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مليميكرو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تمتا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- انها ثابته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- لا ترسب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- تمر خلال ورق الترشي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2960" y="33264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حاله الغرويه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59280" y="114480"/>
            <a:ext cx="40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c66"/>
                </a:solidFill>
                <a:latin typeface="Arial"/>
              </a:rPr>
              <a:t>المعلق والمستحل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Suspension and Emul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83564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فإذا كانت المادة المذابة صلبة والمادة المذيبة سائلة سمي المحلول معلق مثل ( الرمل والماء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أما إذا كانت المادة المذابة سائلة والمادة المذيبة سائلة أيضاً سمي المحلول مستحلب مثل ( الصابون والزيت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1959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اذا كانت دقائق الماده تتراوح بين(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300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ليميكرون-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يكرون)فانها تظل عالقه في المذيب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الماء)لفتره ثم تنفصل تدريجيا وترس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938320"/>
            <a:ext cx="773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#  تسهل رؤية دقائق المعلق او المستحلب العالقه في الماء بالمجهر العاد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تمتاز:ـ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نها غير ثابته           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ترسب تدريجيا       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لاتمر خلال ورق الترشي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262320" cy="2521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15280" y="11484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حلول الغروي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lloidal sol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4240"/>
            <a:ext cx="872172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ي الحالة التي تتجزأ فيها المادة إلى وحدات تقع وسط بين الوحدات التي تتجزأ فيها المحاليل الحقيقية والمعلقات أي ان دقائقه تترواح بين (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) مليميكرون مثل الجيلاتين والما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تمتاز :ـ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تمر عبر ورق الترشيح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لاتمر خلال الاغشيه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لثبات ولا ترسب الا في حالات معين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اهم حالات الغروي هي التي  يكون فيها وسط الانتشار هو الماء والدقائق المنتشره ماده صل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3586320"/>
            <a:ext cx="78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تنقسم الغرويات إلى قسم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# غرويات  كارهة لوسط الإنتشار ( للمذيب) :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yo phob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ادة المذابة لا تذوب تماماً في المذيب بل تتعلق بها وذلك لأنه لا توجد قابلية بين دقائق الغروي المنتشر وبين دقائق وسط الإنتشار مثل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( محلول هيدروكسيد الحديديك والماء )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# غرويات محبة لوسط الإنتشار( المذيب) 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yo philic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ذلك لأنه توجد قابلية بين دقائق الغروي المنتشر وبين دقائق وسط الإنتشار فتتشرب كميات كبيره من المذيب وتحيط نفسها باغشيه سائله منه مثل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: (محلول الجيلاتين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والماء ) و (النشا والماء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-57600" y="30672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900040"/>
            <a:ext cx="852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  <a:cs typeface="Times New Roman"/>
              </a:rPr>
              <a:t>ملاحظة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تتميز الغرويات بقدرتها على التحول من الحالة السائلة إلى الحالة الصلبة  وهذا التحول عكس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5968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2562120" cy="14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026960" y="185040"/>
            <a:ext cx="53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هم الخواص العامه للغرويات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835560"/>
            <a:ext cx="824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- الحركه البراونيه 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ذا مررنا حزمه ضوئيه في محلول غروي ونظرنا في اتجاه عمودي على مسارها بمجهر دقيق يرى مسار الضوء مكون من نقط متعدده لامعه نتيجه لانعكاس الضوء على الدقائق المنشر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لاحظ ان هذه الدقائق تتحرك حركه تردديه اهتزازيه عنيفه وتسم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بالبراوني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582200" y="2253600"/>
            <a:ext cx="1215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سبب 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ن الايونات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وسط الانتشار لها طاقه كامنه تحركها باستمرار وكلما تحركت صدمت الدقائق المنشره بدون نظا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وتظل تتلقى الصدمات بقوى متساويه مما يجعلها تترددفي مكانها على تلك الصوره الاهتزازي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95000" y="3283560"/>
            <a:ext cx="1059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- الشحنه الكهربائيه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: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مل دقائق الغروي شحنات كهربائيه وذلك نتيجه لتأين بعض جزيئات الغرو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و نتيجة تجمع بعض الايونات ذات الشحنه على سطح الدقيقه الغرويه ( ادمصاص)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11480"/>
            <a:ext cx="894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- الانتشار 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ؤدي كبر حجم دقائق الغروي الى انتشارها ببطء شديد مقارنة بسرعة انتشار الجزيئات الصغي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مع ذلك فانها لا تستطيع ان تنفذ من خلال مسام ورقة الترشيح(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) ميكرون الا انها لا تنفذ خلال الاغشيه الخل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مثل السولوفا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39520" y="5589000"/>
            <a:ext cx="79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ستغلت هذه الظاهره لتنقية المحاليل الغرويه وتسمى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بالفرز الانتشاري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4920" y="3592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الحركة البراونية أحدى خواص الغرويات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870480"/>
            <a:ext cx="44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الغرض من التجرب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ثبات أن الحركة البراونية إحدى خواص الغروي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6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2949840" cy="18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5435640" y="1909080"/>
            <a:ext cx="3338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المواد والأدوات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شرائح وأغطي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محلول نش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ما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مجه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3867120"/>
            <a:ext cx="6459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عم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نضع نقطة من محلول النشأ على شريحة زجاجية ثم نفحص بالمجه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نفحص على العدسة الشيئية لنرى الحركة البراو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22640" y="25920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اثبات انعكاس أطوار الغرويات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98880" y="81144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الغرض من التجربة :</a:t>
            </a:r>
            <a:r>
              <a:rPr b="1" lang="en-US" sz="1600" spc="-1" strike="noStrike">
                <a:solidFill>
                  <a:srgbClr val="ff7c80"/>
                </a:solidFill>
                <a:latin typeface="Arial"/>
                <a:ea typeface="MCS Diwany2 S_I normal.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c80"/>
                </a:solidFill>
                <a:latin typeface="Arial"/>
                <a:ea typeface="MCS Diwany2 S_I normal."/>
              </a:rPr>
              <a:t> 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اثبات انعكاس أطوار الغروي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1825920"/>
            <a:ext cx="2810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واد والأدو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أنابيب اختب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له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محلول الجيلاتي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49240" y="3323520"/>
            <a:ext cx="7016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طريقة العم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نملأ أنبوبة اختبار إلى النصف بمحلول الجيلاتين الساخ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تترك الإنبوبة لتبرد ثم نعيد تسخين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53480" y="4479120"/>
            <a:ext cx="1131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اهده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يتحول محلول غروي الجيلاتين الساخن من الحاله السائله بالتبريد الى الحاله الصلبه ويتحول من  الحال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صلبه بالتسخين الى الحاله السائل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659920"/>
            <a:ext cx="85010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ناقشة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ي الحاله الاولى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رتبط الماء بحبيبات الجيلاتين عند التبريد فتصبح صلب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الحاله الثانيه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فان الماء يكون حر عند التسخين بسبب زيادة الطاقه الحركيه لجزيئات الم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9280" y="981000"/>
            <a:ext cx="3024360" cy="3095280"/>
            <a:chOff x="179280" y="981000"/>
            <a:chExt cx="3024360" cy="3095280"/>
          </a:xfrm>
        </p:grpSpPr>
        <p:grpSp>
          <p:nvGrpSpPr>
            <p:cNvPr id="133" name=""/>
            <p:cNvGrpSpPr/>
            <p:nvPr/>
          </p:nvGrpSpPr>
          <p:grpSpPr>
            <a:xfrm>
              <a:off x="179280" y="981000"/>
              <a:ext cx="2992680" cy="2521440"/>
              <a:chOff x="179280" y="981000"/>
              <a:chExt cx="2992680" cy="2521440"/>
            </a:xfrm>
          </p:grpSpPr>
          <p:pic>
            <p:nvPicPr>
              <p:cNvPr id="1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1015560"/>
                <a:ext cx="2992680" cy="24868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5" name=""/>
              <p:cNvSpPr/>
              <p:nvPr/>
            </p:nvSpPr>
            <p:spPr>
              <a:xfrm>
                <a:off x="1691280" y="981000"/>
                <a:ext cx="944640" cy="56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أ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6920" y="981000"/>
                <a:ext cx="945000" cy="56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ب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79280" y="3446280"/>
              <a:ext cx="3024360" cy="63000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سيولة الجيلاتين وتصلب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30600" y="187920"/>
            <a:ext cx="73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إثبات وجود شحنات كهربائية على الدقائق الغر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835920"/>
            <a:ext cx="5456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ورقة ترشيح خالية من الرماد ( سالبة الشحنة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صبغة أزرق الميثيلين ( موجبة الشحنة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صبغة أحمر الكونغو ( سالبة الشحنة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57800" y="2348640"/>
            <a:ext cx="8346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طريقة العم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نضع نقطة من أزرق الميثيلين على ورق الترشيح الأول الخالي من الرماد </a:t>
            </a:r>
            <a:r>
              <a:rPr b="0" lang="en-US" sz="1800" spc="-1" strike="noStrike" u="sng" baseline="30000">
                <a:solidFill>
                  <a:srgbClr val="99ff66"/>
                </a:solidFill>
                <a:uFillTx/>
                <a:latin typeface="Arial"/>
                <a:ea typeface="Times New Roman"/>
                <a:hlinkClick r:id="rId1" action="ppaction://hlinksldjump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نضع نقطة من أحمر الكونغو على ورق الترشيح الثانية الخالي من الرما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نترك ورقتي الترشيح بعض من الوق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8880" y="2962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627280" y="3860640"/>
            <a:ext cx="6285960" cy="2171880"/>
            <a:chOff x="2627280" y="3860640"/>
            <a:chExt cx="6285960" cy="2171880"/>
          </a:xfrm>
        </p:grpSpPr>
        <p:grpSp>
          <p:nvGrpSpPr>
            <p:cNvPr id="143" name=""/>
            <p:cNvGrpSpPr/>
            <p:nvPr/>
          </p:nvGrpSpPr>
          <p:grpSpPr>
            <a:xfrm>
              <a:off x="2627280" y="3860640"/>
              <a:ext cx="3034440" cy="1678320"/>
              <a:chOff x="2627280" y="3860640"/>
              <a:chExt cx="3034440" cy="16783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"/>
              <a:srcRect l="8306" t="12456" r="12801" b="8650"/>
              <a:stretch/>
            </p:blipFill>
            <p:spPr>
              <a:xfrm>
                <a:off x="3819240" y="3860640"/>
                <a:ext cx="1842480" cy="167832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3277440" y="4551480"/>
                <a:ext cx="97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43640" y="4452840"/>
                <a:ext cx="5418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ماء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27280" y="4847760"/>
                <a:ext cx="10836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أزرق الميثيلين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( + 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602520" y="4650480"/>
                <a:ext cx="1083600" cy="29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878800" y="3860640"/>
              <a:ext cx="3034440" cy="1678320"/>
              <a:chOff x="5878800" y="3860640"/>
              <a:chExt cx="3034440" cy="16783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3"/>
              <a:srcRect l="8334" t="12501" r="12501" b="8334"/>
              <a:stretch/>
            </p:blipFill>
            <p:spPr>
              <a:xfrm>
                <a:off x="5878800" y="3860640"/>
                <a:ext cx="1842480" cy="167832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7829640" y="4354200"/>
                <a:ext cx="541800" cy="2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ماء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29640" y="4749120"/>
                <a:ext cx="10836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أحمر الكونغو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( - 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7179120" y="4452840"/>
                <a:ext cx="75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962400" y="4749120"/>
                <a:ext cx="975240" cy="9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253040" y="5637600"/>
              <a:ext cx="292644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الدقائق الغروية تحمل شحنات كهربائي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722760" y="6236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ورق الترشيح الخالي من الرماد يحمل الشحنة السالب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93080" y="6381720"/>
            <a:ext cx="71640" cy="163440"/>
          </a:xfrm>
          <a:prstGeom prst="star5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131400" y="430560"/>
            <a:ext cx="97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معادلة الشحنات الكهربائية على الدقائق الغروية ( السالبة الشحنة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969840"/>
            <a:ext cx="3938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قما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دوار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طم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حلول كلوريد الكالسيو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Cl2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00"/>
                </a:solidFill>
                <a:latin typeface="Arial"/>
              </a:rPr>
              <a:t>موجب الشحنه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اء مقط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010320"/>
            <a:ext cx="8785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طريقة العم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نضع محلول الطمي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جرام تربة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( ملعقتان صغيرتان )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مل ماء )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في البيكر الأول ونضيف إليه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ملل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                   من محلول كلوريد الكالسيوم ذو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لشحنة الموجبة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 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نضع محلول الطمي أيضاً في البيكر الثاني ونضيف إليه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ملل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من الماء المقطر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لمتعادل الشحنة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نقوم بعملية الترشيح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952720" cy="202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982440" y="4940640"/>
            <a:ext cx="9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اهدة : 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في الحاله الاولى سيكون الراشح 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نقي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 اما في الحاله الثانيه سيكون الراشح 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عك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5475240"/>
            <a:ext cx="8746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ناقشة :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في التجربه الاولى قام كلوريد الكالسيوم بمعادلة شحنات الغروي السالبه مما جعل حجم دقائق الطمي كبيره فلم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ترشح من ورق الترشيح ,امافي التجربه الثانيه عدم وجود كلوريد الكالسيوم  مكنت دقائق الطمي من النفاذعبر مسام ورق الترسي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مما ترتب عليه تعكير الراشح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34:05Z</dcterms:created>
  <dc:creator>HELP</dc:creator>
  <dc:description/>
  <dc:language>en-US</dc:language>
  <cp:lastModifiedBy>HELP</cp:lastModifiedBy>
  <dcterms:modified xsi:type="dcterms:W3CDTF">2008-02-23T17:18:18Z</dcterms:modified>
  <cp:revision>28</cp:revision>
  <dc:subject/>
  <dc:title>الشريحة 1</dc:title>
</cp:coreProperties>
</file>