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451-04E6-40B6-852A-2CDEA9DE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E15-8E5E-4151-95C3-E3DFC29C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40A-3B60-4F96-A816-C09490B8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1E6-A9E0-418E-88BC-827A8627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E29F-5555-4EED-B92E-F88BE1C5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CC14-D258-48B6-A1E1-869D0D15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E0DF-C1F2-4785-AA45-38C31670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E036-081C-4854-869B-8BA1DBA2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9CC5-5E5F-4D95-92B5-DDBC13F9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5450-613D-440E-B388-30959CFF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C96E-060E-4C49-B449-60A3F6EE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EE5-2784-404A-AC03-76B00C38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2AF4-3152-4BFE-8998-0A6CB27D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F48D-DDE8-4DE1-B61B-3A2A669A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3DDE-CC39-44FB-9917-C8C5D6F4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D463-60DE-4DF8-A718-FDADF7CF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DA64-C03F-4D8E-8B44-75453127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0AA-005F-4A79-BA7F-AC77C131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A11-A55C-475B-89D5-2AD13962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0E4-B3A8-4029-B3C2-4745BDC3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086-4EB1-46D3-8397-1697F7CD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6A0-8B24-44A3-8D3E-27FAF65C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D12-720F-4578-A415-66E28905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C22-C261-42AD-BEC7-064B0516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D3F5-CB23-4862-A2A0-8C2979AD36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2431-D925-494A-AFF2-DF1C5C130C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203480"/>
            <a:ext cx="87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ن كثير من خواص البروتوبلازم محكوم بنفس خواص الغرويات ودراسة الغرويات تعاوننا في فهم خواص البروتوبلاز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1789200"/>
            <a:ext cx="6286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00"/>
                </a:solidFill>
                <a:uFillTx/>
                <a:latin typeface="Arial"/>
                <a:cs typeface="Times New Roman"/>
              </a:rPr>
              <a:t>أقسام المحاليل على أساس وجود المادة الذائبة في المادة المذيب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cc66"/>
                </a:solidFill>
                <a:latin typeface="Arial"/>
                <a:cs typeface="Times New Roman"/>
              </a:rPr>
              <a:t>المحلول الحقيقي</a:t>
            </a:r>
            <a:r>
              <a:rPr b="1" lang="ar-SA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rue solution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0" descr=""/>
          <p:cNvPicPr/>
          <p:nvPr/>
        </p:nvPicPr>
        <p:blipFill>
          <a:blip r:embed="rId1"/>
          <a:stretch/>
        </p:blipFill>
        <p:spPr>
          <a:xfrm>
            <a:off x="179280" y="5346720"/>
            <a:ext cx="819360" cy="15112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0" name=""/>
          <p:cNvSpPr/>
          <p:nvPr/>
        </p:nvSpPr>
        <p:spPr>
          <a:xfrm>
            <a:off x="250920" y="2982240"/>
            <a:ext cx="8688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cc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هي الحالة التي يكون فيها الذائب منتشراً خلال المذيب(الماء) في صورة أيونات أو جزيئات لا يمكن رؤيتها بالعين المجردة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ماء والمل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ماء والسك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و أي ماده مذابه غير الملح قطر دقائقها(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) مليميكرو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تمتا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- انها ثابته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- لا ترسب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- تمر خلال ورق الترشي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32960" y="332640"/>
            <a:ext cx="29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حاله الغرويه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859280" y="114480"/>
            <a:ext cx="40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c66"/>
                </a:solidFill>
                <a:latin typeface="Arial"/>
              </a:rPr>
              <a:t>المعلق والمستحل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66"/>
                </a:solidFill>
                <a:uFillTx/>
                <a:latin typeface="Arial"/>
              </a:rPr>
              <a:t>Suspension and Emuls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83564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فإذا كانت المادة المذابة صلبة والمادة المذيبة سائلة سمي المحلول معلق مثل ( الرمل والماء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أما إذا كانت المادة المذابة سائلة والمادة المذيبة سائلة أيضاً سمي المحلول مستحلب مثل ( الصابون والزيت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19592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اذا كانت دقائق الماده تتراوح بين(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300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مليميكرون-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ميكرون)فانها تظل عالقه في المذيب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الماء)لفتره ثم تنفصل تدريجيا وترس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938320"/>
            <a:ext cx="7732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#  تسهل رؤية دقائق المعلق او المستحلب العالقه في الماء بالمجهر العاد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تمتاز:ـ  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نها غير ثابته             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ترسب تدريجيا         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لاتمر خلال ورق الترشي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59280" y="4149720"/>
            <a:ext cx="3262320" cy="25210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15280" y="114840"/>
            <a:ext cx="52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حلول الغروي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lloidal sol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64240"/>
            <a:ext cx="872172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ي الحالة التي تتجزأ فيها المادة إلى وحدات تقع وسط بين الوحدات التي تتجزأ فيها المحاليل الحقيقية والمعلقات أي ان دقائقه تترواح بين (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) مليميكرون مثل الجيلاتين والما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Arial"/>
              </a:rPr>
              <a:t>تمتاز :ـ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تمر عبر ورق الترشيح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لاتمر خلال الاغشيه 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لثبات ولا ترسب الا في حالات معين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66"/>
                </a:solidFill>
                <a:latin typeface="Arial"/>
              </a:rPr>
              <a:t>اهم حالات الغروي هي التي  يكون فيها وسط الانتشار هو الماء والدقائق المنتشره ماده صل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3586320"/>
            <a:ext cx="7850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تنقسم الغرويات إلى قسم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# غرويات  كارهة لوسط الإنتشار ( للمذيب) :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yo phob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مادة المذابة لا تذوب تماماً في المذيب بل تتعلق بها وذلك لأنه لا توجد قابلية بين دقائق الغروي المنتشر وبين دقائق وسط الإنتشار مثل </a:t>
            </a:r>
            <a:r>
              <a:rPr b="1" lang="ar-SA" sz="1800" spc="-1" strike="noStrike">
                <a:solidFill>
                  <a:srgbClr val="ffff66"/>
                </a:solidFill>
                <a:latin typeface="Arial"/>
              </a:rPr>
              <a:t>( محلول هيدروكسيد الحديديك والماء )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# غرويات محبة لوسط الإنتشار( المذيب) :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yo philic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ذلك لأنه توجد قابلية بين دقائق الغروي المنتشر وبين دقائق وسط الإنتشار فتتشرب كميات كبيره من المذيب وتحيط نفسها باغشيه سائله منه مثل </a:t>
            </a:r>
            <a:r>
              <a:rPr b="1" lang="ar-SA" sz="1800" spc="-1" strike="noStrike">
                <a:solidFill>
                  <a:srgbClr val="ffff66"/>
                </a:solidFill>
                <a:latin typeface="Arial"/>
              </a:rPr>
              <a:t>: (محلول الجيلاتين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ff66"/>
                </a:solidFill>
                <a:latin typeface="Arial"/>
              </a:rPr>
              <a:t>والماء ) و (النشا والماء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-57600" y="30672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900040"/>
            <a:ext cx="8521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  <a:cs typeface="Times New Roman"/>
              </a:rPr>
              <a:t>ملاحظة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  <a:cs typeface="Times New Roman"/>
              </a:rPr>
              <a:t>تتميز الغرويات بقدرتها على التحول من الحالة السائلة إلى الحالة الصلبة  وهذا التحول عكس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59680" y="303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067280" y="2205000"/>
            <a:ext cx="2562120" cy="1440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026960" y="185040"/>
            <a:ext cx="53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هم الخواص العامه للغرويات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835560"/>
            <a:ext cx="824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Arial"/>
              </a:rPr>
              <a:t>- الحركه البراونيه 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ذا مررنا حزمه ضوئيه في محلول غروي ونظرنا في اتجاه عمودي على مسارها بمجهر دقيق يرى مسار الضوء مكون من نقط متعدده لامعه نتيجه لانعكاس الضوء على الدقائق المنشر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لاحظ ان هذه الدقائق تتحرك حركه تردديه اهتزازيه عنيفه وتسم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بالبراوني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582200" y="2253600"/>
            <a:ext cx="1215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سبب 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ان الايونات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وسط الانتشار لها طاقه كامنه تحركها باستمرار وكلما تحركت صدمت الدقائق المنشره بدون نظا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وتظل تتلقى الصدمات بقوى متساويه مما يجعلها تترددفي مكانها على تلك الصوره الاهتزازي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95000" y="3283560"/>
            <a:ext cx="1059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Arial"/>
              </a:rPr>
              <a:t>- الشحنه الكهربائيه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 :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حمل دقائق الغروي شحنات كهربائيه وذلك نتيجه لتأين بعض جزيئات الغرو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و نتيجة تجمع بعض الايونات ذات الشحنه على سطح الدقيقه الغرويه ( ادمصاص) </a:t>
            </a:r>
            <a:r>
              <a:rPr b="1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11480"/>
            <a:ext cx="894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- الانتشار 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ؤدي كبر حجم دقائق الغروي الى انتشارها ببطء شديد مقارنة بسرعة انتشار الجزيئات الصغي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مع ذلك فانها لا تستطيع ان تنفذ من خلال مسام ورقة الترشيح(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) ميكرون الا انها لا تنفذ خلال الاغشيه الخلو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مثل السولوفا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39520" y="5589000"/>
            <a:ext cx="79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ستغلت هذه الظاهره لتنقية المحاليل الغرويه وتسمى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بالفرز الانتشاري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94920" y="3592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الحركة البراونية أحدى خواص الغرويات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870480"/>
            <a:ext cx="445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Arial"/>
              </a:rPr>
              <a:t>الغرض من التجرب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إثبات أن الحركة البراونية إحدى خواص الغروي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66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logo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2949840" cy="187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5435640" y="1909080"/>
            <a:ext cx="33386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Arial"/>
                <a:cs typeface="MCS Diwany2 S_I normal."/>
              </a:rPr>
              <a:t>المواد والأدوات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  <a:cs typeface="Times New Roman"/>
              </a:rPr>
              <a:t>شرائح وأغطي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  <a:cs typeface="Times New Roman"/>
              </a:rPr>
              <a:t>محلول نشأ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  <a:cs typeface="Times New Roman"/>
              </a:rPr>
              <a:t>ما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  <a:cs typeface="Times New Roman"/>
              </a:rPr>
              <a:t>مجه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3867120"/>
            <a:ext cx="6459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عمل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نضع نقطة من محلول النشأ على شريحة زجاجية ثم نفحص بالمجه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نفحص على العدسة الشيئية لنرى الحركة البراو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22640" y="25920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اثبات انعكاس أطوار الغرويات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98880" y="811440"/>
            <a:ext cx="45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ffff00"/>
                </a:solidFill>
                <a:uFillTx/>
                <a:latin typeface="Arial"/>
                <a:cs typeface="MCS Diwany2 S_I normal."/>
              </a:rPr>
              <a:t>الغرض من التجربة :</a:t>
            </a:r>
            <a:r>
              <a:rPr b="1" lang="en-US" sz="1600" spc="-1" strike="noStrike">
                <a:solidFill>
                  <a:srgbClr val="ff7c80"/>
                </a:solidFill>
                <a:latin typeface="Arial"/>
                <a:ea typeface="MCS Diwany2 S_I normal.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c80"/>
                </a:solidFill>
                <a:latin typeface="Arial"/>
                <a:ea typeface="MCS Diwany2 S_I normal."/>
              </a:rPr>
              <a:t>  </a:t>
            </a: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اثبات انعكاس أطوار الغروي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1825920"/>
            <a:ext cx="2810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واد والأدوات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 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أنابيب اختب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 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له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محلول الجيلاتي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49240" y="3323520"/>
            <a:ext cx="7016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طريقة العم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نملأ أنبوبة اختبار إلى النصف بمحلول الجيلاتين الساخ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تترك الإنبوبة لتبرد ثم نعيد تسخين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753480" y="4479120"/>
            <a:ext cx="1131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اهده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يتحول محلول غروي الجيلاتين الساخن من الحاله السائله بالتبريد الى الحاله الصلبه ويتحول من  الحال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صلبه بالتسخين الى الحاله السائل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5659920"/>
            <a:ext cx="85010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ناقشة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ي الحاله الاولى</a:t>
            </a: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رتبط الماء بحبيبات الجيلاتين عند التبريد فتصبح صلب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الحاله الثانيه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فان الماء يكون حر عند التسخين بسبب زيادة الطاقه الحركيه لجزيئات الم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9280" y="981000"/>
            <a:ext cx="3024360" cy="3095280"/>
            <a:chOff x="179280" y="981000"/>
            <a:chExt cx="3024360" cy="3095280"/>
          </a:xfrm>
        </p:grpSpPr>
        <p:grpSp>
          <p:nvGrpSpPr>
            <p:cNvPr id="133" name=""/>
            <p:cNvGrpSpPr/>
            <p:nvPr/>
          </p:nvGrpSpPr>
          <p:grpSpPr>
            <a:xfrm>
              <a:off x="179280" y="981000"/>
              <a:ext cx="2992680" cy="2521440"/>
              <a:chOff x="179280" y="981000"/>
              <a:chExt cx="2992680" cy="2521440"/>
            </a:xfrm>
          </p:grpSpPr>
          <p:pic>
            <p:nvPicPr>
              <p:cNvPr id="1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1015560"/>
                <a:ext cx="2992680" cy="24868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5" name=""/>
              <p:cNvSpPr/>
              <p:nvPr/>
            </p:nvSpPr>
            <p:spPr>
              <a:xfrm>
                <a:off x="1691280" y="981000"/>
                <a:ext cx="944640" cy="56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أ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56920" y="981000"/>
                <a:ext cx="945000" cy="56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ب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79280" y="3446280"/>
              <a:ext cx="3024360" cy="63000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سيولة الجيلاتين وتصلبة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30600" y="187920"/>
            <a:ext cx="73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إثبات وجود شحنات كهربائية على الدقائق الغرو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835920"/>
            <a:ext cx="5456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واد والأدوات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ورقة ترشيح خالية من الرماد ( سالبة الشحنة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صبغة أزرق الميثيلين ( موجبة الشحنة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صبغة أحمر الكونغو ( سالبة الشحنة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57800" y="2348640"/>
            <a:ext cx="8346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  <a:cs typeface="MCS Diwany2 S_I normal."/>
              </a:rPr>
              <a:t>طريقة العمل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نضع نقطة من أزرق الميثيلين على ورق الترشيح الأول الخالي من الرماد </a:t>
            </a:r>
            <a:r>
              <a:rPr b="0" lang="en-US" sz="1800" spc="-1" strike="noStrike" u="sng" baseline="30000">
                <a:solidFill>
                  <a:srgbClr val="99ff66"/>
                </a:solidFill>
                <a:uFillTx/>
                <a:latin typeface="Arial"/>
                <a:ea typeface="Times New Roman"/>
                <a:hlinkClick r:id="rId1" action="ppaction://hlinksldjump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نضع نقطة من أحمر الكونغو على ورق الترشيح الثانية الخالي من الرما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نترك ورقتي الترشيح بعض من الوق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8880" y="29628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627280" y="3860640"/>
            <a:ext cx="6285960" cy="2171880"/>
            <a:chOff x="2627280" y="3860640"/>
            <a:chExt cx="6285960" cy="2171880"/>
          </a:xfrm>
        </p:grpSpPr>
        <p:grpSp>
          <p:nvGrpSpPr>
            <p:cNvPr id="143" name=""/>
            <p:cNvGrpSpPr/>
            <p:nvPr/>
          </p:nvGrpSpPr>
          <p:grpSpPr>
            <a:xfrm>
              <a:off x="2627280" y="3860640"/>
              <a:ext cx="3034440" cy="1678320"/>
              <a:chOff x="2627280" y="3860640"/>
              <a:chExt cx="3034440" cy="1678320"/>
            </a:xfrm>
          </p:grpSpPr>
          <p:pic>
            <p:nvPicPr>
              <p:cNvPr id="144" name="" descr=""/>
              <p:cNvPicPr/>
              <p:nvPr/>
            </p:nvPicPr>
            <p:blipFill>
              <a:blip r:embed="rId2"/>
              <a:srcRect l="8306" t="12456" r="12801" b="8650"/>
              <a:stretch/>
            </p:blipFill>
            <p:spPr>
              <a:xfrm>
                <a:off x="3819240" y="3860640"/>
                <a:ext cx="1842480" cy="167832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3277440" y="4551480"/>
                <a:ext cx="97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43640" y="4452840"/>
                <a:ext cx="54180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200" spc="-1" strike="noStrike">
                    <a:solidFill>
                      <a:srgbClr val="ffffff"/>
                    </a:solidFill>
                    <a:latin typeface="Times New Roman"/>
                    <a:cs typeface="Times New Roman"/>
                  </a:rPr>
                  <a:t>ماء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27280" y="4847760"/>
                <a:ext cx="10836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200" spc="-1" strike="noStrike">
                    <a:solidFill>
                      <a:srgbClr val="ffffff"/>
                    </a:solidFill>
                    <a:latin typeface="Times New Roman"/>
                    <a:cs typeface="Times New Roman"/>
                  </a:rPr>
                  <a:t>أزرق الميثيلين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( + 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3602520" y="4650480"/>
                <a:ext cx="1083600" cy="29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878800" y="3860640"/>
              <a:ext cx="3034440" cy="1678320"/>
              <a:chOff x="5878800" y="3860640"/>
              <a:chExt cx="3034440" cy="1678320"/>
            </a:xfrm>
          </p:grpSpPr>
          <p:pic>
            <p:nvPicPr>
              <p:cNvPr id="150" name="" descr=""/>
              <p:cNvPicPr/>
              <p:nvPr/>
            </p:nvPicPr>
            <p:blipFill>
              <a:blip r:embed="rId3"/>
              <a:srcRect l="8334" t="12501" r="12501" b="8334"/>
              <a:stretch/>
            </p:blipFill>
            <p:spPr>
              <a:xfrm>
                <a:off x="5878800" y="3860640"/>
                <a:ext cx="1842480" cy="167832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7829640" y="4354200"/>
                <a:ext cx="541800" cy="29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200" spc="-1" strike="noStrike">
                    <a:solidFill>
                      <a:srgbClr val="ffffff"/>
                    </a:solidFill>
                    <a:latin typeface="Times New Roman"/>
                    <a:cs typeface="Times New Roman"/>
                  </a:rPr>
                  <a:t>ماء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29640" y="4749120"/>
                <a:ext cx="10836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200" spc="-1" strike="noStrike">
                    <a:solidFill>
                      <a:srgbClr val="ffffff"/>
                    </a:solidFill>
                    <a:latin typeface="Times New Roman"/>
                    <a:cs typeface="Times New Roman"/>
                  </a:rPr>
                  <a:t>أحمر الكونغو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( - 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7179120" y="4452840"/>
                <a:ext cx="75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6962400" y="4749120"/>
                <a:ext cx="975240" cy="9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253040" y="5637600"/>
              <a:ext cx="292644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00"/>
                  </a:solidFill>
                  <a:latin typeface="Times New Roman"/>
                  <a:cs typeface="Times New Roman"/>
                </a:rPr>
                <a:t>الدقائق الغروية تحمل شحنات كهربائية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722760" y="6236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ورق الترشيح الخالي من الرماد يحمل الشحنة السالب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893080" y="6381720"/>
            <a:ext cx="71640" cy="163440"/>
          </a:xfrm>
          <a:prstGeom prst="star5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131400" y="430560"/>
            <a:ext cx="97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معادلة الشحنات الكهربائية على الدقائق الغروية ( السالبة الشحنة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969840"/>
            <a:ext cx="39387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واد والأدوات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قما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دوار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طم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محلول كلوريد الكالسيو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Cl2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00"/>
                </a:solidFill>
                <a:latin typeface="Arial"/>
              </a:rPr>
              <a:t>موجب الشحنه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66"/>
                </a:solidFill>
                <a:latin typeface="Arial"/>
              </a:rPr>
              <a:t>#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ماء مقط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3010320"/>
            <a:ext cx="8785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طريقة العم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نضع محلول الطمي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(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 جرام تربة </a:t>
            </a:r>
            <a:r>
              <a:rPr b="1" lang="ar-SA" sz="1800" spc="-1" strike="noStrike">
                <a:solidFill>
                  <a:srgbClr val="ffff66"/>
                </a:solidFill>
                <a:latin typeface="Arial"/>
              </a:rPr>
              <a:t>( ملعقتان صغيرتان )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 مل ماء )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في البيكر الأول ونضيف إليه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 ملل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                   من محلول كلوريد الكالسيوم ذو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الشحنة الموجبة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 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نضع محلول الطمي أيضاً في البيكر الثاني ونضيف إليه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 ملل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من الماء المقطر </a:t>
            </a:r>
            <a:r>
              <a:rPr b="1" lang="ar-SA" sz="1800" spc="-1" strike="noStrike">
                <a:solidFill>
                  <a:srgbClr val="ffff00"/>
                </a:solidFill>
                <a:latin typeface="Arial"/>
              </a:rPr>
              <a:t>المتعادل الشحنة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66"/>
                </a:solidFill>
                <a:latin typeface="Arial"/>
              </a:rPr>
              <a:t>#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نقوم بعملية الترشيح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952720" cy="202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982440" y="4940640"/>
            <a:ext cx="94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اهدة : </a:t>
            </a:r>
            <a:r>
              <a:rPr b="1" lang="ar-SA" sz="1600" spc="-1" strike="noStrike">
                <a:solidFill>
                  <a:srgbClr val="ffffff"/>
                </a:solidFill>
                <a:latin typeface="Arial"/>
              </a:rPr>
              <a:t>في الحاله الاولى سيكون الراشح 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نقي</a:t>
            </a:r>
            <a:r>
              <a:rPr b="1" lang="ar-SA" sz="1600" spc="-1" strike="noStrike">
                <a:solidFill>
                  <a:srgbClr val="ffffff"/>
                </a:solidFill>
                <a:latin typeface="Arial"/>
              </a:rPr>
              <a:t> اما في الحاله الثانيه سيكون الراشح 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عك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5475240"/>
            <a:ext cx="87469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ناقشة :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Arial"/>
              </a:rPr>
              <a:t>في التجربه الاولى قام كلوريد الكالسيوم بمعادلة شحنات الغروي السالبه مما جعل حجم دقائق الطمي كبيره فلم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</a:rPr>
              <a:t>ترشح من ورق الترشيح ,امافي التجربه الثانيه عدم وجود كلوريد الكالسيوم  مكنت دقائق الطمي من النفاذعبر مسام ورق الترسي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</a:rPr>
              <a:t>مما ترتب عليه تعكير الراشح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34:05Z</dcterms:created>
  <dc:creator>HELP</dc:creator>
  <dc:description/>
  <dc:language>en-US</dc:language>
  <cp:lastModifiedBy>HELP</cp:lastModifiedBy>
  <dcterms:modified xsi:type="dcterms:W3CDTF">2008-02-23T17:18:18Z</dcterms:modified>
  <cp:revision>28</cp:revision>
  <dc:subject/>
  <dc:title>الشريحة 1</dc:title>
</cp:coreProperties>
</file>