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36EE-8091-4613-B33F-516D2858E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8E56-B2C7-48A3-9542-A55C3060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59AC-9F21-4BFF-BA15-DDE674CA2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069C-B90C-4BD9-B44F-117CDAA5F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0FF2-D0C6-4FBB-AC03-490684FE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CC11-5AA0-42BF-B416-6EC85759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7BB6-1387-4C31-BC0A-38B3BE01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0F1A-A54F-44A6-966E-0F06EF83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B575-10F5-45DF-93DE-42672E0B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7CC7-6420-4EAA-9D8B-597EB7A3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EC7C-ED95-474D-AA0A-A49E2289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7075-7ADC-4223-A797-C0D7E670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4A5B-6945-4208-B694-0EDD10E17B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upal Intr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98989"/>
                </a:solidFill>
                <a:latin typeface="Calibri"/>
              </a:rPr>
              <a:t>An overview of the architecture, features and basic site-building workflow of the CM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Chris Neglia and Lisa Forga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98989"/>
                </a:solidFill>
                <a:latin typeface="Calibri"/>
              </a:rPr>
              <a:t>Copyright 2009 Page1solutions, LLC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upal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upal is a database-driven (‘dynamic’) application.  It requires a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upal has a core filesystem whose functionality can be extended using the UI itself, modules and them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I settings are stored in the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ackages of files in a directory that you upload into drupal’s module space    (/sites/all/module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 functionality to drup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re’ Modules come shipped with drup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tributed’ Modules are downloads from drupal.org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me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ckages of files in a directory that you upload into drupal’s theme space (/sites/all/them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mes adjust the site layout and style.  Like ‘skinning’ your media play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mes can be easily changed in the U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upal Data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rupal’s database tracks things like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te and Module settings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er’s information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ccess information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ogging information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ermissions and User Roles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ystem Path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tent and content metada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node is the primary form of content in a drupal site.  At a minimum it is a title and a body, and can be ‘specialized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‘page’ and ‘story’ for example are node types that have a specific node sett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node type is a blueprint for creating instances of content of a particular typ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des (con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everything in Drupal is a no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important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: A user is not a node.  A taxonomy is not a node.  An account is not a no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owing this is important for evaluation of what can and cannot be easily done through the UI, without additional programm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yout and Reg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Region is an area in a layout, such as a header, footer, content, left/right sidebar into which blocks can be placed and arranged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block is a box containing some inform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node resides only in the content area of the layout (except in special circumstances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nk of the content region as a big ‘node’ block that allows other blocks in it but the node itself can’t mov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lo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ocks are added by modu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ocks can contain views, widgets, menus, nodes (in special circumstances), and pane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ocks can be moved around through the U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ocks can be styled individual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ditional Termin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ews – an interface for making customized lists of the data contained in the drupal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nels – an interface for making customized layouts of nodes available to the panels modu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dgets – a general term for interactive form elements or graphs that are enabled by modu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min Men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dministrative menu is a part of the UI that allows one to configure Drupal’s setting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ettings available depend on which modules are installed and enabl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missions allow users to have ‘administrative’ access to module sett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Drupal?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 Source software written in ph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MS or content-management sys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ophisticated web application building too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CMSes (wordpress, Joomla, Drupal) have a user login system; users have a username/p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upal also supports the concepts of 1) Roles and 2) Permiss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les are user designations to groups having the same set of permiss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onymous Us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(not-logged-in) site visitor is called a ‘guest’, ‘visitor’ or ‘anonymous user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a user-id (uid) of 0 (zero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nonymous users belong to the ‘anonymous user role’ (a role ID of 1) and have a set of permissions assigned to th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thenticated Us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user in drupal may belong to one or more ro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ry registered user in Drupal belongs to at least the ‘authenticated user’ rol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thenticated user role has a role ID of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ot ‘Admin’ Us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‘root’ user or ‘root admin’ has the ability to do anything on the site and is a special us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‘root’ user has a user-id (uid) of 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‘root’ user does NOT have role-permissions to set because they are effectively gods within Drup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aging Permi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Y concept: if you grant permission to an authenticated user, it applies to ALL roles except the anonymous us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grant a permission to everyone on a site, you must grant the permission to both the anonymous user and authenticated us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aging Permi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grant permission to only a newly created ‘dentist role’, tick the permission on that rol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ve all the other roles deselec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grant to both the ‘dentist role’ AND the ‘authenticated user’ role, you would be doing it wrong.  Drupal assumes you know th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ipe: Change Site In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dminister &gt; Site Configuration &gt; Site Information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information to suit your site following the help te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’t change the ‘Default front page’ just y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‘Save configuration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ipe: Change Date and 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dminister &gt; Site Configuration &gt; Date and Tim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timezone to the correct time for America/Denver (-0600 UT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time forma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‘Save Configuration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ipe: Clean Ur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ean URLs remove the ?q= from the location bar in your web brows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dminister &gt; Site Configuration &gt; Clean Url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ck ‘Enabled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‘Save Configuration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ean Urls Iss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‘Clean URLs’ is an unchangeable option, then there is a misconfiguration of the drupal site hosting environ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ct your local IT support for assistance or consult the drupal handbook for more inf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the purposes of this demo, it’s not important but it -is- important to enable l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CM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y put, a CMS is a website you build using the website itsel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kipedia definition: A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tent management syste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M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such as a document management system (DMS) is a computer application used to manage work flow needed to collaboratively create, edit, review, index, search, publish and archive various kinds of digital media and electronic text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[1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ipe: Add a us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 to Administer &gt; User Management &gt;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‘Add user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oose op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‘Create New Account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ipe: Add a us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user can also add themselves by registering, if the root user has allowed this op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o to Administer &gt; User Management &gt; User Setting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ick ‘Visitors can create accounts and no administrator approval is required’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‘Save Configuration’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ipe: Add Ro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will note that ‘anonymous’ and ‘authenticated’ users are there by default, undelet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 in the box below the roles in the ‘Name’ column.  Click ‘add role’.  That’s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ipe: Edit / Delete ro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‘edit’ next to the role na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re you can change the name or delete the ro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rning:  If you click ‘delete role’, there is NO confirmation.    This can be b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cipe: Assign multiple roles to Us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dminister &gt; User Management &gt; Use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he ‘edit’ link under operations for a u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 Roles, Tick an additional role you crea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will notice ‘authenticated user’ is lock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roll to the bottom and click ‘Save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ipe: Altering Permi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der Administer &gt; User Management &gt; Permissions:  you will see there is a permissions column and role column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croll down to the user module sec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ick ‘change own username’ in the ‘authenticated user’ colum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ick ‘Save Permissions’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ipe: Build Men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 Administer &gt; Site Building &gt; Menu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Primary Li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the Primary Links ‘List Items’ page, click ‘Add Item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Path, type ‘contact’.  In Menu link title, type ‘Contact Form’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ge weight to ‘50’ (drupal 6.x; ‘10’ in drupal 5.x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Save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 will notice that ‘Contact Form’ appears now on the far right of your primary links.  Click it to go to the contact for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ipe: Create About P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 the Navigation (left sidebar), click ‘Create Content’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ick ‘Page’ under the content type listing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 the Title, type ‘About Us’.  In the body type ‘This is my first drupal page’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pand the ‘Menu settings’ fieldset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 the “Menu link title” type ‘About Us’.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hange the weight to ‘49’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pand the ‘URL path’ fieldset and type ‘about-us’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ick ‘Save’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You should now see the ‘About Us’ menu item in the Primary Link navigation.  Click it to go to this newly created node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ipe: Get mod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ault Drupal installs can only do so mu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 to http://drupalmodules.com to find a module that supports what you are trying to 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 rely on the ratings here as they are tied to download / popularity metrics from http://drupal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ipe : Change Site (Admin) Ema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te: There are multiple places to change the email address for a site ‘root user’ administrator. 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You may have to dig around for them in admin menu when logged in as the root user.  Get login info from Salesforc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site information : admin/settings/site-in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te-wide contact form settings : admin/build/contact (edit operatio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ss contact settings (if used) : admin/build/mass_contact/setting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il settings (different places, ex uses mimemail) : admin/settings/mimemai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r register notify : admin/settings/register_notif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can Drupal b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lo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u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nline newspaper, Portal / Directo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rocure site, portfolio, flickr like photo dr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cial community site, job post boar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ideo site like youtub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management si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M, ERP, SCM, Wik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opping cart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-learning, training si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ing si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ything you can think of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cipe: Halp!  The site is messed u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the login disappears and you can’t login, go to www.yourdomain.com/user  or www.yourdomain.com/index.php?q=us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clean URLs is not working, substitute the first forward slash (‘/’) after the domain/host with ‘/index.php?q=‘  without the quo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all else fails, call Chris or Alex to build a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GUI interfac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Visual Basic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track down the perpetrato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ealti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talling Mod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ownload (from drupal.or) and Unpack module ‘tarballs’ (*.tar.gz) files to the folder insid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Upload the module folder to &lt;drupal_root&gt; /sites/all/modules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reate the ‘modules’ and ‘themes’ directories if they are not ther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o to Administer &gt; Site Building &gt; Modules : and tick ‘Enabled’ next to the module to enable it and click ‘Save Configuration’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Mod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newly enabled module will add an administration men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o to that module and read the help before changing anything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lay around and learn it’s feature se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all the ‘Advanced Help’ module to get more verbose help with modul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ules Used on Almost every Drupal S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Content Placeholder 4" descr=""/>
          <p:cNvPicPr/>
          <p:nvPr/>
        </p:nvPicPr>
        <p:blipFill>
          <a:blip r:embed="rId1"/>
          <a:stretch/>
        </p:blipFill>
        <p:spPr>
          <a:xfrm>
            <a:off x="6480" y="841320"/>
            <a:ext cx="90583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Useful Contributed Mod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6320" y="990720"/>
          <a:ext cx="8991360" cy="4635360"/>
        </p:xfrm>
        <a:graphic>
          <a:graphicData uri="http://schemas.openxmlformats.org/drawingml/2006/table">
            <a:tbl>
              <a:tblPr/>
              <a:tblGrid>
                <a:gridCol w="1798560"/>
                <a:gridCol w="1798560"/>
                <a:gridCol w="1797120"/>
                <a:gridCol w="1798560"/>
                <a:gridCol w="17985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minist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n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ie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ring Overri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ckup and Mig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O Checkl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O Compliance Check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hau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h Redir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lobal Redir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53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arch4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 Ta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lobal GEOur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tml Purif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ge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53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u Attribu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XML Sitem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te M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xonomy Mana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k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 Assign Role (+patc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berc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lum / Sp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tc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YSIWYG A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CKEdi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os Tools 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eg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ne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igg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if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edu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5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dthis / Diggthis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areth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estbo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mplenew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gAnalyt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Useful Contributed Module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or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SE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04920" y="1066680"/>
          <a:ext cx="8534160" cy="4114800"/>
        </p:xfrm>
        <a:graphic>
          <a:graphicData uri="http://schemas.openxmlformats.org/drawingml/2006/table">
            <a:tbl>
              <a:tblPr/>
              <a:tblGrid>
                <a:gridCol w="1706400"/>
                <a:gridCol w="1706760"/>
                <a:gridCol w="1707840"/>
                <a:gridCol w="1706760"/>
                <a:gridCol w="170640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O Checkl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O Compliance Check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h + Pathau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h Redir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lobal Redir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1113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arch4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 Ta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lobal GEOur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tml Purif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ge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163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u Attribu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XML Sitem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te M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vanced: Open Calais –RDF metadata W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Useful Contributed Modules (O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6320" y="685800"/>
          <a:ext cx="8991360" cy="6078600"/>
        </p:xfrm>
        <a:graphic>
          <a:graphicData uri="http://schemas.openxmlformats.org/drawingml/2006/table">
            <a:tbl>
              <a:tblPr/>
              <a:tblGrid>
                <a:gridCol w="1798560"/>
                <a:gridCol w="1798560"/>
                <a:gridCol w="1797120"/>
                <a:gridCol w="1798560"/>
                <a:gridCol w="1798560"/>
              </a:tblGrid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minist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n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iew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ring Overri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ckup and Mig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O Checkl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O Compliance Check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hau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h Redir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lobal Redir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arch4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 Ta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lobal GEOur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tml Purif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ge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u Attribu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XML Sitem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te M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xonomy Mana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k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 Assign Role (+patc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berc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lum / Sp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tc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YSIWYG A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CKEdi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igg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if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edu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os Tools 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eg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ne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dthis / Diggthis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areth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estbo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mplenew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gAnalyt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7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vanced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vanced: Apache Solr Search (we cannot support ye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vanced: Open Calais –RDF metadata W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vanced: Devel (dang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vanced: PHPmailer 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TP Au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warning about using Free and Low Cost (downloaded) The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ey are more difficult to customize than starting from scratch, but faster to use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ome of the markup is not seo-friendly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ome of the markup is over-engineered and messy; less is more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ree or amateur / low-cost themes can be confusing if you look at the code; this may impair your ability to learn drupal theming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ome of the markup may be in tables or liquid layout and this may be hard to change for your particular project, even if it looks nice to you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est practice suggests you either find a theme design and mimic its look-and-feel or do the traditional photoshop mock up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f you take someone else’s theme, you don’t know what you’re going to get and this can hinder your ability to develop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tting free the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themegarden.org/drupal6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drupal.org/project/The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themebot.com/free-website-templates/drupal-the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gle ‘drupal themes’ you’ll find a bunch of stuff.  Buyer bew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st Useful The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57200" y="1600200"/>
          <a:ext cx="8381880" cy="4419720"/>
        </p:xfrm>
        <a:graphic>
          <a:graphicData uri="http://schemas.openxmlformats.org/drawingml/2006/table">
            <a:tbl>
              <a:tblPr/>
              <a:tblGrid>
                <a:gridCol w="2971800"/>
                <a:gridCol w="2616120"/>
                <a:gridCol w="2793960"/>
              </a:tblGrid>
              <a:tr h="15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e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use starter kit to subthem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60 grid based the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arlan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use as admin them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86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arland… an evil copy of garland.  Place it in sites/all/themes and change the name of garland to blarland in folder, and file names esp in the info fil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use a CM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elps manage complex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provides a user interface (UI) for adding, editing and publishing cont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provides a means for collaboration among many to perform the above tas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use Drupal over Wordpres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Wordpress was designed only to be a blog with some easy add-on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upal was designed to be more of a generalist: it’s for making ‘anything’ and is far more robust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Wordpress could be the better choice for blogs since it is better at being a blog than Drupal.  This is something of debate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Wordpress is still a sound choice of CMS for SEO and security; so </a:t>
            </a:r>
            <a:r>
              <a:rPr b="0" i="1" lang="en-US" sz="1700" spc="-1" strike="noStrike">
                <a:solidFill>
                  <a:srgbClr val="000000"/>
                </a:solidFill>
                <a:latin typeface="Calibri"/>
              </a:rPr>
              <a:t>if wordpress satisfies a simpler project’s requirements then by all means use it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- it is easier and faster to set up than Drupal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Wordpress is not designed to be highly scalable to many simultaneous users, nor does it have flexible roles, permissions, extensible content types, nor does it have plentiful well-tested, quality add-ons.  It has a few and a lot of really poor plugin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aveat: Trying to force Wordpress to do something it cannot do easily with very popular plug-ins can be worse than suffering the learning curve of Drupal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use Drupal over Joomla? (or other C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has superior session handling for a CM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has superior securit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is a more consistent, reliable and flexible framework for developm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is considered better for SEO from our researc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uses a ‘separation of concerns’ architecture to cleanly and consistently separate structure, function, form, and presentation in layers (ie: php from data as db/xml, layout and presentation as html and css)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heavily uses ‘defaults overrides’ in code in the form of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ook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nd in themes in the form of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emplat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 This makes it extremely flexi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ther CMS’es do a very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ver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bad job of at least one of the abov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wnsides to the Dru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rupal has a steeper learning curve than wordpress or Jooml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rupal and it’s developers make no excuse for this fact- it is a robust, flexible to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at said, the drupal community is constantly addressing usability and user-experience issues because they want the industry market sha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U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I is a user-interface, which is a general term for the layout of options, widgets and settings used to configure the system or manage cont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e-building’ activities refer to configuring settings or managing content through the UI, such as building navigation men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Lisa Forgan</cp:lastModifiedBy>
  <dcterms:modified xsi:type="dcterms:W3CDTF">2009-09-02T20:04:32Z</dcterms:modified>
  <cp:revision>51</cp:revision>
  <dc:subject/>
  <dc:title>Drupal Intro</dc:title>
</cp:coreProperties>
</file>