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6DA-F6CE-4A29-94BF-94DBE963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553-3AEE-4162-937B-6EC84025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DA9-FA73-47A1-BE5D-7E0FB0B3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8FC-353D-48C6-8A25-4F5AE7E3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406-E395-494D-BC1F-2EDA40D2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2E1-35E9-4B55-A239-88D8189D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4CD-8371-4C0F-B919-BB691DC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62E-31FF-404B-8D2C-DD4DC436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4AA-B365-42C7-8E64-746B7315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E32-2871-4127-B122-2406E5D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C3A-3A84-4990-BA85-97D99CCF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29F-4F2F-4331-BAE9-353BCA5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989-98D9-4A44-8A11-986A8EDF2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8989"/>
                </a:solidFill>
                <a:latin typeface="Calibri"/>
              </a:rPr>
              <a:t>An overview of the architecture, features and basic site-building workflow of the C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Chris Neglia and Lisa Forg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98989"/>
                </a:solidFill>
                <a:latin typeface="Calibri"/>
              </a:rPr>
              <a:t>Copyright 2009 Page1solutions, LL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is a database-driven (‘dynamic’) application.  It requires a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has a core filesystem whose functionality can be extended using the UI itself, modules and the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I settings are stored in the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ages of files in a directory that you upload into drupal’s module space    (/sites/all/modu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functionality to dru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e’ Modules come shipped with dru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ibuted’ Modules are downloads from drupal.or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ages of files in a directory that you upload into drupal’s theme space (/sites/all/the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s adjust the site layout and style.  Like ‘skinning’ your media p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s can be easily changed in the 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upal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’s database tracks things lik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 and Module setting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’s information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ss information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ging information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missions and User Roles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stem Pat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ent and content meta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ode is the primary form of content in a drupal site.  At a minimum it is a title and a body, and can be ‘specialized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‘page’ and ‘story’ for example are node types that have a specific nod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ode type is a blueprint for creating instances of content of a particular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thing in Drupal is a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mportant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A user is not a node.  A taxonomy is not a node.  An account is not a n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ing this is important for evaluation of what can and cannot be easily done through the UI, without additional progra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 and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Region is an area in a layout, such as a header, footer, content, left/right sidebar into which blocks can be placed and arrang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block is a box containing some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node resides only in the content area of the layout (except in special circumstanc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nk of the content region as a big ‘node’ block that allows other blocks in it but the node itself can’t mo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are added by mod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contain views, widgets, menus, nodes (in special circumstances), and pan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be moved around through the 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s can be styled individu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s – an interface for making customized lists of the data contained in the drupal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els – an interface for making customized layouts of nodes available to the panels mod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gets – a general term for interactive form elements or graphs that are enabled by mod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 Me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dministrative menu is a part of the UI that allows one to configure Drupal’s setting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ttings available depend on which modules are installed and enab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ssions allow users to have ‘administrative’ access to modu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Drupal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Source software written in ph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MS or content-management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phisticated web application building t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MSes (wordpress, Joomla, Drupal) have a user login system; users have a username/p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pal also supports the concepts of 1) Roles and 2) Per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are user designations to groups having the same set of per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(not-logged-in) site visitor is called a ‘guest’, ‘visitor’ or ‘anonymous user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user-id (uid) of 0 (zer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nonymous users belong to the ‘anonymous user role’ (a role ID of 1) and have a set of permissions assigned to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enticated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 in drupal may belong to one or more r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registered user in Drupal belongs to at least the ‘authenticated user’ ro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enticated user role has a role ID of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ot ‘Admin’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or ‘root admin’ has the ability to do anything on the site and is a special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has a user-id (uid) of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‘root’ user does NOT have role-permissions to set because they are effectively gods within Drup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oncept: if you grant permission to an authenticated user, it applies to ALL roles except the anonymous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ant a permission to everyone on a site, you must grant the permission to both the anonymous user and authenticated u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ant permission to only a newly created ‘dentist role’, tick the permission on that ro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all the other roles desel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rant to both the ‘dentist role’ AND the ‘authenticated user’ role, you would be doing it wrong.  Drupal assumes you know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hange Sit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Site Inform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information to suit your site following the help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change the ‘Default front page’ just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hange Date and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Date and Ti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timezone to the correct time for America/Denver (-0600 U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tim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lean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n URLs remove the ?q= from the location bar in your web brows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Site Configuration &gt; Clean Ur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ck ‘Enabled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 Urls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‘Clean URLs’ is an unchangeable option, then there is a misconfiguration of the drupal site hosting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 your local IT support for assistance or consult the drupal handbook for more inf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purposes of this demo, it’s not important but it -is- important to enable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put, a CMS is a website you build using the website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pedia definition: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ent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such as a document management system (DMS) is a computer application used to manage work flow needed to collaboratively create, edit, review, index, search, publish and archive various kinds of digital media and electronic tex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a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Administer &gt; User Management &gt;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Add use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Create New Account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a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user can also add themselves by registering, if the root user has allowed this op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 to Administer &gt; User Management &gt; User Sett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ck ‘Visitors can create accounts and no administrator approval is required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‘Save Configuration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dd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note that ‘anonymous’ and ‘authenticated’ users are there by default, undel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in the box below the roles in the ‘Name’ column.  Click ‘add role’.  That’s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Edit / Delete r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‘edit’ next to the role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 you can change the name or delete the r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ning:  If you click ‘delete role’, there is NO confirmation.    This can be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ipe: Assign multiple roles to U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minister &gt; User Management &gt; Us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‘edit’ link under operations for a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Roles, Tick an additional role you cr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notice ‘authenticated user’ is loc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oll to the bottom and click ‘Sav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Altering Per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 Administer &gt; User Management &gt; Permissions:  you will see there is a permissions column and role colum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roll down to the user module s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ck ‘change own username’ in the ‘authenticated user’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ck ‘Save Permissions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Build Me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 Administer &gt; Site Building &gt; Menu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Primary L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Primary Links ‘List Items’ page, click ‘Add Item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ath, type ‘contact’.  In Menu link title, type ‘Contact Form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weight to ‘50’ (drupal 6.x; ‘10’ in drupal 5.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Sav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will notice that ‘Contact Form’ appears now on the far right of your primary links.  Click it to go to the contact fo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Create About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Navigation (left sidebar), click ‘Create Content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‘Page’ under the content type listing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Title, type ‘About Us’.  In the body type ‘This is my first drupal page’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and the ‘Menu settings’ fieldset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 the “Menu link title” type ‘About Us’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nge the weight to ‘49’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and the ‘URL path’ fieldset and type ‘about-us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‘Save’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You should now see the ‘About Us’ menu item in the Primary Link navigation.  Click it to go to this newly created nod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: Get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ault Drupal installs can only do so mu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http://drupalmodules.com to find a module that supports what you are trying to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rely on the ratings here as they are tied to download / popularity metrics from http://drupal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ipe : Change Site (Admin) Em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e: There are multiple places to change the email address for a site ‘root user’ administrator.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 may have to dig around for them in admin menu when logged in as the root user.  Get login info from Salesfor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site information : admin/settings/site-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-wide contact form settings : admin/build/contact (edit ope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s contact settings (if used) : admin/build/mass_contact/set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l settings (different places, ex uses mimemail) : admin/settings/mim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r register notify : admin/settings/register_not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Drupal b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line newspaper, Portal / Direc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cure site, portfolio, flickr like photo dr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al community site, job post bo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deo site like youtu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management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M, ERP, SCM,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pping cart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learning, training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ing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thing you can think of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ipe: Halp!  The site is messed 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login disappears and you can’t login, go to www.yourdomain.com/user  or www.yourdomain.com/index.php?q=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clean URLs is not working, substitute the first forward slash (‘/’) after the domain/host with ‘/index.php?q=‘  without the qu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ll else fails, call Chris or Alex to build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UI interfa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isual Basi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rack down the perpetrat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alt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ing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wnload (from drupal.or) and Unpack module ‘tarballs’ (*.tar.gz) files to the folder insid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pload the module folder to &lt;drupal_root&gt; /sites/all/modules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ate the ‘modules’ and ‘themes’ directories if they are not the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 to Administer &gt; Site Building &gt; Modules : and tick ‘Enabled’ next to the module to enable it and click ‘Save Configuration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ly enabled module will add an administration me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 to that module and read the help before changing anything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y around and learn it’s feature s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all the ‘Advanced Help’ module to get more verbose help with modu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es Used on Almost every Drupal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6480" y="841320"/>
            <a:ext cx="9058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320" y="990720"/>
          <a:ext cx="8991360" cy="4635360"/>
        </p:xfrm>
        <a:graphic>
          <a:graphicData uri="http://schemas.openxmlformats.org/drawingml/2006/table">
            <a:tbl>
              <a:tblPr/>
              <a:tblGrid>
                <a:gridCol w="1798560"/>
                <a:gridCol w="1798560"/>
                <a:gridCol w="1797120"/>
                <a:gridCol w="1798560"/>
                <a:gridCol w="1798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ing Overr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ckup and Mig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a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onomy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Assign Role (+pat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r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lum /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SIWYG 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KEd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os Tools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g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this / Diggthi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es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n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Analy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S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066680"/>
          <a:ext cx="8534160" cy="41148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+ Patha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6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Open Calais –RDF metadata 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Useful Contributed Modules (O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320" y="685800"/>
          <a:ext cx="8991360" cy="6078600"/>
        </p:xfrm>
        <a:graphic>
          <a:graphicData uri="http://schemas.openxmlformats.org/drawingml/2006/table">
            <a:tbl>
              <a:tblPr/>
              <a:tblGrid>
                <a:gridCol w="1798560"/>
                <a:gridCol w="1798560"/>
                <a:gridCol w="1797120"/>
                <a:gridCol w="1798560"/>
                <a:gridCol w="179856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ing Over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ckup and Mig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heck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O Compliance Chec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a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h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Re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Ta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GEO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ml Pur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u Attrib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XML Site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onomy Mana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 Assign Role (+pat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er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lum /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t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YSIWYG 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KEd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f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os Tools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g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this / Diggthi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t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es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n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Analy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Apache Solr Search (we cannot support 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Open Calais –RDF metadata 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Devel (dan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ced: PHPmailer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TP A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warning about using Free and Low Cost (downloaded) The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y are more difficult to customize than starting from scratch, but faster to us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is not seo-friendly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is over-engineered and messy; less is mor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ree or amateur / low-cost themes can be confusing if you look at the code; this may impair your ability to learn drupal them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ome of the markup may be in tables or liquid layout and this may be hard to change for your particular project, even if it looks nice to you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st practice suggests you either find a theme design and mimic its look-and-feel or do the traditional photoshop mock 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you take someone else’s theme, you don’t know what you’re going to get and this can hinder your ability to devel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free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hemegarden.org/drupal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drupal.org/project/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themebot.com/free-website-templates/drupal-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‘drupal themes’ you’ll find a bunch of stuff.  Buyer bew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Usefu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381880" cy="4419720"/>
        </p:xfrm>
        <a:graphic>
          <a:graphicData uri="http://schemas.openxmlformats.org/drawingml/2006/table">
            <a:tbl>
              <a:tblPr/>
              <a:tblGrid>
                <a:gridCol w="2971800"/>
                <a:gridCol w="2616120"/>
                <a:gridCol w="2793960"/>
              </a:tblGrid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se starter kit to subthe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0 grid based the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rl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se as admin the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6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rland… an evil copy of garland.  Place it in sites/all/themes and change the name of garland to blarland in folder, and file names esp in the info fi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a CM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elps manage complex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vides a user interface (UI) for adding, editing and publishing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vides a means for collaboration among many to perform the above tas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rupal over Wordp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was designed only to be a blog with some easy add-o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upal was designed to be more of a generalist: it’s for making ‘anything’ and is far more robus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could be the better choice for blogs since it is better at being a blog than Drupal.  This is something of debat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is still a sound choice of CMS for SEO and security; so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if wordpress satisfies a simpler project’s requirements then by all means use i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t is easier and faster to set up than Drup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ordpress is not designed to be highly scalable to many simultaneous users, nor does it have flexible roles, permissions, extensible content types, nor does it have plentiful well-tested, quality add-ons.  It has a few and a lot of really poor plugi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veat: Trying to force Wordpress to do something it cannot do easily with very popular plug-ins can be worse than suffering the learning curve of Drup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use Drupal over Joomla? (or other C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superior session handling for a C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superior secu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more consistent, reliable and flexible framework for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considered better for SEO from our resear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uses a ‘separation of concerns’ architecture to cleanly and consistently separate structure, function, form, and presentation in layers (ie: php from data as db/xml, layout and presentation as html and css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avily uses ‘defaults overrides’ in code in the form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ook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in themes in the form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mpla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This makes it extremely flex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CMS’es do a ver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d job of at least one of the ab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sides to the Dru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 has a steeper learning curve than wordpress or Joom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upal and it’s developers make no excuse for this fact- it is a robust, flexible to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aid, the drupal community is constantly addressing usability and user-experience issues because they want the industry market sh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 is a user-interface, which is a general term for the layout of options, widgets and settings used to configure the system or manag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-building’ activities refer to configuring settings or managing content through the UI, such as building navigation me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isa Forgan</cp:lastModifiedBy>
  <dcterms:modified xsi:type="dcterms:W3CDTF">2009-09-02T20:04:32Z</dcterms:modified>
  <cp:revision>51</cp:revision>
  <dc:subject/>
  <dc:title>Drupal Intro</dc:title>
</cp:coreProperties>
</file>