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8D92D-9155-4D58-B20B-8A31BF6F6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AF734-2C88-4D3A-B531-4970D27AC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46852-02E4-41FB-BD0D-184E24345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A612B-C24D-4A7C-B79E-8C3CE2478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5E5A0-14E2-4433-B227-627D32B7C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2BBDB-28FC-4F44-BF94-EB558EAC7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D1AE1-3B50-4E20-9C0B-C80A9F5F1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BEF17-50F5-4DD5-B109-21329053C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544AD-F7A0-436C-9A26-3B2A549E0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92F21-ABE3-4319-9F17-E17D85E1B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18D69-C30E-4367-9161-7016D4998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B323D-F8E5-4A4C-AB30-532948846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8A55B-5FE7-4D18-8894-DC744F867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C7D68-C5E6-47A4-AD13-1583BE128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EBB3F-432D-41F2-AF10-7525058B7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932B6-04B0-4B39-B2CF-F11BED0F2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CB177-74F1-4E7B-B160-4E999630C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132C7-C7EF-4A84-8C94-B6F5E0EA0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FD71A-F317-41EB-B8D8-52C7E293E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7040E-5D3B-4B7D-9725-36EB447E5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FE4C2-9607-42A2-8FC2-6B986FFF1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39C3A-DB7C-4EF4-A5C3-9530EB2BC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EAE4-C6CE-49E8-96EC-B83844CFF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CEED1-5C91-4728-AA45-4A8DF8123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D61D-99E2-4D31-834E-AA1C40C8B16B}"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FAF0-8B70-402E-82D3-9BD6F65C6A60}"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3366"/>
                </a:solidFill>
                <a:latin typeface="Arial"/>
              </a:rPr>
              <a:t>Dry Skin</a:t>
            </a:r>
            <a:br>
              <a:rPr sz="9600"/>
            </a:br>
            <a:endParaRPr b="1" lang="en-US" sz="9600" spc="-1" strike="noStrike">
              <a:solidFill>
                <a:srgbClr val="006666"/>
              </a:solidFill>
              <a:latin typeface="Arial"/>
            </a:endParaRPr>
          </a:p>
        </p:txBody>
      </p:sp>
      <p:pic>
        <p:nvPicPr>
          <p:cNvPr id="96" name="Picture 4" descr="herbal-dry-skin-care"/>
          <p:cNvPicPr/>
          <p:nvPr/>
        </p:nvPicPr>
        <p:blipFill>
          <a:blip r:embed="rId1"/>
          <a:stretch/>
        </p:blipFill>
        <p:spPr>
          <a:xfrm>
            <a:off x="4643280" y="270828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4)</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a bath or a shower with a mild application of baby oil</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ssage your face with home-made nourishing cream every night before retiring</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generous with the cream in the areas surrounding the eyes where tiny lines and crows feet are born</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5)</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coming in contact with highly alkaline soaps and detergents like washing sodas and powders which contain highly alkaline and drying ingredient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istening with water, then applying a thin film of air-excluding moisturizer, restores the suppleness of the dry skin</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6)</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humidifier (or even a pan of water placed near a radiator) to humidify your environment especially in winte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helps to reduce the amount of moisture lost from the skin through evaporation</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y out of overheated rooms; avoid sudden changes in temperature; protect yourself from wind and sun. Remember, your face is fragile</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7)</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don't have a good, strong moisturizer on your face on a cold, windy winter da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t go out! Cold will cause any moisture on your skin to evaporate</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ind will just accelerate the process</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8)</a:t>
            </a:r>
            <a:endParaRPr b="1" lang="en-US" sz="3600" spc="-1" strike="noStrike">
              <a:solidFill>
                <a:srgbClr val="006666"/>
              </a:solidFill>
              <a:latin typeface="Arial"/>
            </a:endParaRPr>
          </a:p>
        </p:txBody>
      </p:sp>
      <p:sp>
        <p:nvSpPr>
          <p:cNvPr id="122" name="PlaceHolder 1"/>
          <p:cNvSpPr>
            <a:spLocks noGrp="1"/>
          </p:cNvSpPr>
          <p:nvPr>
            <p:ph/>
          </p:nvPr>
        </p:nvSpPr>
        <p:spPr>
          <a:xfrm>
            <a:off x="838080" y="2362320"/>
            <a:ext cx="7693200" cy="4162320"/>
          </a:xfrm>
          <a:prstGeom prst="rect">
            <a:avLst/>
          </a:prstGeom>
          <a:noFill/>
          <a:ln w="0">
            <a:noFill/>
          </a:ln>
        </p:spPr>
        <p:txBody>
          <a:bodyPr anchor="t">
            <a:normAutofit/>
          </a:bodyPr>
          <a:p>
            <a:pPr marL="343080" indent="0"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night, use a very creamy cleanser or oil (baby oil is perfectly all right). Remove residue with a spray of mineral water. Follow up with a night cream applied at least a half-hour before retiring. If you lie down immediately after applying cream, it will "puff-up" delicate tissues around the eyes</a:t>
            </a:r>
            <a:r>
              <a:rPr b="0" lang="en-US" sz="2500" spc="-1" strike="noStrike">
                <a:solidFill>
                  <a:srgbClr val="003366"/>
                </a:solidFill>
                <a:latin typeface="Arial"/>
              </a:rPr>
              <a:t>. </a:t>
            </a:r>
            <a:endParaRPr b="0" lang="en-US" sz="2500" spc="-1" strike="noStrike">
              <a:solidFill>
                <a:srgbClr val="003366"/>
              </a:solidFill>
              <a:latin typeface="Arial"/>
            </a:endParaRPr>
          </a:p>
          <a:p>
            <a:pPr marL="343080" indent="0"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If your skin is chapped or cracked, increase your consumption of water and essential fatty acids. Keep any chapped areas well lubricated and protected from the elements</a:t>
            </a:r>
            <a:r>
              <a:rPr b="0" lang="en-US" sz="2500" spc="-1" strike="noStrike">
                <a:solidFill>
                  <a:srgbClr val="003366"/>
                </a:solidFill>
                <a:latin typeface="Arial"/>
              </a:rPr>
              <a:t>. </a:t>
            </a:r>
            <a:endParaRPr b="0" lang="en-US" sz="2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9)</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smoke. Smoking has a harmful effect on the skin for several reasons. Nicotine constricts the blood vessels, including the tiny capillaries that serve the skin. This deprives the skin of the oxygen and nutrients it needs for good health. Smoking also can make the skin dry and leathery</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10)</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smoke. Smoking has a harmful effect on the skin for several reasons. Nicotine constricts the blood vessels, including the tiny capillaries that serve the skin. This deprives the skin of the oxygen and nutrients it needs for good health. Smoking also can make the skin dry and leathery</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very hot water when bathing or showering</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11)</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much as possible, stay out of the sun. The sun is responsible for most of the damage done to the skin. It causes dryness, wrinkles, and even rashes and blisters. Always apply a good sunscreen to all exposed areas of skin if you must be in the sun</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ning Skin Cleanser</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morning 15 minutes before taking your bath</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egg yolk</a:t>
            </a:r>
            <a:br>
              <a:rPr sz="2800"/>
            </a:br>
            <a:r>
              <a:rPr b="0" lang="en-US" sz="2800" spc="-1" strike="noStrike">
                <a:solidFill>
                  <a:srgbClr val="003366"/>
                </a:solidFill>
                <a:latin typeface="Arial"/>
              </a:rPr>
              <a:t>1 teaspoon orange juice</a:t>
            </a:r>
            <a:br>
              <a:rPr sz="2800"/>
            </a:br>
            <a:r>
              <a:rPr b="0" lang="en-US" sz="2800" spc="-1" strike="noStrike">
                <a:solidFill>
                  <a:srgbClr val="003366"/>
                </a:solidFill>
                <a:latin typeface="Arial"/>
              </a:rPr>
              <a:t>1 teaspoon olive oil and </a:t>
            </a:r>
            <a:br>
              <a:rPr sz="2800"/>
            </a:br>
            <a:r>
              <a:rPr b="0" lang="en-US" sz="2800" spc="-1" strike="noStrike">
                <a:solidFill>
                  <a:srgbClr val="003366"/>
                </a:solidFill>
                <a:latin typeface="Arial"/>
              </a:rPr>
              <a:t>few drops of rose water </a:t>
            </a:r>
            <a:br>
              <a:rPr sz="2800"/>
            </a:br>
            <a:r>
              <a:rPr b="0" lang="en-US" sz="2800" spc="-1" strike="noStrike">
                <a:solidFill>
                  <a:srgbClr val="003366"/>
                </a:solidFill>
                <a:latin typeface="Arial"/>
              </a:rPr>
              <a:t>few drops of lime juice</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x the above ingredients together and apply on your skin</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972360" y="621360"/>
            <a:ext cx="778032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auty Mask for Dry Skin</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egg </a:t>
            </a:r>
            <a:br>
              <a:rPr sz="2800"/>
            </a:br>
            <a:r>
              <a:rPr b="0" lang="en-US" sz="2800" spc="-1" strike="noStrike">
                <a:solidFill>
                  <a:srgbClr val="003366"/>
                </a:solidFill>
                <a:latin typeface="Arial"/>
              </a:rPr>
              <a:t>1 teaspoon of honey</a:t>
            </a:r>
            <a:br>
              <a:rPr sz="2800"/>
            </a:br>
            <a:r>
              <a:rPr b="0" lang="en-US" sz="2800" spc="-1" strike="noStrike">
                <a:solidFill>
                  <a:srgbClr val="003366"/>
                </a:solidFill>
                <a:latin typeface="Arial"/>
              </a:rPr>
              <a:t>1/2 teaspoon of olive oil and </a:t>
            </a:r>
            <a:br>
              <a:rPr sz="2800"/>
            </a:br>
            <a:r>
              <a:rPr b="0" lang="en-US" sz="2800" spc="-1" strike="noStrike">
                <a:solidFill>
                  <a:srgbClr val="003366"/>
                </a:solidFill>
                <a:latin typeface="Arial"/>
              </a:rPr>
              <a:t>few drops of rose water</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x the ingredients thoroughly and use as a mask</a:t>
            </a:r>
            <a:r>
              <a:rPr b="0" lang="en-US" sz="2800" spc="-1" strike="noStrike">
                <a:solidFill>
                  <a:srgbClr val="003366"/>
                </a:solidFill>
                <a:latin typeface="Arial"/>
              </a:rPr>
              <a:t>.</a:t>
            </a:r>
            <a:endParaRPr b="0" lang="en-US" sz="2800" spc="-1" strike="noStrike">
              <a:solidFill>
                <a:srgbClr val="003366"/>
              </a:solidFill>
              <a:latin typeface="Arial"/>
            </a:endParaRPr>
          </a:p>
        </p:txBody>
      </p:sp>
      <p:pic>
        <p:nvPicPr>
          <p:cNvPr id="133" name="Picture 4" descr="bapy"/>
          <p:cNvPicPr/>
          <p:nvPr/>
        </p:nvPicPr>
        <p:blipFill>
          <a:blip r:embed="rId1"/>
          <a:stretch/>
        </p:blipFill>
        <p:spPr>
          <a:xfrm>
            <a:off x="6659640" y="836640"/>
            <a:ext cx="981000" cy="93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708280"/>
            <a:ext cx="8229600" cy="3417840"/>
          </a:xfrm>
          <a:prstGeom prst="rect">
            <a:avLst/>
          </a:prstGeom>
          <a:noFill/>
          <a:ln w="0">
            <a:noFill/>
          </a:ln>
        </p:spPr>
        <p:txBody>
          <a:bodyPr anchor="t">
            <a:normAutofit/>
          </a:bodyPr>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Causes</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How To Care for Dry Skin</a:t>
            </a:r>
            <a:r>
              <a:rPr b="1" i="1" lang="en-US" sz="2800" spc="-1" strike="noStrike">
                <a:solidFill>
                  <a:srgbClr val="003366"/>
                </a:solidFill>
                <a:latin typeface="Arial"/>
              </a:rPr>
              <a:t> </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Arial"/>
              </a:rPr>
              <a:t>Herbs for Dry Skin</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Diet Recommendations for Dry Skin</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Essential Oils For Dry Skin</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Common Sense Recommendations</a:t>
            </a:r>
            <a:r>
              <a:rPr b="1" i="1" lang="en-US" sz="2800" spc="-1" strike="noStrike">
                <a:solidFill>
                  <a:srgbClr val="003366"/>
                </a:solidFill>
                <a:latin typeface="Arial"/>
              </a:rPr>
              <a:t> </a:t>
            </a:r>
            <a:endParaRPr b="0" lang="en-US" sz="2800" spc="-1" strike="noStrike">
              <a:solidFill>
                <a:srgbClr val="003366"/>
              </a:solidFill>
              <a:latin typeface="Arial"/>
            </a:endParaRPr>
          </a:p>
        </p:txBody>
      </p:sp>
      <p:sp>
        <p:nvSpPr>
          <p:cNvPr id="98" name="Text Box 5"/>
          <p:cNvSpPr/>
          <p:nvPr/>
        </p:nvSpPr>
        <p:spPr>
          <a:xfrm>
            <a:off x="971640" y="907920"/>
            <a:ext cx="49687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66"/>
                </a:solidFill>
                <a:latin typeface="Arial"/>
              </a:rPr>
              <a:t>Headlines</a:t>
            </a:r>
            <a:endParaRPr b="0" lang="en-US" sz="5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et Recommendations for Dry Skin(1)</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t a balanced diet that includes vegetables, fruits, grains, seeds, and nuts. Eat quality protein from vegetable sources. Increase your intake of raw food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t foods such as garlic, onions, eggs, and asparagus that are high in sulfur, which helps to keep the skin smooth and youthful</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et Recommendations for Dry Skin(2)</a:t>
            </a:r>
            <a:endParaRPr b="1" lang="en-US" sz="3200" spc="-1" strike="noStrike">
              <a:solidFill>
                <a:srgbClr val="006666"/>
              </a:solidFill>
              <a:latin typeface="Arial"/>
            </a:endParaRPr>
          </a:p>
        </p:txBody>
      </p:sp>
      <p:sp>
        <p:nvSpPr>
          <p:cNvPr id="137"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ume plenty of yellow and orange vegetables. These are high in beta-carotene, an antioxidant. Carrots are especially good</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refined, cold-pressed flax seed oil used daily on salads and baked potatoes, or mixed into any dishes which do not require heating to high temperatures will make dry skin moist and suppl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ax seed oil contains the essential fatty acids omega-3 alpha linolenic acid and omega-6 linoleic aci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se are converted in the body into hormone, like substances called Prostaglandins, which support skin health</a:t>
            </a:r>
            <a:r>
              <a:rPr b="0" lang="en-US" sz="2400" spc="-1" strike="noStrike">
                <a:solidFill>
                  <a:srgbClr val="003366"/>
                </a:solidFill>
                <a:latin typeface="Arial"/>
              </a:rPr>
              <a:t>.</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et Recommendations for Dry Skin(3)</a:t>
            </a:r>
            <a:endParaRPr b="1" lang="en-US" sz="32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rtl="1">
              <a:lnSpc>
                <a:spcPct val="90000"/>
              </a:lnSpc>
              <a:spcBef>
                <a:spcPts val="601"/>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taloupes, carrots and apricots are heating foods for dry skin because they are rich in the vitamins A and C, both important for a supple, smooth skin. Eat them whole or take as fresh juic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rtl="1">
              <a:lnSpc>
                <a:spcPct val="90000"/>
              </a:lnSpc>
              <a:spcBef>
                <a:spcPts val="499"/>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t foods rich in pantothenic acid (vitamin B5), such as quark, raw. milk cheese, natural plain yogurt, kefir, leafy green vegetables, nutritional yeast and wheat germ. Pantothenic acid is need for the synthesis of fats and oils used by the skin</a:t>
            </a:r>
            <a:r>
              <a:rPr b="0" lang="en-US" sz="2400" spc="-1" strike="noStrike">
                <a:solidFill>
                  <a:srgbClr val="003366"/>
                </a:solidFill>
                <a:latin typeface="Arial"/>
              </a:rPr>
              <a:t>.</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et Recommendations for Dry Skin(4)</a:t>
            </a:r>
            <a:endParaRPr b="1" lang="en-US" sz="32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ink at least 2 quarts of quality water every day to keep the skin well hydrated</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fried foods, animal fats, and heat-processed vegetable oils. Use cold- pressed oils only. Heating oils leads to the production of free radicals, which have a destructive effect on the skin</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et Recommendations for Dry Skin(5)</a:t>
            </a:r>
            <a:endParaRPr b="1" lang="en-US" sz="32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drink soft drinks or eat sugar, chocolate, potato chips, or other junk food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alcohol and caffeine. These substances have a diuretic effect, causing the body and skin cells to lose fluids and essential mineral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sential Oils For Dry Skin</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amomil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eranium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yssop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avender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atchouli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os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andalwoo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Ylang-Ylang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Moisturizing  cream</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aric acid                                  170</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nolin                                           10</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quid paraffin                                20</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tassium hydroxide                     14</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lycerol                                          86</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ter                                            700</a:t>
            </a:r>
            <a:endParaRPr b="0" lang="en-US" sz="2800" spc="-1" strike="noStrike">
              <a:solidFill>
                <a:srgbClr val="003366"/>
              </a:solidFill>
              <a:latin typeface="Arial"/>
            </a:endParaRPr>
          </a:p>
        </p:txBody>
      </p:sp>
      <p:pic>
        <p:nvPicPr>
          <p:cNvPr id="148" name="Picture 4" descr="images (1)"/>
          <p:cNvPicPr/>
          <p:nvPr/>
        </p:nvPicPr>
        <p:blipFill>
          <a:blip r:embed="rId1">
            <a:grayscl/>
          </a:blip>
          <a:stretch/>
        </p:blipFill>
        <p:spPr>
          <a:xfrm>
            <a:off x="6659640" y="189000"/>
            <a:ext cx="2295360" cy="172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dure</a:t>
            </a:r>
            <a:endParaRPr b="1" lang="en-US" sz="3600" spc="-1" strike="noStrike">
              <a:solidFill>
                <a:srgbClr val="006666"/>
              </a:solidFill>
              <a:latin typeface="Arial"/>
            </a:endParaRPr>
          </a:p>
        </p:txBody>
      </p:sp>
      <p:sp>
        <p:nvSpPr>
          <p:cNvPr id="150" name=""/>
          <p:cNvSpPr txBox="1"/>
          <p:nvPr/>
        </p:nvSpPr>
        <p:spPr>
          <a:xfrm>
            <a:off x="838080" y="2361960"/>
            <a:ext cx="7693200" cy="3724200"/>
          </a:xfrm>
          <a:prstGeom prst="rect">
            <a:avLst/>
          </a:prstGeom>
          <a:noFill/>
          <a:ln w="0">
            <a:noFill/>
          </a:ln>
        </p:spPr>
        <p:txBody>
          <a:bodyPr anchor="t">
            <a:normAutofit fontScale="8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Melt stearic acid, luquid paraffin and lanolin on water bath at 75-80 oC.</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Dissolve KOH  in water-glycerol mixture, and heat to the same temperature.</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a:t>
            </a:r>
            <a:r>
              <a:rPr b="0" lang="en-US" sz="2800" spc="-1" strike="noStrike">
                <a:solidFill>
                  <a:srgbClr val="003366"/>
                </a:solidFill>
                <a:latin typeface="Arial"/>
              </a:rPr>
              <a:t>	</a:t>
            </a:r>
            <a:r>
              <a:rPr b="0" lang="en-US" sz="2800" spc="-1" strike="noStrike">
                <a:solidFill>
                  <a:srgbClr val="003366"/>
                </a:solidFill>
                <a:latin typeface="Arial"/>
              </a:rPr>
              <a:t>Add #2 to #1 gradually with stirring on water bath for complete emulsificatio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a:t>
            </a:r>
            <a:r>
              <a:rPr b="0" lang="en-US" sz="2800" spc="-1" strike="noStrike">
                <a:solidFill>
                  <a:srgbClr val="003366"/>
                </a:solidFill>
                <a:latin typeface="Arial"/>
              </a:rPr>
              <a:t>	</a:t>
            </a:r>
            <a:r>
              <a:rPr b="0" lang="en-US" sz="2800" spc="-1" strike="noStrike">
                <a:solidFill>
                  <a:srgbClr val="003366"/>
                </a:solidFill>
                <a:latin typeface="Arial"/>
              </a:rPr>
              <a:t>Remove from water bath and continue stirring until cooling. </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a:t>
            </a:r>
            <a:r>
              <a:rPr b="0" lang="en-US" sz="2800" spc="-1" strike="noStrike">
                <a:solidFill>
                  <a:srgbClr val="003366"/>
                </a:solidFill>
                <a:latin typeface="Arial"/>
              </a:rPr>
              <a:t>	</a:t>
            </a:r>
            <a:r>
              <a:rPr b="0" lang="en-US" sz="2800" spc="-1" strike="noStrike">
                <a:solidFill>
                  <a:srgbClr val="003366"/>
                </a:solidFill>
                <a:latin typeface="Arial"/>
              </a:rPr>
              <a:t> Then add the perfume.</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 of dry skin (1)</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y skin has a low level of sebum and can be prone to sensitivity. The skin has a parched look caused by its inability to retain moisture. It usually feels "tight" and uncomfortable after washing unless some type of moisturizer or skin cream is applied. Chapping and cracking are signs of extremely dry, dehydrated skin</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 of dry skin (2)</a:t>
            </a:r>
            <a:endParaRPr b="1" lang="en-US" sz="3600" spc="-1" strike="noStrike">
              <a:solidFill>
                <a:srgbClr val="006666"/>
              </a:solidFill>
              <a:latin typeface="Arial"/>
            </a:endParaRPr>
          </a:p>
        </p:txBody>
      </p:sp>
      <p:sp>
        <p:nvSpPr>
          <p:cNvPr id="102" name="Text Box 4"/>
          <p:cNvSpPr/>
          <p:nvPr/>
        </p:nvSpPr>
        <p:spPr>
          <a:xfrm>
            <a:off x="900000" y="2492280"/>
            <a:ext cx="7488360" cy="372888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yness is exacerbated by wind, extremes of temperature and air-conditioning, all of which cause the skin to flake, chap and feel tight. This type of skin is tightly drawn over bones</a:t>
            </a:r>
            <a:r>
              <a:rPr b="0" lang="en-US" sz="2800" spc="-1" strike="noStrike">
                <a:solidFill>
                  <a:srgbClr val="003366"/>
                </a:solidFill>
                <a:latin typeface="Arial"/>
              </a:rPr>
              <a:t>. </a:t>
            </a:r>
            <a:endParaRPr b="0" lang="en-US" sz="2800" spc="-1" strike="noStrike">
              <a:solidFill>
                <a:srgbClr val="003366"/>
              </a:solidFill>
              <a:latin typeface="Arial"/>
            </a:endParaRPr>
          </a:p>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looks dull, especially on the cheeks and around the eyes. There may be tiny expression lines on these spots and at the comers of the mouth</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uses (1)</a:t>
            </a:r>
            <a:endParaRPr b="1" lang="en-US" sz="3600" spc="-1" strike="noStrike">
              <a:solidFill>
                <a:srgbClr val="006666"/>
              </a:solidFill>
              <a:latin typeface="Arial"/>
            </a:endParaRPr>
          </a:p>
        </p:txBody>
      </p:sp>
      <p:sp>
        <p:nvSpPr>
          <p:cNvPr id="104" name="PlaceHolder 1"/>
          <p:cNvSpPr>
            <a:spLocks noGrp="1"/>
          </p:cNvSpPr>
          <p:nvPr>
            <p:ph/>
          </p:nvPr>
        </p:nvSpPr>
        <p:spPr>
          <a:xfrm>
            <a:off x="826920" y="2349360"/>
            <a:ext cx="7693200" cy="4175280"/>
          </a:xfrm>
          <a:prstGeom prst="rect">
            <a:avLst/>
          </a:prstGeom>
          <a:noFill/>
          <a:ln w="0">
            <a:noFill/>
          </a:ln>
        </p:spPr>
        <p:txBody>
          <a:bodyPr anchor="t">
            <a:normAutofit/>
          </a:bodyPr>
          <a:p>
            <a:pPr lvl="2" marL="114300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il glands do not supply enough lubrication to the skin. As a result, the skin becomes dehydrated</a:t>
            </a:r>
            <a:r>
              <a:rPr b="0" lang="en-US" sz="2800" spc="-1" strike="noStrike">
                <a:solidFill>
                  <a:srgbClr val="003366"/>
                </a:solidFill>
                <a:latin typeface="Arial"/>
              </a:rPr>
              <a:t>. </a:t>
            </a:r>
            <a:endParaRPr b="0" lang="en-US" sz="2800" spc="-1" strike="noStrike">
              <a:solidFill>
                <a:srgbClr val="003366"/>
              </a:solidFill>
              <a:latin typeface="Arial"/>
            </a:endParaRPr>
          </a:p>
          <a:p>
            <a:pPr lvl="2" marL="114300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y skin could be due to a genetic condition</a:t>
            </a:r>
            <a:r>
              <a:rPr b="0" lang="en-US" sz="2800" spc="-1" strike="noStrike">
                <a:solidFill>
                  <a:srgbClr val="003366"/>
                </a:solidFill>
                <a:latin typeface="Arial"/>
              </a:rPr>
              <a:t>. </a:t>
            </a:r>
            <a:endParaRPr b="0" lang="en-US" sz="2800" spc="-1" strike="noStrike">
              <a:solidFill>
                <a:srgbClr val="003366"/>
              </a:solidFill>
              <a:latin typeface="Arial"/>
            </a:endParaRPr>
          </a:p>
          <a:p>
            <a:pPr lvl="2" marL="114300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or diet. Nutritional deficiencies, especially deficiencies of vitamin A and the B vitamins, can also contribute to dry skin</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uses(2)</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lvl="2" marL="114300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vironmental factors such as exposure to sun, wind, cold, chemicals, or cosmetics, or excessive bathing with harsh soaps</a:t>
            </a:r>
            <a:r>
              <a:rPr b="0" lang="en-US" sz="2800" spc="-1" strike="noStrike">
                <a:solidFill>
                  <a:srgbClr val="003366"/>
                </a:solidFill>
                <a:latin typeface="Arial"/>
              </a:rPr>
              <a:t>. </a:t>
            </a:r>
            <a:endParaRPr b="0" lang="en-US" sz="2800" spc="-1" strike="noStrike">
              <a:solidFill>
                <a:srgbClr val="003366"/>
              </a:solidFill>
              <a:latin typeface="Arial"/>
            </a:endParaRPr>
          </a:p>
          <a:p>
            <a:pPr lvl="2" marL="114300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ditions such as dermatitis, eczema, psoriasis, or seborrhea</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1)</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the use of tap water when cleansing dry skin. The deposits are too drying on the skin. And never, ever use hot water. Use mineral water to freshen your face</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t use a washcloth-a rough texture can irritate</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2)</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y skin needs plenty of thorough but gentle cleansing, regular stimulation with massage and generous quantities of oil and moisture. It also needs extra careful protection. Washing dry skin with soap and water not only removes grime but also the natural oils protecting the skin. A moisturizer increases the water content of the outer layers of the skin and gives it a soft, moist look</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3)</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nondetergent, neutral-pH products to cleanse your skin</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using any commercial soap. And always touch your face gently. Double-cleanse with a cream, leaving a light, thin trace of it on the skin after the second cleansing</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3:10:35Z</dcterms:created>
  <dc:creator>Dr. Gamal</dc:creator>
  <dc:description/>
  <dc:language>en-US</dc:language>
  <cp:lastModifiedBy>User</cp:lastModifiedBy>
  <dcterms:modified xsi:type="dcterms:W3CDTF">2016-02-21T08:02:43Z</dcterms:modified>
  <cp:revision>6</cp:revision>
  <dc:subject/>
  <dc:title>Dry Skin</dc:title>
</cp:coreProperties>
</file>