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883-7927-4A71-912C-28FF984B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00D-8102-44B9-A3F9-F262FA2E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615-DB19-47F9-A280-17080611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DC6-84A4-459A-A645-BC194B4B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D637-BAD8-4BF4-8FF3-0CF9BACA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3D30-1284-437F-8F5A-BCF849B4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732B-350F-4096-A274-82AF3E61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6BBA-2A81-43A5-8D36-6C177E79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5FDB-14D2-431F-A693-81A27AEE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49DE-9A33-4D87-A473-9FFD4684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402C-002B-4C3F-A3BA-376AEB29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C40-452A-4548-841A-D4B27079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2697-A706-4F47-86A4-7B120B69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FF0D-3CC1-46E5-AAA3-7190DFEA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17B0-22E0-487A-8661-D6AE0BCB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6CA5-20CF-4E7C-A280-A35292BB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EAD5-05D8-4C66-9899-0476211F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645EF-6B70-4351-943B-731D3469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9651-D32C-4A14-96D4-7940D436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709E5-E482-4A2C-9906-AFEE5C5B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7C8E-2050-405B-9B68-F7377C29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56E66-10E0-464C-80AC-6525C06D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9E9-30BA-4275-B5EF-8946904F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103E-170C-4E08-B302-68E379EA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7A3CA-F045-4DB9-BC6A-CBB1BF4C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4EB4-A3CD-4CFB-BDAB-D7087714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372C-2BF5-4D36-BD14-2C32CEE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A6FD2-5ABF-4F2F-A7ED-E4E392CA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DA40B-6F0E-46E4-A033-DADA0A1F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859D6-B7AA-49E8-A414-07D0E3E9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A3AC-D059-4250-911E-1FC2A78F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528F0-588C-4845-94A9-1AC25FEF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4F63-D887-493B-A787-7FB8CBDF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C67-E355-49FA-BF3F-A8DABE0C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6DE03-F2D2-48DC-9D59-7E3578AF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E8299-C31D-4ECB-A329-B174A5F4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DFCCC-CD45-447E-9E6C-EB9A07A1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95529-C3A6-4A36-836F-7B78A90B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87CEB-2BDD-4F15-8036-D5A594F7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3773C-2FB4-4C8E-9703-F60ACC20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707FD-62BD-4FA7-9FF2-FBACBD18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69958-29D3-40BB-82AE-771EB1A9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6E187-70F3-4804-8691-5AB9559E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CF911-661C-4333-AEE8-D7749EF0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C7F-7483-4C98-9B0D-E75DDAF9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E3DA4-8E4E-49C4-9E3E-C0FFED59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8F6AE-EE52-491C-A9F8-75B7DF42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5A70F-6AB8-423A-B271-9A0D92AF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54794-B2EF-43C7-8DEF-F335BBA8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A9891-79C2-4467-9AC7-45F0A200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06B4E-4655-4C65-A425-4F21FE81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165AB-7862-4252-92D8-84559BFB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46E7B-0DB5-4745-93BB-FE74F01F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EC4B3-AC78-43DA-9A6A-147D9BBA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CF440-0E0C-48AF-A980-107FD3F1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95E-F80A-4D13-8FA5-E2E533DC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08AD8-45AB-42AF-BD25-81EE411E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F0770-1150-480E-8C23-077DF58C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956E9-CFBA-496D-B74A-92A0CF8A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110D6-C911-4C7E-8E6B-7FB28D4E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368C6-A0D2-40A6-B248-A0BEDDF4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32611-F69A-4DB5-BAC3-F7F4FE10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F34BE-A353-4945-A655-E30D354F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E2AB7-B007-4FCE-B584-05C73586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B2562-88CA-4021-AA7F-6164ADDF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4BF9F-8304-4494-B029-E98074BF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037-82FB-42DB-8B97-D94E73A6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F8125-541E-4F30-A5EB-956B5D31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A8F21-9EE2-4EC6-8010-C4DCD097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EB183-15B0-49F6-B2F5-692DC3BF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A7CDA-5566-450D-BDF3-60D6883B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F2A16-76C9-4BFE-B5BA-4C8693F7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04CF7-0CA9-48F9-8F3B-FAF74A0B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345FB-F0D9-46BC-85A3-E762AD9F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A0A13-B2E5-444A-908D-55F0D9A0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7FD12-74D0-40AB-B14C-4489789A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420F1-A53D-42C4-A589-757947BC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0BB-A91F-4872-A2A3-9E227E08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3B5F6-D7F9-4CA6-ACEB-0408FCAA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6E30E-6BCB-4261-BF40-0DFA7422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82788-A6DD-483F-A36D-C23BDAB1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8C80C-C95C-49CD-A9B9-78675F4B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40225-797F-4EB7-94D4-DF2A40E4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1B364-2B3C-4572-8FDF-AFAB05E7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A16B0-DB33-426D-B6F8-1C9EE79F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1BF86-3E8A-49AA-A5AA-0626E07C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7E5C6-1593-4E78-AF89-334A97EF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E2D3F-E1CE-4A5D-85C7-A2BCC21C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093-BFD0-4E3B-8295-53070D1B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64FF3-2924-4343-9ED9-B4B85206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25DCF-91A4-4449-80E0-2C13F481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BD70C-71B8-40A9-AC8E-CA13BAC5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06F82-E811-4112-8D98-21E0081D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4FCDA-52C7-48CF-AC21-E7325AC0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B61D6-3E1F-43AC-B87B-7C471BFD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599DB-C303-4452-AE3C-2120B5B3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9A48-BE2D-4786-BF20-9E28D45CCE3B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ثلث قائم الزاوية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مجموعة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شكل حر 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شكل حر 7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شكل حر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شكل حر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رابط مستقيم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8800-2525-44BF-9517-F2EDEFBB0969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شارة رتبة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ارة رتبة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04F7-D363-46FC-965D-8FE0F4F5D404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56DD-1D78-4BCD-BACF-EA216A7DD640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4CDB-1379-4922-B6EC-E7E4954FD1DA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3000-78FB-4A04-B5BB-861541FE0001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624D-D2DF-4887-AAEA-0F688AEA156C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شكل حر 7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شكل حر 8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مثلث قائم الزاوية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مثلث قائم الزاوية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رابط مستقيم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شارة رتبة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شارة رتبة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1188-044C-4411-8BDA-CB078704CA94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عنوان 1" descr=""/>
          <p:cNvPicPr/>
          <p:nvPr/>
        </p:nvPicPr>
        <p:blipFill>
          <a:blip r:embed="rId1"/>
          <a:stretch/>
        </p:blipFill>
        <p:spPr>
          <a:xfrm>
            <a:off x="128520" y="1279440"/>
            <a:ext cx="8521920" cy="1744920"/>
          </a:xfrm>
          <a:prstGeom prst="rect">
            <a:avLst/>
          </a:prstGeom>
          <a:ln w="0">
            <a:noFill/>
          </a:ln>
        </p:spPr>
      </p:pic>
      <p:pic>
        <p:nvPicPr>
          <p:cNvPr id="371" name="عنوان 1" descr=""/>
          <p:cNvPicPr/>
          <p:nvPr/>
        </p:nvPicPr>
        <p:blipFill>
          <a:blip r:embed="rId2"/>
          <a:stretch/>
        </p:blipFill>
        <p:spPr>
          <a:xfrm>
            <a:off x="493560" y="3352680"/>
            <a:ext cx="8217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714240" y="285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Lucida Sans Unicode"/>
              </a:rPr>
              <a:t>ما المحتوى الذي يهتم ويركز عليه البرنامج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ما يخص اجراءات السفر بشكل عام 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الجوازات -  الخطوط – الفنادق – الاسواق – التجارة – السياحة – الظروف الصحية –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التواصل العام - اسلوب الحياة - تحية الناس –المهام والروتين اليومي البسيط – اجراء محادثات هاتفية 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وما قد يحتاجه خلال حياته اليومي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عنوان 2" descr=""/>
          <p:cNvPicPr/>
          <p:nvPr/>
        </p:nvPicPr>
        <p:blipFill>
          <a:blip r:embed="rId1"/>
          <a:stretch/>
        </p:blipFill>
        <p:spPr>
          <a:xfrm>
            <a:off x="566640" y="1865160"/>
            <a:ext cx="8242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البرنامج الزمني :  عدد الساعات اليومية : ساعة ونصف كل يوم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الوقت : بعد صلاة المغرب مباشر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عدد الايام في الاسبوع : ثلاث ايام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عدد الاسابيع (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16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) اسبوع فصل دراسي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المبلغ المالي : (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1000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) ريال للفرد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عدد المتدربين في القاعة ( 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15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عدد المدربين : مدرب – مساعد مدرب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0680"/>
            <a:ext cx="822960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165160"/>
                </a:solidFill>
                <a:latin typeface="Lucida Sans Unicode"/>
              </a:rPr>
              <a:t>- </a:t>
            </a: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الالمام بقواعد اللغة الانجليزية نطقا وكتاب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- ممارسة المحادثة باستخدام اللغة الانجليزي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- أتقان مهارة الاستماع والقراءة والكتابة باللغة الانجليزي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- أن يستطيع كل متدرب حفظ مايقارب حوالي (</a:t>
            </a: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300</a:t>
            </a: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) كلم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عنوان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165160"/>
                </a:solidFill>
                <a:latin typeface="Lucida Sans Unicode"/>
              </a:rPr>
              <a:t>- </a:t>
            </a: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اللغة الانجليزية لغة العصر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- اللغة الانجليزية اللغة الرسمية لـ (</a:t>
            </a: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53</a:t>
            </a: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) دول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- عدد الذين يتحدثون اللغة الانجليزية اكثر من (</a:t>
            </a: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341</a:t>
            </a: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) شخ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- هي لغة العالم الأولى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- وهي اللغة التي نحتاج للتدريب عليها  لتعدد استخدامها في حياتنا اليومي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عنوان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3571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Lucida Sans Unicode"/>
              </a:rPr>
              <a:t>ماذا نتوقع للمتدرب</a:t>
            </a: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ar-SA" sz="3600" spc="-1" strike="noStrike">
                <a:solidFill>
                  <a:srgbClr val="0d0d0d"/>
                </a:solidFill>
                <a:latin typeface="Lucida Sans Unicode"/>
              </a:rPr>
              <a:t>الحصول على ثروة هائلة من المفردات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d0d0d"/>
                </a:solidFill>
                <a:latin typeface="Lucida Sans Unicode"/>
              </a:rPr>
              <a:t>- ستكون لدية القدرة على اللفظ السيلم والقراءة الصحيح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d0d0d"/>
                </a:solidFill>
                <a:latin typeface="Lucida Sans Unicode"/>
              </a:rPr>
              <a:t>- ستتحسن لدية القدرة على كتابة المفردات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0004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Lucida Sans Unicode"/>
              </a:rPr>
              <a:t>بعض الاسرار التي سوف يكتشفها المتدر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السر الأول 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اختلاف اسم الحرف عن نطق الحرف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مثل الحرف 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w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 ) </a:t>
            </a: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 ) اسمه :  دبليو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نطقه : و         مثل           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window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مثل العربي  ( أ ) الف   تلفظ   أسد</a:t>
            </a:r>
            <a:r>
              <a:rPr b="0" lang="ar-SA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714240" y="1071720"/>
            <a:ext cx="8229600" cy="36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Lucida Sans Unicode"/>
              </a:rPr>
              <a:t>السر الثاني :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Lucida Sans Unicode"/>
              </a:rPr>
              <a:t>بعض الحروف لها أكثر من طريقة في اللفظ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Lucida Sans Unicode"/>
              </a:rPr>
              <a:t>مثل الحرف ( </a:t>
            </a:r>
            <a:r>
              <a:rPr b="0" lang="en-US" sz="3600" spc="-1" strike="noStrike">
                <a:solidFill>
                  <a:srgbClr val="39639d"/>
                </a:solidFill>
                <a:latin typeface="Lucida Sans Unicode"/>
              </a:rPr>
              <a:t>A</a:t>
            </a:r>
            <a:r>
              <a:rPr b="0" lang="ar-SA" sz="3600" spc="-1" strike="noStrike">
                <a:solidFill>
                  <a:srgbClr val="39639d"/>
                </a:solidFill>
                <a:latin typeface="Lucida Sans Unicode"/>
              </a:rPr>
              <a:t> )  يلفظ بخمس طرق حسب الكلم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639d"/>
                </a:solidFill>
                <a:latin typeface="Lucida Sans Unicode"/>
              </a:rPr>
              <a:t>Cat –Car –Care –war – appl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6429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Lucida Sans Unicode"/>
              </a:rPr>
              <a:t>السر الثالث 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Lucida Sans Unicode"/>
              </a:rPr>
              <a:t>وجود الحروف الساكنة في كثير من الكلمات والتي تكتب ولا تلفظ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Lucida Sans Unicode"/>
              </a:rPr>
              <a:t>مثل : كلمة  </a:t>
            </a: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knife</a:t>
            </a: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1" lang="ar-SA" sz="3600" spc="-1" strike="noStrike">
                <a:solidFill>
                  <a:srgbClr val="00206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Lucida Sans Unicode"/>
              </a:rPr>
              <a:t>فنحن يجب ان نكتب  (</a:t>
            </a: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k</a:t>
            </a: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ar-SA" sz="3600" spc="-1" strike="noStrike">
                <a:solidFill>
                  <a:srgbClr val="002060"/>
                </a:solidFill>
                <a:latin typeface="Lucida Sans Unicode"/>
              </a:rPr>
              <a:t> ) ولكن لا نلفظها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714240" y="14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 algn="ct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Lucida Sans Unicode"/>
              </a:rPr>
              <a:t>طريقة التدريب</a:t>
            </a:r>
            <a:r>
              <a:rPr b="0" lang="ar-SA" sz="36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مدرب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- مساعد مدرب : مساعدة المدرب  في عمل التطبيقات داخل القاعة – وحل مشاكل التقني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- يتم اجراء اختبار قصير سريع يومي لما سبق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استخدام الصوت والصورة عن طريق الافلام التعليمي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20:59:05Z</dcterms:created>
  <dc:creator>HP</dc:creator>
  <dc:description/>
  <dc:language>en-US</dc:language>
  <cp:lastModifiedBy>Toshiba</cp:lastModifiedBy>
  <dcterms:modified xsi:type="dcterms:W3CDTF">2015-12-14T23:47:34Z</dcterms:modified>
  <cp:revision>23</cp:revision>
  <dc:subject/>
  <dc:title>prezi</dc:title>
</cp:coreProperties>
</file>