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E2F-8F32-47AC-8B03-B387AD78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D8F-0F19-4D31-A7D3-9D40A96C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8B8-AD02-4F10-AC9B-897F7592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89C-CAAE-45E0-93A6-D21C4046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0E2C-31B4-45AF-B702-98C77BC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027A-66AB-4C8E-B416-83596359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EC15-FBA1-42F2-AAA4-358B0C8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8EE-FCF0-4DEC-873C-42BADC72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11D-318B-44A9-992C-39A63EBA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9514-F01D-4635-A716-EF189CD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EC53-E547-41F4-AD44-755CBA1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C7A-0706-4C12-BA12-2068D663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0602-C99D-4307-9D61-81C3A6F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7D67-80A7-4594-B4C4-A4765A3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963-13E8-4B6B-817D-1520A848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5786-4583-454A-A214-5CA35951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F581-0662-45EA-B157-FFCA1D7E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53C9-20DA-4419-AEF9-1FFEAB5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A095-A918-41FB-854D-ABC0C2DA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82FD-A69B-4721-BE29-7A2EB057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25EB-74C2-464D-9982-2EBCFB3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1211-F509-4646-9D00-2D41906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05E-84E6-4375-B743-EF43767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537A-A8BF-46AF-B50C-2CA11583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9697-6FEF-4A5B-8060-82FDA48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4DF7-76FA-4636-BCBC-4E2A703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B0D1-FE78-48E2-81BC-F64342B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71BF-AE3C-49AF-9D47-C142B53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1A4E-6722-4136-BFF9-F70E0537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7A3B-A9B6-492F-B2BC-46E6F1FE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9781-BA21-446B-8BC0-9492E8D9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46FF-4E37-4BC8-83AF-57AB11B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B7C7-1668-4E5C-BB4D-FEF5ABC9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83D-70D6-49E3-879D-28F8A04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B711-6F2D-4F7F-B1AA-ED71156C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5874-4213-4D4E-8DAC-B67DCB8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C0C3-2AC0-4EE4-9AE4-77906F1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331F-D95E-459A-89FA-D827687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EF82-AF59-4A99-AF8F-761117F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AE06-4F16-4354-86CC-45F2D19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0CB9-74D8-4C8A-BA9A-C311446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1505-B0B7-4132-82B1-41A7B991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1DD9-4779-4A39-A88A-E10624D7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5562F-EE97-4A14-8EB6-8D4903F2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A7C-33AC-4F21-B844-546468A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3860-1B4C-43F5-BF57-64805F1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D91C4-C472-4059-862E-8978F28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5C58-804D-44D5-A104-2ECF8E1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A4157-8EF4-4C49-88DE-E961783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D0561-D160-4503-BA43-0E6F1087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18FAF-88A8-487E-B4E8-1ED03892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3E1D-E721-466C-80AA-25B79F7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496E-D2E4-4F66-98B0-A1DE897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3B19-176A-49F9-BC09-BBC9BB5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8BAAD-A806-4FD6-9597-A8E1044B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299-4840-48EA-8A43-8A2BE80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DA7C-3B2F-4FF4-85CC-3BFC82F6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9BDB0-C787-44E6-85AD-E3BC8B74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B798-982C-45F9-ABA3-0F9C975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7969-EDDF-48D3-924A-68D2AB10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88DA-1265-47F4-BFFF-9A0FB014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2BDFF-F63E-4A64-856D-11E8D3B4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0DC1-5A7E-47A1-9D6A-9DBA8C19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4535-625F-438F-8766-9527770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B7E6-5924-4E49-B39E-0F715418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7970-AF14-4ACC-81DE-3E34300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D4D-C2CD-4132-9678-1420DA9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2E1A-F72F-40CB-94C0-9D7F0E62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86C4-EAA4-4464-BC32-CABEB8B6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F04D-593E-4C21-A1C5-80F90C80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0639-AACC-4F3F-8418-B4CCFDC8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EE6D-1982-4AB3-94A6-461729A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78C03-518D-494E-B01B-E6FA76A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1D553-8B67-41FE-8B03-11BEDDD1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6DBBD-C4B9-4D50-9DF5-3FCCAF56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A755-1F28-47A4-9E4E-B15CAED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6A5B-9F5B-41D6-BC15-16339DF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983-2148-4D41-8429-BC62B1F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0935-E204-4B2E-82D1-E406757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045D3-ED3C-484C-816C-85EA9F0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7986-AD9C-45AC-B16B-F11C109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C4320-2FBF-4643-82D1-DE342BB9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9586-7030-46AD-A965-76CAC776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3517-6E54-4FD6-BD57-968BA0CA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72B88-FE4E-4105-9DFE-052BDE9C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E73BD-81BD-47AE-9C36-BA69E73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E095-8957-4F2E-90C6-3541F1B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04CFC-DE63-4CE7-BEB4-5D17CA5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5B8-A3D8-442D-A02D-AE3DCD6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D29E3-60B1-4B94-9987-654B1DA1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65B55-5615-4A5F-94A4-7D4AA73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5CA20-400C-454C-9FB6-1582CC3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2E61A-6D3D-484E-B87F-0D03B7F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7497B-9139-47ED-8796-ADDEFC3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3FB59-C6D0-4CF0-8536-9C974A6D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D634-DA3B-402B-A9B6-1E6FEAF8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FE28-658C-44D9-A5F7-18F180873A47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ثلث قائم الزاوية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مجموعة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شكل حر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شكل حر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شكل حر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شكل حر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رابط مستقيم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09B-7DE4-4AE2-8D97-46DC066582F3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شارة رتبة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ارة رتبة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651-EEC4-4F63-A020-3701B885E589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995F-2C7B-4339-B72E-CC02DB836199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C942-A14A-4AEC-8E97-A692871CB731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4547-F2AE-46F5-B4AD-637BC245AE04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133-0262-4626-A504-3886D376CC0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شكل حر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شكل حر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مثلث قائم الزاوية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مثلث قائم الزاوية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رابط مستقيم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شارة رتبة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شارة رتبة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B7C-3369-4D6E-BD83-1AE874186C0B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عنوان 1" descr=""/>
          <p:cNvPicPr/>
          <p:nvPr/>
        </p:nvPicPr>
        <p:blipFill>
          <a:blip r:embed="rId1"/>
          <a:stretch/>
        </p:blipFill>
        <p:spPr>
          <a:xfrm>
            <a:off x="128520" y="1279440"/>
            <a:ext cx="8521920" cy="1744920"/>
          </a:xfrm>
          <a:prstGeom prst="rect">
            <a:avLst/>
          </a:prstGeom>
          <a:ln w="0">
            <a:noFill/>
          </a:ln>
        </p:spPr>
      </p:pic>
      <p:pic>
        <p:nvPicPr>
          <p:cNvPr id="371" name="عنوان 1" descr=""/>
          <p:cNvPicPr/>
          <p:nvPr/>
        </p:nvPicPr>
        <p:blipFill>
          <a:blip r:embed="rId2"/>
          <a:stretch/>
        </p:blipFill>
        <p:spPr>
          <a:xfrm>
            <a:off x="493560" y="3352680"/>
            <a:ext cx="8217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14240" y="285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ما المحتوى الذي يهتم ويركز عليه البرنامج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ما يخص اجراءات السفر بشكل عام 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الجوازات -  الخطوط – الفنادق – الاسواق – التجارة – السياحة – الظروف الصحية –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التواصل العام - اسلوب الحياة - تحية الناس –المهام والروتين اليومي البسيط – اجراء محادثات هاتفية 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وما قد يحتاجه خلال حياته اليوم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عنوان 2" descr=""/>
          <p:cNvPicPr/>
          <p:nvPr/>
        </p:nvPicPr>
        <p:blipFill>
          <a:blip r:embed="rId1"/>
          <a:stretch/>
        </p:blipFill>
        <p:spPr>
          <a:xfrm>
            <a:off x="566640" y="1865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البرنامج الزمني :  عدد الساعات اليومية : ساعة ونصف كل يوم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الوقت : بعد صلاة المغرب مباشر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ايام في الاسبوع : ثلاث ايام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اسابيع (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16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) اسبوع فصل دراسي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المبلغ المالي : (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1000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) ريال للفرد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متدربين في القاعة ( 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15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</a:rPr>
              <a:t>عدد المدربين : مدرب – مساعد مدرب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06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الالمام بقواعد اللغة الانجليزية نطقا وكتاب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ممارسة المحادثة باستخدام اللغة الانجليز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أتقان مهارة الاستماع والقراءة والكتابة باللغة الانجليز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أن يستطيع كل متدرب حفظ مايقارب حوالي (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300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) كلم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عنوان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اللغة الانجليزية لغة العصر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اللغة الانجليزية اللغة الرسمية لـ (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53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) دول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عدد الذين يتحدثون اللغة الانجليزية اكثر من (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341</a:t>
            </a: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) شخ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هي لغة العالم الأولى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Lucida Sans Unicode"/>
              </a:rPr>
              <a:t>- وهي اللغة التي نحتاج للتدريب عليها  لتعدد استخدامها في حياتنا اليوم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عنوان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3571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ماذا نتوقع للمتدرب</a:t>
            </a: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0d0d0d"/>
                </a:solidFill>
                <a:latin typeface="Lucida Sans Unicode"/>
              </a:rPr>
              <a:t>الحصول على ثروة هائلة من المفردات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d0d0d"/>
                </a:solidFill>
                <a:latin typeface="Lucida Sans Unicode"/>
              </a:rPr>
              <a:t>- ستكون لدية القدرة على اللفظ السيلم والقراءة الصحيح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d0d0d"/>
                </a:solidFill>
                <a:latin typeface="Lucida Sans Unicode"/>
              </a:rPr>
              <a:t>- ستتحسن لدية القدرة على كتابة المفردات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بعض الاسرار التي سوف يكتشفها المتدر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لسر الأول 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ختلاف اسم الحرف عن نطق الحرف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مثل الحرف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) </a:t>
            </a: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 ) اسمه :  دبليو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نطقه : و         مثل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window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مثل العربي  ( أ ) الف   تلفظ   أسد</a:t>
            </a:r>
            <a:r>
              <a:rPr b="0" lang="ar-SA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714240" y="1071720"/>
            <a:ext cx="8229600" cy="36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Lucida Sans Unicode"/>
              </a:rPr>
              <a:t>السر الثاني 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Lucida Sans Unicode"/>
              </a:rPr>
              <a:t>بعض الحروف لها أكثر من طريقة في اللف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Lucida Sans Unicode"/>
              </a:rPr>
              <a:t>مثل الحرف ( </a:t>
            </a:r>
            <a:r>
              <a:rPr b="0" lang="en-US" sz="3600" spc="-1" strike="noStrike">
                <a:solidFill>
                  <a:srgbClr val="39639d"/>
                </a:solidFill>
                <a:latin typeface="Lucida Sans Unicode"/>
              </a:rPr>
              <a:t>A</a:t>
            </a:r>
            <a:r>
              <a:rPr b="0" lang="ar-SA" sz="3600" spc="-1" strike="noStrike">
                <a:solidFill>
                  <a:srgbClr val="39639d"/>
                </a:solidFill>
                <a:latin typeface="Lucida Sans Unicode"/>
              </a:rPr>
              <a:t> )  يلفظ بخمس طرق حسب الكلم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639d"/>
                </a:solidFill>
                <a:latin typeface="Lucida Sans Unicode"/>
              </a:rPr>
              <a:t>Cat –Car –Care –war – appl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السر الثالث 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وجود الحروف الساكنة في كثير من الكلمات والتي تكتب ولا تلف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مثل : كلمة  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knife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فنحن يجب ان نكتب  (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k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ar-SA" sz="3600" spc="-1" strike="noStrike">
                <a:solidFill>
                  <a:srgbClr val="002060"/>
                </a:solidFill>
                <a:latin typeface="Lucida Sans Unicode"/>
              </a:rPr>
              <a:t> ) ولكن لا نلفظها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1424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ct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Lucida Sans Unicode"/>
              </a:rPr>
              <a:t>طريقة التدريب</a:t>
            </a:r>
            <a:r>
              <a:rPr b="0" lang="ar-SA" sz="3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مدرب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مساعد مدرب : مساعدة المدرب  في عمل التطبيقات داخل القاعة – وحل مشاكل التقن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- يتم اجراء اختبار قصير سريع يومي لما سبق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Lucida Sans Unicode"/>
              </a:rPr>
              <a:t>استخدام الصوت والصورة عن طريق الافلام التعليمية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20:59:05Z</dcterms:created>
  <dc:creator>HP</dc:creator>
  <dc:description/>
  <dc:language>en-US</dc:language>
  <cp:lastModifiedBy>Toshiba</cp:lastModifiedBy>
  <dcterms:modified xsi:type="dcterms:W3CDTF">2015-12-14T23:47:34Z</dcterms:modified>
  <cp:revision>23</cp:revision>
  <dc:subject/>
  <dc:title>prezi</dc:title>
</cp:coreProperties>
</file>