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AB6C75-CA9D-4BCA-A55A-1730E577AD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498EC0-04E2-4F3A-BBC3-D0C1FFD54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7A206B-B46B-48DE-ACE0-70C64D3E61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3FFC6E-2EF5-4929-A993-2C1C6B84A0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44ACC-661C-4CF6-AF23-0BFA2833A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2FA46-6F31-4680-A446-862D227C1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71AC1-4547-4BFC-953E-31AB32FDA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64814-910A-4250-AD8B-F93C9F88E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FA199-2C6C-4324-AA3B-279AE70DD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9EF16-0E30-4B82-83DF-0A43A8415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D4FDD-2E88-4174-AA62-7332ED1D7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1C7932-C25A-4CB6-847C-BEFC77229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AA684-AB9B-4258-AED6-B813799C1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F4102-C986-44D6-9D99-3C185EDA1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C4B56-D490-439E-8221-6CB4E37A1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AFC5E-E543-471A-8145-485260C4B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E5476-44CD-40A2-8DB8-D2EB1390B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99EFB5-F1DC-465F-8EF2-E5A4730E73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05CA5B-2FB5-4A8D-99D1-BB93191A8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4E1EE7-2C56-4ED9-A303-FCCD25FBE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9D9085-8C46-4CE5-94BD-7A4559DB1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195F77-8CB7-49EA-82F8-0021ABABD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9D620B-B87D-4E59-92C8-9E159624E6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0CD593-0E52-45BB-A775-239FFCDE8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8BE7B-380E-4819-9D21-28FF94C9A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ACE6E-FB4D-4F27-8BB3-1A4AF3681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A654A-F25A-4024-85C9-21DE5D7B5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384DB-2143-420B-91F9-9235B28DA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B07B22-F688-4EFE-BF41-E506C892B8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52163D-B48F-413C-A3A8-67D8DF9654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E1873E-34A9-447D-BDA8-E143B943D8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FD4290-62C8-49B7-A4E3-80317AE00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FCF26-117B-4CE8-B5A2-83DD32D217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13788E-AFBC-4E17-9687-1DED8D415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739755-3531-432F-BDD1-8FC1B9E61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7DAE8-A55D-4064-9CA1-8BB4E67E0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451E88-82C4-4DCB-B797-8CF6D4FADC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1878B0-286D-4AC6-AEF7-F3AB2D392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A88C1-95ED-40DF-A884-267A234DE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8DF74-A0D9-41E1-934C-1EB49E499C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A49202-758D-4772-87B2-8E1AC52CAA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79F953-178D-4DEA-9FB9-C9B21F9EBF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EF6736-29BA-407C-81DF-35DB31A783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6213D1-6061-42BC-9285-D84BF4814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AEA472-2885-4DAF-A630-5AABD73BF5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547217-F3AE-4374-AE55-FCD8A98D6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F626FF-1A31-4F95-9643-8B464B4C3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B1A99D-35FE-4C90-9F41-A315D84EA3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B7A7-E0FD-4C61-AC8F-BAA72E517F3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0" y="0"/>
            <a:ext cx="7620120" cy="6858000"/>
            <a:chOff x="0" y="0"/>
            <a:chExt cx="7620120" cy="6858000"/>
          </a:xfrm>
        </p:grpSpPr>
        <p:grpSp>
          <p:nvGrpSpPr>
            <p:cNvPr id="64" name="Group 3"/>
            <p:cNvGrpSpPr/>
            <p:nvPr/>
          </p:nvGrpSpPr>
          <p:grpSpPr>
            <a:xfrm>
              <a:off x="0" y="0"/>
              <a:ext cx="3200400" cy="6858000"/>
              <a:chOff x="0" y="0"/>
              <a:chExt cx="3200400" cy="6858000"/>
            </a:xfrm>
          </p:grpSpPr>
          <p:sp>
            <p:nvSpPr>
              <p:cNvPr id="6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grpSp>
          <p:nvGrpSpPr>
            <p:cNvPr id="67" name="Group 6"/>
            <p:cNvGrpSpPr/>
            <p:nvPr/>
          </p:nvGrpSpPr>
          <p:grpSpPr>
            <a:xfrm>
              <a:off x="228600" y="1981080"/>
              <a:ext cx="7391520" cy="319320"/>
              <a:chOff x="228600" y="1981080"/>
              <a:chExt cx="7391520" cy="319320"/>
            </a:xfrm>
          </p:grpSpPr>
          <p:sp>
            <p:nvSpPr>
              <p:cNvPr id="6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F2A2-9FB0-4F33-B0AA-0B9900D1999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1" name="Group 2"/>
          <p:cNvGrpSpPr/>
          <p:nvPr/>
        </p:nvGrpSpPr>
        <p:grpSpPr>
          <a:xfrm>
            <a:off x="0" y="0"/>
            <a:ext cx="9159840" cy="6858000"/>
            <a:chOff x="0" y="0"/>
            <a:chExt cx="9159840" cy="6858000"/>
          </a:xfrm>
        </p:grpSpPr>
        <p:sp>
          <p:nvSpPr>
            <p:cNvPr id="11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0EE9-936A-47BB-9249-7EC67DBC4E9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0" y="0"/>
            <a:ext cx="5867280" cy="6858000"/>
            <a:chOff x="0" y="0"/>
            <a:chExt cx="5867280" cy="6858000"/>
          </a:xfrm>
        </p:grpSpPr>
        <p:sp>
          <p:nvSpPr>
            <p:cNvPr id="17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7" name="Group 5"/>
          <p:cNvGrpSpPr/>
          <p:nvPr/>
        </p:nvGrpSpPr>
        <p:grpSpPr>
          <a:xfrm>
            <a:off x="3632040" y="4889520"/>
            <a:ext cx="4876920" cy="318960"/>
            <a:chOff x="3632040" y="4889520"/>
            <a:chExt cx="4876920" cy="318960"/>
          </a:xfrm>
        </p:grpSpPr>
        <p:sp>
          <p:nvSpPr>
            <p:cNvPr id="17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A224-7F86-4E3F-8EA8-BFA7B9C0578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sa/imgres?imgurl=http://storage.canalblog.com/14/91/394482/45418329_p.jpg&amp;imgrefurl=http://elaouni.wordpress.com/2009/10/21/212/&amp;usg=__zGDDees_gnrLXiCaR5oY95S41vA=&amp;h=300&amp;w=300&amp;sz=10&amp;hl=ar&amp;start=5&amp;zoom=1&amp;itbs=1&amp;tbnid=3I-C_Uvo-fjtYM:&amp;tbnh=116&amp;tbnw=116&amp;prev=/search%3Fq%3D%25D8%25A7%25D9%2584%25D9%2581%25D8%25B1%25D8%25AF%2B%25D9%2588%25D8%25A7%25D9%2584%25D9%2585%25D8%25AC%25D8%25AA%25D9%2585%25D8%25B9%26hl%3Dar%26safe%3Dactive%26biw%3D1280%26bih%3D815%26gbv%3D2%26tbm%3Disch&amp;ei=aAOXTsv1N6nf4QTn_emDBA"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981080"/>
            <a:ext cx="7772400" cy="2686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ahoma"/>
              </a:rPr>
              <a:t>سيكولوجية السائح</a:t>
            </a:r>
            <a:br>
              <a:rPr sz="4800"/>
            </a:br>
            <a:r>
              <a:rPr b="0" lang="ar-SA" sz="4800" spc="-1" strike="noStrike">
                <a:solidFill>
                  <a:srgbClr val="ffffcc"/>
                </a:solidFill>
                <a:latin typeface="Tahoma"/>
              </a:rPr>
              <a:t>أدوات جمع البيانات</a:t>
            </a:r>
            <a:br>
              <a:rPr sz="4800"/>
            </a:br>
            <a:endParaRPr b="0" lang="en-US" sz="4800" spc="-1" strike="noStrike">
              <a:solidFill>
                <a:srgbClr val="ffffcc"/>
              </a:solidFill>
              <a:latin typeface="Tahoma"/>
            </a:endParaRPr>
          </a:p>
        </p:txBody>
      </p:sp>
      <p:pic>
        <p:nvPicPr>
          <p:cNvPr id="222" name="Picture 6" descr="http://t2.gstatic.com/images?q=tbn:ANd9GcSl9Y1uaK_0fNL_t2Arb8MyRTk3V6O7nwt8PNAkSUDVBErDVZyR7CHJSaM">
            <a:hlinkClick r:id="rId1"/>
          </p:cNvPr>
          <p:cNvPicPr/>
          <p:nvPr/>
        </p:nvPicPr>
        <p:blipFill>
          <a:blip r:embed="rId2"/>
          <a:stretch/>
        </p:blipFill>
        <p:spPr>
          <a:xfrm>
            <a:off x="6781680" y="3200400"/>
            <a:ext cx="1105200" cy="1104840"/>
          </a:xfrm>
          <a:prstGeom prst="rect">
            <a:avLst/>
          </a:prstGeom>
          <a:ln w="0">
            <a:noFill/>
          </a:ln>
        </p:spPr>
      </p:pic>
      <p:pic>
        <p:nvPicPr>
          <p:cNvPr id="223" name="Picture 8" descr="http://t2.gstatic.com/images?q=tbn:ANd9GcSl9Y1uaK_0fNL_t2Arb8MyRTk3V6O7nwt8PNAkSUDVBErDVZyR7CHJSaM"/>
          <p:cNvPicPr/>
          <p:nvPr/>
        </p:nvPicPr>
        <p:blipFill>
          <a:blip r:embed="rId3"/>
          <a:stretch/>
        </p:blipFill>
        <p:spPr>
          <a:xfrm>
            <a:off x="1143000" y="3200400"/>
            <a:ext cx="1104840" cy="110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3</a:t>
            </a:r>
            <a:r>
              <a:rPr b="1" lang="ar-SA" sz="3600" spc="-1" strike="noStrike" u="sng">
                <a:solidFill>
                  <a:srgbClr val="ff0000"/>
                </a:solidFill>
                <a:uFillTx/>
                <a:latin typeface="Arial"/>
              </a:rPr>
              <a:t>. الملاحظة</a:t>
            </a:r>
            <a:r>
              <a:rPr b="0" lang="ar-SA" sz="3600" spc="-1" strike="noStrike">
                <a:solidFill>
                  <a:srgbClr val="ff0000"/>
                </a:solidFill>
                <a:latin typeface="Arial"/>
              </a:rPr>
              <a:t> </a:t>
            </a:r>
            <a:r>
              <a:rPr b="0" lang="en-US" sz="3600" spc="-1" strike="noStrike">
                <a:solidFill>
                  <a:srgbClr val="ff0000"/>
                </a:solidFill>
                <a:latin typeface="Aharoni"/>
                <a:ea typeface="Aharoni"/>
              </a:rPr>
              <a:t>Observation</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41" name=""/>
          <p:cNvSpPr txBox="1"/>
          <p:nvPr/>
        </p:nvSpPr>
        <p:spPr>
          <a:xfrm>
            <a:off x="838080" y="2361960"/>
            <a:ext cx="7693200" cy="3886200"/>
          </a:xfrm>
          <a:prstGeom prst="rect">
            <a:avLst/>
          </a:prstGeom>
          <a:noFill/>
          <a:ln w="0">
            <a:noFill/>
          </a:ln>
        </p:spPr>
        <p:txBody>
          <a:bodyPr anchor="t">
            <a:normAutofit/>
          </a:bodyPr>
          <a:p>
            <a:pPr marL="343080" indent="-34308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اهتمام أو انتباه لشيء أو حدث أو ظاهرة بشكل منظم عن طريق الحواس. ومن أنواعها:</a:t>
            </a:r>
            <a:endParaRPr b="0" lang="en-US" sz="18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العابرة</a:t>
            </a:r>
            <a:endParaRPr b="0" lang="en-US" sz="32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العلمية المقصودة</a:t>
            </a:r>
            <a:endParaRPr b="0" lang="en-US" sz="3200" spc="-1" strike="noStrike">
              <a:solidFill>
                <a:srgbClr val="003366"/>
              </a:solidFill>
              <a:latin typeface="Arial"/>
            </a:endParaRPr>
          </a:p>
          <a:p>
            <a:pPr marL="343080" indent="-343080" algn="just" rtl="1">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66"/>
                </a:solidFill>
                <a:uFillTx/>
                <a:latin typeface="Arial"/>
              </a:rPr>
              <a:t>الملاحظة بالمشاركة</a:t>
            </a:r>
            <a:endParaRPr b="0" lang="en-US" sz="3200" spc="-1" strike="noStrike">
              <a:solidFill>
                <a:srgbClr val="003366"/>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وعيوب الملاحظة:</a:t>
            </a:r>
            <a:endParaRPr b="1" lang="en-US" sz="3600" spc="-1" strike="noStrike">
              <a:solidFill>
                <a:srgbClr val="006666"/>
              </a:solidFill>
              <a:latin typeface="Arial"/>
            </a:endParaRPr>
          </a:p>
        </p:txBody>
      </p:sp>
      <p:sp>
        <p:nvSpPr>
          <p:cNvPr id="243" name=""/>
          <p:cNvSpPr txBox="1"/>
          <p:nvPr/>
        </p:nvSpPr>
        <p:spPr>
          <a:xfrm>
            <a:off x="838080" y="2362320"/>
            <a:ext cx="7693200" cy="4038480"/>
          </a:xfrm>
          <a:prstGeom prst="rect">
            <a:avLst/>
          </a:prstGeom>
          <a:noFill/>
          <a:ln w="0">
            <a:noFill/>
          </a:ln>
        </p:spPr>
        <p:txBody>
          <a:bodyPr anchor="t">
            <a:normAutofit fontScale="99000"/>
          </a:bodyPr>
          <a:p>
            <a:pPr marL="452520" indent="-452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3c653c"/>
                </a:solidFill>
                <a:uFillTx/>
                <a:latin typeface="Arial"/>
              </a:rPr>
              <a:t>المزايا:</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مح بتسجيل الحدث وقت حدوث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لا تتطلب جهودا كبير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مح بالحصول على معلومات وبيانات إضاف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تخدم في مواقف مختلفة ولمراحل عمرية متباينة.</a:t>
            </a:r>
            <a:endParaRPr b="0" lang="en-US" sz="2000" spc="-1" strike="noStrike">
              <a:solidFill>
                <a:srgbClr val="003366"/>
              </a:solidFill>
              <a:latin typeface="Arial"/>
            </a:endParaRPr>
          </a:p>
          <a:p>
            <a:pPr marL="452520" indent="-452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3300"/>
                </a:solidFill>
                <a:uFillTx/>
                <a:latin typeface="Arial"/>
              </a:rPr>
              <a:t>العيوب:</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غير البعض لسلوكهم في حالة الشعور بالملاحظ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وقتا طويلا.</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ذات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لا تصلح لبعض الأحداث خاصة الشخصي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د تعرض الباحث للخطر</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استبانات</a:t>
            </a:r>
            <a:r>
              <a:rPr b="0" lang="ar-SA" sz="3600" spc="-1" strike="noStrike">
                <a:solidFill>
                  <a:srgbClr val="ff0000"/>
                </a:solidFill>
                <a:latin typeface="Arial"/>
              </a:rPr>
              <a:t> </a:t>
            </a:r>
            <a:r>
              <a:rPr b="0" lang="en-US" sz="3600" spc="-1" strike="noStrike">
                <a:solidFill>
                  <a:srgbClr val="ff0000"/>
                </a:solidFill>
                <a:latin typeface="Aharoni"/>
                <a:ea typeface="Aharoni"/>
              </a:rPr>
              <a:t>Questionnaire</a:t>
            </a:r>
            <a:r>
              <a:rPr b="1" lang="en-US" sz="3600" spc="-1" strike="noStrike">
                <a:solidFill>
                  <a:srgbClr val="ff0000"/>
                </a:solidFill>
                <a:latin typeface="Aharoni"/>
                <a:ea typeface="Aharoni"/>
              </a:rPr>
              <a:t> </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25" name=""/>
          <p:cNvSpPr txBox="1"/>
          <p:nvPr/>
        </p:nvSpPr>
        <p:spPr>
          <a:xfrm>
            <a:off x="838080" y="2361960"/>
            <a:ext cx="7693200" cy="3886200"/>
          </a:xfrm>
          <a:prstGeom prst="rect">
            <a:avLst/>
          </a:prstGeom>
          <a:noFill/>
          <a:ln w="0">
            <a:noFill/>
          </a:ln>
        </p:spPr>
        <p:txBody>
          <a:bodyPr anchor="t">
            <a:normAutofit fontScale="87000"/>
          </a:bodyPr>
          <a:p>
            <a:pPr marL="298440" indent="-29844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أحد طرق جمع المعلومات التي تستخدم على نطاق واسع للحصول على بيانات تتعلق بأحوال الناس أو ميولهم أو اتجاهاتهم أو دوافعهم أو معتقداتهم، وتتضمن مجموعة من الأسئلة أو الجمل الخبرية التي يطلب من المبحوث الإجابة عنها بطريقة يحددها الباحث حسب أغراض البحث، ومن أشكالها:</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غلقة: </a:t>
            </a:r>
            <a:r>
              <a:rPr b="1" lang="ar-SA" sz="1800" spc="-1" strike="noStrike">
                <a:solidFill>
                  <a:srgbClr val="9900cc"/>
                </a:solidFill>
                <a:latin typeface="Arial"/>
              </a:rPr>
              <a:t>وفيها يطلب من المبحوث اختيار إجابة محددة من مجموعة من الإجابات مثل: (نعم / لا)، أو (كثيرا / نادرا / قليلا).</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فتوحة: </a:t>
            </a:r>
            <a:r>
              <a:rPr b="1" lang="ar-SA" sz="1800" spc="-1" strike="noStrike">
                <a:solidFill>
                  <a:srgbClr val="9900cc"/>
                </a:solidFill>
                <a:latin typeface="Arial"/>
              </a:rPr>
              <a:t>وفيها يطلب من المبحوث أن يعبر بحريته عن آرائه؛ مثل (ما أسباب انتشار ظاهرة التفحيط في السعودية من وجهة نظرك؟).</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غلقة المفتوحة: </a:t>
            </a:r>
            <a:r>
              <a:rPr b="1" lang="ar-SA" sz="1800" spc="-1" strike="noStrike">
                <a:solidFill>
                  <a:srgbClr val="9900cc"/>
                </a:solidFill>
                <a:latin typeface="Arial"/>
              </a:rPr>
              <a:t>وفيها يتم طرح سؤالا مغلقا يليه سؤالا مفتوحا يوضح أسباب الإجابة المعينة؛ مثل (هل يؤدي ضعف الرقابة الأسرية إلى انتشار ظاهرة التفحيط؟) نعم (  ) لا (  )، في حالة الإجابة بـ (نعم) ما هي أشكال ضعف الرقابة من وجهة نظرك؟</a:t>
            </a:r>
            <a:endParaRPr b="0" lang="en-US" sz="1800" spc="-1" strike="noStrike">
              <a:solidFill>
                <a:srgbClr val="003366"/>
              </a:solidFill>
              <a:latin typeface="Arial"/>
            </a:endParaRPr>
          </a:p>
          <a:p>
            <a:pPr marL="298440" indent="-29844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66"/>
                </a:solidFill>
                <a:uFillTx/>
                <a:latin typeface="Arial"/>
              </a:rPr>
              <a:t>الاستبانة المصورة: </a:t>
            </a:r>
            <a:r>
              <a:rPr b="1" lang="ar-SA" sz="1800" spc="-1" strike="noStrike">
                <a:solidFill>
                  <a:srgbClr val="9900cc"/>
                </a:solidFill>
                <a:latin typeface="Arial"/>
              </a:rPr>
              <a:t>وفيها يقدم للمبحوثين صورا ورسومات بدلا من العبارات وتستخدم مع الأطفال والأميين.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خطوات تصميم الاستبانة:</a:t>
            </a:r>
            <a:endParaRPr b="1" lang="en-US" sz="3600" spc="-1" strike="noStrike">
              <a:solidFill>
                <a:srgbClr val="006666"/>
              </a:solidFill>
              <a:latin typeface="Arial"/>
            </a:endParaRPr>
          </a:p>
        </p:txBody>
      </p:sp>
      <p:sp>
        <p:nvSpPr>
          <p:cNvPr id="227" name=""/>
          <p:cNvSpPr txBox="1"/>
          <p:nvPr/>
        </p:nvSpPr>
        <p:spPr>
          <a:xfrm>
            <a:off x="838080" y="2362320"/>
            <a:ext cx="7693200" cy="4038480"/>
          </a:xfrm>
          <a:prstGeom prst="rect">
            <a:avLst/>
          </a:prstGeom>
          <a:noFill/>
          <a:ln w="0">
            <a:noFill/>
          </a:ln>
        </p:spPr>
        <p:txBody>
          <a:bodyPr anchor="t">
            <a:normAutofit fontScale="84000"/>
          </a:bodyPr>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هدف الاستبانة في ضوء أهداف الدراسة والمشكلة موضوع البحث.</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قسيم موضوع الدراسة إلى عدد من الموضوعات الفرعية حتى يمكن تغطية كل فرع.</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وضع قائمة من الأسئلة أو العبارات لكل بعد (موضوع) من أبعاد الدراسة المحددة سلفا.</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جريب الصورة الأولية للاستبانة على عينة محدودة من المجتمع الأصلي لتفادي ما بها من عيوب وكذلك يمكن عرضها على مجموعة من المختصين.</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عديل الاستبانة في ضوء الملاحظات الواردة.</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وضع الاستبانة في صورتها النهائية مشتملة على (مقدمة الاستبانة - الفقرات).</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طباعة الاستبانة.</a:t>
            </a:r>
            <a:endParaRPr b="0" lang="en-US" sz="2000" spc="-1" strike="noStrike">
              <a:solidFill>
                <a:srgbClr val="003366"/>
              </a:solidFill>
              <a:latin typeface="Arial"/>
            </a:endParaRPr>
          </a:p>
          <a:p>
            <a:pPr marL="383760" indent="-38376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زيع الاستبانة على عينة الدراسة بالطرق المناسبة.</a:t>
            </a:r>
            <a:endParaRPr b="0" lang="en-US" sz="2000" spc="-1" strike="noStrike">
              <a:solidFill>
                <a:srgbClr val="003366"/>
              </a:solidFill>
              <a:latin typeface="Arial"/>
            </a:endParaRPr>
          </a:p>
          <a:p>
            <a:pPr marL="383760" indent="-383760" algn="ct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Arial"/>
              </a:rPr>
              <a:t>وهناك عديد من القواعد تتعلق بالصياغة، وارشادات عامة تتبع في التطبيق والتوزيع يجب مراعاتها.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الاستبانات:</a:t>
            </a:r>
            <a:endParaRPr b="1" lang="en-US" sz="3600" spc="-1" strike="noStrike">
              <a:solidFill>
                <a:srgbClr val="006666"/>
              </a:solidFill>
              <a:latin typeface="Arial"/>
            </a:endParaRPr>
          </a:p>
        </p:txBody>
      </p:sp>
      <p:sp>
        <p:nvSpPr>
          <p:cNvPr id="229"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وفر معلومات عن عدد كبير من الأفراد المتباعدين جغرافيا بأقل وقت وجهد ممكنين.</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ذات تكلفة أقل.</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عطي الحرية للمبحوث في اختيار الوقت والظرف المناسبين لملئها.</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وفر بيانات أكثر موضوعية.</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يسأل جميع أفراد العينة بنفس الصورة.</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لا يتدخل الباحث في إجابات المبحوث.</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يوب الاستبانات:</a:t>
            </a:r>
            <a:endParaRPr b="1" lang="en-US" sz="3600" spc="-1" strike="noStrike">
              <a:solidFill>
                <a:srgbClr val="006666"/>
              </a:solidFill>
              <a:latin typeface="Arial"/>
            </a:endParaRPr>
          </a:p>
        </p:txBody>
      </p:sp>
      <p:sp>
        <p:nvSpPr>
          <p:cNvPr id="231" name=""/>
          <p:cNvSpPr txBox="1"/>
          <p:nvPr/>
        </p:nvSpPr>
        <p:spPr>
          <a:xfrm>
            <a:off x="838080" y="2362320"/>
            <a:ext cx="7693200" cy="4038480"/>
          </a:xfrm>
          <a:prstGeom prst="rect">
            <a:avLst/>
          </a:prstGeom>
          <a:noFill/>
          <a:ln w="0">
            <a:noFill/>
          </a:ln>
        </p:spPr>
        <p:txBody>
          <a:bodyPr anchor="t">
            <a:normAutofit fontScale="89000"/>
          </a:bodyPr>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تتأثر إجابة المبحوث بطريقة الأسئلة إذا كانت تحتوي على إيحاءات.</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رتبط المعلومات بالخبرات الخاص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يقدم البعض معلومات غير دقيقة لتجنب المساءلة من أي نوع.</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د لا يتوفر لدى البعض الجدية المطلوب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نسبة المسترد عادة قليلة ومن ثمة تحتاج لمتابعة.</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عدم فهم البعض للعبارات يجعلهم يعطون إجابات مغايرة لأهداف البحث.</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لا يستطيع الباحث أن يسجل ردود فعل المبحوثين.</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يصعب استخدامها مع الأميين.</a:t>
            </a:r>
            <a:endParaRPr b="0" lang="en-US" sz="2400" spc="-1" strike="noStrike">
              <a:solidFill>
                <a:srgbClr val="003366"/>
              </a:solidFill>
              <a:latin typeface="Arial"/>
            </a:endParaRPr>
          </a:p>
          <a:p>
            <a:pPr marL="406800" indent="-4068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2</a:t>
            </a:r>
            <a:r>
              <a:rPr b="1" lang="ar-SA" sz="3600" spc="-1" strike="noStrike" u="sng">
                <a:solidFill>
                  <a:srgbClr val="ff0000"/>
                </a:solidFill>
                <a:uFillTx/>
                <a:latin typeface="Arial"/>
              </a:rPr>
              <a:t>.المقابلة</a:t>
            </a:r>
            <a:r>
              <a:rPr b="0" lang="ar-SA" sz="3600" spc="-1" strike="noStrike">
                <a:solidFill>
                  <a:srgbClr val="ff0000"/>
                </a:solidFill>
                <a:latin typeface="Arial"/>
              </a:rPr>
              <a:t> </a:t>
            </a:r>
            <a:r>
              <a:rPr b="0" lang="en-US" sz="3600" spc="-1" strike="noStrike">
                <a:solidFill>
                  <a:srgbClr val="ff0000"/>
                </a:solidFill>
                <a:latin typeface="Aharoni"/>
                <a:ea typeface="Aharoni"/>
              </a:rPr>
              <a:t>Interview</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233" name=""/>
          <p:cNvSpPr txBox="1"/>
          <p:nvPr/>
        </p:nvSpPr>
        <p:spPr>
          <a:xfrm>
            <a:off x="838080" y="2361960"/>
            <a:ext cx="7693200" cy="3886200"/>
          </a:xfrm>
          <a:prstGeom prst="rect">
            <a:avLst/>
          </a:prstGeom>
          <a:noFill/>
          <a:ln w="0">
            <a:noFill/>
          </a:ln>
        </p:spPr>
        <p:txBody>
          <a:bodyPr anchor="t">
            <a:normAutofit fontScale="90000"/>
          </a:bodyPr>
          <a:p>
            <a:pPr marL="308520" indent="-308520" algn="just" rtl="1">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هي محادثة موجهة يقوم بها شخص مع شخص أخر أو أشخاض أخرين، وتهدف إلى استثارة أنواع معينة من المعلومات لاستغلالها في بحث علمي، وللاستعانة بها على التوجيه والتشخيص والعلاج.  (إنجلش &amp; إنجلش)، ومن أنواعها:</a:t>
            </a:r>
            <a:endParaRPr b="0" lang="en-US" sz="18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حرة أو غير المقننة: </a:t>
            </a:r>
            <a:r>
              <a:rPr b="1" lang="ar-SA" sz="2200" spc="-1" strike="noStrike">
                <a:solidFill>
                  <a:srgbClr val="9900cc"/>
                </a:solidFill>
                <a:latin typeface="Arial"/>
              </a:rPr>
              <a:t>وفيها لا تكون الأسئلة موضوعة مسبقا، بل يطرح الباحث سؤالا عاما حول مشكلة البحث، ومن خلال الإجابة يتسلسل في طرح الأسئلة الأخرى.</a:t>
            </a:r>
            <a:endParaRPr b="0" lang="en-US" sz="22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مقننة أو المبرمجة: </a:t>
            </a:r>
            <a:r>
              <a:rPr b="1" lang="ar-SA" sz="2200" spc="-1" strike="noStrike">
                <a:solidFill>
                  <a:srgbClr val="9900cc"/>
                </a:solidFill>
                <a:latin typeface="Arial"/>
              </a:rPr>
              <a:t>وفيها يكون لدى الباحث قائمة من الأسئلة التي سيتم طرحها بنفس التسلسل، ويتقيد الباحث غالبا بها.</a:t>
            </a:r>
            <a:endParaRPr b="0" lang="en-US" sz="2200" spc="-1" strike="noStrike">
              <a:solidFill>
                <a:srgbClr val="003366"/>
              </a:solidFill>
              <a:latin typeface="Arial"/>
            </a:endParaRPr>
          </a:p>
          <a:p>
            <a:pPr marL="308520" indent="-308520" algn="just" rtl="1">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3366"/>
                </a:solidFill>
                <a:uFillTx/>
                <a:latin typeface="Arial"/>
              </a:rPr>
              <a:t>المقابلة المقننة المفتوحة: </a:t>
            </a:r>
            <a:r>
              <a:rPr b="1" lang="ar-SA" sz="2200" spc="-1" strike="noStrike">
                <a:solidFill>
                  <a:srgbClr val="9900cc"/>
                </a:solidFill>
                <a:latin typeface="Arial"/>
              </a:rPr>
              <a:t>وفيها يتم طرح أسئلة فيها مزيجا من النوعين السابقين، وهي أكثر أنواع المقابلات شيوعا.</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خطوات إجراء المقابلة:</a:t>
            </a:r>
            <a:endParaRPr b="1" lang="en-US" sz="3600" spc="-1" strike="noStrike">
              <a:solidFill>
                <a:srgbClr val="006666"/>
              </a:solidFill>
              <a:latin typeface="Arial"/>
            </a:endParaRPr>
          </a:p>
        </p:txBody>
      </p:sp>
      <p:sp>
        <p:nvSpPr>
          <p:cNvPr id="235" name=""/>
          <p:cNvSpPr txBox="1"/>
          <p:nvPr/>
        </p:nvSpPr>
        <p:spPr>
          <a:xfrm>
            <a:off x="838080" y="2361960"/>
            <a:ext cx="7693200" cy="4343400"/>
          </a:xfrm>
          <a:prstGeom prst="rect">
            <a:avLst/>
          </a:prstGeom>
          <a:noFill/>
          <a:ln w="0">
            <a:noFill/>
          </a:ln>
        </p:spPr>
        <p:txBody>
          <a:bodyPr anchor="t">
            <a:normAutofit fontScale="99000"/>
          </a:bodyPr>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الهدف من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المستهدفين ب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أسئلة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زمان ومدة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مكان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لتدريب على إجراء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ديد موعد مسبق مع الشخص.</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نفيذ المقابلة.</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قدير صحة وصدق المعلومات.</a:t>
            </a:r>
            <a:endParaRPr b="0" lang="en-US" sz="2000" spc="-1" strike="noStrike">
              <a:solidFill>
                <a:srgbClr val="003366"/>
              </a:solidFill>
              <a:latin typeface="Arial"/>
            </a:endParaRPr>
          </a:p>
          <a:p>
            <a:pPr marL="452520" indent="-45252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سجيل المقابلة.</a:t>
            </a:r>
            <a:endParaRPr b="0" lang="en-US" sz="2000" spc="-1" strike="noStrike">
              <a:solidFill>
                <a:srgbClr val="003366"/>
              </a:solidFill>
              <a:latin typeface="Arial"/>
            </a:endParaRPr>
          </a:p>
          <a:p>
            <a:pPr marL="452520" indent="-452520" algn="ct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وهناك عديد من القواعد تتعلق بكل خطوة، وارشادات عامة تتبع ويجب مراعاتها.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زايا المقابلة:</a:t>
            </a:r>
            <a:endParaRPr b="1" lang="en-US" sz="3600" spc="-1" strike="noStrike">
              <a:solidFill>
                <a:srgbClr val="006666"/>
              </a:solidFill>
              <a:latin typeface="Arial"/>
            </a:endParaRPr>
          </a:p>
        </p:txBody>
      </p:sp>
      <p:sp>
        <p:nvSpPr>
          <p:cNvPr id="237"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معلومات لا يمكن الحصول عليها بالوسائل الأخرى.</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عمقا في الإجابات.</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أمكانية الحصول على إجابات من معظم -إن لم يكن من كل- من تتم مقابلتهم.</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وفر مؤشرات غير لفظي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رتفاع نسبة المردود مقارنة بالاستبانات.</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التحكم في البيئة المحيطة بالمقابل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لة احتمال نقل إجابات عن الآخر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زويد الباحث بمعلومات إضافي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فيد مع أنواع معينة من المبحوث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يوب المقابلة:</a:t>
            </a:r>
            <a:endParaRPr b="1" lang="en-US" sz="3600" spc="-1" strike="noStrike">
              <a:solidFill>
                <a:srgbClr val="006666"/>
              </a:solidFill>
              <a:latin typeface="Arial"/>
            </a:endParaRPr>
          </a:p>
        </p:txBody>
      </p:sp>
      <p:sp>
        <p:nvSpPr>
          <p:cNvPr id="239"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حتاج وقت وجهد كبير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حالة النفسية والمزاجية للطرف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أثر بالمقاومة والرغبة في الظهور بمظهر إيجابي.</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الوصول لبعض المبحوثين.</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تدريبا عاليا.</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التقدير الكمي.</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صعوبة تسجيل الإجابات في مكان المقابلة.</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تتطلب تكاليف كثيرة لكثرة تنقل الباحث.</a:t>
            </a:r>
            <a:endParaRPr b="0" lang="en-US" sz="2000" spc="-1" strike="noStrike">
              <a:solidFill>
                <a:srgbClr val="003366"/>
              </a:solidFill>
              <a:latin typeface="Arial"/>
            </a:endParaRPr>
          </a:p>
          <a:p>
            <a:pPr marL="457200" indent="-4572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4:41:30Z</dcterms:created>
  <dc:creator>User</dc:creator>
  <dc:description/>
  <dc:language>en-US</dc:language>
  <cp:lastModifiedBy>User</cp:lastModifiedBy>
  <cp:lastPrinted>2015-11-11T09:00:29Z</cp:lastPrinted>
  <dcterms:modified xsi:type="dcterms:W3CDTF">2015-11-11T09:01:08Z</dcterms:modified>
  <cp:revision>44</cp:revision>
  <dc:subject/>
  <dc:title>مقدمة في الإحصاء الاجتماعي</dc:title>
</cp:coreProperties>
</file>