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05A01-E939-4E56-BF7D-5AC5B56A9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DD4F-3131-47FE-B9E1-93E9DEE82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E2BE2-477F-4BF9-B1BC-5A0862E4F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F55D4-10E5-40F2-9E1A-F7E3A5E69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E33745-8968-41E1-8F0B-15B1D9509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E6AC43-E71A-4660-83D8-4FB4AA123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1BF8E-F560-4247-A1C7-A94F83358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852182-D71A-43D1-BB55-B9D53A640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BD5573-CE18-413A-B615-D4841A418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D29907-3553-4FC6-8100-E0C0AD985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F51018-3DC4-4485-A3ED-5E478FA94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3A56-A5E0-456F-8244-21BBE8C4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EB30AF-3616-4CF0-8504-342603386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2760E9-838C-4512-B9A2-E0B1AC406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AEC59E-FFED-4871-AEC5-0B7B9C76A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D09F3AC-4366-49FB-84C7-7F8E5E461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6159EB-5BC2-48E1-8734-7B036B0F5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EE00-2FE9-4AE9-8B2E-979A576DE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8EC13-0458-4DE5-93A3-46041213C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6EB54-4580-484A-A584-3CBDAD693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0B66-6FD8-435C-9112-C17CC7B0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088A-B51F-47BE-8F0C-062386D8E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16AC-FAEF-4B7E-AE7F-D1668EF7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0299-9EA3-4AF1-BFA5-C5958982E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9A07-37B3-4CE1-86B1-CB58D1294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AEEE-A792-40DE-99D9-35BBCDBE58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3:42Z</dcterms:modified>
  <cp:revision>29</cp:revision>
  <dc:subject/>
  <dc:title>Earthquakes and Volcanoes</dc:title>
</cp:coreProperties>
</file>