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E91-235A-4552-BD64-ADFB7CAF6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BB17-FC65-42EF-B951-B31CFA39C4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5E38-70DD-42B7-9643-1E884CEED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6530-7311-49DD-951F-A88760E8C5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587B-C8CD-41C1-8262-F6A132A36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5C2F-9F8A-43AA-9FE9-5BF02F4FB8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6662-51FD-480D-A1C4-C9CD2E1BD5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C2A0-6E3B-41B0-9E26-4402C4B378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05C-B711-4B71-90CA-33C747255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1AD9-4393-45CE-8E2F-931BDA6A3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1DD6-6AD0-40F8-B4EE-A606244D2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6CC0-28F3-4E0D-9E96-5C59F90B2E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480-ECA4-4B0C-84FB-7BC3DB686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C3B9-331E-4FDE-9627-2B06B5764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EE5D-C716-4F68-961C-04F0207E85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FCE4-C766-4518-BC58-04EF23E53A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98CC-D98D-4EE9-A3FA-1EBAED9F17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512D-C9A5-4D41-8C61-658411067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95E5-3EBF-46AF-9140-8D2336951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608A-90B8-490A-841A-686A628239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8963-93C8-4E6C-9FD4-DDF533800F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C1B-55A4-4F5B-9D8A-967E6BA9D7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69E9-5700-442C-9B78-571F838006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4ED-F2AB-4D7D-8B9A-4FCF24E471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AE96-847D-4760-BECA-C01AC696B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32D-0511-4D78-9EF1-779DCD115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7F28-6B40-473C-8EFB-6DBDEF716A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98EE-81A4-456F-94CF-B069E95AD3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0181-BA91-4CDE-B078-A79DB2A5CE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4E91-A493-4D21-93C1-5915049F95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F336-D494-4518-880A-700BAC497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0332-70CD-42A5-B2EB-4888512E25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598B-FBA2-49E9-9805-28C30E2FBD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3B47-87E3-4E56-906F-EA0BF0AA4A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38B6-E9EC-47F8-A60C-C6B2CDB53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F66-4593-4182-B7C0-859794B02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41B-2C61-4D0D-BAED-9770E54E3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113F-395C-42FE-84C9-81419A68AD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F226-99BF-450F-AA77-52CB96021C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ED3A-53C9-494C-8375-B658536B21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ED20-E1C5-4490-9DD7-EFAF72B972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AD3B-01D2-4D2E-935C-5C1DB568E5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FF49-148C-423C-B7A9-790C4C4949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88A0-30CD-4EAD-A3C3-3424E1BA01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E1D7-D1C3-49B6-953F-099C75E2A1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35D-7C84-47F7-8253-1A8DEA732B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361F-07DC-41B7-9BF9-B8FFC4E61D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E5D1-804E-4BE4-9065-CD5C2C2687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F7CC-BFEE-48F8-A2A0-597254E7C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DFF2-612D-41D3-BCE1-0408D3E365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B1DA-D001-4944-9048-6A228B7A07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1877-EAEC-43DB-904F-1FC6AA3D6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0D3D-C264-4857-A986-E393F59CE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471-6C87-4EC5-AD98-48E637400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B3A3-54DA-47AC-A99B-BE4B5B9074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43F9-651B-482D-89FC-4BBC793536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E89A-24D1-4600-938A-5E30B7C25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BAF5-C4A6-4C04-A536-6060AF1330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1B9A-66F0-41FD-AD83-D2741FE7DB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3C40-A519-408A-80FC-2104C56D2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8533-A1E8-43AE-9EF1-C61FCE6DDB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C2D5-7AC4-427B-B7B6-14F31B663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45C9-0542-41BC-B469-DC60D056A9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A4B7-09C5-4459-88D8-6DE4151BF0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6121-CC36-4ABB-8C91-827BA18988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8851-F18F-4365-9354-5183FD8B5A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B029-3461-405E-BE49-E1A4208FDF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A1F2-8DA3-4A41-B3BF-F2A48C7E4F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0EC3-0331-4B8D-9716-B05C1A8448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897D-A808-4540-95B1-A2E00C298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FBE5-E5D6-4A08-8628-2F7F0BB8B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DE7F-9734-43FE-BD41-11A68DBD9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0396-A8B1-4DFC-95C7-D9573A47F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AA2D-FFA9-481C-8E9B-C7E35C8560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11A1-AC69-49D5-9398-FE321590BC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C88B-2AD8-4393-B1A4-9294E5EEF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57E1-5A3F-42F0-9A7F-D3E7C9CE7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F54E-2909-422E-8427-65A4BEE3C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CCA7-3A3C-4E24-AE89-F689030BB5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3A7B-13D6-4CF2-9836-7531EA445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9D30-DDBD-4B79-B34E-BA424F0BA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51CD-1157-47A7-B840-A9B06494DF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DFA3-BF9E-48A4-9184-94EF2374AB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611B-4A16-4A16-B04C-F4EE0E70C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1749-47A4-481F-AA34-4035273AD5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3157-93FC-42F9-85E4-6D5D69528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B044-383F-4BCD-BF4A-6882CBBDB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ED0F-0B8D-4D77-84B5-31325989B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8ADF-4364-46B2-A0FE-A365CABC2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47AE-FC99-4A35-A1DB-FE5E88D83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1B42-D75D-486A-9167-4EF94D25D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EEB4-A3EF-42F8-9C27-F7A0083EB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B904-C595-4A34-9E58-73465B04D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45360" y="6481440"/>
            <a:ext cx="18986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39B3-31E3-4AE3-85D6-6E02B46613A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MosbyJems_Clear"/>
          <p:cNvPicPr/>
          <p:nvPr/>
        </p:nvPicPr>
        <p:blipFill>
          <a:blip r:embed="rId2"/>
          <a:stretch/>
        </p:blipFill>
        <p:spPr>
          <a:xfrm>
            <a:off x="168120" y="6242040"/>
            <a:ext cx="1051200" cy="3873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22860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07, 2006, 2001, 1994 by Mosby, Inc., an affiliate of Elsevier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MosbyJems_Clear"/>
          <p:cNvPicPr/>
          <p:nvPr/>
        </p:nvPicPr>
        <p:blipFill>
          <a:blip r:embed="rId3"/>
          <a:stretch/>
        </p:blipFill>
        <p:spPr>
          <a:xfrm>
            <a:off x="168120" y="6242040"/>
            <a:ext cx="10512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MosbyJems_Clear"/>
          <p:cNvPicPr/>
          <p:nvPr/>
        </p:nvPicPr>
        <p:blipFill>
          <a:blip r:embed="rId2"/>
          <a:stretch/>
        </p:blipFill>
        <p:spPr>
          <a:xfrm>
            <a:off x="168120" y="6242040"/>
            <a:ext cx="1051200" cy="387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22860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07, 2006, 2001, 1994 by Mosby, Inc., an affiliate of Elsevier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7" descr="MosbyJems_Clear"/>
          <p:cNvPicPr/>
          <p:nvPr/>
        </p:nvPicPr>
        <p:blipFill>
          <a:blip r:embed="rId3"/>
          <a:stretch/>
        </p:blipFill>
        <p:spPr>
          <a:xfrm>
            <a:off x="168120" y="6242040"/>
            <a:ext cx="1051200" cy="38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45360" y="6481440"/>
            <a:ext cx="18986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E4C-CF30-4FDA-B2F9-5754CF8E9BA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BDEA-F174-4F78-B380-F8A32F6418C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9" descr="A02786-29-01"/>
          <p:cNvPicPr/>
          <p:nvPr/>
        </p:nvPicPr>
        <p:blipFill>
          <a:blip r:embed="rId1"/>
          <a:srcRect l="0" t="0" r="44447" b="0"/>
          <a:stretch/>
        </p:blipFill>
        <p:spPr>
          <a:xfrm>
            <a:off x="4572000" y="1600200"/>
            <a:ext cx="4191120" cy="3772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ronary Arter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y arterial blood to heart mus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coronary artery carries about 85% of blood supply to myo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coronary artery carries remai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te above aortic va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57BF-C427-4767-8E09-E1AA61C9EA4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A02786-29-16"/>
          <p:cNvPicPr/>
          <p:nvPr/>
        </p:nvPicPr>
        <p:blipFill>
          <a:blip r:embed="rId1"/>
          <a:stretch/>
        </p:blipFill>
        <p:spPr>
          <a:xfrm>
            <a:off x="5105520" y="1295280"/>
            <a:ext cx="2931840" cy="4800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direction of the heart’s electric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xial referenc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1247-8F4B-4C77-826E-A741B619830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ltilead Assessment of the Hear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3" name="Picture 8" descr="A02786-29-103"/>
          <p:cNvPicPr/>
          <p:nvPr/>
        </p:nvPicPr>
        <p:blipFill>
          <a:blip r:embed="rId1"/>
          <a:stretch/>
        </p:blipFill>
        <p:spPr>
          <a:xfrm>
            <a:off x="2819520" y="1695600"/>
            <a:ext cx="368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2EF5-51B7-415C-A8A9-9C720C77D25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Ventricular Failure (LVF) and Pulmonary Edem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ventricle fails to function as an effective forward p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back-pressure of blood into pulmonary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6612-D7B0-449C-A168-135AD5D37C8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VF and Pulmonary Edem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heart disease, inclu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ch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v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ve heart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reated LVF leads to pulmonary 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2A71-6E89-45B5-9F04-CB9797DFB65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VF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hension, agitation, con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anosis (if seve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phor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ntitious lung s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V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vital 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5A0E-EF4B-420C-8717-C61EF7BBA9D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lmonary Edema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, IV,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lead E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lycerin (SBP &gt;1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osem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ible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utamine or dopamine for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DA8-26A6-40A0-8B88-6871AC8BF47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 Ventricular Failure (RVF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ventricle fails as effective forward p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-pressure of blood into systemic venous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D76-704A-4F76-9F92-B5E594E9BDF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VF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hypertension (LVF precedes RV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vular heart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ular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VF usually results from LV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8F6F-74DB-48EA-A6A2-D8C133D2BB3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VF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ous cong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orged liver, spleen, or b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nous dist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pheral 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id accumulation in serous ca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A091-44F0-4C7F-94C4-C4731A0BFB7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diogenic Sh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xtreme form of pump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ventricular function is so compromised heart cannot meet metabolic needs of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ve myocardial infar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of lef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use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3A35-6400-4126-9C40-911D751CFEE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diac Tampona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diastolic filling of hea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luid in pericardial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of pericardial fluid encroaches on capacity of atria and ventricles to fill adequ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ricular filling is mechanically limited, and stroke volume is decr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1AA2-3347-4C8A-BE1E-1605D348E2F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9" descr="A02786-29-16"/>
          <p:cNvPicPr/>
          <p:nvPr/>
        </p:nvPicPr>
        <p:blipFill>
          <a:blip r:embed="rId1"/>
          <a:stretch/>
        </p:blipFill>
        <p:spPr>
          <a:xfrm>
            <a:off x="5110200" y="1371600"/>
            <a:ext cx="2884320" cy="4724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I is a lateral (leftward)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es electrical activity from a viewpoint defined as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 circle divided into an upper negative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a lower positive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9CB5-A27A-416E-99C6-D5A22B61B53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diac Tampona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o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 o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pla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ocent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t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SB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us paradox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ffled heart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6F8-5B66-48EE-9A46-6BA6FAB3F97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oracic and Abdominal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ortic Aneurys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34076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eury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ation of a ves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erosclerotic disease (most comm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us disease (primarily syphi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tic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genetic disorders (e.g., Marfan's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8729-BA17-4088-BB75-A459A6070A6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ortic Aneury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16120"/>
            <a:ext cx="381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or back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ring or ri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ack or flank p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tes to thigh, groin, 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47960" y="1700280"/>
            <a:ext cx="41907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toneal irr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ge to defe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satile, tender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l pulses present or ab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068C-0032-48D8-AD07-4B7B2F67DC3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ranches of Aorta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4" name="Picture 11" descr=""/>
          <p:cNvPicPr/>
          <p:nvPr/>
        </p:nvPicPr>
        <p:blipFill>
          <a:blip r:embed="rId1"/>
          <a:stretch/>
        </p:blipFill>
        <p:spPr>
          <a:xfrm>
            <a:off x="1527120" y="1371600"/>
            <a:ext cx="60897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EC0B-22E2-408E-AECA-2BD53770119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thogenesis of Dissecting Aneurys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61920" y="1928520"/>
            <a:ext cx="3810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l and intimal degeneration in aortic 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odynamic forces produce te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cting hematoma propagated by pulse w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11" descr="A02786-29-109"/>
          <p:cNvPicPr/>
          <p:nvPr/>
        </p:nvPicPr>
        <p:blipFill>
          <a:blip r:embed="rId1"/>
          <a:stretch/>
        </p:blipFill>
        <p:spPr>
          <a:xfrm>
            <a:off x="4800600" y="1795320"/>
            <a:ext cx="1998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9B9-456D-4E97-84FA-46C98704BA6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ssecting Aneury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5370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flu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lus if profound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C99A-2043-4B83-BF6F-6DD17AEFE48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Arterial Occl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ckage of arterial flow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mb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episode depend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of oc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teral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E1EE-FF30-429A-AB74-EC3257C5834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Arterial Occl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in extrem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severe and sudden in onset or absent because of paresth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 skin distal to oc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n sensory and moto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ished or absent pulse distal to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it over affected ves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capillary fi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84D-A897-4179-BAD8-D564282E6D3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terial Occlus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ity occlusion is painful and limb threatening if blood flow is not reestablished within 4-8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obilize limb an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mesenteric oc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for sho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 fl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 for pain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5DF4-D8BB-4D3E-91CC-DCF04CE2117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ites o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mbolic Arterial Occl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3" name="Picture 11" descr="A02786-29-110"/>
          <p:cNvPicPr/>
          <p:nvPr/>
        </p:nvPicPr>
        <p:blipFill>
          <a:blip r:embed="rId1"/>
          <a:stretch/>
        </p:blipFill>
        <p:spPr>
          <a:xfrm>
            <a:off x="3048120" y="1533600"/>
            <a:ext cx="3205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8008-9D44-43E9-9FFA-991FE050686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9" descr="A02786-29-16"/>
          <p:cNvPicPr/>
          <p:nvPr/>
        </p:nvPicPr>
        <p:blipFill>
          <a:blip r:embed="rId1"/>
          <a:stretch/>
        </p:blipFill>
        <p:spPr>
          <a:xfrm>
            <a:off x="5192640" y="1641600"/>
            <a:ext cx="2720880" cy="4454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II and III are inferior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the heart's electrical activity from vantage points of +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+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C6A3-9F09-481D-BB1D-44426758961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enous Thrombo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spos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sis or in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im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th control p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i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gulopath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cose v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7EE-829C-471A-AC14-4C6A81BBCEF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Deep Vein Thrombosis (DVT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lusion of deep veins is serious, common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volve any portion of deep venou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mon in low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E9AE-5D60-4E29-9913-2BC45AFC958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DVT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k Facto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01440" y="1716120"/>
            <a:ext cx="40510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y 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28840" y="1523880"/>
            <a:ext cx="38149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thromb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contracep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A85B-FDB8-4CE4-A41E-67152714C1D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DVT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pulmonary embolu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oagu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292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F6C2-4F80-4B3C-B34D-B70C30CEA15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ites o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herosclerotic Occlusive Dise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0" name="Picture 8" descr="A02786-29-111"/>
          <p:cNvPicPr/>
          <p:nvPr/>
        </p:nvPicPr>
        <p:blipFill>
          <a:blip r:embed="rId1"/>
          <a:stretch/>
        </p:blipFill>
        <p:spPr>
          <a:xfrm>
            <a:off x="3200400" y="1447920"/>
            <a:ext cx="2706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C4E9-7581-493E-AE3C-57B333AEADE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ing BP: Consistently &gt;140/90 mm H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categories of hypertension based on level of blood pressure, symptoms, and urgency of need for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35FF-A588-4BC7-9BD4-4A56F9FCDC3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Hyperten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 associated with chronic, uncontrolled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ebral hemorrhage and str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failure (secondary to vascular changes in the kidne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acic and/or abdominal aortic aneury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AC04-6B66-4D24-9430-484DE82BEE2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mergenc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pressure increase leads to significant, irreversible end-organ damage within hours if not t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s most at risk are brain, heart, and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367C-F30D-4A8F-976C-B0B5A424BCB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mergenc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ischemia with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tic dissection with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monary edema with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ve intracranial 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ve encepha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C51-D953-40E4-B6D4-5860164D3CF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mergenci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67992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oxysmal nocturnal dysp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ed men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23920" y="1676160"/>
            <a:ext cx="41245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n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visual ac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FE1D-2A80-413F-AA15-EBB6B17029F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2133720"/>
          <a:ext cx="7696080" cy="2116080"/>
        </p:xfrm>
        <a:graphic>
          <a:graphicData uri="http://schemas.openxmlformats.org/drawingml/2006/table">
            <a:tbl>
              <a:tblPr/>
              <a:tblGrid>
                <a:gridCol w="1190520"/>
                <a:gridCol w="3014640"/>
                <a:gridCol w="34909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L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Positive Electr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Negative Electr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 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ght 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 l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ght 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 l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 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ipolar Lead Plac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b lead pla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C12-6737-4918-BE8D-F2563AF7253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ncephalopath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6201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e hypertension produces hypertensive encephalopathy and cerebral hypoper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integrity of blood-brain bar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 exudation into brain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1D2-66FE-4F02-A9F0-0D663C463AD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ncephalopath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es fr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headache, nausea, vomiting, aphasia, hemiparesis, and transient blin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zures, stupor, coma, and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28A9-C16E-42B5-98EA-C4B086E4083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mergenc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 under medical super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7C6A-1750-4AFF-85CA-EFD30C8C05F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chniques for Manag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diac Emergenc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lif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CPR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-defibril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antable cardioverter-defibrillators (IC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cutaneous cardiac pacing (T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cardiac life support (ACLS)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8A61-9C47-4FBF-A431-3126DD2588D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ugmented 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electrodes as limb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difference in electrical potential between extremity lead sites and a referenc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 electrical potent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center of the heart’s electrical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FDE5-01D1-409E-8218-F76C50FEAC4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9" descr="A02786-29-16"/>
          <p:cNvPicPr/>
          <p:nvPr/>
        </p:nvPicPr>
        <p:blipFill>
          <a:blip r:embed="rId1"/>
          <a:stretch/>
        </p:blipFill>
        <p:spPr>
          <a:xfrm>
            <a:off x="5110200" y="1371600"/>
            <a:ext cx="288432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ugmented 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886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is of each lead is formed by line from electrode site to center of the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6EC-E580-4DB1-A9D3-8DE448B7729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ugmented 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R, aVL, and aVF leads intersect at angles different from those of the standard limb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three other intersecting lines of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standard limb leads, these leads make up a hexaxial refere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C527-24E9-4FE8-908E-7DD49A8AF1C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A02786-29-16"/>
          <p:cNvPicPr/>
          <p:nvPr/>
        </p:nvPicPr>
        <p:blipFill>
          <a:blip r:embed="rId1"/>
          <a:stretch/>
        </p:blipFill>
        <p:spPr>
          <a:xfrm>
            <a:off x="4925880" y="1371600"/>
            <a:ext cx="3024360" cy="4952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 aV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t recording electr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heart from right sh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8F54-66C0-41EF-81B7-3AF1137EF15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1" descr="A02786-29-16"/>
          <p:cNvPicPr/>
          <p:nvPr/>
        </p:nvPicPr>
        <p:blipFill>
          <a:blip r:embed="rId1"/>
          <a:stretch/>
        </p:blipFill>
        <p:spPr>
          <a:xfrm>
            <a:off x="4902120" y="1295280"/>
            <a:ext cx="3071880" cy="50292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 aV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s electrical activity from left shoul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5E45-532F-4D29-817B-87111608D82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A02786-29-16"/>
          <p:cNvPicPr/>
          <p:nvPr/>
        </p:nvPicPr>
        <p:blipFill>
          <a:blip r:embed="rId1"/>
          <a:stretch/>
        </p:blipFill>
        <p:spPr>
          <a:xfrm>
            <a:off x="5192640" y="1641600"/>
            <a:ext cx="2720880" cy="4454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 aVF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911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ior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s electrical activity from left lower extre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ED89-FF30-406B-8479-A53D92F401F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Coronary Arter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03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s into left anterior descending and circumflex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anterior descending (LAD) suppl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erior wall of left ventr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ricular sep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mflex suppl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and posterior portions of left ventr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of right ventr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A02786-29-01"/>
          <p:cNvPicPr/>
          <p:nvPr/>
        </p:nvPicPr>
        <p:blipFill>
          <a:blip r:embed="rId1"/>
          <a:srcRect l="0" t="0" r="44447" b="0"/>
          <a:stretch/>
        </p:blipFill>
        <p:spPr>
          <a:xfrm>
            <a:off x="4648320" y="1676520"/>
            <a:ext cx="41907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485-5671-4620-A4C0-0A5B87C4F25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A02786-29-16"/>
          <p:cNvPicPr/>
          <p:nvPr/>
        </p:nvPicPr>
        <p:blipFill>
          <a:blip r:embed="rId1"/>
          <a:stretch/>
        </p:blipFill>
        <p:spPr>
          <a:xfrm>
            <a:off x="5192640" y="1641600"/>
            <a:ext cx="2720880" cy="4454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II, III, aV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, aV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61C1-27CC-4C30-B173-74BB866CEBF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dified Lead Record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b lead placement altered to mimic precordial leads (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rough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ied chest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el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inguish between supraventricular tachycardia with aberration and ventricular 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e bundle branch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493F-120E-4939-8B89-1181D345BA8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098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electrode in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tercostal space, right of ster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lectrode placed anterio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ow lateral end of left clav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9" descr="A02786-29-17"/>
          <p:cNvPicPr/>
          <p:nvPr/>
        </p:nvPicPr>
        <p:blipFill>
          <a:blip r:embed="rId1"/>
          <a:srcRect l="0" t="0" r="50003" b="0"/>
          <a:stretch/>
        </p:blipFill>
        <p:spPr>
          <a:xfrm>
            <a:off x="4952880" y="1641600"/>
            <a:ext cx="34290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9E7B-DBAA-4B40-B0CF-709FA638A1C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electrode on left midaxillary line at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ercostal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for lead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lectrode placed anteriorly, below left sh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9" descr="A02786-29-17"/>
          <p:cNvPicPr/>
          <p:nvPr/>
        </p:nvPicPr>
        <p:blipFill>
          <a:blip r:embed="rId1"/>
          <a:srcRect l="50541" t="0" r="0" b="0"/>
          <a:stretch/>
        </p:blipFill>
        <p:spPr>
          <a:xfrm>
            <a:off x="4800600" y="171756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0011-88C8-402F-866E-59A8E21290C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CG Monitor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electr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limb leads (right arm, right leg, left arm, left le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ds I, II, and III, and aVF, aVL, and aV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chest l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rough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CBE7-4F79-47B2-AD1C-1BD2AEB8CBA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9" descr="A02786-29-19"/>
          <p:cNvPicPr/>
          <p:nvPr/>
        </p:nvPicPr>
        <p:blipFill>
          <a:blip r:embed="rId1"/>
          <a:stretch/>
        </p:blipFill>
        <p:spPr>
          <a:xfrm>
            <a:off x="4419720" y="1523880"/>
            <a:ext cx="4012920" cy="4165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CG Monitor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62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view left ventricle from position of its positive electr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BC8D-AD8E-4BD0-ABFE-71E6E0B9586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CG Monitor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s ST segment and T-wav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schemia, injury, and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s VT in wide-complex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electrical 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fascicular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presence and location of bundle branch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0F62-FF76-4525-A76A-8CB4C757581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cordial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 precordial leads are projected through anterior chest wall toward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leads are placed on chest in reference to thoracic land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electrical activity in transverse or horizontal p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F665-0979-4ECC-B206-FCE302F8CAA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9" descr="A02786-29-19"/>
          <p:cNvPicPr/>
          <p:nvPr/>
        </p:nvPicPr>
        <p:blipFill>
          <a:blip r:embed="rId1"/>
          <a:stretch/>
        </p:blipFill>
        <p:spPr>
          <a:xfrm>
            <a:off x="4660920" y="1460520"/>
            <a:ext cx="4013280" cy="41655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cordial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eptal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terior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rough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ateral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7449-1677-4D39-B205-78D21517E6E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14" descr="A02786-29-20B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A02786-29-20A"/>
          <p:cNvPicPr/>
          <p:nvPr/>
        </p:nvPicPr>
        <p:blipFill>
          <a:blip r:embed="rId2"/>
          <a:stretch/>
        </p:blipFill>
        <p:spPr>
          <a:xfrm>
            <a:off x="228600" y="2057400"/>
            <a:ext cx="4186080" cy="27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429000" y="4114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146960" y="16765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 the jugular no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109480" y="167652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pate for the angle of Lou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F1EA-79F3-424A-A1F8-0E87561F4C1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11" descr="A02786-29-01"/>
          <p:cNvPicPr/>
          <p:nvPr/>
        </p:nvPicPr>
        <p:blipFill>
          <a:blip r:embed="rId1"/>
          <a:srcRect l="0" t="0" r="44447" b="0"/>
          <a:stretch/>
        </p:blipFill>
        <p:spPr>
          <a:xfrm>
            <a:off x="4419720" y="1676520"/>
            <a:ext cx="4190760" cy="377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ronary Arter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coronary artery and left anterior descending artery su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right atrium and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aspect of lef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stomoses provide collateral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AA5-9282-479A-AAC0-23858E7A06D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13" descr="A02786-29-20D"/>
          <p:cNvPicPr/>
          <p:nvPr/>
        </p:nvPicPr>
        <p:blipFill>
          <a:blip r:embed="rId1"/>
          <a:stretch/>
        </p:blipFill>
        <p:spPr>
          <a:xfrm>
            <a:off x="4724280" y="2462040"/>
            <a:ext cx="4186440" cy="2791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A02786-29-20C"/>
          <p:cNvPicPr/>
          <p:nvPr/>
        </p:nvPicPr>
        <p:blipFill>
          <a:blip r:embed="rId2"/>
          <a:stretch/>
        </p:blipFill>
        <p:spPr>
          <a:xfrm>
            <a:off x="380880" y="2462040"/>
            <a:ext cx="4186440" cy="2791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61880" y="175248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 the angle of Louis to patient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until it articulates with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468400" y="175248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mmediately below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45D8-49D8-4B37-BE7E-09B5AB34EB0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13" descr="A02786-29-20F"/>
          <p:cNvPicPr/>
          <p:nvPr/>
        </p:nvPicPr>
        <p:blipFill>
          <a:blip r:embed="rId1"/>
          <a:stretch/>
        </p:blipFill>
        <p:spPr>
          <a:xfrm>
            <a:off x="4724280" y="2371680"/>
            <a:ext cx="4186440" cy="279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02786-29-20E"/>
          <p:cNvPicPr/>
          <p:nvPr/>
        </p:nvPicPr>
        <p:blipFill>
          <a:blip r:embed="rId2"/>
          <a:stretch/>
        </p:blipFill>
        <p:spPr>
          <a:xfrm>
            <a:off x="380880" y="2371680"/>
            <a:ext cx="4186440" cy="2790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29200" y="1219320"/>
            <a:ext cx="35053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positioned in 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 just right of the ster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" y="1676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, the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s can be f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EEBB-B8D7-4274-927D-EF27B0F97A8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13" descr="A02786-29-20H"/>
          <p:cNvPicPr/>
          <p:nvPr/>
        </p:nvPicPr>
        <p:blipFill>
          <a:blip r:embed="rId1"/>
          <a:stretch/>
        </p:blipFill>
        <p:spPr>
          <a:xfrm>
            <a:off x="4724280" y="2362320"/>
            <a:ext cx="4186440" cy="279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02786-29-20G"/>
          <p:cNvPicPr/>
          <p:nvPr/>
        </p:nvPicPr>
        <p:blipFill>
          <a:blip r:embed="rId2"/>
          <a:stretch/>
        </p:blipFill>
        <p:spPr>
          <a:xfrm>
            <a:off x="380880" y="2362320"/>
            <a:ext cx="4186440" cy="27907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952880" y="1676520"/>
            <a:ext cx="365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ctrode in 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 just left of ster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83760" y="1676520"/>
            <a:ext cx="415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ind the correspo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 space on the left side of the ster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D2B3-C12D-4FEE-A74D-3CAB6BD19B9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14" descr="A02786-29-20J"/>
          <p:cNvPicPr/>
          <p:nvPr/>
        </p:nvPicPr>
        <p:blipFill>
          <a:blip r:embed="rId1"/>
          <a:stretch/>
        </p:blipFill>
        <p:spPr>
          <a:xfrm>
            <a:off x="4800600" y="2309760"/>
            <a:ext cx="4186080" cy="279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A02786-29-20I"/>
          <p:cNvPicPr/>
          <p:nvPr/>
        </p:nvPicPr>
        <p:blipFill>
          <a:blip r:embed="rId2"/>
          <a:stretch/>
        </p:blipFill>
        <p:spPr>
          <a:xfrm>
            <a:off x="457200" y="2309760"/>
            <a:ext cx="4186080" cy="2790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50080" y="1600200"/>
            <a:ext cx="3917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osition, locate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 to the midclavicular 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800600" y="1600200"/>
            <a:ext cx="4114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ctrode in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 in midclavicular 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3135-2BC7-4276-AA49-F7684AFAF66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13" descr="A02786-29-20L"/>
          <p:cNvPicPr/>
          <p:nvPr/>
        </p:nvPicPr>
        <p:blipFill>
          <a:blip r:embed="rId1"/>
          <a:stretch/>
        </p:blipFill>
        <p:spPr>
          <a:xfrm>
            <a:off x="4724280" y="2343240"/>
            <a:ext cx="4186440" cy="279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A02786-29-20K"/>
          <p:cNvPicPr/>
          <p:nvPr/>
        </p:nvPicPr>
        <p:blipFill>
          <a:blip r:embed="rId2"/>
          <a:stretch/>
        </p:blipFill>
        <p:spPr>
          <a:xfrm>
            <a:off x="457200" y="2343240"/>
            <a:ext cx="4186080" cy="2790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029200" y="1600200"/>
            <a:ext cx="3657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positioned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erior axillary line, level with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57200" y="19051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lfway betwee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amp;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2A4D-84E1-4629-908C-996272507EB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9" descr="A02786-29-20M"/>
          <p:cNvPicPr/>
          <p:nvPr/>
        </p:nvPicPr>
        <p:blipFill>
          <a:blip r:embed="rId1"/>
          <a:stretch/>
        </p:blipFill>
        <p:spPr>
          <a:xfrm>
            <a:off x="2514600" y="2098800"/>
            <a:ext cx="4186080" cy="2790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226240" y="1600200"/>
            <a:ext cx="481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midaxillary line, level with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CF5C-6E98-46D3-810E-B82D52EBE2B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4130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phase of repolarization of ventr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s QRS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s with onset of T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0" descr="A02786-29-25AC"/>
          <p:cNvPicPr/>
          <p:nvPr/>
        </p:nvPicPr>
        <p:blipFill>
          <a:blip r:embed="rId1"/>
          <a:srcRect l="0" t="0" r="58626" b="0"/>
          <a:stretch/>
        </p:blipFill>
        <p:spPr>
          <a:xfrm>
            <a:off x="5105520" y="1717560"/>
            <a:ext cx="27432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A08-1246-47D3-911E-FD800E1D3F9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9" descr="A02786-29-25D"/>
          <p:cNvPicPr/>
          <p:nvPr/>
        </p:nvPicPr>
        <p:blipFill>
          <a:blip r:embed="rId1"/>
          <a:stretch/>
        </p:blipFill>
        <p:spPr>
          <a:xfrm>
            <a:off x="5029200" y="1717560"/>
            <a:ext cx="3022560" cy="20192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 segment “takes off” from the QRS complex at J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F06-FF6B-4C16-A5A2-2BEA1F5A744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A02786-29-25AC"/>
          <p:cNvPicPr/>
          <p:nvPr/>
        </p:nvPicPr>
        <p:blipFill>
          <a:blip r:embed="rId1"/>
          <a:stretch/>
        </p:blipFill>
        <p:spPr>
          <a:xfrm>
            <a:off x="1335240" y="3922560"/>
            <a:ext cx="7234200" cy="2449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 of ST segment is commonly judged using baseline of PR or TP interval for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segment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segment 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13A-4EED-4BA0-B699-F71CD12518D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ST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digitalis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isease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0116-42DB-43B6-9C7C-278E5C39067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A02786-29-01"/>
          <p:cNvPicPr/>
          <p:nvPr/>
        </p:nvPicPr>
        <p:blipFill>
          <a:blip r:embed="rId1"/>
          <a:srcRect l="55673" t="0" r="0" b="0"/>
          <a:stretch/>
        </p:blipFill>
        <p:spPr>
          <a:xfrm>
            <a:off x="5029200" y="1717560"/>
            <a:ext cx="3276720" cy="3695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ronary Capillar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448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nutrients and metabolic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ge to form coronary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onary sinus empties into right at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vein draining myo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F95-5395-4455-B33B-2D4486D95E3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 Wav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7246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larization of ventricula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part of ventricular syst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or below isoelectric l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rounded and slightly asymmetr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9" descr="A02786-29-26"/>
          <p:cNvPicPr/>
          <p:nvPr/>
        </p:nvPicPr>
        <p:blipFill>
          <a:blip r:embed="rId1"/>
          <a:srcRect l="0" t="0" r="53339" b="0"/>
          <a:stretch/>
        </p:blipFill>
        <p:spPr>
          <a:xfrm>
            <a:off x="5257800" y="1600200"/>
            <a:ext cx="2666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5BEF-050B-4368-B31F-956FC0AA197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 Wav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, symmetrically inverted T waves may suggest cardiac isch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wave elevated more than half the height of the QRS complex may indic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of my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kal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4B6E-4E3D-4656-9B94-E8269AC856A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te “Rabbit Ear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8" name="Picture 8" descr="A02786-29-72"/>
          <p:cNvPicPr/>
          <p:nvPr/>
        </p:nvPicPr>
        <p:blipFill>
          <a:blip r:embed="rId1"/>
          <a:stretch/>
        </p:blipFill>
        <p:spPr>
          <a:xfrm>
            <a:off x="1905120" y="2022480"/>
            <a:ext cx="52578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8A0-B7EE-4213-BEA1-AA32DADD9B3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Strategies for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de-Complex Tachycardia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right axis deviation (negative QRS complex in lead I; positive QRS complex in leads II and III) and a negative QRS complex in M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ndicates 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D8D2-957E-43A3-976D-3E40FDE1A64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 Axis Deviation and a Downward M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Indicates V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4" name="Picture 9" descr="A02786-29-74"/>
          <p:cNvPicPr/>
          <p:nvPr/>
        </p:nvPicPr>
        <p:blipFill>
          <a:blip r:embed="rId1"/>
          <a:stretch/>
        </p:blipFill>
        <p:spPr>
          <a:xfrm>
            <a:off x="1981080" y="2174760"/>
            <a:ext cx="48006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DDA9-F439-4932-BE3D-53D9128C112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Strategies for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de-Complex Tachycardia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T i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recordial leads (V leads) are either positive or nega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ordial concord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875-DD95-4224-9E89-C5C1D85C800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8" descr="A02786-29-75"/>
          <p:cNvPicPr/>
          <p:nvPr/>
        </p:nvPicPr>
        <p:blipFill>
          <a:blip r:embed="rId1"/>
          <a:stretch/>
        </p:blipFill>
        <p:spPr>
          <a:xfrm>
            <a:off x="2286000" y="1717560"/>
            <a:ext cx="4610160" cy="3314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T-Concordanc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EA9D-6EA6-4C76-8B04-CF3D01D3DE9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Strategies for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de-Complex Tachycardia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38036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 interval &gt;0.10 sec in any V lead indicates 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ventricular activatio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943F-7DFB-4613-901B-D6BB53BD63B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entricular Conduction Disturban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 branch blocks or hemi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lectrical transmission below bundle of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4712-D523-4A0D-8E33-A8827707EFE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Blocks and Hemibloc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causes of bundle bran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chemic heart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myocardial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kal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omy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rtic ste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2596-0189-4082-AB80-0B4E35D51EB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G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urface electrodes of opposite po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electrodes of opposite pola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polar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positive electrode and reference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29F6-A41A-4C41-884B-A1BF6404193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Anatom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 of His divi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and right bundl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bundle branch continues toward apex and spreads through righ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bundle branch subdivides into anterior and posterior fascicles and spreads through lef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mpulse conduction through Purkinje fibers stimulates ventricular con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E89D-8141-4348-9A8C-321BC278ABB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9" descr="A02786-29-90"/>
          <p:cNvPicPr/>
          <p:nvPr/>
        </p:nvPicPr>
        <p:blipFill>
          <a:blip r:embed="rId1"/>
          <a:stretch/>
        </p:blipFill>
        <p:spPr>
          <a:xfrm>
            <a:off x="685800" y="1717560"/>
            <a:ext cx="7772400" cy="38023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Anatom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D7C8-DF1C-4462-95D6-864007110C5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Anatom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con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side of septum is stimulated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impulse traverses septum to stimulate other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and right ventricles are then simultaneously stim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EAE-9917-4822-88A4-EB335736844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8" descr="A02786-29-91"/>
          <p:cNvPicPr/>
          <p:nvPr/>
        </p:nvPicPr>
        <p:blipFill>
          <a:blip r:embed="rId1"/>
          <a:stretch/>
        </p:blipFill>
        <p:spPr>
          <a:xfrm>
            <a:off x="2286000" y="1793880"/>
            <a:ext cx="4622760" cy="30099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rmal Ventricular Activ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ACD6-1286-4C0B-B70B-6EDFD3AB632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Block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ventricle depolarizes and contracts before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ricular activation is not simultaneous, therefore QRS complex wid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urred or notched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bbit ear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RS complex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2 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80B8-0816-483B-8FFB-A7F6A62F35E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eria for bundle bran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comple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12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complexes produced by supraventricular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5A49-D262-4DEB-B4F8-274EA507EE8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 differentiation of right and left bundle branch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con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s predominantly 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complex is 0.08-0.10 s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5FC6-0290-4D47-B6FF-C2F49BA2F58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 Bundle Branch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bundle branch performs norm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s left side of heart befor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negative deflection (S wa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R-prime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(or in this case, RSR) durati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12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F90B-A618-43DF-B0EB-0A0421D87B9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8" descr="A02786-29-92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1622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 Bundle Branch Block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987F-A375-479E-9EBF-216998E1679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Bundle Branch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ers that fire interventricular septum are block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s normal septal ac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it in opposit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Q wave in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wave in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, wide S wave (QS patter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durati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12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D687-CDA9-4237-9FCC-3C9D85409FD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polar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b l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, II,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polar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mented limb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R, aVL, and aV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ordi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1 through V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lead assesses electrical activity from a different 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46EE-C2A0-4DE1-B2FD-4AA9B2E32DC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Bundle Branch Block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2" name="Picture 8" descr="A02786-29-93"/>
          <p:cNvPicPr/>
          <p:nvPr/>
        </p:nvPicPr>
        <p:blipFill>
          <a:blip r:embed="rId1"/>
          <a:stretch/>
        </p:blipFill>
        <p:spPr>
          <a:xfrm>
            <a:off x="2590920" y="1717560"/>
            <a:ext cx="38988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988F-E910-4E8F-8986-07F81B57235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Picture 9" descr="A02786-29-94"/>
          <p:cNvPicPr/>
          <p:nvPr/>
        </p:nvPicPr>
        <p:blipFill>
          <a:blip r:embed="rId1"/>
          <a:stretch/>
        </p:blipFill>
        <p:spPr>
          <a:xfrm>
            <a:off x="4648320" y="1717560"/>
            <a:ext cx="3543120" cy="35560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vs. Right BBB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829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J 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line back into QRS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in triangle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direction triangle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D53C-2869-4AF0-8E3E-005B64D89A3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terior Hemi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mon than posterior hemi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fascicle of left bundle branch is a longer and thinner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supply primarily from left anterior descending (LAD) coronary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hemiblock characterized by left axis deviation in patient with supraventricular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8EFF-D1F4-4AE0-81F2-B5314E21811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terior Hemi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ECG findings in anterior hemibloc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QRS complex (&lt;0.12 sec) or a right bundle branch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Q wave followed by tall R wave in lead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R wave followed by deep S wave in lead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isk to develop complete heart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7E4F-F111-4F81-BB21-005C0389972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8" descr="A02786-29-95"/>
          <p:cNvPicPr/>
          <p:nvPr/>
        </p:nvPicPr>
        <p:blipFill>
          <a:blip r:embed="rId1"/>
          <a:stretch/>
        </p:blipFill>
        <p:spPr>
          <a:xfrm>
            <a:off x="1371600" y="1793880"/>
            <a:ext cx="6311880" cy="38354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terior Hemiblock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wing 1 Block of 3 Fascicl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1F22-7DB4-4FDB-B856-68206B7B660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sterior Hemi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axis deviation with normal QRS complex or right bundle bran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ECG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R wave followed by deep S wave in lead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Q wave followed by tall R wave in lead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32F-BBBF-4A65-8C3D-53601EF0C80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8" descr="A02786-29-96"/>
          <p:cNvPicPr/>
          <p:nvPr/>
        </p:nvPicPr>
        <p:blipFill>
          <a:blip r:embed="rId1"/>
          <a:stretch/>
        </p:blipFill>
        <p:spPr>
          <a:xfrm>
            <a:off x="1371600" y="1793880"/>
            <a:ext cx="6324480" cy="40892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sterior Hemiblock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wing 2 of 3 Fascicles Blocke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7C7E-5EE1-4A45-B1CF-496A7E1DABB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ifascicular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of 3 pathways for ventricular conduction bl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bundle branch block with anterior or posterior hemi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bundle branch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s myocardial contractility and cardiac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velop complete heart block sudden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C2C-67B2-43BE-9D52-79E96CBC7BE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ltilead Determination of Axis and Hemibloc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1800" y="1641240"/>
            <a:ext cx="73404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axis can be useful in determining the presence of hemi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evaluated by looking at the QRS complexes in leads I, II, and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A22A-46AB-428F-960A-1ADBD3B34CE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ltilead Determination of Axis and Hemibloc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is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if QRS deflection is positive in bipolar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ological left (normal in some patients) when QRS deflection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in leads I and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(inverted) in lead I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ological left when QRS deflection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in lead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in leads II and III (indicating an anterior hemi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05C0-9599-4317-A709-842701A9573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2057400"/>
          <a:ext cx="7772400" cy="1768320"/>
        </p:xfrm>
        <a:graphic>
          <a:graphicData uri="http://schemas.openxmlformats.org/drawingml/2006/table">
            <a:tbl>
              <a:tblPr/>
              <a:tblGrid>
                <a:gridCol w="3011400"/>
                <a:gridCol w="2170080"/>
                <a:gridCol w="259092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II, II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b le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pol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R, aVL, aV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b le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pol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1-V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st le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pol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 Comparis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38EA-6DEA-4994-AE6A-3EAAAB51915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ltilead Determination of Axis and Hemibloc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01800" y="1641240"/>
            <a:ext cx="73404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axis when QRS deflection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in lead I, negative or positive in lead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in lead III (pathological in any adu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ve of posterior hemi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right (“No man’s land”) when QRS deflection is negative in all three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ythm is ventricular in ori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1574-F8FB-4DE9-A9D9-B7FFD169412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Coronary Syndrom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myocardial infarction (A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table angina (U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myocardial 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 major adverse cardiac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acute complications of A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3B95-707D-4105-BCDE-D969C3D970B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herosclero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narrowing of lumen of medium and large arte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rta and its branches, cerebral arteries,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thick, hard, atherosclerotic plaques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herom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heromat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found in areas of turbulent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439C-3153-470E-B847-473B9D00BDA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herosclerosi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k Facto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r in men than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holesterol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0474-4DA3-4AB2-8335-037D506188C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herosclerosi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ffe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rupts intimal surface, causing loss of vessel elasticity and increase in thromb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eroma reduces diameter of vessel 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s blood supply to t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B944-741B-4D60-8BB1-A935DC962F0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gina Pector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 of myocardial isch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king” pain in the c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balance between myocardial oxygen supply and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mulation of lactic acid and carbon dioxide in ischemic tissues of myocar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tes irritate nerve endings and produc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4782-AA27-488C-84FD-2EF2B74D405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gina Pector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erosclerotic disease of the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occlusion due to coronary artery spasm with or without atherosclero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zmetal's angi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8A44-B927-4F3A-A799-36C54B9B50E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gina Pector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described as pressure, squeezing, heaviness, or tightness in c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 feel pain only in ch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describe as radiating to shoulders, arms, neck, and jaw and through t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signs and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or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o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6ABE-7035-4C8E-8A8E-477D5EF1DAF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ble Angin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caused by physical exertion or emotional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lasts 1-5 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last as long as 15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ed by rest, nitroglycerin, or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” are usually similar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relieved by same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134-F6FC-420D-B4C8-81B2B583B96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stable Angin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infarction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inal pattern that has changed in its ease of onset, frequency, intensity, duration, or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“new onset” anginal ches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occur during exercise or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las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promptly relieved than stable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4D32-3A99-4D2F-BE41-35B28452A6C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600200"/>
          <a:ext cx="7696080" cy="3535200"/>
        </p:xfrm>
        <a:graphic>
          <a:graphicData uri="http://schemas.openxmlformats.org/drawingml/2006/table">
            <a:tbl>
              <a:tblPr/>
              <a:tblGrid>
                <a:gridCol w="3200400"/>
                <a:gridCol w="449568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Cardiac Surface Vie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, III, aV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erior w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1, V2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3, V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erior w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5, V6, I, aV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ral w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s and Cardiac Surfa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93BE-BB93-4028-A92F-F99413A1747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stable Angina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nagement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patient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aspirin (per protoc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thera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macological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lyce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p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E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as soon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7379-FBA1-4DBE-A5D3-77D9AB1B417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14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den and total occlusion or near-occlusion of blood flowing through affected coronary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chemia, injury, and necrosis of myocardium distal to oc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ssociated with atherosclerotic heart disease (AS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pitating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620-C553-4168-8197-E8D3B95F3C1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4300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ypes and Locations of Infar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rction distal to occluded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of infarct determin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needs of tissue supplied by occluded ves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teral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until flow is re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2E2E-E2EB-430F-B635-A1188698D47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ypes and Locations of Infar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ing oxygen supp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ing metabolic nee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collateral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establishing perfusion to ischemic myocardium quic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D5E-81E2-47C2-825E-5BCEB5F4896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ypes and Locations of Infar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4185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MIs involve ventricle or interventricular septum, which is supplied by either of two major coronary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atients sustain damage to righ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ECCF-D7F5-4DBC-AFDB-A9596FC7887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ypes and Locations of Infar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, lateral, or septal wall infar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left coronary artery oc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ior wall infar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right coronary artery oc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251F-8945-4F22-947F-1BA709BD893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schemic syndro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rupture of an unstable plaque in an epicardial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ang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T-elevation myocardial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-elevation myocardial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8531-40E1-4DE4-8F39-F3BA654D09D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table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mbus has not completely obstructed coronary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ittent ischem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lead to complete occlusion and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ST-elevation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-segment 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-wave abnorma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0FF6-0CC2-4A8F-920D-951FDC42954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2670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-elevation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-wave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ical Q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5 mm in dep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0.04 sec in duration i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contiguous l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1" descr="A02786-29-100"/>
          <p:cNvPicPr/>
          <p:nvPr/>
        </p:nvPicPr>
        <p:blipFill>
          <a:blip r:embed="rId1"/>
          <a:stretch/>
        </p:blipFill>
        <p:spPr>
          <a:xfrm>
            <a:off x="4952880" y="1600200"/>
            <a:ext cx="3568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7493-706D-42B9-99D8-30C2B294154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ath of Myocardiu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blood flow to myocardium stops, cells switch to anaerobic meta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s ischemic pain (ang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begin to swell and depolar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collateral flow and reperfusion are inadequate, much of muscle dies distal to occlu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E40D-64AF-4E08-BBFD-77FAFE75251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ndard 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difference in electrical potential between left arm, right arm, and left leg electr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 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A02786-29-15"/>
          <p:cNvPicPr/>
          <p:nvPr/>
        </p:nvPicPr>
        <p:blipFill>
          <a:blip r:embed="rId1"/>
          <a:stretch/>
        </p:blipFill>
        <p:spPr>
          <a:xfrm>
            <a:off x="4800600" y="1717560"/>
            <a:ext cx="3340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FAFF-E0C7-417F-AF32-8D19E54C6FE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8" descr="A02786-29-101"/>
          <p:cNvPicPr/>
          <p:nvPr/>
        </p:nvPicPr>
        <p:blipFill>
          <a:blip r:embed="rId1"/>
          <a:stretch/>
        </p:blipFill>
        <p:spPr>
          <a:xfrm>
            <a:off x="2666880" y="1219320"/>
            <a:ext cx="3586320" cy="50292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ea of 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346-154B-4503-B933-042A8EA39A5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ath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hal dysrhythm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tandst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mp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ogenic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tissue rup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ricle, septum, or papill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63CC-8F0F-4040-869B-1A12E6823D0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555560"/>
            <a:ext cx="7772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is similar to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adiate to arms, neck, jaw, or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impending d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phor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a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p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9CAD-00AC-40BA-82DD-2F74ED3EA91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pain often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tered by nitroglycerin or medications, rest, changes in body position, or breathing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of pain at rest in &gt;50% of MI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ave experienced warning anginal pain (preinfarction angina) hours or days 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7233-D67E-445C-B759-9C44343FAAA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G Findin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muscle unable to contract eff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s in depolarized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flow between pathologically depolarized and normally repolarized areas can produ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ST segment ele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chemic ST segment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 or non-diagnostic ECG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6225-5C6E-43C5-BA1C-CA1B6C20200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G Findin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-Segment Elevation MI (STE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segment elevation &gt;1 mm in 2 adjacent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B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Risk UA/non-ST-Elevation MI (NSTE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segment depression &gt;0.5 mm lasting 2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-wave inversion with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or nondiagnostic ECG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clusive chan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B45D-A048-44F1-B691-4DC3C2902A8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 ECG Impost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bundle bran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ventricular rhy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ventricular hyper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card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ricular aneury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repol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F08B-12A9-43A5-B727-A50354E549F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pi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lyce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lead E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rinolytic scre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to appropriate fac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5244-43C5-4718-8115-2D782A768B3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Picture 9" descr="A02786-29-103"/>
          <p:cNvPicPr/>
          <p:nvPr/>
        </p:nvPicPr>
        <p:blipFill>
          <a:blip r:embed="rId1"/>
          <a:stretch/>
        </p:blipFill>
        <p:spPr>
          <a:xfrm>
            <a:off x="2819520" y="1717560"/>
            <a:ext cx="3431880" cy="41148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 Elevation Likely with Acute Injury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2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3C53-1C13-4A80-88D8-4DCEDEEFE2B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Group 2"/>
          <p:cNvGrpSpPr/>
          <p:nvPr/>
        </p:nvGrpSpPr>
        <p:grpSpPr>
          <a:xfrm>
            <a:off x="1066680" y="1600200"/>
            <a:ext cx="7239240" cy="4187880"/>
            <a:chOff x="1066680" y="1600200"/>
            <a:chExt cx="7239240" cy="4187880"/>
          </a:xfrm>
        </p:grpSpPr>
        <p:sp>
          <p:nvSpPr>
            <p:cNvPr id="431" name="Rectangle 3"/>
            <p:cNvSpPr/>
            <p:nvPr/>
          </p:nvSpPr>
          <p:spPr>
            <a:xfrm>
              <a:off x="5943600" y="5199120"/>
              <a:ext cx="2362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352680" y="5199120"/>
              <a:ext cx="2590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ght ventri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1066680" y="5199120"/>
              <a:ext cx="22860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4R, V5R, V6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5943600" y="4743360"/>
              <a:ext cx="2362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3352680" y="4743360"/>
              <a:ext cx="25909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ateral w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>
              <a:off x="1066680" y="4743360"/>
              <a:ext cx="2286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, aVL, V5, V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>
              <a:off x="5943600" y="3849840"/>
              <a:ext cx="236232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>
              <a:off x="3352680" y="3849840"/>
              <a:ext cx="259092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terior w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most leth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Rectangle 11"/>
            <p:cNvSpPr/>
            <p:nvPr/>
          </p:nvSpPr>
          <p:spPr>
            <a:xfrm>
              <a:off x="1066680" y="3849840"/>
              <a:ext cx="228600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3, V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Rectangle 12"/>
            <p:cNvSpPr/>
            <p:nvPr/>
          </p:nvSpPr>
          <p:spPr>
            <a:xfrm>
              <a:off x="5943600" y="3314880"/>
              <a:ext cx="23623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Rectangle 13"/>
            <p:cNvSpPr/>
            <p:nvPr/>
          </p:nvSpPr>
          <p:spPr>
            <a:xfrm>
              <a:off x="3352680" y="3314880"/>
              <a:ext cx="25909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tal w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Rectangle 14"/>
            <p:cNvSpPr/>
            <p:nvPr/>
          </p:nvSpPr>
          <p:spPr>
            <a:xfrm>
              <a:off x="1066680" y="3314880"/>
              <a:ext cx="22860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1, V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Rectangle 15"/>
            <p:cNvSpPr/>
            <p:nvPr/>
          </p:nvSpPr>
          <p:spPr>
            <a:xfrm>
              <a:off x="5943600" y="2421000"/>
              <a:ext cx="236232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3352680" y="2421000"/>
              <a:ext cx="259092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ferior w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most commo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Rectangle 17"/>
            <p:cNvSpPr/>
            <p:nvPr/>
          </p:nvSpPr>
          <p:spPr>
            <a:xfrm>
              <a:off x="1066680" y="2421000"/>
              <a:ext cx="228600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, III, aV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Rectangle 18"/>
            <p:cNvSpPr/>
            <p:nvPr/>
          </p:nvSpPr>
          <p:spPr>
            <a:xfrm>
              <a:off x="5943600" y="1600200"/>
              <a:ext cx="2362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oronary Artery Involv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Rectangle 19"/>
            <p:cNvSpPr/>
            <p:nvPr/>
          </p:nvSpPr>
          <p:spPr>
            <a:xfrm>
              <a:off x="3352680" y="1600200"/>
              <a:ext cx="2590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Location of Infar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Rectangle 20"/>
            <p:cNvSpPr/>
            <p:nvPr/>
          </p:nvSpPr>
          <p:spPr>
            <a:xfrm>
              <a:off x="1066680" y="1600200"/>
              <a:ext cx="2286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Le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21"/>
            <p:cNvSpPr/>
            <p:nvPr/>
          </p:nvSpPr>
          <p:spPr>
            <a:xfrm>
              <a:off x="1066680" y="1600200"/>
              <a:ext cx="72392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22"/>
            <p:cNvSpPr/>
            <p:nvPr/>
          </p:nvSpPr>
          <p:spPr>
            <a:xfrm>
              <a:off x="1066680" y="242100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23"/>
            <p:cNvSpPr/>
            <p:nvPr/>
          </p:nvSpPr>
          <p:spPr>
            <a:xfrm>
              <a:off x="1066680" y="331488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24"/>
            <p:cNvSpPr/>
            <p:nvPr/>
          </p:nvSpPr>
          <p:spPr>
            <a:xfrm>
              <a:off x="1066680" y="384984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1066680" y="474336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6"/>
            <p:cNvSpPr/>
            <p:nvPr/>
          </p:nvSpPr>
          <p:spPr>
            <a:xfrm>
              <a:off x="1066680" y="5788080"/>
              <a:ext cx="72392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66680" y="1600200"/>
              <a:ext cx="0" cy="4187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3352680" y="1600200"/>
              <a:ext cx="0" cy="418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>
              <a:off x="5943600" y="1600200"/>
              <a:ext cx="0" cy="418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8305920" y="1600200"/>
              <a:ext cx="0" cy="4187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31"/>
            <p:cNvSpPr/>
            <p:nvPr/>
          </p:nvSpPr>
          <p:spPr>
            <a:xfrm>
              <a:off x="1066680" y="519912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-Elevation and Infarct Lo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5:17:59Z</dcterms:created>
  <dc:creator>Linda Honeycutt</dc:creator>
  <dc:description/>
  <dc:language>en-US</dc:language>
  <cp:lastModifiedBy>salam</cp:lastModifiedBy>
  <dcterms:modified xsi:type="dcterms:W3CDTF">2014-05-07T07:08:42Z</dcterms:modified>
  <cp:revision>128</cp:revision>
  <dc:subject/>
  <dc:title>Chapter 29 Cardiology</dc:title>
</cp:coreProperties>
</file>