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A5A6-911D-4AF8-8345-25D687F1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F576-1C7E-4DB9-9BFB-00BEF4BC5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CB6-0BFC-4C49-8D2D-FE45074D2F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9040-E5E1-45DC-BEC8-E5574BFAA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7A6-AC1B-46E9-B49A-7E563157F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4B98-CBAF-4B7F-913D-07B873D58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116-743F-4454-9646-C4BC46723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DCD1-12F1-4187-B3D3-2A0BCF768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95FC-1C47-434D-A362-E57A1673A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691-3474-46C6-B3A0-16020E035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9D9-700F-4AA7-9A24-A93AC7905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E06-A1EE-4992-92E0-F82B6BBAD2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9DA-205C-4D47-B417-94A4968C9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632A-6D5A-4B43-82B2-ECDC675A0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A61-0E8F-4949-B7A8-8DA503988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046E-0540-404A-9F2C-8E21B2F9D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6CEC-BB80-4B54-8821-E2D00F936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38B8-2A10-463E-A8B2-FB67AEF942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043-AC5E-43EB-B35E-85CAEB533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55CD-82A0-4F33-BF08-58D417902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CDE-AC4B-44B7-B148-B04DFC199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B5A-D3BC-4993-85AC-68A3C3BCD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D5D3-F8BD-41FD-BDEE-8AA5671D8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D6A-2BC6-4908-893F-FEB3F8A35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A904-C032-4751-BFCF-676931584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FDB3-A811-4C78-BDE4-030DDD8B4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329F-EF89-4389-996A-F0B5F321AD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3A5-758E-44CE-B286-0730FA8A65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7097-F6B2-4892-882E-C3030998F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812-35A1-4237-8A6C-680C7AA3C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FDC-7796-41B5-9ABD-051692ACB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3F1-598E-4FB5-B5EC-C40996DC9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C5EA-A045-4B13-BD87-ADEE94EF7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05B-07FF-4B1C-8659-5BBCA9447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9D39-AA73-452C-A7F9-C5513CB9F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EEA5-6891-4622-8630-B7E1C1A508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FE2-E447-408F-BBF9-402873987D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1EC6-3F2E-45FA-BAC5-F2FED2C970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7F8-03EF-4E2D-BEA2-BB8C84B63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EED-0632-4936-9892-F0FED077F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BE7-2543-499A-8E5C-0AAE2D705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C4E-1273-427A-A26C-06F969610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15A-6B00-4151-97E5-0D1907785A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5A56-9E9E-46C6-A5F0-585ACCB71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C16-53F3-4BA5-980F-2BF6428691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116-24BA-4C6C-BA66-23876D89C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0175-32A3-4D61-9056-B6C01F690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263F-F33C-47DC-AF45-478004CB3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0042-EE2B-4662-A94F-BA84834193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C733-6621-4ACF-A0CE-C7C80410E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96E-B5E9-4EE9-B1A4-BF77B07795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4C5-6B19-4F66-98D1-6B3C5888B7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208-89C6-415A-A0FF-E50C1E33B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3E62-1508-4A3B-BAB6-D41B5D5FC5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147-E41C-49F0-BD71-DA40E0361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E59-CE3C-4D43-8ED5-9BC40A130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D3E-0D12-43B3-A758-921B394AB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101-7734-43CB-9E7C-7C845ED4AC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A6C3-2B3A-48D7-8125-E7CF287922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5BE4-AB5C-4A15-A128-9B49EF18B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4194-36A2-4E23-B4EC-A8631E7BC4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413-D9A3-4B23-9EA2-1F9AF3DA2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041C-285E-478A-84C0-2E8ADC4A2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4AF1-70D5-461D-851B-193D65DFD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10B-3AEC-4CDA-9B80-4C6F10851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D29E-54C8-46B5-B99B-75BF09D5EA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D46-9314-489D-B46D-0381278C8A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80B6-C082-49AD-8F0E-1A83AEC1E8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4A8-D96F-4B22-9DDA-F52BD11A7E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7CB0-B7A9-44AA-814B-BB03433A9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D8E2-9D6E-4D8E-B5EF-1FD675929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C4CC-6952-443F-BE83-1365FDDC2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D035-3B1E-4E17-93CF-AEFA4DF6F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378BB-335A-4A10-8E9D-0901113DF2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CD57-2046-4620-8762-8983BA8ED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5F93-A879-4A02-A31E-C928F2F6E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AE3C-FBC0-4334-8AA6-10CEBD09B5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BC4C-ADE5-4030-83B0-FE8A9A3F5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AD47-5B68-45D1-BC4F-00540D86E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5F96-E539-4CB0-B898-3A02D9438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1652-D845-4FD0-9FBC-EF6519230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8CFC-E866-4822-AB7E-40DECBEC6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9BDF-E7E0-492C-BF6B-83337E39B7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D9B7-BCA1-40FB-BE35-5AB5FDA15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82B8-965F-4F79-BB06-A2B5C8B475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E6DE-0E90-41F5-924F-8E3954D46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D612-A5DC-4BC8-9E3F-545346D1C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8078-1705-4F34-99F1-12AD22103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33A8-3F5E-4358-8BCF-D420CA220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6577-C45C-4E07-83EB-18A042185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6900-831C-41EA-92EE-4CD7BE9D9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7434-7DA8-4B75-98A9-C2A5FFBCA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DD26-A09F-4303-8456-998D41EE4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45360" y="6481440"/>
            <a:ext cx="18986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7A1-921D-4128-AACC-4E0FEB462B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MosbyJems_Clear"/>
          <p:cNvPicPr/>
          <p:nvPr/>
        </p:nvPicPr>
        <p:blipFill>
          <a:blip r:embed="rId2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22860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7, 2006, 2001, 1994 by Mosby, Inc., an affiliate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MosbyJems_Clear"/>
          <p:cNvPicPr/>
          <p:nvPr/>
        </p:nvPicPr>
        <p:blipFill>
          <a:blip r:embed="rId3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MosbyJems_Clear"/>
          <p:cNvPicPr/>
          <p:nvPr/>
        </p:nvPicPr>
        <p:blipFill>
          <a:blip r:embed="rId2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2860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7, 2006, 2001, 1994 by Mosby, Inc., an affiliate of Elsevier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7" descr="MosbyJems_Clear"/>
          <p:cNvPicPr/>
          <p:nvPr/>
        </p:nvPicPr>
        <p:blipFill>
          <a:blip r:embed="rId3"/>
          <a:stretch/>
        </p:blipFill>
        <p:spPr>
          <a:xfrm>
            <a:off x="168120" y="6242040"/>
            <a:ext cx="1051200" cy="38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45360" y="6481440"/>
            <a:ext cx="18986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791-D738-4047-A2D8-B4AB0ADFCF9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6A4C-3788-45A5-B87D-C5835B00C43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9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572000" y="1600200"/>
            <a:ext cx="419112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Arte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y arterial blood to heart mus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coronary artery carries about 85% of blood supply to myo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coronary artery carries remai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te above aortic val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DE76-D428-40E2-8D51-04E8D3E4637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A02786-29-16"/>
          <p:cNvPicPr/>
          <p:nvPr/>
        </p:nvPicPr>
        <p:blipFill>
          <a:blip r:embed="rId1"/>
          <a:stretch/>
        </p:blipFill>
        <p:spPr>
          <a:xfrm>
            <a:off x="5105520" y="1295280"/>
            <a:ext cx="2931840" cy="480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direction of the heart’s electr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xial referenc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7CC-3233-4C6E-8D35-5332CE1495D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Assessment of the Hear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3" name="Picture 8" descr="A02786-29-103"/>
          <p:cNvPicPr/>
          <p:nvPr/>
        </p:nvPicPr>
        <p:blipFill>
          <a:blip r:embed="rId1"/>
          <a:stretch/>
        </p:blipFill>
        <p:spPr>
          <a:xfrm>
            <a:off x="2819520" y="1695600"/>
            <a:ext cx="368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540-8830-48C3-99C8-8A9D4019C74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Ventricular Failure (LVF) and Pulmonary Ede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le fails to function as an effective forward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back-pressure of blood into pulmonary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947-F66A-4DFD-9D06-7D0269061D2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VF and Pulmonary Edem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heart disease,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ve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reated LVF leads to pulmonary 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E739-2541-44DB-83CE-2FCE2D39F7B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VF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ehension, agitation,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anosis (if seve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ntitious lung s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V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vital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21A2-8513-44F8-A3F0-73304ADD8EE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lmonary Edema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, IV,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lycerin (SBP &gt;1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ose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ble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utamine or dopamine for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E3C-8CA8-4CAF-B508-1F16AEFCEF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Ventricular Failure (RVF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ventricle fails as effective forward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-pressure of blood into systemic venous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06A3-E274-4B4B-B8C8-3C806ACDE93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hypertension (LVF precedes RV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VF usually results from LV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806D-FEC5-4BB4-B819-9C7A3BB2176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ous cong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orged liver, spleen, or b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ous dis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pheral 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id accumulation in serous ca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DBB9-619C-483B-AD11-73A1A870317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ogenic Sh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xtreme form of pump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ular function is so compromised heart cannot meet metabolic needs of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myocardia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use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6EEF-2F1F-47BB-A088-914E28FE85E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Tampona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iastolic filling of he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fluid in pericardia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of pericardial fluid encroaches on capacity of atria and ventricles to fill adequ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filling is mechanically limited, and stroke volume is de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ED7-8FCA-4078-8B11-E784293253C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9" descr="A02786-29-16"/>
          <p:cNvPicPr/>
          <p:nvPr/>
        </p:nvPicPr>
        <p:blipFill>
          <a:blip r:embed="rId1"/>
          <a:stretch/>
        </p:blipFill>
        <p:spPr>
          <a:xfrm>
            <a:off x="5110200" y="1371600"/>
            <a:ext cx="2884320" cy="4724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I is a lateral (leftward)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es electrical activity from a viewpoint defined as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 circle divided into an upper negative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 lower positive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1E5-1DBD-4FA9-8A90-DA91FE4DBE4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Tampona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ocent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t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SB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us paradox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ffled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A25B-B87C-4520-9B2D-DFADE55868B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oracic and Abdominal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rtic Aneurys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34076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eury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ion of a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sclerotic disease (most comm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us disease (primarily syphi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tic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genetic disorders (e.g., Marfan's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C1E-B603-4702-80B2-6F1990EAB54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ortic Aneury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16120"/>
            <a:ext cx="381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or 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ring or rip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ack or flank p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tes to thigh, groin,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41907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toneal irr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 to defe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satile, tender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l pulses present or ab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2A9B-BF1B-413B-A80A-20EB4996D6A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anches of Aorta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4" name="Picture 11" descr=""/>
          <p:cNvPicPr/>
          <p:nvPr/>
        </p:nvPicPr>
        <p:blipFill>
          <a:blip r:embed="rId1"/>
          <a:stretch/>
        </p:blipFill>
        <p:spPr>
          <a:xfrm>
            <a:off x="1527120" y="1371600"/>
            <a:ext cx="60897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C4E-D201-41FC-BA65-25ADD697616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thogenesis of Dissecting Aneurys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61920" y="1928520"/>
            <a:ext cx="3810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l and intimal degeneration in aortic 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modynamic forces produce t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cting hematoma propagated by pulse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11" descr="A02786-29-109"/>
          <p:cNvPicPr/>
          <p:nvPr/>
        </p:nvPicPr>
        <p:blipFill>
          <a:blip r:embed="rId1"/>
          <a:stretch/>
        </p:blipFill>
        <p:spPr>
          <a:xfrm>
            <a:off x="4800600" y="1795320"/>
            <a:ext cx="1998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A276-F544-436E-9D5C-49F703CF0FC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secting Aneury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5370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lus if profoun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19A-42A2-41C0-8982-36B189D5044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age of arterial flow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episode depend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of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835-A891-4BCF-A8C1-9EB9653627D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in extrem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severe and sudden in onset or absent because of par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skin distal to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sensory and moto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ished or absent pulse distal to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it over affected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capillary fi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8EA3-9D6C-4F84-B18B-F1EDEB82701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terial Occlus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ity occlusion is painful and limb threatening if blood flow is not reestablished within 4-8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obilize limb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mesenteric oc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for shoc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gesics for pai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BDF-26C9-4125-8AC0-B4666A792D7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ites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bolic Arterial Occl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3" name="Picture 11" descr="A02786-29-110"/>
          <p:cNvPicPr/>
          <p:nvPr/>
        </p:nvPicPr>
        <p:blipFill>
          <a:blip r:embed="rId1"/>
          <a:stretch/>
        </p:blipFill>
        <p:spPr>
          <a:xfrm>
            <a:off x="3048120" y="1533600"/>
            <a:ext cx="3205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C09-1CFE-49DE-8C46-5099A4C1422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II and III are inferio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the heart's electrical activity from vantage points of +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+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F96E-6F65-4724-80A5-A0A5A9687AE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enous Thromb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spos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sis or in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im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th control p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gn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gulopath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2E7-F17E-43E8-BD5E-DCB5163428C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eep Vein Thrombosis (DVT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lusion of deep veins is serious, common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any portion of deep venou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mon in low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646-6E5E-46B6-AABD-A1D6117D1D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V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01440" y="1716120"/>
            <a:ext cx="40510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y 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38149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thromb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contracep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9EF5-FD38-4379-A856-ECE7451BA7D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DVT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pulmonary embolu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oagu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292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50A-30CD-462D-AAC6-CFBD4A66F0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ites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tic Occlusive Dise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0" name="Picture 8" descr="A02786-29-111"/>
          <p:cNvPicPr/>
          <p:nvPr/>
        </p:nvPicPr>
        <p:blipFill>
          <a:blip r:embed="rId1"/>
          <a:stretch/>
        </p:blipFill>
        <p:spPr>
          <a:xfrm>
            <a:off x="3200400" y="1447920"/>
            <a:ext cx="2706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A13D-8F7D-4EBE-8CB6-8376195C1B0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ing BP: Consistently &gt;140/90 mm H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categories of hypertension based on level of blood pressure, symptoms, and urgency of need for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5131-EEE1-4E08-8C26-C12752E00F3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ronic Hyperten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ssociated with chronic, uncontrolled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ebral hemorrhage and 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failure (secondary to vascular changes in the kidne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cic and/or abdominal aortic aneury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86DE-3F9A-461E-BB64-07B85C1A5DE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 increase leads to significant, irreversible end-organ damage within hours if not t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s most at risk are brain, heart, and kid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F56-4BE0-49C9-803B-E7D28BB02AC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ischemia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rtic dissection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monary edema with 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ve intracranial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ve encepha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F76-0F08-4459-93CF-9103C2B084C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67992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oxysmal nocturnal 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ed 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st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23920" y="1676160"/>
            <a:ext cx="41245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n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visual ac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FA7-6408-4825-9317-9DB6D70722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2133720"/>
          <a:ext cx="7696080" cy="2116080"/>
        </p:xfrm>
        <a:graphic>
          <a:graphicData uri="http://schemas.openxmlformats.org/drawingml/2006/table">
            <a:tbl>
              <a:tblPr/>
              <a:tblGrid>
                <a:gridCol w="1190520"/>
                <a:gridCol w="3014640"/>
                <a:gridCol w="34909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e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Positive Electr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Negative Electr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gh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l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ft 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polar Lead Plac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b lead pla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57D-4D0E-4295-972C-3A716AB250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ncephalopath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6201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e hypertension produces hypertensive encephalopathy and cerebral hypoper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integrity of blood-brain bar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exudation into brain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4432-096F-4E6C-9DD4-FEB3D363FD3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ncephalopath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es fr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headache, nausea, vomiting, aphasia, hemiparesis, and transient blin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ures, stupor, coma, and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5D6-5299-4161-B51E-19BEE7F5F45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ypertensive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 under medical super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6AB-2D94-4E0D-89CD-3C81BDB11E4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chniques for Manag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diac Emergenc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lif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CPR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-defibrill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antable cardioverter-defibrillators (IC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utaneous cardiac pacing (T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cardiac life support (ACLS)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75D-1E59-4E54-8999-C09EFF923EE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electrodes as limb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difference in electrical potential between extremity lead sites and a referenc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electrical poten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center of the heart’s electrical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04F-1CA3-42DF-B04D-F5B81603D2B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9" descr="A02786-29-16"/>
          <p:cNvPicPr/>
          <p:nvPr/>
        </p:nvPicPr>
        <p:blipFill>
          <a:blip r:embed="rId1"/>
          <a:stretch/>
        </p:blipFill>
        <p:spPr>
          <a:xfrm>
            <a:off x="5110200" y="1371600"/>
            <a:ext cx="2884320" cy="4724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886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s of each lead is formed by line from electrode site to center of the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D29-2B25-4D3F-BA77-B6A2C0FCC73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ugmente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R, aVL, and aVF leads intersect at angles different from those of the standard limb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three other intersecting lines of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standard limb leads, these leads make up a hexaxial refere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A04-066B-430F-BBA2-18F42B21AF9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A02786-29-16"/>
          <p:cNvPicPr/>
          <p:nvPr/>
        </p:nvPicPr>
        <p:blipFill>
          <a:blip r:embed="rId1"/>
          <a:stretch/>
        </p:blipFill>
        <p:spPr>
          <a:xfrm>
            <a:off x="4925880" y="1371600"/>
            <a:ext cx="3024360" cy="4952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recording electr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heart from righ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F6A-6298-416D-BC1F-3A22653395C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11" descr="A02786-29-16"/>
          <p:cNvPicPr/>
          <p:nvPr/>
        </p:nvPicPr>
        <p:blipFill>
          <a:blip r:embed="rId1"/>
          <a:stretch/>
        </p:blipFill>
        <p:spPr>
          <a:xfrm>
            <a:off x="4902120" y="1295280"/>
            <a:ext cx="3071880" cy="5029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s electrical activity from left shoul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39B-45F4-4CA3-8183-6B21A93A02C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aVF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911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s electrical activity from left lower extrem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40BA-EEEB-442E-851C-F86991A7FAA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Coronary Arter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03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s into left anterior descending and circumflex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terior descending (LAD) suppl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erior wall of lef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ricular sep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rcumflex suppl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and posterior portions of lef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 of right ventr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648320" y="1676520"/>
            <a:ext cx="41907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44E-7308-4F55-A3F6-1E1A700DADA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9" descr="A02786-29-16"/>
          <p:cNvPicPr/>
          <p:nvPr/>
        </p:nvPicPr>
        <p:blipFill>
          <a:blip r:embed="rId1"/>
          <a:stretch/>
        </p:blipFill>
        <p:spPr>
          <a:xfrm>
            <a:off x="5192640" y="1641600"/>
            <a:ext cx="2720880" cy="4454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II, III, aV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, aV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888F-3DCB-4D5C-A831-533682D5594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dified Lead Record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b lead placement altered to mimic precordial leads (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d chest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el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inguish between supraventricular tachycardia with aberration and ventricular 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e bundle branch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BE8-3576-45B0-BA91-883F20B8116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098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lectrode in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ercostal space, right of ster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lectrode placed anterio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 lateral end of left clav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A02786-29-17"/>
          <p:cNvPicPr/>
          <p:nvPr/>
        </p:nvPicPr>
        <p:blipFill>
          <a:blip r:embed="rId1"/>
          <a:srcRect l="0" t="0" r="50003" b="0"/>
          <a:stretch/>
        </p:blipFill>
        <p:spPr>
          <a:xfrm>
            <a:off x="4952880" y="1641600"/>
            <a:ext cx="3429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8BC6-B13B-42BF-A7EA-3C6490D2349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electrode on left midaxillary line at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rcostal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for lead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electrode placed anteriorly, below lef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A02786-29-17"/>
          <p:cNvPicPr/>
          <p:nvPr/>
        </p:nvPicPr>
        <p:blipFill>
          <a:blip r:embed="rId1"/>
          <a:srcRect l="50541" t="0" r="0" b="0"/>
          <a:stretch/>
        </p:blipFill>
        <p:spPr>
          <a:xfrm>
            <a:off x="4800600" y="171756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A05-A496-4F15-861F-1071E64992B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electr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limb leads (right arm, right leg, left arm, left le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ds I, II, and III, and aVF, aVL, and aV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chest l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7518-9C47-4B95-AC26-0DA8CBF13DA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9" descr="A02786-29-19"/>
          <p:cNvPicPr/>
          <p:nvPr/>
        </p:nvPicPr>
        <p:blipFill>
          <a:blip r:embed="rId1"/>
          <a:stretch/>
        </p:blipFill>
        <p:spPr>
          <a:xfrm>
            <a:off x="4419720" y="1523880"/>
            <a:ext cx="4012920" cy="4165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62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view left ventricle from position of its positive electr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6E2-26E9-478B-AD91-EBC89A9EFAF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CG Monitor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ST segment and T-wave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schemia, injury, and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s VT in wide-complex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electrical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ascicular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presence and location of bundle branch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611A-C5C8-4026-80E3-A8BEE66D7DC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cordial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precordial leads are projected through anterior chest wall toward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leads are placed on chest in reference to thoracic land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electrical activity in transverse or horizontal 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827-D334-489D-9410-A00BCBCD459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A02786-29-19"/>
          <p:cNvPicPr/>
          <p:nvPr/>
        </p:nvPicPr>
        <p:blipFill>
          <a:blip r:embed="rId1"/>
          <a:stretch/>
        </p:blipFill>
        <p:spPr>
          <a:xfrm>
            <a:off x="4660920" y="1460520"/>
            <a:ext cx="4013280" cy="41655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cordial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eptal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terio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rough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ateral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600-5A0B-4323-AC38-8274982C233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4" descr="A02786-29-20B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A02786-29-20A"/>
          <p:cNvPicPr/>
          <p:nvPr/>
        </p:nvPicPr>
        <p:blipFill>
          <a:blip r:embed="rId2"/>
          <a:stretch/>
        </p:blipFill>
        <p:spPr>
          <a:xfrm>
            <a:off x="228600" y="205740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4114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146960" y="16765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the jugular no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109480" y="167652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pate for the angle of Lo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ABEA-01D0-4FD8-A762-BFBFCC0FF9B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1" descr="A02786-29-01"/>
          <p:cNvPicPr/>
          <p:nvPr/>
        </p:nvPicPr>
        <p:blipFill>
          <a:blip r:embed="rId1"/>
          <a:srcRect l="0" t="0" r="44447" b="0"/>
          <a:stretch/>
        </p:blipFill>
        <p:spPr>
          <a:xfrm>
            <a:off x="4419720" y="1676520"/>
            <a:ext cx="4190760" cy="377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Arte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coronary artery and left anterior descending artery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right atrium and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spect of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stomoses provide collateral cir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BDA-587C-425E-9FB1-0B9CE2B01D9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13" descr="A02786-29-20D"/>
          <p:cNvPicPr/>
          <p:nvPr/>
        </p:nvPicPr>
        <p:blipFill>
          <a:blip r:embed="rId1"/>
          <a:stretch/>
        </p:blipFill>
        <p:spPr>
          <a:xfrm>
            <a:off x="4724280" y="2462040"/>
            <a:ext cx="4186440" cy="279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A02786-29-20C"/>
          <p:cNvPicPr/>
          <p:nvPr/>
        </p:nvPicPr>
        <p:blipFill>
          <a:blip r:embed="rId2"/>
          <a:stretch/>
        </p:blipFill>
        <p:spPr>
          <a:xfrm>
            <a:off x="380880" y="2462040"/>
            <a:ext cx="4186440" cy="2791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61880" y="175248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he angle of Louis to patient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until it articulates with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468400" y="175248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mmediately below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729F-FDBD-4B86-AE58-3C8052042F2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13" descr="A02786-29-20F"/>
          <p:cNvPicPr/>
          <p:nvPr/>
        </p:nvPicPr>
        <p:blipFill>
          <a:blip r:embed="rId1"/>
          <a:stretch/>
        </p:blipFill>
        <p:spPr>
          <a:xfrm>
            <a:off x="4724280" y="237168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02786-29-20E"/>
          <p:cNvPicPr/>
          <p:nvPr/>
        </p:nvPicPr>
        <p:blipFill>
          <a:blip r:embed="rId2"/>
          <a:stretch/>
        </p:blipFill>
        <p:spPr>
          <a:xfrm>
            <a:off x="380880" y="2371680"/>
            <a:ext cx="4186440" cy="2790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29200" y="1219320"/>
            <a:ext cx="35053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positioned in 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just right of the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" y="1676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, 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s can be f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6463-EBCC-4984-93BC-8166F2245D5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3" descr="A02786-29-20H"/>
          <p:cNvPicPr/>
          <p:nvPr/>
        </p:nvPicPr>
        <p:blipFill>
          <a:blip r:embed="rId1"/>
          <a:stretch/>
        </p:blipFill>
        <p:spPr>
          <a:xfrm>
            <a:off x="4724280" y="236232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02786-29-20G"/>
          <p:cNvPicPr/>
          <p:nvPr/>
        </p:nvPicPr>
        <p:blipFill>
          <a:blip r:embed="rId2"/>
          <a:stretch/>
        </p:blipFill>
        <p:spPr>
          <a:xfrm>
            <a:off x="380880" y="2362320"/>
            <a:ext cx="4186440" cy="27907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952880" y="167652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de in 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just left of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3760" y="1676520"/>
            <a:ext cx="415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find the correspo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 space on the left side of the stern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14F-51B7-47F3-9603-F49F48D277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14" descr="A02786-29-20J"/>
          <p:cNvPicPr/>
          <p:nvPr/>
        </p:nvPicPr>
        <p:blipFill>
          <a:blip r:embed="rId1"/>
          <a:stretch/>
        </p:blipFill>
        <p:spPr>
          <a:xfrm>
            <a:off x="4800600" y="2309760"/>
            <a:ext cx="4186080" cy="279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A02786-29-20I"/>
          <p:cNvPicPr/>
          <p:nvPr/>
        </p:nvPicPr>
        <p:blipFill>
          <a:blip r:embed="rId2"/>
          <a:stretch/>
        </p:blipFill>
        <p:spPr>
          <a:xfrm>
            <a:off x="457200" y="230976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50080" y="1600200"/>
            <a:ext cx="3917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osition, locate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 to the midclavicular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800600" y="1600200"/>
            <a:ext cx="411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de in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C space in midclavicular 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78C-322A-4B84-8ED1-D3A19B9C54D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13" descr="A02786-29-20L"/>
          <p:cNvPicPr/>
          <p:nvPr/>
        </p:nvPicPr>
        <p:blipFill>
          <a:blip r:embed="rId1"/>
          <a:stretch/>
        </p:blipFill>
        <p:spPr>
          <a:xfrm>
            <a:off x="4724280" y="2343240"/>
            <a:ext cx="4186440" cy="279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A02786-29-20K"/>
          <p:cNvPicPr/>
          <p:nvPr/>
        </p:nvPicPr>
        <p:blipFill>
          <a:blip r:embed="rId2"/>
          <a:stretch/>
        </p:blipFill>
        <p:spPr>
          <a:xfrm>
            <a:off x="457200" y="234324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029200" y="1600200"/>
            <a:ext cx="3657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positioned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erior axillary line, level with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57200" y="19051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lfway betwee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amp;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675-137A-401F-B543-CD6592D01C6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9" descr="A02786-29-20M"/>
          <p:cNvPicPr/>
          <p:nvPr/>
        </p:nvPicPr>
        <p:blipFill>
          <a:blip r:embed="rId1"/>
          <a:stretch/>
        </p:blipFill>
        <p:spPr>
          <a:xfrm>
            <a:off x="2514600" y="2098800"/>
            <a:ext cx="4186080" cy="2790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Electrode Appl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226240" y="1600200"/>
            <a:ext cx="4815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midaxillary line, level with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B6D-268F-4F4E-93AA-B40D068B6D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4130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phase of repolarization of ventr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s QRS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s with onset of T 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0" descr="A02786-29-25AC"/>
          <p:cNvPicPr/>
          <p:nvPr/>
        </p:nvPicPr>
        <p:blipFill>
          <a:blip r:embed="rId1"/>
          <a:srcRect l="0" t="0" r="58626" b="0"/>
          <a:stretch/>
        </p:blipFill>
        <p:spPr>
          <a:xfrm>
            <a:off x="5105520" y="1717560"/>
            <a:ext cx="27432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92DF-CDBD-4028-91C7-ECF2AEAF47A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9" descr="A02786-29-25D"/>
          <p:cNvPicPr/>
          <p:nvPr/>
        </p:nvPicPr>
        <p:blipFill>
          <a:blip r:embed="rId1"/>
          <a:stretch/>
        </p:blipFill>
        <p:spPr>
          <a:xfrm>
            <a:off x="5029200" y="1717560"/>
            <a:ext cx="3022560" cy="2019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 segment “takes off” from the QRS complex at J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27CB-EA6C-4799-A2DF-8CE986B011D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A02786-29-25AC"/>
          <p:cNvPicPr/>
          <p:nvPr/>
        </p:nvPicPr>
        <p:blipFill>
          <a:blip r:embed="rId1"/>
          <a:stretch/>
        </p:blipFill>
        <p:spPr>
          <a:xfrm>
            <a:off x="1335240" y="3922560"/>
            <a:ext cx="7234200" cy="2449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 of ST segment is commonly judged using baseline of PR or TP interval fo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4E79-84A9-49FA-8FA0-A843B4FE1DD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 ST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digitali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isease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070-A558-4FD1-BA05-5D681CC4D79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A02786-29-01"/>
          <p:cNvPicPr/>
          <p:nvPr/>
        </p:nvPicPr>
        <p:blipFill>
          <a:blip r:embed="rId1"/>
          <a:srcRect l="55673" t="0" r="0" b="0"/>
          <a:stretch/>
        </p:blipFill>
        <p:spPr>
          <a:xfrm>
            <a:off x="5029200" y="1717560"/>
            <a:ext cx="3276720" cy="3695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ronary Capillar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448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nutrients and metabolic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 to form coronary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onary sinus empties into right at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vein draining myo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E02-BD1B-409F-AC02-6864DC8ABBD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 Wa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7246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larization of ventricula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part of ventricular syst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or below isoelectric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ounded and slightly asymmetr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9" descr="A02786-29-26"/>
          <p:cNvPicPr/>
          <p:nvPr/>
        </p:nvPicPr>
        <p:blipFill>
          <a:blip r:embed="rId1"/>
          <a:srcRect l="0" t="0" r="53339" b="0"/>
          <a:stretch/>
        </p:blipFill>
        <p:spPr>
          <a:xfrm>
            <a:off x="5257800" y="160020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1E2-E9DD-4A39-B6DE-A3FF7C3451D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 Wa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, symmetrically inverted T waves may suggest cardiac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ave elevated more than half the height of the QRS complex may indic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kal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4DF-26EF-4B53-98C7-481A43B45DA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te “Rabbit Ear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8" name="Picture 8" descr="A02786-29-72"/>
          <p:cNvPicPr/>
          <p:nvPr/>
        </p:nvPicPr>
        <p:blipFill>
          <a:blip r:embed="rId1"/>
          <a:stretch/>
        </p:blipFill>
        <p:spPr>
          <a:xfrm>
            <a:off x="1905120" y="2022480"/>
            <a:ext cx="5257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6DA-FAE9-43D5-BA4C-2CFC334B5B4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right axis deviation (negative QRS complex in lead I; positive QRS complex in leads II and III) and a negative QRS complex in M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ndicates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A95-6D36-4017-A41E-C1632CFBA7F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Axis Deviation and a Downward MCL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ndicates V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4" name="Picture 9" descr="A02786-29-74"/>
          <p:cNvPicPr/>
          <p:nvPr/>
        </p:nvPicPr>
        <p:blipFill>
          <a:blip r:embed="rId1"/>
          <a:stretch/>
        </p:blipFill>
        <p:spPr>
          <a:xfrm>
            <a:off x="1981080" y="2174760"/>
            <a:ext cx="48006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67E3-469A-48D6-BEC6-3AE3B6D364D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T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recordial leads (V leads) are either positive or neg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ordial concor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A54-CACF-4065-A862-8F1405898F4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8" descr="A02786-29-75"/>
          <p:cNvPicPr/>
          <p:nvPr/>
        </p:nvPicPr>
        <p:blipFill>
          <a:blip r:embed="rId1"/>
          <a:stretch/>
        </p:blipFill>
        <p:spPr>
          <a:xfrm>
            <a:off x="2286000" y="1717560"/>
            <a:ext cx="4610160" cy="3314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T-Concordanc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735-2416-4023-9D8F-DD76BA708AB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2-Lead Strategies for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de-Complex Tachycardia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38036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 interval &gt;0.10 sec in any V lead indicates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ventricular activatio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F10-9186-4466-A84A-7927583011D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entricular Conduction Disturban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 branch blocks or hemi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lectrical transmission below bundle of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A108-4240-4A51-834A-DF5521D0FA6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auses of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chemic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kal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my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ic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7A7D-5737-46B8-B83C-EA33A8C63D8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urface electrodes of opposite po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electrodes of opposite pola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polar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positive electrode and reference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0FE-4F34-47F1-B91A-A5F8CF1A70D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 of His divi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d right bundl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bundle branch continues toward apex and spreads through righ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bundle branch subdivides into anterior and posterior fascicles and spreads through lef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mpulse conduction through Purkinje fibers stimulates ventricular con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2E4C-133E-4B74-8843-7FDA7FEE3AE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9" descr="A02786-29-90"/>
          <p:cNvPicPr/>
          <p:nvPr/>
        </p:nvPicPr>
        <p:blipFill>
          <a:blip r:embed="rId1"/>
          <a:stretch/>
        </p:blipFill>
        <p:spPr>
          <a:xfrm>
            <a:off x="685800" y="1717560"/>
            <a:ext cx="7772400" cy="38023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4781-F2A7-402F-BF64-D2E0AA72387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Anatom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ide of septum is stimulated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impulse traverses septum to stimulate other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and right ventricles are then simultaneously st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5D9-2FBA-407D-9BAA-9A1D1AB65AC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8" descr="A02786-29-91"/>
          <p:cNvPicPr/>
          <p:nvPr/>
        </p:nvPicPr>
        <p:blipFill>
          <a:blip r:embed="rId1"/>
          <a:stretch/>
        </p:blipFill>
        <p:spPr>
          <a:xfrm>
            <a:off x="2286000" y="1793880"/>
            <a:ext cx="4622760" cy="30099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rmal Ventricular Activ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B654-FF28-484B-B0C2-7CC3EF7669B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ventricle depolarizes and contracts before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activation is not simultaneous, therefore QRS complex wid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urred or notched app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bbit ear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RS complex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38C-FDA4-453A-93B1-12706FE51C8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eria for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es produced by supraventricular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8470-A888-4112-AA70-073C0020AB9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differentiation of right and left bundle branch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con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s predominantly 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complex is 0.08-0.10 s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168-550A-496A-A150-6F3AB7F2D45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bundle branch performs norm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left side of heart befor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negative deflection (S wa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R-prime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(or in this case, RSR) dur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78CF-FE76-4C9E-B1A0-02D7422CDB2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8" descr="A02786-29-92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ght Bundle Branch Bloc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0563-6F52-4F93-8895-150BB9CADD8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Bundle Branch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ers that fire interventricular septum are block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s normal septal ac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it in opposit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Q wave in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wave in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, wide S wave (QS patte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RS dur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12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28D8-8DEF-4B09-A5EA-0620CE3DE29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pola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b l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, II,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polar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mented limb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R, aVL, and aV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ordi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1 through V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ad assesses electrical activity from a different a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9EA-BBC1-44CD-89DD-94095A55937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Bundle Branch Block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2" name="Picture 8" descr="A02786-29-93"/>
          <p:cNvPicPr/>
          <p:nvPr/>
        </p:nvPicPr>
        <p:blipFill>
          <a:blip r:embed="rId1"/>
          <a:stretch/>
        </p:blipFill>
        <p:spPr>
          <a:xfrm>
            <a:off x="2590920" y="1717560"/>
            <a:ext cx="3898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CDD-1B19-422A-8731-A0E5265915F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Picture 9" descr="A02786-29-94"/>
          <p:cNvPicPr/>
          <p:nvPr/>
        </p:nvPicPr>
        <p:blipFill>
          <a:blip r:embed="rId1"/>
          <a:stretch/>
        </p:blipFill>
        <p:spPr>
          <a:xfrm>
            <a:off x="4648320" y="1717560"/>
            <a:ext cx="3543120" cy="35560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ft vs. Right BBB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829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J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line back into QRS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triangl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direction triangle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630-2725-4A3A-A1EE-5A19C5DED1B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 than posterior hemi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fascicle of left bundle branch is a longer and thinner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supply primarily from left anterior descending (LAD) coronary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hemiblock characterized by left axis deviation in patient with supraventricular rhy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381-BA06-4811-A927-E8BEB6F7B93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ECG findings in anterior hemibloc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QRS complex (&lt;0.12 sec) or a right bundle branch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Q wave followed by tall R wave in lead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 wave followed by deep S wave in lea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isk to develop complete hear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45D-B210-4A45-B255-EFDBA550F94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8" descr="A02786-29-95"/>
          <p:cNvPicPr/>
          <p:nvPr/>
        </p:nvPicPr>
        <p:blipFill>
          <a:blip r:embed="rId1"/>
          <a:stretch/>
        </p:blipFill>
        <p:spPr>
          <a:xfrm>
            <a:off x="1371600" y="1793880"/>
            <a:ext cx="6311880" cy="3835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terior Hemibloc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ing 1 Block of 3 Fascic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83F-C9C4-4DE4-B6B9-A3EC86A59B2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terior Hemi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axis deviation with normal QRS complex or right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ECG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 wave followed by deep S wave in lead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Q wave followed by tall R wave in lead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77C-A25B-4BF9-B7FC-27FE2BE2084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8" descr="A02786-29-96"/>
          <p:cNvPicPr/>
          <p:nvPr/>
        </p:nvPicPr>
        <p:blipFill>
          <a:blip r:embed="rId1"/>
          <a:stretch/>
        </p:blipFill>
        <p:spPr>
          <a:xfrm>
            <a:off x="1371600" y="1793880"/>
            <a:ext cx="6324480" cy="40892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sterior Hemibloc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ing 2 of 3 Fascicles Blocke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C2F7-259C-436F-BE95-955BA20A0DE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ifascicular Blo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of 3 pathways for ventricular conduction b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bundle branch block with anterior or posterior hemi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bundle branch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s myocardial contractility and cardiac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velop complete heart block sudden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F78D-99F0-4F30-A634-2192294430F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1800" y="1641240"/>
            <a:ext cx="73404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xis can be useful in determining the presence of hemi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t evaluated by looking at the QRS complexes in leads I, II, and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A1E6-54EE-41EC-9944-67DA17E3EAC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is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if QRS deflection is positive in bipolar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ological left (normal in some patients) when QRS defle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in leads I and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(inverted) in lead 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ological left when QRS defle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in lead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in leads II and III (indicating an anterior hemi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C72A-4CEA-4C1F-ADE0-54C0C5218EE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2057400"/>
          <a:ext cx="7772400" cy="1768320"/>
        </p:xfrm>
        <a:graphic>
          <a:graphicData uri="http://schemas.openxmlformats.org/drawingml/2006/table">
            <a:tbl>
              <a:tblPr/>
              <a:tblGrid>
                <a:gridCol w="3011400"/>
                <a:gridCol w="2170080"/>
                <a:gridCol w="259092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II, II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b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R, aVL, aV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b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1-V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st lea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pol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 Comparis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A87D-7144-4F46-9E58-CDEA851FB2B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ltilead Determination of Axis and Hemibloc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01800" y="1641240"/>
            <a:ext cx="73404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axis when QRS deflection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in lead I, negative or positive in lead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in lead III (pathological in any adu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ve of posterior hemi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right (“No man’s land”) when QRS deflection is negative in all three l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ythm is ventricular in ori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2C2-B555-4885-8B22-0B6DDF327CB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ute Coronary Syndrom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myocardial infarction (A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table angina (U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myocardial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major adverse cardiac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acute complications of A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0D3-334D-4F0C-A042-33A00E2C3E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narrowing of lumen of medium and large arte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orta and its branches, cerebral arteries,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thick, hard, atherosclerotic plaque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herom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heromato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found in areas of turbulent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CBF3-D838-4F4A-97E7-EFD2234A330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in men than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holesterol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0AB2-1CC1-49DC-8836-967D669C34D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herosclerosi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ffe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rupts intimal surface, causing loss of vessel elasticity and increase in thromb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ma reduces diameter of vessel 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s blood supply to t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34A-9F75-485B-8408-A0F3DEE8B71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 of myocardial isch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king” pain in the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balance between myocardial oxygen supply and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mulation of lactic acid and carbon dioxide in ischemic tissues of myocar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tes irritate nerve endings and produce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F95E-2ABD-4E87-B58C-17787551199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erosclerotic disease of the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ry occlusion due to coronary artery spasm with or without atheroscler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zmetal's angi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FD03-C82F-4E93-A26B-FE202B9A6C1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gina Pector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described as pressure, squeezing, heaviness, or tightness in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 feel pain only in ch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describe as radiating to shoulders, arms, neck, and jaw and through t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signs and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usea or vom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D4B-B4ED-4651-83E0-1C145FDEB1E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ble Angin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caused by physical exertion or emotional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lasts 1-5 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st as long as 1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ed by rest, nitroglycerin, or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” are usually similar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lieved by same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A04-C5AF-4AD8-B8ED-3C4BE341248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table Angin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infarction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nal pattern that has changed in its ease of onset, frequency, intensity, duration, or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“new onset” anginal 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occur during exercise or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las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promptly relieved than stable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BB2-82EF-404E-85E9-CFFDA88FBCA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600200"/>
          <a:ext cx="7696080" cy="3535200"/>
        </p:xfrm>
        <a:graphic>
          <a:graphicData uri="http://schemas.openxmlformats.org/drawingml/2006/table">
            <a:tbl>
              <a:tblPr/>
              <a:tblGrid>
                <a:gridCol w="3200400"/>
                <a:gridCol w="449568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Cardiac Surface Vie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, III, aV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erior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1, V2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3, V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rior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5, V6, I, aV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ral w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ds and Cardiac Surfa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193-8AA8-4635-81C2-70F660C02A5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stable Angina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patient at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 aspirin (per protoc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macologic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as soon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76E-38E8-4734-97F7-9218A2E8F76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14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and total occlusion or near-occlusion of blood flowing through affected coronary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chemia, injury, and necrosis of myocardium distal to oc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ssociated with atherosclerotic heart disease (AS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pitating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3AF-ED46-4132-B13D-05E5A5D06C2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430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rction distal to occluded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of infarct determin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needs of tissue supplied by occluded ves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until flow is re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243-573F-49CB-B58E-C0B65AC6F3F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 oxygen supp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ing metabolic ne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collater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establishing perfusion to ischemic myocardium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5D4-6C1C-4CCD-B1C5-F02611C0E93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185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MIs involve ventricle or interventricular septum, which is supplied by either of two major coronary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atients sustain damage to right ventr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855-466A-48E1-9CB8-FC8505E7026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ypes and Locations of Infarc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, lateral, or septal wall infar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left coronary artery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wall infar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ight coronary artery oc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A100-C3E0-43E9-BAD3-B82672AF4C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schemic syndro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rupture of an unstable plaque in an epicardial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ang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-elevation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-elevation myocardial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8FDF-DFB9-4011-84CF-6C8BC66B3D2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mbus has not completely obstructed coronary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ittent ischem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ead to complete occlusion and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T-elevation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-segment 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wave abnorma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899-07FC-4BE3-92EE-3C994BE0BEF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-elevation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-wave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Q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5 mm in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 3" charset="2"/>
              <a:buChar char="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0.04 sec in duration i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contiguous l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1" descr="A02786-29-100"/>
          <p:cNvPicPr/>
          <p:nvPr/>
        </p:nvPicPr>
        <p:blipFill>
          <a:blip r:embed="rId1"/>
          <a:stretch/>
        </p:blipFill>
        <p:spPr>
          <a:xfrm>
            <a:off x="4952880" y="1600200"/>
            <a:ext cx="3568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E87-0281-4AA3-AC53-3CDBC7D0A8F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th of Myocardi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blood flow to myocardium stops, cells switch to anaerobic meta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s ischemic pain (ang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 begin to swell and depolar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collateral flow and reperfusion are inadequate, much of muscle dies distal to occlu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938-FBCD-4F4F-9F4D-273453AB719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andard Limb Lea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 difference in electrical potential between left arm, right arm, and left leg electr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 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A02786-29-15"/>
          <p:cNvPicPr/>
          <p:nvPr/>
        </p:nvPicPr>
        <p:blipFill>
          <a:blip r:embed="rId1"/>
          <a:stretch/>
        </p:blipFill>
        <p:spPr>
          <a:xfrm>
            <a:off x="4800600" y="1717560"/>
            <a:ext cx="3340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EED7-61E9-4769-A376-D4059C69221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8" descr="A02786-29-101"/>
          <p:cNvPicPr/>
          <p:nvPr/>
        </p:nvPicPr>
        <p:blipFill>
          <a:blip r:embed="rId1"/>
          <a:stretch/>
        </p:blipFill>
        <p:spPr>
          <a:xfrm>
            <a:off x="2666880" y="1219320"/>
            <a:ext cx="3586320" cy="50292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a of Infar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45B-9223-4863-B751-87643EB4B9F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th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hal dysrhythm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tandst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genic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ocardial tissue ru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ricle, septum, or papill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19A-0D74-4D4C-9E44-394B77A9BDE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555560"/>
            <a:ext cx="7772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is similar to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radiate to arms, neck, jaw, or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impending 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usea and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pho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p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01AC-BE5E-47E5-B82E-B2D5C942052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gns and Sympto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 often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tered by nitroglycerin or medications, rest, changes in body position, or breathing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et of pain at rest in &gt;50% of MI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ave experienced warning anginal pain (preinfarction angina) hours or days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612-DA5A-458B-ADC0-A79A47B9BCD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Find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muscle unable to contract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s in depolarized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flow between pathologically depolarized and normally repolarized areas can produ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ST segment ele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chemic ST segment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11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mal or non-diagnostic ECG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7057-69E4-4C69-BC42-E4EF0A63BD1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G Find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-Segment Elevation MI (STE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elevation &gt;1 mm in 2 adjacent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Risk UA/non-ST-Elevation MI (NSTE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segment depression &gt;0.5 mm lasting 2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wave inversion with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or nondiagnostic ECG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nclusive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B0BE-28E3-43CD-9E59-A55D56667BF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 ECG Impost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bundle bran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ventricular rhy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card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ricular aneury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re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1F01-9C96-4141-8B06-835E72FF0EE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ocardial Infarctio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lyc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-lead E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inolytic scre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to appropriate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3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275-0FDC-4698-AD86-162C8F9848DB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9" descr="A02786-29-103"/>
          <p:cNvPicPr/>
          <p:nvPr/>
        </p:nvPicPr>
        <p:blipFill>
          <a:blip r:embed="rId1"/>
          <a:stretch/>
        </p:blipFill>
        <p:spPr>
          <a:xfrm>
            <a:off x="2819520" y="1717560"/>
            <a:ext cx="3431880" cy="4114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 Segment Elevation Likely with Acute Injury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2"/>
          <p:cNvSpPr/>
          <p:nvPr/>
        </p:nvSpPr>
        <p:spPr>
          <a:xfrm>
            <a:off x="7245360" y="6481800"/>
            <a:ext cx="1898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8E0-2FC1-42CB-9E0F-D2AA1B52AB6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2"/>
          <p:cNvGrpSpPr/>
          <p:nvPr/>
        </p:nvGrpSpPr>
        <p:grpSpPr>
          <a:xfrm>
            <a:off x="1066680" y="1600200"/>
            <a:ext cx="7239240" cy="4187880"/>
            <a:chOff x="1066680" y="1600200"/>
            <a:chExt cx="7239240" cy="4187880"/>
          </a:xfrm>
        </p:grpSpPr>
        <p:sp>
          <p:nvSpPr>
            <p:cNvPr id="431" name="Rectangle 3"/>
            <p:cNvSpPr/>
            <p:nvPr/>
          </p:nvSpPr>
          <p:spPr>
            <a:xfrm>
              <a:off x="5943600" y="5199120"/>
              <a:ext cx="23623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352680" y="5199120"/>
              <a:ext cx="25909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 ventri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1066680" y="5199120"/>
              <a:ext cx="228600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4R, V5R, V6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5943600" y="4743360"/>
              <a:ext cx="2362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3352680" y="4743360"/>
              <a:ext cx="25909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ateral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1066680" y="4743360"/>
              <a:ext cx="2286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, aVL, V5, V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9"/>
            <p:cNvSpPr/>
            <p:nvPr/>
          </p:nvSpPr>
          <p:spPr>
            <a:xfrm>
              <a:off x="5943600" y="3849840"/>
              <a:ext cx="23623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3352680" y="3849840"/>
              <a:ext cx="259092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terior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most letha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11"/>
            <p:cNvSpPr/>
            <p:nvPr/>
          </p:nvSpPr>
          <p:spPr>
            <a:xfrm>
              <a:off x="1066680" y="3849840"/>
              <a:ext cx="22860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3, V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12"/>
            <p:cNvSpPr/>
            <p:nvPr/>
          </p:nvSpPr>
          <p:spPr>
            <a:xfrm>
              <a:off x="5943600" y="3314880"/>
              <a:ext cx="23623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3"/>
            <p:cNvSpPr/>
            <p:nvPr/>
          </p:nvSpPr>
          <p:spPr>
            <a:xfrm>
              <a:off x="3352680" y="3314880"/>
              <a:ext cx="25909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tal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14"/>
            <p:cNvSpPr/>
            <p:nvPr/>
          </p:nvSpPr>
          <p:spPr>
            <a:xfrm>
              <a:off x="1066680" y="3314880"/>
              <a:ext cx="22860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1, V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5943600" y="2421000"/>
              <a:ext cx="23623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3352680" y="2421000"/>
              <a:ext cx="259092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ferior w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most commo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7"/>
            <p:cNvSpPr/>
            <p:nvPr/>
          </p:nvSpPr>
          <p:spPr>
            <a:xfrm>
              <a:off x="1066680" y="2421000"/>
              <a:ext cx="228600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, III, aV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Rectangle 18"/>
            <p:cNvSpPr/>
            <p:nvPr/>
          </p:nvSpPr>
          <p:spPr>
            <a:xfrm>
              <a:off x="5943600" y="1600200"/>
              <a:ext cx="2362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oronary Artery Involv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3352680" y="1600200"/>
              <a:ext cx="2590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Location of Infar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0"/>
            <p:cNvSpPr/>
            <p:nvPr/>
          </p:nvSpPr>
          <p:spPr>
            <a:xfrm>
              <a:off x="1066680" y="1600200"/>
              <a:ext cx="22860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Le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1066680" y="1600200"/>
              <a:ext cx="72392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22"/>
            <p:cNvSpPr/>
            <p:nvPr/>
          </p:nvSpPr>
          <p:spPr>
            <a:xfrm>
              <a:off x="1066680" y="242100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23"/>
            <p:cNvSpPr/>
            <p:nvPr/>
          </p:nvSpPr>
          <p:spPr>
            <a:xfrm>
              <a:off x="1066680" y="331488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24"/>
            <p:cNvSpPr/>
            <p:nvPr/>
          </p:nvSpPr>
          <p:spPr>
            <a:xfrm>
              <a:off x="1066680" y="384984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1066680" y="474336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6"/>
            <p:cNvSpPr/>
            <p:nvPr/>
          </p:nvSpPr>
          <p:spPr>
            <a:xfrm>
              <a:off x="1066680" y="5788080"/>
              <a:ext cx="723924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66680" y="1600200"/>
              <a:ext cx="0" cy="4187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3352680" y="1600200"/>
              <a:ext cx="0" cy="418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5943600" y="1600200"/>
              <a:ext cx="0" cy="418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8305920" y="1600200"/>
              <a:ext cx="0" cy="4187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31"/>
            <p:cNvSpPr/>
            <p:nvPr/>
          </p:nvSpPr>
          <p:spPr>
            <a:xfrm>
              <a:off x="1066680" y="5199120"/>
              <a:ext cx="723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-Elevation and Infarct Lo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5:17:59Z</dcterms:created>
  <dc:creator>Linda Honeycutt</dc:creator>
  <dc:description/>
  <dc:language>en-US</dc:language>
  <cp:lastModifiedBy>salam</cp:lastModifiedBy>
  <dcterms:modified xsi:type="dcterms:W3CDTF">2014-05-07T07:08:42Z</dcterms:modified>
  <cp:revision>128</cp:revision>
  <dc:subject/>
  <dc:title>Chapter 29 Cardiology</dc:title>
</cp:coreProperties>
</file>