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E1AF-1E4C-4BDE-8CC9-EB22152CC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0885-A92B-4564-87F5-07BB9FD5CF75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8DF8-B49A-4102-849F-D38F8112F499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AB7B-88DB-449A-8524-95857FB1D42C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44DB-5404-40A0-B474-DF16CA688698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C17F-CFD0-4439-8A57-4FD28FD594C4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D6A3-557A-497D-9684-1DADEA05C00F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C29B-243A-4BFE-8A57-0065F93D4D5D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8E56-5584-4EE3-91FD-A9FF164BADBB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D25B-7604-4648-AE2E-E3E106C50E91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D8C4-195C-4B88-925A-853843C68A96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3684-620E-4F4F-93DA-A0B58CD2EFD3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94C3-CD02-4E38-9E78-9C96430A3144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AECD-3B26-48E2-9CB0-D50A3789D22E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0E67-C4AE-4473-BFE7-84F7F0118B7F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2635-ECAA-4678-A625-806C8AADA5A2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FFFA-E2CE-49A8-BE8E-C118C71B6FF7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99E9-115D-4838-B4CE-FFE75E71D43F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9887-C415-421B-9111-015DFEC48C32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344B-4D42-4CB4-9A01-5E3DA65A56AD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DBFC-3ECF-4ED2-BDB2-5EA2D389F39F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4BCF-7F23-42EA-82E7-C21A5FEDD5BE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12E8-55C3-406F-AB20-5C04C2176155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56B5-3325-4A07-B3F3-387617F1F7CB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13A1-362A-4632-8A9B-A24767FA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D37E-9E18-46F9-99F9-3772B5D3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2DCD4-5D51-420C-AA61-50D1D819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6997D-EC3D-4CA3-A766-8A0CE2CB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845A6-B4B6-4022-9CD7-64F86501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D93A5-3A90-4938-BB71-2FC3346D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A4BA7-B71E-4FF9-A766-4771D1E5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3BD6E-83F1-400C-AA6D-90AE828B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5C8F2-48FA-4647-830E-1BB8D913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41531-9EBE-4034-985F-A355C541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77A31-3F8D-4C2D-9C02-5530F4E5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DFD0-9CD2-48BB-AA6D-6FB7CA19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2788-27FD-4B80-8165-709D879B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F37C-E873-47EA-A8D7-8F8E2A17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B540-F879-48CB-8983-B75C6DD8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1C1D-DBB1-4FB6-8A71-93D10924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C0AA-F0B2-4FE4-9D7C-B32A97F7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BF2A-D88D-4B4E-A3CE-5A9473F3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4DD2-EA62-439A-87EC-BE338B9E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32AE-D351-480C-9985-CB221694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778E-F2A4-4D23-8C4F-947AAE01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017F-967A-4DD2-BCC5-9B85B409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1815-F54C-4C8D-93AC-03F92532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1436-F21D-4C5F-98FE-A8AB2976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5C7B-2992-4518-8C3E-80B54AD0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913C-E775-4748-BF01-7BAE1680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DF0F4-53D2-422A-8CC6-7DD55B5A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AEF72-D7F8-40E8-99EA-9C48591E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E0154-50C2-42B8-BF4A-0E5323DF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28690-A0FC-434F-8CDD-DB00CAC5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3EF60-5269-4309-847A-5405C43E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2E6-234C-4AD3-82AF-CE32955A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DB0B7-4D6D-42B3-B2E1-67000572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39180-D3FB-4C09-98DA-2C5B3D0C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7B661-9528-481F-B65D-64C4B39F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9CDD8-0F44-487A-ACFE-A182FC76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8E750-442A-48A9-B3D6-024619E2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D6710-6AC1-485C-96ED-0B06C6A5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EF6DB-0A4E-49FA-893A-26166445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84519-DB42-49B8-9C99-2BA77B45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04103-87E4-44FB-97B6-0588E41F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DBF6B-634C-4A91-9E75-3CE33AED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257-FE02-4565-8F10-28BF01F3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F67B2-B902-4513-8E2D-9793B121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B6984-E5A5-4C12-8812-7A14A7B9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58AA4-E899-4D17-BDDF-69C18CF8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D5EE3-823A-4C60-BE3F-9DE515D1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4F028-3BDE-4F62-96B0-5C7E9F1B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2EDFC-0EA3-4EA2-AE7D-BECE111F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7E6E9-DFE6-492D-AB3B-F4319CF6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1C693-351A-44CD-A193-676C07BC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19019-C210-4421-9635-B007A21E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97384-429D-4CD7-B03D-653EF64E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86E8-472F-4DF9-AC2B-4BD5AA64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388E4-BFA5-470D-AE99-B87BFFA8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5F6AD-31A9-4A8E-818F-3E0F4731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7EA34-6C95-4E45-A3EA-7F876CED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6485E-3F05-4EB1-B526-B7A244BE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A838C-4280-461A-8EFE-B6E3E420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36B8C-94BF-4B8C-A7F1-E2EE7FAD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240AF-CCBD-42F4-8938-67D89314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A9CF7-49FD-4B12-B6E3-001C42D0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3311C-6669-4633-AFB1-BA4D11BE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DCE82-0868-45DF-8AB5-63748EEAE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0F1-1FC0-437D-91AF-D3008B34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3F03E-CDE3-4FC8-9934-53BA0E26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50CA4-17A8-46C2-95F0-83A75712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51829-F152-4463-AC00-2E768167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5432C-3127-4E0F-8FD6-83765DF1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462AB-25C7-4300-9A14-AC3175B3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76BF6-B244-48EF-AB27-99F6DE0C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062FB-7C07-431B-815A-0A5C2981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766B4-DA2C-45C1-8F97-80B8758B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1C27F-C3C8-4B9F-AD12-36CBD89C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3BF8E-31D9-4607-A275-3E3AF2C8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F65-ABEF-4154-A32B-4CBE81AE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C95A2-0F33-4974-BF39-89EF22C4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EC343-6A02-4374-88A8-4679FEAE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A47B2-DEF1-4BC0-8B15-B6107775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4F044-5F3F-4A88-84A9-D8A72BD5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8D1D4-43FF-4438-981D-9C787BC6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B8120-7083-4718-B381-69FA790B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24C24-9CA4-4433-A92B-D51EAEF3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865FD-785E-4A38-BA62-FC09F561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E516F-36C7-4877-A433-188BA9D1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ED7FA-00E4-466F-9B5B-847DA615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558-BEB2-4E9F-A425-62CE3417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99B00-A593-40CA-90B0-AA1D0161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347E0-BE8E-4CF5-A1B0-24D9F5C5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ADB87-1022-40BB-8CE7-58BF31DB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DD8F4-BF76-46DD-94FD-37B6AFBC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DB5AF-03B0-4370-86CA-19A9132E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718F2-BB9F-4F8E-9B41-52802E59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B1478-6BCB-4828-99C7-B07A47D7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F8A55-3320-403A-BD66-2BAFDEB2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D29F3-9C6E-4F72-B2DB-629C9E44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908C6-ADA7-4B69-A5E2-A53DFA40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89C6-D502-475B-9C25-0EB97A17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C4842-DE65-4DF3-BDCB-2497C787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82C43-D298-4A07-AC38-E449DC84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F7445-7659-4F31-A2B6-CBAC5358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FAEED-B3BC-4A13-92D3-EADE9720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88727-F640-4DD6-91E4-FC36BB75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52BF1-D39A-4A21-9BA1-99F162AA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8F49C-D916-46B1-A13E-05819338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C50A9-E2AB-42F4-9209-8590D62E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58422-C5CB-4D30-AAFE-CE9BE1D8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4A054-3731-4D9E-B261-2D64C9ED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doctor.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182A-5096-4821-BA16-044F87171EC4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doctor.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E905-CA61-4503-A01A-A6716D65C343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doctor.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2F86-8EFF-4636-9608-901B9690FD21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doctor.s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A267-814F-4A40-AFD2-47D5D3BE538E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doctor.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9842-5DE0-43E4-967B-1D438EF7E249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doctor.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EB7C-73E0-4B8D-B419-9B1D0C849ADE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doctor.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FE4C-4EF1-4053-8CA4-DEF648AF6D2B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doctor.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EE62-A720-4BAE-8426-9FB760336F99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doctor.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3698-76BA-4040-AA8F-47894AEFCAA0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4"/>
          <p:cNvSpPr txBox="1"/>
          <p:nvPr/>
        </p:nvSpPr>
        <p:spPr>
          <a:xfrm>
            <a:off x="2340000" y="2205000"/>
            <a:ext cx="4896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Tahoma"/>
              </a:rPr>
              <a:t>Eclampsia 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2428920" y="5929200"/>
            <a:ext cx="3352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201600" y="208080"/>
            <a:ext cx="8429760" cy="214452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4683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Symptom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Headach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Visual disturbanc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pigastric pai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Nause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Restlessnes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welling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oor urine outpu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6429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sign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gita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Hyperreflexi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Facial &amp;peripheral oedem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Rt upper quadrant tendern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4"/>
          <p:cNvSpPr/>
          <p:nvPr/>
        </p:nvSpPr>
        <p:spPr>
          <a:xfrm>
            <a:off x="39528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e3b30"/>
                </a:solidFill>
                <a:latin typeface="Arial"/>
              </a:rPr>
              <a:t>Eclampsia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77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3" dur="770" fill="hold"/>
                                        <p:tgtEl>
                                          <p:spTgt spid="4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5" dur="77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7" dur="77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e3b30"/>
                </a:solidFill>
                <a:latin typeface="Franklin Gothic Medium"/>
              </a:rPr>
              <a:t>CLINICAL FEATUR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t is grand mal convulsion which pass through stages of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onic contrac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onic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m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Usually take about 60-90 second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Footer Placeholder 5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e3b30"/>
                </a:solidFill>
                <a:latin typeface="Franklin Gothic Medium"/>
              </a:rPr>
              <a:t>EDEN’S CRITERIA OF SEVERITY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ma  take 6 hours or mor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BP reach 200 mmH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m 39 or mor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ulse rate 120/mi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R 40/mi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 fits or mor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All this can end in maternal brain death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Footer Placeholder 5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e3b30"/>
                </a:solidFill>
                <a:latin typeface="Franklin Gothic Medium"/>
              </a:rPr>
              <a:t>DIFFERENTIAL DIAGNOSIS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pileps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V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O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rugs reac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Footer Placeholder 5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e3b30"/>
                </a:solidFill>
                <a:latin typeface="Franklin Gothic Medium"/>
              </a:rPr>
              <a:t>MANAGMENTS 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im of it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            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-maintain patent airway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-prevents the fit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-terminate the pregnancy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6" name="Footer Placeholder 5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Usually unnecessary to try to stop the initial convulsion which usually last about 60-90 second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V Diazepam slowly 5mg over 1 mi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3. Roll the patient on his left side to avoid maternal inju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4"/>
          <p:cNvSpPr/>
          <p:nvPr/>
        </p:nvSpPr>
        <p:spPr>
          <a:xfrm>
            <a:off x="395280" y="907920"/>
            <a:ext cx="8424720" cy="53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4. Apply Suction to the secretion from her mouth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5. Adequate Oxygen should be maintained by face mask &amp; airways to prevent swallowing of tongu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6. Prevent further convulsions by MgS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by IV bolus of 4 – 6 g over 15 min. If convulsion recur further bolus of 2g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7. Acidosis should be corrected if necessary by IV NaHC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8. SBP 170 mmHg or more, DBP 110 mmHg is risk factor for CVA so should be lowered by either Nifedipine 10 – 20 mg SL. Or Hydrallazine 5mg followed by infusion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oter Placeholder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WordArt 4"/>
          <p:cNvSpPr txBox="1"/>
          <p:nvPr/>
        </p:nvSpPr>
        <p:spPr>
          <a:xfrm>
            <a:off x="2050920" y="981000"/>
            <a:ext cx="4829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fter resuscitatio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1116000" y="2133720"/>
            <a:ext cx="727236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Insert canula size 10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.Send blood to Lab for Hb, blood group, Platelet count, RFT, LFT, Uric acid concentration, coagulation study, RB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3.Urine catheter (to urine output &amp; protein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WordArt 4"/>
          <p:cNvSpPr txBox="1"/>
          <p:nvPr/>
        </p:nvSpPr>
        <p:spPr>
          <a:xfrm>
            <a:off x="684360" y="765000"/>
            <a:ext cx="795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fter the mother become stabl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1116000" y="1989000"/>
            <a:ext cx="7343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Assessment of state of fetus (U/S, Doppler CTG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.either  : - Deliver the baby regardless of the gestational ag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nse monitoring maternal health in hope of improvement fetal outcome by increase gestational age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900000" y="1700280"/>
            <a:ext cx="1656000" cy="718920"/>
          </a:xfrm>
          <a:prstGeom prst="rect">
            <a:avLst/>
          </a:prstGeom>
          <a:solidFill>
            <a:srgbClr val="4e3b30"/>
          </a:solidFill>
          <a:ln w="936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Pre- eclampsi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3780000" y="1700280"/>
            <a:ext cx="1511280" cy="718920"/>
          </a:xfrm>
          <a:prstGeom prst="rect">
            <a:avLst/>
          </a:prstGeom>
          <a:solidFill>
            <a:srgbClr val="4e3b30"/>
          </a:solidFill>
          <a:ln w="936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Impend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7020000" y="1700280"/>
            <a:ext cx="1368360" cy="71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Eclampsi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2"/>
          <p:cNvSpPr/>
          <p:nvPr/>
        </p:nvSpPr>
        <p:spPr>
          <a:xfrm>
            <a:off x="2617920" y="21016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3"/>
          <p:cNvSpPr/>
          <p:nvPr/>
        </p:nvSpPr>
        <p:spPr>
          <a:xfrm>
            <a:off x="5508720" y="2133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27"/>
          <p:cNvGrpSpPr/>
          <p:nvPr/>
        </p:nvGrpSpPr>
        <p:grpSpPr>
          <a:xfrm>
            <a:off x="1446120" y="2492280"/>
            <a:ext cx="936360" cy="1008000"/>
            <a:chOff x="1446120" y="2492280"/>
            <a:chExt cx="936360" cy="1008000"/>
          </a:xfrm>
        </p:grpSpPr>
        <p:sp>
          <p:nvSpPr>
            <p:cNvPr id="414" name="Line 14"/>
            <p:cNvSpPr/>
            <p:nvPr/>
          </p:nvSpPr>
          <p:spPr>
            <a:xfrm>
              <a:off x="1446120" y="24922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5"/>
            <p:cNvSpPr/>
            <p:nvPr/>
          </p:nvSpPr>
          <p:spPr>
            <a:xfrm>
              <a:off x="1446120" y="350028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Text Box 17"/>
          <p:cNvSpPr/>
          <p:nvPr/>
        </p:nvSpPr>
        <p:spPr>
          <a:xfrm>
            <a:off x="2435400" y="3375000"/>
            <a:ext cx="56656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ahoma"/>
              </a:rPr>
              <a:t>It is a disease of pregnancy characterized b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4e3b3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e3b30"/>
                </a:solidFill>
                <a:latin typeface="Tahoma"/>
              </a:rPr>
              <a:t>BP 140/ 90 or more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4e3b3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e3b30"/>
                </a:solidFill>
                <a:latin typeface="Tahoma"/>
              </a:rPr>
              <a:t>After 20 week gestational age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4e3b3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e3b30"/>
                </a:solidFill>
                <a:latin typeface="Tahoma"/>
              </a:rPr>
              <a:t>In previous normotensive p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4e3b3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e3b30"/>
                </a:solidFill>
                <a:latin typeface="Tahoma"/>
              </a:rPr>
              <a:t>Reading taken twice at interval 6 hours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4e3b3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ahoma"/>
              </a:rPr>
              <a:t>Exclude other causes of 2.ry hypertension (ACDEPR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1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WordArt 4"/>
          <p:cNvSpPr txBox="1"/>
          <p:nvPr/>
        </p:nvSpPr>
        <p:spPr>
          <a:xfrm>
            <a:off x="1476360" y="765000"/>
            <a:ext cx="5934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ost natal managemen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684360" y="2060640"/>
            <a:ext cx="792000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t is attention to fluid balance , BP , Renal &amp; Hepatic function &amp; C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More aggressive control of BP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.MgSO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maintained for 48 hrs at 1g/hr iv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3.Subcutaneous heparin prophylaxi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WordArt 4"/>
          <p:cNvSpPr txBox="1"/>
          <p:nvPr/>
        </p:nvSpPr>
        <p:spPr>
          <a:xfrm>
            <a:off x="1332000" y="549360"/>
            <a:ext cx="669744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ternal complications of eclampsi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539640" y="4508640"/>
            <a:ext cx="705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.permanent CNS damag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3.Intracranial haemorrhag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4.Renal failur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5.Death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826920" y="155736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During the fi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3203640" y="2205000"/>
            <a:ext cx="2303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unge bitt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ad trau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ne #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pira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13"/>
          <p:cNvGrpSpPr/>
          <p:nvPr/>
        </p:nvGrpSpPr>
        <p:grpSpPr>
          <a:xfrm>
            <a:off x="2627280" y="2276640"/>
            <a:ext cx="596880" cy="1873080"/>
            <a:chOff x="2627280" y="2276640"/>
            <a:chExt cx="596880" cy="1873080"/>
          </a:xfrm>
        </p:grpSpPr>
        <p:sp>
          <p:nvSpPr>
            <p:cNvPr id="495" name="Line 8"/>
            <p:cNvSpPr/>
            <p:nvPr/>
          </p:nvSpPr>
          <p:spPr>
            <a:xfrm>
              <a:off x="2627280" y="2276640"/>
              <a:ext cx="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9"/>
            <p:cNvSpPr/>
            <p:nvPr/>
          </p:nvSpPr>
          <p:spPr>
            <a:xfrm>
              <a:off x="2627280" y="41497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10"/>
            <p:cNvSpPr/>
            <p:nvPr/>
          </p:nvSpPr>
          <p:spPr>
            <a:xfrm>
              <a:off x="2647800" y="35528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11"/>
            <p:cNvSpPr/>
            <p:nvPr/>
          </p:nvSpPr>
          <p:spPr>
            <a:xfrm>
              <a:off x="2627280" y="29973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12"/>
            <p:cNvSpPr/>
            <p:nvPr/>
          </p:nvSpPr>
          <p:spPr>
            <a:xfrm>
              <a:off x="2637000" y="246204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385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5" dur="385" fill="hold"/>
                                        <p:tgtEl>
                                          <p:spTgt spid="4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7" dur="385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9" dur="385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WordArt 4"/>
          <p:cNvSpPr txBox="1"/>
          <p:nvPr/>
        </p:nvSpPr>
        <p:spPr>
          <a:xfrm>
            <a:off x="1547640" y="620640"/>
            <a:ext cx="643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uses of Neonatal death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1187280" y="1700280"/>
            <a:ext cx="5256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Prematurity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.placenta infarctio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3.IUGR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4.Abruptio placenta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5.Fetal hypoxia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WordArt 4"/>
          <p:cNvSpPr txBox="1"/>
          <p:nvPr/>
        </p:nvSpPr>
        <p:spPr>
          <a:xfrm>
            <a:off x="1979640" y="2133720"/>
            <a:ext cx="5761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 You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5" name="Footer Placeholder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492360" y="4797000"/>
            <a:ext cx="345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e3b3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4e3b30"/>
                </a:solidFill>
                <a:latin typeface="Tahoma"/>
              </a:rPr>
              <a:t>renal diseas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Footer Placeholder 16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"/>
          <p:cNvSpPr/>
          <p:nvPr/>
        </p:nvSpPr>
        <p:spPr>
          <a:xfrm>
            <a:off x="2843280" y="50641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7"/>
          <p:cNvSpPr/>
          <p:nvPr/>
        </p:nvSpPr>
        <p:spPr>
          <a:xfrm>
            <a:off x="2843280" y="45403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8"/>
          <p:cNvSpPr/>
          <p:nvPr/>
        </p:nvSpPr>
        <p:spPr>
          <a:xfrm>
            <a:off x="2843280" y="39528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9"/>
          <p:cNvSpPr/>
          <p:nvPr/>
        </p:nvSpPr>
        <p:spPr>
          <a:xfrm>
            <a:off x="2843280" y="33876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0"/>
          <p:cNvSpPr/>
          <p:nvPr/>
        </p:nvSpPr>
        <p:spPr>
          <a:xfrm>
            <a:off x="2843280" y="28116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1"/>
          <p:cNvSpPr/>
          <p:nvPr/>
        </p:nvSpPr>
        <p:spPr>
          <a:xfrm>
            <a:off x="2843280" y="22352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2411280" y="1949400"/>
            <a:ext cx="648000" cy="33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i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i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i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i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i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i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6"/>
          <p:cNvSpPr/>
          <p:nvPr/>
        </p:nvSpPr>
        <p:spPr>
          <a:xfrm>
            <a:off x="3851280" y="19130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cho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7"/>
          <p:cNvSpPr/>
          <p:nvPr/>
        </p:nvSpPr>
        <p:spPr>
          <a:xfrm>
            <a:off x="3852720" y="248904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arctation of aort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8"/>
          <p:cNvSpPr/>
          <p:nvPr/>
        </p:nvSpPr>
        <p:spPr>
          <a:xfrm>
            <a:off x="3851280" y="305928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ug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9"/>
          <p:cNvSpPr/>
          <p:nvPr/>
        </p:nvSpPr>
        <p:spPr>
          <a:xfrm>
            <a:off x="3851280" y="364176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docrine diseas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0"/>
          <p:cNvSpPr/>
          <p:nvPr/>
        </p:nvSpPr>
        <p:spPr>
          <a:xfrm>
            <a:off x="3851280" y="4221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H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095120" y="1599840"/>
            <a:ext cx="80485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Tahoma"/>
              </a:rPr>
              <a:t>DBP110 or mor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Tahoma"/>
              </a:rPr>
              <a:t>Increase in SBP by 30 mmHg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Tahoma"/>
              </a:rPr>
              <a:t>Increase in DBP by 15mmHg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Tahoma"/>
              </a:rPr>
              <a:t>2 read of MABP 105 or more OR increase by 20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Footer Placeholder 1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395280" y="7491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Tahoma"/>
              </a:rPr>
              <a:t>But diagnosis can be by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00000" y="54450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ahoma"/>
              </a:rPr>
              <a:t>This condition is associated with significant protienuri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12"/>
          <p:cNvGrpSpPr/>
          <p:nvPr/>
        </p:nvGrpSpPr>
        <p:grpSpPr>
          <a:xfrm>
            <a:off x="684360" y="1341360"/>
            <a:ext cx="441000" cy="2158920"/>
            <a:chOff x="684360" y="1341360"/>
            <a:chExt cx="441000" cy="2158920"/>
          </a:xfrm>
        </p:grpSpPr>
        <p:sp>
          <p:nvSpPr>
            <p:cNvPr id="437" name="Line 6"/>
            <p:cNvSpPr/>
            <p:nvPr/>
          </p:nvSpPr>
          <p:spPr>
            <a:xfrm>
              <a:off x="684360" y="134136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7"/>
            <p:cNvSpPr/>
            <p:nvPr/>
          </p:nvSpPr>
          <p:spPr>
            <a:xfrm>
              <a:off x="684360" y="1844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8"/>
            <p:cNvSpPr/>
            <p:nvPr/>
          </p:nvSpPr>
          <p:spPr>
            <a:xfrm>
              <a:off x="693720" y="2349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9"/>
            <p:cNvSpPr/>
            <p:nvPr/>
          </p:nvSpPr>
          <p:spPr>
            <a:xfrm>
              <a:off x="684360" y="28735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0"/>
            <p:cNvSpPr/>
            <p:nvPr/>
          </p:nvSpPr>
          <p:spPr>
            <a:xfrm>
              <a:off x="684360" y="3500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ahoma"/>
              </a:rPr>
              <a:t>??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ahoma"/>
              </a:rPr>
              <a:t>Not related to the fetus or uteru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ahoma"/>
              </a:rPr>
              <a:t>Failure of placent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ahoma"/>
              </a:rPr>
              <a:t>Abnormal lipid metabolism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ahoma"/>
              </a:rPr>
              <a:t>Decrease Ca</a:t>
            </a:r>
            <a:r>
              <a:rPr b="0" lang="en-US" sz="3200" spc="-1" strike="noStrike" baseline="30000">
                <a:solidFill>
                  <a:srgbClr val="4e3b30"/>
                </a:solidFill>
                <a:latin typeface="Tahoma"/>
              </a:rPr>
              <a:t>++</a:t>
            </a:r>
            <a:r>
              <a:rPr b="0" lang="en-US" sz="3200" spc="-1" strike="noStrike">
                <a:solidFill>
                  <a:srgbClr val="4e3b30"/>
                </a:solidFill>
                <a:latin typeface="Tahoma"/>
              </a:rPr>
              <a:t>  in die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All pathogenesis due to vasospasm &amp; endothelial dysfun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Footer Placeholder 5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3"/>
          <p:cNvSpPr/>
          <p:nvPr/>
        </p:nvSpPr>
        <p:spPr>
          <a:xfrm>
            <a:off x="684360" y="476280"/>
            <a:ext cx="3240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Tahoma"/>
              </a:rPr>
              <a:t>Aetiology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4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45720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Risk facctor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rimigravid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g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ast histor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hange the husban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ndition in which placenta enlarg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re-existing diseas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Low socioeconomic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211280" y="836280"/>
            <a:ext cx="4608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Risk factor decrease 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moker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rolong exposure to paternal antige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4e3b30"/>
                </a:solidFill>
                <a:uFillTx/>
                <a:latin typeface="Franklin Gothic Medium"/>
              </a:rPr>
              <a:t>SYSTEMIC EFFECTS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897200" y="1600200"/>
            <a:ext cx="4114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CV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Bloo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Renal system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Liv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C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Footer Placeholder 5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e3b30"/>
                </a:solidFill>
                <a:latin typeface="Franklin Gothic Medium"/>
              </a:rPr>
              <a:t>INCIDENCE &amp; EPIDEMIOLOGY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ccur in 5-10% pregnancy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ath about 2% in UK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ath increase in Eclampsia which occur in intrapartum &amp;post partum due to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-Relax of observation during these perio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-Increase in release of pathogenic factor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          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Footer Placeholder 5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PRE-ECLAMPSIA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600200"/>
            <a:ext cx="40384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Symptoms: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ay be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symptomatic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Headach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Visual disturbanc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pigastric pai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edem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648320" y="1600200"/>
            <a:ext cx="403848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Sign: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ay b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High BP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Fluid retens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risk reflex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Fundel level less than da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8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7:55:17Z</dcterms:created>
  <dc:creator>jawa</dc:creator>
  <dc:description/>
  <dc:language>en-US</dc:language>
  <cp:lastModifiedBy>golden</cp:lastModifiedBy>
  <dcterms:modified xsi:type="dcterms:W3CDTF">2010-11-21T04:14:57Z</dcterms:modified>
  <cp:revision>62</cp:revision>
  <dc:subject/>
  <dc:title>Eclampsia </dc:title>
</cp:coreProperties>
</file>