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4EDB-A566-449D-ADB8-76CBB5CAD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E541-4589-4615-AC03-459ED651412E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82A2-9005-4C70-9F0F-AF62E35AE402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5DE0-FE7F-484B-9BCF-682161945158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984D-755E-46B2-A710-22B08C76324E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1752-E426-460C-9BE6-F3E13FA3F4F7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57BF-6A46-427B-B6EF-94EA61D8B3DB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640A-5BCA-401C-B9AA-3EC6C6272799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A4BE-251B-49BD-8827-C1DC62BAB3C6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78F4-D21D-49A7-94C8-BF20360C02C2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F12C-B093-4275-BF47-D1E8E7DD88F0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4E6F-E0BC-47BC-867F-F5E31B72D9F3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F132-BD91-4B75-AD96-8A16B2DAA8F4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310B-73D1-4CE3-8A21-0BD5A221E7B4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4D72-3875-49A6-AD74-F4B18202D64E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4F7A-B79C-4E7A-9DB4-358938C7CD03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103B-4FC6-4693-8341-6BD8F2E0F912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E767-7E26-40E5-BFED-EFBE97C2DC67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B140-6C30-4708-8445-D51BB7C99CB6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7FCC-06C9-4BF0-B145-283879501B92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0850-53AD-4851-A890-8E771F72374B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71BC-C680-4C5F-9CE9-91782239B69E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2E00-4835-4BC9-8260-6F99E0A02F2B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C18E-1CA5-482A-94F2-6E8DECEBBB2D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79A2-C1E9-4CEA-B265-DD24B24E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FA1-C48B-4C5C-A7DC-83C0484B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58C6D-8237-4C86-BEB6-39D0611C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D8616-781E-465F-A43F-2652C1C7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2C6A3-58D9-45F7-9D36-7BA94843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C422A-7CBB-456C-82F6-C9F04E7F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E11B7-163D-4377-85B6-2FA8FE7C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C5B08-C186-4B86-93EF-55965C4C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6D12C-8256-4FC0-9237-58D620A2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1AC5E-2A7B-4C8E-9C89-A2E56E17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8E5BB-7F2A-4E0C-9C12-CD6962F7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5F9C-BD8D-4818-9948-1C35ECA0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FED-7320-492F-98D9-3A56267C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49F5-21F0-48D0-A4D0-EF38426E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9981-5B6B-4E98-BFCA-CE4F4445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A70D-B924-420A-BBB5-ACA23833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6D64-9971-4505-A5A1-34F8F6E2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C0C4-5D0F-4D9B-AD1D-01125C6A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9D37-827B-4F30-A215-FA3309AB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D4E0-53CA-488A-BF1B-35BA5564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9C6-619F-4232-B787-5DA9555B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537D-FA51-4480-9161-0C6EEFE0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A66A-D641-4AA9-A562-C58379E2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D2CD-56B7-420A-BFC1-9610925E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45FB-8064-4A95-BA1D-0FA58A72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E062-13CD-4FE8-9E02-2DF840EC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82DD2-B115-4BFD-AAA3-7304D728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8D6DC-95F5-459F-B1BB-465A7317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79FE3-84D9-4E19-ADD1-0B669E61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B85BF-0A56-4DE3-9F1C-4CEAE006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E9E2A-2371-4C00-AE1F-55FB3396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220-033F-4208-94A4-00C4A1DB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A8248-E267-4DC2-95FE-B40D343C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2B726-FB90-4123-AEBE-96686EF2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F7286-6C1A-47EF-8F9E-ECB68A70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D3051-C765-4D26-96C7-210BAA3B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4D95A-94B4-4431-8F24-0FB2E4F5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DBF60-38D7-4FF1-B450-DBEEA7E5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2BC53-9451-436A-A0D5-2C3CF973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BA217-6B90-4AA3-BEAD-4BEC31E0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84FCD-07F0-4378-B6B2-AA51FE03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46500-3CBD-47BB-B747-01010307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1B0-F4C5-4D8C-80D5-AF39910B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92A0A-353B-4797-85B6-10ECB6BC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512BF-C272-4744-B532-BF71C10E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3494F-5E8F-42AE-B8F1-066ED41E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EC4C3-1A3C-4BEE-95C8-B6EB12BF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733E2-40F1-4FD3-9AC8-988FBD52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29A93-C790-478D-85F0-2F95BA06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94EFF-773E-433B-BC7F-2B65E913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02E41-F8C6-4760-AC33-4FB9478B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8A0F5-F42D-4DCF-B2A6-3A5B5C6C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ED019-03A8-4446-BC7A-171E559A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1F4-A8E2-48AF-B776-E06A0B7C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486D4-E15B-4A3F-841F-86C118BE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BC191-9AA5-4921-804A-D2B1F971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E3592-52C6-40CA-960A-2DF724D0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1AAE8-6E9C-4F84-BBFF-BEB8C114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CA157-153B-4B6D-B59C-D9904974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2374D-2828-4CA1-A9F4-7E4E7555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659C2-DDB8-435F-B9BB-FFA2E067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98811-C1C0-425D-8E55-6B863354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5D2E4-5920-485C-8F7E-E4BDDB6D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A559C-304D-4B3F-A3A6-D8088475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E80C-7E93-47FC-AE12-ABFD456A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A9F0D-8FDC-49EE-998A-72E244B4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3C633-0F11-416B-860C-F8372D7B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50C01-DC43-4CBB-9753-F2E97CF9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51AD2-0F0D-4778-A6AF-808AE73D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DB6AB-D896-4F27-A5EF-EB1BE028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E208D-BE0F-4A48-9B52-F2FA7EC8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644AD-02D8-4A59-96FE-8EE938E4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06E29-4B30-4CA0-8090-4F971596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4E5D6-9FFB-4387-8456-C5D99093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C375D-32EF-4649-B1A5-4F4079D3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7E9-2ECA-4DFF-84E2-5AD6A3FB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B55A1-B041-4BA7-B8A5-BB35FA9A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12C8A-829A-46A5-A6D0-5CCD65C6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49EA9-1DD5-42F3-B494-C96A04E3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D6AED-07C4-4644-A00F-22F5F75C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212EA-5FB7-48EC-A354-AC85D89F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F1124-0A1C-4401-B472-3FB6F4CC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8C574-BC50-4F7D-80DB-DE609454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8A29B-C855-48E2-A1A4-D5D1AEA8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B9E4A-42E6-4455-A1C2-FA6509F6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3C252-EB2D-4987-B27F-FB4AE5F8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FEC8-EB47-4560-860F-C3EC1870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9F0C9-5E78-45EC-B281-65E8DA92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E1735-757F-4773-8364-9716EFEA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247BB-CEE3-43D8-860A-43E79FCA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9EB53-C3BB-42D8-A000-E240A212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241CB-06C0-496A-8508-25982EFA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BF81C-A803-4A7A-9ED5-2EDD9553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2D1B7-05B8-4ED1-BFD7-03D66F85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5DA1F-6E5B-498E-88B0-641427EF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9BDB2-9DEF-4CA6-880C-221D6A37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47963-237E-44DD-9169-F8C5424E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140-5C8E-4195-8285-E0889589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13712-306A-4E59-A8A2-31509B2B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32717-43CB-41B3-83C4-4EBFFF48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F902B-E1FE-40D5-A163-7F4B38BF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28A72-79BA-41CC-8FAE-DC2FA3F0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CB257-EFC1-49CC-96D3-ECCE9E7D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CDA70-AA6A-4BBC-838D-CCD04CC1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EC8A6-9C7D-44EB-8999-DF629B5C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6E95C-85D8-4CD5-993B-5307F0E8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B1FC2-7E86-4B85-90B2-23CCB260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A0E0F-20F6-4DE9-B814-BFA8912F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doctor.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817D-B087-45E4-967B-FEAAE45F5E59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doctor.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6F21-1E26-4A96-9040-ED1C6BE42E9E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doctor.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9814-19CB-4E6E-9017-DD1D5B0C8A72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doctor.s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FBFC-8417-43E3-9ABA-765ACAFB3CAF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doctor.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D57E-35A0-4131-A634-54AEED246A60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doctor.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6730-3C74-4AD2-A53B-531D7F9E6DDC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doctor.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8B37-E106-4BE5-B0DB-4E741DC814A4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doctor.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F641-1E10-4994-9488-56D232812FCA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doctor.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837B-B165-4A67-B215-F3C21DAD4DAD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4"/>
          <p:cNvSpPr txBox="1"/>
          <p:nvPr/>
        </p:nvSpPr>
        <p:spPr>
          <a:xfrm>
            <a:off x="2340000" y="2205000"/>
            <a:ext cx="4896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Tahoma"/>
              </a:rPr>
              <a:t>Eclampsia 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428920" y="5929200"/>
            <a:ext cx="3352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" dur="1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201600" y="208080"/>
            <a:ext cx="8429760" cy="21445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Symptom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Headach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Visual disturbanc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pigastric pai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ause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estlessnes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welling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oor urine outpu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642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sign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gita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Hyperreflexi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acial &amp;peripheral oedem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t upper quadrant tendern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4"/>
          <p:cNvSpPr/>
          <p:nvPr/>
        </p:nvSpPr>
        <p:spPr>
          <a:xfrm>
            <a:off x="39528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e3b30"/>
                </a:solidFill>
                <a:latin typeface="Arial"/>
              </a:rPr>
              <a:t>Eclampsia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77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3" dur="770" fill="hold"/>
                                        <p:tgtEl>
                                          <p:spTgt spid="4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7" dur="77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e3b30"/>
                </a:solidFill>
                <a:latin typeface="Franklin Gothic Medium"/>
              </a:rPr>
              <a:t>CLINICAL FEATUR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is grand mal convulsion which pass through stages of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onic contrac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onic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m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sually take about 60-90 second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Footer Placeholder 5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e3b30"/>
                </a:solidFill>
                <a:latin typeface="Franklin Gothic Medium"/>
              </a:rPr>
              <a:t>EDEN’S CRITERIA OF SEVERITY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ma  take 6 hours or mor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BP reach 200 mmH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m 39 or mor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ulse rate 120/mi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R 40/mi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 fits or mor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ll this can end in maternal brain death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Footer Placeholder 5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e3b30"/>
                </a:solidFill>
                <a:latin typeface="Franklin Gothic Medium"/>
              </a:rPr>
              <a:t>DIFFERENTIAL DIAGNOSIS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pileps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V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O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rugs reac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Footer Placeholder 5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e3b30"/>
                </a:solidFill>
                <a:latin typeface="Franklin Gothic Medium"/>
              </a:rPr>
              <a:t>MANAGMENTS 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im of it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           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-maintain patent airway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-prevents the fi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-terminate the pregnancy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Footer Placeholder 5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sually unnecessary to try to stop the initial convulsion which usually last about 60-90 second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V Diazepam slowly 5mg over 1 mi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3. Roll the patient on his left side to avoid maternal inju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4"/>
          <p:cNvSpPr/>
          <p:nvPr/>
        </p:nvSpPr>
        <p:spPr>
          <a:xfrm>
            <a:off x="395280" y="907920"/>
            <a:ext cx="842472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4. Apply Suction to the secretion from her mouth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5. Adequate Oxygen should be maintained by face mask &amp; airways to prevent swallowing of tongu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6. Prevent further convulsions by MgS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by IV bolus of 4 – 6 g over 15 min. If convulsion recur further bolus of 2g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7. Acidosis should be corrected if necessary by IV NaHC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8. SBP 170 mmHg or more, DBP 110 mmHg is risk factor for CVA so should be lowered by either Nifedipine 10 – 20 mg SL. Or Hydrallazine 5mg followed by infusion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4"/>
          <p:cNvSpPr txBox="1"/>
          <p:nvPr/>
        </p:nvSpPr>
        <p:spPr>
          <a:xfrm>
            <a:off x="2050920" y="981000"/>
            <a:ext cx="4829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fter resuscitatio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1116000" y="2133720"/>
            <a:ext cx="72723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Insert canula size 10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.Send blood to Lab for Hb, blood group, Platelet count, RFT, LFT, Uric acid concentration, coagulation study, RB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.Urine catheter (to urine output &amp; protein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WordArt 4"/>
          <p:cNvSpPr txBox="1"/>
          <p:nvPr/>
        </p:nvSpPr>
        <p:spPr>
          <a:xfrm>
            <a:off x="684360" y="765000"/>
            <a:ext cx="795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fter the mother become stabl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1116000" y="1989000"/>
            <a:ext cx="7343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Assessment of state of fetus (U/S, Doppler CTG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.either  : - Deliver the baby regardless of the gestational ag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nse monitoring maternal health in hope of improvement fetal outcome by increase gestational age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900000" y="1700280"/>
            <a:ext cx="1656000" cy="718920"/>
          </a:xfrm>
          <a:prstGeom prst="rect">
            <a:avLst/>
          </a:prstGeom>
          <a:solidFill>
            <a:srgbClr val="4e3b30"/>
          </a:solidFill>
          <a:ln w="93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Pre- eclampsi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3780000" y="1700280"/>
            <a:ext cx="1511280" cy="718920"/>
          </a:xfrm>
          <a:prstGeom prst="rect">
            <a:avLst/>
          </a:prstGeom>
          <a:solidFill>
            <a:srgbClr val="4e3b30"/>
          </a:solidFill>
          <a:ln w="93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Impend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7020000" y="1700280"/>
            <a:ext cx="1368360" cy="71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clampsi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2"/>
          <p:cNvSpPr/>
          <p:nvPr/>
        </p:nvSpPr>
        <p:spPr>
          <a:xfrm>
            <a:off x="2617920" y="21016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3"/>
          <p:cNvSpPr/>
          <p:nvPr/>
        </p:nvSpPr>
        <p:spPr>
          <a:xfrm>
            <a:off x="5508720" y="2133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27"/>
          <p:cNvGrpSpPr/>
          <p:nvPr/>
        </p:nvGrpSpPr>
        <p:grpSpPr>
          <a:xfrm>
            <a:off x="1446120" y="2492280"/>
            <a:ext cx="936360" cy="1008000"/>
            <a:chOff x="1446120" y="2492280"/>
            <a:chExt cx="936360" cy="1008000"/>
          </a:xfrm>
        </p:grpSpPr>
        <p:sp>
          <p:nvSpPr>
            <p:cNvPr id="414" name="Line 14"/>
            <p:cNvSpPr/>
            <p:nvPr/>
          </p:nvSpPr>
          <p:spPr>
            <a:xfrm>
              <a:off x="1446120" y="24922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5"/>
            <p:cNvSpPr/>
            <p:nvPr/>
          </p:nvSpPr>
          <p:spPr>
            <a:xfrm>
              <a:off x="1446120" y="350028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 Box 17"/>
          <p:cNvSpPr/>
          <p:nvPr/>
        </p:nvSpPr>
        <p:spPr>
          <a:xfrm>
            <a:off x="2435400" y="3375000"/>
            <a:ext cx="56656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ahoma"/>
              </a:rPr>
              <a:t>It is a disease of pregnancy characterized b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4e3b3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e3b30"/>
                </a:solidFill>
                <a:latin typeface="Tahoma"/>
              </a:rPr>
              <a:t>BP 140/ 90 or more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4e3b3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e3b30"/>
                </a:solidFill>
                <a:latin typeface="Tahoma"/>
              </a:rPr>
              <a:t>After 20 week gestational age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4e3b3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e3b30"/>
                </a:solidFill>
                <a:latin typeface="Tahoma"/>
              </a:rPr>
              <a:t>In previous normotensive p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4e3b3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e3b30"/>
                </a:solidFill>
                <a:latin typeface="Tahoma"/>
              </a:rPr>
              <a:t>Reading taken twice at interval 6 hours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4e3b3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Tahoma"/>
              </a:rPr>
              <a:t>Exclude other causes of 2.ry hypertension (ACDEPR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1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WordArt 4"/>
          <p:cNvSpPr txBox="1"/>
          <p:nvPr/>
        </p:nvSpPr>
        <p:spPr>
          <a:xfrm>
            <a:off x="1476360" y="765000"/>
            <a:ext cx="5934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st natal managemen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684360" y="2060640"/>
            <a:ext cx="792000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t is attention to fluid balance , BP , Renal &amp; Hepatic function &amp; C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More aggressive control of BP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.MgSO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maintained for 48 hrs at 1g/hr iv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.Subcutaneous heparin prophylaxi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WordArt 4"/>
          <p:cNvSpPr txBox="1"/>
          <p:nvPr/>
        </p:nvSpPr>
        <p:spPr>
          <a:xfrm>
            <a:off x="1332000" y="549360"/>
            <a:ext cx="669744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ternal complications of eclampsi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539640" y="4508640"/>
            <a:ext cx="705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.permanent CNS damag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.Intracranial haemorrhag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.Renal failur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.Death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826920" y="155736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During the fi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3203640" y="2205000"/>
            <a:ext cx="2303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unge bitt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d trau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ne #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pira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13"/>
          <p:cNvGrpSpPr/>
          <p:nvPr/>
        </p:nvGrpSpPr>
        <p:grpSpPr>
          <a:xfrm>
            <a:off x="2627280" y="2276640"/>
            <a:ext cx="596880" cy="1873080"/>
            <a:chOff x="2627280" y="2276640"/>
            <a:chExt cx="596880" cy="1873080"/>
          </a:xfrm>
        </p:grpSpPr>
        <p:sp>
          <p:nvSpPr>
            <p:cNvPr id="495" name="Line 8"/>
            <p:cNvSpPr/>
            <p:nvPr/>
          </p:nvSpPr>
          <p:spPr>
            <a:xfrm>
              <a:off x="2627280" y="2276640"/>
              <a:ext cx="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9"/>
            <p:cNvSpPr/>
            <p:nvPr/>
          </p:nvSpPr>
          <p:spPr>
            <a:xfrm>
              <a:off x="2627280" y="41497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0"/>
            <p:cNvSpPr/>
            <p:nvPr/>
          </p:nvSpPr>
          <p:spPr>
            <a:xfrm>
              <a:off x="2647800" y="35528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11"/>
            <p:cNvSpPr/>
            <p:nvPr/>
          </p:nvSpPr>
          <p:spPr>
            <a:xfrm>
              <a:off x="2627280" y="2997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12"/>
            <p:cNvSpPr/>
            <p:nvPr/>
          </p:nvSpPr>
          <p:spPr>
            <a:xfrm>
              <a:off x="2637000" y="246204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Footer Placeholder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385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385" fill="hold"/>
                                        <p:tgtEl>
                                          <p:spTgt spid="4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7" dur="385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9" dur="385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WordArt 4"/>
          <p:cNvSpPr txBox="1"/>
          <p:nvPr/>
        </p:nvSpPr>
        <p:spPr>
          <a:xfrm>
            <a:off x="1547640" y="620640"/>
            <a:ext cx="643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uses of Neonatal death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1187280" y="1700280"/>
            <a:ext cx="5256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Prematurity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.placenta infarctio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.IUGR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.Abruptio placenta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.Fetal hypoxia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 Placeholder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WordArt 4"/>
          <p:cNvSpPr txBox="1"/>
          <p:nvPr/>
        </p:nvSpPr>
        <p:spPr>
          <a:xfrm>
            <a:off x="1979640" y="2133720"/>
            <a:ext cx="5761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492360" y="4797000"/>
            <a:ext cx="345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e3b3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4e3b30"/>
                </a:solidFill>
                <a:latin typeface="Tahoma"/>
              </a:rPr>
              <a:t>renal diseas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Footer Placeholder 16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2843280" y="50641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7"/>
          <p:cNvSpPr/>
          <p:nvPr/>
        </p:nvSpPr>
        <p:spPr>
          <a:xfrm>
            <a:off x="2843280" y="45403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8"/>
          <p:cNvSpPr/>
          <p:nvPr/>
        </p:nvSpPr>
        <p:spPr>
          <a:xfrm>
            <a:off x="2843280" y="39528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9"/>
          <p:cNvSpPr/>
          <p:nvPr/>
        </p:nvSpPr>
        <p:spPr>
          <a:xfrm>
            <a:off x="2843280" y="33876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0"/>
          <p:cNvSpPr/>
          <p:nvPr/>
        </p:nvSpPr>
        <p:spPr>
          <a:xfrm>
            <a:off x="2843280" y="28116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1"/>
          <p:cNvSpPr/>
          <p:nvPr/>
        </p:nvSpPr>
        <p:spPr>
          <a:xfrm>
            <a:off x="2843280" y="22352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2411280" y="1949400"/>
            <a:ext cx="648000" cy="33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i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i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i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i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i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i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6"/>
          <p:cNvSpPr/>
          <p:nvPr/>
        </p:nvSpPr>
        <p:spPr>
          <a:xfrm>
            <a:off x="3851280" y="19130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cho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3852720" y="248904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arctation of aort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8"/>
          <p:cNvSpPr/>
          <p:nvPr/>
        </p:nvSpPr>
        <p:spPr>
          <a:xfrm>
            <a:off x="3851280" y="305928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ug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9"/>
          <p:cNvSpPr/>
          <p:nvPr/>
        </p:nvSpPr>
        <p:spPr>
          <a:xfrm>
            <a:off x="3851280" y="364176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docrine diseas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0"/>
          <p:cNvSpPr/>
          <p:nvPr/>
        </p:nvSpPr>
        <p:spPr>
          <a:xfrm>
            <a:off x="3851280" y="4221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H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095120" y="1599840"/>
            <a:ext cx="80485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Tahoma"/>
              </a:rPr>
              <a:t>DBP110 or mor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Tahoma"/>
              </a:rPr>
              <a:t>Increase in SBP by 30 mmHg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Tahoma"/>
              </a:rPr>
              <a:t>Increase in DBP by 15mmHg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Tahoma"/>
              </a:rPr>
              <a:t>2 read of MABP 105 or more OR increase by 20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Footer Placeholder 1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395280" y="7491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Tahoma"/>
              </a:rPr>
              <a:t>But diagnosis can be by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00000" y="54450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ahoma"/>
              </a:rPr>
              <a:t>This condition is associated with significant protienuri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12"/>
          <p:cNvGrpSpPr/>
          <p:nvPr/>
        </p:nvGrpSpPr>
        <p:grpSpPr>
          <a:xfrm>
            <a:off x="684360" y="1341360"/>
            <a:ext cx="441000" cy="2158920"/>
            <a:chOff x="684360" y="1341360"/>
            <a:chExt cx="441000" cy="2158920"/>
          </a:xfrm>
        </p:grpSpPr>
        <p:sp>
          <p:nvSpPr>
            <p:cNvPr id="437" name="Line 6"/>
            <p:cNvSpPr/>
            <p:nvPr/>
          </p:nvSpPr>
          <p:spPr>
            <a:xfrm>
              <a:off x="684360" y="134136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7"/>
            <p:cNvSpPr/>
            <p:nvPr/>
          </p:nvSpPr>
          <p:spPr>
            <a:xfrm>
              <a:off x="684360" y="1844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8"/>
            <p:cNvSpPr/>
            <p:nvPr/>
          </p:nvSpPr>
          <p:spPr>
            <a:xfrm>
              <a:off x="693720" y="2349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9"/>
            <p:cNvSpPr/>
            <p:nvPr/>
          </p:nvSpPr>
          <p:spPr>
            <a:xfrm>
              <a:off x="684360" y="28735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0"/>
            <p:cNvSpPr/>
            <p:nvPr/>
          </p:nvSpPr>
          <p:spPr>
            <a:xfrm>
              <a:off x="684360" y="3500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ahoma"/>
              </a:rPr>
              <a:t>??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ahoma"/>
              </a:rPr>
              <a:t>Not related to the fetus or uteru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ahoma"/>
              </a:rPr>
              <a:t>Failure of placent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ahoma"/>
              </a:rPr>
              <a:t>Abnormal lipid metabolism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ahoma"/>
              </a:rPr>
              <a:t>Decrease Ca</a:t>
            </a:r>
            <a:r>
              <a:rPr b="0" lang="en-US" sz="3200" spc="-1" strike="noStrike" baseline="30000">
                <a:solidFill>
                  <a:srgbClr val="4e3b30"/>
                </a:solidFill>
                <a:latin typeface="Tahoma"/>
              </a:rPr>
              <a:t>++</a:t>
            </a:r>
            <a:r>
              <a:rPr b="0" lang="en-US" sz="3200" spc="-1" strike="noStrike">
                <a:solidFill>
                  <a:srgbClr val="4e3b30"/>
                </a:solidFill>
                <a:latin typeface="Tahoma"/>
              </a:rPr>
              <a:t>  in die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All pathogenesis due to vasospasm &amp; endothelial dysfun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Footer Placeholder 5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3"/>
          <p:cNvSpPr/>
          <p:nvPr/>
        </p:nvSpPr>
        <p:spPr>
          <a:xfrm>
            <a:off x="684360" y="476280"/>
            <a:ext cx="3240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Tahoma"/>
              </a:rPr>
              <a:t>Aetiology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4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45720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Risk facctor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rimigravid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g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ast histor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hange the husban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ndition in which placenta enlarg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re-existing diseas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ow socioeconomic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211280" y="836280"/>
            <a:ext cx="4608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Risk factor decrease 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moker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rolong exposure to paternal antige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4e3b30"/>
                </a:solidFill>
                <a:uFillTx/>
                <a:latin typeface="Franklin Gothic Medium"/>
              </a:rPr>
              <a:t>SYSTEMIC EFFECTS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897200" y="1600200"/>
            <a:ext cx="4114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CV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Bloo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Renal syste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Liv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C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Footer Placeholder 5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e3b30"/>
                </a:solidFill>
                <a:latin typeface="Franklin Gothic Medium"/>
              </a:rPr>
              <a:t>INCIDENCE &amp; EPIDEMIOLOGY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ccur in 5-10% pregnanc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ath about 2% in UK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ath increase in Eclampsia which occur in intrapartum &amp;post partum due to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-Relax of observation during these perio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-Increase in release of pathogenic factor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     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Footer Placeholder 5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PRE-ECLAMPSIA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600200"/>
            <a:ext cx="40384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Symptoms: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ay be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symptomatic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Headach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Visual disturbanc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pigastric pai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edem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648320" y="1600200"/>
            <a:ext cx="403848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Sign: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ay b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High BP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luid retens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risk reflex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undel level less than da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Footer Placeholder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d38e27"/>
                </a:solidFill>
                <a:latin typeface="Arial"/>
              </a:rPr>
              <a:t>www.doctor.s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7:55:17Z</dcterms:created>
  <dc:creator>jawa</dc:creator>
  <dc:description/>
  <dc:language>en-US</dc:language>
  <cp:lastModifiedBy>golden</cp:lastModifiedBy>
  <dcterms:modified xsi:type="dcterms:W3CDTF">2010-11-21T04:14:57Z</dcterms:modified>
  <cp:revision>62</cp:revision>
  <dc:subject/>
  <dc:title>Eclampsia </dc:title>
</cp:coreProperties>
</file>