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653F-17E1-41B1-8C62-CD86DAAE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2DE4-2FE0-48B8-8676-437A9663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002EE-D201-4C8E-85BE-50BF34782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9F6A9-D7BE-4DD0-BEFD-620229DD8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808D1-76E7-483E-ABE8-595979CB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0E6E-F41F-46E0-B2C1-6346EB01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D305-F133-4245-A4C9-27156D78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017A-0B2A-446B-9588-7246A1853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445AF-76C9-4340-BA9A-871D40DE6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5FC5-B67F-472F-992B-6E8638D3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7DBB-59DF-4CA1-9C6B-F67859B8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6CA7-ABF3-4982-9853-9734CD7F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4F7D-28A2-48D2-9B4A-9ADC3F6352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اقب البيئي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logical Suc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55640" y="836640"/>
            <a:ext cx="7316640" cy="52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16000" y="1557360"/>
            <a:ext cx="7550280" cy="3360600"/>
          </a:xfrm>
          <a:prstGeom prst="rect">
            <a:avLst/>
          </a:prstGeom>
          <a:ln w="0">
            <a:noFill/>
          </a:ln>
        </p:spPr>
      </p:pic>
      <p:sp>
        <p:nvSpPr>
          <p:cNvPr id="54" name=""/>
          <p:cNvSpPr/>
          <p:nvPr/>
        </p:nvSpPr>
        <p:spPr>
          <a:xfrm>
            <a:off x="3635280" y="62064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قب الدقيق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332000" y="885960"/>
            <a:ext cx="705636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59280" y="249120"/>
            <a:ext cx="3960720" cy="106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جدول مقارن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7" name=""/>
          <p:cNvGraphicFramePr/>
          <p:nvPr/>
        </p:nvGraphicFramePr>
        <p:xfrm>
          <a:off x="1763640" y="1341360"/>
          <a:ext cx="6408360" cy="3796920"/>
        </p:xfrm>
        <a:graphic>
          <a:graphicData uri="http://schemas.openxmlformats.org/drawingml/2006/table">
            <a:tbl>
              <a:tblPr/>
              <a:tblGrid>
                <a:gridCol w="2135880"/>
                <a:gridCol w="2136600"/>
                <a:gridCol w="2135880"/>
              </a:tblGrid>
              <a:tr h="793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تعاقب ثان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Times New Roman"/>
                        </a:rPr>
                        <a:t>تعاقب أو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وجه المقار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ظهور و تطور مجتمع أحيائي في مكان كان به حياه من قبل و تعرض لكارث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ظهور و تطور مجتمع أحيائي لاول مره في مكان لم يكن به حياه من قب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تعري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400" spc="-1" strike="noStrike">
                          <a:solidFill>
                            <a:srgbClr val="000000"/>
                          </a:solidFill>
                          <a:latin typeface="Times New Roman"/>
                          <a:cs typeface="Times New Roman"/>
                        </a:rPr>
                        <a:t>حقل زراعي تعرض لغزو أو فيضان أو زلزا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براكين , الكثبان الرمليه , أماكن التعدين , برك ما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مثال على أماكن يحدث بها  التعاق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ea typeface="Times New Roman"/>
                        </a:rPr>
                        <a:t>100</a:t>
                      </a:r>
                      <a:r>
                        <a:rPr b="1" lang="ar-AE" sz="1400" spc="-1" strike="noStrike">
                          <a:solidFill>
                            <a:srgbClr val="000000"/>
                          </a:solidFill>
                          <a:latin typeface="Times New Roman"/>
                          <a:ea typeface="Times New Roman"/>
                        </a:rPr>
                        <a:t> س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ea typeface="Times New Roman"/>
                        </a:rPr>
                        <a:t>200</a:t>
                      </a:r>
                      <a:r>
                        <a:rPr b="1" lang="ar-AE" sz="1400" spc="-1" strike="noStrike">
                          <a:solidFill>
                            <a:srgbClr val="000000"/>
                          </a:solidFill>
                          <a:latin typeface="Times New Roman"/>
                          <a:ea typeface="Times New Roman"/>
                        </a:rPr>
                        <a:t> سن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ar-AE" sz="1400" spc="-1" strike="noStrike">
                          <a:solidFill>
                            <a:srgbClr val="000000"/>
                          </a:solidFill>
                          <a:latin typeface="Times New Roman"/>
                          <a:cs typeface="Times New Roman"/>
                        </a:rPr>
                        <a:t>المدة الزمنية اللازمة لحدوث التعاق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 name=""/>
          <p:cNvSpPr/>
          <p:nvPr/>
        </p:nvSpPr>
        <p:spPr>
          <a:xfrm>
            <a:off x="8821440" y="5104440"/>
            <a:ext cx="31320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1197000"/>
            <a:ext cx="8535960" cy="48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476360" y="836640"/>
            <a:ext cx="6191280" cy="5254560"/>
          </a:xfrm>
          <a:prstGeom prst="rect">
            <a:avLst/>
          </a:prstGeom>
          <a:ln w="0">
            <a:noFill/>
          </a:ln>
        </p:spPr>
      </p:pic>
      <p:sp>
        <p:nvSpPr>
          <p:cNvPr id="61" name=""/>
          <p:cNvSpPr/>
          <p:nvPr/>
        </p:nvSpPr>
        <p:spPr>
          <a:xfrm>
            <a:off x="3059280" y="249120"/>
            <a:ext cx="3960720" cy="1068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التعاقب المائ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76720" y="620640"/>
            <a:ext cx="3343320" cy="555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42920" y="1773360"/>
            <a:ext cx="7129440" cy="4010040"/>
          </a:xfrm>
          <a:prstGeom prst="rect">
            <a:avLst/>
          </a:prstGeom>
          <a:ln w="0">
            <a:noFill/>
          </a:ln>
        </p:spPr>
      </p:pic>
      <p:sp>
        <p:nvSpPr>
          <p:cNvPr id="64" name=""/>
          <p:cNvSpPr/>
          <p:nvPr/>
        </p:nvSpPr>
        <p:spPr>
          <a:xfrm>
            <a:off x="2627280" y="292680"/>
            <a:ext cx="4824360" cy="15562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موقــع الدراسة في وادي حنيف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71640" y="819000"/>
            <a:ext cx="3600720" cy="522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00200" y="109440"/>
            <a:ext cx="7743600" cy="663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ـريفاته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ffff66"/>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و </a:t>
            </a:r>
            <a:r>
              <a:rPr b="0" lang="ar-IQ" sz="3200" spc="-1" strike="noStrike">
                <a:solidFill>
                  <a:srgbClr val="000000"/>
                </a:solidFill>
                <a:latin typeface="Arial"/>
              </a:rPr>
              <a:t>التغير الحاصل في المجاميع السكانية لبيئة معينة بما يؤدي الى خلق مجتمعات إحيائية جديدة ووصولها الى حالة التوازن الديناميكي ثم اختفائها بعد فترة قد تطول وقد تقصر لتحل محلها مجتمعات أخرى بدلا عنها  , </a:t>
            </a:r>
            <a:r>
              <a:rPr b="0" lang="ar-SA" sz="3200" spc="-1" strike="noStrike">
                <a:solidFill>
                  <a:srgbClr val="000000"/>
                </a:solidFill>
                <a:latin typeface="Arial"/>
              </a:rPr>
              <a:t>و يحدث التعاقب في أوساط مائية (برك ، مستنقعات ، انهار)...( تعاقب مائي) ويحدث أيضا في الأوساط الصخرية وفي التربة (تعاقب أرضي)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389240" y="2023920"/>
            <a:ext cx="6364080" cy="281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20" y="765000"/>
            <a:ext cx="8551800" cy="504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58920" y="584280"/>
            <a:ext cx="6626160" cy="56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33600" y="1719360"/>
            <a:ext cx="6076800" cy="34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23880" y="1176480"/>
            <a:ext cx="6096240" cy="45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62120" y="1585800"/>
            <a:ext cx="7619760" cy="36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1160" y="2000160"/>
            <a:ext cx="678168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9T07:56:36Z</dcterms:created>
  <dc:creator>خالد</dc:creator>
  <dc:description/>
  <dc:language>en-US</dc:language>
  <cp:lastModifiedBy>خالد</cp:lastModifiedBy>
  <dcterms:modified xsi:type="dcterms:W3CDTF">2016-02-09T09:14:22Z</dcterms:modified>
  <cp:revision>6</cp:revision>
  <dc:subject/>
  <dc:title>التعاقب البيئي </dc:title>
</cp:coreProperties>
</file>