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DEE-E210-4C54-B6C4-E817E01F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C66-EA83-4657-9813-9C514B7C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495-7B4A-4AD4-AC9C-E5895BE1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C19-1B81-4CD9-8CFE-EE5B8C63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2437-2E3C-4690-8700-0E9DD623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164D-4B80-45A7-8C89-188F3B44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DC7A-8EF4-458F-9001-4CEC7AFA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6DCB-C7C4-42F2-AD4F-B7CD2C86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9185-27E5-42D4-ABD6-0AAFB29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C84B-4A75-4977-A1ED-B88BA525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CAD8-CE8F-454E-A108-71DEE2B3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B1D-FFA2-4A66-A983-EB650F42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B029-9ECC-4493-A0E7-F38A1E3F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93E0-B5B7-4B54-AE4E-1A203120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A51A-2DBC-475E-8510-4B4B76EF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9192-F970-49F6-9D8A-BF9410B3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AA49-3BAF-451F-BBBA-C5D5F6E0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A99-EFAF-436F-A44B-721D54CD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36A-BBCE-4403-9A94-5EAB93E4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E37-D12C-4091-86FB-FD6C8AC6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36C-E446-427D-BC07-6911CD58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ED6-7808-4ACD-AC94-B6A4D7D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272-1699-4722-B3BE-DEB68B83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002-2A37-4A8B-8B59-38C0C87E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428B-2DB9-42CA-B77E-2E8262B6B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A38D-8A0D-4BF0-A147-1985D36B9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7772400" cy="1828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b5481"/>
                </a:solidFill>
                <a:latin typeface="Tahoma"/>
              </a:rPr>
              <a:t>علم البيئة الحيوانية</a:t>
            </a:r>
            <a:br>
              <a:rPr sz="4400"/>
            </a:b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ANIMAL EC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b5481"/>
                </a:solidFill>
                <a:latin typeface="Tahoma"/>
              </a:rPr>
              <a:t>المحاضرة السادسة،السابعة و الثام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b5481"/>
                </a:solidFill>
                <a:latin typeface="Tahoma"/>
              </a:rPr>
              <a:t>102 </a:t>
            </a:r>
            <a:r>
              <a:rPr b="0" lang="ar-SA" sz="3200" spc="-1" strike="noStrike">
                <a:solidFill>
                  <a:srgbClr val="2b5481"/>
                </a:solidFill>
                <a:latin typeface="Tahoma"/>
              </a:rPr>
              <a:t>ح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6019920"/>
            <a:ext cx="6019920" cy="3682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2b5481"/>
                </a:solidFill>
                <a:latin typeface="Tahoma"/>
              </a:rPr>
              <a:t>د. مها حسن عبدالعزيز داغستان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00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Tahoma"/>
              </a:rPr>
              <a:t>نسبة بخار الماء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الجو تعتبر هامة جداً لكثير من الحيوانات. . ففي الأماكن ذات الرطوبة المنخفضة تأوي الحيوانات الصغيرة  إلى أماكن محمية رطبة أثناء النهار و تخرج أثناء الليل حيث تنخفض درجة الحرارة فيقل تأثير رطوبة الهواء المنخفضة في الجو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حينما تكون </a:t>
            </a:r>
            <a:r>
              <a:rPr b="0" lang="ar-SA" sz="2800" spc="-1" strike="noStrike">
                <a:solidFill>
                  <a:srgbClr val="cc0099"/>
                </a:solidFill>
                <a:latin typeface="Tahoma"/>
              </a:rPr>
              <a:t>درجة رطوب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جو مناسبة تستطيع الحيوانات أن تخرج نهارا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رجة رطوبة التربة هامة لكثير من الحيوانات التي تعيش في التربة كديدان الأرض و بعض يرقات الحشرات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4. </a:t>
            </a: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الضغط</a:t>
            </a: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99"/>
                </a:solidFill>
                <a:latin typeface="Tahoma"/>
              </a:rPr>
              <a:t>تنخفض كمية الأكس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الجو كلما زاد الإرتفاع عن سطح البحر و قل بالتالي الضـغط الجو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الأفــراد الذين يعيشون في المرتفعات تكون قلوبهم أكبر حجماً و في دمائهم كرات دموية حمراء أكثر عدداً من الأفراد الذين يعيشون بالقرب من سطح البحر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ذلك </a:t>
            </a:r>
            <a:r>
              <a:rPr b="1" lang="ar-SA" sz="2800" spc="-1" strike="noStrike">
                <a:solidFill>
                  <a:srgbClr val="ffcc00"/>
                </a:solidFill>
                <a:latin typeface="Tahoma"/>
              </a:rPr>
              <a:t>تشتد الرياح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عندما يختلف الضغط الجوي من مكان إلى مكان 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ذلك يؤثر على كثير من الحيوانات كالطيور و الحشرات أثناء طيرانها حيث قد تدفعها الرياح إلى أماكن جديدة . كذلك تسبب حركة الرياح جفاف النبات و بعض الحيوا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ؤثر</a:t>
            </a:r>
            <a:r>
              <a:rPr b="0" lang="ar-SA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ccff33"/>
                </a:solidFill>
                <a:latin typeface="Tahoma"/>
              </a:rPr>
              <a:t>الضغط</a:t>
            </a:r>
            <a:r>
              <a:rPr b="0" lang="ar-SA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أيضاً على الحيـوانات المائية ، لأن ضغط الماء يزيد بزيادة عمق الماء ، و ذلك يحدد أنواع الحيوانات التي تستطيع الحياة عند  مستويات العمق المختلفة في الما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697575"/>
              </a:gs>
              <a:gs pos="50000">
                <a:srgbClr val="e5ffff"/>
              </a:gs>
              <a:gs pos="100000">
                <a:srgbClr val="697575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9999"/>
                </a:solidFill>
                <a:latin typeface="Tahoma"/>
              </a:rPr>
              <a:t>5. </a:t>
            </a:r>
            <a:r>
              <a:rPr b="1" lang="ar-SA" sz="4400" spc="-1" strike="noStrike">
                <a:solidFill>
                  <a:srgbClr val="009999"/>
                </a:solidFill>
                <a:latin typeface="Tahoma"/>
              </a:rPr>
              <a:t>العناصر الكيميائية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تاج جميع أنواع الحياة إلى عدد مناسب من العناصر الأساسية و الثانوية ، ف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لأكس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c0099"/>
                </a:solidFill>
                <a:latin typeface="Tahoma"/>
              </a:rPr>
              <a:t>و الكـربو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cc00"/>
                </a:solidFill>
                <a:latin typeface="Tahoma"/>
              </a:rPr>
              <a:t>و الهيدرو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2800" spc="-1" strike="noStrike">
                <a:solidFill>
                  <a:srgbClr val="ff5050"/>
                </a:solidFill>
                <a:latin typeface="Tahoma"/>
              </a:rPr>
              <a:t>النترو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كون معاً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95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% من المادة الحية ، لذلك فهذه العناصر هي السائدة في تكوين الحياة على الأرض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ـــذه العناصر الأربـع تدعمها سبعة عناصر أخرى هي : الفوسـفور و الكالسيوم و البوتاسيوم و الكبريت و الصوديوم و الكلور و الماغنسيوم بالإضافة إلى عدد كبير من العناصر النادر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ناك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46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عنصراً في المادة الحية يعتبر العديد منها أساسياً للحياة ، بينـما تتواجـد الأخـرى فقط بسبب وجودها في البيئة التي يتفاعل معها الكائن الح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0046"/>
              </a:gs>
              <a:gs pos="50000">
                <a:srgbClr val="cc0099"/>
              </a:gs>
              <a:gs pos="100000">
                <a:srgbClr val="5e00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6. 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طبيعة التربة</a:t>
            </a: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يعتبر التركيب الكيميائ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لتربة من العوامل التي تحدد وجود نباتات معينة وبالتالي حيوانات معينة ( كما في حالة القوقع وديدان الأرض )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يعتبر كذلك تكوين التربة من حيث </a:t>
            </a:r>
            <a:r>
              <a:rPr b="0" lang="ar-SA" sz="2800" spc="-1" strike="noStrike">
                <a:solidFill>
                  <a:srgbClr val="ff5050"/>
                </a:solidFill>
                <a:latin typeface="Tahoma"/>
              </a:rPr>
              <a:t>تماسكها أو تفككه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هام من حيث علاقة ذلك بالمحتوى الرطوبي للتربة وقدرتها على الإحتفاظ بهذه الرطوبة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كذلك تعتبر </a:t>
            </a:r>
            <a:r>
              <a:rPr b="0" lang="ar-SA" sz="2800" spc="-1" strike="noStrike">
                <a:solidFill>
                  <a:srgbClr val="ccff33"/>
                </a:solidFill>
                <a:latin typeface="Tahoma"/>
              </a:rPr>
              <a:t>زاوية الميل والتعرض للشمس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الأمور الهامة التي تؤثر في عملية صرف المياه من التربة وعلى إمتصاص الحرارة منها ، وهذا من شأنه أن يؤثر على مجتمعات الحيوانات الموجودة ب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6633"/>
                </a:solidFill>
                <a:latin typeface="Tahoma"/>
              </a:rPr>
              <a:t>7 . </a:t>
            </a:r>
            <a:r>
              <a:rPr b="1" lang="ar-SA" sz="4400" spc="-1" strike="noStrike">
                <a:solidFill>
                  <a:srgbClr val="996633"/>
                </a:solidFill>
                <a:latin typeface="Tahoma"/>
              </a:rPr>
              <a:t>أجسام الكائنات الآخرى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ناك كثير من الحيوانات التي تسمى </a:t>
            </a:r>
            <a:r>
              <a:rPr b="1" lang="ar-SA" sz="2800" spc="-1" strike="noStrike">
                <a:solidFill>
                  <a:srgbClr val="ff5050"/>
                </a:solidFill>
                <a:latin typeface="Tahoma"/>
              </a:rPr>
              <a:t>الطفيليات 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parasit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لأنها تستخدم حيوانات أخرى كمكان لمعيشـتها  و هذه الأخيرة تسمى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لعوائل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hos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،       و كذلك هناك كائنات تعيش في معيشة تبادل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ذا كانت هذه الطفيليات تعيش داخل </a:t>
            </a:r>
            <a:r>
              <a:rPr b="0" lang="ar-SA" sz="2800" spc="-1" strike="noStrike">
                <a:solidFill>
                  <a:srgbClr val="ccff33"/>
                </a:solidFill>
                <a:latin typeface="Tahoma"/>
              </a:rPr>
              <a:t>القناة الهضم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غيرها فإنها تتحور لتقاوم فعل الإنزيمات الهاضمة ، وهذه الطفيليات عموما تعيش في بيئة أكثر إستقراراً من الحيوانات الآخرى التي تعيش معيشة حرة ، كما أنها تكون في حماية من الأعداء أثناء وجودها داخل جسم العائ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يوانات التي تعيش في </a:t>
            </a:r>
            <a:r>
              <a:rPr b="0" lang="ar-SA" sz="2800" spc="-1" strike="noStrike">
                <a:solidFill>
                  <a:srgbClr val="ffcc00"/>
                </a:solidFill>
                <a:latin typeface="Tahoma"/>
              </a:rPr>
              <a:t>معيشة تبادل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ا يستطيع أحدهما الإستغناء عن رفيقه في هذه العلاقة حيث يعتمد كل منهما على الآخر أيضياً ، كما في حالة النمل الأبيض و السوطيات التي تعيش في أمعائه ، و الحيوانات المجترة و المسوطات التي تعيش في جهازها الهضمي لأنها تستخدم أجسام الحيوانات الأخرى كمكان لمعيشتها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البيئة الحية أو الحيوية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حيوانات التي تعيش مع بعضها البعض و يؤثر كل منهما في الآخر بطريقة أو بأخرى ، وهذا يشمل التنافـس على الغذاء والمسكن وعلي الحماية من الأعداء ، و إفتراس بعض الأنواع لأنواع أخرى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ناك أيضاً علاقة بيولوجية بين النباتات والحيوانات ، وهي علاقة متشابكة وقد تكون ضرورية لحياة أحدهما في معظم الأوقات . فكثير من الحيوانات غذاؤها الأساسي هو النبات ، بينما هنــاك حيوانات أخـرى تعتمد في غذائها على الحيوانات آكلة النب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591000" y="324576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r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المواطن البيئ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9047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0099"/>
                </a:solidFill>
                <a:latin typeface="Tahoma"/>
              </a:rPr>
              <a:t>المواطن البيئية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أولاً : المواطن المائي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. المحيطات :تكونَ البحار والمحيطات معظم المواطن المائية ويحتوي البحر على عدة مناطق رئيسية لها أشكال حياة واضحة هي أساسا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منطقة الساحل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굴림"/>
              </a:rPr>
              <a:t>zone  littora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cc0099"/>
                </a:solidFill>
                <a:latin typeface="Tahoma"/>
              </a:rPr>
              <a:t>الرصيف القـــاري </a:t>
            </a:r>
            <a:r>
              <a:rPr b="1" lang="en-US" sz="3200" spc="-1" strike="noStrike">
                <a:solidFill>
                  <a:srgbClr val="cc0099"/>
                </a:solidFill>
                <a:latin typeface="Tahoma"/>
                <a:ea typeface="굴림"/>
              </a:rPr>
              <a:t>continental shelf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 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ccff33"/>
                </a:solidFill>
                <a:latin typeface="Tahoma"/>
              </a:rPr>
              <a:t>الإنحدار القاري </a:t>
            </a:r>
            <a:r>
              <a:rPr b="1" lang="en-US" sz="3200" spc="-1" strike="noStrike">
                <a:solidFill>
                  <a:srgbClr val="ccff33"/>
                </a:solidFill>
                <a:latin typeface="Tahoma"/>
                <a:ea typeface="굴림"/>
              </a:rPr>
              <a:t>continental slop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5050"/>
                </a:solidFill>
                <a:latin typeface="Tahoma"/>
              </a:rPr>
              <a:t>منطقـة السـباحة </a:t>
            </a:r>
            <a:r>
              <a:rPr b="1" lang="en-US" sz="3200" spc="-1" strike="noStrike">
                <a:solidFill>
                  <a:srgbClr val="ff5050"/>
                </a:solidFill>
                <a:latin typeface="Tahoma"/>
                <a:ea typeface="굴림"/>
              </a:rPr>
              <a:t>pelogic zon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99cc"/>
                </a:solidFill>
                <a:latin typeface="Tahoma"/>
              </a:rPr>
              <a:t>قاع البحــر </a:t>
            </a:r>
            <a:r>
              <a:rPr b="1" lang="en-US" sz="3200" spc="-1" strike="noStrike">
                <a:solidFill>
                  <a:srgbClr val="ff99cc"/>
                </a:solidFill>
                <a:latin typeface="Tahoma"/>
                <a:ea typeface="굴림"/>
              </a:rPr>
              <a:t>deep sea flo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يصــل أكبر عمق للمحيطات إلى حوالي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11.5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كم (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7.2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ميل ) تحت سطح البحر .      و عالم البحار متجانس نسبياً بمقارنته باليابس ، و هناك تماثل الواضح للأحياء في سطح المحيطات ، و لكنه يناقض أنواع الحياة في الأعماق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إن المحيطات هي مهد الحياة ، و هذا ينعكس على الكائنات المختلفة التي تعيش فيها ( أكثر من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200.000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نوع من النباتات و الحيوانات 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تعيش غالبية هـذه الأنواع ( حوالي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98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% ) على القــاع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)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قاعية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enthic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) ،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و حوالي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% فقط تعيش حرة في عرض المحيط (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سابحة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lagic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) . و يوجد العديد من حيوانات القاع في منطقة المد و الجزر ، أو أعماق المحيطات الضحل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يعيش أقل من 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% من الحيوانات في أعماق تحت 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2000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 متر ، و أكثر مساحات المحيطات خصوبة و إنتاجاً تتركز غالباً على طول الرصيف القار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 هناك مناطق قليلة تكون فيها المياه غنية بالأملاح العضوية ، و المواد المتحللة التي تصعد بواسطة التيارات المائية الصاعدة إلى المنطقة المشمسة أو المضاءة 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photic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zone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 ، حيث يوجد نشاط التمثيل الضوئي . و بإستثناء حالات ملحوظة ، تعتمد جميع أشكال الحياة أسفل المنطقة المضيئة على الدقائق العضوية الهابطة من أعلى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79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b5481"/>
                </a:solidFill>
                <a:latin typeface="Tahoma"/>
              </a:rPr>
              <a:t>يعـرف علم البيئة الحيواني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بأنه العلم الذي يدرس  الحيوان في علاقته بالبيئة التي يعيــش فيها والظروف المحيطة به 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هذا العلم يعتبر من أهم العلوم البيولوجية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حياة الحيوان هي في النهاية نتيجة لتفاعله مع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عوامل </a:t>
            </a:r>
            <a:r>
              <a:rPr b="1" lang="ar-SA" sz="3200" spc="-1" strike="noStrike">
                <a:solidFill>
                  <a:srgbClr val="cc0066"/>
                </a:solidFill>
                <a:latin typeface="Tahoma"/>
              </a:rPr>
              <a:t>الطبيعية </a:t>
            </a:r>
            <a:r>
              <a:rPr b="1" lang="en-US" sz="3200" spc="-1" strike="noStrike">
                <a:solidFill>
                  <a:srgbClr val="cc0066"/>
                </a:solidFill>
                <a:latin typeface="Tahoma"/>
              </a:rPr>
              <a:t>Physical factor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ahoma"/>
              </a:rPr>
              <a:t>و </a:t>
            </a:r>
            <a:r>
              <a:rPr b="1" lang="ar-SA" sz="3200" spc="-1" strike="noStrike">
                <a:solidFill>
                  <a:srgbClr val="cc0066"/>
                </a:solidFill>
                <a:latin typeface="Tahoma"/>
              </a:rPr>
              <a:t>العوامل الحيوية </a:t>
            </a:r>
            <a:r>
              <a:rPr b="1" lang="en-US" sz="3200" spc="-1" strike="noStrike">
                <a:solidFill>
                  <a:srgbClr val="cc0066"/>
                </a:solidFill>
                <a:latin typeface="Tahoma"/>
              </a:rPr>
              <a:t>Biological factor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ي تؤثر في البيئة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2b5481"/>
                </a:solidFill>
                <a:latin typeface="Tahoma"/>
              </a:rPr>
              <a:t>الساحل</a:t>
            </a:r>
            <a:r>
              <a:rPr b="0" lang="ar-SA" sz="40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littoral</a:t>
            </a:r>
            <a:r>
              <a:rPr b="0" lang="ar-SA" sz="4000" spc="-1" strike="noStrike">
                <a:solidFill>
                  <a:srgbClr val="2b5481"/>
                </a:solidFill>
                <a:latin typeface="Tahoma"/>
              </a:rPr>
              <a:t> أو منطقة </a:t>
            </a:r>
            <a:r>
              <a:rPr b="1" lang="ar-SA" sz="4000" spc="-1" strike="noStrike">
                <a:solidFill>
                  <a:srgbClr val="2b5481"/>
                </a:solidFill>
                <a:latin typeface="Tahoma"/>
              </a:rPr>
              <a:t>المد و الجزر </a:t>
            </a: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intertidal zon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يث يتقابل البحر مع اليابـس و هي منطفة شديدة الخشونة ، و لكنها أغنى البيئات البحرية . و هذه المنطـقة و حيوانـــاتها معرضــة للأمــواج العنيفة و للشمس و الريــاح و الأمطار ، و كذلك للتغـيير الكـبير في درجة الحرارة ، و لعوامل التعرية و الترسيب . و مع ذلك فلأن البيـئات الموجودة متنوعة و بها إمــداد وفــير مـن الأمــلاح المعــدنية  تـزدهر بها الحيوانات مثل الأطــوم و القواقع و الكيتون و البطلينوس و بلح البحر و قنفد البحر و حيوانات أخرى كثير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</a:rPr>
              <a:t>المنطقة التحت ساحلية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sublittoral zon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 هي تلي منطقة الساحل و تكون مغمورة بالماء دائماً . و هي تضم أيضاً مجموعة غنية و متنوعة من الحيوانات و غابات من الطحالب البن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5181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b5481"/>
                </a:solidFill>
                <a:latin typeface="Tahoma"/>
              </a:rPr>
              <a:t>منطقة المياه الضحلة </a:t>
            </a:r>
            <a:r>
              <a:rPr b="1" lang="en-US" sz="4400" spc="-1" strike="noStrike">
                <a:solidFill>
                  <a:srgbClr val="2b5481"/>
                </a:solidFill>
                <a:latin typeface="Tahoma"/>
              </a:rPr>
              <a:t>nerit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 هي تحيــط بالقارات و تمتد إلى عمق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تر ، و هذه المنطقة أكثر إنتاجاً عن عرض المحيط ، لأنها تستفيد من الأملاح المعدنية القادمة من الأنهار ، و من التيارات الصاعدة عند حافة الرصيف القاري . و على ذلك فإن نمو النباتات يكون وفيراً ، و بالتالي فإنه يدعم حياة متنوعة للحيوانات ، و هي تشمل مصايد أسماك العال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مناطق التيارات الصاعدة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upwel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لى الرغم من أنها ضئيلة و محدودة في مناطق قليلة ، إلا أنـها مصـدر حيـوي لتجـديد الأملاح للمنطقة السطحية المضاءة . و تتمركز بعض مصايد أسماك العالم الأكثر إنتاجاً في مناطق التيارات الصاعد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66688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3886200"/>
            <a:ext cx="2438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0033"/>
                </a:solidFill>
                <a:latin typeface="Tahoma"/>
              </a:rPr>
              <a:t>منطقة السباحة</a:t>
            </a:r>
            <a:r>
              <a:rPr b="0" lang="ar-SA" sz="4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Tahoma"/>
                <a:ea typeface="굴림"/>
              </a:rPr>
              <a:t>pelagic zo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 و هي عرض المحيط الواسع ، و بالرغم من أن حجمها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9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 من مساحة المحيط، فإن هذه المنطقة فقيرة نسـبياً من الناحية البيولوجية ، و ذلـك لأن الكائنات الحـية تموت ، ثم تترسب خارج المنطقة المضيئة ، و تصل الأملاح المعدنية إلى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نطقة القاع سبح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bathypelagic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حيث تتوقف حركتها ، بينما تظل هذه الأملاح في مناطق التيارات الصاعدة حيث تتحول إلى تيـارات المحيط و تصبح المياه مشبعة بالأملاح المعدنية وعليه تكون الإنتاجية عالية . و مثال ذلك نجد أن البحار القطبية هائلة الإنتاج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66"/>
                </a:solidFill>
                <a:latin typeface="Tahoma"/>
              </a:rPr>
              <a:t>تشــمل العــوامل الطبيعي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b5481"/>
                </a:solidFill>
                <a:latin typeface="Tahoma"/>
              </a:rPr>
              <a:t>الحــرارة </a:t>
            </a:r>
            <a:r>
              <a:rPr b="0" lang="ar-SA" sz="3200" spc="-1" strike="noStrike">
                <a:solidFill>
                  <a:srgbClr val="cc0066"/>
                </a:solidFill>
                <a:latin typeface="Tahoma"/>
              </a:rPr>
              <a:t>وضـــوء الشــمس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SA" sz="3200" spc="-1" strike="noStrike">
                <a:solidFill>
                  <a:srgbClr val="008000"/>
                </a:solidFill>
                <a:latin typeface="Tahoma"/>
              </a:rPr>
              <a:t>الم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وطبيعة الوســـــط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SA" sz="3200" spc="-1" strike="noStrike">
                <a:solidFill>
                  <a:srgbClr val="3333cc"/>
                </a:solidFill>
                <a:latin typeface="Tahoma"/>
              </a:rPr>
              <a:t>الترب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الجاذبية الأرض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3200" spc="-1" strike="noStrike">
                <a:solidFill>
                  <a:srgbClr val="008000"/>
                </a:solidFill>
                <a:latin typeface="Tahoma"/>
              </a:rPr>
              <a:t>الضغط الجو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Tahoma"/>
              </a:rPr>
              <a:t>و الغاز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المواد الكيميائية الموجود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ي الوسط وغيرها ، و كل منها يمكن قياسها على حدة و قياس تأثيرها على الحيوانات و لكن جميع هذه العوامل تكون عـلاقة متكاملة حيث لا يؤثر أي منها منفرداً على الحيوانات . </a:t>
            </a:r>
            <a:r>
              <a:rPr b="0" lang="ar-SA" sz="3200" spc="-1" strike="noStrike">
                <a:solidFill>
                  <a:srgbClr val="003366"/>
                </a:solidFill>
                <a:latin typeface="Tahoma"/>
              </a:rPr>
              <a:t>كما تشمل العوامل الحيو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cc0066"/>
                </a:solidFill>
                <a:latin typeface="Tahoma"/>
              </a:rPr>
              <a:t>النبات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SA" sz="3200" spc="-1" strike="noStrike">
                <a:solidFill>
                  <a:srgbClr val="009999"/>
                </a:solidFill>
                <a:latin typeface="Tahoma"/>
              </a:rPr>
              <a:t>الحيوان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واء التابعة لنفس النوع أو تابعة لأنواع مختلف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البيئة القاعية</a:t>
            </a: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abyssal habit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توجد في أقصى أعماق المحيط ، و تتميز بالضغط الهائل و الظلام الدائم ، و درجة الحرارة الثابتة القريبة من الصفر . و قد بقيت هذه المنطقة عالماً مجهولاً للإنسان إلى وقت قريب حين إستحدثت آلات تصوير القاع ، و شباك القاع التي تم إنزالهما إلى قاع المحيط لتصويره و أخذ عينات منه . و تعيش أحياء قاع البحر على الجزء الضئيل من المواد العضوية القليلة التي تسقط من أعلى ، و التي تنجو من إستهلاك الكائنات الحية في طبقات الماء الأعلى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بالرغم من الصفات غير العادية لهذه البيئة . فإنه تعيش فيها بعض أنواع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أنيمونات البحر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a anemones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ناف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بحر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a urch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قشريا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ustacean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ديد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حلقية الشوك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lychae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و كذلك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وجد أيضاً أنـواع من جميع مجموعات اللافقاريات الرئيسية تقريباً ، و بعض الأسماك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0033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كتشف حديثاً مستعمرات لحيوانات قاعية ذات إعتماد ذاتي ، إذ لا تعتم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لى الطاقة الشمسية إطلاقاً ، و لا على تساقط المواد العضوية من أعلى ، و قد إكتشفت كذلك فجوات البراكين الساخنة الناتجة من تصدع الصخور في قاع المحيط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 يقسم المحيط إلى منطقتين تبعاً لإختراق الضوء له هما المنطقة الضوئية والمنطقة المعتمة و ذلك يعتمد على مدى عمق الم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002f"/>
              </a:gs>
              <a:gs pos="50000">
                <a:srgbClr val="cc0066"/>
              </a:gs>
              <a:gs pos="100000">
                <a:srgbClr val="5e002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المنطقة الضوئية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hotic zo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مق هذه المنطقة يصل إلى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 ، وتوجد فيها الكائنات الحية التي تقوم بعملية التمثيل الضوئي ، وكـذلك الحيوانات التي تعتمـد مباشرة في غذائها على تلك الكائن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5ffff"/>
                </a:solidFill>
                <a:latin typeface="Tahoma"/>
              </a:rPr>
              <a:t>يمكن تقسيم الكائنات التي تعيش في المنطقة الضوئية إلى ثلاث مجموعات رئيسية هي</a:t>
            </a:r>
            <a:r>
              <a:rPr b="0" lang="ar-SA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990033"/>
                </a:solidFill>
                <a:latin typeface="Tahoma"/>
              </a:rPr>
              <a:t>- العوالق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Plankton</a:t>
            </a:r>
            <a:r>
              <a:rPr b="1" lang="ar-SA" sz="3200" spc="-1" strike="noStrike">
                <a:solidFill>
                  <a:srgbClr val="990033"/>
                </a:solidFill>
                <a:latin typeface="Tahoma"/>
              </a:rPr>
              <a:t> :</a:t>
            </a:r>
            <a:r>
              <a:rPr b="0" lang="ar-SA" sz="3200" spc="-1" strike="noStrike">
                <a:solidFill>
                  <a:srgbClr val="990033"/>
                </a:solidFill>
                <a:latin typeface="Tahoma"/>
              </a:rPr>
              <a:t> و هي كائنات دقيقة الحجم ، وتشمل الطحالب الدقيقة أو</a:t>
            </a:r>
            <a:r>
              <a:rPr b="1" lang="ar-SA" sz="3200" spc="-1" strike="noStrike">
                <a:solidFill>
                  <a:srgbClr val="990033"/>
                </a:solidFill>
                <a:latin typeface="Tahoma"/>
              </a:rPr>
              <a:t> العوالق النباتية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phytoplankton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990033"/>
                </a:solidFill>
                <a:latin typeface="Tahoma"/>
              </a:rPr>
              <a:t>و</a:t>
            </a:r>
            <a:r>
              <a:rPr b="1" lang="ar-SA" sz="3200" spc="-1" strike="noStrike">
                <a:solidFill>
                  <a:srgbClr val="990033"/>
                </a:solidFill>
                <a:latin typeface="Tahoma"/>
              </a:rPr>
              <a:t>الحيوانية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zooplankton</a:t>
            </a:r>
            <a:r>
              <a:rPr b="0" lang="ar-SA" sz="3200" spc="-1" strike="noStrike">
                <a:solidFill>
                  <a:srgbClr val="990033"/>
                </a:solidFill>
                <a:latin typeface="Tahoma"/>
              </a:rPr>
              <a:t> الأساسية في نقل الطاقة خلال الهرم الغذائ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 - السوابح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elagic</a:t>
            </a: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 :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وتمثل الكائنات السابحة في المناطق الشطية والبحر المفتوح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ar-SA" sz="3200" spc="-1" strike="noStrike">
                <a:solidFill>
                  <a:srgbClr val="66ff33"/>
                </a:solidFill>
                <a:latin typeface="Tahoma"/>
              </a:rPr>
              <a:t>القاعيات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Benthos</a:t>
            </a:r>
            <a:r>
              <a:rPr b="1" lang="ar-SA" sz="3200" spc="-1" strike="noStrike">
                <a:solidFill>
                  <a:srgbClr val="66ff33"/>
                </a:solidFill>
                <a:latin typeface="Tahoma"/>
              </a:rPr>
              <a:t> : </a:t>
            </a:r>
            <a:r>
              <a:rPr b="0" lang="ar-SA" sz="3200" spc="-1" strike="noStrike">
                <a:solidFill>
                  <a:srgbClr val="66ff33"/>
                </a:solidFill>
                <a:latin typeface="Tahoma"/>
              </a:rPr>
              <a:t>وتمثل الكائنات الحية التي تعيش في الأعماق بما في ذلك النباتات والحيوانات وبعض الفطريات والأوليات والبدائي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29200" cy="289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876920" y="2895480"/>
            <a:ext cx="4267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66"/>
                </a:solidFill>
                <a:latin typeface="Tahoma"/>
              </a:rPr>
              <a:t>المنطقة المعتمة </a:t>
            </a: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Aphotic zo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شمل هذه المنطقة أعماق المحيطات ما بعد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 تحت سطح الماء ولا يصلها الضوء ، ولذلك فهي خالية من الكائنات الحية التي تعتمد على التمثيل الكلوروفيلي ، و تقتصر على بعض الحيوانات اللاحمة فقط والبكتريا والفطريات التي تغتذي على المواد العضوية المتحل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4475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</a:rPr>
              <a:t>يمكن تصنيف الحيوانات بيئياً طبقا لثلاث طرق مختلفة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-7639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66"/>
                </a:solidFill>
                <a:latin typeface="Tahoma"/>
              </a:rPr>
              <a:t>قد يكون هذا طبقا لمكان المعيشة 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living  habit</a:t>
            </a:r>
            <a:r>
              <a:rPr b="0" lang="ar-SA" sz="2800" spc="-1" strike="noStrike">
                <a:solidFill>
                  <a:srgbClr val="cc0066"/>
                </a:solidFill>
                <a:latin typeface="Tahoma"/>
              </a:rPr>
              <a:t>  فيقال حيوانات أرضية  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terrestria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c0066"/>
                </a:solidFill>
                <a:latin typeface="Tahoma"/>
              </a:rPr>
              <a:t>أو حيوانات مائية 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aquatic</a:t>
            </a:r>
            <a:r>
              <a:rPr b="0" lang="ar-SA" sz="2800" spc="-1" strike="noStrike">
                <a:solidFill>
                  <a:srgbClr val="cc0066"/>
                </a:solidFill>
                <a:latin typeface="Tahoma"/>
              </a:rPr>
              <a:t> أو حيوانات متطفلة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parasitic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   </a:t>
            </a:r>
            <a:r>
              <a:rPr b="0" lang="ar-SA" sz="2400" spc="-1" strike="noStrike">
                <a:solidFill>
                  <a:srgbClr val="cc0066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639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63920" indent="-7639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66ff33"/>
                </a:solidFill>
                <a:latin typeface="Tahoma"/>
              </a:rPr>
              <a:t>قد يكون التصنيف طبقا</a:t>
            </a:r>
            <a:r>
              <a:rPr b="1" lang="ar-SA" sz="2400" spc="-1" strike="noStrike">
                <a:solidFill>
                  <a:srgbClr val="66ff33"/>
                </a:solidFill>
                <a:latin typeface="Tahoma"/>
              </a:rPr>
              <a:t> لطبيعة الغذاء  </a:t>
            </a: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food  habitat</a:t>
            </a:r>
            <a:r>
              <a:rPr b="0" lang="ar-SA" sz="2400" spc="-1" strike="noStrike">
                <a:solidFill>
                  <a:srgbClr val="66ff33"/>
                </a:solidFill>
                <a:latin typeface="Tahoma"/>
              </a:rPr>
              <a:t>  فيقال </a:t>
            </a:r>
            <a:r>
              <a:rPr b="1" lang="ar-SA" sz="2400" spc="-1" strike="noStrike">
                <a:solidFill>
                  <a:srgbClr val="66ff33"/>
                </a:solidFill>
                <a:latin typeface="Tahoma"/>
              </a:rPr>
              <a:t>آكلات اللحوم </a:t>
            </a: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carnivorous</a:t>
            </a:r>
            <a:r>
              <a:rPr b="0" lang="ar-SA" sz="2400" spc="-1" strike="noStrike">
                <a:solidFill>
                  <a:srgbClr val="66ff33"/>
                </a:solidFill>
                <a:latin typeface="Tahoma"/>
              </a:rPr>
              <a:t> أو </a:t>
            </a:r>
            <a:r>
              <a:rPr b="1" lang="ar-SA" sz="2400" spc="-1" strike="noStrike">
                <a:solidFill>
                  <a:srgbClr val="66ff33"/>
                </a:solidFill>
                <a:latin typeface="Tahoma"/>
              </a:rPr>
              <a:t>آكلات عشب </a:t>
            </a: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herbivorous</a:t>
            </a:r>
            <a:r>
              <a:rPr b="0" lang="ar-SA" sz="2400" spc="-1" strike="noStrike">
                <a:solidFill>
                  <a:srgbClr val="66ff33"/>
                </a:solidFill>
                <a:latin typeface="Tahoma"/>
              </a:rPr>
              <a:t> أو </a:t>
            </a:r>
            <a:r>
              <a:rPr b="1" lang="ar-SA" sz="2400" spc="-1" strike="noStrike">
                <a:solidFill>
                  <a:srgbClr val="66ff33"/>
                </a:solidFill>
                <a:latin typeface="Tahoma"/>
              </a:rPr>
              <a:t>تتغذى على جميع ما يصادفها </a:t>
            </a: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omnivorous</a:t>
            </a:r>
            <a:r>
              <a:rPr b="0" lang="ar-SA" sz="2400" spc="-1" strike="noStrike">
                <a:solidFill>
                  <a:srgbClr val="66ff33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639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63920" indent="-7639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cc00"/>
                </a:solidFill>
                <a:latin typeface="Tahoma"/>
              </a:rPr>
              <a:t>الطريقة الثالثة لتصنيف الحيوانات بيئياً هي طبقا </a:t>
            </a: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للتوزيع الجغرافي</a:t>
            </a:r>
            <a:r>
              <a:rPr b="0" lang="ar-SA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eographical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distributium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cc00"/>
                </a:solidFill>
                <a:latin typeface="Tahoma"/>
              </a:rPr>
              <a:t>، فبعض الحيوانات تعيش في المناطق الحارة ، وغيرها في المناطق المعتدلة أو الباردة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6699"/>
                </a:solidFill>
                <a:latin typeface="Tahoma"/>
              </a:rPr>
              <a:t>ب - مواطن المياه العذبة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굴림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شمل مواطن المياه العذبة المختلفة </a:t>
            </a:r>
            <a:r>
              <a:rPr b="0" lang="ar-SA" sz="3200" spc="-1" strike="noStrike">
                <a:solidFill>
                  <a:srgbClr val="ff6699"/>
                </a:solidFill>
                <a:latin typeface="Tahoma"/>
              </a:rPr>
              <a:t>الراكدة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نها مثل </a:t>
            </a:r>
            <a:r>
              <a:rPr b="0" lang="ar-SA" sz="3200" spc="-1" strike="noStrike">
                <a:solidFill>
                  <a:srgbClr val="ff6699"/>
                </a:solidFill>
                <a:latin typeface="Tahoma"/>
              </a:rPr>
              <a:t>البرك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6699"/>
                </a:solidFill>
                <a:latin typeface="Tahoma"/>
              </a:rPr>
              <a:t>والمستنقعات والبحير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الجار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ثل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الجداول والشلال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والأنهار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شكل المياه العذبة جزءاً بسيطاً من كمية المياه في الأرض ، فهي مع ذلك تعتبر مكوناً أساسياً لدورة الماء في العال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يئات المياه الداخلية لا غنى عنها لحيوانات اليابسة الكثيرة التي تعتمد على هذه البيئات كمصدر للشرب أو التكاث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Tahoma"/>
              </a:rPr>
              <a:t>تفرض بيئات المياه العذبة كثيراً من التحديات للعديد من الحيوانات المائبية التي تعيش فيها للأسباب الآتية :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هي متغيرة ، تفتقد إستقرار اليابسة و المحيط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غييرات الموسمية غالباً تكون بدرجة كبير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جف البحيرات و البرك تدريجياً و في النهاية تستبدل باليابس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حتاج الحيوانات المائية إلى تكيف خاص للإحتفاظ بالأملاح ، و التخلص من الماء الزائدة ، لأن المياه العذبة تحتوي على كمية أملاح ضئيل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الضروري أن تكون الحيـوانات التي تعيش في المجـاري المائية السريعة ذات تكيفات معينة مثل أعضاء للالتصاق ، أو يكون شكلها إنسابياً لتفادي جرفها مع تيار الماء المستمر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دمر كثير من بيئات المياه الغذبة بواسطة التلوث الذي يسببه الإنسان ، مثل إلقاء نفايات المصانع السـامة و مياه الصـرف الصحي فـي المجاري المائية بكميات كبير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0033"/>
                </a:solidFill>
                <a:latin typeface="Tahoma"/>
              </a:rPr>
              <a:t>تصنف المياه الداخـلية عامة إلى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7c80"/>
                </a:solidFill>
                <a:latin typeface="Tahoma"/>
              </a:rPr>
              <a:t>1</a:t>
            </a:r>
            <a:r>
              <a:rPr b="0" lang="ar-SA" sz="4000" spc="-1" strike="noStrike">
                <a:solidFill>
                  <a:srgbClr val="ff7c80"/>
                </a:solidFill>
                <a:latin typeface="Tahoma"/>
              </a:rPr>
              <a:t>- بيئات مياه جارية  </a:t>
            </a:r>
            <a:r>
              <a:rPr b="0" lang="en-US" sz="4000" spc="-1" strike="noStrike">
                <a:solidFill>
                  <a:srgbClr val="ff7c80"/>
                </a:solidFill>
                <a:latin typeface="Tahoma"/>
              </a:rPr>
              <a:t>lotic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و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0" lang="ar-SA" sz="4000" spc="-1" strike="noStrike">
                <a:solidFill>
                  <a:srgbClr val="99cc00"/>
                </a:solidFill>
                <a:latin typeface="Tahoma"/>
              </a:rPr>
              <a:t>-  بيئة مياه ساكنة</a:t>
            </a:r>
            <a:r>
              <a:rPr b="0" lang="en-US" sz="4000" spc="-1" strike="noStrike">
                <a:solidFill>
                  <a:srgbClr val="99cc00"/>
                </a:solidFill>
                <a:latin typeface="Tahoma"/>
              </a:rPr>
              <a:t>lenti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Tahoma"/>
              </a:rPr>
              <a:t>المميزات العا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راوح بيئات المـياه الجـــارية من جـداول الجبال الصغيرة إلى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جاري المـائ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eam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الأنهار . و في الجداول و المجاري المائية . تكون كمية الأكسجين الذائبة في الماء مرتفعة نتيجة لسرعة تدفق المياه . و مصدر الطاقة في هذه المياه يكون بصفة أساسية المواد العضوية المتحللة القادمة إليها من سـطح الأرض المجاور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مـا الأنهار التي تتحـرك فيها المياه ببـطء ، فإن الأكسجين الذائب بها يكون أقل ، و تتميز بكمية أكبر من الطحالب الطافية ، و النباتات المائية الأخرى ، و كذلك فإن الحيوانات التي تعيش في تلك الأنهار تتحمل تركيز الأكسجين الأق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002f"/>
              </a:gs>
              <a:gs pos="50000">
                <a:srgbClr val="cc0066"/>
              </a:gs>
              <a:gs pos="100000">
                <a:srgbClr val="5e00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Tahoma"/>
              </a:rPr>
              <a:t>المميزات العا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أما في البرك و البحيرات ذات المياه الساكنة يكون تركيز الكسجين أقل ، و خاصة في المساحات العميقة . و الحيوانات التي تعيش على القاع ، أو على النباتات المغمورة        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( حيوانات القاع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ntho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، هي القواقع و المحار و القشريات و أنواع عديدة من الحشرات . يوجد كثير من الكائنات السابحة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( النكتون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kt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في البحيرات و البرك الواسعة و تعتمد على الأملاح المتوفرة بها . كذلك يمكن أن تكون هناك أعداد كبيرة من الكائنات السابحة الصغيرة و الضعيفة النباتية أم حيوانية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( بلانكتون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nkton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ثانياً : المواطن اليابسة</a:t>
            </a: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Terrestrial Biome</a:t>
            </a:r>
            <a:r>
              <a:rPr b="1" lang="ar-SA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قسم المواطن اليابسة إلى عدة مناطق بيئية متميزة حسب خطوط العرض والإرتفاع عن سطح البح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عرف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نطق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بيئ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m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أنها الوحدة العظمى الحية التي تتميز بحياة نباتية معينة . و قد عرف علماء البنات منذ زمن بعيد أن البيئة اليابسة يمكن تقسيمها إلى وحدات كبيرة ذات نباتات متميزة ، مثل الغابات ، المراعي ، الصحاري و هك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ما بالنسبة لتوزيع الحيوان كان ذلك أكثر صعوبة بصفة دائمة حتى بعد أن جمع علماء الطبيعة المعلومات الأساسية حول مجالات و مراكز توزيع الحيوان حول العالم .و وجد أن لا يتطابق توزيع النبات و الحيوان . و لذلك فإن علماء التوزيع الجغرافي للحيوان تقبلوا توزيع النبات كوحدات حيوية أساسية ، و عرفوا المناطق البيئة كإتحادات واضحة من النباتات و الحيوانات . لهذا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المنطقة البيئ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m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عرف بالتكوين النباتي السائد ، و لكن لإعتماد الحيوانات على النباتات فإن كل منطقة بيئية تكفل حيوانات معين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8229600" cy="167652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66"/>
                </a:solidFill>
                <a:latin typeface="Tahoma"/>
              </a:rPr>
              <a:t>البيئة الطبيعية </a:t>
            </a:r>
            <a:r>
              <a:rPr b="0" lang="en-US" sz="4400" spc="-1" strike="noStrike">
                <a:solidFill>
                  <a:srgbClr val="cc0066"/>
                </a:solidFill>
                <a:latin typeface="Tahoma"/>
                <a:ea typeface="굴림"/>
              </a:rPr>
              <a:t>Physical enviro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6699"/>
                </a:solidFill>
                <a:latin typeface="Tahoma"/>
              </a:rPr>
              <a:t>المناطق البيئية الرئيسي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</a:rPr>
              <a:t>الغابات المعتدلة المتساقطة الأوراق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وغابات الصنـوبر المعـتدلة ( التايجا )</a:t>
            </a:r>
            <a:r>
              <a:rPr b="0" lang="ar-SA" sz="3200" spc="-1" strike="noStrike">
                <a:solidFill>
                  <a:srgbClr val="99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cc00"/>
                </a:solidFill>
                <a:latin typeface="Tahoma"/>
              </a:rPr>
              <a:t>و الغابات الإستوائية</a:t>
            </a:r>
            <a:r>
              <a:rPr b="0" lang="ar-SA" sz="32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ahoma"/>
              </a:rPr>
              <a:t>و أرض الحشائــ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ccff66"/>
                </a:solidFill>
                <a:latin typeface="Tahoma"/>
              </a:rPr>
              <a:t>و التنـدرا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ahoma"/>
              </a:rPr>
              <a:t>و الصحر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5ffff"/>
                </a:solidFill>
                <a:latin typeface="Tahoma"/>
              </a:rPr>
              <a:t>( أ ) منطقة الغابات الماطرة الإستوائية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  <a:ea typeface="굴림"/>
              </a:rPr>
              <a:t>Tropical rain forests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  <a:ea typeface="굴림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تصف مناخ هذه المنطقة </a:t>
            </a:r>
            <a:r>
              <a:rPr b="0" lang="ar-SA" sz="3200" spc="-1" strike="noStrike">
                <a:solidFill>
                  <a:srgbClr val="ff6600"/>
                </a:solidFill>
                <a:latin typeface="Tahoma"/>
              </a:rPr>
              <a:t>بالحرارة العال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ccff66"/>
                </a:solidFill>
                <a:latin typeface="Tahoma"/>
              </a:rPr>
              <a:t>والأمطار الموسم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ccff"/>
                </a:solidFill>
                <a:latin typeface="Tahoma"/>
              </a:rPr>
              <a:t>والشمس الساطعة معظم الوق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حتوي على الغابات الضخمة المتشابكة والحيوانات الكثيرة ، وتمثل بذلك أغنى موطن بيئي على اليابس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متد هذه المنطقة على جانبي خط الإستواء ما بين خطي عرض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شمالاً وجنوباً بحيث تشمل الغابات الإستوائية في أواسط إفريقيا وأمريكا اللاتينية ، وجزر شمال أستراليا . أي إن الحزام العالمي الإستوائي من الغابات الإستوائية عبارة عن المنطقة ذات الأمطار الغزيرة   و الرطوبة العالية ، و درجات الحرارة الثابتة و العالية نسبي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 التغيير الموسمي في هذه المنطقة بالنسبة لطول النهار بسيط ، و تلائم هذه الظروف النموالسريع غير المتقطع الذي يصل إلى أقصى مداه في الغابات الممطر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ناك صفة واضحة للغابات الإستوائية وهي وجود التسلسل الطبقي الحياتي ، و يشمل عدداً من طبقات التغذية كالآت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قطن الطيور آكلة الحشرات و الخفافيش فوق الجزء الأعلى من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غابة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nop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ســفل هذه الطبقة توجد طيـور 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خفـافيش الفــاكهة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uit ba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، و ثدييـات تتغذى على الأوراق و الثمـا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ـي المنطقة الوسطى توجــ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ثدييــات متسـلقة الأشـجار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boreal mammal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( مثـل القـرود 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حيــوان كســـلان الشجار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ee stloth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) و العديد من الطيور ، و الخفافيش آكلة الحشرات  و الحشرات و البرمائي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ناك مجموعة مميزة من الحيوانات توجد أعلى و أسفل جذوع الشجار تتغذى من جميع الطبقات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واجد الثدييات الكبيرة التي فقدت القدرة على التسلق على سطح الأرض ، مثل القوارض الكبيرة . كما توجد مجموعة مختلطة من آكلة الحشرات الضغيرة ، و آكلة اللحوم و آكلة الحشائش و كلها تبحث عن غذائها في الأوراق المتساقطة و الأجزاء السفلى من جذوع الأشجا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620043"/>
              </a:gs>
              <a:gs pos="50000">
                <a:srgbClr val="d60093"/>
              </a:gs>
              <a:gs pos="100000">
                <a:srgbClr val="62004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( ب ) المنطقة العشبية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Grasslan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نتشر في هذه المنطقة الأنواع المختلفة من الأعشاب القصيرة والطويلة ، و تتميز بتعاقب فترات الأمطار والشمس ، و توجد بها أنواع عديدة من الثدييات كالأبقار والجواميـس والمـواشي آكلات النبات و الظباء  و الأرانب البرية و كلاب البراري والقوارض التي تعيش في براري هذه المنطقة بالإضافة إلى حيوانات أخرى كالزراف والأسود والفيلة والقرد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ar-SA" sz="4400" spc="-1" strike="noStrike">
                <a:solidFill>
                  <a:srgbClr val="cc0066"/>
                </a:solidFill>
                <a:latin typeface="Tahoma"/>
              </a:rPr>
              <a:t>-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ar-SA" sz="4400" spc="-1" strike="noStrike">
                <a:solidFill>
                  <a:srgbClr val="cc0066"/>
                </a:solidFill>
                <a:latin typeface="Tahoma"/>
              </a:rPr>
              <a:t>ضوء الشم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ahoma"/>
              </a:rPr>
              <a:t>الشمس هي المصدر الأوحد تقريباً للطاقة التي تستخدمها الكائن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3366"/>
                </a:solidFill>
                <a:latin typeface="Tahoma"/>
              </a:rPr>
              <a:t>الح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. فالنباتات الخضراء تمتص أشعة الشمس و تستخدمها في تحويل ثاني أكسيد الكربون و الماء إلى كربوهيدرات بفضل وجود الكلوروفيل ، كما تستطيع بناء البروتينات و الدهون من مركبات غير عضوية . و تشـكل الطاقة الموجودة في هذه المركبات المصدر الأساسي للطاقة التي تستخدمها الحيوانات . و تمر هذه الطاقة من كائن إلى آخــــر، و تكون هي المصدر الوحيد للطاقة التي تمكن الخـلايا الحية من الإستمرار في الحيا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620043"/>
              </a:gs>
              <a:gs pos="50000">
                <a:srgbClr val="d60093"/>
              </a:gs>
              <a:gs pos="100000">
                <a:srgbClr val="62004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( </a:t>
            </a: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ج</a:t>
            </a: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) </a:t>
            </a: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منطقة الغابات المعتدلة المتساقطة الأوراق</a:t>
            </a: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Temperate  deciduous  forests</a:t>
            </a:r>
            <a:br>
              <a:rPr sz="40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متاز مناخ هذه المنطقة بشتاء بارد وماطر وصيف دافئ وتتابع أربعة فصول مختلفة في السن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تميز هذه المنطقة بالأشجار العالية متساقطة الأوراق في الخريف و الشتاء ، وقلة تنوع الحيوانات التي تقتصر على تلك التي تتحمل درجة برودة عال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شمل هذه المنطقة شرق أمريكا ووسط أوروبا وجزء من شرق آسي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ي هذه المنطقة تسود الأشجار غير الدائمة ذات الأوراق العريضة مثل البلوط ، القيقب    و الزان التي تسقط أوراقها في فصل الشت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عرف أفضل المظاهر الموسمية في هذه المنطقة البيئية عنها في مناطق أخرى . و تساقط الأوراق يكون تكيفاً للبيات الشتوي نتيجة لمستويات الطاقة المنخفضة مـن الشمس في فصـل الشتاء الذي قد تكون فيه درجة الحرارة منخفضة لدرجة التجم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ستجيب مستعمرات الحيوانات في الغابات غير دائمة الخضرة للتغييرات الموسمية بطرق مختلفة ، فبعضها يهاجر ، و البعض الآخر يدخل في حالة بيات شتوي ، و هناك حيوانات أخرى غير قادرة على الهروب تتعايش بإستخدامها الغذاء المتاح كالغزلان ، أو تختزن الغذاء كبعض أنواع السناجب ، و توجد كذلك في هذه المناطق الحيوانات الكبيرة آكلة اللحوم مثل أسود الجبل و الذئا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جد بكثرة في الغابات غير دائمة الخضرة مستعمرات الحشرات و اللافقاريات بسبب جذوع الأشجار المتحللة و الأوراق المتساقطة التي تعتبر مأوى مناسباً ل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</a:rPr>
              <a:t>( د ) المنطقة الصحراوية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esert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عرف الصحراء على أنها منطقة جافة تكاد تكون خالية من النباتات ، وهي ذات أمطار قليلة نسبياً ، حارة صيفاً نهاراً وباردةً ليلاً شتاء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نتشر في هذه المنطقة النباتات والحيوانات ذات القدرة العالية على تحمل الجفاف والظروف البيئية القاس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صحاري في الغــالب مناطق قاحـــلة قليــــلة المطار ( أقل من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م / العام ) و ذات تبخير عالي للم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ميز النباتات الصحراوية بأن لها وريقات مختزلة ، و ذات تكيفات أخرى للإحتفاظ بالماء  ( مثل نباتات الصبار و الشجيرات المتنوعة 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لعديد من حيوانات الصحراء الكبيرة تحورات تشريحية و فسيولوجية مميزة لتحتفظ بدرجة حرارتها منخفضة ، و كذلك لتحتفظ بالماء . و تتفادى معظم الحيــوانات الصغيرة الظروف الصعبة أو القاسـية بأن تعيش في حجور أو تصبح ليلة النشاط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شمل الثدييات الموجودة في الصحراء :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غزال الأبيض الذيل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ite tail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er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و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أرنب البري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ccar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أرنب القطبي الذنب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ttontail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أر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كنغر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angeroo ra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السنجاب الأرض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طيور النموذجية لهذه البيئة هي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طائر الجواب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oadrunner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طائر الصعو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ctus wren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النسور و البوم الحفار . أما الزواحف فهي عديدة و من المفصليات توجد أنواع كثيرة من الحشـرات و العناك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50000">
                <a:srgbClr val="339966"/>
              </a:gs>
              <a:gs pos="100000">
                <a:srgbClr val="17462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( هـ ) منطقة التيجة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Taig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قع هذه المنطقة شمال منطقة الغابات المتساقطة الأوراق وشمال المنطقة العشبية عبر شمال أوروبا وكندا وسيبيريا وجنوب الأسكا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تميز التيجة بالصيف القصير المعتدل والشتاء البارد الطوي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تميز بإنتشار وسيادة أنواع معينة من الأشجار مثل الصنوبريات ، كذلك بالحيوانات ذات الفراء السميكة كالدببة والثعالب وغيرها ، كما تكثر فيها الطيور في فصل الصيف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66"/>
                </a:solidFill>
                <a:latin typeface="Tahoma"/>
              </a:rPr>
              <a:t>2. </a:t>
            </a:r>
            <a:r>
              <a:rPr b="1" lang="ar-SA" sz="4400" spc="-1" strike="noStrike">
                <a:solidFill>
                  <a:srgbClr val="003366"/>
                </a:solidFill>
                <a:latin typeface="Tahoma"/>
              </a:rPr>
              <a:t>درجة الحرار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عظــم الكائنات الحيــة تسـتطيع أن تعيش في درجـات حرارة لا يزيد مداها عن صفر إلى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 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ؤثر على قدرة تحمل الكائنات للحرارة </a:t>
            </a:r>
            <a:r>
              <a:rPr b="0" lang="ar-SA" sz="3200" spc="-1" strike="noStrike">
                <a:solidFill>
                  <a:srgbClr val="00ccff"/>
                </a:solidFill>
                <a:latin typeface="Tahoma"/>
              </a:rPr>
              <a:t>الرطوبة النسب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ي الج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رجة الحرارة تؤثر على نمو النبات و بقائه و قدرته على الإثمار، و النبات غذاء لكثير من الحيوان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ذلك فإن الزواحف و البرمائيات و الأسماك و الحشرات و غيرها من اللافقاريات لا تستطيع أن تنظم درجة  حرارة الجسم إلا بدرجة ضئيلة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</a:rPr>
              <a:t>( و ) منطقة التندرا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endr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ي أبعد منطقة حيوية عن خط الإستواء ، وتقع شمال منطقة التيجة حتى المنطقة القطبية ، و تكونَ شريطاً ضيقاً يحيط بالمحيط المتجمد الشمالي في مناطق كندا وسيبيريا وألاسكا حيث الظلام الدامس طوال فصل الشتاء البارد والضوء الخافت طـوال فصل الصيف الدافئ . كذلك توجد في قمم الجبال العالية الخالية من الأشجار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قتصر النباتات في هذه المنطقة على الشجيرات الصغيرة والأشنات والحزازيات والحشائش ، أما الحيوانات فتقتصر على الذباب والفراش وبعض أنواع الثدييات مثل الرنة و ثعلب المسك و الثعلب القطبي و الأرنب البري القطبي ، بالإضافة للطيور المهاجرة أثناء فصل الصيف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ccff"/>
                </a:solidFill>
                <a:latin typeface="Tahoma"/>
              </a:rPr>
              <a:t>( ر ) المنطقة القطبية </a:t>
            </a: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Polar are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شمل المنطقة القطبية المتجمدة الخالية من التربة والمكسوة بالثلوج ، وتشتهر بوجود حيوانات الفقمة والبطريق والدببة التي تعتمد في حياتها على البح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66"/>
                </a:solidFill>
                <a:latin typeface="Tahoma"/>
              </a:rPr>
              <a:t>أي أسئلة متعلقة بالدرس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99"/>
                </a:solidFill>
                <a:latin typeface="Tahoma"/>
              </a:rPr>
              <a:t>ِشكراً لحسن الإصغا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6793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حايل كثير من هذه الكائنات على التغييرات الكبيرة  القاتلة في درجة الحرارة بوضع بيضها أو أطوارها التي تتعرض لتلك التغييرات تحت سطح التربة أو داخل النبات ، و بعضها الآخر  يتغلب عليها بسلوك معين كأن </a:t>
            </a:r>
            <a:r>
              <a:rPr b="0" lang="ar-SA" sz="3200" spc="-1" strike="noStrike">
                <a:solidFill>
                  <a:srgbClr val="cc0066"/>
                </a:solidFill>
                <a:latin typeface="Tahoma"/>
              </a:rPr>
              <a:t>يبيت شتوياً في البر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قـــارس أو صيفاً في الحــر الشديد ، أو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جعل نشاطه ليلياً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ي الجو الحار نهاراً . و بعضها الآخر </a:t>
            </a:r>
            <a:r>
              <a:rPr b="0" lang="ar-SA" sz="3200" spc="-1" strike="noStrike">
                <a:solidFill>
                  <a:srgbClr val="00ccff"/>
                </a:solidFill>
                <a:latin typeface="Tahoma"/>
              </a:rPr>
              <a:t>يهاجر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ن الأماكن ذات البرودة الشديدة في الشتاء إلى أماكن أخرى أكثر دفئاً كما تفعل كثير من الطيو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3. </a:t>
            </a: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المــاء</a:t>
            </a: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اء يؤثر بدرجة كبيرة على بيئة الكائنات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متص الماء الكثير من الحرارة ببطء ثم يفقد هذه الحرارة ببطء أيضاً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ذلك قدرة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الثلج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على الطفو لها أهمية كبيرة في الحفاظ على الحياة في الماء حيث لا يتجمد الماء في قاع البحار و الأنهار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تسبب </a:t>
            </a:r>
            <a:r>
              <a:rPr b="0" lang="ar-SA" sz="3200" spc="-1" strike="noStrike">
                <a:solidFill>
                  <a:srgbClr val="cc0099"/>
                </a:solidFill>
                <a:latin typeface="Tahoma"/>
              </a:rPr>
              <a:t>جفاف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بحيرات أو الأنهـار لعدم سـقوط الأمطار فـي موت معظم الحيوانات ، كما تتسبب الفيضانات العنيفة في تغيير طبيعة قاع البحيرات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8:29:47Z</dcterms:created>
  <dc:creator> Dr.Maha Daghestani</dc:creator>
  <dc:description/>
  <dc:language>en-US</dc:language>
  <cp:lastModifiedBy> Dr.Maha Daghestani</cp:lastModifiedBy>
  <dcterms:modified xsi:type="dcterms:W3CDTF">2008-03-17T16:42:52Z</dcterms:modified>
  <cp:revision>33</cp:revision>
  <dc:subject/>
  <dc:title>علم البيئة الحيوانية ANIMAL ECOLOGY</dc:title>
</cp:coreProperties>
</file>