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4E-403F-4C80-AFD2-20D60167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231-64AA-479E-BD78-4DC7E20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4CC-4D1E-427B-97DA-09E890AE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0AB-7B28-4D30-8B37-73D23E76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5F2-AA84-4E49-8766-13D8031F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351-95FE-4D4C-B8D3-2A8119B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9AEA-FBA3-4AF3-AFA3-E0EDAD3D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31C-28A4-4F8C-B538-C608F06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8AE-AF1A-4361-8B72-7D74CCFB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B98-D05D-46DA-9724-85FAEE9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0BC-27A4-4750-ABD6-19F4919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37A-CA84-4BB4-9E76-606FD1E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708-8A73-4FB6-884C-0075449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37EF-9A82-45F4-B5AD-BBAB2D52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1E16-4869-48C5-8250-6348435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1D1D-2E22-4B13-982F-62FC425E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501-D682-49CF-B1C6-C873C630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D1A-4810-4BE5-9510-8D2A43A1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69B-8B37-4D2C-A8C9-198160AC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426-E3B4-42B8-B551-D608198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8BD-4702-4B08-BE51-08AA104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1A3-B05D-4511-8166-446B66B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560-3036-44A6-82CD-704EBC9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A0C-496D-4CD5-9A03-78C0B7A7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CBC-AFED-4F13-B24F-41D6570F1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4FE-01B2-44F1-88AF-EC6D0B246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7772400" cy="1828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علم البيئة الحيوانية</a:t>
            </a:r>
            <a:br>
              <a:rPr sz="4400"/>
            </a:b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ANIMAL EC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المحاضرة السادسة،السابعة و الثام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102 </a:t>
            </a: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ح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019920"/>
            <a:ext cx="6019920" cy="3682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b5481"/>
                </a:solidFill>
                <a:latin typeface="Tahoma"/>
              </a:rPr>
              <a:t>د. مها حسن عبدالعزيز داغستان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00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نسبة بخار الماء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جو تعتبر هامة جداً لكثير من الحيوانات. . ففي الأماكن ذات الرطوبة المنخفضة تأوي الحيوانات الصغيرة  إلى أماكن محمية رطبة أثناء النهار و تخرج أثناء الليل حيث تنخفض درجة الحرارة فيقل تأثير رطوبة الهواء المنخفضة في الجو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حينما تكون </a:t>
            </a:r>
            <a:r>
              <a:rPr b="0" lang="ar-SA" sz="2800" spc="-1" strike="noStrike">
                <a:solidFill>
                  <a:srgbClr val="cc0099"/>
                </a:solidFill>
                <a:latin typeface="Tahoma"/>
              </a:rPr>
              <a:t>درجة رطوب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جو مناسبة تستطيع الحيوانات أن تخرج نهار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جة رطوبة التربة هامة لكثير من الحيوانات التي تعيش في التربة كديدان الأرض و بعض يرقات الحشرات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4. </a:t>
            </a: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ضغط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99"/>
                </a:solidFill>
                <a:latin typeface="Tahoma"/>
              </a:rPr>
              <a:t>تنخفض كمية الأكس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جو كلما زاد الإرتفاع عن سطح البحر و قل بالتالي الضـغط الج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الأفــراد الذين يعيشون في المرتفعات تكون قلوبهم أكبر حجماً و في دمائهم كرات دموية حمراء أكثر عدداً من الأفراد الذين يعيشون بالقرب من سطح البح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ذلك </a:t>
            </a:r>
            <a:r>
              <a:rPr b="1" lang="ar-SA" sz="2800" spc="-1" strike="noStrike">
                <a:solidFill>
                  <a:srgbClr val="ffcc00"/>
                </a:solidFill>
                <a:latin typeface="Tahoma"/>
              </a:rPr>
              <a:t>تشتد الريا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ما يختلف الضغط الجوي من مكان إلى مكان 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ذلك يؤثر على كثير من الحيوانات كالطيور و الحشرات أثناء طيرانها حيث قد تدفعها الرياح إلى أماكن جديدة . كذلك تسبب حركة الرياح جفاف النبات و بعض الحيوا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ؤثر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ccff33"/>
                </a:solidFill>
                <a:latin typeface="Tahoma"/>
              </a:rPr>
              <a:t>الضغط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يضاً على الحيـوانات المائية ، لأن ضغط الماء يزيد بزيادة عمق الماء ، و ذلك يحدد أنواع الحيوانات التي تستطيع الحياة عند  مستويات العمق المختلفة في الما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97575"/>
              </a:gs>
              <a:gs pos="50000">
                <a:srgbClr val="e5ffff"/>
              </a:gs>
              <a:gs pos="100000">
                <a:srgbClr val="6975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9999"/>
                </a:solidFill>
                <a:latin typeface="Tahoma"/>
              </a:rPr>
              <a:t>5. </a:t>
            </a:r>
            <a:r>
              <a:rPr b="1" lang="ar-SA" sz="4400" spc="-1" strike="noStrike">
                <a:solidFill>
                  <a:srgbClr val="009999"/>
                </a:solidFill>
                <a:latin typeface="Tahoma"/>
              </a:rPr>
              <a:t>العناصر الكيميائية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تاج جميع أنواع الحياة إلى عدد مناسب من العناصر الأساسية و الثانوية ، ف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أكس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0099"/>
                </a:solidFill>
                <a:latin typeface="Tahoma"/>
              </a:rPr>
              <a:t>و الكـربو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و الهيدرو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5050"/>
                </a:solidFill>
                <a:latin typeface="Tahoma"/>
              </a:rPr>
              <a:t>النترو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كون معاً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95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% من المادة الحية ، لذلك فهذه العناصر هي السائدة في تكوين الحياة على الأر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ـــذه العناصر الأربـع تدعمها سبعة عناصر أخرى هي : الفوسـفور و الكالسيوم و البوتاسيوم و الكبريت و الصوديوم و الكلور و الماغنسيوم بالإضافة إلى عدد كبير من العناصر الناد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نا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صراً في المادة الحية يعتبر العديد منها أساسياً للحياة ، بينـما تتواجـد الأخـرى فقط بسبب وجودها في البيئة التي يتفاعل معها الكائن الح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6. 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طبيعة التربة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يعتبر التركيب الكيميائ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تربة من العوامل التي تحدد وجود نباتات معينة وبالتالي حيوانات معينة ( كما في حالة القوقع وديدان الأرض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يعتبر كذلك تكوين التربة من حيث </a:t>
            </a:r>
            <a:r>
              <a:rPr b="0" lang="ar-SA" sz="2800" spc="-1" strike="noStrike">
                <a:solidFill>
                  <a:srgbClr val="ff5050"/>
                </a:solidFill>
                <a:latin typeface="Tahoma"/>
              </a:rPr>
              <a:t>تماسكها أو تفككه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ام من حيث علاقة ذلك بالمحتوى الرطوبي للتربة وقدرتها على الإحتفاظ بهذه الرطوبة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كذلك تعتبر 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زاوية الميل والتعرض للشمس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الأمور الهامة التي تؤثر في عملية صرف المياه من التربة وعلى إمتصاص الحرارة منها ، وهذا من شأنه أن يؤثر على مجتمعات الحيوانات الموجودة ب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6633"/>
                </a:solidFill>
                <a:latin typeface="Tahoma"/>
              </a:rPr>
              <a:t>7 . </a:t>
            </a:r>
            <a:r>
              <a:rPr b="1" lang="ar-SA" sz="4400" spc="-1" strike="noStrike">
                <a:solidFill>
                  <a:srgbClr val="996633"/>
                </a:solidFill>
                <a:latin typeface="Tahoma"/>
              </a:rPr>
              <a:t>أجسام الكائنات الآخر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ناك كثير من الحيوانات التي تسمى </a:t>
            </a:r>
            <a:r>
              <a:rPr b="1" lang="ar-SA" sz="2800" spc="-1" strike="noStrike">
                <a:solidFill>
                  <a:srgbClr val="ff5050"/>
                </a:solidFill>
                <a:latin typeface="Tahoma"/>
              </a:rPr>
              <a:t>الطفيليات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parasi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لأنها تستخدم حيوانات أخرى كمكان لمعيشـتها  و هذه الأخيرة تسمى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عوائل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ost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،       و كذلك هناك كائنات تعيش في معيشة تباد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ذا كانت هذه الطفيليات تعيش داخل </a:t>
            </a:r>
            <a:r>
              <a:rPr b="0" lang="ar-SA" sz="2800" spc="-1" strike="noStrike">
                <a:solidFill>
                  <a:srgbClr val="ccff33"/>
                </a:solidFill>
                <a:latin typeface="Tahoma"/>
              </a:rPr>
              <a:t>القناة الهضم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غيرها فإنها تتحور لتقاوم فعل الإنزيمات الهاضمة ، وهذه الطفيليات عموما تعيش في بيئة أكثر إستقراراً من الحيوانات الآخرى التي تعيش معيشة حرة ، كما أنها تكون في حماية من الأعداء أثناء وجودها داخل جسم العائ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يوانات التي تعيش في </a:t>
            </a:r>
            <a:r>
              <a:rPr b="0" lang="ar-SA" sz="2800" spc="-1" strike="noStrike">
                <a:solidFill>
                  <a:srgbClr val="ffcc00"/>
                </a:solidFill>
                <a:latin typeface="Tahoma"/>
              </a:rPr>
              <a:t>معيشة تبادل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يستطيع أحدهما الإستغناء عن رفيقه في هذه العلاقة حيث يعتمد كل منهما على الآخر أيضياً ، كما في حالة النمل الأبيض و السوطيات التي تعيش في أمعائه ، و الحيوانات المجترة و المسوطات التي تعيش في جهازها الهضمي لأنها تستخدم أجسام الحيوانات الأخرى كمكان لمعيشتها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بيئة الحية أو الحيوي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حيوانات التي تعيش مع بعضها البعض و يؤثر كل منهما في الآخر بطريقة أو بأخرى ، وهذا يشمل التنافـس على الغذاء والمسكن وعلي الحماية من الأعداء ، و إفتراس بعض الأنواع لأنواع أخر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أيضاً علاقة بيولوجية بين النباتات والحيوانات ، وهي علاقة متشابكة وقد تكون ضرورية لحياة أحدهما في معظم الأوقات . فكثير من الحيوانات غذاؤها الأساسي هو النبات ، بينما هنــاك حيوانات أخـرى تعتمد في غذائها على الحيوانات آكلة النب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591000" y="32457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المواطن البيئ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0099"/>
                </a:solidFill>
                <a:latin typeface="Tahoma"/>
              </a:rPr>
              <a:t>المواطن البيئية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أولاً : المواطن المائ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أ. المحيطات :تكونَ البحار والمحيطات معظم المواطن المائية ويحتوي البحر على عدة مناطق رئيسية لها أشكال حياة واضحة هي أساسا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منطقة الساحل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굴림"/>
              </a:rPr>
              <a:t>zone  littor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cc0099"/>
                </a:solidFill>
                <a:latin typeface="Tahoma"/>
              </a:rPr>
              <a:t>الرصيف القـــاري </a:t>
            </a:r>
            <a:r>
              <a:rPr b="1" lang="en-US" sz="3200" spc="-1" strike="noStrike">
                <a:solidFill>
                  <a:srgbClr val="cc0099"/>
                </a:solidFill>
                <a:latin typeface="Tahoma"/>
                <a:ea typeface="굴림"/>
              </a:rPr>
              <a:t>continental shelf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ccff33"/>
                </a:solidFill>
                <a:latin typeface="Tahoma"/>
              </a:rPr>
              <a:t>الإنحدار القاري </a:t>
            </a: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굴림"/>
              </a:rPr>
              <a:t>continental slop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5050"/>
                </a:solidFill>
                <a:latin typeface="Tahoma"/>
              </a:rPr>
              <a:t>منطقـة السـباحة </a:t>
            </a:r>
            <a:r>
              <a:rPr b="1" lang="en-US" sz="3200" spc="-1" strike="noStrike">
                <a:solidFill>
                  <a:srgbClr val="ff5050"/>
                </a:solidFill>
                <a:latin typeface="Tahoma"/>
                <a:ea typeface="굴림"/>
              </a:rPr>
              <a:t>pelogic zon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99cc"/>
                </a:solidFill>
                <a:latin typeface="Tahoma"/>
              </a:rPr>
              <a:t>قاع البحــر </a:t>
            </a:r>
            <a:r>
              <a:rPr b="1" lang="en-US" sz="3200" spc="-1" strike="noStrike">
                <a:solidFill>
                  <a:srgbClr val="ff99cc"/>
                </a:solidFill>
                <a:latin typeface="Tahoma"/>
                <a:ea typeface="굴림"/>
              </a:rPr>
              <a:t>deep sea flo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يصــل أكبر عمق للمحيطات إلى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11.5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كم (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7.2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ميل ) تحت سطح البحر .      و عالم البحار متجانس نسبياً بمقارنته باليابس ، و هناك تماثل الواضح للأحياء في سطح المحيطات ، و لكنه يناقض أنواع الحياة في الأعما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إن المحيطات هي مهد الحياة ، و هذا ينعكس على الكائنات المختلفة التي تعيش فيها ( أكثر من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200.000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نوع من النباتات و الحيوانات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تعيش غالبية هـذه الأنواع (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98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% ) على القــا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)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قاعية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enthic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) ،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و حوالي 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% فقط تعيش حرة في عرض المحيط (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سابحة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lagic</a:t>
            </a: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) . و يوجد العديد من حيوانات القاع في منطقة المد و الجزر ، أو أعماق المحيطات الضح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يعيش أقل من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% من الحيوانات في أعماق تحت 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2000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متر ، و أكثر مساحات المحيطات خصوبة و إنتاجاً تتركز غالباً على طول الرصيف القار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هناك مناطق قليلة تكون فيها المياه غنية بالأملاح العضوية ، و المواد المتحللة التي تصعد بواسطة التيارات المائية الصاعدة إلى المنطقة المشمسة أو المضاءة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photic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zone</a:t>
            </a:r>
            <a:r>
              <a:rPr b="0" lang="ar-SA" sz="3200" spc="-1" strike="noStrike">
                <a:solidFill>
                  <a:srgbClr val="e5ffff"/>
                </a:solidFill>
                <a:latin typeface="Tahoma"/>
              </a:rPr>
              <a:t> ، حيث يوجد نشاط التمثيل الضوئي . و بإستثناء حالات ملحوظة ، تعتمد جميع أشكال الحياة أسفل المنطقة المضيئة على الدقائق العضوية الهابطة من أعلى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يعـرف علم البيئة الحيوان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أنه العلم الذي يدرس  الحيوان في علاقته بالبيئة التي يعيــش فيها والظروف المحيطة به 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هذا العلم يعتبر من أهم العلوم البيولوجي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حياة الحيوان هي في النهاية نتيجة لتفاعله مع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عوامل </a:t>
            </a:r>
            <a:r>
              <a:rPr b="1" lang="ar-SA" sz="3200" spc="-1" strike="noStrike">
                <a:solidFill>
                  <a:srgbClr val="cc0066"/>
                </a:solidFill>
                <a:latin typeface="Tahoma"/>
              </a:rPr>
              <a:t>الطبيعية </a:t>
            </a: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Physical fact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و </a:t>
            </a:r>
            <a:r>
              <a:rPr b="1" lang="ar-SA" sz="3200" spc="-1" strike="noStrike">
                <a:solidFill>
                  <a:srgbClr val="cc0066"/>
                </a:solidFill>
                <a:latin typeface="Tahoma"/>
              </a:rPr>
              <a:t>العوامل الحيوية </a:t>
            </a: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Biological factor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ي تؤثر في البيئ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b5481"/>
                </a:solidFill>
                <a:latin typeface="Tahoma"/>
              </a:rPr>
              <a:t>الساحل</a:t>
            </a:r>
            <a:r>
              <a:rPr b="0" lang="ar-SA" sz="40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littoral</a:t>
            </a:r>
            <a:r>
              <a:rPr b="0" lang="ar-SA" sz="4000" spc="-1" strike="noStrike">
                <a:solidFill>
                  <a:srgbClr val="2b5481"/>
                </a:solidFill>
                <a:latin typeface="Tahoma"/>
              </a:rPr>
              <a:t> أو منطقة </a:t>
            </a:r>
            <a:r>
              <a:rPr b="1" lang="ar-SA" sz="4000" spc="-1" strike="noStrike">
                <a:solidFill>
                  <a:srgbClr val="2b5481"/>
                </a:solidFill>
                <a:latin typeface="Tahoma"/>
              </a:rPr>
              <a:t>المد و الجزر </a:t>
            </a:r>
            <a:r>
              <a:rPr b="1" lang="en-US" sz="4000" spc="-1" strike="noStrike">
                <a:solidFill>
                  <a:srgbClr val="2b5481"/>
                </a:solidFill>
                <a:latin typeface="Tahoma"/>
              </a:rPr>
              <a:t>intertidal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يث يتقابل البحر مع اليابـس و هي منطفة شديدة الخشونة ، و لكنها أغنى البيئات البحرية . و هذه المنطـقة و حيوانـــاتها معرضــة للأمــواج العنيفة و للشمس و الريــاح و الأمطار ، و كذلك للتغـيير الكـبير في درجة الحرارة ، و لعوامل التعرية و الترسيب . و مع ذلك فلأن البيـئات الموجودة متنوعة و بها إمــداد وفــير مـن الأمــلاح المعــدنية  تـزدهر بها الحيوانات مثل الأطــوم و القواقع و الكيتون و البطلينوس و بلح البحر و قنفد البحر و حيوانات أخرى كثي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المنطقة التحت ساحلية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sublittoral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هي تلي منطقة الساحل و تكون مغمورة بالماء دائماً . و هي تضم أيضاً مجموعة غنية و متنوعة من الحيوانات و غابات من الطحالب الب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b5481"/>
                </a:solidFill>
                <a:latin typeface="Tahoma"/>
              </a:rPr>
              <a:t>منطقة المياه الضحلة </a:t>
            </a: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neri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هي تحيــط بالقارات و تمتد إلى عمق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تر ، و هذه المنطقة أكثر إنتاجاً عن عرض المحيط ، لأنها تستفيد من الأملاح المعدنية القادمة من الأنهار ، و من التيارات الصاعدة عند حافة الرصيف القاري . و على ذلك فإن نمو النباتات يكون وفيراً ، و بالتالي فإنه يدعم حياة متنوعة للحيوانات ، و هي تشمل مصايد أسماك العال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مناطق التيارات الصاعد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pwel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لى الرغم من أنها ضئيلة و محدودة في مناطق قليلة ، إلا أنـها مصـدر حيـوي لتجـديد الأملاح للمنطقة السطحية المضاءة . و تتمركز بعض مصايد أسماك العالم الأكثر إنتاجاً في مناطق التيارات الصاعد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6688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38862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ahoma"/>
              </a:rPr>
              <a:t>منطقة السباحة</a:t>
            </a: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Tahoma"/>
                <a:ea typeface="굴림"/>
              </a:rPr>
              <a:t>pelag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 و هي عرض المحيط الواسع ، و بالرغم من أن حجمها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 من مساحة المحيط، فإن هذه المنطقة فقيرة نسـبياً من الناحية البيولوجية ، و ذلـك لأن الكائنات الحـية تموت ، ثم تترسب خارج المنطقة المضيئة ، و تصل الأملاح المعدنية إلى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طقة القاع سبح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bathypelagic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حيث تتوقف حركتها ، بينما تظل هذه الأملاح في مناطق التيارات الصاعدة حيث تتحول إلى تيـارات المحيط و تصبح المياه مشبعة بالأملاح المعدنية وعليه تكون الإنتاجية عالية . و مثال ذلك نجد أن البحار القطبية هائلة الإنتاج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ahoma"/>
              </a:rPr>
              <a:t>تشــمل العــوامل الطبيع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b5481"/>
                </a:solidFill>
                <a:latin typeface="Tahoma"/>
              </a:rPr>
              <a:t>الحــرارة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وضـــوء الشــمس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008000"/>
                </a:solidFill>
                <a:latin typeface="Tahoma"/>
              </a:rPr>
              <a:t>الم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طبيعة الوســـــط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الترب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الجاذبية الأرض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008000"/>
                </a:solidFill>
                <a:latin typeface="Tahoma"/>
              </a:rPr>
              <a:t>الضغط الجو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و الغاز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مواد الكيميائية الموجود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وسط وغيرها ، و كل منها يمكن قياسها على حدة و قياس تأثيرها على الحيوانات و لكن جميع هذه العوامل تكون عـلاقة متكاملة حيث لا يؤثر أي منها منفرداً على الحيوانات . </a:t>
            </a: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كما تشمل العوامل الحيو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النبات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009999"/>
                </a:solidFill>
                <a:latin typeface="Tahoma"/>
              </a:rPr>
              <a:t>الحيوا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واء التابعة لنفس النوع أو تابعة لأنواع مختلف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البيئة القاعية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byssal habit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توجد في أقصى أعماق المحيط ، و تتميز بالضغط الهائل و الظلام الدائم ، و درجة الحرارة الثابتة القريبة من الصفر . و قد بقيت هذه المنطقة عالماً مجهولاً للإنسان إلى وقت قريب حين إستحدثت آلات تصوير القاع ، و شباك القاع التي تم إنزالهما إلى قاع المحيط لتصويره و أخذ عينات منه . و تعيش أحياء قاع البحر على الجزء الضئيل من المواد العضوية القليلة التي تسقط من أعلى ، و التي تنجو من إستهلاك الكائنات الحية في طبقات الماء الأعلى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الرغم من الصفات غير العادية لهذه البيئة . فإنه تعيش فيها بعض أنواع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أنيمونات البحر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a anemones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ناف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بحر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a urch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قشري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ustacean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ديد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قية الشوك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lychae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كذلك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جد أيضاً أنـواع من جميع مجموعات اللافقاريات الرئيسية تقريباً ، و بعض الأسماك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كتشف حديثاً مستعمرات لحيوانات قاعية ذات إعتماد ذاتي ، إذ لا تعتم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لى الطاقة الشمسية إطلاقاً ، و لا على تساقط المواد العضوية من أعلى ، و قد إكتشفت كذلك فجوات البراكين الساخنة الناتجة من تصدع الصخور في قاع المحي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يقسم المحيط إلى منطقتين تبعاً لإختراق الضوء له هما المنطقة الضوئية والمنطقة المعتمة و ذلك يعتمد على مدى عمق الم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cc00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المنطقة الضوئي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hot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مق هذه المنطقة يصل إل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، وتوجد فيها الكائنات الحية التي تقوم بعملية التمثيل الضوئي ، وكـذلك الحيوانات التي تعتمـد مباشرة في غذائها على تلك الكائ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يمكن تقسيم الكائنات التي تعيش في المنطقة الضوئية إلى ثلاث مجموعات رئيسية هي</a:t>
            </a: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- العوالق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Plankton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 :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 و هي كائنات دقيقة الحجم ، وتشمل الطحالب الدقيقة أو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 العوالق النباتية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phytoplankton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و</a:t>
            </a:r>
            <a:r>
              <a:rPr b="1" lang="ar-SA" sz="3200" spc="-1" strike="noStrike">
                <a:solidFill>
                  <a:srgbClr val="990033"/>
                </a:solidFill>
                <a:latin typeface="Tahoma"/>
              </a:rPr>
              <a:t>الحيوانية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zooplankton</a:t>
            </a:r>
            <a:r>
              <a:rPr b="0" lang="ar-SA" sz="3200" spc="-1" strike="noStrike">
                <a:solidFill>
                  <a:srgbClr val="990033"/>
                </a:solidFill>
                <a:latin typeface="Tahoma"/>
              </a:rPr>
              <a:t> الأساسية في نقل الطاقة خلال الهرم الغذائ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- السوابح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elagic</a:t>
            </a:r>
            <a:r>
              <a:rPr b="1" lang="ar-SA" sz="3200" spc="-1" strike="noStrike">
                <a:solidFill>
                  <a:srgbClr val="ffcc00"/>
                </a:solidFill>
                <a:latin typeface="Tahoma"/>
              </a:rPr>
              <a:t> :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تمثل الكائنات السابحة في المناطق الشطية والبحر المفتوح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القاعيات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Benthos</a:t>
            </a: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 : </a:t>
            </a:r>
            <a:r>
              <a:rPr b="0" lang="ar-SA" sz="3200" spc="-1" strike="noStrike">
                <a:solidFill>
                  <a:srgbClr val="66ff33"/>
                </a:solidFill>
                <a:latin typeface="Tahoma"/>
              </a:rPr>
              <a:t>وتمثل الكائنات الحية التي تعيش في الأعماق بما في ذلك النباتات والحيوانات وبعض الفطريات والأوليات والبدا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5029200" cy="3962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876920" y="2895480"/>
            <a:ext cx="4267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المنطقة المعتمة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Aphotic zo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مل هذه المنطقة أعماق المحيطات ما بعد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تحت سطح الماء ولا يصلها الضوء ، ولذلك فهي خالية من الكائنات الحية التي تعتمد على التمثيل الكلوروفيلي ، و تقتصر على بعض الحيوانات اللاحمة فقط والبكتريا والفطريات التي تغتذي على المواد العضوية المتحل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4475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يمكن تصنيف الحيوانات بيئياً طبقا لثلاث طرق مختلفة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قد يكون هذا طبقا لمكان المعيشة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living  habit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  فيقال حيوانات أرضية 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terrestria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أو حيوانات مائية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aquatic</a:t>
            </a:r>
            <a:r>
              <a:rPr b="0" lang="ar-SA" sz="2800" spc="-1" strike="noStrike">
                <a:solidFill>
                  <a:srgbClr val="cc0066"/>
                </a:solidFill>
                <a:latin typeface="Tahoma"/>
              </a:rPr>
              <a:t> أو حيوانات متطفلة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parasitic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0" lang="ar-SA" sz="2400" spc="-1" strike="noStrike">
                <a:solidFill>
                  <a:srgbClr val="cc0066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قد يكون التصنيف طبقا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 لطبيعة الغذاء 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food  habitat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 فيقال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آكلات اللحوم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carn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أو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آكلات عشب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herb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أو </a:t>
            </a:r>
            <a:r>
              <a:rPr b="1" lang="ar-SA" sz="2400" spc="-1" strike="noStrike">
                <a:solidFill>
                  <a:srgbClr val="66ff33"/>
                </a:solidFill>
                <a:latin typeface="Tahoma"/>
              </a:rPr>
              <a:t>تتغذى على جميع ما يصادفها 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omnivorous</a:t>
            </a:r>
            <a:r>
              <a:rPr b="0" lang="ar-SA" sz="2400" spc="-1" strike="noStrike">
                <a:solidFill>
                  <a:srgbClr val="66ff33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63920" indent="-7639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الطريقة الثالثة لتصنيف الحيوانات بيئياً هي طبقا </a:t>
            </a: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للتوزيع الجغرافي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eographical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istributium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cc00"/>
                </a:solidFill>
                <a:latin typeface="Tahoma"/>
              </a:rPr>
              <a:t>، فبعض الحيوانات تعيش في المناطق الحارة ، وغيرها في المناطق المعتدلة أو الباردة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6699"/>
                </a:solidFill>
                <a:latin typeface="Tahoma"/>
              </a:rPr>
              <a:t>ب - مواطن المياه العذبة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굴림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مواطن المياه العذبة المختلفة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الراكد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ها مثل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البرك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6699"/>
                </a:solidFill>
                <a:latin typeface="Tahoma"/>
              </a:rPr>
              <a:t>والمستنقعات والبحير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جار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ثل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جداول والشلال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الأنها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كل المياه العذبة جزءاً بسيطاً من كمية المياه في الأرض ، فهي مع ذلك تعتبر مكوناً أساسياً لدورة الماء في العال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يئات المياه الداخلية لا غنى عنها لحيوانات اليابسة الكثيرة التي تعتمد على هذه البيئات كمصدر للشرب أو التكاث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Tahoma"/>
              </a:rPr>
              <a:t>تفرض بيئات المياه العذبة كثيراً من التحديات للعديد من الحيوانات المائبية التي تعيش فيها للأسباب الآتية 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هي متغيرة ، تفتقد إستقرار اليابسة و المحيط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ات الموسمية غالباً تكون بدرجة كبي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جف البحيرات و البرك تدريجياً و في النهاية تستبدل باليابس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حتاج الحيوانات المائية إلى تكيف خاص للإحتفاظ بالأملاح ، و التخلص من الماء الزائدة ، لأن المياه العذبة تحتوي على كمية أملاح ضئيل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الضروري أن تكون الحيـوانات التي تعيش في المجـاري المائية السريعة ذات تكيفات معينة مثل أعضاء للالتصاق ، أو يكون شكلها إنسابياً لتفادي جرفها مع تيار الماء المستم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دمر كثير من بيئات المياه الغذبة بواسطة التلوث الذي يسببه الإنسان ، مثل إلقاء نفايات المصانع السـامة و مياه الصـرف الصحي فـي المجاري المائية بكميات كبير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ahoma"/>
              </a:rPr>
              <a:t>تصنف المياه الداخـلية عامة إل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7c80"/>
                </a:solidFill>
                <a:latin typeface="Tahoma"/>
              </a:rPr>
              <a:t>1</a:t>
            </a:r>
            <a:r>
              <a:rPr b="0" lang="ar-SA" sz="4000" spc="-1" strike="noStrike">
                <a:solidFill>
                  <a:srgbClr val="ff7c80"/>
                </a:solidFill>
                <a:latin typeface="Tahoma"/>
              </a:rPr>
              <a:t>- بيئات مياه جارية  </a:t>
            </a:r>
            <a:r>
              <a:rPr b="0" lang="en-US" sz="4000" spc="-1" strike="noStrike">
                <a:solidFill>
                  <a:srgbClr val="ff7c80"/>
                </a:solidFill>
                <a:latin typeface="Tahoma"/>
              </a:rPr>
              <a:t>lotic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و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0" lang="ar-SA" sz="4000" spc="-1" strike="noStrike">
                <a:solidFill>
                  <a:srgbClr val="99cc00"/>
                </a:solidFill>
                <a:latin typeface="Tahoma"/>
              </a:rPr>
              <a:t>-  بيئة مياه ساكنة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len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Tahoma"/>
              </a:rPr>
              <a:t>المميزات العا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وح بيئات المـياه الجـــارية من جـداول الجبال الصغيرة إلى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جاري المـا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eam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أنهار . و في الجداول و المجاري المائية . تكون كمية الأكسجين الذائبة في الماء مرتفعة نتيجة لسرعة تدفق المياه . و مصدر الطاقة في هذه المياه يكون بصفة أساسية المواد العضوية المتحللة القادمة إليها من سـطح الأرض المجاو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مـا الأنهار التي تتحـرك فيها المياه ببـطء ، فإن الأكسجين الذائب بها يكون أقل ، و تتميز بكمية أكبر من الطحالب الطافية ، و النباتات المائية الأخرى ، و كذلك فإن الحيوانات التي تعيش في تلك الأنهار تتحمل تركيز الأكسجين الأق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cc00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Tahoma"/>
              </a:rPr>
              <a:t>المميزات العا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ما في البرك و البحيرات ذات المياه الساكنة يكون تركيز الكسجين أقل ، و خاصة في المساحات العميقة . و الحيوانات التي تعيش على القاع ، أو على النباتات المغمورة       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حيوانات الق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tho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، هي القواقع و المحار و القشريات و أنواع عديدة من الحشرات . يوجد كثير من الكائنات السابح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النكتون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kt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في البحيرات و البرك الواسعة و تعتمد على الأملاح المتوفرة بها . كذلك يمكن أن تكون هناك أعداد كبيرة من الكائنات السابحة الصغيرة و الضعيفة النباتية أم حيواني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( بلانكتون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nkton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ثانياً : المواطن اليابسة</a:t>
            </a: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Terrestrial Biome</a:t>
            </a:r>
            <a:r>
              <a:rPr b="1" lang="ar-SA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قسم المواطن اليابسة إلى عدة مناطق بيئية متميزة حسب خطوط العرض والإرتفاع عن سطح البح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رف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طق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بي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نها الوحدة العظمى الحية التي تتميز بحياة نباتية معينة . و قد عرف علماء البنات منذ زمن بعيد أن البيئة اليابسة يمكن تقسيمها إلى وحدات كبيرة ذات نباتات متميزة ، مثل الغابات ، المراعي ، الصحاري و هك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ما بالنسبة لتوزيع الحيوان كان ذلك أكثر صعوبة بصفة دائمة حتى بعد أن جمع علماء الطبيعة المعلومات الأساسية حول مجالات و مراكز توزيع الحيوان حول العالم .و وجد أن لا يتطابق توزيع النبات و الحيوان . و لذلك فإن علماء التوزيع الجغرافي للحيوان تقبلوا توزيع النبات كوحدات حيوية أساسية ، و عرفوا المناطق البيئة كإتحادات واضحة من النباتات و الحيوانات . لهذا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المنطقة البيئ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عرف بالتكوين النباتي السائد ، و لكن لإعتماد الحيوانات على النباتات فإن كل منطقة بيئية تكفل حيوانات معين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8229600" cy="16765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البيئة الطبيعية </a:t>
            </a:r>
            <a:r>
              <a:rPr b="0" lang="en-US" sz="4400" spc="-1" strike="noStrike">
                <a:solidFill>
                  <a:srgbClr val="cc0066"/>
                </a:solidFill>
                <a:latin typeface="Tahoma"/>
                <a:ea typeface="굴림"/>
              </a:rPr>
              <a:t>Physical enviro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6699"/>
                </a:solidFill>
                <a:latin typeface="Tahoma"/>
              </a:rPr>
              <a:t>المناطق البيئية الرئيسي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الغابات المعتدلة المتساقطة الأوراق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وغابات الصنـوبر المعـتدلة ( التايجا )</a:t>
            </a:r>
            <a:r>
              <a:rPr b="0" lang="ar-SA" sz="3200" spc="-1" strike="noStrike">
                <a:solidFill>
                  <a:srgbClr val="99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cc00"/>
                </a:solidFill>
                <a:latin typeface="Tahoma"/>
              </a:rPr>
              <a:t>و الغابات الإستوائية</a:t>
            </a:r>
            <a:r>
              <a:rPr b="0" lang="ar-SA" sz="32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Tahoma"/>
              </a:rPr>
              <a:t>و أرض الحشائــ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ff66"/>
                </a:solidFill>
                <a:latin typeface="Tahoma"/>
              </a:rPr>
              <a:t>و التنـدر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ahoma"/>
              </a:rPr>
              <a:t>و الصحر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5ffff"/>
                </a:solidFill>
                <a:latin typeface="Tahoma"/>
              </a:rPr>
              <a:t>( أ ) منطقة الغابات الماطرة الإستوائية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  <a:ea typeface="굴림"/>
              </a:rPr>
              <a:t>Tropical rain forests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굴림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صف مناخ هذه المنطقة </a:t>
            </a:r>
            <a:r>
              <a:rPr b="0" lang="ar-SA" sz="3200" spc="-1" strike="noStrike">
                <a:solidFill>
                  <a:srgbClr val="ff6600"/>
                </a:solidFill>
                <a:latin typeface="Tahoma"/>
              </a:rPr>
              <a:t>بالحرارة العال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ff66"/>
                </a:solidFill>
                <a:latin typeface="Tahoma"/>
              </a:rPr>
              <a:t>والأمطار الموسم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والشمس الساطعة معظم الوق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حتوي على الغابات الضخمة المتشابكة والحيوانات الكثيرة ، وتمثل بذلك أغنى موطن بيئي على اليابس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متد هذه المنطقة على جانبي خط الإستواء ما بين خطي عر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شمالاً وجنوباً بحيث تشمل الغابات الإستوائية في أواسط إفريقيا وأمريكا اللاتينية ، وجزر شمال أستراليا . أي إن الحزام العالمي الإستوائي من الغابات الإستوائية عبارة عن المنطقة ذات الأمطار الغزيرة   و الرطوبة العالية ، و درجات الحرارة الثابتة و العالية نسب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 التغيير الموسمي في هذه المنطقة بالنسبة لطول النهار بسيط ، و تلائم هذه الظروف النموالسريع غير المتقطع الذي يصل إلى أقصى مداه في الغابات الممطر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صفة واضحة للغابات الإستوائية وهي وجود التسلسل الطبقي الحياتي ، و يشمل عدداً من طبقات التغذية كالآت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طن الطيور آكلة الحشرات و الخفافيش فوق الجزء الأعلى من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غاب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nop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ســفل هذه الطبقة توجد طيـور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فـافيش الفــاكه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uit ba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و ثدييـات تتغذى على الأوراق و الثمـا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ـي المنطقة الوسطى توجــ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ثدييــات متسـلقة الأشـجار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boreal mammal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 مثـل القـرود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يــوان كســـلان الشجار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ee stloth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) و العديد من الطيور ، و الخفافيش آكلة الحشرات  و الحشرات و البرمائي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ناك مجموعة مميزة من الحيوانات توجد أعلى و أسفل جذوع الشجار تتغذى من جميع الطبقات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واجد الثدييات الكبيرة التي فقدت القدرة على التسلق على سطح الأرض ، مثل القوارض الكبيرة . كما توجد مجموعة مختلطة من آكلة الحشرات الضغيرة ، و آكلة اللحوم و آكلة الحشائش و كلها تبحث عن غذائها في الأوراق المتساقطة و الأجزاء السفلى من جذوع الأشجا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( ب ) المنطقة العشبي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Grassla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تشر في هذه المنطقة الأنواع المختلفة من الأعشاب القصيرة والطويلة ، و تتميز بتعاقب فترات الأمطار والشمس ، و توجد بها أنواع عديدة من الثدييات كالأبقار والجواميـس والمـواشي آكلات النبات و الظباء  و الأرانب البرية و كلاب البراري والقوارض التي تعيش في براري هذه المنطقة بالإضافة إلى حيوانات أخرى كالزراف والأسود والفيلة والقرد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-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Tahoma"/>
              </a:rPr>
              <a:t>ضوء الشم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الشمس هي المصدر الأوحد تقريباً للطاقة التي تستخدمها الكائن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3366"/>
                </a:solidFill>
                <a:latin typeface="Tahoma"/>
              </a:rPr>
              <a:t>الح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 فالنباتات الخضراء تمتص أشعة الشمس و تستخدمها في تحويل ثاني أكسيد الكربون و الماء إلى كربوهيدرات بفضل وجود الكلوروفيل ، كما تستطيع بناء البروتينات و الدهون من مركبات غير عضوية . و تشـكل الطاقة الموجودة في هذه المركبات المصدر الأساسي للطاقة التي تستخدمها الحيوانات . و تمر هذه الطاقة من كائن إلى آخــــر، و تكون هي المصدر الوحيد للطاقة التي تمكن الخـلايا الحية من الإستمرار في الحيا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(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ج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) 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منطقة الغابات المعتدلة المتساقطة الأوراق</a:t>
            </a:r>
            <a:r>
              <a:rPr b="1" lang="ar-SA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emperate  deciduous  forests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تاز مناخ هذه المنطقة بشتاء بارد وماطر وصيف دافئ وتتابع أربعة فصول مختلفة في السن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هذه المنطقة بالأشجار العالية متساقطة الأوراق في الخريف و الشتاء ، وقلة تنوع الحيوانات التي تقتصر على تلك التي تتحمل درجة برودة عال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شمل هذه المنطقة شرق أمريكا ووسط أوروبا وجزء من شرق آسي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ي هذه المنطقة تسود الأشجار غير الدائمة ذات الأوراق العريضة مثل البلوط ، القيقب    و الزان التي تسقط أوراقها في فصل الشت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عرف أفضل المظاهر الموسمية في هذه المنطقة البيئية عنها في مناطق أخرى . و تساقط الأوراق يكون تكيفاً للبيات الشتوي نتيجة لمستويات الطاقة المنخفضة مـن الشمس في فصـل الشتاء الذي قد تكون فيه درجة الحرارة منخفضة لدرجة التجم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ستجيب مستعمرات الحيوانات في الغابات غير دائمة الخضرة للتغييرات الموسمية بطرق مختلفة ، فبعضها يهاجر ، و البعض الآخر يدخل في حالة بيات شتوي ، و هناك حيوانات أخرى غير قادرة على الهروب تتعايش بإستخدامها الغذاء المتاح كالغزلان ، أو تختزن الغذاء كبعض أنواع السناجب ، و توجد كذلك في هذه المناطق الحيوانات الكبيرة آكلة اللحوم مثل أسود الجبل و الذئا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جد بكثرة في الغابات غير دائمة الخضرة مستعمرات الحشرات و اللافقاريات بسبب جذوع الأشجار المتحللة و الأوراق المتساقطة التي تعتبر مأوى مناسباً ل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( د ) المنطقة الصحراوية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sert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رف الصحراء على أنها منطقة جافة تكاد تكون خالية من النباتات ، وهي ذات أمطار قليلة نسبياً ، حارة صيفاً نهاراً وباردةً ليلاً شتاء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تشر في هذه المنطقة النباتات والحيوانات ذات القدرة العالية على تحمل الجفاف والظروف البيئية القاس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صحاري في الغــالب مناطق قاحـــلة قليــــلة المطار ( أقل من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م / العام ) و ذات تبخير عالي للم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ميز النباتات الصحراوية بأن لها وريقات مختزلة ، و ذات تكيفات أخرى للإحتفاظ بالماء  ( مثل نباتات الصبار و الشجيرات المتنوعة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عديد من حيوانات الصحراء الكبيرة تحورات تشريحية و فسيولوجية مميزة لتحتفظ بدرجة حرارتها منخفضة ، و كذلك لتحتفظ بالماء . و تتفادى معظم الحيــوانات الصغيرة الظروف الصعبة أو القاسـية بأن تعيش في حجور أو تصبح ليلة النشا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الثدييات الموجودة في الصحراء :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غزال الأبيض الذيل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ite tai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er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و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أرنب البري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ccar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أرنب القطبي الذنب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ttontail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أ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نغر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angeroo ra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سنجاب الأرض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طيور النموذجية لهذه البيئة ه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ائر الجواب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oadrunner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ائر الصعو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ctus wre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 النسور و البوم الحفار . أما الزواحف فهي عديدة و من المفصليات توجد أنواع كثيرة من الحشـرات و العناك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7462f"/>
              </a:gs>
              <a:gs pos="50000">
                <a:srgbClr val="339966"/>
              </a:gs>
              <a:gs pos="100000">
                <a:srgbClr val="17462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( هـ ) منطقة التيجة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aig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ع هذه المنطقة شمال منطقة الغابات المتساقطة الأوراق وشمال المنطقة العشبية عبر شمال أوروبا وكندا وسيبيريا وجنوب الأسكا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التيجة بالصيف القصير المعتدل والشتاء البارد الطو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تميز بإنتشار وسيادة أنواع معينة من الأشجار مثل الصنوبريات ، كذلك بالحيوانات ذات الفراء السميكة كالدببة والثعالب وغيرها ، كما تكثر فيها الطيور في فصل الصي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ar-SA" sz="4400" spc="-1" strike="noStrike">
                <a:solidFill>
                  <a:srgbClr val="003366"/>
                </a:solidFill>
                <a:latin typeface="Tahoma"/>
              </a:rPr>
              <a:t>درجة الحرار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عظــم الكائنات الحيــة تسـتطيع أن تعيش في درجـات حرارة لا يزيد مداها عن صفر إلى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ؤثر على قدرة تحمل الكائنات للحرارة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الرطوبة النسبي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ج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جة الحرارة تؤثر على نمو النبات و بقائه و قدرته على الإثمار، و النبات غذاء لكثير من الحيوان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ذلك فإن الزواحف و البرمائيات و الأسماك و الحشرات و غيرها من اللافقاريات لا تستطيع أن تنظم درجة  حرارة الجسم إلا بدرجة ضئيلة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</a:rPr>
              <a:t>( و ) منطقة التندرا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end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بعد منطقة حيوية عن خط الإستواء ، وتقع شمال منطقة التيجة حتى المنطقة القطبية ، و تكونَ شريطاً ضيقاً يحيط بالمحيط المتجمد الشمالي في مناطق كندا وسيبيريا وألاسكا حيث الظلام الدامس طوال فصل الشتاء البارد والضوء الخافت طـوال فصل الصيف الدافئ . كذلك توجد في قمم الجبال العالية الخالية من الأشجار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قتصر النباتات في هذه المنطقة على الشجيرات الصغيرة والأشنات والحزازيات والحشائش ، أما الحيوانات فتقتصر على الذباب والفراش وبعض أنواع الثدييات مثل الرنة و ثعلب المسك و الثعلب القطبي و الأرنب البري القطبي ، بالإضافة للطيور المهاجرة أثناء فصل الصي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ccff"/>
                </a:solidFill>
                <a:latin typeface="Tahoma"/>
              </a:rPr>
              <a:t>( ر ) المنطقة القطبية </a:t>
            </a: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Polar ar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شمل المنطقة القطبية المتجمدة الخالية من التربة والمكسوة بالثلوج ، وتشتهر بوجود حيوانات الفقمة والبطريق والدببة التي تعتمد في حياتها على البح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ahoma"/>
              </a:rPr>
              <a:t>أي أسئلة متعلقة بالدرس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99"/>
                </a:solidFill>
                <a:latin typeface="Tahoma"/>
              </a:rPr>
              <a:t>ِشكراً لحسن الإصغا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6793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Tahoma"/>
              </a:rPr>
              <a:t>تكمل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حايل كثير من هذه الكائنات على التغييرات الكبيرة  القاتلة في درجة الحرارة بوضع بيضها أو أطوارها التي تتعرض لتلك التغييرات تحت سطح التربة أو داخل النبات ، و بعضها الآخر  يتغلب عليها بسلوك معين كأن </a:t>
            </a:r>
            <a:r>
              <a:rPr b="0" lang="ar-SA" sz="3200" spc="-1" strike="noStrike">
                <a:solidFill>
                  <a:srgbClr val="cc0066"/>
                </a:solidFill>
                <a:latin typeface="Tahoma"/>
              </a:rPr>
              <a:t>يبيت شتوياً في البر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قـــارس أو صيفاً في الحــر الشديد ، أو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جعل نشاطه ليلياً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 الجو الحار نهاراً . و بعضها الآخر </a:t>
            </a:r>
            <a:r>
              <a:rPr b="0" lang="ar-SA" sz="3200" spc="-1" strike="noStrike">
                <a:solidFill>
                  <a:srgbClr val="00ccff"/>
                </a:solidFill>
                <a:latin typeface="Tahoma"/>
              </a:rPr>
              <a:t>يهاج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أماكن ذات البرودة الشديدة في الشتاء إلى أماكن أخرى أكثر دفئاً كما تفعل كثير من الطيو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3. </a:t>
            </a:r>
            <a:r>
              <a:rPr b="1" lang="ar-SA" sz="4400" spc="-1" strike="noStrike">
                <a:solidFill>
                  <a:srgbClr val="cc0099"/>
                </a:solidFill>
                <a:latin typeface="Tahoma"/>
              </a:rPr>
              <a:t>المــاء</a:t>
            </a: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اء يؤثر بدرجة كبيرة على بيئة الكائنات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تص الماء الكثير من الحرارة ببطء ثم يفقد هذه الحرارة ببطء أيضاً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ذلك قدرة </a:t>
            </a:r>
            <a:r>
              <a:rPr b="0" lang="ar-SA" sz="3200" spc="-1" strike="noStrike">
                <a:solidFill>
                  <a:srgbClr val="ffcc00"/>
                </a:solidFill>
                <a:latin typeface="Tahoma"/>
              </a:rPr>
              <a:t>الثل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على الطفو لها أهمية كبيرة في الحفاظ على الحياة في الماء حيث لا يتجمد الماء في قاع البحار و الأنهار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سبب </a:t>
            </a:r>
            <a:r>
              <a:rPr b="0" lang="ar-SA" sz="3200" spc="-1" strike="noStrike">
                <a:solidFill>
                  <a:srgbClr val="cc0099"/>
                </a:solidFill>
                <a:latin typeface="Tahoma"/>
              </a:rPr>
              <a:t>جفاف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بحيرات أو الأنهـار لعدم سـقوط الأمطار فـي موت معظم الحيوانات ، كما تتسبب الفيضانات العنيفة في تغيير طبيعة قاع البحيرات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8:29:47Z</dcterms:created>
  <dc:creator> Dr.Maha Daghestani</dc:creator>
  <dc:description/>
  <dc:language>en-US</dc:language>
  <cp:lastModifiedBy> Dr.Maha Daghestani</cp:lastModifiedBy>
  <dcterms:modified xsi:type="dcterms:W3CDTF">2008-03-17T16:42:52Z</dcterms:modified>
  <cp:revision>33</cp:revision>
  <dc:subject/>
  <dc:title>علم البيئة الحيوانية ANIMAL ECOLOGY</dc:title>
</cp:coreProperties>
</file>